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2.png" ContentType="image/png"/>
  <Override PartName="/ppt/media/image21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40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5.png" ContentType="image/png"/>
  <Override PartName="/ppt/media/image35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12.jpeg" ContentType="image/jpeg"/>
  <Override PartName="/ppt/media/image13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33.jpeg" ContentType="image/jpeg"/>
  <Override PartName="/ppt/media/image9.png" ContentType="image/png"/>
  <Override PartName="/ppt/media/image39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6F71-8237-4BE8-A60F-CEAC4578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FEB-3126-41AF-8FBC-BE1A35DF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01E-0911-4AD7-BA2F-95B39561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E33-A157-4ACA-8D00-E25B6863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D0C6-6FAC-48D5-A7FF-B8E4588B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6BE1-9B45-4D57-A7EE-0B3175E6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57BA-7062-4D19-AEC7-308F5C58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6339-5DB5-478E-B5F8-CD42D0F0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961D-0D34-496A-BFD2-B43013D3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25EE-4146-41CB-8908-C2BD8151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3DF4-529A-4352-8AAB-6A3F0C2B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7C16-6AF1-42AB-A254-B1874E89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6E78-14CA-4161-A4B3-B99D1F36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5777-0E18-49B2-A618-2DBC3BC9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4731-E767-4501-9F5A-1306FE5B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619A-524E-419F-898F-9FA4B069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7B11-580C-4AC0-B0FE-1D96E791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E555F-6B8A-4EE6-A924-FCECC041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AF54A-66CF-4B9E-9A35-5E448B29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5017F-28A3-45FF-BFF5-51FF1042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76914-C5EA-4820-BB94-2D6C4202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6E20C-E19B-4F9A-A891-3752B5ED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BCC-5C20-4E4F-A2DD-073F7C99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1C8D6-890E-4851-9AFD-68BD64F2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6E073-BB59-4EF0-891F-EB9C30D8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10B99-CED1-44E2-900A-CC562FAD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960A5-1CC4-4C5C-89C3-88104B2F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B200F-B62E-462F-B292-E6CFD579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CA900-83D9-41BD-A856-D265956E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5F7D3-EB81-4332-9C5A-D1146B11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4970D-460A-474C-8AA5-AD7F143D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49ECD-3F52-421B-8997-FB2BC777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E6C57-1CE8-4A4F-9874-6EFAAD8C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F24-8F52-4DD0-9846-FB0B25E8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F74B2-4F4A-49B0-B18B-2770C8CF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86CDA-CF29-47D8-BA37-8EBBC6C3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4CD42-0578-4070-9EF7-56AC9A2C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E201C-5CBF-44FD-A852-2F465046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49850-8F07-469A-9254-24330CAE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B6A8D-289F-40ED-B050-178535F2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788E0-216F-48D8-B461-16139348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CCCDD-1109-41F6-A619-19DEA9D6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1193A-94AB-499B-A41F-9C8F9099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2F53E-F046-46CB-B145-527C4867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F782-F2D0-4E96-BEE3-60D6D11A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AF991-16EC-4EF8-8010-DD066AB0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68919-1064-4587-8FC9-71379E93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38010-746F-44B2-9DDB-85A27E7E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27E01-FF45-4D51-82DF-13D51366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1DDF8-8F52-4AB1-90C3-4D75A75D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2E6F0-F30E-47FA-956E-FF752BCC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B7D8E-5758-4A73-B216-DD4404CA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54529-C695-4F99-A26E-B7E96F92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482A0-5AA6-4D79-BD16-EEA91AAE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9E223-8524-4F0D-97FC-121F39D9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D372-7057-45BD-B836-2044B046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94859-C487-4AC9-8111-A39B4232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5F797-B223-4C1E-8C11-F4B308C8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F3789-02EE-42D4-B200-EACE88A2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4E5B3-E0E8-488F-A428-6138BDA9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46625-10F1-415F-B333-E97CE78B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9011E-9F4A-4DEA-BAE4-60E7C615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4E31A-D462-4D1B-98C2-A34ABE85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BD875-608D-4079-B7F9-A8630A5A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164D1-34CA-48CE-B582-6EB209AF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736CB-FC66-45F4-A954-CCA7782D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CA2-F2C8-4028-914A-7F9EEF29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A58D3-FF8C-445F-9763-E81153CA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9F328-559C-48FB-A6D3-5D32D33A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F7DEC-D93A-43A7-ABE9-3434EC6D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E50D3-215A-4BF5-BAC6-E05D96EF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99944-570C-4111-A552-7630179E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1F2F2-E15C-45A4-8BE3-1B72EFF8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E0D4E-991C-427D-BB50-390A82A1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22A29-57EF-4189-8A50-BC52DE54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DD56A-9FBF-4A31-B1B9-61B10E32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5F7DE-11B0-490B-B696-42BE7236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2A9D-F874-404D-8FA5-195D8BF4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EFF0D-EBE5-4154-B791-9E55A210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74D13-EC7B-4B6E-A86E-200B262F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EA796-9570-41A9-A437-52967DFB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67B51-3080-4B56-9435-44DFF48B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D57F0-E99A-426E-B7E2-F1F8D801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50F-1FA4-42C2-9B85-078E3B3E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53FC-E766-45AB-8E97-7A644F0461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689E-10E5-421F-9F1E-6E062CD88221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BC70-296A-4DC3-BD67-A5C9D7A13A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B01E-1BBD-4771-89AB-BECFECCCC39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BD6D-1BD6-4750-B06C-629BBFFCA7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7153-9C85-4EBF-B1E8-BBE129AC7390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1DC1-775B-461C-99D3-A452E0052DCE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571680" y="2249280"/>
            <a:ext cx="8030880" cy="23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«По страницам истории»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Содержимое 3" descr="4472-_639596090.jpg"/>
          <p:cNvPicPr/>
          <p:nvPr/>
        </p:nvPicPr>
        <p:blipFill>
          <a:blip r:embed="rId1"/>
          <a:stretch/>
        </p:blipFill>
        <p:spPr>
          <a:xfrm>
            <a:off x="2143080" y="285840"/>
            <a:ext cx="470052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5" descr="фото боевого танка т 55"/>
          <p:cNvPicPr/>
          <p:nvPr/>
        </p:nvPicPr>
        <p:blipFill>
          <a:blip r:embed="rId1"/>
          <a:stretch/>
        </p:blipFill>
        <p:spPr>
          <a:xfrm>
            <a:off x="500040" y="1143000"/>
            <a:ext cx="4057560" cy="421488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7"/>
          <p:cNvSpPr/>
          <p:nvPr/>
        </p:nvSpPr>
        <p:spPr>
          <a:xfrm>
            <a:off x="785880" y="55022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Танк                   танкис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6" descr=""/>
          <p:cNvPicPr/>
          <p:nvPr/>
        </p:nvPicPr>
        <p:blipFill>
          <a:blip r:embed="rId2"/>
          <a:stretch/>
        </p:blipFill>
        <p:spPr>
          <a:xfrm>
            <a:off x="4929120" y="1927080"/>
            <a:ext cx="3997440" cy="264960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7"/>
          <p:cNvSpPr/>
          <p:nvPr/>
        </p:nvSpPr>
        <p:spPr>
          <a:xfrm>
            <a:off x="642960" y="50148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Сухопутные войск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Заголовок 2"/>
          <p:cNvSpPr/>
          <p:nvPr/>
        </p:nvSpPr>
        <p:spPr>
          <a:xfrm>
            <a:off x="500040" y="5286240"/>
            <a:ext cx="8229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Заголовок 2" descr=""/>
          <p:cNvPicPr/>
          <p:nvPr/>
        </p:nvPicPr>
        <p:blipFill>
          <a:blip r:embed="rId1"/>
          <a:stretch/>
        </p:blipFill>
        <p:spPr>
          <a:xfrm>
            <a:off x="566640" y="4608360"/>
            <a:ext cx="8444160" cy="1968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фото пехоты и танков"/>
          <p:cNvPicPr/>
          <p:nvPr/>
        </p:nvPicPr>
        <p:blipFill>
          <a:blip r:embed="rId2"/>
          <a:stretch/>
        </p:blipFill>
        <p:spPr>
          <a:xfrm>
            <a:off x="2143080" y="214200"/>
            <a:ext cx="5072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2" descr=""/>
          <p:cNvPicPr/>
          <p:nvPr/>
        </p:nvPicPr>
        <p:blipFill>
          <a:blip r:embed="rId1"/>
          <a:stretch/>
        </p:blipFill>
        <p:spPr>
          <a:xfrm>
            <a:off x="493560" y="527832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327" name="Содержимое 4" descr="cvetnie-foto-2-mirovoi-voini_9.jpg"/>
          <p:cNvPicPr/>
          <p:nvPr/>
        </p:nvPicPr>
        <p:blipFill>
          <a:blip r:embed="rId2"/>
          <a:stretch/>
        </p:blipFill>
        <p:spPr>
          <a:xfrm>
            <a:off x="3071880" y="1143000"/>
            <a:ext cx="2889360" cy="4000680"/>
          </a:xfrm>
          <a:prstGeom prst="rect">
            <a:avLst/>
          </a:prstGeom>
          <a:ln w="0">
            <a:noFill/>
          </a:ln>
        </p:spPr>
      </p:pic>
      <p:pic>
        <p:nvPicPr>
          <p:cNvPr id="328" name="Заголовок 2" descr=""/>
          <p:cNvPicPr/>
          <p:nvPr/>
        </p:nvPicPr>
        <p:blipFill>
          <a:blip r:embed="rId3"/>
          <a:stretch/>
        </p:blipFill>
        <p:spPr>
          <a:xfrm>
            <a:off x="420840" y="208080"/>
            <a:ext cx="815652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C:\Documents and Settings\User\Рабочий стол\военные профессии\летчики.jpg"/>
          <p:cNvPicPr/>
          <p:nvPr/>
        </p:nvPicPr>
        <p:blipFill>
          <a:blip r:embed="rId2"/>
          <a:stretch/>
        </p:blipFill>
        <p:spPr>
          <a:xfrm>
            <a:off x="4286160" y="3286080"/>
            <a:ext cx="4354560" cy="3286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фото многоцелевого вертолёта"/>
          <p:cNvPicPr/>
          <p:nvPr/>
        </p:nvPicPr>
        <p:blipFill>
          <a:blip r:embed="rId3"/>
          <a:stretch/>
        </p:blipFill>
        <p:spPr>
          <a:xfrm>
            <a:off x="428760" y="1500120"/>
            <a:ext cx="37256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93560" y="499284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333" name="Содержимое 3" descr="0_68f65_32379d42_XL.jpg"/>
          <p:cNvPicPr/>
          <p:nvPr/>
        </p:nvPicPr>
        <p:blipFill>
          <a:blip r:embed="rId2"/>
          <a:stretch/>
        </p:blipFill>
        <p:spPr>
          <a:xfrm>
            <a:off x="2922480" y="357120"/>
            <a:ext cx="32925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566640" y="208080"/>
            <a:ext cx="8242560" cy="1412640"/>
          </a:xfrm>
          <a:prstGeom prst="rect">
            <a:avLst/>
          </a:prstGeom>
          <a:ln w="0">
            <a:noFill/>
          </a:ln>
        </p:spPr>
      </p:pic>
      <p:pic>
        <p:nvPicPr>
          <p:cNvPr id="335" name="Содержимое 3" descr="38717.jpg"/>
          <p:cNvPicPr/>
          <p:nvPr/>
        </p:nvPicPr>
        <p:blipFill>
          <a:blip r:embed="rId2"/>
          <a:stretch/>
        </p:blipFill>
        <p:spPr>
          <a:xfrm>
            <a:off x="1214280" y="2214720"/>
            <a:ext cx="70106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1" descr=""/>
          <p:cNvPicPr/>
          <p:nvPr/>
        </p:nvPicPr>
        <p:blipFill>
          <a:blip r:embed="rId1"/>
          <a:stretch/>
        </p:blipFill>
        <p:spPr>
          <a:xfrm>
            <a:off x="493560" y="4565520"/>
            <a:ext cx="8296560" cy="2159280"/>
          </a:xfrm>
          <a:prstGeom prst="rect">
            <a:avLst/>
          </a:prstGeom>
          <a:ln w="0">
            <a:noFill/>
          </a:ln>
        </p:spPr>
      </p:pic>
      <p:pic>
        <p:nvPicPr>
          <p:cNvPr id="337" name="Содержимое 5" descr="1196184397_xakep.lv_c-130-hercules-and-1st.jpg"/>
          <p:cNvPicPr/>
          <p:nvPr/>
        </p:nvPicPr>
        <p:blipFill>
          <a:blip r:embed="rId2"/>
          <a:stretch/>
        </p:blipFill>
        <p:spPr>
          <a:xfrm>
            <a:off x="1857240" y="243000"/>
            <a:ext cx="585792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39" name="Содержимое 3" descr="s56463.jpg"/>
          <p:cNvPicPr/>
          <p:nvPr/>
        </p:nvPicPr>
        <p:blipFill>
          <a:blip r:embed="rId2"/>
          <a:stretch/>
        </p:blipFill>
        <p:spPr>
          <a:xfrm>
            <a:off x="3214800" y="1644480"/>
            <a:ext cx="3160440" cy="47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Содержимое 6" descr="108640558.jpg"/>
          <p:cNvPicPr/>
          <p:nvPr/>
        </p:nvPicPr>
        <p:blipFill>
          <a:blip r:embed="rId1"/>
          <a:stretch/>
        </p:blipFill>
        <p:spPr>
          <a:xfrm>
            <a:off x="4643280" y="1108080"/>
            <a:ext cx="3702240" cy="5249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99680" y="357120"/>
            <a:ext cx="3429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Там, где ветер стонет и злится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Где высокие горы стоят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Охраняет родные границы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Боевой пограничный отряд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На ветвях заснули птицы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Звезды в небе не горят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Притаился у границы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Пограничников отряд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Пограничники не дремлют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У родного рубеж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Наше море, наше неб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Нашу землю сторожат!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420840" y="4280040"/>
            <a:ext cx="8302320" cy="258444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3" descr="http://s40.radikal.ru/i088/1009/bf/5f86f352e77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00160" y="214200"/>
            <a:ext cx="564372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43" name="Содержимое 3" descr="ruwitd091008_5.jpg"/>
          <p:cNvPicPr/>
          <p:nvPr/>
        </p:nvPicPr>
        <p:blipFill>
          <a:blip r:embed="rId2"/>
          <a:stretch/>
        </p:blipFill>
        <p:spPr>
          <a:xfrm>
            <a:off x="2071800" y="2575080"/>
            <a:ext cx="548640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3" descr=""/>
          <p:cNvPicPr/>
          <p:nvPr/>
        </p:nvPicPr>
        <p:blipFill>
          <a:blip r:embed="rId1"/>
          <a:stretch/>
        </p:blipFill>
        <p:spPr>
          <a:xfrm>
            <a:off x="208080" y="3425760"/>
            <a:ext cx="4424400" cy="3299040"/>
          </a:xfrm>
          <a:prstGeom prst="rect">
            <a:avLst/>
          </a:prstGeom>
          <a:ln w="0">
            <a:noFill/>
          </a:ln>
        </p:spPr>
      </p:pic>
      <p:pic>
        <p:nvPicPr>
          <p:cNvPr id="345" name="Содержимое 6" descr="6951930_6caf85b6.jpg"/>
          <p:cNvPicPr/>
          <p:nvPr/>
        </p:nvPicPr>
        <p:blipFill>
          <a:blip r:embed="rId2"/>
          <a:stretch/>
        </p:blipFill>
        <p:spPr>
          <a:xfrm>
            <a:off x="785880" y="598320"/>
            <a:ext cx="3979800" cy="2670480"/>
          </a:xfrm>
          <a:prstGeom prst="rect">
            <a:avLst/>
          </a:prstGeom>
          <a:ln w="0">
            <a:noFill/>
          </a:ln>
        </p:spPr>
      </p:pic>
      <p:pic>
        <p:nvPicPr>
          <p:cNvPr id="346" name="Содержимое 7" descr="2009110901.jpg"/>
          <p:cNvPicPr/>
          <p:nvPr/>
        </p:nvPicPr>
        <p:blipFill>
          <a:blip r:embed="rId3"/>
          <a:stretch/>
        </p:blipFill>
        <p:spPr>
          <a:xfrm>
            <a:off x="4857840" y="3621240"/>
            <a:ext cx="407196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28400" y="368280"/>
            <a:ext cx="3144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Военный врач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Солдат у вражеских высот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Был ранен утром рано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Отважный военврач спасет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Он перевяжет раны!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Врач извлечет из ран солдат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Два небольших осколк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И скажет: «Унывать не надо!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Живи, братишка, долго!»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8" name="Содержимое 5" descr="603343_566167.jpg"/>
          <p:cNvPicPr/>
          <p:nvPr/>
        </p:nvPicPr>
        <p:blipFill>
          <a:blip r:embed="rId1"/>
          <a:stretch/>
        </p:blipFill>
        <p:spPr>
          <a:xfrm>
            <a:off x="3857760" y="1563840"/>
            <a:ext cx="50702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420840" y="5138640"/>
            <a:ext cx="8242200" cy="14083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User\Рабочий стол\защитники Отечества\дмитрий Донской.jpg"/>
          <p:cNvPicPr/>
          <p:nvPr/>
        </p:nvPicPr>
        <p:blipFill>
          <a:blip r:embed="rId2"/>
          <a:stretch/>
        </p:blipFill>
        <p:spPr>
          <a:xfrm>
            <a:off x="2714760" y="357120"/>
            <a:ext cx="368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993600" y="5565600"/>
            <a:ext cx="7882200" cy="10843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"/>
          <p:cNvPicPr/>
          <p:nvPr/>
        </p:nvPicPr>
        <p:blipFill>
          <a:blip r:embed="rId2"/>
          <a:stretch/>
        </p:blipFill>
        <p:spPr>
          <a:xfrm>
            <a:off x="3357720" y="214200"/>
            <a:ext cx="264312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93560" y="4925880"/>
            <a:ext cx="8242560" cy="162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C:\Documents and Settings\User\Рабочий стол\защитники Отечества\кутузов.jpg"/>
          <p:cNvPicPr/>
          <p:nvPr/>
        </p:nvPicPr>
        <p:blipFill>
          <a:blip r:embed="rId2"/>
          <a:stretch/>
        </p:blipFill>
        <p:spPr>
          <a:xfrm>
            <a:off x="2357280" y="214200"/>
            <a:ext cx="435780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93560" y="499284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C:\Documents and Settings\User\Рабочий стол\защитники Отечества\жуков.jpg"/>
          <p:cNvPicPr/>
          <p:nvPr/>
        </p:nvPicPr>
        <p:blipFill>
          <a:blip r:embed="rId2"/>
          <a:stretch/>
        </p:blipFill>
        <p:spPr>
          <a:xfrm>
            <a:off x="2928960" y="142920"/>
            <a:ext cx="3181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93560" y="5157720"/>
            <a:ext cx="8242560" cy="1535040"/>
          </a:xfrm>
          <a:prstGeom prst="rect">
            <a:avLst/>
          </a:prstGeom>
          <a:ln w="0">
            <a:noFill/>
          </a:ln>
        </p:spPr>
      </p:pic>
      <p:pic>
        <p:nvPicPr>
          <p:cNvPr id="313" name="Содержимое 3" descr="i.jpg"/>
          <p:cNvPicPr/>
          <p:nvPr/>
        </p:nvPicPr>
        <p:blipFill>
          <a:blip r:embed="rId2"/>
          <a:stretch/>
        </p:blipFill>
        <p:spPr>
          <a:xfrm>
            <a:off x="2643120" y="214200"/>
            <a:ext cx="3902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706320" y="499284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315" name="Содержимое 3" descr="830943242.jpg"/>
          <p:cNvPicPr/>
          <p:nvPr/>
        </p:nvPicPr>
        <p:blipFill>
          <a:blip r:embed="rId2"/>
          <a:stretch/>
        </p:blipFill>
        <p:spPr>
          <a:xfrm>
            <a:off x="2857680" y="285840"/>
            <a:ext cx="3630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20840" y="5065560"/>
            <a:ext cx="8242200" cy="1414440"/>
          </a:xfrm>
          <a:prstGeom prst="rect">
            <a:avLst/>
          </a:prstGeom>
          <a:ln w="0">
            <a:noFill/>
          </a:ln>
        </p:spPr>
      </p:pic>
      <p:pic>
        <p:nvPicPr>
          <p:cNvPr id="317" name="Содержимое 3" descr="61533018_Bredov_AF.jpg"/>
          <p:cNvPicPr/>
          <p:nvPr/>
        </p:nvPicPr>
        <p:blipFill>
          <a:blip r:embed="rId2"/>
          <a:stretch/>
        </p:blipFill>
        <p:spPr>
          <a:xfrm>
            <a:off x="3071880" y="214200"/>
            <a:ext cx="28652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2:32:56Z</dcterms:created>
  <dc:creator>Катя</dc:creator>
  <dc:description/>
  <dc:language>en-US</dc:language>
  <cp:lastModifiedBy>Alex</cp:lastModifiedBy>
  <dcterms:modified xsi:type="dcterms:W3CDTF">2013-03-31T17:52:32Z</dcterms:modified>
  <cp:revision>33</cp:revision>
  <dc:subject/>
  <dc:title>23 февраля.  День Защитника Отечества. История праздника.</dc:title>
</cp:coreProperties>
</file>