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40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33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712-087F-4D56-964E-0F58664F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8FE-2AD5-4B52-BF75-FEC64C4C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41C-0D47-4C39-8539-533BCAC0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8E4-EE60-49A4-B16D-B3CB4F76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C097-8235-4577-9D2F-8E2F1C6B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7C40-8C10-429E-AA70-A78F56D9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77B5-33CA-4F1B-A1CF-BD9C4557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1D8F-DF67-4E34-8D42-1096042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3F38-3882-45DB-AB1E-17C7E91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E58-EDEC-485C-BE6D-A919F7CC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2F1-A81A-4BC4-9CF9-F03DE2A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265-BBC0-4F27-976A-F9CDF7B6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4DE-72DE-4289-86B8-9418FA9D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CB8-8147-49BA-AD2E-E89BEB49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753-B75F-4DF7-BBCF-409EC72E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C5D3-9AB6-49EB-8717-BB2EDD50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3BC1-A930-44BD-BD52-C2F3B1BB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6233-B40E-416E-B6B4-831D16E8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CB67-AA9E-4DD8-A856-58733F76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A37E-EA3B-4588-85C2-564685DF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6EC4-3D60-4CAD-A442-0B5E700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A189-88F4-4BB3-A5A3-086350CA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56E-2F13-40D7-AACB-B7ABC7FC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8A2E-2212-40A1-8B24-29B038B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E845-C81D-4174-A422-8F71ECE8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C2EA-8E87-4890-9800-A9A53731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0F2D-E303-4FA7-A3AF-2E98918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4C57-3367-4A3D-98D4-BB6B2187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25F1-FD53-402A-8FD8-99210522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A67D-CEA3-44D0-9CB7-844C5961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B0CE-1100-4DD2-84C3-79F216A4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F13B-8372-4CF8-BFB3-9037B42E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53E03-D0EA-4BCE-8291-F65C3311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07B-20E5-47D7-92D0-D5910890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42E80-0CFC-4480-B2D9-A885156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9CD6-8BC4-46BC-B6B3-1E69001C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0D1A-7091-4454-8E32-6E9CC82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7199-84A1-483C-B11F-51AFCBB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9204-806C-4A32-915C-F6CA608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E46F-3A34-4F99-8152-828FA623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D5C0D-D046-49C5-A78A-88391DA3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C0CA6-501F-4B85-9B8C-7D0C8323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7BD7-2FEC-4A5E-B936-09A11FE6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2DF7F-430C-4137-908F-CC721D04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1FA-823F-4E34-B44A-8F228574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7D1EA-30DB-49DE-B5E9-DFD6323D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1462-C652-4551-889F-C5483BB3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6FD4-F481-4F79-8937-E0F03E3B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72729-F002-4264-AE22-FDD16493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DFA5-DC91-46FC-96B4-8E16253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2FFB-ED98-4419-A73B-D4C89FF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EFAC-59A4-4DE9-966C-EDC24C8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CE3A0-9BBF-45E6-88F6-38B838D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F628-7E6B-4CC5-A61A-AC346AAA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796E-8C48-4DE3-9766-867090AF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466-58FA-4BD2-AE31-C963DEDF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C816C-AB9A-4D46-9628-6F1EAC04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C89F0-F922-4C95-99FB-8B041728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877D-4CF9-4EDB-89F1-65235B79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210A-4FC7-48C2-8A4E-6CD29A46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24E6-14B3-4273-B42C-B7773C5C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2BD60-CBB9-4435-8368-8B9698C7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7BF0-6359-4BA8-808D-EB922519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1557-272E-413A-9863-D2A696C2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A461C-4D13-4761-ACA3-0D0DA24D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7E36-60F3-430D-A0AA-34D5272E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D68-74BB-4783-9A46-0F3FCBD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F694-D658-46F7-8D13-481CBA0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8F41-4654-4C39-8D12-FE01BCF0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48DA4-9ABB-456A-8086-12664491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3896-6966-4103-8D05-63191E1C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7F2EE-42B0-41FB-95FA-EDEEB2C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7027-13E0-4D13-90D3-A2F9533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BCF3-8671-4257-A0A6-DEE9ABDB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E1B4B-B173-4D75-BF9F-573E6A2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05C7-45B8-42BA-80A7-61D8A2CA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46DB1-1610-4FF0-A53E-F3A47C8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216-A7C0-450E-8610-08D4449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3188E-1CD8-41E9-8869-39AB3B6D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42F8-C23F-4464-9194-9CEBB98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FC84-0CD1-4879-AE1F-BA3362D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813A-EB03-429C-AA33-E76A7EC5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CF3E-06C3-4A3D-A841-651D80E1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C36-7723-41F0-BA53-8FF086C8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4FAA-D8AE-4C38-B6D8-A45E15A8E2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186C-E489-4E7F-BAD6-72BEFF0DE61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CC72-2C09-40CC-9E34-764A607636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072-8247-4674-A04B-B173746606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315B-D988-4EF9-8A60-74C38F9561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230-A12D-46AA-8BE8-F97F05F5FC7F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627-88C2-4E6C-8288-65DFCEB5265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71680" y="2249280"/>
            <a:ext cx="8030880" cy="23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«По страницам истории»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Содержимое 3" descr="4472-_639596090.jpg"/>
          <p:cNvPicPr/>
          <p:nvPr/>
        </p:nvPicPr>
        <p:blipFill>
          <a:blip r:embed="rId1"/>
          <a:stretch/>
        </p:blipFill>
        <p:spPr>
          <a:xfrm>
            <a:off x="2143080" y="285840"/>
            <a:ext cx="470052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фото боевого танка т 55"/>
          <p:cNvPicPr/>
          <p:nvPr/>
        </p:nvPicPr>
        <p:blipFill>
          <a:blip r:embed="rId1"/>
          <a:stretch/>
        </p:blipFill>
        <p:spPr>
          <a:xfrm>
            <a:off x="500040" y="1143000"/>
            <a:ext cx="4057560" cy="4214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7"/>
          <p:cNvSpPr/>
          <p:nvPr/>
        </p:nvSpPr>
        <p:spPr>
          <a:xfrm>
            <a:off x="785880" y="5502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анк                   танкис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929120" y="1927080"/>
            <a:ext cx="3997440" cy="26496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7"/>
          <p:cNvSpPr/>
          <p:nvPr/>
        </p:nvSpPr>
        <p:spPr>
          <a:xfrm>
            <a:off x="642960" y="50148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Сухопутные войс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Заголовок 2"/>
          <p:cNvSpPr/>
          <p:nvPr/>
        </p:nvSpPr>
        <p:spPr>
          <a:xfrm>
            <a:off x="500040" y="5286240"/>
            <a:ext cx="8229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Заголовок 2" descr=""/>
          <p:cNvPicPr/>
          <p:nvPr/>
        </p:nvPicPr>
        <p:blipFill>
          <a:blip r:embed="rId1"/>
          <a:stretch/>
        </p:blipFill>
        <p:spPr>
          <a:xfrm>
            <a:off x="566640" y="4608360"/>
            <a:ext cx="8444160" cy="1968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фото пехоты и танков"/>
          <p:cNvPicPr/>
          <p:nvPr/>
        </p:nvPicPr>
        <p:blipFill>
          <a:blip r:embed="rId2"/>
          <a:stretch/>
        </p:blipFill>
        <p:spPr>
          <a:xfrm>
            <a:off x="2143080" y="21420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2" descr=""/>
          <p:cNvPicPr/>
          <p:nvPr/>
        </p:nvPicPr>
        <p:blipFill>
          <a:blip r:embed="rId1"/>
          <a:stretch/>
        </p:blipFill>
        <p:spPr>
          <a:xfrm>
            <a:off x="493560" y="527832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27" name="Содержимое 4" descr="cvetnie-foto-2-mirovoi-voini_9.jpg"/>
          <p:cNvPicPr/>
          <p:nvPr/>
        </p:nvPicPr>
        <p:blipFill>
          <a:blip r:embed="rId2"/>
          <a:stretch/>
        </p:blipFill>
        <p:spPr>
          <a:xfrm>
            <a:off x="3071880" y="1143000"/>
            <a:ext cx="2889360" cy="4000680"/>
          </a:xfrm>
          <a:prstGeom prst="rect">
            <a:avLst/>
          </a:prstGeom>
          <a:ln w="0">
            <a:noFill/>
          </a:ln>
        </p:spPr>
      </p:pic>
      <p:pic>
        <p:nvPicPr>
          <p:cNvPr id="328" name="Заголовок 2" descr=""/>
          <p:cNvPicPr/>
          <p:nvPr/>
        </p:nvPicPr>
        <p:blipFill>
          <a:blip r:embed="rId3"/>
          <a:stretch/>
        </p:blipFill>
        <p:spPr>
          <a:xfrm>
            <a:off x="420840" y="208080"/>
            <a:ext cx="815652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User\Рабочий стол\военные профессии\летчики.jpg"/>
          <p:cNvPicPr/>
          <p:nvPr/>
        </p:nvPicPr>
        <p:blipFill>
          <a:blip r:embed="rId2"/>
          <a:stretch/>
        </p:blipFill>
        <p:spPr>
          <a:xfrm>
            <a:off x="4286160" y="3286080"/>
            <a:ext cx="4354560" cy="3286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фото многоцелевого вертолёта"/>
          <p:cNvPicPr/>
          <p:nvPr/>
        </p:nvPicPr>
        <p:blipFill>
          <a:blip r:embed="rId3"/>
          <a:stretch/>
        </p:blipFill>
        <p:spPr>
          <a:xfrm>
            <a:off x="428760" y="1500120"/>
            <a:ext cx="3725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9356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0_68f65_32379d42_XL.jpg"/>
          <p:cNvPicPr/>
          <p:nvPr/>
        </p:nvPicPr>
        <p:blipFill>
          <a:blip r:embed="rId2"/>
          <a:stretch/>
        </p:blipFill>
        <p:spPr>
          <a:xfrm>
            <a:off x="2922480" y="357120"/>
            <a:ext cx="3292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242560" cy="1412640"/>
          </a:xfrm>
          <a:prstGeom prst="rect">
            <a:avLst/>
          </a:prstGeom>
          <a:ln w="0">
            <a:noFill/>
          </a:ln>
        </p:spPr>
      </p:pic>
      <p:pic>
        <p:nvPicPr>
          <p:cNvPr id="335" name="Содержимое 3" descr="38717.jpg"/>
          <p:cNvPicPr/>
          <p:nvPr/>
        </p:nvPicPr>
        <p:blipFill>
          <a:blip r:embed="rId2"/>
          <a:stretch/>
        </p:blipFill>
        <p:spPr>
          <a:xfrm>
            <a:off x="1214280" y="2214720"/>
            <a:ext cx="70106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93560" y="4565520"/>
            <a:ext cx="8296560" cy="2159280"/>
          </a:xfrm>
          <a:prstGeom prst="rect">
            <a:avLst/>
          </a:prstGeom>
          <a:ln w="0">
            <a:noFill/>
          </a:ln>
        </p:spPr>
      </p:pic>
      <p:pic>
        <p:nvPicPr>
          <p:cNvPr id="337" name="Содержимое 5" descr="1196184397_xakep.lv_c-130-hercules-and-1st.jpg"/>
          <p:cNvPicPr/>
          <p:nvPr/>
        </p:nvPicPr>
        <p:blipFill>
          <a:blip r:embed="rId2"/>
          <a:stretch/>
        </p:blipFill>
        <p:spPr>
          <a:xfrm>
            <a:off x="1857240" y="243000"/>
            <a:ext cx="58579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3" descr="s56463.jpg"/>
          <p:cNvPicPr/>
          <p:nvPr/>
        </p:nvPicPr>
        <p:blipFill>
          <a:blip r:embed="rId2"/>
          <a:stretch/>
        </p:blipFill>
        <p:spPr>
          <a:xfrm>
            <a:off x="3214800" y="1644480"/>
            <a:ext cx="316044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Содержимое 6" descr="108640558.jpg"/>
          <p:cNvPicPr/>
          <p:nvPr/>
        </p:nvPicPr>
        <p:blipFill>
          <a:blip r:embed="rId1"/>
          <a:stretch/>
        </p:blipFill>
        <p:spPr>
          <a:xfrm>
            <a:off x="4643280" y="1108080"/>
            <a:ext cx="3702240" cy="5249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99680" y="357120"/>
            <a:ext cx="3429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Там, где ветер стонет и злится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Где высокие горы стоя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храняет родные гран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оевой пограничный отря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 ветвях заснули пт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Звезды в небе не горя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итаился у границ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ограничников отряд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ограничники не дремлю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 родного рубеж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ше море, наше неб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шу землю сторожат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420840" y="4280040"/>
            <a:ext cx="830232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3" descr="http://s40.radikal.ru/i088/1009/bf/5f86f352e77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00160" y="214200"/>
            <a:ext cx="56437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3" descr="ruwitd091008_5.jpg"/>
          <p:cNvPicPr/>
          <p:nvPr/>
        </p:nvPicPr>
        <p:blipFill>
          <a:blip r:embed="rId2"/>
          <a:stretch/>
        </p:blipFill>
        <p:spPr>
          <a:xfrm>
            <a:off x="2071800" y="2575080"/>
            <a:ext cx="54864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3" descr=""/>
          <p:cNvPicPr/>
          <p:nvPr/>
        </p:nvPicPr>
        <p:blipFill>
          <a:blip r:embed="rId1"/>
          <a:stretch/>
        </p:blipFill>
        <p:spPr>
          <a:xfrm>
            <a:off x="208080" y="3425760"/>
            <a:ext cx="4424400" cy="329904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6" descr="6951930_6caf85b6.jpg"/>
          <p:cNvPicPr/>
          <p:nvPr/>
        </p:nvPicPr>
        <p:blipFill>
          <a:blip r:embed="rId2"/>
          <a:stretch/>
        </p:blipFill>
        <p:spPr>
          <a:xfrm>
            <a:off x="785880" y="598320"/>
            <a:ext cx="3979800" cy="2670480"/>
          </a:xfrm>
          <a:prstGeom prst="rect">
            <a:avLst/>
          </a:prstGeom>
          <a:ln w="0">
            <a:noFill/>
          </a:ln>
        </p:spPr>
      </p:pic>
      <p:pic>
        <p:nvPicPr>
          <p:cNvPr id="346" name="Содержимое 7" descr="2009110901.jpg"/>
          <p:cNvPicPr/>
          <p:nvPr/>
        </p:nvPicPr>
        <p:blipFill>
          <a:blip r:embed="rId3"/>
          <a:stretch/>
        </p:blipFill>
        <p:spPr>
          <a:xfrm>
            <a:off x="4857840" y="3621240"/>
            <a:ext cx="407196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28400" y="368280"/>
            <a:ext cx="3144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Военный врач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олдат у вражеских высо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Был ранен утром рано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тважный военврач спасет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н перевяжет раны!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Врач извлечет из ран солдат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ва небольших оскол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И скажет: «Унывать не надо!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Живи, братишка, долго!»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Содержимое 5" descr="603343_566167.jpg"/>
          <p:cNvPicPr/>
          <p:nvPr/>
        </p:nvPicPr>
        <p:blipFill>
          <a:blip r:embed="rId1"/>
          <a:stretch/>
        </p:blipFill>
        <p:spPr>
          <a:xfrm>
            <a:off x="3857760" y="1563840"/>
            <a:ext cx="50702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420840" y="5138640"/>
            <a:ext cx="8242200" cy="1408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User\Рабочий стол\защитники Отечества\дмитрий Донской.jpg"/>
          <p:cNvPicPr/>
          <p:nvPr/>
        </p:nvPicPr>
        <p:blipFill>
          <a:blip r:embed="rId2"/>
          <a:stretch/>
        </p:blipFill>
        <p:spPr>
          <a:xfrm>
            <a:off x="2714760" y="357120"/>
            <a:ext cx="368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993600" y="5565600"/>
            <a:ext cx="7882200" cy="1084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3357720" y="214200"/>
            <a:ext cx="2643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93560" y="4925880"/>
            <a:ext cx="8242560" cy="162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C:\Documents and Settings\User\Рабочий стол\защитники Отечества\кутузов.jpg"/>
          <p:cNvPicPr/>
          <p:nvPr/>
        </p:nvPicPr>
        <p:blipFill>
          <a:blip r:embed="rId2"/>
          <a:stretch/>
        </p:blipFill>
        <p:spPr>
          <a:xfrm>
            <a:off x="2357280" y="214200"/>
            <a:ext cx="4357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9356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Documents and Settings\User\Рабочий стол\защитники Отечества\жуков.jpg"/>
          <p:cNvPicPr/>
          <p:nvPr/>
        </p:nvPicPr>
        <p:blipFill>
          <a:blip r:embed="rId2"/>
          <a:stretch/>
        </p:blipFill>
        <p:spPr>
          <a:xfrm>
            <a:off x="2928960" y="142920"/>
            <a:ext cx="318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93560" y="5157720"/>
            <a:ext cx="8242560" cy="153504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3" descr="i.jpg"/>
          <p:cNvPicPr/>
          <p:nvPr/>
        </p:nvPicPr>
        <p:blipFill>
          <a:blip r:embed="rId2"/>
          <a:stretch/>
        </p:blipFill>
        <p:spPr>
          <a:xfrm>
            <a:off x="2643120" y="214200"/>
            <a:ext cx="390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706320" y="499284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315" name="Содержимое 3" descr="830943242.jpg"/>
          <p:cNvPicPr/>
          <p:nvPr/>
        </p:nvPicPr>
        <p:blipFill>
          <a:blip r:embed="rId2"/>
          <a:stretch/>
        </p:blipFill>
        <p:spPr>
          <a:xfrm>
            <a:off x="2857680" y="285840"/>
            <a:ext cx="363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20840" y="506556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17" name="Содержимое 3" descr="61533018_Bredov_AF.jpg"/>
          <p:cNvPicPr/>
          <p:nvPr/>
        </p:nvPicPr>
        <p:blipFill>
          <a:blip r:embed="rId2"/>
          <a:stretch/>
        </p:blipFill>
        <p:spPr>
          <a:xfrm>
            <a:off x="3071880" y="214200"/>
            <a:ext cx="28652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32:56Z</dcterms:created>
  <dc:creator>Катя</dc:creator>
  <dc:description/>
  <dc:language>en-US</dc:language>
  <cp:lastModifiedBy>Alex</cp:lastModifiedBy>
  <dcterms:modified xsi:type="dcterms:W3CDTF">2013-03-31T17:52:32Z</dcterms:modified>
  <cp:revision>33</cp:revision>
  <dc:subject/>
  <dc:title>23 февраля.  День Защитника Отечества. История праздника.</dc:title>
</cp:coreProperties>
</file>