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8E28-556D-4EB5-BA5E-B0B6426F9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6411-7987-47EA-894B-2BD2350C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AE9B-053D-4998-AEF5-63917B201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5755-0D73-4973-BA39-6EC4B7F31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8142-D679-4641-88B9-C7BA1E280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5228-8C0E-4E32-BF36-DBCB958C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2961-55E3-4FF2-9B1A-012433C1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BD7A-D3EE-44D0-B7A6-D7312D3C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C4E7C-7D71-4485-B5F9-2860844D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EED7A-374E-42BA-B238-B08DD296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C1FA-ECB3-464D-8E80-AB25424A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73F8-9417-471C-88DD-A8E02DA8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D5BD-9D80-40D3-981D-17A0C358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02B6-9606-4562-879B-2154CF21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B5B7F-19C1-4314-AC47-205F8F11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0AFCD-8E18-4F54-B69F-4DE4283D9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006EB-949B-441E-B5C6-D865D8CB5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664D-F1F3-4BFE-AB2F-5A38EC43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0755-F686-447A-BB95-F65E01BA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14D8-5C28-474B-9C00-E1C01CEA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AC74-7972-4C4A-89F3-999C290F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7823-1E30-412C-AC3C-421D497A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602F-1919-4BAC-869D-66FC11A0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4F92-74B4-4F93-AD63-10048624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8F04-AEDA-4B89-8FAB-FE8020992F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44EA-EC00-43A8-80CB-F244CF4621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338560" y="260280"/>
            <a:ext cx="266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КОУ «Школа № 5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1359720" y="1650960"/>
            <a:ext cx="699444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ЕКТНАЯ   РАБОТ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квази-исследовани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В память о  солдате…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3918960" y="4797360"/>
            <a:ext cx="4568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сполнитель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усовитина Алина, ученица 3 клас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уководитель: Адамбаева Л.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89000"/>
            <a:ext cx="8569440" cy="61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13 Петрозаводская, дважды орденов  Красного Знамени, орденов Суворова, Кутузова 2 степени стрелковая дивиз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оста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68-й стрелковый полк                 1070-й стрелковый пол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072-й стрелковый пол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856-й артиллерийский пол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72-й отдельный истребительно-противотанковый дивизио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96-я зенитная батарея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02-й разведывательный батальон     596-й сапёрный батальо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51-й отдельный батальон связ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41-й медико-санитарный батальо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94-я отдельная рота химической защит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90-я автотранспортная ро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21-я (444-я) полевая хлебопекарн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90-й дивизионный ветеринарный лазаре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56-я полевая почтовая станция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40-я полевая касса Госбан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5438160" y="5877000"/>
            <a:ext cx="34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точник: военная литерату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50920" y="352440"/>
            <a:ext cx="785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 3 по 10 января 1942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13 стрелковая  дивизия участвовала в неудачной Медвежьегорской наступательной операц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2762280" cy="41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635280" y="2133720"/>
            <a:ext cx="5184720" cy="367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3708360" cy="3378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971640" y="260280"/>
            <a:ext cx="660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вежьегорск  имеет  железную  дорог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 Беломорско-Балтийский   кана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211640" y="2852640"/>
            <a:ext cx="4537080" cy="2859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257120" y="333360"/>
            <a:ext cx="563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двежьегорск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ступательная операц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95280" y="1341360"/>
            <a:ext cx="3360600" cy="468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643280" y="1413000"/>
            <a:ext cx="3257640" cy="46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>
            <a:lum bright="6000"/>
          </a:blip>
          <a:srcRect l="57580" t="49342" r="5667" b="18287"/>
          <a:stretch/>
        </p:blipFill>
        <p:spPr>
          <a:xfrm>
            <a:off x="539640" y="1052640"/>
            <a:ext cx="3838680" cy="47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9" name=""/>
          <p:cNvSpPr/>
          <p:nvPr/>
        </p:nvSpPr>
        <p:spPr>
          <a:xfrm>
            <a:off x="471600" y="189000"/>
            <a:ext cx="403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Е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ИКОЛАЙ  ВАСИЛЬЕВИ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4551480" y="1700280"/>
            <a:ext cx="4592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ой прадедушка проявил героизм в Медвежьегорской наступательной опер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оец Боев встретился лицом к лицу с врагом и уничтожил е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059280" y="4292640"/>
            <a:ext cx="106668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556360" y="189000"/>
            <a:ext cx="35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Курган Славы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50920" y="3789360"/>
            <a:ext cx="2771640" cy="208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975280" y="3789360"/>
            <a:ext cx="3168720" cy="213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195640" y="836640"/>
            <a:ext cx="4105080" cy="276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3055320" y="4221000"/>
            <a:ext cx="288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енно –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триотический клу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СТЯГ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3210120" y="5805360"/>
            <a:ext cx="3661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асильев Владимир Васильевич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09440" y="765000"/>
            <a:ext cx="9034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ы, потомки Боева Николая Васильевича, участника Великой Отечественной войны, можем  им гордиться  как человеком великой воли, мужества и отваг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543240" y="237960"/>
            <a:ext cx="168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4724280"/>
            <a:ext cx="4700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одвиг жив до тех пор, пока живы те, кто о нем помни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>
            <a:lum bright="6000"/>
          </a:blip>
          <a:srcRect l="57580" t="49342" r="5667" b="18287"/>
          <a:stretch/>
        </p:blipFill>
        <p:spPr>
          <a:xfrm>
            <a:off x="5435640" y="2781360"/>
            <a:ext cx="2849400" cy="352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050920" y="2781360"/>
            <a:ext cx="180036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79280" y="189000"/>
            <a:ext cx="79218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тавить  хронологию жизни бойца Боева Николая Васильевич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1989000"/>
            <a:ext cx="878544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ить подробную биографию дедушк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брать документы  о Боеве Николае  Васильевиче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ти информацию  о месте боевых действий солдата Бое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учить информацию о дальнейшей судьбе  моего прадедушк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знакомить  учащихся школы с хронологией жизни моего прадедушки, участника Великой Отечественной войны   Боева   Николая Васильевич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>
            <a:lum bright="6000"/>
          </a:blip>
          <a:srcRect l="57580" t="49342" r="5667" b="18287"/>
          <a:stretch/>
        </p:blipFill>
        <p:spPr>
          <a:xfrm>
            <a:off x="250920" y="1125360"/>
            <a:ext cx="3836880" cy="475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546840" y="189000"/>
            <a:ext cx="394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ое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иколай Василье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4211640" y="1341360"/>
            <a:ext cx="493236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дился в 1904 году   в крестьянской семье в   селе Каплино, Буйского района  Костромской обла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дедушка был  грамотным человеком, имел свое дело -  принимал  у населения  утилизированное сырье, на что  содержал свою семью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жены взял Веру Ивановну, женщину из православной семьи.  По  словам бабушки, дед был хорошим семьянином и отцо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1763640" y="836640"/>
            <a:ext cx="5400720" cy="382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611280" y="18900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оев    Николай Василье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4653000"/>
            <a:ext cx="86407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1940 году прадедушка  начал  строительство дома  по ул. Островского. Начав  строить  свой дом, был   призван  на фронт  22 июня   1941 года. Дома  оставались жена и трое детей: две дочери и сын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9280" y="4221000"/>
            <a:ext cx="896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рнувшись  с фронта, Николай Васильевич  работал в  охране.  Дом достроил, где   родилось  ещё  двое детей. Дом по улице  Островского  до сих пор  находится в семейной   собственности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мер Боев Николай Васильевич  21 мая  1987 г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42920" y="476280"/>
            <a:ext cx="7058160" cy="370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196360" y="189000"/>
            <a:ext cx="487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кумен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  военкомата   г. Ирби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5977080" cy="4241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300720" y="3573360"/>
            <a:ext cx="2700360" cy="27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196360" y="189000"/>
            <a:ext cx="487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кумен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  военкомата   г. Ирби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2700360" cy="36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059280" y="2276640"/>
            <a:ext cx="2912760" cy="37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6156360" y="2924280"/>
            <a:ext cx="2828880" cy="345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3897000" cy="568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4500720" y="1125360"/>
            <a:ext cx="415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прос в Центральный архив Министерства Обороны Росс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3.02.20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620720" y="189000"/>
            <a:ext cx="57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кументы из Центрального архи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инистерства Обороны Росс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11280" y="1052640"/>
            <a:ext cx="3655800" cy="511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643280" y="1052640"/>
            <a:ext cx="3364200" cy="511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21:44:05Z</dcterms:created>
  <dc:creator>Федотова Виктория Александровна</dc:creator>
  <dc:description/>
  <dc:language>en-US</dc:language>
  <cp:lastModifiedBy>1</cp:lastModifiedBy>
  <dcterms:modified xsi:type="dcterms:W3CDTF">2013-03-31T10:12:35Z</dcterms:modified>
  <cp:revision>7</cp:revision>
  <dc:subject/>
  <dc:title>Слайд 1</dc:title>
</cp:coreProperties>
</file>