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8A3-F1BD-4CDC-B6C1-69914738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7D2-7F15-4A25-B54A-23EDCB19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440-DC76-4865-90A7-5B797FE9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35F-5899-4255-A6B9-4BDB4035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7AE-3DE7-428A-AEA2-21D97D13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C7AA-DD94-421B-9034-04D5EDD6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4147-61D2-40BE-A7CE-A67FFC43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3D3F-2750-4C2C-BDAF-413DB33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D6D-993C-4041-80D0-08C62F04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6401-1837-4274-A8A1-E82DC8CB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6C2F-C42E-471F-B3DF-B919180F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B0B-B35E-47B8-B575-E2058C52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3FBD-8785-4AD3-A83F-FAE49AE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739E-FDD3-4A9C-A178-F7FFF363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9F96-3C86-4A94-BF04-52AEF044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E790-63B8-4B84-8E91-7C3ADDE4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7F07-0F22-4687-898E-54A6C1F4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598-4E22-40C6-B006-0DA3A75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E06-434D-46B5-B16A-B506CB2E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693-3990-4341-8265-EB42D7A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9D1-F612-4C85-BAF1-262C699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6E5-6A39-4D64-A62E-91C1B467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DE1-5B24-4EC0-9BE9-DB0964E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5F1-DF27-4C76-B18D-75A6A19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96C5-EBB4-408A-BF74-82E5F1B2D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F16B-D414-4190-A6FE-4839B63A0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38560" y="260280"/>
            <a:ext cx="26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«Школа № 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59720" y="1650960"/>
            <a:ext cx="6994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НАЯ   РАБ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вази-исследо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 память о  солдате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918960" y="4797360"/>
            <a:ext cx="456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н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совитина Алина, ученица 3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Адамбаева Л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856944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 Петрозаводская, дважды орденов  Красного Знамени, орденов Суворова, Кутузова 2 степени стрелковая дивиз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68-й стрелковый полк                 1070-й стрелковый пол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72-й стрелковый пол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856-й артиллерийский пол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72-й отдельный истребительно-противотанковый дивизи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96-я зенитная батаре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2-й разведывательный батальон     596-й сапёрный баталь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51-й отдельный батальон связ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1-й медико-санитарный баталь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94-я отдельная рота химической защи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90-я автотранспортная р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1-я (444-я) полевая хлебопекар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90-й дивизионный ветеринарный лазар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56-я полевая почтовая станция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40-я полевая касса Госба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438160" y="587700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чник: военная 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35244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3 по 10 января 194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 стрелковая  дивизия участвовала в неудачной Медвежьегорской наступательной оп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7622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5184720" cy="36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708360" cy="337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971640" y="26028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егорск  имеет  железную  дорог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Беломорско-Балтийский   ка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11640" y="2852640"/>
            <a:ext cx="45370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120" y="333360"/>
            <a:ext cx="563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вежьегор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упательная опер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060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325764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539640" y="1052640"/>
            <a:ext cx="383868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71600" y="189000"/>
            <a:ext cx="40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ЛАЙ  ВАСИЛЬ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51480" y="1700280"/>
            <a:ext cx="459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й прадедушка проявил героизм в Медвежьегорской наступательной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ц Боев встретился лицом к лицу с врагом и уничтожил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59280" y="4292640"/>
            <a:ext cx="10666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56360" y="18900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урган Славы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77164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75280" y="3789360"/>
            <a:ext cx="3168720" cy="21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195640" y="836640"/>
            <a:ext cx="41050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055320" y="422100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ческий клу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Я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210120" y="5805360"/>
            <a:ext cx="36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сильев Владимир Васильевич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9440" y="765000"/>
            <a:ext cx="903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, потомки Боева Николая Васильевича, участника Великой Отечественной войны, можем  им гордиться  как человеком великой воли, мужества и отва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43240" y="23796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4724280"/>
            <a:ext cx="47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иг жив до тех пор, пока живы те, кто о нем помн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5435640" y="2781360"/>
            <a:ext cx="284940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1800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89000"/>
            <a:ext cx="7921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 хронологию жизни бойца Боева Николая Васильеви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989000"/>
            <a:ext cx="8785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подробную биографию деду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рать документы  о Боеве Николае  Васильевич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формацию  о месте боевых действий солдата Бое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информацию о дальнейшей судьбе  моего прадеду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комить  учащихся школы с хронологией жизни моего прадедушки, участника Великой Отечественной войны   Боева   Николая Васильеви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250920" y="1125360"/>
            <a:ext cx="38368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46840" y="189000"/>
            <a:ext cx="39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лай Васи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341360"/>
            <a:ext cx="49323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1904 году   в крестьянской семье в   селе Каплино, Буйского района  Костром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дедушка был  грамотным человеком, имел свое дело -  принимал  у населения  утилизированное сырье, на что  содержал свою семь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жены взял Веру Ивановну, женщину из православной семьи.  По  словам бабушки, дед был хорошим семьянином и отц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63640" y="836640"/>
            <a:ext cx="5400720" cy="38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611280" y="189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в    Николай Васи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864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940 году прадедушка  начал  строительство дома  по ул. Островского. Начав  строить  свой дом, был   призван  на фронт  22 июня   1941 года. Дома  оставались жена и трое детей: две дочери и сын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42210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увшись  с фронта, Николай Васильевич  работал в  охране.  Дом достроил, где   родилось  ещё  двое детей. Дом по улице  Островского  до сих пор  находится в семейной   собственности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р Боев Николай Васильевич  21 мая  1987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58160" cy="370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96360" y="189000"/>
            <a:ext cx="48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 военкомата   г. Ирб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977080" cy="42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27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96360" y="189000"/>
            <a:ext cx="48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 военкомата   г. Ирб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70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2912760" cy="37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156360" y="2924280"/>
            <a:ext cx="282888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97000" cy="56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500720" y="1125360"/>
            <a:ext cx="415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ос в Центральный архив Министерства Оборон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.02.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20720" y="18900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кументы из Центрального арх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стерства Оборон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655800" cy="51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336420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1</cp:lastModifiedBy>
  <dcterms:modified xsi:type="dcterms:W3CDTF">2013-03-31T10:12:35Z</dcterms:modified>
  <cp:revision>7</cp:revision>
  <dc:subject/>
  <dc:title>Слайд 1</dc:title>
</cp:coreProperties>
</file>