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png" ContentType="image/png"/>
  <Override PartName="/ppt/media/image19.jpeg" ContentType="image/jpeg"/>
  <Override PartName="/ppt/media/image25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8.jpeg" ContentType="image/jpeg"/>
  <Override PartName="/ppt/media/image29.jpeg" ContentType="image/jpeg"/>
  <Override PartName="/ppt/media/image28.png" ContentType="image/png"/>
  <Override PartName="/ppt/media/image38.jpeg" ContentType="image/jpeg"/>
  <Override PartName="/ppt/media/image34.png" ContentType="image/png"/>
  <Override PartName="/ppt/media/image13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35.jpeg" ContentType="image/jpeg"/>
  <Override PartName="/ppt/media/image10.png" ContentType="image/png"/>
  <Override PartName="/ppt/media/image30.jpeg" ContentType="image/jpeg"/>
  <Override PartName="/ppt/media/image32.png" ContentType="image/png"/>
  <Override PartName="/ppt/media/image7.png" ContentType="image/png"/>
  <Override PartName="/ppt/media/image9.png" ContentType="image/png"/>
  <Override PartName="/ppt/media/image22.jpeg" ContentType="image/jpeg"/>
  <Override PartName="/ppt/media/image37.jpeg" ContentType="image/jpeg"/>
  <Override PartName="/ppt/media/image20.jpeg" ContentType="image/jpeg"/>
  <Override PartName="/ppt/media/image5.jpeg" ContentType="image/jpeg"/>
  <Override PartName="/ppt/media/image4.jpeg" ContentType="image/jpeg"/>
  <Override PartName="/ppt/media/image3.png" ContentType="image/png"/>
  <Override PartName="/ppt/media/image26.png" ContentType="image/png"/>
  <Override PartName="/ppt/media/image24.png" ContentType="image/png"/>
  <Override PartName="/ppt/media/image11.jpeg" ContentType="image/jpeg"/>
  <Override PartName="/ppt/media/image36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035B-6A3A-449B-863E-13810C5C2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1E06-AA83-4CDE-AD97-3F835AAA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7ADD-AFC8-41A7-A746-0D4B395A1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A8A7-3194-4EA2-9666-6BAA2FBA5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12C5-1FBC-4FBA-AFC2-0A9FD69DA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71B9-C443-4A45-BF8E-EC5E551ED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8E87-C707-45CD-B952-7750A0177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B548-A8B4-46D3-885E-C9EF48A06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7060-3E75-407A-A560-178F83F4F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3B60-904C-4FA6-A693-D0EAA75A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02C9-014E-415F-B728-D3444BFD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3EF5-C350-4D62-A865-BFDD05CB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AC18E-5BEA-436D-848E-673A682C9BA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images.yandex.ru/search?p=2&amp;ed=1&amp;text=&#1074;&#1088;&#1077;&#1076;%20&#1072;&#1083;&#1082;&#1086;&#1075;&#1086;&#1083;&#1103;&amp;spsite=fake-000-6972492.ru&amp;img_url=img1.liveinternet.ru/images/foto/b/1/863/1792863/f_6902457.jpg&amp;rpt=simage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images.yandex.ru/search?p=5&amp;ed=1&amp;text=&#1074;&#1088;&#1077;&#1076;%20&#1072;&#1083;&#1082;&#1086;&#1075;&#1086;&#1083;&#1103;&amp;spsite=fake-011-7727338.ru&amp;img_url=superzona.net/uploads/posts/2009-04/1240777314_1240767824_111111.jpg&amp;rpt=simage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images.yandex.ru/search?p=11&amp;ed=1&amp;text=&#1074;&#1088;&#1077;&#1076;%20&#1072;&#1083;&#1082;&#1086;&#1075;&#1086;&#1083;&#1103;&amp;spsite=fake-030-4382838.ru&amp;img_url=www.100book.ru/b259955.jpg&amp;rpt=simage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images.yandex.ru/search?p=12&amp;ed=1&amp;text=&#1074;&#1088;&#1077;&#1076;%20&#1072;&#1083;&#1082;&#1086;&#1075;&#1086;&#1083;&#1103;&amp;spsite=fake-031-3837359.ru&amp;img_url=alcoholizm.ru/wp-content/uploads/new4.jpg&amp;rpt=simage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images.yandex.ru/search?p=17&amp;ed=1&amp;text=&#1074;&#1088;&#1077;&#1076;%20&#1072;&#1083;&#1082;&#1086;&#1075;&#1086;&#1083;&#1103;&amp;spsite=www.realmusic.ru&amp;img_url=www.realmusic.ru/media/fotosession/2/2462/18309.jpg&amp;rpt=simage" TargetMode="External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yandex.ru/search?p=1&amp;ed=1&amp;text=&#1074;&#1088;&#1077;&#1076;%20&#1072;&#1083;&#1082;&#1086;&#1075;&#1086;&#1083;&#1103;&amp;spsite=fake-001-28673.ru&amp;img_url=www.aif.ru/application/public/news/127/2bd03e57845609a5b211a45667c1945b_big.jpg&amp;rpt=simage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hyperlink" Target="http://images.yandex.ru/search?p=24&amp;ed=1&amp;text=&#1074;&#1088;&#1077;&#1076;%20&#1072;&#1083;&#1082;&#1086;&#1075;&#1086;&#1083;&#1103;&amp;spsite=fake-030-597877.ru&amp;img_url=www.gorodlgov.ru/upload/images/news/nnnnn.jpg&amp;rpt=simage" TargetMode="External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images.yandex.ru/search?p=3&amp;ed=1&amp;text=&#1074;&#1088;&#1077;&#1076;%20&#1072;&#1083;&#1082;&#1086;&#1075;&#1086;&#1083;&#1103;&amp;spsite=fanat1k.ru&amp;img_url=s46.radikal.ru/i111/0912/a0/9f15cf48a52a.jpg&amp;rpt=simage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images.yandex.ru/search?p=4&amp;ed=1&amp;text=&#1074;&#1088;&#1077;&#1076;%20&#1072;&#1083;&#1082;&#1086;&#1075;&#1086;&#1083;&#1103;&amp;spsite=fake-027-606204.ru&amp;img_url=www.vestipk.ru/photo/9652.jpg&amp;rpt=simage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062080" y="3075120"/>
            <a:ext cx="501984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Алкогольная зависимость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80"/>
                </a:solidFill>
                <a:latin typeface="Times New Roman"/>
              </a:rPr>
              <a:t>Влияние алкоголя на сердечно-сосудистую систему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учащается пуль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одновременно снижаются сила и скорость сокращения сердечной мышц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У практически здоровых людей после одноразового приема крепкого спиртного напитка значительно повышается в крови содержание адреналина и норадреналин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Рисунок 19" descr="http://im3-tub.yandex.net/i?id=62467270&amp;tov=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92720" y="1989000"/>
            <a:ext cx="32893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5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5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5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5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5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5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549000"/>
            <a:ext cx="3809880" cy="58323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cc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99"/>
                </a:solidFill>
                <a:latin typeface="Times New Roman"/>
              </a:rPr>
              <a:t>Кардиомиопатия, характеризующаяся болью в области сердца, тахикардией (учащенным сердцебиением), Человек быстро утомляется, снижается его работоспособност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cc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99"/>
                </a:solidFill>
                <a:latin typeface="Times New Roman"/>
              </a:rPr>
              <a:t>ишемическая болезнь протекает тяжеле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cc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cc0099"/>
                </a:solidFill>
                <a:latin typeface="Times New Roman"/>
              </a:rPr>
              <a:t>Инфаркты миокарда отличаются глубиной и обширность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cc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cc0099"/>
                </a:solidFill>
                <a:latin typeface="Times New Roman"/>
              </a:rPr>
              <a:t>Гипертония.</a:t>
            </a:r>
            <a:r>
              <a:rPr b="0" lang="ru-RU" sz="2000" spc="-1" strike="noStrike">
                <a:solidFill>
                  <a:srgbClr val="cc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Рисунок 28" descr="http://im4-tub.yandex.net/i?id=125085411&amp;tov=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8320" y="1700280"/>
            <a:ext cx="3809880" cy="3889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66"/>
                </a:solidFill>
                <a:latin typeface="Times New Roman"/>
              </a:rPr>
              <a:t>Влияние алкоголя на печень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Первая фаза алкогольного поражения печени - ожирение. Ожирение печеночных клеток (жировая дистрофия) у людей, пристрастившихся к спиртному, наблюдается довольно часто. В печени не только ухудшаются обменные процессы, но и страдает ее барьерная функция. Известны случаи, когда жировое перерождения печеночных клеток становилось причиной внезапной смерт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8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620280"/>
            <a:ext cx="3809880" cy="54752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Times New Roman"/>
              </a:rPr>
              <a:t>Если же человек продолжает (даже изредка и понемногу) выпивать, клетки печени, не выдерживая хронической алкогольной интоксикации, погибают. Развивается цирроз печени. Место погибших клеток занимает соединительная ткань, печень покрывается рубцами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Рисунок 31" descr="http://im8-tub.yandex.net/i?id=192577051&amp;tov=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16360" y="692280"/>
            <a:ext cx="40323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98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620280"/>
            <a:ext cx="3809880" cy="54752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660066"/>
                </a:solidFill>
                <a:latin typeface="Times New Roman"/>
              </a:rPr>
              <a:t>Соединительно-тканные тяжи деформируют печеночные дольки, изменяется архитектоника сосудистого русла, и пропускная способность печени уменьшается. Кровь начинает застаиваться в кровеносных сосудах желудка, пищевода, кишечника, поджелудочной железы: создаются предпосылки для разрыва стенок сосудов и внутренних кровотечений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Рисунок 34" descr="http://im6-tub.yandex.net/i?id=21609067&amp;tov=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19640" y="2060640"/>
            <a:ext cx="3384720" cy="39114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Рисунок 48" descr="http://59425s011.edusite.ru/images/al5.jpg"/>
          <p:cNvPicPr/>
          <p:nvPr/>
        </p:nvPicPr>
        <p:blipFill>
          <a:blip r:embed="rId1"/>
          <a:stretch/>
        </p:blipFill>
        <p:spPr>
          <a:xfrm>
            <a:off x="611280" y="620640"/>
            <a:ext cx="79214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Рисунок 57" descr="http://59425s011.edusite.ru/images/al8.jpg"/>
          <p:cNvPicPr/>
          <p:nvPr/>
        </p:nvPicPr>
        <p:blipFill>
          <a:blip r:embed="rId1"/>
          <a:stretch/>
        </p:blipFill>
        <p:spPr>
          <a:xfrm>
            <a:off x="684360" y="620640"/>
            <a:ext cx="792000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c3300"/>
                </a:solidFill>
                <a:uFillTx/>
                <a:latin typeface="Times New Roman"/>
              </a:rPr>
              <a:t>Социальная деградация человека как личност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600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60093"/>
                </a:solidFill>
                <a:latin typeface="Times New Roman"/>
              </a:rPr>
              <a:t>Под влиянием алкоголя получают простор инстинкты, ослабляется воля и самоконтроль, и нередко люди совершают проступки и ошибки. Люди, испытывающие алкогольную зависимость, начинают постепенно деградировать, так как полушарии мозга, которые отвечают за интеллект постепенно перестают функционировать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Рисунок 37" descr="http://im0-tub.yandex.net/i?id=39977424&amp;tov=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59280" y="2205000"/>
            <a:ext cx="38894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5" dur="250" autoRev="1" fill="hold"/>
                                        <p:tgtEl>
                                          <p:spTgt spid="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Рисунок 45" descr="http://59425s011.edusite.ru/images/al4.jpg"/>
          <p:cNvPicPr/>
          <p:nvPr/>
        </p:nvPicPr>
        <p:blipFill>
          <a:blip r:embed="rId1"/>
          <a:stretch/>
        </p:blipFill>
        <p:spPr>
          <a:xfrm>
            <a:off x="611280" y="476280"/>
            <a:ext cx="792144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Times New Roman"/>
              </a:rPr>
              <a:t>Алкоголизм - эт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9933"/>
                </a:solidFill>
                <a:latin typeface="Times New Roman"/>
              </a:rPr>
              <a:t>Наркотическая зависимость, характеризующаяся болезненным пристрастием к употреблению алкогольных  напитков(психическая и физическая зависимость) и алкогольным поражением внутренних органов. При алкоголизме происходит деградация человека как личнос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Рисунок 16" descr="http://im0-tub.yandex.net/i?id=23376316&amp;tov=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8320" y="2708280"/>
            <a:ext cx="3809880" cy="27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Алкоголь в малых дозах безвреден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99"/>
                </a:solidFill>
                <a:latin typeface="Times New Roman"/>
              </a:rPr>
              <a:t>Под действием этанола рушиться все, в первую очередь - нервная система и сердечно-сосудистая. Слабые мышцы, тромбы в сосудах, диабет, усохший головной мозг, раздутая печень, ослабленные почки, импотенция, депрессия, язва желудка - это лишь примерный перечень того, чем вы можете поплатиться за бутылку пива по выходны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99"/>
                </a:solidFill>
                <a:latin typeface="Times New Roman"/>
              </a:rPr>
              <a:t>Вам еще хочется выпить? Представьте себе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980640"/>
            <a:ext cx="7772400" cy="5877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63300"/>
                </a:solidFill>
                <a:latin typeface="Times New Roman"/>
              </a:rPr>
              <a:t>Бутылка водки, выпитая за час, может вас убить на месте, в прямом смысле. В следующий раз, когда вы придете на вечеринку, и вам нальют штрафной, представьте свой организм, медленно умирающий под воздействием этанола, в то время, как вы веселитесь. Представьте, что ваши клетки медленно задыхаются, что мозг, спасаясь, блокирует множество мозговых центров (бессвязная речь, нарушение пространственного ощущения, нарушенная координация движений, провалы в памяти). Представьте, как сгущается ваша кровь, образую смертельно опасные тромбы, как зашкаливает уровень сахара в крови, как гибнут структуры мозга, отвечающие за интеллект и сообразительность, как алкоголь прожигает стенки желудка, образуя незаживающие язвы.</a:t>
            </a:r>
            <a:r>
              <a:rPr b="0" lang="ru-RU" sz="24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55280" y="691920"/>
            <a:ext cx="3809880" cy="5545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Представили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А теперь скажите, все это стоит того, чтобы пару часов провести в легком веселом забытьи? Вы человек, вы разумный и воспитанный человек, и вы в состоянии хорошо проводить время и веселиться на трезвую голову, без стимулятора в виде алкоголя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Рисунок 40" descr="http://im4-tub.yandex.net/i?id=115080627&amp;tov=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8320" y="1844640"/>
            <a:ext cx="380988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Хотели ли бы Вы выпить, зная что 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6600"/>
                </a:solidFill>
                <a:latin typeface="Times New Roman"/>
              </a:rPr>
              <a:t>при попадании алкоголя внутрь организма, он разносится по крови ко всем органам и неблагоприятно действует на них вплоть до разрушения. При систематическом употреблении алкоголя развивается опасная болезнь - алкоголизм. Алкоголизм опасен для здоровья человека, и практически не излечим. Человек заболевает алкоголизмом незаметно для самого себя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Рисунок 43" descr="http://im3-tub.yandex.net/i?id=34389423&amp;tov=3"/>
          <p:cNvPicPr/>
          <p:nvPr/>
        </p:nvPicPr>
        <p:blipFill>
          <a:blip r:embed="rId2"/>
          <a:stretch/>
        </p:blipFill>
        <p:spPr>
          <a:xfrm>
            <a:off x="4648320" y="2517840"/>
            <a:ext cx="380988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6" dur="250" autoRev="1" fill="hold"/>
                                        <p:tgtEl>
                                          <p:spTgt spid="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Хотели ли бы Вы пропустить рюмочку другую, зная что 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9900"/>
                </a:solidFill>
                <a:latin typeface="Times New Roman"/>
              </a:rPr>
              <a:t>в алкогольных напитках не исключается наличие канцерогенных веществ. Являясь хорошим растворителем, алкоголь помогает их проникновению в организм. У злоупотребляющих алкоголем, особенно в молодом возрасте, риск развития рака полости рта в 10 раз выше, а если они еще и курят, то в 15 раз выше по сравнению с непьющими.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риняли бы Вы «на душу», зная что 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ff"/>
                </a:solidFill>
                <a:latin typeface="Times New Roman"/>
              </a:rPr>
              <a:t>алкоголь губительно действует на клетки головного мозга</a:t>
            </a:r>
            <a:r>
              <a:rPr b="0" lang="ru-RU" sz="2400" spc="-1" strike="noStrike">
                <a:solidFill>
                  <a:srgbClr val="9900ff"/>
                </a:solidFill>
                <a:latin typeface="Times New Roman"/>
              </a:rPr>
              <a:t> ( в том числе и на клетки, регулирующие деятельность половой системы) и на половые центры, расположенные в спинном мозге. Одновременно ослабевает деятельность молочных желез, а в дальнейшем она может и прекратиться. Ученые выявили здоровые половые железа только у половины обследованных ими хронически больных алкоголизмом. Установлено, что у мужчин, злоупотребляющих алкоголем, отмечается ослабление потенции. У женщин алкоголь нарушает выработку половых гормонов и созревания яйцеклет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indefinite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68" dur="indefinite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Хотели бы Вы сейчас посидеть в компании с «бутылочкой пивка», зная что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Times New Roman"/>
              </a:rPr>
              <a:t>Основным действующим началом опьянения любого напитка являлся алкоголь</a:t>
            </a:r>
            <a:r>
              <a:rPr b="0" lang="ru-RU" sz="2400" spc="-1" strike="noStrike">
                <a:solidFill>
                  <a:srgbClr val="008080"/>
                </a:solidFill>
                <a:latin typeface="Times New Roman"/>
              </a:rPr>
              <a:t> - этиловый, или винный, спирт. Принятый внутрь он через 5 -10 минут всасывается в кровь и разносится по всему организму. Алкоголь - яд для любой живой клетки. Проникнув в организм алкоголь, очень скоро расстраивает работу тканей и органов. Быстро сгорая, он отнимает у них кислород и воду. Клетки сморщиваются, деятельность их затрудняется. При значительном и частом попадании алкоголя в организм клетки разных органов в конце концов, погибают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одняли бы Вы сейчас бокалы, помня, что 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Times New Roman"/>
              </a:rPr>
              <a:t>Под действием алкоголя нарушается чуть ли не все физиологические процессы в организме, а это может привести к тяжелым заболеваниям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Times New Roman"/>
              </a:rPr>
              <a:t>-перерождается ткань печени, почек, сердца, сосудов и др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Times New Roman"/>
              </a:rPr>
              <a:t>-страдают высшие отделы мозг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Times New Roman"/>
              </a:rPr>
              <a:t>-связь между различными отделами мозга расстраиваетс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Times New Roman"/>
              </a:rPr>
              <a:t>-алкоголь влияет также на кровеносные сосуды, несущие кровь к мозгу. Сначала они расширяются, и насыщенная алкоголем кровь бурно приливает к мозгу, вызывая резкое возбуждение нервных центров. Вот откуда чрезмерно веселое настроение и развязность пьянеющего человек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Times New Roman"/>
              </a:rPr>
              <a:t>что мы в быту благодушно называем опьянением в сущности есть не что иное, как острое отравление алкоголем, со всеми вытекающими отсюда последствиями. Хорошо, если через определенное время организм, освободившийся от яда,постепенно возвращается к нормальному состоянию. А если пьянство продолжается, и новые порции алкоголя систематически поступают в организм? Что тогда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Хотел бы ты «принять на грудь», помня, что 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алкоголь, введенный в организм, не сразу выводится оттуда, и какое-то количество этого вещества продолжает свое вредное действие на органы в течении 1- 2 дней, а в некоторых случаях и больш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Рисунок 46" descr="http://im8-tub.yandex.net/i?id=45159511&amp;tov=8"/>
          <p:cNvPicPr/>
          <p:nvPr/>
        </p:nvPicPr>
        <p:blipFill>
          <a:blip r:embed="rId1"/>
          <a:stretch/>
        </p:blipFill>
        <p:spPr>
          <a:xfrm>
            <a:off x="5021280" y="1981080"/>
            <a:ext cx="3063960" cy="4114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98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98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99"/>
                </a:solidFill>
                <a:latin typeface="Times New Roman"/>
              </a:rPr>
              <a:t>Алкоголизм - эт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cc00cc"/>
                </a:solidFill>
                <a:latin typeface="Times New Roman"/>
              </a:rPr>
              <a:t>болезнь и наркотическая зависимость, которая приводит к систематическому потреблению алкоголя, несмотря на негативные последств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Рисунок 22" descr="http://im3-tub.yandex.net/i?id=185683679&amp;tov=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09960" y="1981080"/>
            <a:ext cx="34848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ыпил бы ты сейчас вместе со своими близкими и друзьями, помня, что 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Times New Roman"/>
              </a:rPr>
              <a:t>Алкоголь вызывает приятное, приподнятое настроение</a:t>
            </a:r>
            <a:r>
              <a:rPr b="0" lang="ru-RU" sz="2000" spc="-1" strike="noStrike">
                <a:solidFill>
                  <a:srgbClr val="cc3399"/>
                </a:solidFill>
                <a:latin typeface="Times New Roman"/>
              </a:rPr>
              <a:t>, а это побуждает к повторному употреблению спиртного напитка. В первое время при желании и твердости характера еще можно отказаться от вина. В противном случае под влиянием алкогольной интоксикации (да и уговоров друзей) воля ослабевает, и человек уже не может противостоять влечению к алкоголю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Рисунок 52" descr="http://im0-tub.yandex.net/i?id=118055044&amp;tov=0"/>
          <p:cNvPicPr/>
          <p:nvPr/>
        </p:nvPicPr>
        <p:blipFill>
          <a:blip r:embed="rId2"/>
          <a:stretch/>
        </p:blipFill>
        <p:spPr>
          <a:xfrm>
            <a:off x="4648320" y="2606760"/>
            <a:ext cx="380988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Рисунок 81" descr="http://59425s011.edusite.ru/images/al15.jpg"/>
          <p:cNvPicPr/>
          <p:nvPr/>
        </p:nvPicPr>
        <p:blipFill>
          <a:blip r:embed="rId1"/>
          <a:stretch/>
        </p:blipFill>
        <p:spPr>
          <a:xfrm>
            <a:off x="324000" y="260280"/>
            <a:ext cx="3960720" cy="597708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84" descr="http://59425s011.edusite.ru/images/al16.jpg"/>
          <p:cNvPicPr/>
          <p:nvPr/>
        </p:nvPicPr>
        <p:blipFill>
          <a:blip r:embed="rId2"/>
          <a:stretch/>
        </p:blipFill>
        <p:spPr>
          <a:xfrm>
            <a:off x="4427640" y="404640"/>
            <a:ext cx="4386240" cy="58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99"/>
                </a:solidFill>
                <a:latin typeface="Times New Roman"/>
              </a:rPr>
              <a:t>Сделай свой выбор сам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Рисунок 87" descr="http://59425s011.edusite.ru/images/al17.jpg"/>
          <p:cNvPicPr/>
          <p:nvPr/>
        </p:nvPicPr>
        <p:blipFill>
          <a:blip r:embed="rId1"/>
          <a:stretch/>
        </p:blipFill>
        <p:spPr>
          <a:xfrm>
            <a:off x="1187280" y="1700280"/>
            <a:ext cx="734544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8080"/>
              </a:solidFill>
              <a:latin typeface="Times New Roman"/>
            </a:endParaRPr>
          </a:p>
        </p:txBody>
      </p:sp>
      <p:pic>
        <p:nvPicPr>
          <p:cNvPr id="51" name="Рисунок 54" descr="http://59425s011.edusite.ru/images/al7.jpg"/>
          <p:cNvPicPr/>
          <p:nvPr/>
        </p:nvPicPr>
        <p:blipFill>
          <a:blip r:embed="rId1"/>
          <a:stretch/>
        </p:blipFill>
        <p:spPr>
          <a:xfrm>
            <a:off x="684360" y="404640"/>
            <a:ext cx="792000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2009 год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(показатели на 100 тыс. населения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85800" y="1981080"/>
          <a:ext cx="7772040" cy="4114440"/>
        </p:xfrm>
        <a:graphic>
          <a:graphicData uri="http://schemas.openxmlformats.org/drawingml/2006/table">
            <a:tbl>
              <a:tblPr/>
              <a:tblGrid>
                <a:gridCol w="3885840"/>
                <a:gridCol w="3886200"/>
              </a:tblGrid>
              <a:tr h="205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Состоящие на учёт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815,8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d60093"/>
                          </a:solidFill>
                          <a:latin typeface="Times New Roman"/>
                        </a:rPr>
                        <a:t>Злоупотребляющие алкогольными напитками (среди них подростки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1200,5 (498,5)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Рисунок 42" descr="http://59425s011.edusite.ru/images/al3.jpg"/>
          <p:cNvPicPr/>
          <p:nvPr/>
        </p:nvPicPr>
        <p:blipFill>
          <a:blip r:embed="rId1"/>
          <a:stretch/>
        </p:blipFill>
        <p:spPr>
          <a:xfrm>
            <a:off x="539640" y="333360"/>
            <a:ext cx="81234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a50021"/>
                </a:solidFill>
                <a:uFillTx/>
                <a:latin typeface="Times New Roman"/>
              </a:rPr>
              <a:t>Вред алкоголя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6699"/>
                </a:solidFill>
                <a:latin typeface="Times New Roman"/>
              </a:rPr>
              <a:t>Действие на нервную систем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6699"/>
                </a:solidFill>
                <a:latin typeface="Times New Roman"/>
              </a:rPr>
              <a:t>Влияние алкоголя на сердечно-сосудистую систему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6699"/>
                </a:solidFill>
                <a:latin typeface="Times New Roman"/>
              </a:rPr>
              <a:t>Влияние алкоголя на печен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6699"/>
                </a:solidFill>
                <a:latin typeface="Times New Roman"/>
              </a:rPr>
              <a:t>Социальная деградация человека как лич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Рисунок 25" descr="http://im4-tub.yandex.net/i?id=191870724&amp;tov=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03640" y="4029120"/>
            <a:ext cx="366552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339933"/>
                </a:solidFill>
                <a:uFillTx/>
                <a:latin typeface="Times New Roman"/>
              </a:rPr>
              <a:t>Действие алкоголя на нервную систему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Действие алкоголя на мозг находится в прямой зависимости от его концентрации в крови. По мере того как концентрация алкоголя в крови нарастает, происходит дальнейшее угнетение тормозных процессов в коре головного мозга. Центры ее приходят в хаотическое возбуждение, из-под их регулирующего влияния высвобождаются нижележащие подкорковые отделы, что сопровождается раскрепощенностью низших форм поведения и инстинктов. ( </a:t>
            </a:r>
            <a:r>
              <a:rPr b="0" lang="ru-RU" sz="2800" spc="-1" strike="noStrike" u="sng">
                <a:solidFill>
                  <a:srgbClr val="0033cc"/>
                </a:solidFill>
                <a:uFillTx/>
                <a:latin typeface="Times New Roman"/>
              </a:rPr>
              <a:t>«буйство подкорки»</a:t>
            </a: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60280"/>
            <a:ext cx="77724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Человек полностью теряет ориентаци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Одноразовый прием крепких спиртных напитков вызывает хотя и временные, но довольно серьезные нарушения работы всех отделов головного мозг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Алкогольная диплопия ( двоение в глазах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Отрицательно складывается принятие алкоголя на слуховую рецепци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Искажаются вкусовые ощущ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Снижаются реакции на внешние раздражител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Крайне неблагоприятное влияние на сосуды головного мозг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Алкоголь – причины многих психических расстройств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ьга</cp:lastModifiedBy>
  <dcterms:modified xsi:type="dcterms:W3CDTF">2010-09-23T07:36:01Z</dcterms:modified>
  <cp:revision>3</cp:revision>
  <dc:subject/>
  <dc:title>PowerPoint Presentation</dc:title>
</cp:coreProperties>
</file>