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30.jpeg" ContentType="image/jpeg"/>
  <Override PartName="/ppt/media/image32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7.jpeg" ContentType="image/jpeg"/>
  <Override PartName="/ppt/media/image20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76E-1923-40D5-A491-6B60D6EB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195-A943-49CC-90CD-A407DF70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8D1-10D1-40DF-8017-65EBFACA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E88-5468-46F2-81C7-EC59DBBB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55C-0586-4584-A5B4-CEA2723F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72F-0EF9-40FB-872B-266DAB32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E11-FF11-426E-8FF2-61BEDD35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149-A272-489D-89A0-0309930C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BF3-948B-4560-9E31-02F041BC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2C3-85AE-4D10-893A-B0BB813A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3CB-370A-4320-89BA-FBEA84DA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5A5-F2F2-422F-B3EB-B304954A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DBA3-1011-4D74-9CAF-656969EEBF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mages.yandex.ru/search?p=2&amp;ed=1&amp;text=&#1074;&#1088;&#1077;&#1076;%20&#1072;&#1083;&#1082;&#1086;&#1075;&#1086;&#1083;&#1103;&amp;spsite=fake-000-6972492.ru&amp;img_url=img1.liveinternet.ru/images/foto/b/1/863/1792863/f_6902457.jpg&amp;rpt=simage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yandex.ru/search?p=5&amp;ed=1&amp;text=&#1074;&#1088;&#1077;&#1076;%20&#1072;&#1083;&#1082;&#1086;&#1075;&#1086;&#1083;&#1103;&amp;spsite=fake-011-7727338.ru&amp;img_url=superzona.net/uploads/posts/2009-04/1240777314_1240767824_111111.jpg&amp;rpt=simage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yandex.ru/search?p=11&amp;ed=1&amp;text=&#1074;&#1088;&#1077;&#1076;%20&#1072;&#1083;&#1082;&#1086;&#1075;&#1086;&#1083;&#1103;&amp;spsite=fake-030-4382838.ru&amp;img_url=www.100book.ru/b259955.jpg&amp;rpt=simage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mages.yandex.ru/search?p=12&amp;ed=1&amp;text=&#1074;&#1088;&#1077;&#1076;%20&#1072;&#1083;&#1082;&#1086;&#1075;&#1086;&#1083;&#1103;&amp;spsite=fake-031-3837359.ru&amp;img_url=alcoholizm.ru/wp-content/uploads/new4.jpg&amp;rpt=simage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yandex.ru/search?p=17&amp;ed=1&amp;text=&#1074;&#1088;&#1077;&#1076;%20&#1072;&#1083;&#1082;&#1086;&#1075;&#1086;&#1083;&#1103;&amp;spsite=www.realmusic.ru&amp;img_url=www.realmusic.ru/media/fotosession/2/2462/18309.jpg&amp;rpt=simage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search?p=1&amp;ed=1&amp;text=&#1074;&#1088;&#1077;&#1076;%20&#1072;&#1083;&#1082;&#1086;&#1075;&#1086;&#1083;&#1103;&amp;spsite=fake-001-28673.ru&amp;img_url=www.aif.ru/application/public/news/127/2bd03e57845609a5b211a45667c1945b_big.jpg&amp;rpt=simage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images.yandex.ru/search?p=24&amp;ed=1&amp;text=&#1074;&#1088;&#1077;&#1076;%20&#1072;&#1083;&#1082;&#1086;&#1075;&#1086;&#1083;&#1103;&amp;spsite=fake-030-597877.ru&amp;img_url=www.gorodlgov.ru/upload/images/news/nnnnn.jpg&amp;rpt=simage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yandex.ru/search?p=3&amp;ed=1&amp;text=&#1074;&#1088;&#1077;&#1076;%20&#1072;&#1083;&#1082;&#1086;&#1075;&#1086;&#1083;&#1103;&amp;spsite=fanat1k.ru&amp;img_url=s46.radikal.ru/i111/0912/a0/9f15cf48a52a.jpg&amp;rpt=simag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yandex.ru/search?p=4&amp;ed=1&amp;text=&#1074;&#1088;&#1077;&#1076;%20&#1072;&#1083;&#1082;&#1086;&#1075;&#1086;&#1083;&#1103;&amp;spsite=fake-027-606204.ru&amp;img_url=www.vestipk.ru/photo/9652.jpg&amp;rpt=simage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62080" y="3075120"/>
            <a:ext cx="50198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когольная зависимость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Влияние алкоголя на сердечно-сосудистую систему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учащается пуль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одновременно снижаются сила и скорость сокращения сердечной мыш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У практически здоровых людей после одноразового приема крепкого спиртного напитка значительно повышается в крови содержание адреналина и норадреналин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19" descr="http://im3-tub.yandex.net/i?id=62467270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989000"/>
            <a:ext cx="32893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549000"/>
            <a:ext cx="3809880" cy="58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Кардиомиопатия, характеризующаяся болью в области сердца, тахикардией (учащенным сердцебиением), Человек быстро утомляется, снижается его работоспособ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ишемическая болезнь протекает тяже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Инфаркты миокарда отличаются глубиной и обширн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Гипертония.</a:t>
            </a: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28" descr="http://im4-tub.yandex.net/i?id=125085411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700280"/>
            <a:ext cx="3809880" cy="388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Times New Roman"/>
              </a:rPr>
              <a:t>Влияние алкоголя на печень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ервая фаза алкогольного поражения печени - ожирение. Ожирение печеночных клеток (жировая дистрофия) у людей, пристрастившихся к спиртному, наблюдается довольно часто. В печени не только ухудшаются обменные процессы, но и страдает ее барьерная функция. Известны случаи, когда жировое перерождения печеночных клеток становилось причиной внезапной смер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Если же человек продолжает (даже изредка и понемногу) выпивать, клетки печени, не выдерживая хронической алкогольной интоксикации, погибают. Развивается цирроз печени. Место погибших клеток занимает соединительная ткань, печень покрывается рубца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31" descr="http://im8-tub.yandex.net/i?id=192577051&amp;tov=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692280"/>
            <a:ext cx="403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66"/>
                </a:solidFill>
                <a:latin typeface="Times New Roman"/>
              </a:rPr>
              <a:t>Соединительно-тканные тяжи деформируют печеночные дольки, изменяется архитектоника сосудистого русла, и пропускная способность печени уменьшается. Кровь начинает застаиваться в кровеносных сосудах желудка, пищевода, кишечника, поджелудочной железы: создаются предпосылки для разрыва стенок сосудов и внутренних кровотече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34" descr="http://im6-tub.yandex.net/i?id=21609067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2060640"/>
            <a:ext cx="3384720" cy="3911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Рисунок 48" descr="http://59425s011.edusite.ru/images/al5.jpg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57" descr="http://59425s011.edusite.ru/images/al8.jpg"/>
          <p:cNvPicPr/>
          <p:nvPr/>
        </p:nvPicPr>
        <p:blipFill>
          <a:blip r:embed="rId1"/>
          <a:stretch/>
        </p:blipFill>
        <p:spPr>
          <a:xfrm>
            <a:off x="684360" y="620640"/>
            <a:ext cx="7920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3300"/>
                </a:solidFill>
                <a:uFillTx/>
                <a:latin typeface="Times New Roman"/>
              </a:rPr>
              <a:t>Социальная деградация человека как лич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Под влиянием алкоголя получают простор инстинкты, ослабляется воля и самоконтроль, и нередко люди совершают проступки и ошибки. Люди, испытывающие алкогольную зависимость, начинают постепенно деградировать, так как полушарии мозга, которые отвечают за интеллект постепенно перестают функционирова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37" descr="http://im0-tub.yandex.net/i?id=39977424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220500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45" descr="http://59425s011.edusite.ru/images/al4.jpg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Алкоголизм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9933"/>
                </a:solidFill>
                <a:latin typeface="Times New Roman"/>
              </a:rPr>
              <a:t>Наркотическая зависимость, характеризующаяся болезненным пристрастием к употреблению алкогольных  напитков(психическая и физическая зависимость) и алкогольным поражением внутренних органов. При алкоголизме происходит деградация человека как личнос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16" descr="http://im0-tub.yandex.net/i?id=23376316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708280"/>
            <a:ext cx="38098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Алкоголь в малых дозах безвреден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Times New Roman"/>
              </a:rPr>
              <a:t>Под действием этанола рушиться все, в первую очередь - нервная система и сердечно-сосудистая. Слабые мышцы, тромбы в сосудах, диабет, усохший головной мозг, раздутая печень, ослабленные почки, импотенция, депрессия, язва желудка - это лишь примерный перечень того, чем вы можете поплатиться за бутылку пива по выход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Вам еще хочется выпить? Представьте себ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877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3300"/>
                </a:solidFill>
                <a:latin typeface="Times New Roman"/>
              </a:rPr>
              <a:t>Бутылка водки, выпитая за час, может вас убить на месте, в прямом смысле. В следующий раз, когда вы придете на вечеринку, и вам нальют штрафной, представьте свой организм, медленно умирающий под воздействием этанола, в то время, как вы веселитесь. Представьте, что ваши клетки медленно задыхаются, что мозг, спасаясь, блокирует множество мозговых центров (бессвязная речь, нарушение пространственного ощущения, нарушенная координация движений, провалы в памяти). Представьте, как сгущается ваша кровь, образую смертельно опасные тромбы, как зашкаливает уровень сахара в крови, как гибнут структуры мозга, отвечающие за интеллект и сообразительность, как алкоголь прожигает стенки желудка, образуя незаживающие язвы.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691920"/>
            <a:ext cx="3809880" cy="554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Представили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 теперь скажите, все это стоит того, чтобы пару часов провести в легком веселом забытьи? Вы человек, вы разумный и воспитанный человек, и вы в состоянии хорошо проводить время и веселиться на трезвую голову, без стимулятора в виде алкогол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40" descr="http://im4-tub.yandex.net/i?id=115080627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844640"/>
            <a:ext cx="38098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Хотели ли бы Вы выпить, зная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- алкоголизм. Алкоголизм опасен для здоровья человека, и практически не излечим. Человек заболевает алкоголизмом незаметно для самого себ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43" descr="http://im3-tub.yandex.net/i?id=34389423&amp;tov=3"/>
          <p:cNvPicPr/>
          <p:nvPr/>
        </p:nvPicPr>
        <p:blipFill>
          <a:blip r:embed="rId2"/>
          <a:stretch/>
        </p:blipFill>
        <p:spPr>
          <a:xfrm>
            <a:off x="4648320" y="2517840"/>
            <a:ext cx="38098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Хотели ли бы Вы пропустить рюмочку другую, зная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00"/>
                </a:solidFill>
                <a:latin typeface="Times New Roman"/>
              </a:rPr>
              <a:t>в алкогольных напитках не исключается наличие канцерогенных веществ. Являясь хорошим растворителем, алкоголь помогает их проникновению в организм. У злоупотребляющих алкоголем, особенно в молодом возрасте, риск развития рака полости рта в 10 раз выше, а если они еще и курят, то в 15 раз выше по сравнению с непьющими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няли бы Вы «на душу», зная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алкоголь губительно действует на клетки головного мозга</a:t>
            </a: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 ( в том числе и на клетки, регулирующие деятельность половой системы) и на половые центры, расположенные в спинном мозге. Одновременно ослабевает деятельность молочных желез, а в дальнейшем она может и прекратиться. Ученые выявили здоровые половые железа только у половины обследованных ими хронически больных алкоголизмом. Установлено, что у мужчин, злоупотребляющих алкоголем, отмечается ослабление потенции. У женщин алкоголь нарушает выработку половых гормонов и созревания яйцекл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indefinite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8" dur="indefinite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отели бы Вы сейчас посидеть в компании с «бутылочкой пивка», зная чт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Основным действующим началом опьянения любого напитка являлся алкоголь</a:t>
            </a:r>
            <a:r>
              <a:rPr b="0" lang="ru-RU" sz="2400" spc="-1" strike="noStrike">
                <a:solidFill>
                  <a:srgbClr val="008080"/>
                </a:solidFill>
                <a:latin typeface="Times New Roman"/>
              </a:rPr>
              <a:t> - этиловый, или винный, спирт. Принятый внутрь он через 5 -10 минут всасывается в кровь и разносится по всему организму. Алкоголь - яд для любой живой клетки. Проникнув в организм алкоголь, очень скоро расстраивает работу тканей и органов. Быстро сгорая, он отнимает у них кислород и воду. Клетки сморщиваются, деятельность их затрудняется. При значительном и частом попадании алкоголя в организм клетки разных органов в конце концов, погибаю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дняли бы Вы сейчас бокалы, помня,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Под действием алкоголя нарушается чуть ли не все физиологические процессы в организме, а это может привести к тяжелым заболевания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-перерождается ткань печени, почек, сердца, сосудов и д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-страдают высшие отделы мозг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-связь между различными отделами мозга расстраивае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-алкоголь влияет также на кровеносные сосуды, несущие кровь к мозгу. Сначала они расширяются, и насыщенная алкоголем кровь бурно приливает к мозгу, вызывая резкое возбуждение нервных центров. Вот откуда чрезмерно веселое настроение и развязность пьянеющего челове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что мы в быту благодушно называем опьянением в сущности есть не что иное, как острое отравление алкоголем, со всеми вытекающими отсюда последствиями. Хорошо, если через определенное время организм, освободившийся от яда,постепенно возвращается к нормальному состоянию. А если пьянство продолжается, и новые порции алкоголя систематически поступают в организм? Что тогд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отел бы ты «принять на грудь», помня,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лкоголь, введенный в организм, не сразу выводится оттуда, и какое-то количество этого вещества продолжает свое вредное действие на органы в течении 1- 2 дней, а в некоторых случаях и больш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6" descr="http://im8-tub.yandex.net/i?id=45159511&amp;tov=8"/>
          <p:cNvPicPr/>
          <p:nvPr/>
        </p:nvPicPr>
        <p:blipFill>
          <a:blip r:embed="rId1"/>
          <a:stretch/>
        </p:blipFill>
        <p:spPr>
          <a:xfrm>
            <a:off x="5021280" y="1981080"/>
            <a:ext cx="306396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Times New Roman"/>
              </a:rPr>
              <a:t>Алкоголизм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cc"/>
                </a:solidFill>
                <a:latin typeface="Times New Roman"/>
              </a:rPr>
              <a:t>болезнь и наркотическая зависимость, которая приводит к систематическому потреблению алкоголя, несмотря на негативные последств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Рисунок 22" descr="http://im3-tub.yandex.net/i?id=185683679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9960" y="1981080"/>
            <a:ext cx="3484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пил бы ты сейчас вместе со своими близкими и друзьями, помня,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Алкоголь вызывает приятное, приподнятое настроение</a:t>
            </a:r>
            <a:r>
              <a:rPr b="0" lang="ru-RU" sz="2000" spc="-1" strike="noStrike">
                <a:solidFill>
                  <a:srgbClr val="cc3399"/>
                </a:solidFill>
                <a:latin typeface="Times New Roman"/>
              </a:rPr>
              <a:t>, а это побуждает к повторному употреблению спиртного напитка. В первое время при желании и твердости характера еще можно отказаться от вина. В противном случае под влиянием алкогольной интоксикации (да и уговоров друзей) воля ослабевает, и человек уже не может противостоять влечению к алкоголю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Рисунок 52" descr="http://im0-tub.yandex.net/i?id=118055044&amp;tov=0"/>
          <p:cNvPicPr/>
          <p:nvPr/>
        </p:nvPicPr>
        <p:blipFill>
          <a:blip r:embed="rId2"/>
          <a:stretch/>
        </p:blipFill>
        <p:spPr>
          <a:xfrm>
            <a:off x="4648320" y="2606760"/>
            <a:ext cx="38098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81" descr="http://59425s011.edusite.ru/images/al15.jpg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5977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84" descr="http://59425s011.edusite.ru/images/al16.jpg"/>
          <p:cNvPicPr/>
          <p:nvPr/>
        </p:nvPicPr>
        <p:blipFill>
          <a:blip r:embed="rId2"/>
          <a:stretch/>
        </p:blipFill>
        <p:spPr>
          <a:xfrm>
            <a:off x="4427640" y="404640"/>
            <a:ext cx="438624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imes New Roman"/>
              </a:rPr>
              <a:t>Сделай свой выбор сам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Рисунок 87" descr="http://59425s011.edusite.ru/images/al17.jpg"/>
          <p:cNvPicPr/>
          <p:nvPr/>
        </p:nvPicPr>
        <p:blipFill>
          <a:blip r:embed="rId1"/>
          <a:stretch/>
        </p:blipFill>
        <p:spPr>
          <a:xfrm>
            <a:off x="1187280" y="1700280"/>
            <a:ext cx="7345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51" name="Рисунок 54" descr="http://59425s011.edusite.ru/images/al7.jpg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009 год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(показатели на 100 тыс. населени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981080"/>
          <a:ext cx="7772040" cy="411444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20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Состоящие на учёт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15,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Злоупотребляющие алкогольными напитками (среди них подростки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200,5 (498,5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42" descr="http://59425s011.edusite.ru/images/al3.jpg"/>
          <p:cNvPicPr/>
          <p:nvPr/>
        </p:nvPicPr>
        <p:blipFill>
          <a:blip r:embed="rId1"/>
          <a:stretch/>
        </p:blipFill>
        <p:spPr>
          <a:xfrm>
            <a:off x="539640" y="333360"/>
            <a:ext cx="81234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ред алкогол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Действие на нервную систе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Влияние алкоголя на сердечно-сосудистую систем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Влияние алкоголя на печен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Социальная деградация человека как л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25" descr="http://im4-tub.yandex.net/i?id=191870724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4029120"/>
            <a:ext cx="36655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9933"/>
                </a:solidFill>
                <a:uFillTx/>
                <a:latin typeface="Times New Roman"/>
              </a:rPr>
              <a:t>Действие алкоголя на нервную систему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Действие алкоголя на мозг находится в прямой зависимости от его концентрации в крови. По мере того как концентрация алкоголя в крови нарастает, происходит дальнейшее угнетение тормозных процессов в коре головного мозга. Центры ее приходят в хаотическое возбуждение, из-под их регулирующего влияния высвобождаются нижележащие подкорковые отделы, что сопровождается раскрепощенностью низших форм поведения и инстинктов. (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«буйство подкорки»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еловек полностью теряет ориент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дноразовый прием крепких спиртных напитков вызывает хотя и временные, но довольно серьезные нарушения работы всех отделов головного моз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Алкогольная диплопия ( двоение в глаз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трицательно складывается принятие алкоголя на слуховую рецеп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Искажаются вкусовые ощущ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нижаются реакции на внешние раздражите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райне неблагоприятное влияние на сосуды головного моз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Алкоголь – причины многих психических расстройств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0-09-23T07:36:01Z</dcterms:modified>
  <cp:revision>3</cp:revision>
  <dc:subject/>
  <dc:title>PowerPoint Presentation</dc:title>
</cp:coreProperties>
</file>