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ED5-A8DC-4168-9E45-B2D260F8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362-0548-4D12-A6FC-F8F2B06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9CC-D89D-481B-8CBD-9BE9E267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3C4-A906-499C-9B34-01BF373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FB4-9ABC-41CB-BF46-AAC6AC99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396-CDBE-4777-A3C5-F1F415AF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66C7-D82B-40C2-86BA-AA53F69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8FF2-9F56-4D6B-8EE4-C1217E17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374-E8F6-4ABF-832F-CCD16B6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56D9-85A6-4C0F-BEDC-504BB932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5BBA-7816-48D7-AB4C-8866F8E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E6D-9B62-4671-B5DA-40CA72C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CA3-6430-484F-993E-BA3157C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EED-5B70-4692-AB32-A3AD2525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CFC6-F465-4F11-87C7-60C64E2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2079-1CC8-4630-80DC-E382F25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8B4-49C0-41DB-977D-6FB52595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4C2-0147-4EDF-9894-3C11064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A19-C029-45CD-AC77-FC140BDD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707-1E8D-4E88-8D56-83FE21F6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EA1-7BA5-44DE-A674-BD3023F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F41-06CB-457E-902A-E1AC541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E14-C66C-4168-AF12-81C6ABB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11D-0EC0-4045-83FC-514A9A4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E6B9-4CA1-46C3-9C22-2694C2532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0DC4-DAA9-4DBC-B36D-D3CAAB2D6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9285-D858-48E9-9DC6-C4292B67D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спектный анализ урока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етальное и всестороннее  рассмотрение его как ЕДИНОГО ЦЕЛОГО под определенным углом зрения (основанием, аспектом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5F7A-3FBF-4EC7-B3D5-F4FCBB686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Проанализируйте ур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2) Докажите традиционно-фронтальный или личностно-ориентированный ур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ма, д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Calibri"/>
              </a:rPr>
              <a:t>Тип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Calibri"/>
              </a:rPr>
              <a:t>Цели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и на уро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ователь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ющие: предметные; метапредметные (Р, К, П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чностны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352680" y="1719360"/>
          <a:ext cx="5562720" cy="44528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17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AutoShape 23"/>
          <p:cNvSpPr/>
          <p:nvPr/>
        </p:nvSpPr>
        <p:spPr>
          <a:xfrm>
            <a:off x="2819520" y="2666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2514600" y="21337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4815-CA1B-4A89-A8EA-0D1941E8C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пектами анализа урока начальной школы  могу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ли (задачи) уро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ое содерж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ы обучени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актическая направленность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руктура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зультатив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F0A2-3658-4D38-987F-B94B769CB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484720" y="53280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е аспекты анализа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990720"/>
          <a:ext cx="8229600" cy="5410080"/>
        </p:xfrm>
        <a:graphic>
          <a:graphicData uri="http://schemas.openxmlformats.org/drawingml/2006/table">
            <a:tbl>
              <a:tblPr/>
              <a:tblGrid>
                <a:gridCol w="3500280"/>
                <a:gridCol w="472932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аспекты     анализ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блю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задача урока (краткий оценочный анали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дидактической задачи урока отобранному содержа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зультативность решения дидактической задачи  урока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основного содержания урока содержанию программы и учеб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приемов обучения и учения (методов обучения) решению основной триединой образовательной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форм обучения (фронтальная, групповая, индивидуальная, коллективная) решению  основной дидактической задачи  уро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Целесообразность ис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е цели решение и основной дидактической задач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FB8-4B43-4CB3-ACEA-D34A8050C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914400"/>
          <a:ext cx="7619760" cy="5334120"/>
        </p:xfrm>
        <a:graphic>
          <a:graphicData uri="http://schemas.openxmlformats.org/drawingml/2006/table">
            <a:tbl>
              <a:tblPr/>
              <a:tblGrid>
                <a:gridCol w="3241440"/>
                <a:gridCol w="43783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направлен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направленность вопросов, упражнений и задач,  предлагаемых для решения школьни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школьников  как форма организации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самостоятельности школьников при решении дидактической задачи урока.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Характер самостоятельной учебной деятельности (репродуктивный, твор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уктурный анали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структуры урока 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ой задач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режим, проветривание класса, освещенность, соответствие классной мебели росту детей, чередование видов деятельности, динамические пау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328D-03E5-447B-BCF6-BFA477BE3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886320"/>
            <a:ext cx="6451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ва основная дидактическая  задача  уро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новые понятия (правила) должны были усвоить учащиеся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время было запланировано на реализацию именно этой задачи уро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на этапе актуализации знаний учитель предпочел пересказ  параграфов системе вопросов учебника, обобщающих содержание этих параграф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ли сказать, что время урока распределено рационально с точки зрения эффективности решения его основной дидактической задачи и дополнительной задачи – формирование навыка пересказа параграф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можно объяснить затруднения учащихся при ответах на вопросы, которые требуют их оценочных сужден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упражнения, предложенные учебником, были заменены другими упражнений из дополнительного источника, не относящегося к этой системе обуче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акими трудностями встретятся ученики при выполнении домашней работ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D1CB-3C4B-40B3-96CD-DA587EA01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32240" y="38016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е формы 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143000"/>
          <a:ext cx="7467840" cy="5181480"/>
        </p:xfrm>
        <a:graphic>
          <a:graphicData uri="http://schemas.openxmlformats.org/drawingml/2006/table">
            <a:tbl>
              <a:tblPr/>
              <a:tblGrid>
                <a:gridCol w="2332080"/>
                <a:gridCol w="2598840"/>
                <a:gridCol w="25369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блю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 и наглядная передача учебной (проектно-корректирующей) информации одновременно всем учащимся, обмен информацией между учителем и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е внимание учащихся в процессе объяснения учителя, фронтального опроса; корректирующая информация со стороны учителя, правильные ответы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(парная) форма обуч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сменного со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парной работы или выполнения дифференцированных заданий группой школьников  (с помощью учебника, карточек, классной доски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сотрудничество (умение договариваться, распределять работу, оценивать свой вклад в результат общей деятельности); соревнование между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FAF-F531-4129-8214-070FDAA97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066680"/>
          <a:ext cx="7772400" cy="5486400"/>
        </p:xfrm>
        <a:graphic>
          <a:graphicData uri="http://schemas.openxmlformats.org/drawingml/2006/table">
            <a:tbl>
              <a:tblPr/>
              <a:tblGrid>
                <a:gridCol w="2427120"/>
                <a:gridCol w="2705400"/>
                <a:gridCol w="2639880"/>
              </a:tblGrid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 форм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рганизация самостоятельной рабо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чебником, выполнение самостоятельных или контрольных заданий, устный ответ у доски, индивидуальное сообщение новой для класса информации (доклад на заседании школьного клуб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тепень самостоятельности при работе с учебником, при выполнении  самостоятельных или контрольных работ, при устном сообщении, результативность индивидуальной помощи со стороны учителя или учащихся,  опосредованное оказание индивидуальной помощи с помощью источников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ая форма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ая или полная передача организации учебного занятия учащимся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, при которых учащиеся самостоятельно организуют и проводят фрагменты уроков или весь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A7B-A8C8-4DC1-871B-303439B31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23600" y="30420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614520"/>
          <a:ext cx="7086600" cy="5987880"/>
        </p:xfrm>
        <a:graphic>
          <a:graphicData uri="http://schemas.openxmlformats.org/drawingml/2006/table">
            <a:tbl>
              <a:tblPr/>
              <a:tblGrid>
                <a:gridCol w="3209760"/>
                <a:gridCol w="3876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для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мет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ередачи и восприятия учеб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етоды словесной передачи и слухового восприятия (словесные методы – пояснения, разъяснения, рассказ, объяснени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. Методы наглядной передачи и зрительного восприятия (наглядные методы – иллюстрации, показ образца выполнения, демонстраци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актические методы обучения (решение задач, выполнение упражнений, лабораторные работы, трудовые действ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учебно-познавательной деятельности школьников по усвоению содержания образования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ые методы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-поисковые (продуктивные) 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педагогического управления деятельностью учащихся со стороны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непосредственного управления учебно-познавательной деятельностью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осредованного управления учебно-познавательной деятельностью учащихся с помощью источников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BC52-6195-4545-823B-A94F68670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6680" y="990720"/>
          <a:ext cx="6386760" cy="4876560"/>
        </p:xfrm>
        <a:graphic>
          <a:graphicData uri="http://schemas.openxmlformats.org/drawingml/2006/table">
            <a:tbl>
              <a:tblPr/>
              <a:tblGrid>
                <a:gridCol w="2892600"/>
                <a:gridCol w="349416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дидактические задачи, реализуемые на   этапе учебного заня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рганизации и осуществления учебно-познавательной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стимулирования и мотивации учебно-познаватель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контроля и самоконтроля за эффективностью учебно-познаватель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ка изложения и усвоения учеб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ивные 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ктивные 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40:41Z</dcterms:created>
  <dc:creator>MASTER</dc:creator>
  <dc:description/>
  <dc:language>en-US</dc:language>
  <cp:lastModifiedBy>MASTER</cp:lastModifiedBy>
  <dcterms:modified xsi:type="dcterms:W3CDTF">2010-12-06T17:50:12Z</dcterms:modified>
  <cp:revision>2</cp:revision>
  <dc:subject/>
  <dc:title>Аспектный анализ урока –</dc:title>
</cp:coreProperties>
</file>