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DB2-BDFA-469A-9CBB-21E33640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7C6-16DF-4494-98D9-8B4A0B66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65D-BBD6-4EE6-85F3-EB95D9D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50B-806F-4FC1-B631-58859607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DFF4-A5EF-4A62-8A8E-5360565F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2A0A-E623-4B6E-B11F-E31A6FC2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58B4-93FE-447C-962F-E3259A2A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010-B85F-4F43-A31D-863461E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B4F-19B8-4030-B224-C175F54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21FB-3324-4586-86C8-D837D4F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C1A-CAF1-487B-9C80-F35CCAE8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C4F-5281-4A0B-9606-3307F048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1754-DF14-4E07-B7B3-8E04691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D26-70ED-42EF-9AFD-033D31E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0EBE-526D-4930-937F-E016A05B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3AB-A5D8-4893-866D-E578F643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7EB6-68B0-42A4-9451-1A440A19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B5D-609B-42B0-8074-8C99050F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A55-ABE4-4353-81F4-326A0912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3CB-EDA1-4536-82DF-1B8A60EE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52E-9195-465E-9087-F3005A8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3E7-6392-4359-9452-194EC1B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225-D7EE-497C-9B42-21355B7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3FC-B6BC-4335-9427-9640E65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DF5-0EEC-4B65-B3F9-AAB1D9492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53C-8BE9-468E-9F6D-0E56A13B8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F6AD-FFD1-4DCD-BC26-8D62A9FBA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спектный анализ урока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етальное и всестороннее  рассмотрение его как ЕДИНОГО ЦЕЛОГО под определенным углом зрения (основанием, аспектом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D407-D20A-471D-AB11-90403F38C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Проанализируйте уро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2) Докажите традиционно-фронтальный или личностно-ориентированный ур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276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ма, да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66"/>
                </a:solidFill>
                <a:latin typeface="Calibri"/>
              </a:rPr>
              <a:t>Тип у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66"/>
                </a:solidFill>
                <a:latin typeface="Calibri"/>
              </a:rPr>
              <a:t>Цели у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чи на урок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ователь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вивающие: предметные; метапредметные (Р, К, П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чностны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352680" y="1719360"/>
          <a:ext cx="5562720" cy="445284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17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AutoShape 23"/>
          <p:cNvSpPr/>
          <p:nvPr/>
        </p:nvSpPr>
        <p:spPr>
          <a:xfrm>
            <a:off x="2819520" y="26668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24"/>
          <p:cNvSpPr/>
          <p:nvPr/>
        </p:nvSpPr>
        <p:spPr>
          <a:xfrm>
            <a:off x="2514600" y="21337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1D6-81AD-406C-84D7-92F31FDA8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пектами анализа урока начальной школы  могу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ли (задачи) уро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ое содерж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ормы обучени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 учащихс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актическая направленность уро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труктура уро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зультативнос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0185-9BF9-46C1-91F2-39F35E091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484720" y="532800"/>
            <a:ext cx="33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ущие аспекты анализа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990720"/>
          <a:ext cx="8229600" cy="5410080"/>
        </p:xfrm>
        <a:graphic>
          <a:graphicData uri="http://schemas.openxmlformats.org/drawingml/2006/table">
            <a:tbl>
              <a:tblPr/>
              <a:tblGrid>
                <a:gridCol w="3500280"/>
                <a:gridCol w="472932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аспекты     анализ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наблю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ая задача урока (краткий оценочный анали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ответствие дидактической задачи урока отобранному содержа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Результативность решения дидактической задачи  урока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основного содержания урока содержанию программы и учеб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приемов обучения и учения (методов обучения) решению основной триединой образовательной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ответствие форм обучения (фронтальная, групповая, индивидуальная, коллективная) решению  основной дидактической задачи  уро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Целесообразность исполь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жение цели решение и основной дидактической задач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400D-B6CA-4363-A8DB-D45123432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914400"/>
          <a:ext cx="7619760" cy="5334120"/>
        </p:xfrm>
        <a:graphic>
          <a:graphicData uri="http://schemas.openxmlformats.org/drawingml/2006/table">
            <a:tbl>
              <a:tblPr/>
              <a:tblGrid>
                <a:gridCol w="3241440"/>
                <a:gridCol w="43783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направленность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направленность вопросов, упражнений и задач,  предлагаемых для решения школьни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школьников  как форма организации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самостоятельности школьников при решении дидактической задачи урока.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Характер самостоятельной учебной деятельности (репродуктивный, твор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уктурный анали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ие структуры урока 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ой задач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треб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ый режим, проветривание класса, освещенность, соответствие классной мебели росту детей, чередование видов деятельности, динамические пау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B3BC-5625-4EB2-9DC0-AAA41D096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886320"/>
            <a:ext cx="6451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ва основная дидактическая  задача  уро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новые понятия (правила) должны были усвоить учащиеся на урок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время было запланировано на реализацию именно этой задачи урок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на этапе актуализации знаний учитель предпочел пересказ  параграфов системе вопросов учебника, обобщающих содержание этих параграф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ли сказать, что время урока распределено рационально с точки зрения эффективности решения его основной дидактической задачи и дополнительной задачи – формирование навыка пересказа параграф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м можно объяснить затруднения учащихся при ответах на вопросы, которые требуют их оценочных сужден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упражнения, предложенные учебником, были заменены другими упражнений из дополнительного источника, не относящегося к этой системе обуче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акими трудностями встретятся ученики при выполнении домашней работ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648-1351-455D-87FF-DC1A24699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32240" y="38016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е формы 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143000"/>
          <a:ext cx="7467840" cy="5181480"/>
        </p:xfrm>
        <a:graphic>
          <a:graphicData uri="http://schemas.openxmlformats.org/drawingml/2006/table">
            <a:tbl>
              <a:tblPr/>
              <a:tblGrid>
                <a:gridCol w="2332080"/>
                <a:gridCol w="2598840"/>
                <a:gridCol w="25369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наблю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а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ая и наглядная передача учебной (проектно-корректирующей) информации одновременно всем учащимся, обмен информацией между учителем и дет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е внимание учащихся в процессе объяснения учителя, фронтального опроса; корректирующая информация со стороны учителя, правильные ответы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овая (парная) форма обуч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сменного сост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парной работы или выполнения дифференцированных заданий группой школьников  (с помощью учебника, карточек, классной доски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е сотрудничество (умение договариваться, распределять работу, оценивать свой вклад в результат общей деятельности); соревнование между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98D-A54F-408C-BED8-842C68B07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066680"/>
          <a:ext cx="7772400" cy="5486400"/>
        </p:xfrm>
        <a:graphic>
          <a:graphicData uri="http://schemas.openxmlformats.org/drawingml/2006/table">
            <a:tbl>
              <a:tblPr/>
              <a:tblGrid>
                <a:gridCol w="2427120"/>
                <a:gridCol w="2705400"/>
                <a:gridCol w="2639880"/>
              </a:tblGrid>
              <a:tr h="38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  форм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рганизация самостоятельной рабо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чебником, выполнение самостоятельных или контрольных заданий, устный ответ у доски, индивидуальное сообщение новой для класса информации (доклад на заседании школьного клуб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тепень самостоятельности при работе с учебником, при выполнении  самостоятельных или контрольных работ, при устном сообщении, результативность индивидуальной помощи со стороны учителя или учащихся,  опосредованное оказание индивидуальной помощи с помощью источников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ая форма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ая или полная передача организации учебного занятия учащимся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, при которых учащиеся самостоятельно организуют и проводят фрагменты уроков или весь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8260-F1BE-4C42-A64A-8806141C2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23600" y="30420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614520"/>
          <a:ext cx="7086600" cy="5987880"/>
        </p:xfrm>
        <a:graphic>
          <a:graphicData uri="http://schemas.openxmlformats.org/drawingml/2006/table">
            <a:tbl>
              <a:tblPr/>
              <a:tblGrid>
                <a:gridCol w="3209760"/>
                <a:gridCol w="38768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для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мет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ередачи и восприятия учеб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Методы словесной передачи и слухового восприятия (словесные методы – пояснения, разъяснения, рассказ, объяснени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. Методы наглядной передачи и зрительного восприятия (наглядные методы – иллюстрации, показ образца выполнения, демонстраци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актические методы обучения (решение задач, выполнение упражнений, лабораторные работы, трудовые действ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учебно-познавательной деятельности школьников по усвоению содержания образования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родуктивные методы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-поисковые (продуктивные) мет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педагогического управления деятельностью учащихся со стороны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непосредственного управления учебно-познавательной деятельностью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посредованного управления учебно-познавательной деятельностью учащихся с помощью источников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D3A6-F059-4FAF-96C3-71DD78BD75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6680" y="990720"/>
          <a:ext cx="6386760" cy="4876560"/>
        </p:xfrm>
        <a:graphic>
          <a:graphicData uri="http://schemas.openxmlformats.org/drawingml/2006/table">
            <a:tbl>
              <a:tblPr/>
              <a:tblGrid>
                <a:gridCol w="2892600"/>
                <a:gridCol w="349416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дидактические задачи, реализуемые на   этапе учебного заня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организации и осуществления учебно-познавательной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стимулирования и мотивации учебно-познавательной деятель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контроля и самоконтроля за эффективностью учебно-познаватель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ка изложения и усвоения учеб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ивные 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дуктивные метод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7:40:41Z</dcterms:created>
  <dc:creator>MASTER</dc:creator>
  <dc:description/>
  <dc:language>en-US</dc:language>
  <cp:lastModifiedBy>MASTER</cp:lastModifiedBy>
  <dcterms:modified xsi:type="dcterms:W3CDTF">2010-12-06T17:50:12Z</dcterms:modified>
  <cp:revision>2</cp:revision>
  <dc:subject/>
  <dc:title>Аспектный анализ урока –</dc:title>
</cp:coreProperties>
</file>