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1E3-E472-4ED9-8B60-6F25EADD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FCE-E319-4172-9E72-9772933B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CCB-5EB4-46E7-AEC2-11B299C2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489-89C3-4E15-BE92-9704CC1C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649F-9EC1-46D2-9793-CD6EC2B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0DEE-C6C5-4C3F-A409-C85A9E1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46F3-70AC-4CCC-B669-538C5953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DBDF-9F76-4702-8806-7E2A9813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C954-56FC-43B1-9EF8-FCB65545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66E1-FE85-4232-8A94-7EEDB5E6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20CB-8370-440D-93A5-9923730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F52-F352-49FD-A9BD-D9E29CA0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4F7C-8835-469A-A1CD-EA169DC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CB6-4AD2-46C7-8D51-AED72E0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770-ED34-4AC6-8E62-6369E897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F279-AC1D-4B97-9A6D-DEBC912F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8AA-7806-48DC-BF2A-8DE55929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FB0-E986-442F-AB7F-C32CE8C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565-B1A8-4A15-ACEC-553FEFC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95A-3963-46DF-9F60-729D6906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3CC-8CD9-4450-9AA5-ADC199ED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B90-70B6-4006-9BF6-CED4BBFE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FE4-5E9E-495A-AFF3-8E53A160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58D-0C89-4AB4-AB96-8F0BD0A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8FEF-E517-4110-95D4-6EABFA08C4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6286-2AB9-469A-BE84-43F8C2264C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0;&#1085;&#1075;&#1083;&#1080;&#1081;&#1089;&#1082;&#1080;&#1077;%20&#1082;&#1086;&#1083;&#1086;&#1085;&#1080;&#1080;%20&#1074;%20&#1057;&#1077;&#1074;.&#1040;&#1084;&#1077;&#1088;&#1080;&#1082;&#1077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a7640"/>
                </a:solidFill>
                <a:latin typeface="Times New Roman"/>
              </a:rPr>
              <a:t>Английские колонии в Северной Америке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ые колонии и их жи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колон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фликт с метропол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\з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22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64087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роблемный вопрос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Каковы были причины конфликта между Англией и ее колониями в Северной Америк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Причины конфликта между Англией и ее колониями в Северной Америке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7640"/>
                </a:solidFill>
                <a:latin typeface="Times New Roman"/>
              </a:rPr>
              <a:t>Вмешательство в экономическую жизнь колоний, установление препятствий для развития промышленности и с\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скорбление человеческого достоинства жителей коло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Times New Roman"/>
              </a:rPr>
              <a:t>Формирование новой – американской – н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64087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роблемный вопрос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Каковы были причины конфликта между Англией и ее колониями в Северной Америк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1. Первые колонии и их жител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388764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607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 первого английского поселения в Северной Амер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620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 второго поселения, начало колонизации англичанами Северной Амер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го было образовано 13 коло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1. Первые колонии и их жител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мерику началось переселение тех англичан, которые не находили на родине себе применения. Многие из них, чтобы добраться до Америки становились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кабальными слуга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Однако рабочей силы не хватало и поэтому в английских колониях, особенно в южных, стали использовать труд негров-раб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1. Первые колонии и их жител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84360" y="1989000"/>
            <a:ext cx="7991280" cy="64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глийские колонии в Северной Америк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340000" y="2781360"/>
            <a:ext cx="503280" cy="504720"/>
          </a:xfrm>
          <a:prstGeom prst="downArrow">
            <a:avLst>
              <a:gd name="adj1" fmla="val 50000"/>
              <a:gd name="adj2" fmla="val 2507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6588000" y="2852640"/>
            <a:ext cx="503280" cy="505080"/>
          </a:xfrm>
          <a:prstGeom prst="downArrow">
            <a:avLst>
              <a:gd name="adj1" fmla="val 50000"/>
              <a:gd name="adj2" fmla="val 250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692360" y="3429000"/>
            <a:ext cx="1584360" cy="7920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ВЕ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084720" y="3500280"/>
            <a:ext cx="1584360" cy="79236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Ю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611280" y="4581360"/>
            <a:ext cx="3168720" cy="201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уфактурно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ромышленное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5724360" y="4581360"/>
            <a:ext cx="3168720" cy="2016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тационно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зяйст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рименением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4427640" y="2852640"/>
            <a:ext cx="503280" cy="1081080"/>
          </a:xfrm>
          <a:prstGeom prst="downArrow">
            <a:avLst>
              <a:gd name="adj1" fmla="val 50000"/>
              <a:gd name="adj2" fmla="val 5370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924360" y="4221000"/>
            <a:ext cx="1584360" cy="12240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ки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а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6300720" y="5805360"/>
            <a:ext cx="2305080" cy="83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2. Управление колониям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916360" y="1989000"/>
            <a:ext cx="345600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УБЕРНАТОР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(НАЗНАЧАЛИС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КОРОЛЕМ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56000" y="3573360"/>
            <a:ext cx="4248000" cy="576360"/>
          </a:xfrm>
          <a:prstGeom prst="rect">
            <a:avLst/>
          </a:prstGeom>
          <a:solidFill>
            <a:srgbClr val="ffccff"/>
          </a:solid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НОЕ САМОУПРАВЛЕ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56000" y="422100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56000" y="4797360"/>
            <a:ext cx="4248000" cy="576360"/>
          </a:xfrm>
          <a:prstGeom prst="rect">
            <a:avLst/>
          </a:prstGeom>
          <a:solidFill>
            <a:srgbClr val="ffccff"/>
          </a:solid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ОНИАЛЬНЫЕ АССАМБЛЕ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3131640" y="5445000"/>
            <a:ext cx="360360" cy="3603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6156360" y="5445000"/>
            <a:ext cx="358920" cy="3603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971640" y="5805360"/>
            <a:ext cx="2305080" cy="836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227640" y="5805360"/>
            <a:ext cx="244980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няя палат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971640" y="5805360"/>
            <a:ext cx="2305080" cy="836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хняя палата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2. Управление колониям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7" name="Picture 4" descr="Рисунок1"/>
          <p:cNvPicPr/>
          <p:nvPr/>
        </p:nvPicPr>
        <p:blipFill>
          <a:blip r:embed="rId1"/>
          <a:stretch/>
        </p:blipFill>
        <p:spPr>
          <a:xfrm>
            <a:off x="611280" y="1989000"/>
            <a:ext cx="2592360" cy="3816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8" name="Text Box 7"/>
          <p:cNvSpPr/>
          <p:nvPr/>
        </p:nvSpPr>
        <p:spPr>
          <a:xfrm>
            <a:off x="611280" y="6035760"/>
            <a:ext cx="2587680" cy="703800"/>
          </a:xfrm>
          <a:prstGeom prst="rect">
            <a:avLst/>
          </a:prstGeom>
          <a:solidFill>
            <a:srgbClr val="ffcc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Король Георг</a:t>
            </a:r>
            <a:r>
              <a:rPr b="1" lang="en-US" sz="2000" spc="-1" strike="noStrike">
                <a:solidFill>
                  <a:srgbClr val="420000"/>
                </a:solidFill>
                <a:latin typeface="Times New Roman"/>
              </a:rPr>
              <a:t> III</a:t>
            </a: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Гравюра 18 в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635280" y="1989000"/>
            <a:ext cx="5064120" cy="46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Король запретил переселение на новые земли, переработку в колониях сырья, вывоз шерсти и железа, ввоз машин, их моделей и чертежей. Торговать колонии могли только с Англи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Колонии стали обвинять короля в тирании и выдвигать идеи создания правового государст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3. Конфликт с метрополией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1" name="Picture 4" descr="Рисунок1"/>
          <p:cNvPicPr/>
          <p:nvPr/>
        </p:nvPicPr>
        <p:blipFill>
          <a:blip r:embed="rId1"/>
          <a:stretch/>
        </p:blipFill>
        <p:spPr>
          <a:xfrm>
            <a:off x="684360" y="2133720"/>
            <a:ext cx="3527280" cy="3959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1042920" y="5950080"/>
            <a:ext cx="2737080" cy="6426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«Нет-гербовому сбору!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Гравюра 18 в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572000" y="2060640"/>
            <a:ext cx="4451400" cy="46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В 1763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г.Георг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III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 запретил колонистам переселяться за Аллеганские горы.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Вскоре был принят закон о гербовом сборе.В колониях размещались войска для «борьбы с индейцами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Колонисты заявили, что закон принят парламентом, где нет их представителей.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После долгой борьбы закон был отменен,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но введены пошлин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0000"/>
                </a:solidFill>
                <a:latin typeface="Times New Roman"/>
              </a:rPr>
              <a:t>3. Конфликт с метрополией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5" name="Picture 4" descr="1"/>
          <p:cNvPicPr/>
          <p:nvPr/>
        </p:nvPicPr>
        <p:blipFill>
          <a:blip r:embed="rId1"/>
          <a:stretch/>
        </p:blipFill>
        <p:spPr>
          <a:xfrm>
            <a:off x="324000" y="1844640"/>
            <a:ext cx="3240000" cy="3816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6" name="Rectangle 7"/>
          <p:cNvSpPr/>
          <p:nvPr/>
        </p:nvSpPr>
        <p:spPr>
          <a:xfrm>
            <a:off x="324000" y="5805360"/>
            <a:ext cx="3313080" cy="7038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20000"/>
                </a:solidFill>
                <a:uFillTx/>
                <a:latin typeface="Times New Roman"/>
              </a:rPr>
              <a:t>Неизвестный художник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20000"/>
                </a:solidFill>
                <a:uFillTx/>
                <a:latin typeface="Times New Roman"/>
              </a:rPr>
              <a:t>Бостонский расстре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851280" y="2060640"/>
            <a:ext cx="491976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Arial"/>
              </a:rPr>
              <a:t>Тогда колонисты бойкотировали английские товары и парламент отменил все пошлины, кроме «чайной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Arial"/>
              </a:rPr>
              <a:t>В 1773 г. Ост-Индская компания попыталась сбыть большую партию чая. Бостонские агенты решили его приобрести. Тогда группа колонистов под видом индейцев устроила «Бостонское чаепитие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2T09:36:21Z</dcterms:modified>
  <cp:revision>2</cp:revision>
  <dc:subject/>
  <dc:title>PowerPoint Presentation</dc:title>
</cp:coreProperties>
</file>