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C976-19B5-403E-AC60-7A5078102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DED7-0344-4733-B721-4A8058F1B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2183-5935-4151-8434-5FFA8A0FE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8E54-6980-4924-A176-46FAD9E1F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AB46E-A55C-454C-B0FC-092627174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971E6-82A3-4437-BFA4-3DC0AB0D9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66CFF-4B38-4476-9EDF-A11CC3A91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B1720-A7FA-497D-BAEF-E20E0E623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966FD-9E3B-4ACE-971A-6B8FC2F04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B9E77-834D-46C6-B12A-E2DDFEAAC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70EA0-29D3-4EED-B7F8-8ACBC060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6FEF-13C1-4254-BBA5-7289083CA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DBEDE-8A74-47C9-B916-C6351A71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DBA13-51BE-40C2-9B80-5B7765E2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75B60-48C8-41AC-9AF6-32D5DA486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ED07B-940F-4BEE-A904-2BDF9F4F3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33512-A3B2-434C-81EE-6DCAFEEFD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6237-2B66-4367-B975-ACD68C903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0F45-8FB9-4D28-8A94-50383A9C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FD0A-F8D1-4612-A4C7-E48A110E3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FF10-A879-4392-9E73-26EB9A8E7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87D2-2EAB-4ADC-B83C-05F1D4D4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EB6D-B51E-4AAC-853A-4951ED85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1B23-3872-48E3-8668-640411F2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D2E24-4F4E-48FE-A095-932251063ED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7916D-0286-44B5-B962-ECB8CC60203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1040;&#1085;&#1075;&#1083;&#1080;&#1081;&#1089;&#1082;&#1080;&#1077;%20&#1082;&#1086;&#1083;&#1086;&#1085;&#1080;&#1080;%20&#1074;%20&#1057;&#1077;&#1074;.&#1040;&#1084;&#1077;&#1088;&#1080;&#1082;&#1077;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57240">
            <a:solidFill>
              <a:srgbClr val="9933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a7640"/>
                </a:solidFill>
                <a:latin typeface="Times New Roman"/>
              </a:rPr>
              <a:t>Английские колонии в Северной Америке.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лан урок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ервые колонии и их жител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Управление колония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Конфликт с метрополи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Д\з: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§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22.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76360" y="764640"/>
            <a:ext cx="6408720" cy="76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Times New Roman"/>
              </a:rPr>
              <a:t>Проблемный вопрос: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spcBef>
                <a:spcPts val="134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99"/>
                </a:solidFill>
                <a:latin typeface="Times New Roman"/>
              </a:rPr>
              <a:t>Каковы были причины конфликта между Англией и ее колониями в Северной Америке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Причины конфликта между Англией и ее колониями в Северной Америке.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a7640"/>
                </a:solidFill>
                <a:latin typeface="Times New Roman"/>
              </a:rPr>
              <a:t>Вмешательство в экономическую жизнь колоний, установление препятствий для развития промышленности и с\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Оскорбление человеческого достоинства жителей колон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99"/>
                </a:solidFill>
                <a:latin typeface="Times New Roman"/>
              </a:rPr>
              <a:t>Формирование новой – американской – наци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76360" y="764640"/>
            <a:ext cx="6408720" cy="76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Times New Roman"/>
              </a:rPr>
              <a:t>Проблемный вопрос: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spcBef>
                <a:spcPts val="134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99"/>
                </a:solidFill>
                <a:latin typeface="Times New Roman"/>
              </a:rPr>
              <a:t>Каковы были причины конфликта между Англией и ее колониями в Северной Америке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76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80000"/>
                </a:solidFill>
                <a:latin typeface="Times New Roman"/>
              </a:rPr>
              <a:t>1. Первые колонии и их жители.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01" name="Picture 4" descr="1"/>
          <p:cNvPicPr/>
          <p:nvPr/>
        </p:nvPicPr>
        <p:blipFill>
          <a:blip r:embed="rId1"/>
          <a:stretch/>
        </p:blipFill>
        <p:spPr>
          <a:xfrm>
            <a:off x="684360" y="2060640"/>
            <a:ext cx="3887640" cy="446400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2920" y="2205000"/>
            <a:ext cx="403884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1607 г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ание первого английского поселения в Северной Америк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1620 г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ание второго поселения, начало колонизации англичанами Северной Америк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сего было образовано 13 колон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80000"/>
                </a:solidFill>
                <a:latin typeface="Times New Roman"/>
              </a:rPr>
              <a:t>1. Первые колонии и их жители.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Америку началось переселение тех англичан, которые не находили на родине себе применения. Многие из них, чтобы добраться до Америки становились </a:t>
            </a:r>
            <a:r>
              <a:rPr b="0" lang="ru-RU" sz="3200" spc="-1" strike="noStrike" u="sng">
                <a:solidFill>
                  <a:srgbClr val="996633"/>
                </a:solidFill>
                <a:uFillTx/>
                <a:latin typeface="Times New Roman"/>
                <a:hlinkClick r:id="rId1"/>
              </a:rPr>
              <a:t>кабальными слугам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 Однако рабочей силы не хватало и поэтому в английских колониях, особенно в южных, стали использовать труд негров-раб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80000"/>
                </a:solidFill>
                <a:latin typeface="Times New Roman"/>
              </a:rPr>
              <a:t>1. Первые колонии и их жители.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684360" y="1989000"/>
            <a:ext cx="7991280" cy="64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нглийские колонии в Северной Америк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6"/>
          <p:cNvSpPr/>
          <p:nvPr/>
        </p:nvSpPr>
        <p:spPr>
          <a:xfrm>
            <a:off x="2340000" y="2781360"/>
            <a:ext cx="503280" cy="504720"/>
          </a:xfrm>
          <a:prstGeom prst="downArrow">
            <a:avLst>
              <a:gd name="adj1" fmla="val 50000"/>
              <a:gd name="adj2" fmla="val 25072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7"/>
          <p:cNvSpPr/>
          <p:nvPr/>
        </p:nvSpPr>
        <p:spPr>
          <a:xfrm>
            <a:off x="6588000" y="2852640"/>
            <a:ext cx="503280" cy="505080"/>
          </a:xfrm>
          <a:prstGeom prst="downArrow">
            <a:avLst>
              <a:gd name="adj1" fmla="val 50000"/>
              <a:gd name="adj2" fmla="val 25089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1692360" y="3429000"/>
            <a:ext cx="1584360" cy="792000"/>
          </a:xfrm>
          <a:prstGeom prst="rect">
            <a:avLst/>
          </a:prstGeom>
          <a:solidFill>
            <a:srgbClr val="ffccff"/>
          </a:solid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ЕВЕ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6084720" y="3500280"/>
            <a:ext cx="1584360" cy="792360"/>
          </a:xfrm>
          <a:prstGeom prst="rect">
            <a:avLst/>
          </a:prstGeom>
          <a:solidFill>
            <a:srgbClr val="ffccff"/>
          </a:solid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ЮГ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Oval 11"/>
          <p:cNvSpPr/>
          <p:nvPr/>
        </p:nvSpPr>
        <p:spPr>
          <a:xfrm>
            <a:off x="611280" y="4581360"/>
            <a:ext cx="3168720" cy="20163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нуфактурное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промышленное)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изводство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Oval 12"/>
          <p:cNvSpPr/>
          <p:nvPr/>
        </p:nvSpPr>
        <p:spPr>
          <a:xfrm>
            <a:off x="5724360" y="4581360"/>
            <a:ext cx="3168720" cy="20163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лантационное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озяйство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 применением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бств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3"/>
          <p:cNvSpPr/>
          <p:nvPr/>
        </p:nvSpPr>
        <p:spPr>
          <a:xfrm>
            <a:off x="4427640" y="2852640"/>
            <a:ext cx="503280" cy="1081080"/>
          </a:xfrm>
          <a:prstGeom prst="downArrow">
            <a:avLst>
              <a:gd name="adj1" fmla="val 50000"/>
              <a:gd name="adj2" fmla="val 53702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4"/>
          <p:cNvSpPr/>
          <p:nvPr/>
        </p:nvSpPr>
        <p:spPr>
          <a:xfrm>
            <a:off x="3924360" y="4221000"/>
            <a:ext cx="1584360" cy="1224000"/>
          </a:xfrm>
          <a:prstGeom prst="rect">
            <a:avLst/>
          </a:prstGeom>
          <a:solidFill>
            <a:srgbClr val="ffccff"/>
          </a:solid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ики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пад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3"/>
          <p:cNvSpPr/>
          <p:nvPr/>
        </p:nvSpPr>
        <p:spPr>
          <a:xfrm>
            <a:off x="6300720" y="5805360"/>
            <a:ext cx="2305080" cy="836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69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80000"/>
                </a:solidFill>
                <a:latin typeface="Times New Roman"/>
              </a:rPr>
              <a:t>2. Управление колониями.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2916360" y="1989000"/>
            <a:ext cx="3456000" cy="136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ГУБЕРНАТОР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Times New Roman"/>
              </a:rPr>
              <a:t>(НАЗНАЧАЛИС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Times New Roman"/>
              </a:rPr>
              <a:t>КОРОЛЕМ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2556000" y="3573360"/>
            <a:ext cx="4248000" cy="576360"/>
          </a:xfrm>
          <a:prstGeom prst="rect">
            <a:avLst/>
          </a:prstGeom>
          <a:solidFill>
            <a:srgbClr val="ffccff"/>
          </a:solidFill>
          <a:ln w="57240">
            <a:solidFill>
              <a:srgbClr val="3a76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ЕСТНОЕ САМОУПРАВЛЕНИЕ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4356000" y="4221000"/>
            <a:ext cx="647640" cy="433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2556000" y="4797360"/>
            <a:ext cx="4248000" cy="576360"/>
          </a:xfrm>
          <a:prstGeom prst="rect">
            <a:avLst/>
          </a:prstGeom>
          <a:solidFill>
            <a:srgbClr val="ffccff"/>
          </a:solidFill>
          <a:ln w="57240">
            <a:solidFill>
              <a:srgbClr val="3a76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ЛОНИАЛЬНЫЕ АССАМБЛЕ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8"/>
          <p:cNvSpPr/>
          <p:nvPr/>
        </p:nvSpPr>
        <p:spPr>
          <a:xfrm flipH="1">
            <a:off x="3131640" y="5445000"/>
            <a:ext cx="360360" cy="360360"/>
          </a:xfrm>
          <a:prstGeom prst="line">
            <a:avLst/>
          </a:prstGeom>
          <a:ln w="7632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9"/>
          <p:cNvSpPr/>
          <p:nvPr/>
        </p:nvSpPr>
        <p:spPr>
          <a:xfrm>
            <a:off x="6156360" y="5445000"/>
            <a:ext cx="358920" cy="360360"/>
          </a:xfrm>
          <a:prstGeom prst="line">
            <a:avLst/>
          </a:prstGeom>
          <a:ln w="7632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971640" y="5805360"/>
            <a:ext cx="2305080" cy="836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6227640" y="5805360"/>
            <a:ext cx="2449800" cy="8636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57240">
            <a:solidFill>
              <a:srgbClr val="3a76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ижняя палата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2"/>
          <p:cNvSpPr/>
          <p:nvPr/>
        </p:nvSpPr>
        <p:spPr>
          <a:xfrm>
            <a:off x="971640" y="5805360"/>
            <a:ext cx="2305080" cy="836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57240">
            <a:solidFill>
              <a:srgbClr val="3a76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рхняя палата –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ВЕ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80000"/>
                </a:solidFill>
                <a:latin typeface="Times New Roman"/>
              </a:rPr>
              <a:t>2. Управление колониями.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27" name="Picture 4" descr="Рисунок1"/>
          <p:cNvPicPr/>
          <p:nvPr/>
        </p:nvPicPr>
        <p:blipFill>
          <a:blip r:embed="rId1"/>
          <a:stretch/>
        </p:blipFill>
        <p:spPr>
          <a:xfrm>
            <a:off x="611280" y="1989000"/>
            <a:ext cx="2592360" cy="381636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28" name="Text Box 7"/>
          <p:cNvSpPr/>
          <p:nvPr/>
        </p:nvSpPr>
        <p:spPr>
          <a:xfrm>
            <a:off x="611280" y="6035760"/>
            <a:ext cx="2587680" cy="703800"/>
          </a:xfrm>
          <a:prstGeom prst="rect">
            <a:avLst/>
          </a:prstGeom>
          <a:solidFill>
            <a:srgbClr val="ffccff"/>
          </a:solidFill>
          <a:ln cap="sq"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0000"/>
                </a:solidFill>
                <a:latin typeface="Times New Roman"/>
              </a:rPr>
              <a:t>Король Георг</a:t>
            </a:r>
            <a:r>
              <a:rPr b="1" lang="en-US" sz="2000" spc="-1" strike="noStrike">
                <a:solidFill>
                  <a:srgbClr val="420000"/>
                </a:solidFill>
                <a:latin typeface="Times New Roman"/>
              </a:rPr>
              <a:t> III</a:t>
            </a:r>
            <a:r>
              <a:rPr b="1" lang="ru-RU" sz="2000" spc="-1" strike="noStrike">
                <a:solidFill>
                  <a:srgbClr val="420000"/>
                </a:solidFill>
                <a:latin typeface="Times New Roman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0000"/>
                </a:solidFill>
                <a:latin typeface="Times New Roman"/>
              </a:rPr>
              <a:t>Гравюра 18 в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3635280" y="1989000"/>
            <a:ext cx="5064120" cy="4622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9966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420000"/>
                </a:solidFill>
                <a:latin typeface="Arial"/>
              </a:rPr>
              <a:t>Король запретил переселение на новые земли, переработку в колониях сырья, вывоз шерсти и железа, ввоз машин, их моделей и чертежей. Торговать колонии могли только с Англией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420000"/>
                </a:solidFill>
                <a:latin typeface="Arial"/>
              </a:rPr>
              <a:t>Колонии стали обвинять короля в тирании и выдвигать идеи создания правового государства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newsflash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69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80000"/>
                </a:solidFill>
                <a:latin typeface="Times New Roman"/>
              </a:rPr>
              <a:t>3. Конфликт с метрополией.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31" name="Picture 4" descr="Рисунок1"/>
          <p:cNvPicPr/>
          <p:nvPr/>
        </p:nvPicPr>
        <p:blipFill>
          <a:blip r:embed="rId1"/>
          <a:stretch/>
        </p:blipFill>
        <p:spPr>
          <a:xfrm>
            <a:off x="684360" y="2133720"/>
            <a:ext cx="3527280" cy="395928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32" name="Rectangle 6"/>
          <p:cNvSpPr/>
          <p:nvPr/>
        </p:nvSpPr>
        <p:spPr>
          <a:xfrm>
            <a:off x="1042920" y="5950080"/>
            <a:ext cx="2737080" cy="642600"/>
          </a:xfrm>
          <a:prstGeom prst="rect">
            <a:avLst/>
          </a:prstGeom>
          <a:solidFill>
            <a:srgbClr val="ffccff"/>
          </a:solid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20000"/>
                </a:solidFill>
                <a:latin typeface="Times New Roman"/>
              </a:rPr>
              <a:t>«Нет-гербовому сбору!»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20000"/>
                </a:solidFill>
                <a:latin typeface="Times New Roman"/>
              </a:rPr>
              <a:t>Гравюра 18 в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4572000" y="2060640"/>
            <a:ext cx="4451400" cy="464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9966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0000"/>
                </a:solidFill>
                <a:latin typeface="Arial"/>
              </a:rPr>
              <a:t>В 1763</a:t>
            </a:r>
            <a:r>
              <a:rPr b="1" lang="en-US" sz="2000" spc="-1" strike="noStrike">
                <a:solidFill>
                  <a:srgbClr val="42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420000"/>
                </a:solidFill>
                <a:latin typeface="Arial"/>
              </a:rPr>
              <a:t>г.Георг</a:t>
            </a:r>
            <a:r>
              <a:rPr b="1" lang="en-US" sz="2000" spc="-1" strike="noStrike">
                <a:solidFill>
                  <a:srgbClr val="420000"/>
                </a:solidFill>
                <a:latin typeface="Arial"/>
              </a:rPr>
              <a:t> III</a:t>
            </a:r>
            <a:r>
              <a:rPr b="1" lang="ru-RU" sz="2000" spc="-1" strike="noStrike">
                <a:solidFill>
                  <a:srgbClr val="420000"/>
                </a:solidFill>
                <a:latin typeface="Arial"/>
              </a:rPr>
              <a:t> запретил колонистам переселяться за Аллеганские горы.</a:t>
            </a:r>
            <a:r>
              <a:rPr b="1" lang="en-US" sz="2000" spc="-1" strike="noStrike">
                <a:solidFill>
                  <a:srgbClr val="42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420000"/>
                </a:solidFill>
                <a:latin typeface="Arial"/>
              </a:rPr>
              <a:t>Вскоре был принят закон о гербовом сборе.В колониях размещались войска для «борьбы с индейцами»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420000"/>
                </a:solidFill>
                <a:latin typeface="Arial"/>
              </a:rPr>
              <a:t>Колонисты заявили, что закон принят парламентом, где нет их представителей.</a:t>
            </a:r>
            <a:r>
              <a:rPr b="1" lang="en-US" sz="2000" spc="-1" strike="noStrike">
                <a:solidFill>
                  <a:srgbClr val="42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420000"/>
                </a:solidFill>
                <a:latin typeface="Arial"/>
              </a:rPr>
              <a:t>После долгой борьбы закон был отменен,</a:t>
            </a:r>
            <a:r>
              <a:rPr b="1" lang="en-US" sz="2000" spc="-1" strike="noStrike">
                <a:solidFill>
                  <a:srgbClr val="42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420000"/>
                </a:solidFill>
                <a:latin typeface="Arial"/>
              </a:rPr>
              <a:t>но введены пошлины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sh dir="d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8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6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80000"/>
                </a:solidFill>
                <a:latin typeface="Times New Roman"/>
              </a:rPr>
              <a:t>3. Конфликт с метрополией.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35" name="Picture 4" descr="1"/>
          <p:cNvPicPr/>
          <p:nvPr/>
        </p:nvPicPr>
        <p:blipFill>
          <a:blip r:embed="rId1"/>
          <a:stretch/>
        </p:blipFill>
        <p:spPr>
          <a:xfrm>
            <a:off x="324000" y="1844640"/>
            <a:ext cx="3240000" cy="381636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36" name="Rectangle 7"/>
          <p:cNvSpPr/>
          <p:nvPr/>
        </p:nvSpPr>
        <p:spPr>
          <a:xfrm>
            <a:off x="324000" y="5805360"/>
            <a:ext cx="3313080" cy="703800"/>
          </a:xfrm>
          <a:prstGeom prst="rect">
            <a:avLst/>
          </a:prstGeom>
          <a:solidFill>
            <a:srgbClr val="ffccff"/>
          </a:solid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420000"/>
                </a:solidFill>
                <a:uFillTx/>
                <a:latin typeface="Times New Roman"/>
              </a:rPr>
              <a:t>Неизвестный художник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420000"/>
                </a:solidFill>
                <a:uFillTx/>
                <a:latin typeface="Times New Roman"/>
              </a:rPr>
              <a:t>Бостонский расстрел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3851280" y="2060640"/>
            <a:ext cx="4919760" cy="417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9966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20000"/>
                </a:solidFill>
                <a:latin typeface="Arial"/>
              </a:rPr>
              <a:t>Тогда колонисты бойкотировали английские товары и парламент отменил все пошлины, кроме «чайной»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20000"/>
                </a:solidFill>
                <a:latin typeface="Arial"/>
              </a:rPr>
              <a:t>В 1773 г. Ост-Индская компания попыталась сбыть большую партию чая. Бостонские агенты решили его приобрести. Тогда группа колонистов под видом индейцев устроила «Бостонское чаепитие»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1-22T09:36:21Z</dcterms:modified>
  <cp:revision>2</cp:revision>
  <dc:subject/>
  <dc:title>PowerPoint Presentation</dc:title>
</cp:coreProperties>
</file>