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1.gif" ContentType="image/gif"/>
  <Override PartName="/ppt/media/image9.wmf" ContentType="image/x-wmf"/>
  <Override PartName="/ppt/media/image13.wmf" ContentType="image/x-wmf"/>
  <Override PartName="/ppt/media/image2.gif" ContentType="image/gif"/>
  <Override PartName="/ppt/media/image28.png" ContentType="image/png"/>
  <Override PartName="/ppt/media/image8.wmf" ContentType="image/x-wmf"/>
  <Override PartName="/ppt/media/image6.wmf" ContentType="image/x-wmf"/>
  <Override PartName="/ppt/media/image7.wmf" ContentType="image/x-wmf"/>
  <Override PartName="/ppt/media/image20.jpeg" ContentType="image/jpeg"/>
  <Override PartName="/ppt/media/image4.gif" ContentType="image/gif"/>
  <Override PartName="/ppt/media/image10.wmf" ContentType="image/x-wmf"/>
  <Override PartName="/ppt/media/image25.jpeg" ContentType="image/jpeg"/>
  <Override PartName="/ppt/media/image5.wmf" ContentType="image/x-wmf"/>
  <Override PartName="/ppt/media/image23.gif" ContentType="image/gif"/>
  <Override PartName="/ppt/media/image27.png" ContentType="image/png"/>
  <Override PartName="/ppt/media/image24.gif" ContentType="image/gif"/>
  <Override PartName="/ppt/media/image16.png" ContentType="image/png"/>
  <Override PartName="/ppt/media/image22.png" ContentType="image/png"/>
  <Override PartName="/ppt/media/image19.gif" ContentType="image/gif"/>
  <Override PartName="/ppt/media/image21.png" ContentType="image/png"/>
  <Override PartName="/ppt/media/image26.jpeg" ContentType="image/jpeg"/>
  <Override PartName="/ppt/media/image18.wmf" ContentType="image/x-wmf"/>
  <Override PartName="/ppt/media/image17.png" ContentType="image/png"/>
  <Override PartName="/ppt/media/image14.wmf" ContentType="image/x-wmf"/>
  <Override PartName="/ppt/media/image29.png" ContentType="image/png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7D6-9514-4005-AE3B-67FE4843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837-6CBB-44D1-83A6-F43798AF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C53-A8D5-4BEF-9A87-0B14F98C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7FC-394D-47B1-AD38-D96E3C4B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A48-A705-4E3F-B9FA-20F2360C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644-77BA-4EB0-83BC-74C1DC87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28B-B971-4AE6-B73F-7D09F8DF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3EC-D6FC-4F7E-BD6F-70A109D5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BBA-7424-4793-A5C0-99F0E1B0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3E8-005E-49AE-BFF7-4C44B4D4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0E9-11C0-4D58-B8AB-075B1848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4AC-36BD-47D4-9CCA-C908DC13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6768-B65A-40FD-B205-037E1B2FA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4.gif"/><Relationship Id="rId26" Type="http://schemas.openxmlformats.org/officeDocument/2006/relationships/slide" Target="slide12.xml"/><Relationship Id="rId27" Type="http://schemas.openxmlformats.org/officeDocument/2006/relationships/slide" Target="slide20.xml"/><Relationship Id="rId28" Type="http://schemas.openxmlformats.org/officeDocument/2006/relationships/slide" Target="slide16.xml"/><Relationship Id="rId29" Type="http://schemas.openxmlformats.org/officeDocument/2006/relationships/slide" Target="slide7.xml"/><Relationship Id="rId30" Type="http://schemas.openxmlformats.org/officeDocument/2006/relationships/slide" Target="slide18.xml"/><Relationship Id="rId31" Type="http://schemas.openxmlformats.org/officeDocument/2006/relationships/slide" Target="slide9.xml"/><Relationship Id="rId32" Type="http://schemas.openxmlformats.org/officeDocument/2006/relationships/slide" Target="slide4.xml"/><Relationship Id="rId33" Type="http://schemas.openxmlformats.org/officeDocument/2006/relationships/slide" Target="slide13.xml"/><Relationship Id="rId34" Type="http://schemas.openxmlformats.org/officeDocument/2006/relationships/slide" Target="slide11.xml"/><Relationship Id="rId35" Type="http://schemas.openxmlformats.org/officeDocument/2006/relationships/slide" Target="slide6.xml"/><Relationship Id="rId36" Type="http://schemas.openxmlformats.org/officeDocument/2006/relationships/slide" Target="slide3.xml"/><Relationship Id="rId37" Type="http://schemas.openxmlformats.org/officeDocument/2006/relationships/slide" Target="slide5.xml"/><Relationship Id="rId38" Type="http://schemas.openxmlformats.org/officeDocument/2006/relationships/slide" Target="slide21.xml"/><Relationship Id="rId39" Type="http://schemas.openxmlformats.org/officeDocument/2006/relationships/slide" Target="slide10.xml"/><Relationship Id="rId40" Type="http://schemas.openxmlformats.org/officeDocument/2006/relationships/slide" Target="slide14.xml"/><Relationship Id="rId41" Type="http://schemas.openxmlformats.org/officeDocument/2006/relationships/slide" Target="slide17.xml"/><Relationship Id="rId42" Type="http://schemas.openxmlformats.org/officeDocument/2006/relationships/slide" Target="slide19.xml"/><Relationship Id="rId43" Type="http://schemas.openxmlformats.org/officeDocument/2006/relationships/slide" Target="slide15.xml"/><Relationship Id="rId44" Type="http://schemas.openxmlformats.org/officeDocument/2006/relationships/slide" Target="slide8.xml"/><Relationship Id="rId45" Type="http://schemas.openxmlformats.org/officeDocument/2006/relationships/image" Target="../media/image5.wmf"/><Relationship Id="rId46" Type="http://schemas.openxmlformats.org/officeDocument/2006/relationships/slide" Target="slide24.xml"/><Relationship Id="rId47" Type="http://schemas.openxmlformats.org/officeDocument/2006/relationships/image" Target="../media/image6.wmf"/><Relationship Id="rId48" Type="http://schemas.openxmlformats.org/officeDocument/2006/relationships/image" Target="../media/image7.wmf"/><Relationship Id="rId49" Type="http://schemas.openxmlformats.org/officeDocument/2006/relationships/image" Target="../media/image8.wmf"/><Relationship Id="rId50" Type="http://schemas.openxmlformats.org/officeDocument/2006/relationships/image" Target="../media/image9.wmf"/><Relationship Id="rId51" Type="http://schemas.openxmlformats.org/officeDocument/2006/relationships/image" Target="../media/image10.wmf"/><Relationship Id="rId5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10.wmf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11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2.xml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j0299125"/>
          <p:cNvPicPr/>
          <p:nvPr/>
        </p:nvPicPr>
        <p:blipFill>
          <a:blip r:embed="rId1"/>
          <a:stretch/>
        </p:blipFill>
        <p:spPr>
          <a:xfrm>
            <a:off x="152280" y="685800"/>
            <a:ext cx="1782720" cy="255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37920" y="304920"/>
            <a:ext cx="5977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Математическая игра по теме «Десятичные дроб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(447)"/>
          <p:cNvPicPr/>
          <p:nvPr/>
        </p:nvPicPr>
        <p:blipFill>
          <a:blip r:embed="rId2"/>
          <a:stretch/>
        </p:blipFill>
        <p:spPr>
          <a:xfrm>
            <a:off x="1752480" y="472428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14600" y="1752480"/>
            <a:ext cx="5791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амый умный!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8. 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2319480" cy="2417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960" y="1828800"/>
            <a:ext cx="47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,83   356 + 644   12,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47920" y="2057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581280" y="205740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877640" y="1828800"/>
            <a:ext cx="409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= 12,83 (356 + 644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= 12,83  1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= 12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400800" y="251460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426960"/>
            <a:ext cx="82296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9. </a:t>
            </a: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В десятичной дроби запятую перенесли на 4 разряда вправо.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Как изменилась дроб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6880" y="4343400"/>
            <a:ext cx="61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Увеличилась в 10 000 р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162920" y="4005360"/>
            <a:ext cx="15238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0. Как читается число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7,0019</a:t>
            </a: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21560" y="2133720"/>
            <a:ext cx="560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емь целых девятнадцать сотых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57560" y="3429000"/>
            <a:ext cx="61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Б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емь целых девятнадцать тысячных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93920" y="4648320"/>
            <a:ext cx="71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емь целых девятнадцать десятитысячных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0" descr="image020"/>
          <p:cNvPicPr/>
          <p:nvPr/>
        </p:nvPicPr>
        <p:blipFill>
          <a:blip r:embed="rId8"/>
          <a:stretch/>
        </p:blipFill>
        <p:spPr>
          <a:xfrm>
            <a:off x="7543800" y="1066680"/>
            <a:ext cx="14288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467480" y="32004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190512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42670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28954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29718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160020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510552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27432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2696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1.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Соедините числа стрелками последовательно в порядке убы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29320" y="3008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77440" y="316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9400" y="3200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68000" y="217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30280" y="4456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05480" y="178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82040" y="3465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29680" y="5370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0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12400" y="44956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6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638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560" y="1981080"/>
            <a:ext cx="2097360" cy="3124440"/>
          </a:xfrm>
          <a:custGeom>
            <a:avLst/>
            <a:gdLst/>
            <a:ahLst/>
            <a:rect l="l" t="t" r="r" b="b"/>
            <a:pathLst>
              <a:path w="1321" h="1968">
                <a:moveTo>
                  <a:pt x="1321" y="0"/>
                </a:moveTo>
                <a:lnTo>
                  <a:pt x="494" y="123"/>
                </a:lnTo>
                <a:lnTo>
                  <a:pt x="0" y="782"/>
                </a:lnTo>
                <a:lnTo>
                  <a:pt x="174" y="1577"/>
                </a:lnTo>
                <a:lnTo>
                  <a:pt x="553" y="19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743200"/>
            <a:ext cx="6716880" cy="3392640"/>
          </a:xfrm>
          <a:custGeom>
            <a:avLst/>
            <a:gdLst/>
            <a:ahLst/>
            <a:rect l="l" t="t" r="r" b="b"/>
            <a:pathLst>
              <a:path w="4231" h="2137">
                <a:moveTo>
                  <a:pt x="0" y="1920"/>
                </a:moveTo>
                <a:lnTo>
                  <a:pt x="1333" y="2137"/>
                </a:lnTo>
                <a:lnTo>
                  <a:pt x="3061" y="2064"/>
                </a:lnTo>
                <a:lnTo>
                  <a:pt x="4048" y="1662"/>
                </a:lnTo>
                <a:lnTo>
                  <a:pt x="4231" y="43"/>
                </a:lnTo>
                <a:lnTo>
                  <a:pt x="3243" y="7"/>
                </a:lnTo>
                <a:lnTo>
                  <a:pt x="321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800600" y="2362320"/>
            <a:ext cx="18288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3733920"/>
            <a:ext cx="1143000" cy="761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781680" y="3962160"/>
            <a:ext cx="83844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352680"/>
            <a:ext cx="6019920" cy="2583000"/>
          </a:xfrm>
          <a:custGeom>
            <a:avLst/>
            <a:gdLst/>
            <a:ahLst/>
            <a:rect l="l" t="t" r="r" b="b"/>
            <a:pathLst>
              <a:path w="3792" h="1627">
                <a:moveTo>
                  <a:pt x="3792" y="480"/>
                </a:moveTo>
                <a:lnTo>
                  <a:pt x="3387" y="1143"/>
                </a:lnTo>
                <a:lnTo>
                  <a:pt x="1833" y="1627"/>
                </a:lnTo>
                <a:lnTo>
                  <a:pt x="224" y="98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3124080"/>
            <a:ext cx="60984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3733920"/>
            <a:ext cx="4572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2. Запишите пропущенно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960" y="2077920"/>
            <a:ext cx="3549600" cy="77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,3            = 4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92240" y="4222800"/>
            <a:ext cx="4478400" cy="774360"/>
          </a:xfrm>
          <a:prstGeom prst="horizontalScrol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34             = 53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25960" y="2165400"/>
            <a:ext cx="3508560" cy="774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05           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11120" y="2209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324480" y="251460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462720" y="22255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352680" y="457200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659040" y="42670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7162920" y="4005360"/>
            <a:ext cx="15238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3. Найдите 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6640" y="1523880"/>
            <a:ext cx="1811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3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 5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6002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600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7360" y="1903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54360" y="1600200"/>
            <a:ext cx="20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3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  0,5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167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3809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4572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35920" y="537372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: 0,4 =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88600" y="5410080"/>
            <a:ext cx="28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: 0,4 = 80 : 4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3120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4. Решите у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905120" y="1828800"/>
            <a:ext cx="563868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х + 0,3) : 7 = 1,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181480" cy="3809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3581280" y="41911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imes New Roman"/>
              </a:rPr>
              <a:t>х + 0,3 = 1,2 * 7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imes New Roman"/>
              </a:rPr>
              <a:t>х + 0,3 = 8,4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imes New Roman"/>
              </a:rPr>
              <a:t>х = 8,4 - 0,3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imes New Roman"/>
              </a:rPr>
              <a:t>х = 8,1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5. Сравните дро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523880"/>
            <a:ext cx="3048120" cy="4800600"/>
          </a:xfrm>
          <a:prstGeom prst="rect">
            <a:avLst/>
          </a:prstGeom>
          <a:solidFill>
            <a:srgbClr val="ffda71"/>
          </a:solidFill>
          <a:ln w="9360">
            <a:solidFill>
              <a:srgbClr val="ffda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6920" y="2057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,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6560" y="3505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6920" y="4267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7280" y="510552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6240" y="510552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9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9920" y="4267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,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36240" y="35053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36240" y="27432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0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35880" y="2057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,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6560" y="27432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1523880"/>
            <a:ext cx="3047760" cy="4800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da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31920" y="5257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0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6640" y="5257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31920" y="4419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6640" y="4419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,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31920" y="37339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60320" y="37339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1920" y="2895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1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9960" y="2895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31920" y="2133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5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996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(201)"/>
          <p:cNvPicPr/>
          <p:nvPr/>
        </p:nvPicPr>
        <p:blipFill>
          <a:blip r:embed="rId2"/>
          <a:stretch/>
        </p:blipFill>
        <p:spPr>
          <a:xfrm>
            <a:off x="2971800" y="5181480"/>
            <a:ext cx="2724120" cy="1676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600200" y="25909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426708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274320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1981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35268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19051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35812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52480" y="49528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510552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1148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4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22860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6. В каком разряде числа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,25489</a:t>
            </a: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 записана цифра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85240" y="2438280"/>
            <a:ext cx="17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тых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63360" y="4724280"/>
            <a:ext cx="32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есятитысячных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48520" y="350532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Б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ысячных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5791320" y="2666880"/>
            <a:ext cx="3120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7. Решите у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905120" y="1828800"/>
            <a:ext cx="563868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х + 3х - 1,3 = 1,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181480" cy="3809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3657600" y="4191120"/>
            <a:ext cx="190512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8х = 1,1 +1,3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8х = 2,4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х = 0,3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ыбери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708360" y="1197000"/>
          <a:ext cx="4186440" cy="5340240"/>
        </p:xfrm>
        <a:graphic>
          <a:graphicData uri="http://schemas.openxmlformats.org/drawingml/2006/table">
            <a:tbl>
              <a:tblPr/>
              <a:tblGrid>
                <a:gridCol w="1046160"/>
                <a:gridCol w="1047960"/>
                <a:gridCol w="1046160"/>
                <a:gridCol w="1046160"/>
              </a:tblGrid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8474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47" name="Picture 102" descr="IMG31"/>
          <p:cNvPicPr/>
          <p:nvPr/>
        </p:nvPicPr>
        <p:blipFill>
          <a:blip r:embed="rId25"/>
          <a:stretch/>
        </p:blipFill>
        <p:spPr>
          <a:xfrm>
            <a:off x="684360" y="2205000"/>
            <a:ext cx="1800000" cy="2376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6"/>
          <p:cNvSpPr/>
          <p:nvPr/>
        </p:nvSpPr>
        <p:spPr>
          <a:xfrm>
            <a:off x="4876920" y="4952880"/>
            <a:ext cx="720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7"/>
          <p:cNvSpPr/>
          <p:nvPr/>
        </p:nvSpPr>
        <p:spPr>
          <a:xfrm>
            <a:off x="3964320" y="327672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8"/>
          <p:cNvSpPr/>
          <p:nvPr/>
        </p:nvSpPr>
        <p:spPr>
          <a:xfrm>
            <a:off x="7088400" y="4952880"/>
            <a:ext cx="577080" cy="520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9"/>
          <p:cNvSpPr/>
          <p:nvPr/>
        </p:nvSpPr>
        <p:spPr>
          <a:xfrm>
            <a:off x="3964320" y="5867280"/>
            <a:ext cx="3787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0"/>
          <p:cNvSpPr/>
          <p:nvPr/>
        </p:nvSpPr>
        <p:spPr>
          <a:xfrm>
            <a:off x="7164720" y="3200400"/>
            <a:ext cx="577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1"/>
          <p:cNvSpPr/>
          <p:nvPr/>
        </p:nvSpPr>
        <p:spPr>
          <a:xfrm>
            <a:off x="7164720" y="2286000"/>
            <a:ext cx="378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2"/>
          <p:cNvSpPr/>
          <p:nvPr/>
        </p:nvSpPr>
        <p:spPr>
          <a:xfrm>
            <a:off x="4040280" y="1371600"/>
            <a:ext cx="378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3"/>
          <p:cNvSpPr/>
          <p:nvPr/>
        </p:nvSpPr>
        <p:spPr>
          <a:xfrm>
            <a:off x="7010280" y="5791320"/>
            <a:ext cx="5810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5"/>
          <p:cNvSpPr/>
          <p:nvPr/>
        </p:nvSpPr>
        <p:spPr>
          <a:xfrm>
            <a:off x="5107320" y="1447920"/>
            <a:ext cx="37872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6"/>
          <p:cNvSpPr/>
          <p:nvPr/>
        </p:nvSpPr>
        <p:spPr>
          <a:xfrm>
            <a:off x="5107320" y="4038480"/>
            <a:ext cx="37872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7"/>
          <p:cNvSpPr/>
          <p:nvPr/>
        </p:nvSpPr>
        <p:spPr>
          <a:xfrm>
            <a:off x="4040280" y="4114800"/>
            <a:ext cx="3787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8"/>
          <p:cNvSpPr/>
          <p:nvPr/>
        </p:nvSpPr>
        <p:spPr>
          <a:xfrm>
            <a:off x="5112000" y="3200400"/>
            <a:ext cx="378720" cy="520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9"/>
          <p:cNvSpPr/>
          <p:nvPr/>
        </p:nvSpPr>
        <p:spPr>
          <a:xfrm>
            <a:off x="7088400" y="1371600"/>
            <a:ext cx="57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0"/>
          <p:cNvSpPr/>
          <p:nvPr/>
        </p:nvSpPr>
        <p:spPr>
          <a:xfrm>
            <a:off x="6097680" y="4952880"/>
            <a:ext cx="378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1"/>
          <p:cNvSpPr/>
          <p:nvPr/>
        </p:nvSpPr>
        <p:spPr>
          <a:xfrm>
            <a:off x="6086520" y="407664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2"/>
          <p:cNvSpPr/>
          <p:nvPr/>
        </p:nvSpPr>
        <p:spPr>
          <a:xfrm>
            <a:off x="282420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3"/>
          <p:cNvSpPr/>
          <p:nvPr/>
        </p:nvSpPr>
        <p:spPr>
          <a:xfrm>
            <a:off x="6021720" y="2362320"/>
            <a:ext cx="57708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5"/>
          <p:cNvSpPr/>
          <p:nvPr/>
        </p:nvSpPr>
        <p:spPr>
          <a:xfrm>
            <a:off x="5148360" y="465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6"/>
          <p:cNvSpPr/>
          <p:nvPr/>
        </p:nvSpPr>
        <p:spPr>
          <a:xfrm>
            <a:off x="4954680" y="2286000"/>
            <a:ext cx="577080" cy="520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7"/>
          <p:cNvSpPr/>
          <p:nvPr/>
        </p:nvSpPr>
        <p:spPr>
          <a:xfrm>
            <a:off x="6021720" y="5791320"/>
            <a:ext cx="57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8"/>
          <p:cNvSpPr/>
          <p:nvPr/>
        </p:nvSpPr>
        <p:spPr>
          <a:xfrm>
            <a:off x="4040280" y="2286000"/>
            <a:ext cx="37872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5"/>
          <a:stretch/>
        </p:blipFill>
        <p:spPr>
          <a:xfrm>
            <a:off x="5867280" y="2971800"/>
            <a:ext cx="938160" cy="941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6" action="ppaction://hlinksldjump"/>
          </p:cNvPr>
          <p:cNvPicPr/>
          <p:nvPr/>
        </p:nvPicPr>
        <p:blipFill>
          <a:blip r:embed="rId47"/>
          <a:stretch/>
        </p:blipFill>
        <p:spPr>
          <a:xfrm>
            <a:off x="5867280" y="1219320"/>
            <a:ext cx="824040" cy="853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8"/>
          <a:stretch/>
        </p:blipFill>
        <p:spPr>
          <a:xfrm>
            <a:off x="3809880" y="4876920"/>
            <a:ext cx="838440" cy="70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9"/>
          <a:stretch/>
        </p:blipFill>
        <p:spPr>
          <a:xfrm>
            <a:off x="1371600" y="114300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0"/>
          <a:stretch/>
        </p:blipFill>
        <p:spPr>
          <a:xfrm>
            <a:off x="4800600" y="5638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1"/>
          <a:stretch/>
        </p:blipFill>
        <p:spPr>
          <a:xfrm>
            <a:off x="6934320" y="3962520"/>
            <a:ext cx="838080" cy="761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8. Запишите пропущенно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1120" y="2077920"/>
            <a:ext cx="4345200" cy="77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,7 :        = 1,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2046240"/>
            <a:ext cx="3508200" cy="774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:          = 0,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3493080"/>
            <a:ext cx="4356000" cy="775080"/>
          </a:xfrm>
          <a:prstGeom prst="horizontalScrol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,3 :           = 0,00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0" descr="image020"/>
          <p:cNvPicPr/>
          <p:nvPr/>
        </p:nvPicPr>
        <p:blipFill>
          <a:blip r:embed="rId2"/>
          <a:stretch/>
        </p:blipFill>
        <p:spPr>
          <a:xfrm>
            <a:off x="3505320" y="4451400"/>
            <a:ext cx="2735280" cy="2406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040360" y="3417840"/>
            <a:ext cx="3639960" cy="774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7 :          = 0,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63760" y="2133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3640" y="21337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01640" y="3581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3505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9. Поставьте в ответе запят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33880" y="2478240"/>
            <a:ext cx="10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4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3276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77600" y="3203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44280" y="2630520"/>
            <a:ext cx="94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2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8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05880" y="2630520"/>
            <a:ext cx="10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 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5880" y="411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2448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1430280" cy="16797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810960" y="3352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4594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489840" y="347184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828800" y="1332000"/>
            <a:ext cx="5715000" cy="3743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2209680" y="2514600"/>
            <a:ext cx="4648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</a:rPr>
              <a:t>Тебе не повезл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</a:rPr>
              <a:t>дружок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28600" y="884160"/>
            <a:ext cx="8572680" cy="59738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066680" y="1433520"/>
            <a:ext cx="6934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54160"/>
                <a:tab algn="l" pos="4164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лгое время действия с дробными числами считались очень сложными. Недаром у немцев сохранилось выражение «попасть в дробь», что означает «попасть в тупик, в трудное положение». Даже в 18 в. овладение действиями с дробными числами, которые иногда назывались ломаными числами, считалось очень трудным делом. Поэтому математики искали другие формы записи дробных чисел, которые позволяли бы упростить действия с ними. Такой формой оказалась десятичная запись дробных чис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54160"/>
                <a:tab algn="l" pos="4164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писал правила действий над десятичными дробями среднеазиатский математик и астроном Гиясэддин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-Каши в своей книге «Ключ к арифметике» (1427 г.) Только через 150 лет фламандский инженер и математик Симон Стевин открыл заново десятичные дроби и описал правила действий над ними. Запятую после целой части десятичной дроби предложил ставить немецкий математик И. Кеплер (1571 – 163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666880" y="304920"/>
            <a:ext cx="3381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з истории дробей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971640" cy="1295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8002440" y="1447920"/>
            <a:ext cx="109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аньте возле своих парт. Можете походить на месте, попрыгать…, но не просто так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даст вам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14600" y="609480"/>
            <a:ext cx="443880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культминутка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3002040" cy="25416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433600" cy="2898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724280" y="2743200"/>
            <a:ext cx="4191120" cy="3429000"/>
          </a:xfrm>
          <a:prstGeom prst="wedgeEllipseCallout">
            <a:avLst>
              <a:gd name="adj1" fmla="val -34092"/>
              <a:gd name="adj2" fmla="val 535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3880" y="1997640"/>
            <a:ext cx="63248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корабле «Пиратское счастье» плывут несколько кошек, несколько матросов, кок и одноногий капитан. У всех них, вместе взятых, 15 голов и 41 нога. Сколько кошек было на кораб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81680" y="6858000"/>
            <a:ext cx="1600200" cy="609480"/>
          </a:xfrm>
          <a:prstGeom prst="cloudCallout">
            <a:avLst>
              <a:gd name="adj1" fmla="val -284523"/>
              <a:gd name="adj2" fmla="val -154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ко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 rot="20848200">
            <a:off x="0" y="380880"/>
            <a:ext cx="3648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- сюрприз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17 -0.01851 C 0.06597 -0.01921 0.08507 -0.00949 0.09757 -0.02314 C 0.09913 -0.02476 0.0993 -0.02847 0.10069 -0.03009 C 0.10711 -0.04004 0.11406 -0.04722 0.11927 -0.05833 C 0.12152 -0.06851 0.12552 -0.07662 0.12777 -0.08657 C 0.12708 -0.10555 0.12708 -0.12407 0.12604 -0.14282 C 0.12534 -0.15925 0.11788 -0.18472 0.11267 -0.19907 C 0.10989 -0.20671 0.11146 -0.2074 0.1092 -0.21574 C 0.10607 -0.22777 0.10642 -0.22268 0.10069 -0.23194 C 0.09618 -0.24004 0.09479 -0.24953 0.0908 -0.25787 C 0.0868 -0.29027 0.09409 -0.30023 0.1092 -0.32129 C 0.11128 -0.32986 0.11406 -0.33703 0.11753 -0.34444 C 0.12014 -0.36435 0.1217 -0.37106 0.11753 -0.39629 C 0.11649 -0.40185 0.11302 -0.40578 0.11076 -0.41041 C 0.10955 -0.4125 0.10746 -0.41736 0.10746 -0.41713 C 0.10503 -0.428 0.10104 -0.43634 0.09913 -0.44768 C 0.09948 -0.46412 0.10243 -0.52615 0.09913 -0.54629 C 0.09618 -0.56388 0.07413 -0.58356 0.06545 -0.5956 C 0.06267 -0.60625 0.06527 -0.61527 0.06718 -0.62615 C 0.06649 -0.65902 0.06805 -0.69213 0.06545 -0.72476 C 0.0651 -0.72916 0.06076 -0.73078 0.05885 -0.73425 C 0.0533 -0.74305 0.05746 -0.7405 0.05017 -0.75046 C 0.03889 -0.76597 0.01823 -0.77245 0.00312 -0.77638 C -0.00643 -0.78287 -0.01476 -0.79189 -0.02361 -0.79976 C -0.02795 -0.8037 -0.03125 -0.80995 -0.03559 -0.81388 C -0.03941 -0.8243 -0.04289 -0.83495 -0.04723 -0.84444 C -0.0507 -0.85856 -0.04966 -0.87708 -0.06077 -0.88171 C -0.06233 -0.88356 -0.06389 -0.88518 -0.0658 -0.88657 C -0.06736 -0.88773 -0.07084 -0.88888 -0.07084 -0.88865 E">
                                      <p:cBhvr>
                                        <p:cTn id="63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ятиклассники пришли на маскар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ругу сидят маски: «Медведь», «Человек-паук», «Терминатор» и «Мушкете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х имена: Андрей, Сергей, Тимофей и Алек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вест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едведь» не Алексей и не Андр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гей сидит между «Терминатором» и Тимофе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шкетер» не Сергей и не Алекс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Человек-паук» сидит между «Мушкетером» и Андре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438280" y="609480"/>
            <a:ext cx="4143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аска, я тебя знаю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573200" cy="18208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1828800" y="4800600"/>
            <a:ext cx="5181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акой маске пришел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ждый из мальчиков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8"/>
          <a:stretch/>
        </p:blipFill>
        <p:spPr>
          <a:xfrm>
            <a:off x="7772400" y="380880"/>
            <a:ext cx="914400" cy="13813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9"/>
          <a:stretch/>
        </p:blipFill>
        <p:spPr>
          <a:xfrm>
            <a:off x="7848720" y="2895480"/>
            <a:ext cx="8190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ем, стоя возле своих па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гадываем число (например «четыре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росает мячик любому ученику и называет действие (например «отнять 0,3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к ловит мяч и говорит ответ («3,6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ответ правильный, то ученик продолжает игру (бросает мяч другому ученику и называет свое действ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ответ неправильный, то ученик выходит из игры (возвращает мяч учителю и садится на мест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 rot="228600">
            <a:off x="3117600" y="593640"/>
            <a:ext cx="2514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2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а в мяч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971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4594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2286000" y="380880"/>
            <a:ext cx="5086440" cy="15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>
                        <a:alpha val="69019"/>
                      </a:srgbClr>
                    </a:gs>
                    <a:gs pos="100000">
                      <a:srgbClr val="7dfefe"/>
                    </a:gs>
                  </a:gsLst>
                  <a:lin ang="5400000"/>
                </a:gradFill>
                <a:latin typeface="Arial"/>
              </a:rPr>
              <a:t>Игра закончен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>
                      <a:alpha val="69019"/>
                    </a:srgbClr>
                  </a:gs>
                  <a:gs pos="100000">
                    <a:srgbClr val="7dfefe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057400" y="3657600"/>
            <a:ext cx="502920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99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сем спасибо!!!</a:t>
            </a:r>
            <a:endParaRPr b="0" lang="en-US" sz="4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675480" y="4572000"/>
            <a:ext cx="2468520" cy="20908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48040" cy="2438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723888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(201)"/>
          <p:cNvPicPr/>
          <p:nvPr/>
        </p:nvPicPr>
        <p:blipFill>
          <a:blip r:embed="rId5"/>
          <a:stretch/>
        </p:blipFill>
        <p:spPr>
          <a:xfrm>
            <a:off x="0" y="5181480"/>
            <a:ext cx="2724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. Назовите равные дро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02600" y="236232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,0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78720" y="160020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,00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09520" y="16002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,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34560" y="228600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,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0200" y="243828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9040" y="160020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60800" y="434340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09520" y="4343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0,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10880" y="434340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0,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38000" y="4375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77720" y="431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(432)"/>
          <p:cNvPicPr/>
          <p:nvPr/>
        </p:nvPicPr>
        <p:blipFill>
          <a:blip r:embed="rId1"/>
          <a:stretch/>
        </p:blipFill>
        <p:spPr>
          <a:xfrm>
            <a:off x="5943600" y="32767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2860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2.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Как записывается число</a:t>
            </a: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cc"/>
                </a:solidFill>
                <a:latin typeface="Arial"/>
              </a:rPr>
              <a:t>одиннадцать целых восемь тысячных</a:t>
            </a: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90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54160"/>
                <a:tab algn="l" pos="17874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1,0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920" y="266688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1,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8880" y="3352680"/>
            <a:ext cx="24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Б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1,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28600" y="3962520"/>
            <a:ext cx="3121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3. Восстановите запят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4440" y="167652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+ 1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4440" y="259092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108 = 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4440" y="350532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 + 17 = 2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4320" y="160020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30640" y="251460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8 = 4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2200" y="350532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 + 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= 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(432)"/>
          <p:cNvPicPr/>
          <p:nvPr/>
        </p:nvPicPr>
        <p:blipFill>
          <a:blip r:embed="rId2"/>
          <a:stretch/>
        </p:blipFill>
        <p:spPr>
          <a:xfrm>
            <a:off x="3505320" y="43434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2093760"/>
            <a:ext cx="190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 3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4. Найдите 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12408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057400"/>
            <a:ext cx="190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,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1,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057400"/>
            <a:ext cx="190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1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,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0481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31240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14800"/>
            <a:ext cx="190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3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1814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4114800"/>
            <a:ext cx="190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1,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814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4114800"/>
            <a:ext cx="190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,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1,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5181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5. Восстановите запят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2971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5480" y="173196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36 – 336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5480" y="380988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 – 27 =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5480" y="2798640"/>
            <a:ext cx="31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7 – 4 =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920" y="3809880"/>
            <a:ext cx="41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= 6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3960" y="2819520"/>
            <a:ext cx="33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– 4 = 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3960" y="1676520"/>
            <a:ext cx="38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– 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76720" y="46483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426960"/>
            <a:ext cx="82296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В десятичной дроби запятую перенесли на 5 разрядов влево.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Как изменилась дроб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62920" y="4005360"/>
            <a:ext cx="1523880" cy="1328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71600" y="491652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ньшилась в 100 000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42696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7. 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960" y="205740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3 + 3,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160" y="4419720"/>
            <a:ext cx="57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0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7 + 1,3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7 – 2,4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7000" y="2895480"/>
            <a:ext cx="856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3 + 3,6 </a:t>
            </a:r>
            <a:r>
              <a:rPr b="0" lang="en-US" sz="3200" spc="-1" strike="noStrike" baseline="-6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77 = 3,6 (23 + 77) = 3,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7040" y="5334120"/>
            <a:ext cx="69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7(2,07 + 1,36 – 2,43) = 1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=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194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20"/>
                            </p:stCondLst>
                            <p:childTnLst>
                              <p:par>
                                <p:cTn id="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3-27T12:20:3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