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00C-14FC-4DE6-954C-2EF3A0AC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D7B-8986-4F0E-9BD5-989D4196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819-A976-407D-A742-F998CF8A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3A3-BC8F-4259-BB30-07B6593B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BDA-EE68-4F50-839E-8B057BD5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F59-EA48-4FE4-B1DC-1CA2A4AB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D8C-4F85-4508-A958-F3CE6790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8FC-9C5C-40C2-9724-A9CED3C1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8E6-4BD6-4FB7-AE80-1DE881ED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E74-B921-41FF-A82E-9EE0260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D27-394C-41A3-878C-A348C8E1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5CA-5614-4B6B-A689-F9F441AA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98989"/>
                </a:solidFill>
                <a:latin typeface="Adine Kirnbe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86C3-ACC4-4B4C-BDDB-E413711D408F}" type="slidenum">
              <a:rPr b="0" i="1" lang="en-US" sz="1200" spc="-1" strike="noStrike">
                <a:solidFill>
                  <a:srgbClr val="898989"/>
                </a:solidFill>
                <a:latin typeface="Adine Kirnberg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217440" y="990720"/>
            <a:ext cx="42656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ело   тишина   в  золото   о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    парта   ке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ы   на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ор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лю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о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ача   линия   зага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ка   вер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а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лю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ечко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алёкий   минута </a:t>
            </a:r>
            <a:endParaRPr b="0" i="1" lang="en-US" sz="3400" spc="-1" strike="noStrike">
              <a:solidFill>
                <a:srgbClr val="000000"/>
              </a:solidFill>
              <a:latin typeface="Adine Kirnberg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 rot="334800">
            <a:off x="3970440" y="1552680"/>
            <a:ext cx="174600" cy="33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334800" y="1244520"/>
            <a:ext cx="189000" cy="471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4863960" y="1071720"/>
            <a:ext cx="377028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ти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шина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в   зо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лот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сень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пар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та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ке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ды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на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вес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блю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да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а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ния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гадка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вер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ба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блю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дечко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да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лёкий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ми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нута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5" name="Прямая соединительная линия 19"/>
          <p:cNvSpPr/>
          <p:nvPr/>
        </p:nvSpPr>
        <p:spPr>
          <a:xfrm>
            <a:off x="4572000" y="490680"/>
            <a:ext cx="0" cy="4176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46" name="Прямая соединительная линия 40"/>
          <p:cNvSpPr/>
          <p:nvPr/>
        </p:nvSpPr>
        <p:spPr>
          <a:xfrm>
            <a:off x="701640" y="1074600"/>
            <a:ext cx="12600" cy="46836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4202280" y="1778040"/>
            <a:ext cx="188640" cy="471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2373480" y="2301840"/>
            <a:ext cx="188640" cy="471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5"/>
          <a:stretch/>
        </p:blipFill>
        <p:spPr>
          <a:xfrm rot="334800">
            <a:off x="3932280" y="2076480"/>
            <a:ext cx="174600" cy="33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6"/>
          <a:stretch/>
        </p:blipFill>
        <p:spPr>
          <a:xfrm rot="334800">
            <a:off x="503280" y="2571840"/>
            <a:ext cx="174600" cy="33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7"/>
          <a:stretch/>
        </p:blipFill>
        <p:spPr>
          <a:xfrm>
            <a:off x="1049400" y="2816280"/>
            <a:ext cx="189000" cy="4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8"/>
          <a:stretch/>
        </p:blipFill>
        <p:spPr>
          <a:xfrm>
            <a:off x="1992240" y="2825640"/>
            <a:ext cx="189000" cy="4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9"/>
          <a:stretch/>
        </p:blipFill>
        <p:spPr>
          <a:xfrm>
            <a:off x="1116000" y="3330720"/>
            <a:ext cx="189000" cy="471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10"/>
          <a:stretch/>
        </p:blipFill>
        <p:spPr>
          <a:xfrm rot="334800">
            <a:off x="4151160" y="3114720"/>
            <a:ext cx="174600" cy="33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11"/>
          <a:stretch/>
        </p:blipFill>
        <p:spPr>
          <a:xfrm rot="334800">
            <a:off x="512640" y="3610080"/>
            <a:ext cx="174600" cy="338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12"/>
          <a:stretch/>
        </p:blipFill>
        <p:spPr>
          <a:xfrm>
            <a:off x="1058760" y="3835440"/>
            <a:ext cx="189000" cy="47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13"/>
          <a:stretch/>
        </p:blipFill>
        <p:spPr>
          <a:xfrm>
            <a:off x="2963880" y="3844800"/>
            <a:ext cx="189000" cy="4716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ая соединительная линия 40"/>
          <p:cNvSpPr/>
          <p:nvPr/>
        </p:nvSpPr>
        <p:spPr>
          <a:xfrm>
            <a:off x="2425680" y="1074600"/>
            <a:ext cx="12600" cy="54468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59" name="Прямая соединительная линия 40"/>
          <p:cNvSpPr/>
          <p:nvPr/>
        </p:nvSpPr>
        <p:spPr>
          <a:xfrm>
            <a:off x="2949480" y="1112760"/>
            <a:ext cx="12960" cy="5065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0" name="Прямая соединительная линия 40"/>
          <p:cNvSpPr/>
          <p:nvPr/>
        </p:nvSpPr>
        <p:spPr>
          <a:xfrm>
            <a:off x="695160" y="1665360"/>
            <a:ext cx="648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1" name="Прямая соединительная линия 40"/>
          <p:cNvSpPr/>
          <p:nvPr/>
        </p:nvSpPr>
        <p:spPr>
          <a:xfrm>
            <a:off x="1104840" y="1665360"/>
            <a:ext cx="648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2" name="Прямая соединительная линия 40"/>
          <p:cNvSpPr/>
          <p:nvPr/>
        </p:nvSpPr>
        <p:spPr>
          <a:xfrm>
            <a:off x="3762360" y="1665360"/>
            <a:ext cx="648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3" name="Прямая соединительная линия 40"/>
          <p:cNvSpPr/>
          <p:nvPr/>
        </p:nvSpPr>
        <p:spPr>
          <a:xfrm>
            <a:off x="961920" y="2103480"/>
            <a:ext cx="648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4" name="Прямая соединительная линия 40"/>
          <p:cNvSpPr/>
          <p:nvPr/>
        </p:nvSpPr>
        <p:spPr>
          <a:xfrm>
            <a:off x="2324160" y="2103480"/>
            <a:ext cx="612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5" name="Прямая соединительная линия 40"/>
          <p:cNvSpPr/>
          <p:nvPr/>
        </p:nvSpPr>
        <p:spPr>
          <a:xfrm>
            <a:off x="3724200" y="2103480"/>
            <a:ext cx="648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6" name="Прямая соединительная линия 40"/>
          <p:cNvSpPr/>
          <p:nvPr/>
        </p:nvSpPr>
        <p:spPr>
          <a:xfrm>
            <a:off x="1000080" y="2655720"/>
            <a:ext cx="648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7" name="Прямая соединительная линия 40"/>
          <p:cNvSpPr/>
          <p:nvPr/>
        </p:nvSpPr>
        <p:spPr>
          <a:xfrm>
            <a:off x="2419200" y="2655720"/>
            <a:ext cx="648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8" name="Прямая соединительная линия 40"/>
          <p:cNvSpPr/>
          <p:nvPr/>
        </p:nvSpPr>
        <p:spPr>
          <a:xfrm>
            <a:off x="3743280" y="2655720"/>
            <a:ext cx="648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69" name="Прямая соединительная линия 40"/>
          <p:cNvSpPr/>
          <p:nvPr/>
        </p:nvSpPr>
        <p:spPr>
          <a:xfrm>
            <a:off x="4162320" y="2655720"/>
            <a:ext cx="648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0" name="Прямая соединительная линия 40"/>
          <p:cNvSpPr/>
          <p:nvPr/>
        </p:nvSpPr>
        <p:spPr>
          <a:xfrm>
            <a:off x="695160" y="3198960"/>
            <a:ext cx="648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1" name="Прямая соединительная линия 40"/>
          <p:cNvSpPr/>
          <p:nvPr/>
        </p:nvSpPr>
        <p:spPr>
          <a:xfrm>
            <a:off x="1305000" y="3218040"/>
            <a:ext cx="612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2" name="Прямая соединительная линия 40"/>
          <p:cNvSpPr/>
          <p:nvPr/>
        </p:nvSpPr>
        <p:spPr>
          <a:xfrm>
            <a:off x="3933720" y="3151080"/>
            <a:ext cx="648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3" name="Прямая соединительная линия 40"/>
          <p:cNvSpPr/>
          <p:nvPr/>
        </p:nvSpPr>
        <p:spPr>
          <a:xfrm>
            <a:off x="1000080" y="3675240"/>
            <a:ext cx="648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4" name="Прямая соединительная линия 40"/>
          <p:cNvSpPr/>
          <p:nvPr/>
        </p:nvSpPr>
        <p:spPr>
          <a:xfrm>
            <a:off x="1619280" y="3732120"/>
            <a:ext cx="648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5" name="Прямая соединительная линия 40"/>
          <p:cNvSpPr/>
          <p:nvPr/>
        </p:nvSpPr>
        <p:spPr>
          <a:xfrm>
            <a:off x="3362400" y="3693960"/>
            <a:ext cx="612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6" name="Прямая соединительная линия 40"/>
          <p:cNvSpPr/>
          <p:nvPr/>
        </p:nvSpPr>
        <p:spPr>
          <a:xfrm>
            <a:off x="3772080" y="3703680"/>
            <a:ext cx="6120" cy="45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7" name="Прямая соединительная линия 40"/>
          <p:cNvSpPr/>
          <p:nvPr/>
        </p:nvSpPr>
        <p:spPr>
          <a:xfrm>
            <a:off x="790560" y="4189320"/>
            <a:ext cx="648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78" name="Прямая соединительная линия 40"/>
          <p:cNvSpPr/>
          <p:nvPr/>
        </p:nvSpPr>
        <p:spPr>
          <a:xfrm>
            <a:off x="1209600" y="4189320"/>
            <a:ext cx="6480" cy="459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-152280" y="1606680"/>
            <a:ext cx="996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ropisi"/>
              </a:rPr>
              <a:t>     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Дети    в      зоопарке  наблюдали  за  верблюдами.</a:t>
            </a:r>
            <a:endParaRPr b="0" i="1" lang="en-US" sz="60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0" name="Прямая соединительная линия 2"/>
          <p:cNvSpPr/>
          <p:nvPr/>
        </p:nvSpPr>
        <p:spPr>
          <a:xfrm flipV="1">
            <a:off x="2030400" y="2509920"/>
            <a:ext cx="1577880" cy="7920"/>
          </a:xfrm>
          <a:prstGeom prst="line">
            <a:avLst/>
          </a:prstGeom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1" name="Прямая соединительная линия 6"/>
          <p:cNvSpPr/>
          <p:nvPr/>
        </p:nvSpPr>
        <p:spPr>
          <a:xfrm>
            <a:off x="122400" y="3446640"/>
            <a:ext cx="3122280" cy="0"/>
          </a:xfrm>
          <a:prstGeom prst="line">
            <a:avLst/>
          </a:prstGeom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2" name="Овал 10"/>
          <p:cNvSpPr/>
          <p:nvPr/>
        </p:nvSpPr>
        <p:spPr>
          <a:xfrm>
            <a:off x="2200320" y="2587680"/>
            <a:ext cx="87120" cy="87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3" name="Овал 11"/>
          <p:cNvSpPr/>
          <p:nvPr/>
        </p:nvSpPr>
        <p:spPr>
          <a:xfrm>
            <a:off x="824040" y="2658960"/>
            <a:ext cx="85680" cy="856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4" name="Овал 12"/>
          <p:cNvSpPr/>
          <p:nvPr/>
        </p:nvSpPr>
        <p:spPr>
          <a:xfrm>
            <a:off x="2212920" y="3571920"/>
            <a:ext cx="85680" cy="87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5" name="Овал 13"/>
          <p:cNvSpPr/>
          <p:nvPr/>
        </p:nvSpPr>
        <p:spPr>
          <a:xfrm>
            <a:off x="6215040" y="2655720"/>
            <a:ext cx="85680" cy="8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86" name="Овал 14"/>
          <p:cNvSpPr/>
          <p:nvPr/>
        </p:nvSpPr>
        <p:spPr>
          <a:xfrm>
            <a:off x="7531200" y="3341520"/>
            <a:ext cx="87120" cy="8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Группа 1"/>
          <p:cNvGrpSpPr/>
          <p:nvPr/>
        </p:nvGrpSpPr>
        <p:grpSpPr>
          <a:xfrm>
            <a:off x="1128600" y="2287440"/>
            <a:ext cx="7129440" cy="1632240"/>
            <a:chOff x="1128600" y="2287440"/>
            <a:chExt cx="7129440" cy="1632240"/>
          </a:xfrm>
        </p:grpSpPr>
        <p:sp>
          <p:nvSpPr>
            <p:cNvPr id="88" name="Line 4"/>
            <p:cNvSpPr/>
            <p:nvPr/>
          </p:nvSpPr>
          <p:spPr>
            <a:xfrm>
              <a:off x="1128600" y="3919680"/>
              <a:ext cx="705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1272960" y="2287440"/>
              <a:ext cx="698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dine Kirnberg"/>
              </a:endParaRPr>
            </a:p>
          </p:txBody>
        </p:sp>
      </p:grpSp>
      <p:sp>
        <p:nvSpPr>
          <p:cNvPr id="90" name="Text Box 8"/>
          <p:cNvSpPr/>
          <p:nvPr/>
        </p:nvSpPr>
        <p:spPr>
          <a:xfrm>
            <a:off x="3255840" y="793800"/>
            <a:ext cx="413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лочка вверх</a:t>
            </a:r>
            <a:endParaRPr b="0" i="1" lang="en-US" sz="2800" spc="-1" strike="noStrike">
              <a:solidFill>
                <a:srgbClr val="000000"/>
              </a:solidFill>
              <a:latin typeface="Adine Kirnberg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закруглением вправо</a:t>
            </a:r>
            <a:endParaRPr b="0" i="1" lang="en-US" sz="28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66800" y="232884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ал</a:t>
            </a:r>
            <a:endParaRPr b="0" i="1" lang="en-US" sz="28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005520" y="650880"/>
            <a:ext cx="22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93" name="Oval 21"/>
          <p:cNvSpPr/>
          <p:nvPr/>
        </p:nvSpPr>
        <p:spPr>
          <a:xfrm rot="739200">
            <a:off x="1679400" y="2335320"/>
            <a:ext cx="1117800" cy="15652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94" name="Freeform 22"/>
          <p:cNvSpPr/>
          <p:nvPr/>
        </p:nvSpPr>
        <p:spPr>
          <a:xfrm rot="262800">
            <a:off x="2817720" y="528480"/>
            <a:ext cx="1154160" cy="2716200"/>
          </a:xfrm>
          <a:custGeom>
            <a:avLst/>
            <a:gdLst/>
            <a:ahLst/>
            <a:rect l="l" t="t" r="r" b="b"/>
            <a:pathLst>
              <a:path w="412" h="843">
                <a:moveTo>
                  <a:pt x="28" y="843"/>
                </a:moveTo>
                <a:cubicBezTo>
                  <a:pt x="14" y="560"/>
                  <a:pt x="0" y="278"/>
                  <a:pt x="64" y="139"/>
                </a:cubicBezTo>
                <a:cubicBezTo>
                  <a:pt x="128" y="0"/>
                  <a:pt x="354" y="32"/>
                  <a:pt x="412" y="11"/>
                </a:cubicBezTo>
              </a:path>
            </a:pathLst>
          </a:cu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95" name="Freeform 52"/>
          <p:cNvSpPr/>
          <p:nvPr/>
        </p:nvSpPr>
        <p:spPr>
          <a:xfrm rot="694800">
            <a:off x="6103440" y="2234880"/>
            <a:ext cx="1078200" cy="4560840"/>
          </a:xfrm>
          <a:custGeom>
            <a:avLst/>
            <a:gdLst/>
            <a:ahLst/>
            <a:rect l="l" t="t" r="r" b="b"/>
            <a:pathLst>
              <a:path w="533" h="1252">
                <a:moveTo>
                  <a:pt x="460" y="0"/>
                </a:moveTo>
                <a:cubicBezTo>
                  <a:pt x="446" y="425"/>
                  <a:pt x="433" y="850"/>
                  <a:pt x="378" y="1051"/>
                </a:cubicBezTo>
                <a:cubicBezTo>
                  <a:pt x="323" y="1252"/>
                  <a:pt x="183" y="1236"/>
                  <a:pt x="131" y="1207"/>
                </a:cubicBezTo>
                <a:cubicBezTo>
                  <a:pt x="79" y="1178"/>
                  <a:pt x="0" y="1033"/>
                  <a:pt x="67" y="878"/>
                </a:cubicBezTo>
                <a:cubicBezTo>
                  <a:pt x="134" y="723"/>
                  <a:pt x="455" y="375"/>
                  <a:pt x="533" y="274"/>
                </a:cubicBezTo>
              </a:path>
            </a:pathLst>
          </a:cu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96" name="Oval 21"/>
          <p:cNvSpPr/>
          <p:nvPr/>
        </p:nvSpPr>
        <p:spPr>
          <a:xfrm rot="739200">
            <a:off x="6156360" y="2313000"/>
            <a:ext cx="1117440" cy="1565280"/>
          </a:xfrm>
          <a:prstGeom prst="ellipse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7247880" y="397980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тля вниз</a:t>
            </a:r>
            <a:endParaRPr b="0" i="1" lang="en-US" sz="28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008680" y="232884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ал</a:t>
            </a:r>
            <a:endParaRPr b="0" i="1" lang="en-US" sz="2800" spc="-1" strike="noStrike">
              <a:solidFill>
                <a:srgbClr val="000000"/>
              </a:solidFill>
              <a:latin typeface="Adine Kirnberg"/>
            </a:endParaRPr>
          </a:p>
        </p:txBody>
      </p:sp>
      <p:pic>
        <p:nvPicPr>
          <p:cNvPr id="99" name="Прямоугольник 17" descr=""/>
          <p:cNvPicPr/>
          <p:nvPr/>
        </p:nvPicPr>
        <p:blipFill>
          <a:blip r:embed="rId1"/>
          <a:stretch/>
        </p:blipFill>
        <p:spPr>
          <a:xfrm>
            <a:off x="85680" y="-1085760"/>
            <a:ext cx="743040" cy="779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576440" y="460440"/>
            <a:ext cx="517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Найти слово!</a:t>
            </a:r>
            <a:endParaRPr b="0" i="1" lang="en-US" sz="40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-60480" y="155268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a2bb6"/>
                </a:solidFill>
                <a:latin typeface="Times New Roman"/>
              </a:rPr>
              <a:t>крачмолодцышгнел</a:t>
            </a:r>
            <a:endParaRPr b="0" i="1" lang="en-US" sz="70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35000" y="2489040"/>
            <a:ext cx="7945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3300"/>
                </a:solidFill>
                <a:latin typeface="Times New Roman"/>
              </a:rPr>
              <a:t>молодцы</a:t>
            </a:r>
            <a:endParaRPr b="0" i="1" lang="en-US" sz="70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103" name="Line 36"/>
          <p:cNvSpPr/>
          <p:nvPr/>
        </p:nvSpPr>
        <p:spPr>
          <a:xfrm>
            <a:off x="2405160" y="1457280"/>
            <a:ext cx="0" cy="28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  <p:sp>
        <p:nvSpPr>
          <p:cNvPr id="104" name="Line 37"/>
          <p:cNvSpPr/>
          <p:nvPr/>
        </p:nvSpPr>
        <p:spPr>
          <a:xfrm>
            <a:off x="5886360" y="1519200"/>
            <a:ext cx="0" cy="28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dine Kirnberg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5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0:58:40Z</dcterms:created>
  <dc:creator>Марина</dc:creator>
  <dc:description/>
  <dc:language>en-US</dc:language>
  <cp:lastModifiedBy>Владелец</cp:lastModifiedBy>
  <dcterms:modified xsi:type="dcterms:W3CDTF">2013-03-31T07:03:41Z</dcterms:modified>
  <cp:revision>126</cp:revision>
  <dc:subject/>
  <dc:title> Дифференциация б – д </dc:title>
</cp:coreProperties>
</file>