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gif" ContentType="image/gif"/>
  <Override PartName="/ppt/media/image13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A7A-C7B0-46AB-9346-5E4C4E57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D17-A6A5-421C-BF54-FB5D7373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428-192F-4774-A37B-438969C0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796-0C2C-426F-A635-670D39CA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40C8-0B16-4E79-BB57-E849CB9C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FF99-8EFF-421F-B2E8-BD1174B0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E2D6-ED59-48F3-865A-3FC82768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A7ED-BBBC-4CF8-A3B6-BDD9B665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459E-BF17-4623-81EB-F4CD0925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D07B-DD56-4084-9AF4-1E317611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66AF-A635-48A7-B1E7-9C977318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4B7-C505-4285-A33C-2AEDACA7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1B90-5C62-4378-BDF6-CE85D9F2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AF95-01EB-447C-8DB9-6DDBA52F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8882-BE40-4C0F-8341-F4815626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11C9-3E29-4697-AD58-50D7A643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4535-66DE-4BAF-B3C6-6D786AB5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B16-B7FD-4E45-BCF4-042AB141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97E-6168-45E5-8618-3062132C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00C-625E-454D-9D1F-E5910EF7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03F-0D78-4078-86A1-5D78AAA3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23F-2C78-4940-9646-82334CAA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1AA-C77B-40E6-B1A6-860B441C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8C6-4A81-487F-93C3-E5DFAD95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A766-3A42-4F76-A179-BBAF9406B4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920E-9139-453E-98D1-F6DA0E5415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2781000"/>
            <a:ext cx="7921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ОСНОВНОГО ОБЩЕГО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ОБРАЗОВАНИЯ ПО ФИЗИЧЕСКОЙ КУЛЬТУР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д презентацией работал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йдакова Е.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12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214200"/>
            <a:ext cx="72723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ть  вести наблюдение за динамикой развития своих основных физических качест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ть выполнять комплексы упражне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16360" y="5229360"/>
            <a:ext cx="304776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Личностные результаты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ражаются в индивидуальных качественных свойствах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ожительное отношение к занятиям двигательной (физкультурной) деятельностью 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овать знания и умения в достижении личных результат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овседневных услови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5987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82600" y="69228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изкультминут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ходы, иг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сприятие красот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лосложе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ультура движений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амостоятельная организация оздорови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651640" y="836640"/>
            <a:ext cx="3384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соответствии с этими новыми требованиями будет проводиться лицензирование образовательных учреждений. Органы управления будут стремиться к тому, чтобы обеспечить условия и создать предпосылки для введения стандарта второго поко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659640" y="5430960"/>
            <a:ext cx="12333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ФГОС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нова нашей деятель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ывая особенность развития регион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енность образовательного учрежде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просов участников образовательного процесс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Это совокупность требований, которые обязательны при реализации образовательной программ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95640" y="115920"/>
            <a:ext cx="53290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539640" y="189000"/>
            <a:ext cx="8486280" cy="4491000"/>
            <a:chOff x="539640" y="189000"/>
            <a:chExt cx="8486280" cy="4491000"/>
          </a:xfrm>
        </p:grpSpPr>
        <p:cxnSp>
          <p:nvCxnSpPr>
            <p:cNvPr id="105" name="_s71697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818320" y="948600"/>
              <a:ext cx="898920" cy="297072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71698"/>
            <p:cNvCxnSpPr>
              <a:stCxn id="109" idx="0"/>
              <a:endCxn id="107" idx="2"/>
            </p:cNvCxnSpPr>
            <p:nvPr/>
          </p:nvCxnSpPr>
          <p:spPr>
            <a:xfrm flipV="1">
              <a:off x="4782600" y="1984680"/>
              <a:ext cx="3240" cy="898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71699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2848320" y="948960"/>
              <a:ext cx="898920" cy="297072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71700"/>
            <p:cNvSpPr/>
            <p:nvPr/>
          </p:nvSpPr>
          <p:spPr>
            <a:xfrm>
              <a:off x="3509640" y="189000"/>
              <a:ext cx="2545920" cy="17964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ahoma"/>
                </a:rPr>
                <a:t>требов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71701"/>
            <p:cNvSpPr/>
            <p:nvPr/>
          </p:nvSpPr>
          <p:spPr>
            <a:xfrm>
              <a:off x="539640" y="2883600"/>
              <a:ext cx="2545920" cy="17964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ahoma"/>
                </a:rPr>
                <a:t>к структур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ahoma"/>
                </a:rPr>
                <a:t>основны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ahoma"/>
                </a:rPr>
                <a:t>Общеобразова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ahoma"/>
                </a:rPr>
                <a:t>тельны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ahoma"/>
                </a:rPr>
                <a:t>программ</a:t>
              </a: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71702"/>
            <p:cNvSpPr/>
            <p:nvPr/>
          </p:nvSpPr>
          <p:spPr>
            <a:xfrm>
              <a:off x="3509640" y="2883600"/>
              <a:ext cx="2545920" cy="17964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результатам</a:t>
              </a: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71703"/>
            <p:cNvSpPr/>
            <p:nvPr/>
          </p:nvSpPr>
          <p:spPr>
            <a:xfrm>
              <a:off x="6480000" y="2883600"/>
              <a:ext cx="2545920" cy="17964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условия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ahoma"/>
                </a:rPr>
                <a:t>реализации</a:t>
              </a: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600200" cy="1747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708360" y="4653000"/>
            <a:ext cx="20574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380360" y="11592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метапредметные                        личност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          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предмет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нцип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«общее — частное —конкретное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907640" y="1844640"/>
            <a:ext cx="2303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191628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1844640"/>
            <a:ext cx="1655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етапредметны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пособность учащихся, применять знания и умения на других уроках  и в реальной повседневной жизн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56000" y="3645000"/>
            <a:ext cx="478764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77080" y="4400640"/>
            <a:ext cx="2171520" cy="2457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рганизация здорового образа жизни, профилактика вредных привычек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ние организовывать места занятий и обеспечивать их безопасность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ование занятий для профилактики утом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едметные результаты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5640" y="2017800"/>
            <a:ext cx="78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нимание роли и значения физической культур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владение знаниями о физическом совершенствовании, о истории развития физической культуры, спорта и олимпийского движ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8075" t="30572" r="19780" b="30572"/>
          <a:stretch/>
        </p:blipFill>
        <p:spPr>
          <a:xfrm>
            <a:off x="5364000" y="5133960"/>
            <a:ext cx="31687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26560" y="1844280"/>
            <a:ext cx="8055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ние отбирать физические упражнения и регулировать физические нагрузки для самостоятельных заняти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меть оказывать первую доврачебную помощ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2449440" cy="2062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74984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4:34:43Z</dcterms:created>
  <dc:creator>Настя</dc:creator>
  <dc:description/>
  <dc:language>en-US</dc:language>
  <cp:lastModifiedBy>Настя</cp:lastModifiedBy>
  <dcterms:modified xsi:type="dcterms:W3CDTF">2012-11-01T14:17:49Z</dcterms:modified>
  <cp:revision>5</cp:revision>
  <dc:subject/>
  <dc:title>Слайд 1</dc:title>
</cp:coreProperties>
</file>