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gif" ContentType="image/gif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gif" ContentType="image/gif"/>
  <Override PartName="/ppt/media/image13.gif" ContentType="image/gif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99D-58EB-4459-8C91-EB6B621F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789-3733-43FA-A305-CAB91A6C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762-70DE-47B9-8651-2D3283E2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554-96E2-429A-8FBA-A28E51CC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FEF5-A279-4DF5-9EF2-799B5EBD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1073-DEEF-46B5-84A2-7CD5142F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7D6B-1E6F-4B29-B24C-D91018E0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FCBF-607D-4395-93DA-9A49B33D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59BD-0155-4186-A96B-0A5ED975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2390-47B3-43CF-BDD5-7DDA3086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41BC-8961-471B-A51A-B6C0E150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ACC-0F5E-4855-95CB-80CC7B9B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A9EE-B62D-4032-968E-C36AC21D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A13F-EEE3-4AC4-A61D-47FF8C42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5472-2933-4EE4-A4DE-5B9750EF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1BA0-C4FE-4B87-936C-7ACBD191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CAA1-EEC6-4FFE-982E-5A5E8567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DD6-9665-4557-90B0-D7CCADDB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61E-CC08-4CCE-AD8F-9E5A7859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C08-7EA3-4C73-8A15-F0CE8A1F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BFC-6479-431E-925D-9287497A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B5F-9052-4F21-AEE4-DE0EE89B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178-07A9-44CF-A0E5-9B23F282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A5F-E6B4-4FC4-8FF3-C10F3774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FBBE-5CAB-4717-B8EA-4C36BAB3A0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18D6-9823-4A71-BE38-78888E0386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1280" y="2781000"/>
            <a:ext cx="7921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ОСНОВНОГО ОБЩЕГО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ОБРАЗОВАНИЯ ПО ФИЗИЧЕСКОЙ КУЛЬТУР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д презентацией работал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йдакова Е.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12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214200"/>
            <a:ext cx="72723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меть  вести наблюдение за динамикой развития своих основных физических качест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меть выполнять комплексы упражнен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916360" y="5229360"/>
            <a:ext cx="3047760" cy="1295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Личностные результаты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ражаются в индивидуальных качественных свойствах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ожительное отношение к занятиям двигательной (физкультурной) деятельностью 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овать знания и умения в достижении личных результат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овседневных условия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08720" y="115920"/>
            <a:ext cx="159876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82600" y="69228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изкультминут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ходы, иг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сприятие красот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лосложе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ультура движений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амостоятельная организация оздорови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651640" y="836640"/>
            <a:ext cx="3384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соответствии с этими новыми требованиями будет проводиться лицензирование образовательных учреждений. Органы управления будут стремиться к тому, чтобы обеспечить условия и создать предпосылки для введения стандарта второго поко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659640" y="5430960"/>
            <a:ext cx="12333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ФГОС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нова нашей деятель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ывая особенность развития регион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обенность образовательного учрежде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просов участников образовательного процес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Это совокупность требований, которые обязательны при реализации образовательной программы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95640" y="115920"/>
            <a:ext cx="53290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539640" y="189000"/>
            <a:ext cx="8486280" cy="4491000"/>
            <a:chOff x="539640" y="189000"/>
            <a:chExt cx="8486280" cy="4491000"/>
          </a:xfrm>
        </p:grpSpPr>
        <p:cxnSp>
          <p:nvCxnSpPr>
            <p:cNvPr id="105" name="_s71697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818320" y="948600"/>
              <a:ext cx="898920" cy="297072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71698"/>
            <p:cNvCxnSpPr>
              <a:stCxn id="109" idx="0"/>
              <a:endCxn id="107" idx="2"/>
            </p:cNvCxnSpPr>
            <p:nvPr/>
          </p:nvCxnSpPr>
          <p:spPr>
            <a:xfrm flipV="1">
              <a:off x="4782600" y="1984680"/>
              <a:ext cx="3240" cy="898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71699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2848320" y="948960"/>
              <a:ext cx="898920" cy="297072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71700"/>
            <p:cNvSpPr/>
            <p:nvPr/>
          </p:nvSpPr>
          <p:spPr>
            <a:xfrm>
              <a:off x="3509640" y="189000"/>
              <a:ext cx="2545920" cy="17964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ahoma"/>
                </a:rPr>
                <a:t>требов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71701"/>
            <p:cNvSpPr/>
            <p:nvPr/>
          </p:nvSpPr>
          <p:spPr>
            <a:xfrm>
              <a:off x="539640" y="2883600"/>
              <a:ext cx="2545920" cy="17964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ahoma"/>
                </a:rPr>
                <a:t>к структур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ahoma"/>
                </a:rPr>
                <a:t>основны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ahoma"/>
                </a:rPr>
                <a:t>Общеобразова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ahoma"/>
                </a:rPr>
                <a:t>тельны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ahoma"/>
                </a:rPr>
                <a:t>программ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71702"/>
            <p:cNvSpPr/>
            <p:nvPr/>
          </p:nvSpPr>
          <p:spPr>
            <a:xfrm>
              <a:off x="3509640" y="2883600"/>
              <a:ext cx="2545920" cy="17964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результатам</a:t>
              </a: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71703"/>
            <p:cNvSpPr/>
            <p:nvPr/>
          </p:nvSpPr>
          <p:spPr>
            <a:xfrm>
              <a:off x="6480000" y="2883600"/>
              <a:ext cx="2545920" cy="17964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условия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реализации</a:t>
              </a: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164360" y="4869000"/>
            <a:ext cx="1600200" cy="1747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708360" y="4653000"/>
            <a:ext cx="20574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380360" y="11592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зульта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метапредметные                        личност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          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предмет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нцип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«общее — частное —конкретное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907640" y="1844640"/>
            <a:ext cx="2303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191628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8720" y="1844640"/>
            <a:ext cx="1655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Метапредметные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зультаты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пособность учащихся, применять знания и умения на других уроках  и в реальной повседневной жизн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56000" y="3645000"/>
            <a:ext cx="478764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77080" y="4400640"/>
            <a:ext cx="2171520" cy="2457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рганизация здорового образа жизни, профилактика вредных привычек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мение организовывать места занятий и обеспечивать их безопасность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ование занятий для профилактики утом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едметные результаты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5640" y="2017800"/>
            <a:ext cx="78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нимание роли и значения физической культур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владение знаниями о физическом совершенствовании, о истории развития физической культуры, спорта и олимпийского движ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8075" t="30572" r="19780" b="30572"/>
          <a:stretch/>
        </p:blipFill>
        <p:spPr>
          <a:xfrm>
            <a:off x="5364000" y="5133960"/>
            <a:ext cx="31687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26560" y="1844280"/>
            <a:ext cx="8055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мение отбирать физические упражнения и регулировать физические нагрузки для самостоятельных заняти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меть оказывать первую доврачебную помощ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2449440" cy="2062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74984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4:34:43Z</dcterms:created>
  <dc:creator>Настя</dc:creator>
  <dc:description/>
  <dc:language>en-US</dc:language>
  <cp:lastModifiedBy>Настя</cp:lastModifiedBy>
  <dcterms:modified xsi:type="dcterms:W3CDTF">2012-11-01T14:17:49Z</dcterms:modified>
  <cp:revision>5</cp:revision>
  <dc:subject/>
  <dc:title>Слайд 1</dc:title>
</cp:coreProperties>
</file>