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jpeg" ContentType="image/jpeg"/>
  <Override PartName="/ppt/media/image2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337-B8FE-4795-AEA9-7CAE5FFB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00E-D6D2-4C88-80A2-EBD5D07C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F28-D250-4D02-9D87-98608BA3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603-F6C3-4021-B980-DC4BE611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33881-3AF6-4CF8-ABF5-1AD4F32A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3B0AC-63DD-41F1-BD3B-E612D2C3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5BE94-B8F0-4CAC-94D5-2116215A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C5E27-6CED-4C1F-A6A2-69088D93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E692-6123-4AFC-9D13-93C9CF1D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93FEA-8302-4111-B324-CF9186BC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64B15-E458-473F-902E-B2BDBE2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F77-3FFD-474F-BBEF-A8C17554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2B826-395B-4AB7-813E-CF30A551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3F223-08E6-4FE2-867E-FF57BA1D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911D8-517F-4A23-BB3F-44778EB0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55D44-6416-4370-8C07-53B5BA59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F5C80-558C-496A-B74B-5A4EFADC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2525-C826-4810-B6A0-13B3D244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9980-91DE-41A7-BB99-5E6DF666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F760-68FF-4707-B40B-B2A6FE97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9D5A-E8CE-4D17-8E6F-24092473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DF3A4-AA9D-44BC-8670-335ECF1B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10E-B0D2-449B-A4AE-E8AE9BDE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C392-2160-4E85-853F-FD96254A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E6813-C369-4D4A-9D5B-BEF8E41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1A3E-0859-4BE9-9F8F-34F09319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599F-5C7D-4C99-AF23-81CCFB8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CD98-F860-4C40-82AC-3BF35F22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6D5D-FFEC-4D75-AF0F-CD2823BC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A0035-2C54-4138-916B-29BA6B4C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77DA3-1C54-4422-B33C-0890F0B4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8F31A-A060-4902-929D-4A626816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734C4-6DC5-4AC3-9594-197562A7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F67-7EEF-4A31-8488-3FDD1A10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0438C-10C3-4A5B-ACE7-EE21168B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820229-20FA-485C-BBE0-F6166FC0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B6D72-F9E8-46B4-ADCB-975B5C1C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D7682-12D6-48CA-86AF-8F5A1D8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857A4-0117-49BB-91C3-F063DAE6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84C66-B6EB-41F4-AD38-396ED2D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3CB817-1C70-4558-9E77-055271C8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C856D-391F-4EDB-9936-CDD64E19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508A9-BBE7-48EF-BB4F-B8FA231B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CA6D0-6907-48FF-B7A0-6E9F5818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F9F-6EA2-446C-9ED0-D386CBF1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20095-5CBF-4663-9ADC-25EEDA25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B397B-34E9-4457-A159-7F1231FC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2E123-EC8A-472E-84A6-FED104F5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A2C7B-1409-4C8D-AE8B-D2C14D16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93AFDD-C834-464F-A29D-F3974980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F9DD2-F241-47B2-8FD8-7BFBAFDF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917FF-011D-4A6B-B6EB-2915217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A5769-1619-43D3-AE2C-3606788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86BCA-21D2-443E-86EC-03EFFA64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5C54C-6684-43F4-86AA-73CCF9B0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CF3-66BE-4B30-BBB7-C8E35456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8B649-F85E-4C8E-91C0-A8BBFAC0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02486-DC45-4F5C-81E5-E92F821F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9B627-1CE1-4F01-803E-79F854EB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4994A-ABEE-4E98-99A9-1FD8A10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4C53D-F6E8-4C3C-A82D-61C99125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ADB28-D352-472D-BA61-E09E1B9C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E181A-CE23-4A6F-A2CA-A08F2ABD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EF52C-A803-4E3F-BAB7-0220BB9E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8464A-6063-4633-9177-9AAB8E96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17808-68B2-4FAD-B00C-6A229DD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979-7E2F-475D-AFAD-98CAA987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009B1-5D5D-4235-AD3E-278FC75C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A3AEC-3CBE-438F-A967-DEED7A0F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6BE3B-C8A0-4875-BC06-55048682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B1BBA-3A01-4C48-878D-D9846085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3F0BF-7921-4A3A-A377-565A982D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0A40-7433-45A5-8B82-5E1097A9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7CE37-F9C7-44E8-942F-AB485125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BF79-3F67-455C-AF36-BFD83E29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2B4D7-E494-4A5A-813A-853E5CCB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8C52E-023D-47BB-AF34-E642ED7A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C48-3DF1-4DD0-AC3F-77F650A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0E39B-46E2-4B3A-8C1A-4C9D487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EF9A3-7EA4-4D86-B05A-81CB4107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1AF83-61F5-4679-AFF6-FCCECD88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94CE7-5A0D-41D7-98A2-559FB06A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D0772-E3E3-4B9C-ACE8-44AF6363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9BC-36D6-4101-AA97-9065497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849F-0940-4D5C-9E65-CF1469B7C67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0CFD-DB6C-4E92-81A1-D37C8DCFE99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D6A0-B623-4BB8-BBF9-AEEE7BE1E7F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AA87-2484-471B-898F-FB55F0AAED8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5DD9-77B2-41E7-AF47-F22121912E1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2B40-7FAA-42EA-9C22-2B9C2D79CBC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822B-4443-4F62-9266-0EDDE4D2166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Rectangle 4" descr=""/>
          <p:cNvPicPr/>
          <p:nvPr/>
        </p:nvPicPr>
        <p:blipFill>
          <a:blip r:embed="rId1"/>
          <a:stretch/>
        </p:blipFill>
        <p:spPr>
          <a:xfrm>
            <a:off x="603360" y="1066680"/>
            <a:ext cx="16068600" cy="389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ответствие состояния и содержания здания и помещений образовательного учреждения санитарным и гигиеническим нормам, нормам пожарной безопасности, требованиям охраны здоровья и охраны труда обучающихс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личие и необходимое оснащение помещений для питания обучающихся, а также для хранения и приготовления пищ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изацию качественного горячего питания учащихс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нащённость кабинетов, физкультурного зала, спортплощадок необходимым игровым и спортивным оборудованием и инвентарём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личие помещений для медицинского персонал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личие необходимого (в расчёте на количество обучающихся) и квалифицированного состава специалистов, обеспечивающих оздоровительную работу с обучающимися (логопед, учителя физической культуры, медицинский работник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лноценную и эффективную работу с обучающимися всех групп здоровья (на уроках физкультуры, в секциях и т. п.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циональную и соответствующую организацию уроков физической культуры и занятий активно-двигательного характера на ступени начального общего образова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изацию занятий по лечебной физкультур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изацию физкультминуток на уроках, способствующих эмоциональной разгрузке и повышению двигательной активност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изацию работы спортивных секций и создан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словий для их эффективного функционирова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егулярное проведение спортивно-оздоровительных мероприятий (дней спорта, соревнований, олимпиад, походов и т. п.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действовать укреплению здоровья, закаливанию организма, разностороннему физическому развитию учащегос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глублять и расширять знания, умения и навыки в области здоровь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рганизовывать здоровый отдых учащихс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ививать учащимся любовь к систематическим занятиям физической культурой и спортом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спитывать нравственную культуру учащихся, интерес к истории спорта, желания побеждать в себе отрицательные привычки и эмоц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049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пагандировать  здоровый образ жизни среди детей, подростков и родителе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ивлекать внимания родителей, педагогов к формированию у детей и подростков основ культуры питания как одной  из составляющих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еспечивать школьников в период их пребывания в школе питанием, способствующим нормальной работе пищеварительной системы и обмену веществ в соответствии с современными медико-гигиеническими требования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ключать в учебный процесс, во внеклассную и внеурочную работу для всех классов занятия, позволяющих целенаправленно подготовить учащихся к деятельности по сохранению и укреплению своего здоровья, сформировать у них культуру здоровья, воспитать стремление к ведению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водить диагностики и мониторинги динамики состояния здоровья учащих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водить работы с родителями учащихся, направленной на формирование в семьях здоровьесберегающих условий, здорового образа жизни, профилактику вредных привычек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Творческие конкурсы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рисунков «Самое дорогое, что есть, - жизнь», «Мы здоровыми растем», «Физкультура!»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поделок «Дары осени», «Делаем сами своими руками»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фотоколлажей «Выходной день в нашей семье», «Семейные праздники», «Традиции семьи»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стихов на заданные рифмы «От простой воды и мыла у микробов тают силы», «Я здоровье сберегу – сам себе я помогу!»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сказок «О значимости здорового образа жизни», «В здоровом теле здоровый дух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9" name="Rectangle 2" descr=""/>
          <p:cNvPicPr/>
          <p:nvPr/>
        </p:nvPicPr>
        <p:blipFill>
          <a:blip r:embed="rId2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ружи с водо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бота о глазах. Уход за ушами. Уход за зубами. Уход за руками и ногам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бота о коже. Мышцы, кости и сустав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следует питаться. Как сделать сон полезным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сь говорить «НЕТ!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коголь и компа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1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554120" indent="-228600"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Здоровье ребенка – основа успешности в обучении (проблемная лекция). Режим дня в жизни школьника (семинар-практикум)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уть к здоровью (собрание-калейдоскоп). Что нужно знать родителям о физиологии школьников. (Полезные советы на каждый день)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портивные традиции нашей семьи (круглый стол). Эмоциональное состоян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ак уберечь от неверного шага. (Профилактика вредных привычек)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3" name="Rectangle 2" descr=""/>
          <p:cNvPicPr/>
          <p:nvPr/>
        </p:nvPicPr>
        <p:blipFill>
          <a:blip r:embed="rId2"/>
          <a:stretch/>
        </p:blipFill>
        <p:spPr>
          <a:xfrm>
            <a:off x="347760" y="146160"/>
            <a:ext cx="834552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жедневно - Утренняя гимнастика (перед уроками), контроль за тепловым, санитарным режимом и освещенностью, охват горячим питанием, выполнение динамических, релаксационных пауз, профилактических упражнений и самомассажа на уроках, прогулк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ультационные встречи с родителями, диагностирование, контроль за генеральной уборкой класс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22093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ные семейные праздники, экскурсии, родительские собра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- это комплексная программа формирования знаний, установок, личностных ориентиров и норм поведения, обеспечивающих сохранение и укрепление физического и психического здоровья как одной из ценностных составляющих, способствующих познавательному и эмоциональному развитию ребенка, достижению планируемых результатов освоения основной образовательной программы основного общего образова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Rectangle 8" descr=""/>
          <p:cNvPicPr/>
          <p:nvPr/>
        </p:nvPicPr>
        <p:blipFill>
          <a:blip r:embed="rId1"/>
          <a:stretch/>
        </p:blipFill>
        <p:spPr>
          <a:xfrm>
            <a:off x="378000" y="182520"/>
            <a:ext cx="8278560" cy="73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дицинский осмотр, заполнение паспорта здоровья, профилактика гриппа и других вирусных инфекций, День здоровья, праздник здоровь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 ценности своего здоровья и здоровья других людей для самореализации каждой личности, и  о том вреде, который можно нанести здоровью различными действиям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взаимозависимости здоровья физического и нравственного, здоровья человека и среды, его окружающей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важности спорта и физкультуры для сохранения и укрепления здоровья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положительном влиянии незагрязнённой природы на здоровье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возможном вреде для здоровья компьютерных игр, телевидения, рекламы и т.п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рицательная оценка неподвижного образа жизни, нарушения гигиены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нимание влияния слова на физическое состояние, настроение человек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блюдение правил гигиены и здорового режима дн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подвижный образ жизни (прогулки, подвижные игры, соревнования, занятие спортом и т.п.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6" descr=""/>
          <p:cNvPicPr/>
          <p:nvPr/>
        </p:nvPicPr>
        <p:blipFill>
          <a:blip r:embed="rId1"/>
          <a:stretch/>
        </p:blipFill>
        <p:spPr>
          <a:xfrm>
            <a:off x="-237960" y="2359080"/>
            <a:ext cx="8474040" cy="1152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· Закон Российской Федерации «Об образовании»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· Федеральный государственный образовательный стандарт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· СанПиН, 2.4.2.1178-02 «Гигиенические требования к режиму учебно-воспитательного процесса» (Приказ Минздрава от 28.11.2002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7" name="Rectangle 2" descr=""/>
          <p:cNvPicPr/>
          <p:nvPr/>
        </p:nvPicPr>
        <p:blipFill>
          <a:blip r:embed="rId2"/>
          <a:stretch/>
        </p:blipFill>
        <p:spPr>
          <a:xfrm>
            <a:off x="360360" y="603360"/>
            <a:ext cx="8332920" cy="774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личности, способной реализовать себя максимально эффективно в современном мире, творчески относящейся к возникающим проблемам, владеющей навыками саморегуляции и безопасного повед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ировать представление о позитивных факторах, влияющих на здоровь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чить обучающихся делать осознанный выбор поступков, поведения, позволяющих сохранять и укреплять здоровь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итывать нравственные качества личности, чтобы среди жизненных ориентиров человека преобладали духовные ценност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ышать персональную ответственность по отношению к своему здоровью, к образу жизн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ть «жизненные навыки» - позитивное общение, принятие и решение проблем, критическое мышление, межличностные контакты, умение постоять за себя и договориться с другими, сопротивление негативному, групповому давлению, совладение с эмоциями пр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ть позитивный образ «Я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чить выполнять правила личной гигиены и развить готовность на основе её использования самостоятельно поддерживать своё здоровь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ировать представление о правильном (здоровом) питании, его режиме, структуре, полезных продукта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ировать представление о рациональной организации</a:t>
            </a:r>
            <a:r>
              <a:rPr b="0" lang="ru-RU" sz="20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 режима дня, учёбы и отдыха, двигательной активност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9240" y="219240"/>
            <a:ext cx="8474040" cy="853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учить ребёнка составлять, анализировать и контролировать свой режим дн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ать представление с учётом принципа информационной безопасности о негативных факторах риска здоровью детей (сниженная двигательная активность, инфекционные заболевания, переутомления и т. п.), о существовании и причинах возникновения зависимостей от табака, алкоголя, наркотиков и других психоактивных веществ, их пагубном влиянии на здоровь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ать представление о влиянии позитивных и негативных эмоций на здоровье, в том числе получаемых от общения с компьютером, просмотра телепередач, участия в азартных игра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бучить элементарным навыкам эмоциональной разгрузки (релаксации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формировать навыки позитивного коммуникативного обще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формировать представление об основных компонентах культуры здоровья и здорового образа жизн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формировать потребность ребёнка безбоязненно обращаться к врачу по любым вопросам состояния здоровья, в том числе связанным с особенностями роста и развит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Rectangle 15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305" name="Схема 5" descr=""/>
          <p:cNvPicPr/>
          <p:nvPr/>
        </p:nvPicPr>
        <p:blipFill>
          <a:blip r:embed="rId2"/>
          <a:stretch/>
        </p:blipFill>
        <p:spPr>
          <a:xfrm>
            <a:off x="311040" y="1596960"/>
            <a:ext cx="8461440" cy="4505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недрение в систему работы дополнительных образовательных программ, направленных на формирование ценности здоровья и здорового образа жизни, которые должны носить модульный характер, реализовываться во внеурочной деятельности либо включаться в учебный процесс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лекции, беседы, консультации по проблемам сохранения и укрепления здоровья, профилактики вредных привычек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оведение дней здоровья, конкурсов, праздников и других активных мероприятий, направленных на пропаганду здорового образа жизн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осветительская работа с родителями (законными представителями), направленная на повышение уровня знаний родителей (законных представителей) по проблемам охраны и укрепления здоровья дете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влечение родителей (законных представителей) к совместной работе по проведению оздоровительных мероприятий и спортивных соревнован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92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1904760"/>
            <a:ext cx="8153280" cy="419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здание здоровьесберегающей инфраструктур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циональная организация учебной и внеучебной деятельности обучающихс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ффективная  организация физкультурно-оздоровительной рабо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ализации образовательной программы и просветительской работы с                     родителями (законными представителями)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371520" y="225360"/>
            <a:ext cx="8467560" cy="1536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ENNA XP</cp:lastModifiedBy>
  <dcterms:modified xsi:type="dcterms:W3CDTF">2013-01-16T00:5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