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2.png" ContentType="image/png"/>
  <Override PartName="/ppt/media/image23.jpeg" ContentType="image/jpeg"/>
  <Override PartName="/ppt/media/image2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9E4-80FF-43A3-9BC8-23588B0E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3381-4824-4178-9A78-1A08794B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99B4-38FE-4257-8D6F-C29A625B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6539-6B2E-424A-9448-017A1BE5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7C80C-1B39-4D64-A0DD-8241630F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E8112-F080-47C6-9CEB-F6A13748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4E05C-E2E2-4825-8968-C0A19F6D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87966-C016-4780-B146-0A6AAB76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3152F-A6F9-4FD7-BFCD-0CF56BBE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4D127-6669-4572-82BE-F55A60EF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B46F2-CD1E-42EC-ADAD-67A62468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694D-3FF8-4085-9D61-9EF43FB2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14229-E86E-4EAE-BD6D-5A07DF39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A2A58-4AA9-47A2-BC39-D7FA969D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CBDCF-439A-4503-B2E8-AF46A1AE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F78B7-37C8-4FD6-9666-5B8A60A4D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8B8B9-40AB-48E5-BEDB-34FC6F0A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D10F3-4A36-47A6-AEF6-D9455E19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E3470-D764-4CD3-A8EC-BD1D8EDC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C28F5-482D-42F8-A8B9-7C6029A4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FE8A3-5EC4-4D11-92C0-69B06157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C5F0D-718B-4856-8557-5388573F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782-AC85-4AF7-8B14-DE8DCC15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A158B-87E4-4344-A174-B2D3F5B7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9265A-C81F-4DCC-863A-2276933F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A920B-EAF0-4949-912D-2E5FA8E8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B4ACE-2732-4EE1-8FAB-0DE7F474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AE43C-2B8A-4EF6-993B-DA9D5366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2FAB9-060E-4490-A3F8-C8BD3BB0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CC542-E249-47D0-A882-54386B6B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ABF67E-E090-49B9-A53F-D852F2A2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93A8D5-64B7-497D-AEF4-9315FE51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C28626-649F-46A9-BF3A-E6E195DB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44CD-752B-4BD8-BCCB-E2AB839C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1BBAE8-4C33-4BA8-AB70-404969F7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B5AB13-2DC8-4ECA-B950-75A855CC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30F5A5-8F00-4150-A751-8AAE261E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9F9A89-011C-4A2A-AC1D-722403C8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C1EF4C-6849-4CBE-8002-2D1BFF84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016539-3BDB-49C0-B9FC-63E639B2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2FB334-3535-40BC-B665-8C6BD5E5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E0209E-9574-4B42-8139-91CC7289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4651CB-F27D-4AAE-AD28-9881A4D0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E2C06-C4E3-454C-A382-32826A5E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ED0-A559-4EAE-BF09-1C390C5A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982C00-E63E-47C6-8D99-4A71A4F1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C49CC7-16BF-4CD5-97CF-B1B3E6AA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86804D-07CF-418C-8169-C767D1E6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EBD036-9425-454D-940A-6914E9A1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54AAA3-8361-4708-96A0-94208C4D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A8B9E-8065-4469-B886-E1B84367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049E5C-D65B-4B67-9F08-A093D8D1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0E80BE-BD2A-496E-A54B-EE78B5F0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66EBE2-88F8-41DC-A66F-A9BFD395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F6D9C-F184-455B-8C55-326B9CCC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1AC2-494D-4E2A-8D6F-BEABA8A8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7AC576-16D3-4BF6-9315-5F719BA9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C32898-CCE1-46FA-95A9-66C07380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F5BCAC-7644-478B-94BD-B299403B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F90075-3D49-4887-830F-7BB6D989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764096-47E8-4077-84CF-BCDD88D9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378277-9681-4198-9900-584D15CC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12715E-E804-47B3-9785-ABC4A091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BE9CF5-E96D-44BD-92A4-946B1812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956A4F-C10D-462D-9862-DF22A948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DD500B-2744-4C2B-BD83-DACBD6EA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AC5A-0D98-42CC-9F50-AD1AC3FC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04B598-D917-4C90-90B1-68E53A85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2BFF85-53F7-433D-87CE-8C202806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472178-3C75-44BD-83D0-FCD791EA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E5240-6710-4E6D-9075-1868C73E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E4996-F63F-449C-AD72-3900E0EB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92ECB-BAC3-4478-BE15-2B5B6743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B39C3-E926-4AC5-A4E5-2AC96865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CE6EE-7661-458C-88DB-4870888A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2D648-D224-43AA-8144-59144675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C0963-DFC6-4A56-A694-CFB1BEEC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C6A5-F167-4A3C-ADC3-43D0D746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9739A-4E52-4E93-8B50-794D47A1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87490-1A2F-44DB-B036-3E0BC7E8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6805E-EAF2-4B81-96E6-76191E3F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5C4E4-9439-4E47-925C-AD90BA8D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E77E4-F2DD-422B-9E80-739F8A34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86DB-2C01-4B14-8B0E-5515D8CE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50A2-9B47-4CC3-9348-4F7D602B49F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7393-9B79-4080-9CE8-6AA6768CF41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C0E5-289D-47C7-805A-235D9181BE6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CE9A-0383-4092-8067-B175F3792D3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E618-95B2-4D74-9368-435EFB17B61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C314-53D7-4637-B8B8-3F6D522F518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7C53-094C-44BC-B88B-EFACFE4FBB7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Rectangle 4" descr=""/>
          <p:cNvPicPr/>
          <p:nvPr/>
        </p:nvPicPr>
        <p:blipFill>
          <a:blip r:embed="rId1"/>
          <a:stretch/>
        </p:blipFill>
        <p:spPr>
          <a:xfrm>
            <a:off x="603360" y="1066680"/>
            <a:ext cx="16068600" cy="389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оответствие состояния и содержания здания и помещений образовательного учреждения санитарным и гигиеническим нормам, нормам пожарной безопасности, требованиям охраны здоровья и охраны труда обучающихс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аличие и необходимое оснащение помещений для питания обучающихся, а также для хранения и приготовления пищ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рганизацию качественного горячего питания учащихс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снащённость кабинетов, физкультурного зала, спортплощадок необходимым игровым и спортивным оборудованием и инвентарём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аличие помещений для медицинского персонала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аличие необходимого (в расчёте на количество обучающихся) и квалифицированного состава специалистов, обеспечивающих оздоровительную работу с обучающимися (логопед, учителя физической культуры, медицинский работник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268200" y="92160"/>
            <a:ext cx="8425080" cy="1285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олноценную и эффективную работу с обучающимися всех групп здоровья (на уроках физкультуры, в секциях и т. п.)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рациональную и соответствующую организацию уроков физической культуры и занятий активно-двигательного характера на ступени начального общего образовани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рганизацию занятий по лечебной физкультуре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рганизацию физкультминуток на уроках, способствующих эмоциональной разгрузке и повышению двигательной активност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рганизацию работы спортивных секций и создани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условий для их эффективного функционировани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регулярное проведение спортивно-оздоровительных мероприятий (дней спорта, соревнований, олимпиад, походов и т. п.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268200" y="92160"/>
            <a:ext cx="8425080" cy="1285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одействовать укреплению здоровья, закаливанию организма, разностороннему физическому развитию учащегося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глублять и расширять знания, умения и навыки в области здоровья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рганизовывать здоровый отдых учащихся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ививать учащимся любовь к систематическим занятиям физической культурой и спортом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спитывать нравственную культуру учащихся, интерес к истории спорта, желания побеждать в себе отрицательные привычки и эмоци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5" name="Rectang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049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опагандировать  здоровый образ жизни среди детей, подростков и родителей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ивлекать внимания родителей, педагогов к формированию у детей и подростков основ культуры питания как одной  из составляющих здорового образа жизн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беспечивать школьников в период их пребывания в школе питанием, способствующим нормальной работе пищеварительной системы и обмену веществ в соответствии с современными медико-гигиеническими требованиям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ключать в учебный процесс, во внеклассную и внеурочную работу для всех классов занятия, позволяющих целенаправленно подготовить учащихся к деятельности по сохранению и укреплению своего здоровья, сформировать у них культуру здоровья, воспитать стремление к ведению здорового образа жизн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оводить диагностики и мониторинги динамики состояния здоровья учащихс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оводить работы с родителями учащихся, направленной на формирование в семьях здоровьесберегающих условий, здорового образа жизни, профилактику вредных привычек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7" name="Rectangle 2" descr=""/>
          <p:cNvPicPr/>
          <p:nvPr/>
        </p:nvPicPr>
        <p:blipFill>
          <a:blip r:embed="rId2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Творческие конкурсы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· рисунков «Самое дорогое, что есть, - жизнь», «Мы здоровыми растем», «Физкультура!»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· поделок «Дары осени», «Делаем сами своими руками»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· фотоколлажей «Выходной день в нашей семье», «Семейные праздники», «Традиции семьи»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· стихов на заданные рифмы «От простой воды и мыла у микробов тают силы», «Я здоровье сберегу – сам себе я помогу!»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· сказок «О значимости здорового образа жизни», «В здоровом теле здоровый дух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9" name="Rectangle 2" descr=""/>
          <p:cNvPicPr/>
          <p:nvPr/>
        </p:nvPicPr>
        <p:blipFill>
          <a:blip r:embed="rId2"/>
          <a:stretch/>
        </p:blipFill>
        <p:spPr>
          <a:xfrm>
            <a:off x="268200" y="92160"/>
            <a:ext cx="8425080" cy="1285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ружи с водой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бота о глазах. Уход за ушами. Уход за зубами. Уход за руками и ногами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бота о коже. Мышцы, кости и суставы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 следует питаться. Как сделать сон полезным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ись говорить «НЕТ!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лкоголь и компани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1" name="Rectang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1554120" indent="-228600">
              <a:spcBef>
                <a:spcPts val="3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Здоровье ребенка – основа успешности в обучении (проблемная лекция). Режим дня в жизни школьника (семинар-практикум)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3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уть к здоровью (собрание-калейдоскоп). Что нужно знать родителям о физиологии школьников. (Полезные советы на каждый день)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3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портивные традиции нашей семьи (круглый стол). Эмоциональное состояни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3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Как уберечь от неверного шага. (Профилактика вредных привычек)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3" name="Rectangle 2" descr=""/>
          <p:cNvPicPr/>
          <p:nvPr/>
        </p:nvPicPr>
        <p:blipFill>
          <a:blip r:embed="rId2"/>
          <a:stretch/>
        </p:blipFill>
        <p:spPr>
          <a:xfrm>
            <a:off x="347760" y="146160"/>
            <a:ext cx="8345520" cy="123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Ежедневно - Утренняя гимнастика (перед уроками), контроль за тепловым, санитарным режимом и освещенностью, охват горячим питанием, выполнение динамических, релаксационных пауз, профилактических упражнений и самомассажа на уроках, прогулки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сультационные встречи с родителями, диагностирование, контроль за генеральной уборкой класса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22093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лассные семейные праздники, экскурсии, родительские собрани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9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nstantia"/>
              </a:rPr>
              <a:t>- это комплексная программа формирования знаний, установок, личностных ориентиров и норм поведения, обеспечивающих сохранение и укрепление физического и психического здоровья как одной из ценностных составляющих, способствующих познавательному и эмоциональному развитию ребенка, достижению планируемых результатов освоения основной образовательной программы основного общего образовани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5" name="Rectangle 8" descr=""/>
          <p:cNvPicPr/>
          <p:nvPr/>
        </p:nvPicPr>
        <p:blipFill>
          <a:blip r:embed="rId1"/>
          <a:stretch/>
        </p:blipFill>
        <p:spPr>
          <a:xfrm>
            <a:off x="378000" y="182520"/>
            <a:ext cx="8278560" cy="738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дицинский осмотр, заполнение паспорта здоровья, профилактика гриппа и других вирусных инфекций, День здоровья, праздник здоровь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1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нание о  ценности своего здоровья и здоровья других людей для самореализации каждой личности, и  о том вреде, который можно нанести здоровью различными действиями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нание о взаимозависимости здоровья физического и нравственного, здоровья человека и среды, его окружающей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нание о важности спорта и физкультуры для сохранения и укрепления здоровья;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–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нание о положительном влиянии незагрязнённой природы на здоровье;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знание о возможном вреде для здоровья компьютерных игр, телевидения, рекламы и т.п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трицательная оценка неподвижного образа жизни, нарушения гигиены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нимание влияния слова на физическое состояние, настроение человек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блюдение правил гигиены и здорового режима дня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-подвижный образ жизни (прогулки, подвижные игры, соревнования, занятие спортом и т.п.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6" descr=""/>
          <p:cNvPicPr/>
          <p:nvPr/>
        </p:nvPicPr>
        <p:blipFill>
          <a:blip r:embed="rId1"/>
          <a:stretch/>
        </p:blipFill>
        <p:spPr>
          <a:xfrm>
            <a:off x="-237960" y="2359080"/>
            <a:ext cx="8474040" cy="1152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· Закон Российской Федерации «Об образовании»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· Федеральный государственный образовательный стандарт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· СанПиН, 2.4.2.1178-02 «Гигиенические требования к режиму учебно-воспитательного процесса» (Приказ Минздрава от 28.11.2002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7" name="Rectangle 2" descr=""/>
          <p:cNvPicPr/>
          <p:nvPr/>
        </p:nvPicPr>
        <p:blipFill>
          <a:blip r:embed="rId2"/>
          <a:stretch/>
        </p:blipFill>
        <p:spPr>
          <a:xfrm>
            <a:off x="360360" y="603360"/>
            <a:ext cx="8332920" cy="7747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ормирование личности, способной реализовать себя максимально эффективно в современном мире, творчески относящейся к возникающим проблемам, владеющей навыками саморегуляции и безопасного поведени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9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684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формировать представление о позитивных факторах, влияющих на здоровье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учить обучающихся делать осознанный выбор поступков, поведения, позволяющих сохранять и укреплять здоровье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спитывать нравственные качества личности, чтобы среди жизненных ориентиров человека преобладали духовные ценност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вышать персональную ответственность по отношению к своему здоровью, к образу жизн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ормировать «жизненные навыки» - позитивное общение, принятие и решение проблем, критическое мышление, межличностные контакты, умение постоять за себя и договориться с другими, сопротивление негативному, групповому давлению, совладение с эмоциями пр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ормировать позитивный образ «Я»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учить выполнять правила личной гигиены и развить готовность на основе её использования самостоятельно поддерживать своё здоровье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формировать представление о правильном (здоровом) питании, его режиме, структуре, полезных продуктах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формировать представление о рациональной организации</a:t>
            </a:r>
            <a:r>
              <a:rPr b="0" lang="ru-RU" sz="2000" spc="-1" strike="noStrike">
                <a:solidFill>
                  <a:srgbClr val="dfcf04"/>
                </a:solidFill>
                <a:latin typeface="Times New Roman"/>
                <a:ea typeface="Times New Roman"/>
              </a:rPr>
              <a:t> режима дня, учёбы и отдыха, двигательной активности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219240" y="219240"/>
            <a:ext cx="8474040" cy="8539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аучить ребёнка составлять, анализировать и контролировать свой режим дн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ать представление с учётом принципа информационной безопасности о негативных факторах риска здоровью детей (сниженная двигательная активность, инфекционные заболевания, переутомления и т. п.), о существовании и причинах возникновения зависимостей от табака, алкоголя, наркотиков и других психоактивных веществ, их пагубном влиянии на здоровье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ать представление о влиянии позитивных и негативных эмоций на здоровье, в том числе получаемых от общения с компьютером, просмотра телепередач, участия в азартных играх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бучить элементарным навыкам эмоциональной разгрузки (релаксации)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формировать навыки позитивного коммуникативного общения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формировать представление об основных компонентах культуры здоровья и здорового образа жизн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формировать потребность ребёнка безбоязненно обращаться к врачу по любым вопросам состояния здоровья, в том числе связанным с особенностями роста и развити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3" name="Rectangle 15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Rectangle 4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152720"/>
          </a:xfrm>
          <a:prstGeom prst="rect">
            <a:avLst/>
          </a:prstGeom>
          <a:ln w="0">
            <a:noFill/>
          </a:ln>
        </p:spPr>
      </p:pic>
      <p:pic>
        <p:nvPicPr>
          <p:cNvPr id="305" name="Схема 5" descr=""/>
          <p:cNvPicPr/>
          <p:nvPr/>
        </p:nvPicPr>
        <p:blipFill>
          <a:blip r:embed="rId2"/>
          <a:stretch/>
        </p:blipFill>
        <p:spPr>
          <a:xfrm>
            <a:off x="311040" y="1596960"/>
            <a:ext cx="8461440" cy="4505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недрение в систему работы дополнительных образовательных программ, направленных на формирование ценности здоровья и здорового образа жизни, которые должны носить модульный характер, реализовываться во внеурочной деятельности либо включаться в учебный процесс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лекции, беседы, консультации по проблемам сохранения и укрепления здоровья, профилактики вредных привычек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роведение дней здоровья, конкурсов, праздников и других активных мероприятий, направленных на пропаганду здорового образа жизни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росветительская работа с родителями (законными представителями), направленная на повышение уровня знаний родителей (законных представителей) по проблемам охраны и укрепления здоровья детей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ривлечение родителей (законных представителей) к совместной работе по проведению оздоровительных мероприятий и спортивных соревновани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7" name="Rectang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927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1904760"/>
            <a:ext cx="8153280" cy="4190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здание здоровьесберегающей инфраструктуры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циональная организация учебной и внеучебной деятельности обучающихся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ффективная  организация физкультурно-оздоровительной работы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еализации образовательной программы и просветительской работы с                     родителями (законными представителями)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371520" y="225360"/>
            <a:ext cx="8467560" cy="1536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ENNA XP</cp:lastModifiedBy>
  <dcterms:modified xsi:type="dcterms:W3CDTF">2013-01-16T00:57:3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