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7.gif" ContentType="image/gif"/>
  <Override PartName="/ppt/media/image26.png" ContentType="image/png"/>
  <Override PartName="/ppt/media/image19.jpeg" ContentType="image/jpeg"/>
  <Override PartName="/ppt/media/image25.png" ContentType="image/png"/>
  <Override PartName="/ppt/media/image21.png" ContentType="image/png"/>
  <Override PartName="/ppt/media/image16.gif" ContentType="image/gif"/>
  <Override PartName="/ppt/media/image14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18.gif" ContentType="image/gif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2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15.gif" ContentType="image/gif"/>
  <Override PartName="/ppt/media/image34.jpeg" ContentType="image/jpeg"/>
  <Override PartName="/ppt/media/image37.png" ContentType="image/png"/>
  <Override PartName="/ppt/media/image3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22.gif" ContentType="image/gif"/>
  <Override PartName="/ppt/media/image38.gif" ContentType="image/gif"/>
  <Override PartName="/ppt/media/image39.gif" ContentType="image/gif"/>
  <Override PartName="/ppt/media/image12.jpeg" ContentType="image/jpeg"/>
  <Override PartName="/ppt/media/image6.gif" ContentType="image/gif"/>
  <Override PartName="/ppt/media/image36.jpeg" ContentType="image/jpeg"/>
  <Override PartName="/ppt/media/image20.png" ContentType="image/png"/>
  <Override PartName="/ppt/media/image2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E98E-38DE-4959-B27B-F37A628D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ABB-A229-4D3A-A29C-2547A5D2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F91-E8CF-4FB3-8228-E000A037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347-F195-4F1E-B91C-9D2A842D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6B5-E170-4FE4-A1F1-4CF393E6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143-1533-4884-A72E-1AA5B9AF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E760-9AC7-474F-B405-E93E0286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8C0B-0656-4230-9523-2B7D2E12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8380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E098-48EC-48A7-8FD4-3EC06211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B96-BCDC-43D6-AD0F-EF328E63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056D-D5DC-49C4-9E8E-56F4FADF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B85-292A-468B-9E9A-BEB3590D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8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BD72-CC3A-46FD-97F3-3CE56A7153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52280"/>
            <a:ext cx="91440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553080"/>
            <a:ext cx="9144000" cy="152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0" y="152280"/>
            <a:ext cx="9144000" cy="152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0" y="6553080"/>
            <a:ext cx="9144000" cy="152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7.jpeg"/><Relationship Id="rId17" Type="http://schemas.openxmlformats.org/officeDocument/2006/relationships/image" Target="../media/image8.jpeg"/><Relationship Id="rId18" Type="http://schemas.openxmlformats.org/officeDocument/2006/relationships/image" Target="../media/image9.jpe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6" descr="000469"/>
          <p:cNvPicPr/>
          <p:nvPr/>
        </p:nvPicPr>
        <p:blipFill>
          <a:blip r:embed="rId1"/>
          <a:stretch/>
        </p:blipFill>
        <p:spPr>
          <a:xfrm>
            <a:off x="5237280" y="549360"/>
            <a:ext cx="3546360" cy="2639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9"/>
          <p:cNvPicPr/>
          <p:nvPr/>
        </p:nvPicPr>
        <p:blipFill>
          <a:blip r:embed="rId2"/>
          <a:stretch/>
        </p:blipFill>
        <p:spPr>
          <a:xfrm>
            <a:off x="395280" y="549360"/>
            <a:ext cx="3614760" cy="2584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76360" y="5836320"/>
            <a:ext cx="6400800" cy="48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6600"/>
            </a:outerShdw>
          </a:effectLst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826920" y="76500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5" name="Picture 10" descr="star7"/>
          <p:cNvPicPr/>
          <p:nvPr/>
        </p:nvPicPr>
        <p:blipFill>
          <a:blip r:embed="rId3"/>
          <a:stretch/>
        </p:blipFill>
        <p:spPr>
          <a:xfrm>
            <a:off x="900000" y="692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star7"/>
          <p:cNvPicPr/>
          <p:nvPr/>
        </p:nvPicPr>
        <p:blipFill>
          <a:blip r:embed="rId4"/>
          <a:stretch/>
        </p:blipFill>
        <p:spPr>
          <a:xfrm>
            <a:off x="8244000" y="692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star7"/>
          <p:cNvPicPr/>
          <p:nvPr/>
        </p:nvPicPr>
        <p:blipFill>
          <a:blip r:embed="rId5"/>
          <a:stretch/>
        </p:blipFill>
        <p:spPr>
          <a:xfrm>
            <a:off x="7667640" y="141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star7"/>
          <p:cNvPicPr/>
          <p:nvPr/>
        </p:nvPicPr>
        <p:blipFill>
          <a:blip r:embed="rId6"/>
          <a:stretch/>
        </p:blipFill>
        <p:spPr>
          <a:xfrm>
            <a:off x="6588000" y="1557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star7"/>
          <p:cNvPicPr/>
          <p:nvPr/>
        </p:nvPicPr>
        <p:blipFill>
          <a:blip r:embed="rId7"/>
          <a:stretch/>
        </p:blipFill>
        <p:spPr>
          <a:xfrm>
            <a:off x="3059280" y="1700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star7"/>
          <p:cNvPicPr/>
          <p:nvPr/>
        </p:nvPicPr>
        <p:blipFill>
          <a:blip r:embed="rId8"/>
          <a:stretch/>
        </p:blipFill>
        <p:spPr>
          <a:xfrm>
            <a:off x="4500720" y="620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star7"/>
          <p:cNvPicPr/>
          <p:nvPr/>
        </p:nvPicPr>
        <p:blipFill>
          <a:blip r:embed="rId9"/>
          <a:stretch/>
        </p:blipFill>
        <p:spPr>
          <a:xfrm>
            <a:off x="826920" y="191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star7"/>
          <p:cNvPicPr/>
          <p:nvPr/>
        </p:nvPicPr>
        <p:blipFill>
          <a:blip r:embed="rId10"/>
          <a:stretch/>
        </p:blipFill>
        <p:spPr>
          <a:xfrm>
            <a:off x="8244000" y="1989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star7"/>
          <p:cNvPicPr/>
          <p:nvPr/>
        </p:nvPicPr>
        <p:blipFill>
          <a:blip r:embed="rId11"/>
          <a:stretch/>
        </p:blipFill>
        <p:spPr>
          <a:xfrm>
            <a:off x="2124000" y="692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star7"/>
          <p:cNvPicPr/>
          <p:nvPr/>
        </p:nvPicPr>
        <p:blipFill>
          <a:blip r:embed="rId12"/>
          <a:stretch/>
        </p:blipFill>
        <p:spPr>
          <a:xfrm>
            <a:off x="6588000" y="692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star7"/>
          <p:cNvPicPr/>
          <p:nvPr/>
        </p:nvPicPr>
        <p:blipFill>
          <a:blip r:embed="rId13"/>
          <a:stretch/>
        </p:blipFill>
        <p:spPr>
          <a:xfrm>
            <a:off x="1763640" y="141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" descr="star7"/>
          <p:cNvPicPr/>
          <p:nvPr/>
        </p:nvPicPr>
        <p:blipFill>
          <a:blip r:embed="rId14"/>
          <a:stretch/>
        </p:blipFill>
        <p:spPr>
          <a:xfrm>
            <a:off x="4284720" y="1268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star7"/>
          <p:cNvPicPr/>
          <p:nvPr/>
        </p:nvPicPr>
        <p:blipFill>
          <a:blip r:embed="rId15"/>
          <a:stretch/>
        </p:blipFill>
        <p:spPr>
          <a:xfrm>
            <a:off x="5580000" y="981000"/>
            <a:ext cx="422280" cy="37296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20"/>
          <p:cNvGrpSpPr/>
          <p:nvPr/>
        </p:nvGrpSpPr>
        <p:grpSpPr>
          <a:xfrm>
            <a:off x="324000" y="2924280"/>
            <a:ext cx="8499240" cy="3638520"/>
            <a:chOff x="324000" y="2924280"/>
            <a:chExt cx="8499240" cy="3638520"/>
          </a:xfrm>
        </p:grpSpPr>
        <p:pic>
          <p:nvPicPr>
            <p:cNvPr id="69" name="Picture 21" descr="5"/>
            <p:cNvPicPr/>
            <p:nvPr/>
          </p:nvPicPr>
          <p:blipFill>
            <a:blip r:embed="rId16"/>
            <a:stretch/>
          </p:blipFill>
          <p:spPr>
            <a:xfrm>
              <a:off x="324000" y="3962520"/>
              <a:ext cx="3671640" cy="257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22" descr="12"/>
            <p:cNvPicPr/>
            <p:nvPr/>
          </p:nvPicPr>
          <p:blipFill>
            <a:blip r:embed="rId17"/>
            <a:stretch/>
          </p:blipFill>
          <p:spPr>
            <a:xfrm>
              <a:off x="5003640" y="3962520"/>
              <a:ext cx="3819600" cy="245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3" descr="3"/>
            <p:cNvPicPr/>
            <p:nvPr/>
          </p:nvPicPr>
          <p:blipFill>
            <a:blip r:embed="rId18"/>
            <a:stretch/>
          </p:blipFill>
          <p:spPr>
            <a:xfrm>
              <a:off x="3276720" y="2924280"/>
              <a:ext cx="2638440" cy="363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5" descr="000485"/>
          <p:cNvPicPr/>
          <p:nvPr/>
        </p:nvPicPr>
        <p:blipFill>
          <a:blip r:embed="rId1"/>
          <a:stretch/>
        </p:blipFill>
        <p:spPr>
          <a:xfrm>
            <a:off x="2195640" y="476280"/>
            <a:ext cx="496872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1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286080" cy="2670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"/>
          <p:cNvPicPr/>
          <p:nvPr/>
        </p:nvPicPr>
        <p:blipFill>
          <a:blip r:embed="rId2"/>
          <a:stretch/>
        </p:blipFill>
        <p:spPr>
          <a:xfrm>
            <a:off x="5148360" y="115920"/>
            <a:ext cx="3551040" cy="267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3168720" cy="2381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10_14"/>
          <p:cNvPicPr/>
          <p:nvPr/>
        </p:nvPicPr>
        <p:blipFill>
          <a:blip r:embed="rId4"/>
          <a:stretch/>
        </p:blipFill>
        <p:spPr>
          <a:xfrm>
            <a:off x="4140360" y="3357720"/>
            <a:ext cx="4679640" cy="3357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324000" y="249156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Основными занятиями древних индийцев были оседлое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земледелие, скотоводство.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324480" cy="942840"/>
          </a:xfrm>
          <a:prstGeom prst="rect">
            <a:avLst/>
          </a:prstGeom>
          <a:solidFill>
            <a:srgbClr val="336600"/>
          </a:solidFill>
          <a:ln w="76320">
            <a:solidFill>
              <a:srgbClr val="00cc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Священное животное – корова.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5516280"/>
            <a:ext cx="8353440" cy="1152360"/>
          </a:xfrm>
          <a:prstGeom prst="rect">
            <a:avLst/>
          </a:prstGeom>
          <a:solidFill>
            <a:srgbClr val="ffff00"/>
          </a:solidFill>
          <a:ln w="76320">
            <a:solidFill>
              <a:srgbClr val="00cc99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336600"/>
              </a:solidFill>
              <a:latin typeface="Bookman Old Style"/>
            </a:endParaRPr>
          </a:p>
        </p:txBody>
      </p:sp>
      <p:pic>
        <p:nvPicPr>
          <p:cNvPr id="116" name="Picture 5" descr="Рисунок5"/>
          <p:cNvPicPr/>
          <p:nvPr/>
        </p:nvPicPr>
        <p:blipFill>
          <a:blip r:embed="rId1"/>
          <a:stretch/>
        </p:blipFill>
        <p:spPr>
          <a:xfrm>
            <a:off x="1763640" y="1052640"/>
            <a:ext cx="5662800" cy="453708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Bookman Old Style"/>
              </a:rPr>
              <a:t>Проверь себя?</a:t>
            </a: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Bookman Old Style"/>
              </a:rPr>
              <a:t>На каком полуострове находится Индия?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Bookman Old Style"/>
              </a:rPr>
              <a:t>Назови две реки протекающие по её территории.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Bookman Old Style"/>
              </a:rPr>
              <a:t>Гималаи. Что ты знаешь о них?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050"/>
                </a:solidFill>
                <a:uFillTx/>
                <a:latin typeface="Bookman Old Style"/>
              </a:rPr>
              <a:t>Назови обитателей джунглей.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684360" y="620640"/>
            <a:ext cx="80676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 забудь записать домашнее задание!</a:t>
            </a:r>
            <a:endParaRPr b="1" lang="en-US" sz="24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187280" y="4508640"/>
            <a:ext cx="67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§ 20, раб.тетр.с.71№85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21" name="Picture 5" descr="pen"/>
          <p:cNvPicPr/>
          <p:nvPr/>
        </p:nvPicPr>
        <p:blipFill>
          <a:blip r:embed="rId1"/>
          <a:stretch/>
        </p:blipFill>
        <p:spPr>
          <a:xfrm>
            <a:off x="395280" y="314172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a5"/>
          <p:cNvPicPr/>
          <p:nvPr/>
        </p:nvPicPr>
        <p:blipFill>
          <a:blip r:embed="rId2"/>
          <a:stretch/>
        </p:blipFill>
        <p:spPr>
          <a:xfrm>
            <a:off x="7308720" y="4076640"/>
            <a:ext cx="12765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mph" presetID="27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1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9" dur="1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0" dur="1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468360" y="476280"/>
            <a:ext cx="8210520" cy="5834160"/>
            <a:chOff x="468360" y="476280"/>
            <a:chExt cx="8210520" cy="5834160"/>
          </a:xfrm>
        </p:grpSpPr>
        <p:pic>
          <p:nvPicPr>
            <p:cNvPr id="75" name="Picture 37" descr=""/>
            <p:cNvPicPr/>
            <p:nvPr/>
          </p:nvPicPr>
          <p:blipFill>
            <a:blip r:embed="rId1"/>
            <a:stretch/>
          </p:blipFill>
          <p:spPr>
            <a:xfrm>
              <a:off x="468360" y="476280"/>
              <a:ext cx="4105080" cy="28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6" descr="7"/>
            <p:cNvPicPr/>
            <p:nvPr/>
          </p:nvPicPr>
          <p:blipFill>
            <a:blip r:embed="rId2"/>
            <a:stretch/>
          </p:blipFill>
          <p:spPr>
            <a:xfrm>
              <a:off x="4788000" y="476280"/>
              <a:ext cx="3890880" cy="28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7" descr="4"/>
            <p:cNvPicPr/>
            <p:nvPr/>
          </p:nvPicPr>
          <p:blipFill>
            <a:blip r:embed="rId3"/>
            <a:stretch/>
          </p:blipFill>
          <p:spPr>
            <a:xfrm>
              <a:off x="6732720" y="3645000"/>
              <a:ext cx="1719000" cy="26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8" descr="2"/>
            <p:cNvPicPr/>
            <p:nvPr/>
          </p:nvPicPr>
          <p:blipFill>
            <a:blip r:embed="rId4"/>
            <a:stretch/>
          </p:blipFill>
          <p:spPr>
            <a:xfrm>
              <a:off x="3132000" y="4005360"/>
              <a:ext cx="2880000" cy="19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9" descr="6"/>
            <p:cNvPicPr/>
            <p:nvPr/>
          </p:nvPicPr>
          <p:blipFill>
            <a:blip r:embed="rId5"/>
            <a:stretch/>
          </p:blipFill>
          <p:spPr>
            <a:xfrm>
              <a:off x="826920" y="3645000"/>
              <a:ext cx="1722600" cy="25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WordArt 8"/>
          <p:cNvSpPr txBox="1"/>
          <p:nvPr/>
        </p:nvSpPr>
        <p:spPr>
          <a:xfrm>
            <a:off x="755640" y="2205000"/>
            <a:ext cx="7772400" cy="4978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76601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00"/>
                    </a:gs>
                  </a:gsLst>
                  <a:lin ang="0"/>
                </a:gradFill>
                <a:latin typeface="Arial"/>
              </a:rPr>
              <a:t>Древняя Индия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263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i="1" lang="ru-RU" sz="3600" spc="-1" strike="noStrike" u="sng">
                <a:solidFill>
                  <a:srgbClr val="800000"/>
                </a:solidFill>
                <a:uFillTx/>
                <a:latin typeface="Bookman Old Style"/>
              </a:rPr>
              <a:t>Логическое задание </a:t>
            </a:r>
            <a:br>
              <a:rPr sz="3600"/>
            </a:br>
            <a:r>
              <a:rPr b="1" i="1" lang="ru-RU" sz="3600" spc="-1" strike="noStrike" u="sng">
                <a:solidFill>
                  <a:srgbClr val="800000"/>
                </a:solidFill>
                <a:uFillTx/>
                <a:latin typeface="Bookman Old Style"/>
              </a:rPr>
              <a:t>на урок:</a:t>
            </a:r>
            <a:endParaRPr b="0" lang="en-US" sz="36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82" name="Picture 5" descr="j0336396"/>
          <p:cNvPicPr/>
          <p:nvPr/>
        </p:nvPicPr>
        <p:blipFill>
          <a:blip r:embed="rId1"/>
          <a:stretch/>
        </p:blipFill>
        <p:spPr>
          <a:xfrm>
            <a:off x="468360" y="549360"/>
            <a:ext cx="1366920" cy="1079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ag00317_"/>
          <p:cNvPicPr/>
          <p:nvPr/>
        </p:nvPicPr>
        <p:blipFill>
          <a:blip r:embed="rId2"/>
          <a:stretch/>
        </p:blipFill>
        <p:spPr>
          <a:xfrm>
            <a:off x="7093080" y="0"/>
            <a:ext cx="1511280" cy="1844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971640" y="256536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Bookman Old Style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Bookman Old Style"/>
              </a:rPr>
              <a:t>Почему греки считали Индию «волшебной сказочной страной»?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5" name="Picture 17" descr="slide0142_image403"/>
          <p:cNvPicPr/>
          <p:nvPr/>
        </p:nvPicPr>
        <p:blipFill>
          <a:blip r:embed="rId3"/>
          <a:stretch/>
        </p:blipFill>
        <p:spPr>
          <a:xfrm>
            <a:off x="468360" y="4076640"/>
            <a:ext cx="24591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79280" y="609120"/>
            <a:ext cx="663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100" spc="-1" strike="noStrike">
                <a:solidFill>
                  <a:srgbClr val="993300"/>
                </a:solidFill>
                <a:latin typeface="Bookman Old Style"/>
              </a:rPr>
              <a:t>План</a:t>
            </a:r>
            <a:r>
              <a:rPr b="1" lang="ru-RU" sz="81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ru-RU" sz="8100" spc="-1" strike="noStrike">
                <a:solidFill>
                  <a:srgbClr val="993300"/>
                </a:solidFill>
                <a:latin typeface="Bookman Old Style"/>
              </a:rPr>
              <a:t>урока</a:t>
            </a:r>
            <a:endParaRPr b="0" lang="en-US" sz="81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99640" y="2335320"/>
            <a:ext cx="734076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1.Местоположение Древней Индии.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2.Природные условия.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3.Животный мир в Индии.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3.Занятия жителей Древней Индии.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88" name="Picture 4" descr="ag00029_"/>
          <p:cNvPicPr/>
          <p:nvPr/>
        </p:nvPicPr>
        <p:blipFill>
          <a:blip r:embed="rId1"/>
          <a:stretch/>
        </p:blipFill>
        <p:spPr>
          <a:xfrm>
            <a:off x="324000" y="404640"/>
            <a:ext cx="1788840" cy="1511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7885080" y="6553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571680" y="1571760"/>
            <a:ext cx="4863960" cy="4860720"/>
          </a:xfrm>
          <a:prstGeom prst="rect">
            <a:avLst/>
          </a:prstGeom>
          <a:ln w="0">
            <a:noFill/>
          </a:ln>
        </p:spPr>
      </p:pic>
      <p:sp>
        <p:nvSpPr>
          <p:cNvPr id="91" name="WordArt 10"/>
          <p:cNvSpPr txBox="1"/>
          <p:nvPr/>
        </p:nvSpPr>
        <p:spPr>
          <a:xfrm>
            <a:off x="1116000" y="476280"/>
            <a:ext cx="71485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ическое положение Индии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435640" y="1341360"/>
            <a:ext cx="331308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на карте географические объекты: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олуостров Индостан</a:t>
            </a:r>
            <a:r>
              <a:rPr b="0" lang="ru-RU" sz="2400" spc="-1" strike="noStrike">
                <a:solidFill>
                  <a:srgbClr val="4fb1a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Arial"/>
              </a:rPr>
              <a:t>Индийский океан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Инд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Ганг</a:t>
            </a:r>
            <a:r>
              <a:rPr b="1" lang="ru-RU" sz="2400" spc="-1" strike="noStrike">
                <a:solidFill>
                  <a:srgbClr val="4fb1a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Гималаи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-4140360" y="1413000"/>
            <a:ext cx="7921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ндия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представляет собой огромный полуостров, почти материк. 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н отделен от всего окружающего мира </a:t>
            </a:r>
            <a:r>
              <a:rPr b="1" lang="ru-RU" sz="3200" spc="-1" strike="noStrike">
                <a:solidFill>
                  <a:srgbClr val="00cc99"/>
                </a:solidFill>
                <a:latin typeface="Arial"/>
              </a:rPr>
              <a:t>Индийским океаном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и величайшим в мире горным хребтом —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Гималаями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о земле Индии текут две великие реки 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– </a:t>
            </a:r>
            <a:r>
              <a:rPr b="0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Инд 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и</a:t>
            </a:r>
            <a:r>
              <a:rPr b="0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 Ганг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4"/>
          <a:stretch/>
        </p:blipFill>
        <p:spPr>
          <a:xfrm>
            <a:off x="810108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j0213508"/>
          <p:cNvPicPr/>
          <p:nvPr/>
        </p:nvPicPr>
        <p:blipFill>
          <a:blip r:embed="rId5"/>
          <a:stretch/>
        </p:blipFill>
        <p:spPr>
          <a:xfrm>
            <a:off x="7596360" y="191628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0208 0.00261 -0.0044 0.00157 -0.00625 C 0.00035 -0.00856 -0.0026 -0.00741 -0.00468 -0.00833 C -0.00694 -0.00949 -0.00885 -0.01111 -0.01093 -0.0125 C -0.06927 -0.01181 -0.12916 -0.02593 -0.18593 -0.00833 C -0.18784 -0.00787 -0.18889 -0.00509 -0.19062 -0.00417 C -0.20312 0.00208 -0.21701 0.00486 -0.22968 0.01042 C -0.2368 0.01366 -0.24462 0.0125 -0.25156 0.01667 C -0.25937 0.0213 -0.26927 0.03009 -0.27812 0.03125 C -0.31458 0.03588 -0.3 0.03333 -0.32187 0.0375 C -0.33246 0.05162 -0.32014 0.0375 -0.33281 0.04583 C -0.3401 0.05069 -0.34722 0.0588 -0.35312 0.06667 C -0.35607 0.08264 -0.3526 0.06736 -0.35937 0.08542 C -0.36354 0.09653 -0.36528 0.10926 -0.36875 0.12083 C -0.37257 0.15185 -0.37031 0.12917 -0.37031 0.18958 E">
                                      <p:cBhvr>
                                        <p:cTn id="7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70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69 0.06728 C -0.15191 0.05549 -0.17118 0.0504 -0.19532 0.04647 C -0.22396 0.04786 -0.25261 0.04809 -0.28125 0.05063 C -0.28733 0.0511 -0.30712 0.07399 -0.31407 0.07977 C -0.3224 0.0867 -0.33351 0.0911 -0.34063 0.10058 C -0.35695 0.12231 -0.36355 0.15399 -0.37969 0.17549 C -0.38195 0.18451 -0.38629 0.19191 -0.38907 0.20069 C -0.39653 0.22289 -0.3882 0.20532 -0.39532 0.21942 C -0.39636 0.22497 -0.39601 0.23121 -0.39844 0.23607 C -0.39948 0.23815 -0.40087 0.24 -0.40157 0.24231 C -0.40296 0.24624 -0.40382 0.25063 -0.40469 0.2548 C -0.40521 0.25757 -0.40539 0.26058 -0.40625 0.26312 C -0.40695 0.26543 -0.40868 0.26705 -0.40938 0.26936 C -0.41684 0.29156 -0.40851 0.27399 -0.41563 0.28809 C -0.42066 0.32162 -0.41719 0.29503 -0.41719 0.36925 E">
                                      <p:cBhvr>
                                        <p:cTn id="88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90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5.18519E-006 C -0.01058 -0.01874 -0.01371 -0.01527 -0.02812 -0.02499 C -0.03419 -0.02916 -0.04253 -0.03842 -0.04843 -0.04166 C -0.05243 -0.04397 -0.05676 -0.04421 -0.06093 -0.04583 C -0.06858 -0.0486 -0.07551 -0.05231 -0.0828 -0.05624 C -0.08593 -0.05786 -0.09219 -0.06041 -0.09219 -0.06041 C -0.1 -0.07083 -0.11285 -0.08819 -0.12344 -0.09166 C -0.13247 -0.10948 -0.12049 -0.08842 -0.13125 -0.09999 C -0.13264 -0.10161 -0.13299 -0.10439 -0.13438 -0.10624 C -0.14202 -0.11643 -0.1533 -0.12522 -0.15938 -0.13749 C -0.1625 -0.14374 -0.16702 -0.14907 -0.16875 -0.15624 C -0.17066 -0.16411 -0.1717 -0.17175 -0.175 -0.17916 C -0.17882 -0.18749 -0.18247 -0.19583 -0.18594 -0.20416 C -0.18872 -0.21087 -0.19132 -0.21226 -0.19375 -0.21874 C -0.19445 -0.2206 -0.19445 -0.22314 -0.19531 -0.22499 C -0.19653 -0.22754 -0.19861 -0.22893 -0.2 -0.23124 C -0.20452 -0.23842 -0.20834 -0.24675 -0.2125 -0.25416 C -0.21615 -0.26897 -0.21094 -0.25115 -0.21875 -0.26666 C -0.22483 -0.2787 -0.21459 -0.26782 -0.225 -0.27708 C -0.23281 -0.29259 -0.22275 -0.2736 -0.23281 -0.28958 C -0.24028 -0.30138 -0.23143 -0.28981 -0.23906 -0.30416 C -0.2441 -0.31365 -0.2533 -0.32384 -0.25625 -0.33541 C -0.25747 -0.34027 -0.25747 -0.3456 -0.25938 -0.34999 C -0.26216 -0.35647 -0.26823 -0.36319 -0.27188 -0.36874 C -0.27656 -0.37592 -0.2783 -0.38217 -0.28438 -0.38749 C -0.28542 -0.38958 -0.28611 -0.39212 -0.2875 -0.39374 C -0.28872 -0.39513 -0.29097 -0.39421 -0.29219 -0.39583 C -0.29341 -0.39745 -0.29306 -0.40022 -0.29375 -0.40208 C -0.29653 -0.40948 -0.29792 -0.40925 -0.30313 -0.41458 C -0.3066 -0.42847 -0.31632 -0.43911 -0.32656 -0.44374 C -0.34011 -0.44305 -0.37847 -0.45161 -0.36719 -0.44166 C -0.35469 -0.43055 -0.32188 -0.43958 -0.32188 -0.43958 E">
                                      <p:cBhvr>
                                        <p:cTn id="91" dur="2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9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39 -0.00579 -0.00069 -0.0081 -0.00625 -0.00833 C -0.03073 -0.00972 -0.05521 -0.00972 -0.07968 -0.01042 C -0.09427 -0.0169 -0.1085 -0.02199 -0.12343 -0.02708 C -0.13073 -0.0294 -0.13802 -0.03495 -0.14531 -0.0375 C -0.1526 -0.04005 -0.16007 -0.04097 -0.16718 -0.04375 C -0.20399 -0.05833 -0.17309 -0.05185 -0.2 -0.05625 C -0.22725 -0.06829 -0.18837 -0.05208 -0.22187 -0.0625 C -0.23802 -0.06759 -0.25399 -0.07477 -0.27031 -0.07917 C -0.27795 -0.08588 -0.29687 -0.08958 -0.29687 -0.08958 C -0.31458 -0.10532 -0.3375 -0.10116 -0.35781 -0.10417 C -0.3651 -0.10741 -0.36996 -0.11065 -0.37656 -0.11458 C -0.38107 -0.11736 -0.38646 -0.11713 -0.39062 -0.12083 C -0.39218 -0.12222 -0.39357 -0.12407 -0.39531 -0.125 C -0.40243 -0.12847 -0.40208 -0.12523 -0.40781 -0.12917 C -0.41996 -0.13727 -0.40538 -0.13009 -0.41718 -0.13542 C -0.43541 -0.13264 -0.43125 -0.13958 -0.43125 -0.11667 E">
                                      <p:cBhvr>
                                        <p:cTn id="104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4097 -0.00162 -0.03715 0.00162 -0.06093 -0.00625 C -0.06614 -0.01088 -0.07118 -0.01088 -0.07656 -0.01458 C -0.08802 -0.02222 -0.10034 -0.02431 -0.11093 -0.03125 C -0.11302 -0.03264 -0.11493 -0.03472 -0.11718 -0.03542 C -0.12274 -0.03681 -0.12864 -0.03681 -0.13437 -0.0375 C -0.15955 -0.04861 -0.19271 -0.0412 -0.22031 -0.04375 C -0.22743 -0.05787 -0.23194 -0.0713 -0.23593 -0.0875 C -0.23698 -0.09167 -0.23784 -0.09699 -0.24062 -0.1 C -0.24184 -0.10139 -0.24531 -0.10208 -0.24531 -0.10208 E">
                                      <p:cBhvr>
                                        <p:cTn id="107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5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3851280" y="3141720"/>
            <a:ext cx="5041800" cy="33829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324000" y="404640"/>
            <a:ext cx="475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ИМАЛАИ: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ЮТСЯ ЕСТЕСТВЕННОЙ ЗАЩИТОЙ ИНДИИ ОТ НАПАДЕНИЙ ВРАГОВ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ГРАЖДАЮТ ПУТЬ ХОЛОДНЫМ ВЕТРАМ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ЮТСЯ САМОЙ ВЫСОКОЙ ГОРНОЙ СИСТЕМОЙ В МИРЕ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ВЕРОВАНИЯМ ИНДИЙЦЕВ НА ГИМАЛАЯХ ЖИЛИ БОГИ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" descr=""/>
          <p:cNvPicPr/>
          <p:nvPr/>
        </p:nvPicPr>
        <p:blipFill>
          <a:blip r:embed="rId2"/>
          <a:stretch/>
        </p:blipFill>
        <p:spPr>
          <a:xfrm>
            <a:off x="4211640" y="3500280"/>
            <a:ext cx="459252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920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1" descr=""/>
          <p:cNvPicPr/>
          <p:nvPr/>
        </p:nvPicPr>
        <p:blipFill>
          <a:blip r:embed="rId1"/>
          <a:stretch/>
        </p:blipFill>
        <p:spPr>
          <a:xfrm>
            <a:off x="6480" y="0"/>
            <a:ext cx="3046320" cy="2273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3" descr=""/>
          <p:cNvPicPr/>
          <p:nvPr/>
        </p:nvPicPr>
        <p:blipFill>
          <a:blip r:embed="rId2"/>
          <a:stretch/>
        </p:blipFill>
        <p:spPr>
          <a:xfrm>
            <a:off x="3851280" y="4292640"/>
            <a:ext cx="163656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"/>
          <p:cNvPicPr/>
          <p:nvPr/>
        </p:nvPicPr>
        <p:blipFill>
          <a:blip r:embed="rId3"/>
          <a:stretch/>
        </p:blipFill>
        <p:spPr>
          <a:xfrm>
            <a:off x="5943600" y="0"/>
            <a:ext cx="3197160" cy="2173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"/>
          <p:cNvPicPr/>
          <p:nvPr/>
        </p:nvPicPr>
        <p:blipFill>
          <a:blip r:embed="rId4"/>
          <a:stretch/>
        </p:blipFill>
        <p:spPr>
          <a:xfrm>
            <a:off x="5873760" y="4292640"/>
            <a:ext cx="2612880" cy="177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" descr=""/>
          <p:cNvPicPr/>
          <p:nvPr/>
        </p:nvPicPr>
        <p:blipFill>
          <a:blip r:embed="rId5"/>
          <a:stretch/>
        </p:blipFill>
        <p:spPr>
          <a:xfrm>
            <a:off x="471600" y="4221000"/>
            <a:ext cx="2836800" cy="20116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2408760" y="763560"/>
            <a:ext cx="5109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етвях деревьев гнездились,       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мели, порхали и п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тицы лесные, и всюду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икой глуши попадалис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кабан, то шакал, то буйвол,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рысь, то пантера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ветлая влага кипела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ом рыб, крокодилов и змей...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.. и ветви обвивши хвостами,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криком качались на них обезьяны,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учьям деревьев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зали, перьями ярко блестя, попугаи...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8151840" y="658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7:30:54Z</dcterms:created>
  <dc:creator>ПРИЛУКОВЫ</dc:creator>
  <dc:description/>
  <dc:language>en-US</dc:language>
  <cp:lastModifiedBy>user</cp:lastModifiedBy>
  <dcterms:modified xsi:type="dcterms:W3CDTF">2011-12-18T11:04:04Z</dcterms:modified>
  <cp:revision>60</cp:revision>
  <dc:subject/>
  <dc:title>Слайд 1</dc:title>
</cp:coreProperties>
</file>