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D9CC-9640-4D9C-BF87-9682B0F2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7D4-7BD4-4F3F-924C-D9B43240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AD9-D877-4353-A939-426AC4AD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36D-5D41-4F03-B99B-3B0BE14C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AB47F-0417-4243-B0C5-E513F250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9280E-DDA0-4BFD-88F6-0231D599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F866B-0040-4D86-8AC2-E0BBE9E9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7F261-C152-4506-A741-CD9768D4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02F46-6EFA-4E7A-90CB-D1A1DB94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0073F-CA84-4755-9E4D-921F9EE5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48D07-9A5A-470A-B347-5A46BCED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303-8999-49EF-9036-BF8CBF4C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F4CCA-0554-466C-AFAC-2137CFB6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1B86B-F281-49DF-A506-9214A8E0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34E79-306D-4A91-8276-BC17485D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61D92-3EE2-43EA-B54A-28C2CE30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43583-1494-4E2A-90BE-7333D362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704-62EF-4FB8-A800-3B6F775F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533-4727-405E-8D2F-71C73F64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20E-2FE0-4423-8B60-5538FF83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9D04-0DE8-4D3A-8990-A1F80CC3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7749-989A-4B02-97F6-F213E486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B8A-E9EE-42BA-A55E-77FCFD49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BF0-8D48-41E0-8F12-BE167F23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CE0F-8EDD-4EA1-9ADB-355674385A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442B-C4ED-4B7F-81D5-E3965588F9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547640" y="1484280"/>
            <a:ext cx="6421680" cy="377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ЛОЖЕНИЕ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РЖЕ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419640" y="2781360"/>
            <a:ext cx="5724360" cy="407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539640" y="260280"/>
            <a:ext cx="799308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50000">
                      <a:srgbClr val="5e9eff"/>
                    </a:gs>
                    <a:gs pos="100000">
                      <a:srgbClr val="ffebfa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РСКОЕ ДИКОЕ ЖИВОТ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50000">
                    <a:srgbClr val="5e9eff"/>
                  </a:gs>
                  <a:gs pos="100000">
                    <a:srgbClr val="ffebfa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58327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 rot="5400000">
            <a:off x="-2341080" y="2925000"/>
            <a:ext cx="6264360" cy="93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АРУШ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 rot="5400000">
            <a:off x="4908960" y="2975760"/>
            <a:ext cx="6742080" cy="79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ВГЕНИЙ ИВАНОВИ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79480" y="49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33360"/>
            <a:ext cx="8640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«То, что производило на меня большое впечатление в детстве, — говорил Чарушин, — волнует и сейчас. Я хочу понять животное, передать его повадку, характер движения. Меня интересует его мех. Когда ребёнок хочет погладить моего зверёнка — я рад. Мне хочется передать настроение животного, испуг, радость, сон и т.п. Больше всего я люблю изображать молодых животных, трогательных и интересных, потому что в них уже угадывается взрослый звер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4000" y="47628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НИГИ Е. И. ЧАРУШ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2484360" cy="3527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859280" y="1125360"/>
            <a:ext cx="2286000" cy="3476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340000" y="3257640"/>
            <a:ext cx="2449440" cy="3600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7054920" y="3905280"/>
            <a:ext cx="2089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95280" y="189000"/>
            <a:ext cx="8497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РН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808200" y="1284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410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Ы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уб, который сильно разросся. У моржей, слонов он выступает наруж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ЩЕТИНИСТ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 слова щетина  (жёсткий, подобный щетин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ечность водных животных, пальцы которых соединены кожной перепонк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ДОВО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олько хочешь, досы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619280" y="263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187280" y="260280"/>
            <a:ext cx="6626520" cy="40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03280" y="1484280"/>
            <a:ext cx="5977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ВНЕШНИЙ ВИД МОРЖ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03280" y="2708280"/>
            <a:ext cx="6193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ПОВЕДЕНИЕ ЖИВОТНОГО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47640" y="3860640"/>
            <a:ext cx="5975640" cy="2997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700360" y="404640"/>
            <a:ext cx="345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АН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2492280"/>
            <a:ext cx="75596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4:30:53Z</dcterms:created>
  <dc:creator>User</dc:creator>
  <dc:description/>
  <dc:language>en-US</dc:language>
  <cp:lastModifiedBy>User</cp:lastModifiedBy>
  <dcterms:modified xsi:type="dcterms:W3CDTF">2001-12-31T22:19:05Z</dcterms:modified>
  <cp:revision>3</cp:revision>
  <dc:subject/>
  <dc:title>Слайд 1</dc:title>
</cp:coreProperties>
</file>