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8D8-CF8C-43D7-B021-96F4934E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2BB-5196-40CE-88DC-F37FE085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6D5-8920-4A0D-B20E-D921F64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E1F-2A2D-4E06-94E7-0020B307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A4D3B-E8FD-4B57-B3C3-A6A51132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195FB-A002-4AAC-89E8-9077EC99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E036B-142E-42E9-9E67-5EDBD42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434A-998E-486C-9D3D-C5BAD476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E9B5-6437-4B77-846F-1A20C1C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FB3A6-DEAF-4354-AFE7-8E2307B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B6ED-360E-4DA1-A79D-E06FA238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C25-83C3-4CAC-A96F-DEB4D9E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13093-BFD2-4E3F-9621-A8B321B0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51CB-F1BF-4F4E-9BF6-4BABA72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6209B-6C47-45A2-9172-7E6D8DEF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207CE-F6EC-4DC6-A55E-7F368D15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F8CF-4476-4592-92F7-940D092D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8C7-6B15-4C17-82D3-6643709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751-35E0-469A-9724-DAFEECD7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DE7-43C6-4AB1-A7FB-4D49F65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4E4-EBE9-4835-8A56-81D681E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6C6-5F89-4C22-AF17-3B97DC9A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FE4-81F8-43E3-BB83-0DC8D8FE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540-2F48-4D8E-A373-5F50C4BE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AD3-EED8-4758-B30C-A31A3DBA5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2A84-006D-4EEF-80BE-E4E1804D50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47640" y="1484280"/>
            <a:ext cx="642168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ЛОЖЕНИ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Ж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39640" y="260280"/>
            <a:ext cx="79930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СКОЕ ДИКОЕ ЖИВО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832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 rot="5400000">
            <a:off x="-2341080" y="2925000"/>
            <a:ext cx="626436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РУШ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4908960" y="2975760"/>
            <a:ext cx="674208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ВГЕНИЙ ИВАН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79480" y="49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33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То, что производило на меня большое впечатление в детстве, — говорил Чарушин, — волнует и сейчас. Я хочу понять животное, передать его повадку, характер движения. Меня интересует его мех. Когда ребёнок хочет погладить моего зверёнка — я рад. Мне хочется передать настроение животного, испуг, радость, сон и т.п. Больше всего я люблю изображать молодых животных, трогательных и интересных, потому что в них уже угадывается взрослый звер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476280"/>
            <a:ext cx="842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НИГИ Е. И. ЧАРУШ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484360" cy="352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2286000" cy="347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340000" y="3257640"/>
            <a:ext cx="2449440" cy="36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7054920" y="390528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89000"/>
            <a:ext cx="8497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808200" y="1284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397160"/>
          <a:ext cx="6096240" cy="4410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уб, который сильно разросся. У моржей, слонов он выступает наруж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ЩЕТИНИСТ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слова щетина  (жёсткий, подобный щетин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ечность водных животных, пальцы которых соединены кожной перепонк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ОВ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олько хочешь, дос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61928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187280" y="260280"/>
            <a:ext cx="662652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1484280"/>
            <a:ext cx="597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ВНЕШНИЙ ВИД МОРЖ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3280" y="2708280"/>
            <a:ext cx="6193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ПОВЕДЕНИЕ ЖИВОТНОГ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5975640" cy="299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700360" y="404640"/>
            <a:ext cx="345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2492280"/>
            <a:ext cx="75596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30:53Z</dcterms:created>
  <dc:creator>User</dc:creator>
  <dc:description/>
  <dc:language>en-US</dc:language>
  <cp:lastModifiedBy>User</cp:lastModifiedBy>
  <dcterms:modified xsi:type="dcterms:W3CDTF">2001-12-31T22:19:05Z</dcterms:modified>
  <cp:revision>3</cp:revision>
  <dc:subject/>
  <dc:title>Слайд 1</dc:title>
</cp:coreProperties>
</file>