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image13.png" ContentType="image/png"/>
  <Override PartName="/ppt/media/image6.png" ContentType="image/png"/>
  <Override PartName="/ppt/media/image7.png" ContentType="image/pn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622-5304-4467-BFA2-77957206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451-B243-45D2-B34C-FADF6DD3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423-B8BF-4416-A0FC-4FDCDD37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472-4F23-4C36-9CB4-6DFC5161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505-C4BF-427F-8E65-2620AD6E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B82E-A6D8-4778-948C-B3B2A355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96D2-09CB-4B1B-A904-05879727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5EC3-B341-4259-BCF5-611CADF2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0FB5-DD4C-4B23-916A-C44DED0D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BD3E-7A81-49D7-B1CC-07452A98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B16-9728-4D32-9468-6A8AEE81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C542-5260-4C75-8AF9-4FE14ACC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F5EB-C533-41F3-B105-01F1D480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C6E3-9E4E-4B62-90F9-15ECB2A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3595-9D86-436D-9EF7-7DF5EABB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BA1E-375B-4260-A92C-6812E8E9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3C2A-86B3-4BE3-98C8-221A746C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3781-AA12-44F3-BDD0-D2BC5BA2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5904-A447-4584-B6B8-2AB04B0A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0C69-F273-4B5F-A79B-61761597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8558-3AC4-47CC-9CF6-5F7F0E53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8F2-D521-4834-949A-7566CD1E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0F15-A23A-43E9-AC1E-32EF03E8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829B-3A05-471B-918E-1F6C812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9999-A7C5-4CD5-8BAE-9694F07A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6374-B1D5-4E42-8393-5E0E1734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DDDF-984D-4025-BC3F-C0D43DC5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E3B2-2102-403B-ADC7-545BB73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E03C-C2DA-41F4-8340-9EF3D1BD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E768-12B1-4F45-8314-0051A319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3024-DDCD-4F0F-8DD4-19F29CD2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2EFCB-089A-4D43-BFC8-A3BA0D40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ED2-2A5A-4A3A-9944-251AF701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F25F-47AC-40D8-9FD1-758A4DE9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96D86-20AA-49F9-AC3A-5F389798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DA19-C77E-4101-88DC-02220817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B07D3-157E-4DE5-9AA6-8DBAC08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D901-4ED2-4F15-A9B6-0F5663C0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3F922-167A-4C23-AE2C-EDC0E4E9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CF09-685A-4D82-886F-A9B70A7A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5FF7-DC61-4659-87B0-EA306185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2A8F5-7316-4363-AC34-8BA5B59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FF80-1700-4220-A83E-7B2BEFE3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06560" y="264600"/>
            <a:ext cx="7130880" cy="50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1E9-BF74-40FE-8F38-C54CC6E4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41748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28400" y="157284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00656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41748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28400" y="3736080"/>
            <a:ext cx="229572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5D16E-BAF9-47AC-AAD3-065F2058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A39-4BAB-4C82-9B74-30C8DD31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0560" y="373608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3FB-79C0-414D-A99F-8CBEBF8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6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560" y="1572840"/>
            <a:ext cx="34797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6560" y="3736080"/>
            <a:ext cx="7130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FA0-1F81-4F44-A7A5-01B76E1C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Вода3"/>
          <p:cNvGrpSpPr/>
          <p:nvPr/>
        </p:nvGrpSpPr>
        <p:grpSpPr>
          <a:xfrm>
            <a:off x="-6480" y="6059520"/>
            <a:ext cx="9156960" cy="804960"/>
            <a:chOff x="-6480" y="6059520"/>
            <a:chExt cx="9156960" cy="804960"/>
          </a:xfrm>
        </p:grpSpPr>
        <p:pic>
          <p:nvPicPr>
            <p:cNvPr id="2" name="Вода3" descr=""/>
            <p:cNvPicPr/>
            <p:nvPr/>
          </p:nvPicPr>
          <p:blipFill>
            <a:blip r:embed="rId2"/>
            <a:stretch/>
          </p:blipFill>
          <p:spPr>
            <a:xfrm>
              <a:off x="-6480" y="6059520"/>
              <a:ext cx="9156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6064200"/>
              <a:ext cx="9142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Вода1" descr=""/>
          <p:cNvPicPr/>
          <p:nvPr/>
        </p:nvPicPr>
        <p:blipFill>
          <a:blip r:embed="rId4"/>
          <a:stretch/>
        </p:blipFill>
        <p:spPr>
          <a:xfrm>
            <a:off x="-6480" y="5973840"/>
            <a:ext cx="9150480" cy="280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8738-0230-4250-8F6C-9B70713AAB21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Вода3"/>
          <p:cNvGrpSpPr/>
          <p:nvPr/>
        </p:nvGrpSpPr>
        <p:grpSpPr>
          <a:xfrm>
            <a:off x="-6480" y="5237280"/>
            <a:ext cx="9156960" cy="1627200"/>
            <a:chOff x="-6480" y="5237280"/>
            <a:chExt cx="9156960" cy="1627200"/>
          </a:xfrm>
        </p:grpSpPr>
        <p:pic>
          <p:nvPicPr>
            <p:cNvPr id="48" name="Вода3" descr=""/>
            <p:cNvPicPr/>
            <p:nvPr/>
          </p:nvPicPr>
          <p:blipFill>
            <a:blip r:embed="rId2"/>
            <a:stretch/>
          </p:blipFill>
          <p:spPr>
            <a:xfrm>
              <a:off x="-6480" y="5237280"/>
              <a:ext cx="915696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440" y="5243400"/>
              <a:ext cx="9142560" cy="16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Небо"/>
          <p:cNvSpPr/>
          <p:nvPr/>
        </p:nvSpPr>
        <p:spPr>
          <a:xfrm>
            <a:off x="1440" y="0"/>
            <a:ext cx="9142560" cy="533412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5497560"/>
            <a:ext cx="91422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Вода1" descr=""/>
          <p:cNvPicPr/>
          <p:nvPr/>
        </p:nvPicPr>
        <p:blipFill>
          <a:blip r:embed="rId4"/>
          <a:stretch/>
        </p:blipFill>
        <p:spPr>
          <a:xfrm>
            <a:off x="-6480" y="5211720"/>
            <a:ext cx="9150480" cy="28116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4"/>
          <p:cNvGrpSpPr/>
          <p:nvPr/>
        </p:nvGrpSpPr>
        <p:grpSpPr>
          <a:xfrm>
            <a:off x="-6480" y="5956200"/>
            <a:ext cx="9150480" cy="908280"/>
            <a:chOff x="-6480" y="5956200"/>
            <a:chExt cx="9150480" cy="908280"/>
          </a:xfrm>
        </p:grpSpPr>
        <p:pic>
          <p:nvPicPr>
            <p:cNvPr id="5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-6480" y="5956200"/>
              <a:ext cx="915048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-1440" y="5961240"/>
              <a:ext cx="91422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B23C-ED92-47D0-8840-777CEBD0F582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0"/>
                </a:srgbClr>
              </a:gs>
              <a:gs pos="100000">
                <a:srgbClr val="d4ebf1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656400" y="6602040"/>
            <a:ext cx="720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1006200" y="6602040"/>
            <a:ext cx="53686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657920" y="6602040"/>
            <a:ext cx="47916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547E-EBBD-4B56-A753-1AFA96728F0D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ебо"/>
          <p:cNvSpPr/>
          <p:nvPr/>
        </p:nvSpPr>
        <p:spPr>
          <a:xfrm>
            <a:off x="144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7dc2d6">
                  <a:alpha val="65098"/>
                </a:srgbClr>
              </a:gs>
              <a:gs pos="100000">
                <a:srgbClr val="d4ebf1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296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Вода3"/>
          <p:cNvGrpSpPr/>
          <p:nvPr/>
        </p:nvGrpSpPr>
        <p:grpSpPr>
          <a:xfrm>
            <a:off x="-6480" y="6059520"/>
            <a:ext cx="9156960" cy="804960"/>
            <a:chOff x="-6480" y="6059520"/>
            <a:chExt cx="9156960" cy="804960"/>
          </a:xfrm>
        </p:grpSpPr>
        <p:pic>
          <p:nvPicPr>
            <p:cNvPr id="180" name="Вода3" descr=""/>
            <p:cNvPicPr/>
            <p:nvPr/>
          </p:nvPicPr>
          <p:blipFill>
            <a:blip r:embed="rId2"/>
            <a:stretch/>
          </p:blipFill>
          <p:spPr>
            <a:xfrm>
              <a:off x="-6480" y="6059520"/>
              <a:ext cx="9156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440" y="6064200"/>
              <a:ext cx="9142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Вода2" descr=""/>
          <p:cNvPicPr/>
          <p:nvPr/>
        </p:nvPicPr>
        <p:blipFill>
          <a:blip r:embed="rId3"/>
          <a:srcRect l="2673" t="0" r="9903" b="0"/>
          <a:stretch/>
        </p:blipFill>
        <p:spPr>
          <a:xfrm>
            <a:off x="-1440" y="6256440"/>
            <a:ext cx="9142200" cy="463320"/>
          </a:xfrm>
          <a:prstGeom prst="rect">
            <a:avLst/>
          </a:prstGeom>
          <a:ln w="0">
            <a:noFill/>
          </a:ln>
        </p:spPr>
      </p:pic>
      <p:pic>
        <p:nvPicPr>
          <p:cNvPr id="183" name="Вода1" descr=""/>
          <p:cNvPicPr/>
          <p:nvPr/>
        </p:nvPicPr>
        <p:blipFill>
          <a:blip r:embed="rId4"/>
          <a:stretch/>
        </p:blipFill>
        <p:spPr>
          <a:xfrm>
            <a:off x="-6480" y="5973840"/>
            <a:ext cx="9150480" cy="280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6560" y="264600"/>
            <a:ext cx="71308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b4855"/>
                </a:solidFill>
                <a:latin typeface="Georgia"/>
              </a:rPr>
              <a:t>Click to edit the title text format</a:t>
            </a:r>
            <a:endParaRPr b="0" lang="en-US" sz="38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006560" y="1572840"/>
            <a:ext cx="71308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1" marL="54756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4" marL="137160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5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lvl="6" marL="1371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6d7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D68D-B9EE-452B-A845-1BA79C0290E2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arusya22.ucoz.ru/_ph/7/368319968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arusya22.ucoz.ru/_ph/7/368319968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5880" y="762120"/>
            <a:ext cx="253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69880" y="685800"/>
            <a:ext cx="514368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5880" y="3554280"/>
            <a:ext cx="253224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69520" y="685800"/>
            <a:ext cx="8217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86d7f"/>
                </a:solidFill>
                <a:latin typeface="Georgia"/>
              </a:rPr>
              <a:t>Он чрезвычайно разнообразен. На севере он, исключительно холодный, а на юге - жаркий, по восточным и юго-восточным окраинам преимущественно влажный, а в центральных районах - засушливый. 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15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308" name="Picture 8" descr="NOSOLUTN"/>
          <p:cNvPicPr/>
          <p:nvPr/>
        </p:nvPicPr>
        <p:blipFill>
          <a:blip r:embed="rId1"/>
          <a:stretch/>
        </p:blipFill>
        <p:spPr>
          <a:xfrm>
            <a:off x="0" y="3736800"/>
            <a:ext cx="321480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5520" y="1928520"/>
            <a:ext cx="73580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b4855"/>
                </a:solidFill>
                <a:latin typeface="Century Schoolbook"/>
              </a:rPr>
              <a:t>Тема: Климат</a:t>
            </a:r>
            <a:endParaRPr b="0" lang="en-US" sz="60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79560" y="4038480"/>
            <a:ext cx="7200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2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691aa"/>
              </a:solidFill>
              <a:latin typeface="Georgia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5651640" y="549360"/>
            <a:ext cx="302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c51"/>
                </a:solidFill>
                <a:latin typeface="Arial"/>
              </a:rPr>
              <a:t>4.03.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979560" y="4038480"/>
            <a:ext cx="7200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2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3691aa"/>
              </a:solidFill>
              <a:latin typeface="Georgia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357120" y="928800"/>
            <a:ext cx="8358120" cy="46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формировать представление о климате, его  влиянии на природу и жизнь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развивать умения анализировать диаграммы,  графики температур, описывать по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2000160" y="357120"/>
            <a:ext cx="54295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Цели занят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714480" y="785880"/>
            <a:ext cx="5143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Определите, какой тип погоды преобладал в г. Москве в январе?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marL="501480" indent="-4572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Чем погода января 1969 года отличалась от погоды января 1971 года?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marL="501480" indent="-4572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286d7f"/>
                </a:solidFill>
                <a:latin typeface="Georgia"/>
              </a:rPr>
              <a:t>Что общего между типами погоды января 1969, 1971 года и средней многолетней  погодой января в Москве?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316" name="Рисунок 4" descr="C:\Users\0B03~1\AppData\Local\Temp\FineReader11\media\image1.jpeg"/>
          <p:cNvPicPr/>
          <p:nvPr/>
        </p:nvPicPr>
        <p:blipFill>
          <a:blip r:embed="rId1"/>
          <a:srcRect l="10160" t="9376" r="50003" b="7288"/>
          <a:stretch/>
        </p:blipFill>
        <p:spPr>
          <a:xfrm>
            <a:off x="0" y="0"/>
            <a:ext cx="3643200" cy="57150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450072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5"/>
          <p:cNvSpPr/>
          <p:nvPr/>
        </p:nvSpPr>
        <p:spPr>
          <a:xfrm>
            <a:off x="1071720" y="214200"/>
            <a:ext cx="6858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Годовой ход температур в Тарасовском районе в 2012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Содержимое 5" descr=""/>
          <p:cNvPicPr/>
          <p:nvPr/>
        </p:nvPicPr>
        <p:blipFill>
          <a:blip r:embed="rId1"/>
          <a:stretch/>
        </p:blipFill>
        <p:spPr>
          <a:xfrm>
            <a:off x="560520" y="1133640"/>
            <a:ext cx="8022960" cy="54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Содержимое 4" descr="http://www.actravel.ru/img/tahiti_precipitation_year_graph.gif"/>
          <p:cNvPicPr/>
          <p:nvPr/>
        </p:nvPicPr>
        <p:blipFill>
          <a:blip r:embed="rId1"/>
          <a:srcRect l="0" t="0" r="0" b="6250"/>
          <a:stretch/>
        </p:blipFill>
        <p:spPr>
          <a:xfrm>
            <a:off x="357120" y="142920"/>
            <a:ext cx="835812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5880" y="762120"/>
            <a:ext cx="253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322" name="Содержимое 4" descr="20770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850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5880" y="3554280"/>
            <a:ext cx="253224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324" name="скворец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87694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http://im0-tub-ru.yandex.net/i?id=79872855-05-72&amp;n=21"/>
          <p:cNvPicPr/>
          <p:nvPr/>
        </p:nvPicPr>
        <p:blipFill>
          <a:blip r:embed="rId1"/>
          <a:stretch/>
        </p:blipFill>
        <p:spPr>
          <a:xfrm>
            <a:off x="7286760" y="142920"/>
            <a:ext cx="1695240" cy="14288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солнышко"/>
          <p:cNvPicPr/>
          <p:nvPr/>
        </p:nvPicPr>
        <p:blipFill>
          <a:blip r:embed="rId2"/>
          <a:stretch/>
        </p:blipFill>
        <p:spPr>
          <a:xfrm>
            <a:off x="0" y="0"/>
            <a:ext cx="1417680" cy="1500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569520" y="685800"/>
            <a:ext cx="8217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lnSpc>
                <a:spcPct val="80000"/>
              </a:lnSpc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Физминутка «Шум дождя»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6d7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Дождь начинается  -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потираем ладоши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451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Дождь идет сильнее –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хлопаем в ладоши;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451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Дождь идет ещё сильнее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– хлопки по передней части ног;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451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Начался ливень –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топаем ногами;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>
              <a:lnSpc>
                <a:spcPct val="90000"/>
              </a:lnSpc>
              <a:spcBef>
                <a:spcPts val="1800"/>
              </a:spcBef>
              <a:buClr>
                <a:srgbClr val="451b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451b34"/>
                </a:solidFill>
                <a:latin typeface="Georgia"/>
              </a:rPr>
              <a:t>Дождь постепенно утихает – </a:t>
            </a:r>
            <a:r>
              <a:rPr b="0" lang="ru-RU" sz="2800" spc="-1" strike="noStrike">
                <a:solidFill>
                  <a:srgbClr val="451b34"/>
                </a:solidFill>
                <a:latin typeface="Georgia"/>
              </a:rPr>
              <a:t>повторяется всё в обратном порядке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328" name="Picture 4" descr="веселое солнышко"/>
          <p:cNvPicPr/>
          <p:nvPr/>
        </p:nvPicPr>
        <p:blipFill>
          <a:blip r:embed="rId3"/>
          <a:stretch/>
        </p:blipFill>
        <p:spPr>
          <a:xfrm>
            <a:off x="7286760" y="5124600"/>
            <a:ext cx="1714320" cy="1533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http://im0-tub-ru.yandex.net/i?id=312696240-09-72&amp;n=21"/>
          <p:cNvPicPr/>
          <p:nvPr/>
        </p:nvPicPr>
        <p:blipFill>
          <a:blip r:embed="rId4"/>
          <a:stretch/>
        </p:blipFill>
        <p:spPr>
          <a:xfrm>
            <a:off x="285840" y="5286240"/>
            <a:ext cx="12189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8" descr="http://www.detmir.ru/proxy/cache/600x600/fe5ac461eb08bf8fdc56f20603b55a4a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071800" y="1428840"/>
            <a:ext cx="4357440" cy="4667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0" y="642960"/>
            <a:ext cx="2786040" cy="4141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http://www.conspirology.org/ru/wp-content/uploads/2009/10/02.jpg"/>
          <p:cNvPicPr/>
          <p:nvPr/>
        </p:nvPicPr>
        <p:blipFill>
          <a:blip r:embed="rId3"/>
          <a:srcRect l="8571" t="0" r="3571" b="7559"/>
          <a:stretch/>
        </p:blipFill>
        <p:spPr>
          <a:xfrm>
            <a:off x="5929200" y="142920"/>
            <a:ext cx="3214800" cy="2960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http://www.tribuna.ru/upload/iblock/5f7/5f7cd8385b562debfca6503f43931cf9.jpg"/>
          <p:cNvPicPr/>
          <p:nvPr/>
        </p:nvPicPr>
        <p:blipFill>
          <a:blip r:embed="rId4"/>
          <a:srcRect l="0" t="11049" r="10548" b="0"/>
          <a:stretch/>
        </p:blipFill>
        <p:spPr>
          <a:xfrm>
            <a:off x="5857920" y="3929040"/>
            <a:ext cx="317196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28440" y="1928880"/>
            <a:ext cx="742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6d7f"/>
                </a:solidFill>
                <a:latin typeface="Georgia"/>
              </a:rPr>
              <a:t>Что нового узнали на уроке?</a:t>
            </a: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6d7f"/>
                </a:solidFill>
                <a:latin typeface="Georgia"/>
              </a:rPr>
              <a:t>Чему научились?</a:t>
            </a: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6d7f"/>
                </a:solidFill>
                <a:latin typeface="Georgia"/>
              </a:rPr>
              <a:t>Какие были трудности?</a:t>
            </a: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86d7f"/>
                </a:solidFill>
                <a:latin typeface="Georgia"/>
              </a:rPr>
              <a:t>Что хотели бы узнать дополнительно?</a:t>
            </a: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  <a:p>
            <a:pPr marL="272880" indent="-228600" algn="ctr">
              <a:lnSpc>
                <a:spcPct val="90000"/>
              </a:lnSpc>
              <a:spcBef>
                <a:spcPts val="1800"/>
              </a:spcBef>
              <a:buClr>
                <a:srgbClr val="286d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928800" y="285840"/>
            <a:ext cx="7143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51b34"/>
                </a:solidFill>
                <a:latin typeface="Arial"/>
              </a:rPr>
              <a:t>Итак, подведем итоги нашего за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071800" y="533520"/>
            <a:ext cx="6438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4855"/>
                </a:solidFill>
                <a:latin typeface="Georgia"/>
              </a:rPr>
              <a:t>Строение атмосферы</a:t>
            </a:r>
            <a:endParaRPr b="0" lang="en-US" sz="32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92360" y="-702000"/>
            <a:ext cx="611352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Назовите процентное содержание каждого газа в составе атмосферы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0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050920" y="2873520"/>
            <a:ext cx="322128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Азот -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442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Кислород - 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  <a:p>
            <a:pPr marL="442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Примеси газов - </a:t>
            </a:r>
            <a:r>
              <a:rPr b="0" lang="ru-RU" sz="2800" spc="-1" strike="noStrike">
                <a:solidFill>
                  <a:srgbClr val="286d7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286d7f"/>
              </a:solidFill>
              <a:latin typeface="Georgia"/>
            </a:endParaRPr>
          </a:p>
        </p:txBody>
      </p:sp>
      <p:pic>
        <p:nvPicPr>
          <p:cNvPr id="236" name="Picture 8" descr="NOSOLUTN"/>
          <p:cNvPicPr/>
          <p:nvPr/>
        </p:nvPicPr>
        <p:blipFill>
          <a:blip r:embed="rId1"/>
          <a:stretch/>
        </p:blipFill>
        <p:spPr>
          <a:xfrm>
            <a:off x="6988320" y="3774960"/>
            <a:ext cx="2396880" cy="24544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9"/>
          <p:cNvSpPr/>
          <p:nvPr/>
        </p:nvSpPr>
        <p:spPr>
          <a:xfrm>
            <a:off x="5600880" y="2994120"/>
            <a:ext cx="194292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69880" y="685800"/>
            <a:ext cx="800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ff0000"/>
                </a:solidFill>
                <a:uFillTx/>
                <a:latin typeface="Georgia"/>
              </a:rPr>
              <a:t>Домашнее задание</a:t>
            </a:r>
            <a:r>
              <a:rPr b="0" lang="ru-RU" sz="5000" spc="-1" strike="noStrike">
                <a:solidFill>
                  <a:srgbClr val="286d7f"/>
                </a:solidFill>
                <a:latin typeface="Georgia"/>
              </a:rPr>
              <a:t>: §43, описать диаграмму №2 на стр.130</a:t>
            </a:r>
            <a:endParaRPr b="0" lang="en-US" sz="5000" spc="-1" strike="noStrike">
              <a:solidFill>
                <a:srgbClr val="286d7f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85480" y="1071360"/>
            <a:ext cx="86439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286d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Дождь, град, иней, бриз, снег;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286d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Абсолютная влажность, насыщенный воздух, стратосфера, относительная влажность;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286d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Барометр, осадкомер, муссон, гигрометр;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286d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Бриз, дождь, муссон, ветер.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39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одержимое 3"/>
          <p:cNvSpPr/>
          <p:nvPr/>
        </p:nvSpPr>
        <p:spPr>
          <a:xfrm>
            <a:off x="2714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одержимое 3"/>
          <p:cNvSpPr/>
          <p:nvPr/>
        </p:nvSpPr>
        <p:spPr>
          <a:xfrm>
            <a:off x="2428920" y="1500120"/>
            <a:ext cx="464328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2000160" y="1428840"/>
            <a:ext cx="4500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75840" y="168120"/>
            <a:ext cx="7224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4855"/>
                </a:solidFill>
                <a:latin typeface="Georgia"/>
              </a:rPr>
              <a:t>Вычеркни лишнее слово из строки</a:t>
            </a:r>
            <a:endParaRPr b="0" lang="en-US" sz="32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45" name="Прямая соединительная линия 10"/>
          <p:cNvSpPr/>
          <p:nvPr/>
        </p:nvSpPr>
        <p:spPr>
          <a:xfrm>
            <a:off x="4357800" y="2000160"/>
            <a:ext cx="10000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1"/>
          <p:cNvSpPr/>
          <p:nvPr/>
        </p:nvSpPr>
        <p:spPr>
          <a:xfrm>
            <a:off x="2143080" y="3571920"/>
            <a:ext cx="2357640" cy="3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3"/>
          <p:cNvSpPr/>
          <p:nvPr/>
        </p:nvSpPr>
        <p:spPr>
          <a:xfrm>
            <a:off x="1857240" y="600084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6"/>
          <p:cNvSpPr/>
          <p:nvPr/>
        </p:nvSpPr>
        <p:spPr>
          <a:xfrm>
            <a:off x="5072040" y="5143680"/>
            <a:ext cx="11430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TEACHER"/>
          <p:cNvPicPr/>
          <p:nvPr/>
        </p:nvPicPr>
        <p:blipFill>
          <a:blip r:embed="rId1"/>
          <a:stretch/>
        </p:blipFill>
        <p:spPr>
          <a:xfrm>
            <a:off x="3929040" y="442908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14320" y="571680"/>
            <a:ext cx="6438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b4855"/>
                </a:solidFill>
                <a:latin typeface="Georgia"/>
              </a:rPr>
              <a:t>Соотнесите…</a:t>
            </a:r>
            <a:endParaRPr b="0" lang="en-US" sz="4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760" y="142560"/>
            <a:ext cx="85010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1. Температура воздуха –  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в метрах;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86d7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Высота горы –             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  % или граммах; 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86d7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Атмосферное давление -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мм.рт.ст;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86d7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Скорость ветра –        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 градусы Цельсия;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286d7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Влажность воздуха –                  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286d7f"/>
                </a:solidFill>
                <a:latin typeface="Georgia"/>
              </a:rPr>
              <a:t>метров в с секунду.</a:t>
            </a:r>
            <a:endParaRPr b="0" lang="en-US" sz="24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52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Прямая со стрелкой 10"/>
          <p:cNvCxnSpPr/>
          <p:nvPr/>
        </p:nvCxnSpPr>
        <p:spPr>
          <a:xfrm>
            <a:off x="4214520" y="2000160"/>
            <a:ext cx="1786680" cy="1215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8" name="Прямая со стрелкой 11"/>
          <p:cNvCxnSpPr/>
          <p:nvPr/>
        </p:nvCxnSpPr>
        <p:spPr>
          <a:xfrm flipV="1">
            <a:off x="3143160" y="1999440"/>
            <a:ext cx="357264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Прямая со стрелкой 13"/>
          <p:cNvCxnSpPr/>
          <p:nvPr/>
        </p:nvCxnSpPr>
        <p:spPr>
          <a:xfrm>
            <a:off x="4214880" y="2857680"/>
            <a:ext cx="2643840" cy="2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Прямая со стрелкой 15"/>
          <p:cNvCxnSpPr/>
          <p:nvPr/>
        </p:nvCxnSpPr>
        <p:spPr>
          <a:xfrm>
            <a:off x="3499920" y="3285720"/>
            <a:ext cx="242964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Прямая со стрелкой 17"/>
          <p:cNvCxnSpPr/>
          <p:nvPr/>
        </p:nvCxnSpPr>
        <p:spPr>
          <a:xfrm flipV="1">
            <a:off x="3929040" y="2499840"/>
            <a:ext cx="2215440" cy="1215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8"/>
          <p:cNvSpPr/>
          <p:nvPr/>
        </p:nvSpPr>
        <p:spPr>
          <a:xfrm>
            <a:off x="3348000" y="2492280"/>
            <a:ext cx="2305080" cy="647640"/>
          </a:xfrm>
          <a:prstGeom prst="rect">
            <a:avLst/>
          </a:prstGeom>
          <a:gradFill rotWithShape="0">
            <a:gsLst>
              <a:gs pos="0">
                <a:srgbClr val="ede1ce"/>
              </a:gs>
              <a:gs pos="100000">
                <a:srgbClr val="d0ac74"/>
              </a:gs>
            </a:gsLst>
            <a:lin ang="5400000"/>
          </a:gradFill>
          <a:ln w="6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4. Количе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осад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2"/>
          <p:cNvSpPr/>
          <p:nvPr/>
        </p:nvSpPr>
        <p:spPr>
          <a:xfrm>
            <a:off x="250920" y="2421000"/>
            <a:ext cx="2305080" cy="647640"/>
          </a:xfrm>
          <a:prstGeom prst="rect">
            <a:avLst/>
          </a:prstGeom>
          <a:gradFill rotWithShape="0">
            <a:gsLst>
              <a:gs pos="0">
                <a:srgbClr val="87be7b"/>
              </a:gs>
              <a:gs pos="100000">
                <a:srgbClr val="579c48"/>
              </a:gs>
            </a:gsLst>
            <a:lin ang="5400000"/>
          </a:gradFill>
          <a:ln w="6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5. Влаж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7" descr="барометр"/>
          <p:cNvPicPr/>
          <p:nvPr/>
        </p:nvPicPr>
        <p:blipFill>
          <a:blip r:embed="rId1"/>
          <a:stretch/>
        </p:blipFill>
        <p:spPr>
          <a:xfrm>
            <a:off x="7093080" y="4653000"/>
            <a:ext cx="1604880" cy="1925640"/>
          </a:xfrm>
          <a:prstGeom prst="rect">
            <a:avLst/>
          </a:prstGeom>
          <a:ln w="28440">
            <a:solidFill>
              <a:srgbClr val="993366"/>
            </a:solidFill>
            <a:prstDash val="dashDot"/>
            <a:miter/>
          </a:ln>
        </p:spPr>
      </p:pic>
      <p:pic>
        <p:nvPicPr>
          <p:cNvPr id="265" name="Picture 30" descr="гигр"/>
          <p:cNvPicPr/>
          <p:nvPr/>
        </p:nvPicPr>
        <p:blipFill>
          <a:blip r:embed="rId2"/>
          <a:stretch/>
        </p:blipFill>
        <p:spPr>
          <a:xfrm>
            <a:off x="2556000" y="4724280"/>
            <a:ext cx="1738080" cy="1917720"/>
          </a:xfrm>
          <a:prstGeom prst="rect">
            <a:avLst/>
          </a:prstGeom>
          <a:ln w="19080">
            <a:solidFill>
              <a:srgbClr val="808080"/>
            </a:solidFill>
            <a:prstDash val="dash"/>
            <a:miter/>
          </a:ln>
        </p:spPr>
      </p:pic>
      <p:pic>
        <p:nvPicPr>
          <p:cNvPr id="266" name="Picture 36" descr="флюгер"/>
          <p:cNvPicPr/>
          <p:nvPr/>
        </p:nvPicPr>
        <p:blipFill>
          <a:blip r:embed="rId3"/>
          <a:stretch/>
        </p:blipFill>
        <p:spPr>
          <a:xfrm>
            <a:off x="250920" y="4653000"/>
            <a:ext cx="1904760" cy="1905120"/>
          </a:xfrm>
          <a:prstGeom prst="rect">
            <a:avLst/>
          </a:prstGeom>
          <a:ln w="12600">
            <a:solidFill>
              <a:srgbClr val="800080"/>
            </a:solidFill>
            <a:prstDash val="dash"/>
            <a:miter/>
          </a:ln>
        </p:spPr>
      </p:pic>
      <p:pic>
        <p:nvPicPr>
          <p:cNvPr id="267" name="Picture 37" descr="оооооосад"/>
          <p:cNvPicPr/>
          <p:nvPr/>
        </p:nvPicPr>
        <p:blipFill>
          <a:blip r:embed="rId4"/>
          <a:stretch/>
        </p:blipFill>
        <p:spPr>
          <a:xfrm>
            <a:off x="4716360" y="4724280"/>
            <a:ext cx="1595520" cy="1886040"/>
          </a:xfrm>
          <a:prstGeom prst="rect">
            <a:avLst/>
          </a:prstGeom>
          <a:ln w="19080">
            <a:solidFill>
              <a:srgbClr val="993366"/>
            </a:solidFill>
            <a:prstDash val="lgDash"/>
            <a:miter/>
          </a:ln>
        </p:spPr>
      </p:pic>
      <p:sp>
        <p:nvSpPr>
          <p:cNvPr id="268" name="WordArt 38"/>
          <p:cNvSpPr txBox="1"/>
          <p:nvPr/>
        </p:nvSpPr>
        <p:spPr>
          <a:xfrm>
            <a:off x="2700360" y="549360"/>
            <a:ext cx="36576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1f9ec1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Найди  пару</a:t>
            </a:r>
            <a:endParaRPr b="1" lang="en-US" sz="1800" spc="1" strike="noStrike">
              <a:ln w="18000">
                <a:solidFill>
                  <a:srgbClr val="1f9ec1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Содержимое 17" descr="ca7204180760246e15bc68a5e73e383e_full.jpg"/>
          <p:cNvPicPr/>
          <p:nvPr/>
        </p:nvPicPr>
        <p:blipFill>
          <a:blip r:embed="rId5"/>
          <a:stretch/>
        </p:blipFill>
        <p:spPr>
          <a:xfrm>
            <a:off x="142920" y="142920"/>
            <a:ext cx="1633320" cy="21859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4"/>
          <p:cNvSpPr/>
          <p:nvPr/>
        </p:nvSpPr>
        <p:spPr>
          <a:xfrm>
            <a:off x="6516720" y="3500280"/>
            <a:ext cx="2413080" cy="648000"/>
          </a:xfrm>
          <a:prstGeom prst="rect">
            <a:avLst/>
          </a:prstGeom>
          <a:gradFill rotWithShape="0">
            <a:gsLst>
              <a:gs pos="0">
                <a:srgbClr val="e98d31"/>
              </a:gs>
              <a:gs pos="100000">
                <a:srgbClr val="c2680d"/>
              </a:gs>
            </a:gsLst>
            <a:lin ang="5400000"/>
          </a:gradFill>
          <a:ln w="6480">
            <a:solidFill>
              <a:srgbClr val="a25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. Темпера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3348000" y="3429000"/>
            <a:ext cx="2305080" cy="647640"/>
          </a:xfrm>
          <a:prstGeom prst="rect">
            <a:avLst/>
          </a:prstGeom>
          <a:gradFill rotWithShape="0">
            <a:gsLst>
              <a:gs pos="0">
                <a:srgbClr val="c46a9f"/>
              </a:gs>
              <a:gs pos="100000">
                <a:srgbClr val="a23b78"/>
              </a:gs>
            </a:gsLst>
            <a:lin ang="5400000"/>
          </a:gradFill>
          <a:ln w="6480">
            <a:solidFill>
              <a:srgbClr val="893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2. Направление ве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0" y="3429000"/>
            <a:ext cx="2556000" cy="647640"/>
          </a:xfrm>
          <a:prstGeom prst="rect">
            <a:avLst/>
          </a:prstGeom>
          <a:gradFill rotWithShape="0">
            <a:gsLst>
              <a:gs pos="0">
                <a:srgbClr val="87be7b"/>
              </a:gs>
              <a:gs pos="100000">
                <a:srgbClr val="579c48"/>
              </a:gs>
            </a:gsLst>
            <a:lin ang="5400000"/>
          </a:gradFill>
          <a:ln w="64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3. Атмосферное д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Содержимое 19" descr="imagesCA69U507.jpg"/>
          <p:cNvPicPr/>
          <p:nvPr/>
        </p:nvPicPr>
        <p:blipFill>
          <a:blip r:embed="rId6"/>
          <a:stretch/>
        </p:blipFill>
        <p:spPr>
          <a:xfrm>
            <a:off x="7072200" y="0"/>
            <a:ext cx="1638360" cy="2187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9"/>
          <p:cNvSpPr/>
          <p:nvPr/>
        </p:nvSpPr>
        <p:spPr>
          <a:xfrm>
            <a:off x="6372360" y="2421000"/>
            <a:ext cx="2447640" cy="647640"/>
          </a:xfrm>
          <a:prstGeom prst="rect">
            <a:avLst/>
          </a:prstGeom>
          <a:gradFill rotWithShape="0">
            <a:gsLst>
              <a:gs pos="0">
                <a:srgbClr val="ede1ce"/>
              </a:gs>
              <a:gs pos="100000">
                <a:srgbClr val="d0ac74"/>
              </a:gs>
            </a:gsLst>
            <a:lin ang="5400000"/>
          </a:gradFill>
          <a:ln w="6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6. Толщина снеж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кр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111E-006 L -0.63594 -0.26759 E">
                                      <p:cBhvr>
                                        <p:cTn id="111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7014 0.11019 E">
                                      <p:cBhvr>
                                        <p:cTn id="115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22222E-006 L 0.70087 0.13125 E">
                                      <p:cBhvr>
                                        <p:cTn id="119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10225 0.24143 E">
                                      <p:cBhvr>
                                        <p:cTn id="12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0.21268 0.23634 E">
                                      <p:cBhvr>
                                        <p:cTn id="12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8.33333E-007 -0.08912 E">
                                      <p:cBhvr>
                                        <p:cTn id="131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85480" y="16430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6000" spc="-1" strike="noStrike">
                <a:solidFill>
                  <a:srgbClr val="286d7f"/>
                </a:solidFill>
                <a:latin typeface="Georgia"/>
              </a:rPr>
              <a:t>воздух</a:t>
            </a:r>
            <a:endParaRPr b="0" lang="en-US" sz="6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86d7f"/>
                </a:solidFill>
                <a:latin typeface="Georgia"/>
              </a:rPr>
              <a:t>земная поверхность</a:t>
            </a:r>
            <a:endParaRPr b="0" lang="en-US" sz="4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76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http://marusya22.ucoz.ru/_ph/7/1/36831996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2928960" cy="27147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5520" y="762120"/>
            <a:ext cx="171612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560" y="533160"/>
            <a:ext cx="493884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b4855"/>
                </a:solidFill>
                <a:latin typeface="Georgia"/>
              </a:rPr>
              <a:t>Температура воздуха</a:t>
            </a:r>
            <a:endParaRPr b="0" lang="en-US" sz="4400" spc="-1" strike="noStrike">
              <a:solidFill>
                <a:srgbClr val="1b4855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286d7f"/>
                </a:solidFill>
                <a:latin typeface="Georgia"/>
              </a:rPr>
              <a:t>- нагрев воздуха </a:t>
            </a: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86d7f"/>
                </a:solidFill>
                <a:latin typeface="Georgia"/>
              </a:rPr>
              <a:t>нагрев земной поверхности</a:t>
            </a: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85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http://marusya22.ucoz.ru/_ph/7/1/36831996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2928960" cy="2714760"/>
          </a:xfrm>
          <a:prstGeom prst="rect">
            <a:avLst/>
          </a:prstGeom>
          <a:ln w="0">
            <a:noFill/>
          </a:ln>
        </p:spPr>
      </p:pic>
      <p:cxnSp>
        <p:nvCxnSpPr>
          <p:cNvPr id="291" name="Прямая со стрелкой 10"/>
          <p:cNvCxnSpPr/>
          <p:nvPr/>
        </p:nvCxnSpPr>
        <p:spPr>
          <a:xfrm>
            <a:off x="2286000" y="3000240"/>
            <a:ext cx="643320" cy="2215440"/>
          </a:xfrm>
          <a:prstGeom prst="straightConnector1">
            <a:avLst/>
          </a:prstGeom>
          <a:ln w="19080">
            <a:solidFill>
              <a:srgbClr val="4557a1"/>
            </a:solidFill>
            <a:miter/>
            <a:tailEnd len="med" type="triangle" w="med"/>
          </a:ln>
        </p:spPr>
      </p:cxnSp>
      <p:cxnSp>
        <p:nvCxnSpPr>
          <p:cNvPr id="292" name="Прямая со стрелкой 14"/>
          <p:cNvCxnSpPr/>
          <p:nvPr/>
        </p:nvCxnSpPr>
        <p:spPr>
          <a:xfrm flipV="1">
            <a:off x="5214600" y="3499560"/>
            <a:ext cx="1857960" cy="1644120"/>
          </a:xfrm>
          <a:prstGeom prst="straightConnector1">
            <a:avLst/>
          </a:prstGeom>
          <a:ln w="19080">
            <a:solidFill>
              <a:srgbClr val="893768"/>
            </a:solidFill>
            <a:miter/>
            <a:tailEnd len="med" type="triangle" w="med"/>
          </a:ln>
        </p:spPr>
      </p:cxn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785880" y="857160"/>
            <a:ext cx="7500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С=2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СВ=5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В=2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Ю=3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ЮЗ=4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86d7f"/>
                </a:solidFill>
                <a:latin typeface="Georgia"/>
              </a:rPr>
              <a:t>СЗ=6</a:t>
            </a:r>
            <a:endParaRPr b="0" lang="en-US" sz="5400" spc="-1" strike="noStrike">
              <a:solidFill>
                <a:srgbClr val="286d7f"/>
              </a:solidFill>
              <a:latin typeface="Georgia"/>
            </a:endParaRPr>
          </a:p>
        </p:txBody>
      </p:sp>
      <p:sp>
        <p:nvSpPr>
          <p:cNvPr id="294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одержимое 3"/>
          <p:cNvSpPr/>
          <p:nvPr/>
        </p:nvSpPr>
        <p:spPr>
          <a:xfrm>
            <a:off x="3857760" y="1357200"/>
            <a:ext cx="4643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одержимое 3"/>
          <p:cNvSpPr/>
          <p:nvPr/>
        </p:nvSpPr>
        <p:spPr>
          <a:xfrm>
            <a:off x="2714760" y="1571760"/>
            <a:ext cx="4500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285560" y="533520"/>
            <a:ext cx="7224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b4855"/>
                </a:solidFill>
                <a:latin typeface="Georgia"/>
              </a:rPr>
              <a:t>Постройте розу ветров.</a:t>
            </a:r>
            <a:endParaRPr b="0" lang="en-US" sz="4800" spc="-1" strike="noStrike">
              <a:solidFill>
                <a:srgbClr val="1b4855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Содержимое 3"/>
          <p:cNvSpPr/>
          <p:nvPr/>
        </p:nvSpPr>
        <p:spPr>
          <a:xfrm>
            <a:off x="914400" y="1082520"/>
            <a:ext cx="4626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одержимое 3"/>
          <p:cNvSpPr/>
          <p:nvPr/>
        </p:nvSpPr>
        <p:spPr>
          <a:xfrm>
            <a:off x="3857760" y="1500120"/>
            <a:ext cx="47149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одержимое 3"/>
          <p:cNvSpPr/>
          <p:nvPr/>
        </p:nvSpPr>
        <p:spPr>
          <a:xfrm>
            <a:off x="3857760" y="1387440"/>
            <a:ext cx="4643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одержимое 3"/>
          <p:cNvSpPr/>
          <p:nvPr/>
        </p:nvSpPr>
        <p:spPr>
          <a:xfrm>
            <a:off x="4643280" y="1539720"/>
            <a:ext cx="38577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одержимое 3"/>
          <p:cNvSpPr/>
          <p:nvPr/>
        </p:nvSpPr>
        <p:spPr>
          <a:xfrm>
            <a:off x="4143240" y="1539720"/>
            <a:ext cx="4500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4557a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85560" y="533520"/>
            <a:ext cx="7224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4855"/>
                </a:solidFill>
                <a:latin typeface="Georgia"/>
              </a:rPr>
              <a:t>Постройте розу ветров.</a:t>
            </a:r>
            <a:endParaRPr b="0" lang="en-US" sz="3200" spc="-1" strike="noStrike">
              <a:solidFill>
                <a:srgbClr val="1b4855"/>
              </a:solidFill>
              <a:latin typeface="Georgia"/>
            </a:endParaRPr>
          </a:p>
        </p:txBody>
      </p:sp>
      <p:pic>
        <p:nvPicPr>
          <p:cNvPr id="306" name="Диаграмма 9" descr=""/>
          <p:cNvPicPr/>
          <p:nvPr/>
        </p:nvPicPr>
        <p:blipFill>
          <a:blip r:embed="rId1"/>
          <a:stretch/>
        </p:blipFill>
        <p:spPr>
          <a:xfrm>
            <a:off x="706320" y="1420920"/>
            <a:ext cx="7877160" cy="466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5:13:20Z</dcterms:created>
  <dc:creator>User</dc:creator>
  <dc:description/>
  <dc:language>en-US</dc:language>
  <cp:lastModifiedBy>таня</cp:lastModifiedBy>
  <dcterms:modified xsi:type="dcterms:W3CDTF">2013-03-03T19:41:21Z</dcterms:modified>
  <cp:revision>131</cp:revision>
  <dc:subject/>
  <dc:title>Слайд 1</dc:title>
</cp:coreProperties>
</file>