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54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2.jpeg" ContentType="image/jpeg"/>
  <Override PartName="/ppt/media/image51.png" ContentType="image/png"/>
  <Override PartName="/ppt/media/image4.jpeg" ContentType="image/jpeg"/>
  <Override PartName="/ppt/media/image50.png" ContentType="image/png"/>
  <Override PartName="/ppt/media/image5.jpeg" ContentType="image/jpeg"/>
  <Override PartName="/ppt/media/image61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57.png" ContentType="image/png"/>
  <Override PartName="/ppt/media/image1.jpeg" ContentType="image/jpeg"/>
  <Override PartName="/ppt/media/image14.jpeg" ContentType="image/jpeg"/>
  <Override PartName="/ppt/media/image71.jpeg" ContentType="image/jpeg"/>
  <Override PartName="/ppt/media/image33.jpeg" ContentType="image/jpeg"/>
  <Override PartName="/ppt/media/image27.png" ContentType="image/png"/>
  <Override PartName="/ppt/media/image26.jpeg" ContentType="image/jpeg"/>
  <Override PartName="/ppt/media/image70.jpeg" ContentType="image/jpeg"/>
  <Override PartName="/ppt/media/image35.png" ContentType="image/png"/>
  <Override PartName="/ppt/media/image69.jpeg" ContentType="image/jpeg"/>
  <Override PartName="/ppt/media/image67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60.jpeg" ContentType="image/jpeg"/>
  <Override PartName="/ppt/media/image30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29.png" ContentType="image/png"/>
  <Override PartName="/ppt/media/image63.jpeg" ContentType="image/jpeg"/>
  <Override PartName="/ppt/media/image41.jpeg" ContentType="image/jpeg"/>
  <Override PartName="/ppt/media/image66.png" ContentType="image/png"/>
  <Override PartName="/ppt/media/image16.png" ContentType="image/png"/>
  <Override PartName="/ppt/media/image7.jpeg" ContentType="image/jpeg"/>
  <Override PartName="/ppt/media/image43.jpeg" ContentType="image/jpeg"/>
  <Override PartName="/ppt/media/image28.png" ContentType="image/pn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44.jpeg" ContentType="image/jpeg"/>
  <Override PartName="/ppt/media/image38.png" ContentType="image/png"/>
  <Override PartName="/ppt/media/image49.png" ContentType="image/png"/>
  <Override PartName="/ppt/media/image65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32.jpeg" ContentType="image/jpeg"/>
  <Override PartName="/ppt/media/image37.png" ContentType="image/png"/>
  <Override PartName="/ppt/media/image64.jpeg" ContentType="image/jpeg"/>
  <Override PartName="/ppt/media/image39.png" ContentType="image/png"/>
  <Override PartName="/ppt/media/image45.jpeg" ContentType="image/jpeg"/>
  <Override PartName="/ppt/media/image46.jpeg" ContentType="image/jpeg"/>
  <Override PartName="/ppt/media/image68.png" ContentType="image/pn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694F-2C61-4165-B1C4-5095F4858C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3585-1913-4A4B-9707-217422B4EA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98B-012C-4D41-9293-9EA589C2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1E9-C04C-4830-9362-D4F60E6E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84D52-5CB3-402F-B5FA-CB512552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94E4F-DA2C-4579-8942-80FDD849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120CD-8AA9-43BC-A653-4ED6F6B1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D8844-D7E5-40B4-9FD1-F58E8C84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CC761-3924-496C-BBEF-F3E51E78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B1778-98F5-4B85-8AA3-8619798D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B6447-2970-4759-9618-01DF11AF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87E3B-9767-446F-8CC7-B4F7684C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38959-D6B7-4AEC-AD25-F2D4AE5D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0145C-4767-4BFB-918D-7438A239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7A8-FB0B-4722-9664-EBC01B9D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ACF12-7370-47F2-928A-8BFE925B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2B244-EE9C-4340-9163-3CB91B36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4BD45-8CC4-4A5A-936B-3084FE14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FFF56-2911-48DD-A13B-21B770DE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BFF7D-81D1-4476-9469-76457BA5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06813-71AD-4AE4-8A8C-EEB3FA61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7EC6C-981D-4340-86FF-F81253DC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C262A-A4CB-44C6-BE1F-38DDC222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7425-9D6F-416F-842C-2B13CD4D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05818-8A68-4D21-991E-4A0C306A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54F-82F3-4CCA-9BD5-7FCD65CC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4EFE8-5011-4118-979D-75E282DB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C1991-EE3D-4AD7-8B0D-A11D3F9A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D6DEA-2E54-43A4-BAFE-F924639C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0EDCA-AE98-4FB6-9BCC-746C7C98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C943D-E034-4E5D-918F-79735038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9DA9B-D64E-43C2-BB52-9E8FCA2F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207DA-3D2A-46B3-A0B7-921D7818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BF3A7-FC7E-405E-8ACE-AFA56E5D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08394-5371-4B38-A06E-DBDB0F2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DEB5A-56D7-428E-BCE7-1F09188A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5C7B-2420-4E83-AF2F-DD74A9E4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8B360-C6CF-4F68-B07A-06AF49B0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E9FA6-55B4-472F-B2F0-CE0D7FDA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B39D8-5CC3-4E0D-9B2E-E818C0FC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E00E1-0355-43ED-98AE-28D3FAE7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5DE3B-80C8-46AB-B347-4C8355F1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DE5E0-2029-480C-A546-A12DC1FF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961DE-BED1-45EE-94A4-CB7F68D4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F5026-A18C-491D-B8B7-7B9F7C57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B81C8-0F3A-4D4B-8DC3-CAC9DA82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343F7-9547-4264-B61A-C3279604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BE73-8011-4A9C-AD78-9EB39BFE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0CFA5-FCC6-4F40-98B9-564764F1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30C05-9941-4B01-A803-FB0CCCEC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A09EB-9538-4A91-98F2-4B6813CE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7ED9D-4B4D-4140-BA2E-A5462E8F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118E2-41A6-4B3C-BB70-9D586D91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4E42-E8EC-4429-9D1B-18BD908B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4DA3-A116-44D6-ADAA-8E98D30F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7DD4-6BC8-4EA2-946C-51FC2211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A3B1-D184-40C7-8795-0EE56C61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716A-5778-4231-B7E6-47F931C3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F62-7B27-490E-BC27-B4A11DE7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8F3B-41FF-4ACE-A180-F9D63B06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3934-1107-4408-8BEB-EF16C687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BEAA-22D2-4563-AF25-6E00CC05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EA59-B2E9-4024-BD4C-D6450768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F086-CF13-4053-8589-79EC63AC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318B-E77D-4AE3-A09C-D9EF12AA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BF60-46C0-473A-9516-8BBB717F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45A1E-061B-4D55-A94C-64B6453B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6CC0-8D3B-4DCD-94A4-F8914834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5FB0B-210E-4134-A61C-B8773B43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A19-3CF8-469E-B8F1-10EB9F4A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664D-CBDD-4FA4-998A-7A50FD49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2FC0-595A-4015-9F53-3D6DB5B8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178BA-54F9-491A-8652-91817627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045F-1627-49F0-9DAF-0B879A96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E8D0-9C8E-44D6-BCC0-C01C878A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0D85-C495-40F6-B25D-3D9B02B7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81C8-F173-4C33-858E-D8047AD8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7098B-B73A-44F0-88F5-CE067115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4448B-345F-46B6-ADEE-57733434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BCA3B-527B-44A1-9155-B4A098E7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5C1-B64F-4FF9-BEBC-639C1EB3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6190-8C41-4711-ABF9-CEB9C21B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9970-F5A3-48DA-A083-E054E796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C8139-7698-4E57-BC6A-4D80894F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889FB-FDAA-4A5D-A746-63B1DB84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B3B63-6481-446B-994C-ADED14B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5D98-447D-4BB7-88E9-8B6E83E2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B0B24-3BB5-4668-A901-E62F5566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98C3-6A5A-48D6-BB6A-52661116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697A8-99ED-4624-9C78-879338D0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15445-3FD6-4527-8A24-BF30599E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458-F48C-4F46-B89C-CA9F010A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3F89F-22E5-45EF-9EF4-F7A23BDE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12649-5A19-4B7D-9D45-A2E5588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85A9D-A0B1-4F19-9196-977CF54E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D483E-AF03-4AB7-A676-F3EC1F29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578EA-3AA1-4018-8BFD-A6DD5641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BFACB-C137-418C-8A7D-5C2DF0B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09579-5F88-4288-B838-13481825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74D7-627D-4DA2-9D69-46F3FF06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C7CEB-2FD3-4C60-B896-95FC7987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56FA3-3786-4F3D-A111-FC1CC597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860-98D5-494A-BBEE-52238242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B83B7-735C-4F3B-B141-68B8A919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42DF1-37DA-47D6-B782-A7FCACFF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39094-FF46-406F-ACAB-DF65087D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BADEA-840F-4D94-A078-5F8C6EBF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50003-F294-415E-B683-08124D3F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11A7E-6F74-42BD-98B0-FE00DD8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E1A8D-9FD3-4542-A50D-2CC4BDDF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D1B4F-37E7-4622-AFC3-B7C4B1F7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D9470-6CE1-4E0D-BF31-EAD9F4B3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3AA0B-B5AE-45C7-B74A-BFA0FFBD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EB4-B704-464A-BD79-385B9436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ACC07-65C1-4562-8E9B-97354134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C9DE4-FB38-4F7E-B4A1-4178F789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1F43F-93C7-4E74-AC9A-538882B6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76188-7070-405B-A61C-EC5B2C04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DE92D-3394-4B7C-AB4D-4FD55C69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F9DCD-D6D5-4B17-8CF7-E161B762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9435F-FEAA-4AAB-B2C8-4B605FEA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3CD38-058C-4ED6-87BD-EEB3D20E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456F3-D2A9-4648-989D-4583BE49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B3676-A3E7-4B6E-A787-578E409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A82-02F8-4D0E-84A7-2D54EE53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BD2A5-CBDF-4BF7-9312-77945D6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3A830-9C93-49E0-9725-5FEDF2A3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111AF-E491-4A74-B5EC-2E65D811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8AABD-B3D4-424B-B4A4-A309B5E8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66652-123F-43B7-853A-3DE60861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D336E-8008-481C-98BF-839AA5B8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1EA54-24D5-42BD-BFEC-E8A0EB52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83DCF-816E-4897-8A91-F496140F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6E374-F41F-474F-94BB-722CAAF3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3D5E-EFFF-473F-B9AB-5BE9E444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DE6-AE9A-41F2-BDB4-A268C53D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F29DD-34A9-4F9E-8E62-9D60CF79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1874D-864B-4C04-A7F4-30AB0ECA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8D2EA-3A35-4B18-8712-C9800A17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E08BD-D1CB-4F24-AF8D-2E51C3AF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3E51B-144F-459C-80F4-7FEEB88D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410DF-17AE-4EDB-B171-244E4769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151C6-222E-4978-A5DB-CA3E2438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EBF4E-5524-4643-B357-9F450B5E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1AF64-F3A0-49F2-BCCE-E497A615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5A196-77B3-40A9-A64B-D72D9589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ADC6-6F0F-4663-A93B-A591A4B8ED39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8069-3C89-44A3-8BB8-ADE01559AACB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83CA-7819-49BC-A706-9D284B9900A2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C89A-EA6C-422C-B58A-E9B995CD03FB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3F93-361D-4174-9067-F5EB50B9B8C9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7BD9-D8C9-49DC-A6DD-F35FCC42BFC9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0EB7-DC29-4400-B3D5-0CB26C2EBA01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38C8-BB4B-403F-805F-26D44C9B0D5B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8F27-1A4A-4EBA-A17E-ECB8E4C7AD40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3DEA-FE2B-49FB-B8DE-B90BC40DE179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21EA-BFAB-43D5-80FA-1BB716B70371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5A23-ED8F-4114-98B2-BC84A85E9B32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7.jpeg"/><Relationship Id="rId6" Type="http://schemas.openxmlformats.org/officeDocument/2006/relationships/image" Target="../media/image29.png"/><Relationship Id="rId7" Type="http://schemas.openxmlformats.org/officeDocument/2006/relationships/image" Target="../media/image21.jpe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image" Target="../media/image19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png"/><Relationship Id="rId3" Type="http://schemas.openxmlformats.org/officeDocument/2006/relationships/image" Target="../media/image66.png"/><Relationship Id="rId4" Type="http://schemas.openxmlformats.org/officeDocument/2006/relationships/image" Target="../media/image67.jpeg"/><Relationship Id="rId5" Type="http://schemas.openxmlformats.org/officeDocument/2006/relationships/image" Target="../media/image26.jpeg"/><Relationship Id="rId6" Type="http://schemas.openxmlformats.org/officeDocument/2006/relationships/image" Target="../media/image43.jpeg"/><Relationship Id="rId7" Type="http://schemas.openxmlformats.org/officeDocument/2006/relationships/image" Target="../media/image50.png"/><Relationship Id="rId8" Type="http://schemas.openxmlformats.org/officeDocument/2006/relationships/image" Target="../media/image36.png"/><Relationship Id="rId9" Type="http://schemas.openxmlformats.org/officeDocument/2006/relationships/image" Target="../media/image68.png"/><Relationship Id="rId10" Type="http://schemas.openxmlformats.org/officeDocument/2006/relationships/image" Target="../media/image19.jpeg"/><Relationship Id="rId11" Type="http://schemas.openxmlformats.org/officeDocument/2006/relationships/image" Target="../media/image32.jpeg"/><Relationship Id="rId12" Type="http://schemas.openxmlformats.org/officeDocument/2006/relationships/image" Target="../media/image24.jpeg"/><Relationship Id="rId13" Type="http://schemas.openxmlformats.org/officeDocument/2006/relationships/image" Target="../media/image69.jpeg"/><Relationship Id="rId14" Type="http://schemas.openxmlformats.org/officeDocument/2006/relationships/image" Target="../media/image1.jpeg"/><Relationship Id="rId15" Type="http://schemas.openxmlformats.org/officeDocument/2006/relationships/image" Target="../media/image70.jpeg"/><Relationship Id="rId16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643960" cy="20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Презентация по экономике 5класс</a:t>
            </a:r>
            <a:br>
              <a:rPr sz="3200"/>
            </a:b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на тему:</a:t>
            </a:r>
            <a:br>
              <a:rPr sz="4000"/>
            </a:b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 «               »</a:t>
            </a:r>
            <a:endParaRPr b="0" lang="en-US" sz="40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142920" y="4214880"/>
            <a:ext cx="46432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Учитель эконом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МБОУ СОШ № 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г.Пав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Логинова О.Р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"/>
          <p:cNvSpPr/>
          <p:nvPr/>
        </p:nvSpPr>
        <p:spPr>
          <a:xfrm>
            <a:off x="4344840" y="64882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9" descr="http://t0.gstatic.com/images?q=tbn:ANd9GcTKn7gEceVgesTKeM8W06gie8rB47D_7X-BAwTbxM6NHko6ukAJ"/>
          <p:cNvPicPr/>
          <p:nvPr/>
        </p:nvPicPr>
        <p:blipFill>
          <a:blip r:embed="rId1"/>
          <a:stretch/>
        </p:blipFill>
        <p:spPr>
          <a:xfrm>
            <a:off x="4427640" y="2637000"/>
            <a:ext cx="4389480" cy="328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Между кем существует конкуренция на рынке?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71" name="Picture 7" descr="C:\Users\Сталкер\Desktop\images.jpg"/>
          <p:cNvPicPr/>
          <p:nvPr/>
        </p:nvPicPr>
        <p:blipFill>
          <a:blip r:embed="rId1"/>
          <a:stretch/>
        </p:blipFill>
        <p:spPr>
          <a:xfrm>
            <a:off x="971640" y="4508640"/>
            <a:ext cx="1369800" cy="18288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C:\Users\Сталкер\Desktop\images.jpg"/>
          <p:cNvPicPr/>
          <p:nvPr/>
        </p:nvPicPr>
        <p:blipFill>
          <a:blip r:embed="rId2"/>
          <a:stretch/>
        </p:blipFill>
        <p:spPr>
          <a:xfrm>
            <a:off x="6804000" y="1484280"/>
            <a:ext cx="1262160" cy="1684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C:\Users\Сталкер\Desktop\images.jpg"/>
          <p:cNvPicPr/>
          <p:nvPr/>
        </p:nvPicPr>
        <p:blipFill>
          <a:blip r:embed="rId3"/>
          <a:stretch/>
        </p:blipFill>
        <p:spPr>
          <a:xfrm>
            <a:off x="3780000" y="2637000"/>
            <a:ext cx="13698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Прямоугольник 31"/>
          <p:cNvSpPr/>
          <p:nvPr/>
        </p:nvSpPr>
        <p:spPr>
          <a:xfrm>
            <a:off x="684360" y="11592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e0e38"/>
                </a:solidFill>
                <a:uFillTx/>
                <a:latin typeface="Comic Sans MS"/>
              </a:rPr>
              <a:t>Между кем существует конкуренция на рын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33"/>
          <p:cNvSpPr/>
          <p:nvPr/>
        </p:nvSpPr>
        <p:spPr>
          <a:xfrm>
            <a:off x="1908000" y="4365720"/>
            <a:ext cx="53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Скругленный прямоугольник 40"/>
          <p:cNvGrpSpPr/>
          <p:nvPr/>
        </p:nvGrpSpPr>
        <p:grpSpPr>
          <a:xfrm>
            <a:off x="3249720" y="5346720"/>
            <a:ext cx="2852640" cy="1054080"/>
            <a:chOff x="3249720" y="5346720"/>
            <a:chExt cx="2852640" cy="1054080"/>
          </a:xfrm>
        </p:grpSpPr>
        <p:pic>
          <p:nvPicPr>
            <p:cNvPr id="577" name="Скругленный прямоугольник 40" descr=""/>
            <p:cNvPicPr/>
            <p:nvPr/>
          </p:nvPicPr>
          <p:blipFill>
            <a:blip r:embed="rId1"/>
            <a:stretch/>
          </p:blipFill>
          <p:spPr>
            <a:xfrm>
              <a:off x="3249720" y="5346720"/>
              <a:ext cx="28526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3325680" y="5423040"/>
              <a:ext cx="271008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ru-RU" sz="1800" spc="-1" strike="noStrike">
                  <a:solidFill>
                    <a:srgbClr val="5e0e38"/>
                  </a:solidFill>
                  <a:latin typeface="Arial"/>
                </a:rPr>
                <a:t>Прибыль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Стрелка вниз 43"/>
          <p:cNvSpPr/>
          <p:nvPr/>
        </p:nvSpPr>
        <p:spPr>
          <a:xfrm flipH="1">
            <a:off x="4643280" y="4149720"/>
            <a:ext cx="216000" cy="71928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Стрелка вниз 45"/>
          <p:cNvSpPr/>
          <p:nvPr/>
        </p:nvSpPr>
        <p:spPr>
          <a:xfrm flipH="1">
            <a:off x="4643280" y="2421000"/>
            <a:ext cx="144720" cy="358560"/>
          </a:xfrm>
          <a:prstGeom prst="downArrow">
            <a:avLst>
              <a:gd name="adj1" fmla="val 50000"/>
              <a:gd name="adj2" fmla="val 4955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Скругленный прямоугольник 49"/>
          <p:cNvGrpSpPr/>
          <p:nvPr/>
        </p:nvGrpSpPr>
        <p:grpSpPr>
          <a:xfrm>
            <a:off x="3322800" y="884160"/>
            <a:ext cx="2633400" cy="1481040"/>
            <a:chOff x="3322800" y="884160"/>
            <a:chExt cx="2633400" cy="1481040"/>
          </a:xfrm>
        </p:grpSpPr>
        <p:pic>
          <p:nvPicPr>
            <p:cNvPr id="582" name="Скругленный прямоугольник 49" descr=""/>
            <p:cNvPicPr/>
            <p:nvPr/>
          </p:nvPicPr>
          <p:blipFill>
            <a:blip r:embed="rId2"/>
            <a:stretch/>
          </p:blipFill>
          <p:spPr>
            <a:xfrm>
              <a:off x="3322800" y="884160"/>
              <a:ext cx="26334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3417840" y="979560"/>
              <a:ext cx="245268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Между продавц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Picture 12" descr="http://prouglich.ru/wp-content/uploads/051200431.jpg"/>
          <p:cNvPicPr/>
          <p:nvPr/>
        </p:nvPicPr>
        <p:blipFill>
          <a:blip r:embed="rId3"/>
          <a:stretch/>
        </p:blipFill>
        <p:spPr>
          <a:xfrm>
            <a:off x="3995640" y="1341360"/>
            <a:ext cx="1474920" cy="935280"/>
          </a:xfrm>
          <a:prstGeom prst="rect">
            <a:avLst/>
          </a:prstGeom>
          <a:ln w="0">
            <a:noFill/>
          </a:ln>
        </p:spPr>
      </p:pic>
      <p:grpSp>
        <p:nvGrpSpPr>
          <p:cNvPr id="585" name="Овальная выноска 53"/>
          <p:cNvGrpSpPr/>
          <p:nvPr/>
        </p:nvGrpSpPr>
        <p:grpSpPr>
          <a:xfrm>
            <a:off x="3608280" y="3187800"/>
            <a:ext cx="2206800" cy="1019160"/>
            <a:chOff x="3608280" y="3187800"/>
            <a:chExt cx="2206800" cy="1019160"/>
          </a:xfrm>
        </p:grpSpPr>
        <p:pic>
          <p:nvPicPr>
            <p:cNvPr id="586" name="Овальная выноска 53" descr=""/>
            <p:cNvPicPr/>
            <p:nvPr/>
          </p:nvPicPr>
          <p:blipFill>
            <a:blip r:embed="rId4"/>
            <a:stretch/>
          </p:blipFill>
          <p:spPr>
            <a:xfrm>
              <a:off x="3608280" y="3187800"/>
              <a:ext cx="22068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952800" y="3340080"/>
              <a:ext cx="152712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Arial"/>
                </a:rPr>
                <a:t>За покупа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Прямоугольник 24"/>
          <p:cNvSpPr/>
          <p:nvPr/>
        </p:nvSpPr>
        <p:spPr>
          <a:xfrm>
            <a:off x="3708720" y="27813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За что бор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25"/>
          <p:cNvSpPr/>
          <p:nvPr/>
        </p:nvSpPr>
        <p:spPr>
          <a:xfrm>
            <a:off x="3814920" y="486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Цель борь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7" descr="C:\Users\Сталкер\Desktop\images (9).jpg"/>
          <p:cNvPicPr/>
          <p:nvPr/>
        </p:nvPicPr>
        <p:blipFill>
          <a:blip r:embed="rId5"/>
          <a:stretch/>
        </p:blipFill>
        <p:spPr>
          <a:xfrm>
            <a:off x="4788000" y="5516640"/>
            <a:ext cx="1212840" cy="77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Скругленный прямоугольник 1"/>
          <p:cNvGrpSpPr/>
          <p:nvPr/>
        </p:nvGrpSpPr>
        <p:grpSpPr>
          <a:xfrm>
            <a:off x="3181320" y="1030320"/>
            <a:ext cx="2811600" cy="1268280"/>
            <a:chOff x="3181320" y="1030320"/>
            <a:chExt cx="2811600" cy="1268280"/>
          </a:xfrm>
        </p:grpSpPr>
        <p:pic>
          <p:nvPicPr>
            <p:cNvPr id="592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181320" y="1030320"/>
              <a:ext cx="28116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3263760" y="1112760"/>
              <a:ext cx="265284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Между покупателя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14" descr="https://encrypted-tbn3.google.com/images?q=tbn:ANd9GcSXYi5O3bO46O8UUHEZUjB9DqhOkWavLN1ck8aXiu5z2A4fx6XphA"/>
          <p:cNvPicPr/>
          <p:nvPr/>
        </p:nvPicPr>
        <p:blipFill>
          <a:blip r:embed="rId2"/>
          <a:srcRect l="0" t="0" r="0" b="51874"/>
          <a:stretch/>
        </p:blipFill>
        <p:spPr>
          <a:xfrm>
            <a:off x="3924360" y="1413000"/>
            <a:ext cx="1224000" cy="790560"/>
          </a:xfrm>
          <a:prstGeom prst="rect">
            <a:avLst/>
          </a:prstGeom>
          <a:ln w="0">
            <a:noFill/>
          </a:ln>
        </p:spPr>
      </p:pic>
      <p:grpSp>
        <p:nvGrpSpPr>
          <p:cNvPr id="595" name="Скругленный прямоугольник 4"/>
          <p:cNvGrpSpPr/>
          <p:nvPr/>
        </p:nvGrpSpPr>
        <p:grpSpPr>
          <a:xfrm>
            <a:off x="3541680" y="5346720"/>
            <a:ext cx="2273400" cy="1127160"/>
            <a:chOff x="3541680" y="5346720"/>
            <a:chExt cx="2273400" cy="1127160"/>
          </a:xfrm>
        </p:grpSpPr>
        <p:pic>
          <p:nvPicPr>
            <p:cNvPr id="596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541680" y="5346720"/>
              <a:ext cx="2273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3616200" y="5425920"/>
              <a:ext cx="212724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Большее удовлетворение потребн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Стрелка вниз 44"/>
          <p:cNvSpPr/>
          <p:nvPr/>
        </p:nvSpPr>
        <p:spPr>
          <a:xfrm flipH="1">
            <a:off x="4571280" y="4797360"/>
            <a:ext cx="144360" cy="503280"/>
          </a:xfrm>
          <a:prstGeom prst="downArrow">
            <a:avLst>
              <a:gd name="adj1" fmla="val 50000"/>
              <a:gd name="adj2" fmla="val 49825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трелка вниз 44"/>
          <p:cNvSpPr/>
          <p:nvPr/>
        </p:nvSpPr>
        <p:spPr>
          <a:xfrm flipH="1">
            <a:off x="4426920" y="2637000"/>
            <a:ext cx="144360" cy="431640"/>
          </a:xfrm>
          <a:prstGeom prst="downArrow">
            <a:avLst>
              <a:gd name="adj1" fmla="val 50000"/>
              <a:gd name="adj2" fmla="val 498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7"/>
          <p:cNvSpPr/>
          <p:nvPr/>
        </p:nvSpPr>
        <p:spPr>
          <a:xfrm>
            <a:off x="971640" y="33336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e0e38"/>
                </a:solidFill>
                <a:uFillTx/>
                <a:latin typeface="Comic Sans MS"/>
              </a:rPr>
              <a:t>Между кем существует конкуренция на рын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8"/>
          <p:cNvSpPr/>
          <p:nvPr/>
        </p:nvSpPr>
        <p:spPr>
          <a:xfrm>
            <a:off x="3564360" y="227664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За что бор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9"/>
          <p:cNvSpPr/>
          <p:nvPr/>
        </p:nvSpPr>
        <p:spPr>
          <a:xfrm>
            <a:off x="3672000" y="4437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Цель борь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Скругленный прямоугольник 12"/>
          <p:cNvGrpSpPr/>
          <p:nvPr/>
        </p:nvGrpSpPr>
        <p:grpSpPr>
          <a:xfrm>
            <a:off x="3181320" y="3187800"/>
            <a:ext cx="2811600" cy="1268280"/>
            <a:chOff x="3181320" y="3187800"/>
            <a:chExt cx="2811600" cy="1268280"/>
          </a:xfrm>
        </p:grpSpPr>
        <p:pic>
          <p:nvPicPr>
            <p:cNvPr id="604" name="Скругленный 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181320" y="3187800"/>
              <a:ext cx="28116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3263760" y="3273480"/>
              <a:ext cx="265284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Arial"/>
                </a:rPr>
                <a:t>За тов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6" name="Picture 2" descr="https://encrypted-tbn1.google.com/images?q=tbn:ANd9GcTC_VWiSdgMdPCrgNO8BwGJ-Geyly5QoAkN2TH-RQLVGvYIrCtF"/>
          <p:cNvPicPr/>
          <p:nvPr/>
        </p:nvPicPr>
        <p:blipFill>
          <a:blip r:embed="rId5"/>
          <a:stretch/>
        </p:blipFill>
        <p:spPr>
          <a:xfrm>
            <a:off x="4427640" y="3284640"/>
            <a:ext cx="1439640" cy="103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Прямоугольник 2"/>
          <p:cNvSpPr/>
          <p:nvPr/>
        </p:nvSpPr>
        <p:spPr>
          <a:xfrm>
            <a:off x="3814920" y="4221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Цель борь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5"/>
          <p:cNvSpPr/>
          <p:nvPr/>
        </p:nvSpPr>
        <p:spPr>
          <a:xfrm>
            <a:off x="3493080" y="2205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За что бор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Скругленный прямоугольник 6"/>
          <p:cNvGrpSpPr/>
          <p:nvPr/>
        </p:nvGrpSpPr>
        <p:grpSpPr>
          <a:xfrm>
            <a:off x="3035160" y="811080"/>
            <a:ext cx="3140280" cy="1193760"/>
            <a:chOff x="3035160" y="811080"/>
            <a:chExt cx="3140280" cy="1193760"/>
          </a:xfrm>
        </p:grpSpPr>
        <p:pic>
          <p:nvPicPr>
            <p:cNvPr id="610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3035160" y="811080"/>
              <a:ext cx="3140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3116160" y="892080"/>
              <a:ext cx="29829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Межд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покупателями                  и продавц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2" descr="https://encrypted-tbn2.google.com/images?q=tbn:ANd9GcS3BUPHZts9KFIVtXrPnvEvRq7odty4XL1jh7xESSP2_Gs5oJ6GSQ"/>
          <p:cNvPicPr/>
          <p:nvPr/>
        </p:nvPicPr>
        <p:blipFill>
          <a:blip r:embed="rId2"/>
          <a:stretch/>
        </p:blipFill>
        <p:spPr>
          <a:xfrm>
            <a:off x="4859280" y="981000"/>
            <a:ext cx="1298520" cy="865440"/>
          </a:xfrm>
          <a:prstGeom prst="rect">
            <a:avLst/>
          </a:prstGeom>
          <a:ln w="0">
            <a:noFill/>
          </a:ln>
        </p:spPr>
      </p:pic>
      <p:sp>
        <p:nvSpPr>
          <p:cNvPr id="613" name="Стрелка вниз 44"/>
          <p:cNvSpPr/>
          <p:nvPr/>
        </p:nvSpPr>
        <p:spPr>
          <a:xfrm flipH="1">
            <a:off x="2987640" y="4292640"/>
            <a:ext cx="216000" cy="7920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Стрелка вниз 44"/>
          <p:cNvSpPr/>
          <p:nvPr/>
        </p:nvSpPr>
        <p:spPr>
          <a:xfrm flipH="1">
            <a:off x="5940360" y="4292640"/>
            <a:ext cx="216000" cy="7920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11"/>
          <p:cNvSpPr/>
          <p:nvPr/>
        </p:nvSpPr>
        <p:spPr>
          <a:xfrm>
            <a:off x="1547640" y="11592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e0e38"/>
                </a:solidFill>
                <a:uFillTx/>
                <a:latin typeface="Comic Sans MS"/>
              </a:rPr>
              <a:t>Между кем существует конкуренция на ры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Стрелка вниз 44"/>
          <p:cNvSpPr/>
          <p:nvPr/>
        </p:nvSpPr>
        <p:spPr>
          <a:xfrm flipH="1">
            <a:off x="4356000" y="2565360"/>
            <a:ext cx="216000" cy="7923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Скругленный прямоугольник 13"/>
          <p:cNvGrpSpPr/>
          <p:nvPr/>
        </p:nvGrpSpPr>
        <p:grpSpPr>
          <a:xfrm>
            <a:off x="4761000" y="5278320"/>
            <a:ext cx="3139920" cy="1122480"/>
            <a:chOff x="4761000" y="5278320"/>
            <a:chExt cx="3139920" cy="1122480"/>
          </a:xfrm>
        </p:grpSpPr>
        <p:pic>
          <p:nvPicPr>
            <p:cNvPr id="618" name="Скругленный 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4761000" y="5278320"/>
              <a:ext cx="31399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4840200" y="5354640"/>
              <a:ext cx="299088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Прибыль</a:t>
              </a:r>
              <a:r>
                <a:rPr b="0" lang="ru-RU" sz="1800" spc="-1" strike="noStrike">
                  <a:solidFill>
                    <a:srgbClr val="5e0e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Скругленный прямоугольник 14"/>
          <p:cNvGrpSpPr/>
          <p:nvPr/>
        </p:nvGrpSpPr>
        <p:grpSpPr>
          <a:xfrm>
            <a:off x="1163520" y="5278320"/>
            <a:ext cx="3213360" cy="1122480"/>
            <a:chOff x="1163520" y="5278320"/>
            <a:chExt cx="3213360" cy="1122480"/>
          </a:xfrm>
        </p:grpSpPr>
        <p:pic>
          <p:nvPicPr>
            <p:cNvPr id="621" name="Скругленный 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1163520" y="5278320"/>
              <a:ext cx="32133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239840" y="5354640"/>
              <a:ext cx="30639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Больш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удовлетворение потребн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3" name="Picture 12" descr="http://prouglich.ru/wp-content/uploads/051200431.jpg"/>
          <p:cNvPicPr/>
          <p:nvPr/>
        </p:nvPicPr>
        <p:blipFill>
          <a:blip r:embed="rId5"/>
          <a:stretch/>
        </p:blipFill>
        <p:spPr>
          <a:xfrm>
            <a:off x="6227640" y="2997360"/>
            <a:ext cx="1474920" cy="934920"/>
          </a:xfrm>
          <a:prstGeom prst="rect">
            <a:avLst/>
          </a:prstGeom>
          <a:ln w="0">
            <a:noFill/>
          </a:ln>
        </p:spPr>
      </p:pic>
      <p:grpSp>
        <p:nvGrpSpPr>
          <p:cNvPr id="624" name="Скругленный прямоугольник 16"/>
          <p:cNvGrpSpPr/>
          <p:nvPr/>
        </p:nvGrpSpPr>
        <p:grpSpPr>
          <a:xfrm>
            <a:off x="1090440" y="2828880"/>
            <a:ext cx="3140280" cy="1193760"/>
            <a:chOff x="1090440" y="2828880"/>
            <a:chExt cx="3140280" cy="1193760"/>
          </a:xfrm>
        </p:grpSpPr>
        <p:pic>
          <p:nvPicPr>
            <p:cNvPr id="625" name="Скругленный прямоугольник 16" descr=""/>
            <p:cNvPicPr/>
            <p:nvPr/>
          </p:nvPicPr>
          <p:blipFill>
            <a:blip r:embed="rId6"/>
            <a:stretch/>
          </p:blipFill>
          <p:spPr>
            <a:xfrm>
              <a:off x="1090440" y="2828880"/>
              <a:ext cx="3140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1171440" y="2909880"/>
              <a:ext cx="298476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Покуп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за сни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 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ц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7" name="Picture 14" descr="https://encrypted-tbn3.google.com/images?q=tbn:ANd9GcSXYi5O3bO46O8UUHEZUjB9DqhOkWavLN1ck8aXiu5z2A4fx6XphA"/>
          <p:cNvPicPr/>
          <p:nvPr/>
        </p:nvPicPr>
        <p:blipFill>
          <a:blip r:embed="rId7"/>
          <a:srcRect l="0" t="0" r="0" b="51874"/>
          <a:stretch/>
        </p:blipFill>
        <p:spPr>
          <a:xfrm>
            <a:off x="2771640" y="3068640"/>
            <a:ext cx="1224000" cy="790560"/>
          </a:xfrm>
          <a:prstGeom prst="rect">
            <a:avLst/>
          </a:prstGeom>
          <a:ln w="0">
            <a:noFill/>
          </a:ln>
        </p:spPr>
      </p:pic>
      <p:grpSp>
        <p:nvGrpSpPr>
          <p:cNvPr id="628" name="Скругленный прямоугольник 18"/>
          <p:cNvGrpSpPr/>
          <p:nvPr/>
        </p:nvGrpSpPr>
        <p:grpSpPr>
          <a:xfrm>
            <a:off x="4694400" y="2828880"/>
            <a:ext cx="3138480" cy="1193760"/>
            <a:chOff x="4694400" y="2828880"/>
            <a:chExt cx="3138480" cy="1193760"/>
          </a:xfrm>
        </p:grpSpPr>
        <p:pic>
          <p:nvPicPr>
            <p:cNvPr id="629" name="Скругленный прямоугольник 18" descr=""/>
            <p:cNvPicPr/>
            <p:nvPr/>
          </p:nvPicPr>
          <p:blipFill>
            <a:blip r:embed="rId8"/>
            <a:stretch/>
          </p:blipFill>
          <p:spPr>
            <a:xfrm>
              <a:off x="4694400" y="2828880"/>
              <a:ext cx="31384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772160" y="2909880"/>
              <a:ext cx="298440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Продав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за рост ц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1" name="Picture 12" descr="http://prouglich.ru/wp-content/uploads/051200431.jpg"/>
          <p:cNvPicPr/>
          <p:nvPr/>
        </p:nvPicPr>
        <p:blipFill>
          <a:blip r:embed="rId9"/>
          <a:stretch/>
        </p:blipFill>
        <p:spPr>
          <a:xfrm>
            <a:off x="6300720" y="2924280"/>
            <a:ext cx="1330560" cy="9349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C:\Users\Сталкер\Desktop\images (9).jpg"/>
          <p:cNvPicPr/>
          <p:nvPr/>
        </p:nvPicPr>
        <p:blipFill>
          <a:blip r:embed="rId10"/>
          <a:stretch/>
        </p:blipFill>
        <p:spPr>
          <a:xfrm>
            <a:off x="6156360" y="5445000"/>
            <a:ext cx="1212840" cy="773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https://encrypted-tbn1.google.com/images?q=tbn:ANd9GcQtbEH6iVOhj3YJ3PSFYDH0q5IdkxazlnnUPJPgmOKkC56mO-CH"/>
          <p:cNvPicPr/>
          <p:nvPr/>
        </p:nvPicPr>
        <p:blipFill>
          <a:blip r:embed="rId11"/>
          <a:stretch/>
        </p:blipFill>
        <p:spPr>
          <a:xfrm>
            <a:off x="3203640" y="5445000"/>
            <a:ext cx="1076400" cy="8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Конкуренция </a:t>
            </a:r>
            <a:br>
              <a:rPr sz="44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(от лат. столкновение) – </a:t>
            </a:r>
            <a:br>
              <a:rPr sz="2800"/>
            </a:b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соперничество между участниками рынка за получение преимуществ.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35" name="Picture 7" descr="C:\Users\Сталкер\Desktop\images (9).jpg"/>
          <p:cNvPicPr/>
          <p:nvPr/>
        </p:nvPicPr>
        <p:blipFill>
          <a:blip r:embed="rId1"/>
          <a:stretch/>
        </p:blipFill>
        <p:spPr>
          <a:xfrm>
            <a:off x="3276720" y="3716280"/>
            <a:ext cx="3012840" cy="19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https://encrypted-tbn1.google.com/images?q=tbn:ANd9GcQtbEH6iVOhj3YJ3PSFYDH0q5IdkxazlnnUPJPgmOKkC56mO-CH"/>
          <p:cNvPicPr/>
          <p:nvPr/>
        </p:nvPicPr>
        <p:blipFill>
          <a:blip r:embed="rId2"/>
          <a:stretch/>
        </p:blipFill>
        <p:spPr>
          <a:xfrm>
            <a:off x="6372360" y="472428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https://encrypted-tbn1.google.com/images?q=tbn:ANd9GcSLOVQBF3xSJNlslIk8Ddx5HVoX61ai2u32A5sR0tf11zMGpDGM"/>
          <p:cNvPicPr/>
          <p:nvPr/>
        </p:nvPicPr>
        <p:blipFill>
          <a:blip r:embed="rId3"/>
          <a:stretch/>
        </p:blipFill>
        <p:spPr>
          <a:xfrm>
            <a:off x="250920" y="2997360"/>
            <a:ext cx="2895480" cy="158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Кто выигрывает от снижения цен?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39" name="Picture 2" descr="http://ci.alamogordo.nm.us/Assets/COA+Document/Community+Services/Alamogordo+Family+Rec+Center/Hot+Air+Balloon.gif"/>
          <p:cNvPicPr/>
          <p:nvPr/>
        </p:nvPicPr>
        <p:blipFill>
          <a:blip r:embed="rId1"/>
          <a:stretch/>
        </p:blipFill>
        <p:spPr>
          <a:xfrm>
            <a:off x="250920" y="981000"/>
            <a:ext cx="2838240" cy="35719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" descr="http://clipartmountain.com/haballoon6.gif"/>
          <p:cNvPicPr/>
          <p:nvPr/>
        </p:nvPicPr>
        <p:blipFill>
          <a:blip r:embed="rId2"/>
          <a:stretch/>
        </p:blipFill>
        <p:spPr>
          <a:xfrm>
            <a:off x="3708360" y="2133720"/>
            <a:ext cx="1943280" cy="25826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http://3.bp.blogspot.com/_4kkT22kuvoA/S_aQ848r1mI/AAAAAAAACdk/zR8kgcufVkw/s1600/red-balloon-laura-buxton.jpg"/>
          <p:cNvPicPr/>
          <p:nvPr/>
        </p:nvPicPr>
        <p:blipFill>
          <a:blip r:embed="rId3"/>
          <a:stretch/>
        </p:blipFill>
        <p:spPr>
          <a:xfrm>
            <a:off x="6875640" y="3500280"/>
            <a:ext cx="792000" cy="11779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10" descr=""/>
          <p:cNvPicPr/>
          <p:nvPr/>
        </p:nvPicPr>
        <p:blipFill>
          <a:blip r:embed="rId4"/>
          <a:stretch/>
        </p:blipFill>
        <p:spPr>
          <a:xfrm>
            <a:off x="628560" y="2146320"/>
            <a:ext cx="3084480" cy="865080"/>
          </a:xfrm>
          <a:prstGeom prst="rect">
            <a:avLst/>
          </a:prstGeom>
          <a:ln w="0">
            <a:noFill/>
          </a:ln>
        </p:spPr>
      </p:pic>
      <p:pic>
        <p:nvPicPr>
          <p:cNvPr id="643" name="TextBox 12" descr=""/>
          <p:cNvPicPr/>
          <p:nvPr/>
        </p:nvPicPr>
        <p:blipFill>
          <a:blip r:embed="rId5"/>
          <a:stretch/>
        </p:blipFill>
        <p:spPr>
          <a:xfrm>
            <a:off x="3865680" y="3328920"/>
            <a:ext cx="1985760" cy="70020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13" descr=""/>
          <p:cNvPicPr/>
          <p:nvPr/>
        </p:nvPicPr>
        <p:blipFill>
          <a:blip r:embed="rId6"/>
          <a:stretch/>
        </p:blipFill>
        <p:spPr>
          <a:xfrm>
            <a:off x="6784920" y="3816360"/>
            <a:ext cx="1878120" cy="420840"/>
          </a:xfrm>
          <a:prstGeom prst="rect">
            <a:avLst/>
          </a:prstGeom>
          <a:ln w="0">
            <a:noFill/>
          </a:ln>
        </p:spPr>
      </p:pic>
      <p:cxnSp>
        <p:nvCxnSpPr>
          <p:cNvPr id="645" name="Прямая со стрелкой 14"/>
          <p:cNvCxnSpPr/>
          <p:nvPr/>
        </p:nvCxnSpPr>
        <p:spPr>
          <a:xfrm>
            <a:off x="3564000" y="1483920"/>
            <a:ext cx="2448720" cy="1080"/>
          </a:xfrm>
          <a:prstGeom prst="straightConnector1">
            <a:avLst/>
          </a:prstGeom>
          <a:ln w="10152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646" name="Прямая со стрелкой 15"/>
          <p:cNvCxnSpPr/>
          <p:nvPr/>
        </p:nvCxnSpPr>
        <p:spPr>
          <a:xfrm>
            <a:off x="3564000" y="5229000"/>
            <a:ext cx="2448720" cy="1080"/>
          </a:xfrm>
          <a:prstGeom prst="straightConnector1">
            <a:avLst/>
          </a:prstGeom>
          <a:ln w="101520">
            <a:solidFill>
              <a:srgbClr val="99cc00"/>
            </a:solidFill>
            <a:miter/>
            <a:headEnd len="med" type="triangle" w="med"/>
          </a:ln>
        </p:spPr>
      </p:cxnSp>
      <p:sp>
        <p:nvSpPr>
          <p:cNvPr id="647" name="Заголовок 1"/>
          <p:cNvSpPr/>
          <p:nvPr/>
        </p:nvSpPr>
        <p:spPr>
          <a:xfrm>
            <a:off x="250920" y="5732640"/>
            <a:ext cx="8569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Кто выигрывает от повышения ц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Виды  конкуренции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49" name="Picture 2" descr="Картинка 15 из 102542"/>
          <p:cNvPicPr/>
          <p:nvPr/>
        </p:nvPicPr>
        <p:blipFill>
          <a:blip r:embed="rId1"/>
          <a:stretch/>
        </p:blipFill>
        <p:spPr>
          <a:xfrm>
            <a:off x="2627280" y="4149720"/>
            <a:ext cx="4029120" cy="2521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Картинка 17 из 102542"/>
          <p:cNvPicPr/>
          <p:nvPr/>
        </p:nvPicPr>
        <p:blipFill>
          <a:blip r:embed="rId2"/>
          <a:stretch/>
        </p:blipFill>
        <p:spPr>
          <a:xfrm>
            <a:off x="611280" y="11970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http://www.pln-pskov.ru/pictures/0564344354.jpg"/>
          <p:cNvPicPr/>
          <p:nvPr/>
        </p:nvPicPr>
        <p:blipFill>
          <a:blip r:embed="rId3"/>
          <a:stretch/>
        </p:blipFill>
        <p:spPr>
          <a:xfrm>
            <a:off x="4643280" y="1197000"/>
            <a:ext cx="366732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Виды конкуренции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653" name="Содержимое 11"/>
          <p:cNvSpPr/>
          <p:nvPr/>
        </p:nvSpPr>
        <p:spPr>
          <a:xfrm>
            <a:off x="3492360" y="1844640"/>
            <a:ext cx="180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ен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Содержимое 11"/>
          <p:cNvSpPr/>
          <p:nvPr/>
        </p:nvSpPr>
        <p:spPr>
          <a:xfrm>
            <a:off x="2916360" y="3789360"/>
            <a:ext cx="28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цен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https://encrypted-tbn0.google.com/images?q=tbn:ANd9GcThHd-BNmvPlBIwia9hBQhxNIprF5oyaImji4beSIZsRBfTuW9L"/>
          <p:cNvPicPr/>
          <p:nvPr/>
        </p:nvPicPr>
        <p:blipFill>
          <a:blip r:embed="rId1"/>
          <a:stretch/>
        </p:blipFill>
        <p:spPr>
          <a:xfrm>
            <a:off x="5508720" y="1413000"/>
            <a:ext cx="2143080" cy="19447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http://www.pravmir.ru/wp-content/uploads/pravmir-images/competition2-460.jpg"/>
          <p:cNvPicPr/>
          <p:nvPr/>
        </p:nvPicPr>
        <p:blipFill>
          <a:blip r:embed="rId2"/>
          <a:stretch/>
        </p:blipFill>
        <p:spPr>
          <a:xfrm>
            <a:off x="3132000" y="4437000"/>
            <a:ext cx="2594160" cy="20876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https://encrypted-tbn0.google.com/images?q=tbn:ANd9GcROTXfXsh-VvzcUwUThYmLQmIVNxXDRwUmxJo_w9oy_nU_6v6uq"/>
          <p:cNvPicPr/>
          <p:nvPr/>
        </p:nvPicPr>
        <p:blipFill>
          <a:blip r:embed="rId3"/>
          <a:stretch/>
        </p:blipFill>
        <p:spPr>
          <a:xfrm>
            <a:off x="611280" y="141300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9021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Способы неценовой конкуренции</a:t>
            </a:r>
            <a:endParaRPr b="0" lang="en-US" sz="40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59" name="Picture 2" descr="http://www.mebelnet.lv/image/bogfran_divans_boy.jpg"/>
          <p:cNvPicPr/>
          <p:nvPr/>
        </p:nvPicPr>
        <p:blipFill>
          <a:blip r:embed="rId1"/>
          <a:stretch/>
        </p:blipFill>
        <p:spPr>
          <a:xfrm>
            <a:off x="4356000" y="981000"/>
            <a:ext cx="4152960" cy="2273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http://t1.gstatic.com/images?q=tbn:ANd9GcSrpGSm_MLEiT-Gzt4hOrkgOHyWcym223a87Qnfk_S9iAQUFv3bTkrqGF_r"/>
          <p:cNvPicPr/>
          <p:nvPr/>
        </p:nvPicPr>
        <p:blipFill>
          <a:blip r:embed="rId2"/>
          <a:stretch/>
        </p:blipFill>
        <p:spPr>
          <a:xfrm>
            <a:off x="6300720" y="2421000"/>
            <a:ext cx="1524240" cy="685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" descr="http://cs4440.vkontakte.ru/u1690361/114592962/x_4a2efbc0.jpg"/>
          <p:cNvPicPr/>
          <p:nvPr/>
        </p:nvPicPr>
        <p:blipFill>
          <a:blip r:embed="rId3"/>
          <a:stretch/>
        </p:blipFill>
        <p:spPr>
          <a:xfrm>
            <a:off x="539640" y="3573360"/>
            <a:ext cx="3105360" cy="27147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http://www.mebbeli.ru/img/image/garant.jp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84360" y="5013360"/>
            <a:ext cx="1439640" cy="1100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0" descr="http://mini-pes.ru/image/data/gar.gif"/>
          <p:cNvPicPr/>
          <p:nvPr/>
        </p:nvPicPr>
        <p:blipFill>
          <a:blip r:embed="rId5"/>
          <a:stretch/>
        </p:blipFill>
        <p:spPr>
          <a:xfrm>
            <a:off x="1258920" y="1052640"/>
            <a:ext cx="1700280" cy="1728720"/>
          </a:xfrm>
          <a:prstGeom prst="rect">
            <a:avLst/>
          </a:prstGeom>
          <a:ln w="0">
            <a:noFill/>
          </a:ln>
        </p:spPr>
      </p:pic>
      <p:sp>
        <p:nvSpPr>
          <p:cNvPr id="664" name="Прямоугольник 9"/>
          <p:cNvSpPr/>
          <p:nvPr/>
        </p:nvSpPr>
        <p:spPr>
          <a:xfrm>
            <a:off x="1490400" y="6237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Гаран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12"/>
          <p:cNvSpPr/>
          <p:nvPr/>
        </p:nvSpPr>
        <p:spPr>
          <a:xfrm>
            <a:off x="1429200" y="29242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К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4" descr="Картинка 1 из 101939"/>
          <p:cNvPicPr/>
          <p:nvPr/>
        </p:nvPicPr>
        <p:blipFill>
          <a:blip r:embed="rId6"/>
          <a:stretch/>
        </p:blipFill>
        <p:spPr>
          <a:xfrm>
            <a:off x="4788000" y="3860640"/>
            <a:ext cx="3564000" cy="231624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4"/>
          <p:cNvSpPr/>
          <p:nvPr/>
        </p:nvSpPr>
        <p:spPr>
          <a:xfrm>
            <a:off x="5235120" y="335772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Продажа в кре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5"/>
          <p:cNvSpPr/>
          <p:nvPr/>
        </p:nvSpPr>
        <p:spPr>
          <a:xfrm>
            <a:off x="5371560" y="630864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Бойкое место 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93250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Способы неценовой конкуренции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70" name="Picture 2" descr="https://encrypted-tbn3.google.com/images?q=tbn:ANd9GcTs70fuSCX3X2ePLjG9DCZoKi_hY5soKLQbTqkCpcb6bz0UmXhMww"/>
          <p:cNvPicPr/>
          <p:nvPr/>
        </p:nvPicPr>
        <p:blipFill>
          <a:blip r:embed="rId1"/>
          <a:stretch/>
        </p:blipFill>
        <p:spPr>
          <a:xfrm>
            <a:off x="395280" y="692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8" descr="http://svadba-vona.ru/imag/buk_lux2.gif"/>
          <p:cNvPicPr/>
          <p:nvPr/>
        </p:nvPicPr>
        <p:blipFill>
          <a:blip r:embed="rId2"/>
          <a:stretch/>
        </p:blipFill>
        <p:spPr>
          <a:xfrm>
            <a:off x="324000" y="2997360"/>
            <a:ext cx="4103640" cy="307944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10"/>
          <p:cNvSpPr/>
          <p:nvPr/>
        </p:nvSpPr>
        <p:spPr>
          <a:xfrm>
            <a:off x="4827960" y="616572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Детская игровая ком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11"/>
          <p:cNvSpPr/>
          <p:nvPr/>
        </p:nvSpPr>
        <p:spPr>
          <a:xfrm>
            <a:off x="277200" y="616572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Широкий ассорт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12"/>
          <p:cNvSpPr/>
          <p:nvPr/>
        </p:nvSpPr>
        <p:spPr>
          <a:xfrm>
            <a:off x="348840" y="256536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8" descr="http://www.tournavigator.ru/upload_data/articles/detskyi%20turizm/detskie%20kompleksy/102.jpg"/>
          <p:cNvPicPr/>
          <p:nvPr/>
        </p:nvPicPr>
        <p:blipFill>
          <a:blip r:embed="rId3"/>
          <a:stretch/>
        </p:blipFill>
        <p:spPr>
          <a:xfrm>
            <a:off x="4932360" y="3789360"/>
            <a:ext cx="3638520" cy="23130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2" descr="Картинка 6 из 83032"/>
          <p:cNvPicPr/>
          <p:nvPr/>
        </p:nvPicPr>
        <p:blipFill>
          <a:blip r:embed="rId4"/>
          <a:stretch/>
        </p:blipFill>
        <p:spPr>
          <a:xfrm>
            <a:off x="4932360" y="692280"/>
            <a:ext cx="3624120" cy="2039760"/>
          </a:xfrm>
          <a:prstGeom prst="rect">
            <a:avLst/>
          </a:prstGeom>
          <a:ln w="0">
            <a:noFill/>
          </a:ln>
        </p:spPr>
      </p:pic>
      <p:sp>
        <p:nvSpPr>
          <p:cNvPr id="677" name="Прямоугольник 17"/>
          <p:cNvSpPr/>
          <p:nvPr/>
        </p:nvSpPr>
        <p:spPr>
          <a:xfrm>
            <a:off x="4892400" y="278136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Кафе в магаз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Девиз урока:</a:t>
            </a:r>
            <a:br>
              <a:rPr sz="44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Орешек знаний тверд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Но 5Б не привык отступать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Нам расколоть его поможет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Простой девиз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«ХОЧУ ВСЁ ЗНАТЬ!»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12" name="Picture 2" descr="http://mi7ya.ru/wp-content/uploads/2011/04/1115716_nuts_1.jpg"/>
          <p:cNvPicPr/>
          <p:nvPr/>
        </p:nvPicPr>
        <p:blipFill>
          <a:blip r:embed="rId1"/>
          <a:stretch/>
        </p:blipFill>
        <p:spPr>
          <a:xfrm>
            <a:off x="4932360" y="3333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3840" y="549000"/>
            <a:ext cx="89298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Способы неценовой конкуренции</a:t>
            </a:r>
            <a:endParaRPr b="0" lang="en-US" sz="40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79" name="Picture 2" descr="http://rodos-mebli.com.ua/files/images/CongoSofa_650x429.jpg"/>
          <p:cNvPicPr/>
          <p:nvPr/>
        </p:nvPicPr>
        <p:blipFill>
          <a:blip r:embed="rId1"/>
          <a:stretch/>
        </p:blipFill>
        <p:spPr>
          <a:xfrm>
            <a:off x="5219640" y="1413000"/>
            <a:ext cx="3168720" cy="20905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http://vash-master.com.ua/images/foto_video/sborka(korus)-07.gif"/>
          <p:cNvPicPr/>
          <p:nvPr/>
        </p:nvPicPr>
        <p:blipFill>
          <a:blip r:embed="rId2"/>
          <a:stretch/>
        </p:blipFill>
        <p:spPr>
          <a:xfrm>
            <a:off x="5148360" y="4005360"/>
            <a:ext cx="3168720" cy="2232000"/>
          </a:xfrm>
          <a:prstGeom prst="rect">
            <a:avLst/>
          </a:prstGeom>
          <a:ln w="0">
            <a:noFill/>
          </a:ln>
        </p:spPr>
      </p:pic>
      <p:sp>
        <p:nvSpPr>
          <p:cNvPr id="681" name="Прямоугольник 9"/>
          <p:cNvSpPr/>
          <p:nvPr/>
        </p:nvSpPr>
        <p:spPr>
          <a:xfrm>
            <a:off x="539640" y="1197000"/>
            <a:ext cx="3918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Дополнительное обслужи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e0e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доста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e0e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у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e0e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ре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e0e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дизайнерские 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4" descr="https://encrypted-tbn0.google.com/images?q=tbn:ANd9GcS3sCDUgVZ1xoJ6dNtyL-SwqdsN4zgk5ijyc4Qy9ha_S97Po2sNFQ"/>
          <p:cNvPicPr/>
          <p:nvPr/>
        </p:nvPicPr>
        <p:blipFill>
          <a:blip r:embed="rId3"/>
          <a:stretch/>
        </p:blipFill>
        <p:spPr>
          <a:xfrm>
            <a:off x="611280" y="4005360"/>
            <a:ext cx="3351240" cy="220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Последствия конкуренции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-181080" y="1267920"/>
            <a:ext cx="3384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39900"/>
                </a:solidFill>
                <a:uFillTx/>
                <a:latin typeface="Comic Sans MS"/>
              </a:rPr>
              <a:t>Положительные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24000" y="1989000"/>
            <a:ext cx="40399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снижение цен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рост качества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рост ассортимента товар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появление новино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улучшение технолог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экономия ресурсов при производств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284360" y="1267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39900"/>
                </a:solidFill>
                <a:uFillTx/>
                <a:latin typeface="Comic Sans MS"/>
              </a:rPr>
              <a:t>Отрицательные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25920" y="2060280"/>
            <a:ext cx="4618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рис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банкрот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рост безработиц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снижение доходов семе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8" name="Плюс 6"/>
          <p:cNvSpPr/>
          <p:nvPr/>
        </p:nvSpPr>
        <p:spPr>
          <a:xfrm>
            <a:off x="179280" y="2205000"/>
            <a:ext cx="289080" cy="287280"/>
          </a:xfrm>
          <a:custGeom>
            <a:avLst/>
            <a:gdLst>
              <a:gd name="textAreaLeft" fmla="*/ 38160 w 289080"/>
              <a:gd name="textAreaRight" fmla="*/ 250920 w 289080"/>
              <a:gd name="textAreaTop" fmla="*/ 109800 h 287280"/>
              <a:gd name="textAreaBottom" fmla="*/ 177480 h 287280"/>
            </a:gdLst>
            <a:ahLst/>
            <a:rect l="textAreaLeft" t="textAreaTop" r="textAreaRight" b="textAreaBottom"/>
            <a:pathLst>
              <a:path w="288925" h="287337">
                <a:moveTo>
                  <a:pt x="38297" y="109878"/>
                </a:moveTo>
                <a:lnTo>
                  <a:pt x="110672" y="109878"/>
                </a:lnTo>
                <a:lnTo>
                  <a:pt x="110672" y="38087"/>
                </a:lnTo>
                <a:lnTo>
                  <a:pt x="178253" y="38087"/>
                </a:lnTo>
                <a:lnTo>
                  <a:pt x="178253" y="109878"/>
                </a:lnTo>
                <a:lnTo>
                  <a:pt x="250628" y="109878"/>
                </a:lnTo>
                <a:lnTo>
                  <a:pt x="250628" y="177459"/>
                </a:lnTo>
                <a:lnTo>
                  <a:pt x="178253" y="177459"/>
                </a:lnTo>
                <a:lnTo>
                  <a:pt x="178253" y="249250"/>
                </a:lnTo>
                <a:lnTo>
                  <a:pt x="110672" y="249250"/>
                </a:lnTo>
                <a:lnTo>
                  <a:pt x="110672" y="177459"/>
                </a:lnTo>
                <a:lnTo>
                  <a:pt x="38297" y="177459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люс 7"/>
          <p:cNvSpPr/>
          <p:nvPr/>
        </p:nvSpPr>
        <p:spPr>
          <a:xfrm>
            <a:off x="179280" y="2852640"/>
            <a:ext cx="289080" cy="289080"/>
          </a:xfrm>
          <a:custGeom>
            <a:avLst/>
            <a:gdLst>
              <a:gd name="textAreaLeft" fmla="*/ 38160 w 289080"/>
              <a:gd name="textAreaRight" fmla="*/ 250920 w 289080"/>
              <a:gd name="textAreaTop" fmla="*/ 110520 h 289080"/>
              <a:gd name="textAreaBottom" fmla="*/ 178560 h 289080"/>
            </a:gdLst>
            <a:ahLst/>
            <a:rect l="textAreaLeft" t="textAreaTop" r="textAreaRight" b="textAreaBottom"/>
            <a:pathLst>
              <a:path w="288925" h="288925">
                <a:moveTo>
                  <a:pt x="38297" y="110485"/>
                </a:moveTo>
                <a:lnTo>
                  <a:pt x="110485" y="110485"/>
                </a:lnTo>
                <a:lnTo>
                  <a:pt x="110485" y="38297"/>
                </a:lnTo>
                <a:lnTo>
                  <a:pt x="178440" y="38297"/>
                </a:lnTo>
                <a:lnTo>
                  <a:pt x="178440" y="110485"/>
                </a:lnTo>
                <a:lnTo>
                  <a:pt x="250628" y="110485"/>
                </a:lnTo>
                <a:lnTo>
                  <a:pt x="250628" y="178440"/>
                </a:lnTo>
                <a:lnTo>
                  <a:pt x="178440" y="178440"/>
                </a:lnTo>
                <a:lnTo>
                  <a:pt x="178440" y="250628"/>
                </a:lnTo>
                <a:lnTo>
                  <a:pt x="110485" y="250628"/>
                </a:lnTo>
                <a:lnTo>
                  <a:pt x="110485" y="178440"/>
                </a:lnTo>
                <a:lnTo>
                  <a:pt x="38297" y="17844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люс 8"/>
          <p:cNvSpPr/>
          <p:nvPr/>
        </p:nvSpPr>
        <p:spPr>
          <a:xfrm>
            <a:off x="179280" y="3429000"/>
            <a:ext cx="289080" cy="287280"/>
          </a:xfrm>
          <a:custGeom>
            <a:avLst/>
            <a:gdLst>
              <a:gd name="textAreaLeft" fmla="*/ 38160 w 289080"/>
              <a:gd name="textAreaRight" fmla="*/ 250920 w 289080"/>
              <a:gd name="textAreaTop" fmla="*/ 109800 h 287280"/>
              <a:gd name="textAreaBottom" fmla="*/ 177480 h 287280"/>
            </a:gdLst>
            <a:ahLst/>
            <a:rect l="textAreaLeft" t="textAreaTop" r="textAreaRight" b="textAreaBottom"/>
            <a:pathLst>
              <a:path w="288925" h="287338">
                <a:moveTo>
                  <a:pt x="38297" y="109878"/>
                </a:moveTo>
                <a:lnTo>
                  <a:pt x="110672" y="109878"/>
                </a:lnTo>
                <a:lnTo>
                  <a:pt x="110672" y="38087"/>
                </a:lnTo>
                <a:lnTo>
                  <a:pt x="178253" y="38087"/>
                </a:lnTo>
                <a:lnTo>
                  <a:pt x="178253" y="109878"/>
                </a:lnTo>
                <a:lnTo>
                  <a:pt x="250628" y="109878"/>
                </a:lnTo>
                <a:lnTo>
                  <a:pt x="250628" y="177460"/>
                </a:lnTo>
                <a:lnTo>
                  <a:pt x="178253" y="177460"/>
                </a:lnTo>
                <a:lnTo>
                  <a:pt x="178253" y="249251"/>
                </a:lnTo>
                <a:lnTo>
                  <a:pt x="110672" y="249251"/>
                </a:lnTo>
                <a:lnTo>
                  <a:pt x="110672" y="177460"/>
                </a:lnTo>
                <a:lnTo>
                  <a:pt x="38297" y="17746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люс 9"/>
          <p:cNvSpPr/>
          <p:nvPr/>
        </p:nvSpPr>
        <p:spPr>
          <a:xfrm>
            <a:off x="179280" y="4653000"/>
            <a:ext cx="289080" cy="288720"/>
          </a:xfrm>
          <a:custGeom>
            <a:avLst/>
            <a:gdLst>
              <a:gd name="textAreaLeft" fmla="*/ 38160 w 289080"/>
              <a:gd name="textAreaRight" fmla="*/ 250920 w 289080"/>
              <a:gd name="textAreaTop" fmla="*/ 110520 h 288720"/>
              <a:gd name="textAreaBottom" fmla="*/ 178200 h 288720"/>
            </a:gdLst>
            <a:ahLst/>
            <a:rect l="textAreaLeft" t="textAreaTop" r="textAreaRight" b="textAreaBottom"/>
            <a:pathLst>
              <a:path w="288925" h="288925">
                <a:moveTo>
                  <a:pt x="38297" y="110485"/>
                </a:moveTo>
                <a:lnTo>
                  <a:pt x="110485" y="110485"/>
                </a:lnTo>
                <a:lnTo>
                  <a:pt x="110485" y="38297"/>
                </a:lnTo>
                <a:lnTo>
                  <a:pt x="178440" y="38297"/>
                </a:lnTo>
                <a:lnTo>
                  <a:pt x="178440" y="110485"/>
                </a:lnTo>
                <a:lnTo>
                  <a:pt x="250628" y="110485"/>
                </a:lnTo>
                <a:lnTo>
                  <a:pt x="250628" y="178440"/>
                </a:lnTo>
                <a:lnTo>
                  <a:pt x="178440" y="178440"/>
                </a:lnTo>
                <a:lnTo>
                  <a:pt x="178440" y="250628"/>
                </a:lnTo>
                <a:lnTo>
                  <a:pt x="110485" y="250628"/>
                </a:lnTo>
                <a:lnTo>
                  <a:pt x="110485" y="178440"/>
                </a:lnTo>
                <a:lnTo>
                  <a:pt x="38297" y="17844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люс 10"/>
          <p:cNvSpPr/>
          <p:nvPr/>
        </p:nvSpPr>
        <p:spPr>
          <a:xfrm>
            <a:off x="179280" y="5229360"/>
            <a:ext cx="289080" cy="287280"/>
          </a:xfrm>
          <a:custGeom>
            <a:avLst/>
            <a:gdLst>
              <a:gd name="textAreaLeft" fmla="*/ 38160 w 289080"/>
              <a:gd name="textAreaRight" fmla="*/ 250920 w 289080"/>
              <a:gd name="textAreaTop" fmla="*/ 109800 h 287280"/>
              <a:gd name="textAreaBottom" fmla="*/ 177480 h 287280"/>
            </a:gdLst>
            <a:ahLst/>
            <a:rect l="textAreaLeft" t="textAreaTop" r="textAreaRight" b="textAreaBottom"/>
            <a:pathLst>
              <a:path w="288925" h="287338">
                <a:moveTo>
                  <a:pt x="38297" y="109878"/>
                </a:moveTo>
                <a:lnTo>
                  <a:pt x="110672" y="109878"/>
                </a:lnTo>
                <a:lnTo>
                  <a:pt x="110672" y="38087"/>
                </a:lnTo>
                <a:lnTo>
                  <a:pt x="178253" y="38087"/>
                </a:lnTo>
                <a:lnTo>
                  <a:pt x="178253" y="109878"/>
                </a:lnTo>
                <a:lnTo>
                  <a:pt x="250628" y="109878"/>
                </a:lnTo>
                <a:lnTo>
                  <a:pt x="250628" y="177460"/>
                </a:lnTo>
                <a:lnTo>
                  <a:pt x="178253" y="177460"/>
                </a:lnTo>
                <a:lnTo>
                  <a:pt x="178253" y="249251"/>
                </a:lnTo>
                <a:lnTo>
                  <a:pt x="110672" y="249251"/>
                </a:lnTo>
                <a:lnTo>
                  <a:pt x="110672" y="177460"/>
                </a:lnTo>
                <a:lnTo>
                  <a:pt x="38297" y="17746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люс 11"/>
          <p:cNvSpPr/>
          <p:nvPr/>
        </p:nvSpPr>
        <p:spPr>
          <a:xfrm>
            <a:off x="179280" y="5877000"/>
            <a:ext cx="289080" cy="288720"/>
          </a:xfrm>
          <a:custGeom>
            <a:avLst/>
            <a:gdLst>
              <a:gd name="textAreaLeft" fmla="*/ 38160 w 289080"/>
              <a:gd name="textAreaRight" fmla="*/ 250920 w 289080"/>
              <a:gd name="textAreaTop" fmla="*/ 110520 h 288720"/>
              <a:gd name="textAreaBottom" fmla="*/ 178200 h 288720"/>
            </a:gdLst>
            <a:ahLst/>
            <a:rect l="textAreaLeft" t="textAreaTop" r="textAreaRight" b="textAreaBottom"/>
            <a:pathLst>
              <a:path w="288925" h="288925">
                <a:moveTo>
                  <a:pt x="38297" y="110485"/>
                </a:moveTo>
                <a:lnTo>
                  <a:pt x="110485" y="110485"/>
                </a:lnTo>
                <a:lnTo>
                  <a:pt x="110485" y="38297"/>
                </a:lnTo>
                <a:lnTo>
                  <a:pt x="178440" y="38297"/>
                </a:lnTo>
                <a:lnTo>
                  <a:pt x="178440" y="110485"/>
                </a:lnTo>
                <a:lnTo>
                  <a:pt x="250628" y="110485"/>
                </a:lnTo>
                <a:lnTo>
                  <a:pt x="250628" y="178440"/>
                </a:lnTo>
                <a:lnTo>
                  <a:pt x="178440" y="178440"/>
                </a:lnTo>
                <a:lnTo>
                  <a:pt x="178440" y="250628"/>
                </a:lnTo>
                <a:lnTo>
                  <a:pt x="110485" y="250628"/>
                </a:lnTo>
                <a:lnTo>
                  <a:pt x="110485" y="178440"/>
                </a:lnTo>
                <a:lnTo>
                  <a:pt x="38297" y="17844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Минус 12"/>
          <p:cNvSpPr/>
          <p:nvPr/>
        </p:nvSpPr>
        <p:spPr>
          <a:xfrm>
            <a:off x="4284720" y="2276640"/>
            <a:ext cx="216000" cy="360360"/>
          </a:xfrm>
          <a:custGeom>
            <a:avLst/>
            <a:gdLst>
              <a:gd name="textAreaLeft" fmla="*/ 28440 w 216000"/>
              <a:gd name="textAreaRight" fmla="*/ 187560 w 216000"/>
              <a:gd name="textAreaTop" fmla="*/ 137880 h 360360"/>
              <a:gd name="textAreaBottom" fmla="*/ 222480 h 360360"/>
            </a:gdLst>
            <a:ahLst/>
            <a:rect l="textAreaLeft" t="textAreaTop" r="textAreaRight" b="textAreaBottom"/>
            <a:pathLst>
              <a:path w="215900" h="360363">
                <a:moveTo>
                  <a:pt x="28618" y="137803"/>
                </a:moveTo>
                <a:lnTo>
                  <a:pt x="187282" y="137803"/>
                </a:lnTo>
                <a:lnTo>
                  <a:pt x="187282" y="222560"/>
                </a:lnTo>
                <a:lnTo>
                  <a:pt x="28618" y="22256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инус 13"/>
          <p:cNvSpPr/>
          <p:nvPr/>
        </p:nvSpPr>
        <p:spPr>
          <a:xfrm>
            <a:off x="4284720" y="2924280"/>
            <a:ext cx="216000" cy="360360"/>
          </a:xfrm>
          <a:custGeom>
            <a:avLst/>
            <a:gdLst>
              <a:gd name="textAreaLeft" fmla="*/ 28440 w 216000"/>
              <a:gd name="textAreaRight" fmla="*/ 187560 w 216000"/>
              <a:gd name="textAreaTop" fmla="*/ 137880 h 360360"/>
              <a:gd name="textAreaBottom" fmla="*/ 222480 h 360360"/>
            </a:gdLst>
            <a:ahLst/>
            <a:rect l="textAreaLeft" t="textAreaTop" r="textAreaRight" b="textAreaBottom"/>
            <a:pathLst>
              <a:path w="215900" h="360363">
                <a:moveTo>
                  <a:pt x="28618" y="137803"/>
                </a:moveTo>
                <a:lnTo>
                  <a:pt x="187282" y="137803"/>
                </a:lnTo>
                <a:lnTo>
                  <a:pt x="187282" y="222560"/>
                </a:lnTo>
                <a:lnTo>
                  <a:pt x="28618" y="22256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Минус 14"/>
          <p:cNvSpPr/>
          <p:nvPr/>
        </p:nvSpPr>
        <p:spPr>
          <a:xfrm>
            <a:off x="4284720" y="3500280"/>
            <a:ext cx="216000" cy="360360"/>
          </a:xfrm>
          <a:custGeom>
            <a:avLst/>
            <a:gdLst>
              <a:gd name="textAreaLeft" fmla="*/ 28440 w 216000"/>
              <a:gd name="textAreaRight" fmla="*/ 187560 w 216000"/>
              <a:gd name="textAreaTop" fmla="*/ 137880 h 360360"/>
              <a:gd name="textAreaBottom" fmla="*/ 222480 h 360360"/>
            </a:gdLst>
            <a:ahLst/>
            <a:rect l="textAreaLeft" t="textAreaTop" r="textAreaRight" b="textAreaBottom"/>
            <a:pathLst>
              <a:path w="215900" h="360362">
                <a:moveTo>
                  <a:pt x="28618" y="137802"/>
                </a:moveTo>
                <a:lnTo>
                  <a:pt x="187282" y="137802"/>
                </a:lnTo>
                <a:lnTo>
                  <a:pt x="187282" y="222560"/>
                </a:lnTo>
                <a:lnTo>
                  <a:pt x="28618" y="22256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Минус 15"/>
          <p:cNvSpPr/>
          <p:nvPr/>
        </p:nvSpPr>
        <p:spPr>
          <a:xfrm>
            <a:off x="4356000" y="4149720"/>
            <a:ext cx="216000" cy="358920"/>
          </a:xfrm>
          <a:custGeom>
            <a:avLst/>
            <a:gdLst>
              <a:gd name="textAreaLeft" fmla="*/ 28440 w 216000"/>
              <a:gd name="textAreaRight" fmla="*/ 187560 w 216000"/>
              <a:gd name="textAreaTop" fmla="*/ 137160 h 358920"/>
              <a:gd name="textAreaBottom" fmla="*/ 221760 h 358920"/>
            </a:gdLst>
            <a:ahLst/>
            <a:rect l="textAreaLeft" t="textAreaTop" r="textAreaRight" b="textAreaBottom"/>
            <a:pathLst>
              <a:path w="215900" h="358775">
                <a:moveTo>
                  <a:pt x="28618" y="137196"/>
                </a:moveTo>
                <a:lnTo>
                  <a:pt x="187282" y="137196"/>
                </a:lnTo>
                <a:lnTo>
                  <a:pt x="187282" y="221579"/>
                </a:lnTo>
                <a:lnTo>
                  <a:pt x="28618" y="221579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99" name="Picture 4" descr="http://img.ria.ua/photos/rabota/articles/0/1/126/126m.jpg"/>
          <p:cNvPicPr/>
          <p:nvPr/>
        </p:nvPicPr>
        <p:blipFill>
          <a:blip r:embed="rId1"/>
          <a:stretch/>
        </p:blipFill>
        <p:spPr>
          <a:xfrm>
            <a:off x="826920" y="2565360"/>
            <a:ext cx="3924360" cy="26067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" descr="Картинка 35 из 82142"/>
          <p:cNvPicPr/>
          <p:nvPr/>
        </p:nvPicPr>
        <p:blipFill>
          <a:blip r:embed="rId2"/>
          <a:stretch/>
        </p:blipFill>
        <p:spPr>
          <a:xfrm>
            <a:off x="5148360" y="2492280"/>
            <a:ext cx="2255760" cy="2665440"/>
          </a:xfrm>
          <a:prstGeom prst="rect">
            <a:avLst/>
          </a:prstGeom>
          <a:ln w="0">
            <a:noFill/>
          </a:ln>
        </p:spPr>
      </p:pic>
      <p:grpSp>
        <p:nvGrpSpPr>
          <p:cNvPr id="701" name="Овальная выноска 4"/>
          <p:cNvGrpSpPr/>
          <p:nvPr/>
        </p:nvGrpSpPr>
        <p:grpSpPr>
          <a:xfrm>
            <a:off x="79200" y="5205240"/>
            <a:ext cx="8906040" cy="1579680"/>
            <a:chOff x="79200" y="5205240"/>
            <a:chExt cx="8906040" cy="1579680"/>
          </a:xfrm>
        </p:grpSpPr>
        <p:pic>
          <p:nvPicPr>
            <p:cNvPr id="702" name="Овальная выноска 4" descr=""/>
            <p:cNvPicPr/>
            <p:nvPr/>
          </p:nvPicPr>
          <p:blipFill>
            <a:blip r:embed="rId3"/>
            <a:stretch/>
          </p:blipFill>
          <p:spPr>
            <a:xfrm>
              <a:off x="79200" y="5205240"/>
              <a:ext cx="890604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1405080" y="5429160"/>
              <a:ext cx="62625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e0e38"/>
                  </a:solidFill>
                  <a:latin typeface="Comic Sans MS"/>
                </a:rPr>
                <a:t>Из 100 новых фирм за год остаются на плаву только 10 ! ! 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Овальная выноска 5"/>
          <p:cNvGrpSpPr/>
          <p:nvPr/>
        </p:nvGrpSpPr>
        <p:grpSpPr>
          <a:xfrm>
            <a:off x="152280" y="92160"/>
            <a:ext cx="8832960" cy="2395440"/>
            <a:chOff x="152280" y="92160"/>
            <a:chExt cx="8832960" cy="2395440"/>
          </a:xfrm>
        </p:grpSpPr>
        <p:pic>
          <p:nvPicPr>
            <p:cNvPr id="705" name="Овальная выноска 5" descr=""/>
            <p:cNvPicPr/>
            <p:nvPr/>
          </p:nvPicPr>
          <p:blipFill>
            <a:blip r:embed="rId4"/>
            <a:stretch/>
          </p:blipFill>
          <p:spPr>
            <a:xfrm>
              <a:off x="152280" y="92160"/>
              <a:ext cx="883296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1465200" y="422280"/>
              <a:ext cx="621360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e0e38"/>
                  </a:solidFill>
                  <a:latin typeface="Comic Sans MS"/>
                </a:rPr>
                <a:t>Когда вы бежите, конкуренты покусывают вас сзади; но если вы остановитесь, они вас сожрут</a:t>
              </a:r>
              <a:r>
                <a:rPr b="1" lang="ru-RU" sz="3200" spc="-1" strike="noStrike">
                  <a:solidFill>
                    <a:srgbClr val="5e0e38"/>
                  </a:solidFill>
                  <a:latin typeface="Comic Sans MS"/>
                </a:rPr>
                <a:t> </a:t>
              </a:r>
              <a:br>
                <a:rPr sz="3200"/>
              </a:br>
              <a:r>
                <a:rPr b="1" lang="ru-RU" sz="3200" spc="-1" strike="noStrike">
                  <a:solidFill>
                    <a:srgbClr val="5e0e38"/>
                  </a:solidFill>
                  <a:latin typeface="Comic Sans MS"/>
                </a:rPr>
                <a:t>      </a:t>
              </a:r>
              <a:r>
                <a:rPr b="1" lang="ru-RU" sz="2400" spc="-1" strike="noStrike">
                  <a:solidFill>
                    <a:srgbClr val="5e0e38"/>
                  </a:solidFill>
                  <a:latin typeface="Comic Sans MS"/>
                </a:rPr>
                <a:t>У.Кнудс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64720" cy="279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Рыбы в море поступают как люди на земле: большие поедают малых.</a:t>
            </a:r>
            <a:br>
              <a:rPr sz="3200"/>
            </a:b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У.Шекспир</a:t>
            </a:r>
            <a:endParaRPr b="0" lang="en-US" sz="32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708" name="Picture 2" descr="Картинка 1 из 82142"/>
          <p:cNvPicPr/>
          <p:nvPr/>
        </p:nvPicPr>
        <p:blipFill>
          <a:blip r:embed="rId1"/>
          <a:stretch/>
        </p:blipFill>
        <p:spPr>
          <a:xfrm>
            <a:off x="2556000" y="3284640"/>
            <a:ext cx="3809880" cy="32385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4" descr="https://encrypted-tbn3.google.com/images?q=tbn:ANd9GcTdByjYjJDbvQgQ4P0I3DYGfXnUEj08ycwnnJfi7jbdNM4WBZJe"/>
          <p:cNvPicPr/>
          <p:nvPr/>
        </p:nvPicPr>
        <p:blipFill>
          <a:blip r:embed="rId2"/>
          <a:stretch/>
        </p:blipFill>
        <p:spPr>
          <a:xfrm>
            <a:off x="3708360" y="189000"/>
            <a:ext cx="1333440" cy="132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22417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Comic Sans MS"/>
              </a:rPr>
              <a:t>                    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В.В.Путин:</a:t>
            </a:r>
            <a:endParaRPr b="0" lang="en-US" sz="28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276360" y="259920"/>
            <a:ext cx="5398920" cy="63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5e0e38"/>
                </a:solidFill>
                <a:latin typeface="Comic Sans MS"/>
              </a:rPr>
              <a:t>«Наши</a:t>
            </a:r>
            <a:r>
              <a:rPr b="0" lang="ru-RU" sz="2400" spc="-1" strike="noStrike">
                <a:solidFill>
                  <a:srgbClr val="5e0e38"/>
                </a:solidFill>
                <a:latin typeface="Cambria"/>
              </a:rPr>
              <a:t> планы по развитию конкуренции делятся на два крупных блока. </a:t>
            </a:r>
            <a:r>
              <a:rPr b="0" lang="ru-RU" sz="2400" spc="-1" strike="noStrike" u="sng">
                <a:solidFill>
                  <a:srgbClr val="5e0e38"/>
                </a:solidFill>
                <a:uFillTx/>
                <a:latin typeface="Cambria"/>
              </a:rPr>
              <a:t>Первый блок </a:t>
            </a:r>
            <a:r>
              <a:rPr b="0" lang="ru-RU" sz="2400" spc="-1" strike="noStrike">
                <a:solidFill>
                  <a:srgbClr val="5e0e38"/>
                </a:solidFill>
                <a:latin typeface="Cambria"/>
              </a:rPr>
              <a:t>– это защита конкуренции…. </a:t>
            </a:r>
            <a:r>
              <a:rPr b="0" lang="ru-RU" sz="2400" spc="-1" strike="noStrike" u="sng">
                <a:solidFill>
                  <a:srgbClr val="5e0e38"/>
                </a:solidFill>
                <a:uFillTx/>
                <a:latin typeface="Cambria"/>
              </a:rPr>
              <a:t>Второй блок </a:t>
            </a:r>
            <a:r>
              <a:rPr b="0" lang="ru-RU" sz="2400" spc="-1" strike="noStrike">
                <a:solidFill>
                  <a:srgbClr val="5e0e38"/>
                </a:solidFill>
                <a:latin typeface="Cambria"/>
              </a:rPr>
              <a:t>- …создание максимально благоприятных условий для появления и выхода на рынки новых высокоэффективных хозяйствующих субъектов.»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99640" y="1434960"/>
            <a:ext cx="18716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13" name="Picture 8" descr="http://t1.gstatic.com/images?q=tbn:ANd9GcQvxqk17w8FhlQ6vLrmC8Uj9WwZfNkgOGPO8XFj8d42bCIdHi2bjw"/>
          <p:cNvPicPr/>
          <p:nvPr/>
        </p:nvPicPr>
        <p:blipFill>
          <a:blip r:embed="rId1"/>
          <a:stretch/>
        </p:blipFill>
        <p:spPr>
          <a:xfrm>
            <a:off x="250920" y="907920"/>
            <a:ext cx="2835360" cy="283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27280" y="836640"/>
            <a:ext cx="3492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Совершенству</a:t>
            </a:r>
            <a:br>
              <a:rPr sz="3200"/>
            </a:b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 нет предела.</a:t>
            </a:r>
            <a:endParaRPr b="0" lang="en-US" sz="32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715" name="Picture 4" descr="LATL0005"/>
          <p:cNvPicPr/>
          <p:nvPr/>
        </p:nvPicPr>
        <p:blipFill>
          <a:blip r:embed="rId1"/>
          <a:stretch/>
        </p:blipFill>
        <p:spPr>
          <a:xfrm>
            <a:off x="468360" y="476280"/>
            <a:ext cx="3925800" cy="2325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http://t0.gstatic.com/images?q=tbn:ANd9GcTKn7gEceVgesTKeM8W06gie8rB47D_7X-BAwTbxM6NHko6ukAJ"/>
          <p:cNvPicPr/>
          <p:nvPr/>
        </p:nvPicPr>
        <p:blipFill>
          <a:blip r:embed="rId2"/>
          <a:stretch/>
        </p:blipFill>
        <p:spPr>
          <a:xfrm>
            <a:off x="5003640" y="2924280"/>
            <a:ext cx="3749760" cy="2808360"/>
          </a:xfrm>
          <a:prstGeom prst="rect">
            <a:avLst/>
          </a:prstGeom>
          <a:ln w="0">
            <a:noFill/>
          </a:ln>
        </p:spPr>
      </p:pic>
      <p:sp>
        <p:nvSpPr>
          <p:cNvPr id="717" name="Прямоугольник 5"/>
          <p:cNvSpPr/>
          <p:nvPr/>
        </p:nvSpPr>
        <p:spPr>
          <a:xfrm>
            <a:off x="395280" y="3429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Шаг за шагом упорно боритесь и прежде всего со своей ленью.   Это путь к успеху</a:t>
            </a:r>
            <a:r>
              <a:rPr b="0" lang="ru-RU" sz="1800" spc="-1" strike="noStrike">
                <a:solidFill>
                  <a:srgbClr val="5e0e38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Заголовок 1"/>
          <p:cNvSpPr/>
          <p:nvPr/>
        </p:nvSpPr>
        <p:spPr>
          <a:xfrm>
            <a:off x="468360" y="189000"/>
            <a:ext cx="74674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Подведем итог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Содержимое 2"/>
          <p:cNvSpPr/>
          <p:nvPr/>
        </p:nvSpPr>
        <p:spPr>
          <a:xfrm>
            <a:off x="285840" y="836640"/>
            <a:ext cx="86072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Что вы узнали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Все ли вы поня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Интересно ли было вам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4" descr="https://encrypted-tbn3.google.com/images?q=tbn:ANd9GcSXYi5O3bO46O8UUHEZUjB9DqhOkWavLN1ck8aXiu5z2A4fx6XphA"/>
          <p:cNvPicPr/>
          <p:nvPr/>
        </p:nvPicPr>
        <p:blipFill>
          <a:blip r:embed="rId1"/>
          <a:stretch/>
        </p:blipFill>
        <p:spPr>
          <a:xfrm>
            <a:off x="900000" y="2637000"/>
            <a:ext cx="1222560" cy="13683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" descr="http://ci.alamogordo.nm.us/Assets/COA+Document/Community+Services/Alamogordo+Family+Rec+Center/Hot+Air+Balloon.gif"/>
          <p:cNvPicPr/>
          <p:nvPr/>
        </p:nvPicPr>
        <p:blipFill>
          <a:blip r:embed="rId2"/>
          <a:stretch/>
        </p:blipFill>
        <p:spPr>
          <a:xfrm>
            <a:off x="2700360" y="3933720"/>
            <a:ext cx="1316160" cy="1656000"/>
          </a:xfrm>
          <a:prstGeom prst="rect">
            <a:avLst/>
          </a:prstGeom>
          <a:ln w="0">
            <a:noFill/>
          </a:ln>
        </p:spPr>
      </p:pic>
      <p:pic>
        <p:nvPicPr>
          <p:cNvPr id="722" name="Прямоугольник 9" descr=""/>
          <p:cNvPicPr/>
          <p:nvPr/>
        </p:nvPicPr>
        <p:blipFill>
          <a:blip r:embed="rId3"/>
          <a:stretch/>
        </p:blipFill>
        <p:spPr>
          <a:xfrm>
            <a:off x="2908440" y="4548240"/>
            <a:ext cx="957240" cy="4078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2" descr="http://prouglich.ru/wp-content/uploads/051200431.jpg"/>
          <p:cNvPicPr/>
          <p:nvPr/>
        </p:nvPicPr>
        <p:blipFill>
          <a:blip r:embed="rId4"/>
          <a:stretch/>
        </p:blipFill>
        <p:spPr>
          <a:xfrm>
            <a:off x="755640" y="4221000"/>
            <a:ext cx="1444680" cy="10796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2" descr="https://encrypted-tbn2.google.com/images?q=tbn:ANd9GcS3BUPHZts9KFIVtXrPnvEvRq7odty4XL1jh7xESSP2_Gs5oJ6GSQ"/>
          <p:cNvPicPr/>
          <p:nvPr/>
        </p:nvPicPr>
        <p:blipFill>
          <a:blip r:embed="rId5"/>
          <a:stretch/>
        </p:blipFill>
        <p:spPr>
          <a:xfrm>
            <a:off x="826920" y="5732640"/>
            <a:ext cx="1298880" cy="8665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0" descr="https://encrypted-tbn0.google.com/images?q=tbn:ANd9GcThHd-BNmvPlBIwia9hBQhxNIprF5oyaImji4beSIZsRBfTuW9L"/>
          <p:cNvPicPr/>
          <p:nvPr/>
        </p:nvPicPr>
        <p:blipFill>
          <a:blip r:embed="rId6"/>
          <a:stretch/>
        </p:blipFill>
        <p:spPr>
          <a:xfrm>
            <a:off x="2771640" y="5661000"/>
            <a:ext cx="1206720" cy="10954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0" descr="http://mini-pes.ru/image/data/gar.gif"/>
          <p:cNvPicPr/>
          <p:nvPr/>
        </p:nvPicPr>
        <p:blipFill>
          <a:blip r:embed="rId7"/>
          <a:stretch/>
        </p:blipFill>
        <p:spPr>
          <a:xfrm>
            <a:off x="4643280" y="2708280"/>
            <a:ext cx="1204920" cy="12254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http://3.bp.blogspot.com/_4kkT22kuvoA/S_aQ848r1mI/AAAAAAAACdk/zR8kgcufVkw/s1600/red-balloon-laura-buxton.jpg"/>
          <p:cNvPicPr/>
          <p:nvPr/>
        </p:nvPicPr>
        <p:blipFill>
          <a:blip r:embed="rId8"/>
          <a:stretch/>
        </p:blipFill>
        <p:spPr>
          <a:xfrm>
            <a:off x="2916360" y="2637000"/>
            <a:ext cx="792000" cy="1177920"/>
          </a:xfrm>
          <a:prstGeom prst="rect">
            <a:avLst/>
          </a:prstGeom>
          <a:ln w="0">
            <a:noFill/>
          </a:ln>
        </p:spPr>
      </p:pic>
      <p:pic>
        <p:nvPicPr>
          <p:cNvPr id="728" name="Прямоугольник 16" descr=""/>
          <p:cNvPicPr/>
          <p:nvPr/>
        </p:nvPicPr>
        <p:blipFill>
          <a:blip r:embed="rId9"/>
          <a:stretch/>
        </p:blipFill>
        <p:spPr>
          <a:xfrm>
            <a:off x="2835360" y="2889360"/>
            <a:ext cx="955440" cy="4078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C:\Users\Сталкер\Desktop\images (9).jpg"/>
          <p:cNvPicPr/>
          <p:nvPr/>
        </p:nvPicPr>
        <p:blipFill>
          <a:blip r:embed="rId10"/>
          <a:stretch/>
        </p:blipFill>
        <p:spPr>
          <a:xfrm>
            <a:off x="6804000" y="4292640"/>
            <a:ext cx="1582920" cy="10080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" descr="https://encrypted-tbn1.google.com/images?q=tbn:ANd9GcQtbEH6iVOhj3YJ3PSFYDH0q5IdkxazlnnUPJPgmOKkC56mO-CH"/>
          <p:cNvPicPr/>
          <p:nvPr/>
        </p:nvPicPr>
        <p:blipFill>
          <a:blip r:embed="rId11"/>
          <a:stretch/>
        </p:blipFill>
        <p:spPr>
          <a:xfrm>
            <a:off x="6732720" y="2708280"/>
            <a:ext cx="1601640" cy="120816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" descr="https://encrypted-tbn1.google.com/images?q=tbn:ANd9GcTC_VWiSdgMdPCrgNO8BwGJ-Geyly5QoAkN2TH-RQLVGvYIrCtF"/>
          <p:cNvPicPr/>
          <p:nvPr/>
        </p:nvPicPr>
        <p:blipFill>
          <a:blip r:embed="rId12"/>
          <a:stretch/>
        </p:blipFill>
        <p:spPr>
          <a:xfrm>
            <a:off x="4716360" y="4292640"/>
            <a:ext cx="1440000" cy="10364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4" descr="http://img.ria.ua/photos/rabota/articles/0/1/126/126m.jpg"/>
          <p:cNvPicPr/>
          <p:nvPr/>
        </p:nvPicPr>
        <p:blipFill>
          <a:blip r:embed="rId13"/>
          <a:stretch/>
        </p:blipFill>
        <p:spPr>
          <a:xfrm>
            <a:off x="4643280" y="5661000"/>
            <a:ext cx="1517760" cy="100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http://t0.gstatic.com/images?q=tbn:ANd9GcTKn7gEceVgesTKeM8W06gie8rB47D_7X-BAwTbxM6NHko6ukAJ"/>
          <p:cNvPicPr/>
          <p:nvPr/>
        </p:nvPicPr>
        <p:blipFill>
          <a:blip r:embed="rId14"/>
          <a:stretch/>
        </p:blipFill>
        <p:spPr>
          <a:xfrm>
            <a:off x="6875640" y="5589720"/>
            <a:ext cx="1584000" cy="1074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7" descr="https://encrypted-tbn0.google.com/images?q=tbn:ANd9GcTlKdVUKqoQ4W_q0HmTREU10IFr5Ct5H2hcbdCr0KS8qPl2bxOlHQ"/>
          <p:cNvPicPr/>
          <p:nvPr/>
        </p:nvPicPr>
        <p:blipFill>
          <a:blip r:embed="rId15"/>
          <a:stretch/>
        </p:blipFill>
        <p:spPr>
          <a:xfrm>
            <a:off x="7380360" y="620640"/>
            <a:ext cx="1258920" cy="117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Домашнее задание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 стр. 126-127, Рабочая тетрадь                                 «3»</a:t>
            </a: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выучить в рамках;</a:t>
            </a:r>
            <a:br>
              <a:rPr sz="2800"/>
            </a:b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«4»</a:t>
            </a: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пересказ;</a:t>
            </a:r>
            <a:br>
              <a:rPr sz="2800"/>
            </a:b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«5»</a:t>
            </a: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пересказ с практическими примерами; </a:t>
            </a:r>
            <a:br>
              <a:rPr sz="2800"/>
            </a:b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+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«5»</a:t>
            </a: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задание по желанию 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- исследование №2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«Как изменилась конкуренция продуктовых магазинов на Восточном посёлке г. Павлово,  сравнить  1990 год и 2013 год».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736" name="Picture 2" descr="http://mi7ya.ru/wp-content/uploads/2011/04/1115716_nuts_1.jpg"/>
          <p:cNvPicPr/>
          <p:nvPr/>
        </p:nvPicPr>
        <p:blipFill>
          <a:blip r:embed="rId1"/>
          <a:stretch/>
        </p:blipFill>
        <p:spPr>
          <a:xfrm>
            <a:off x="6948360" y="620640"/>
            <a:ext cx="1489320" cy="148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Comic Sans MS"/>
              </a:rPr>
              <a:t>     </a:t>
            </a: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Спасибо за работу!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738" name="Picture 2" descr="https://encrypted-tbn3.google.com/images?q=tbn:ANd9GcSgg85MQVvjidBifCJ5lgNHa2LpLU_iJTtCOs0kXVa2HPb5Hv97Mw"/>
          <p:cNvPicPr/>
          <p:nvPr/>
        </p:nvPicPr>
        <p:blipFill>
          <a:blip r:embed="rId1"/>
          <a:stretch/>
        </p:blipFill>
        <p:spPr>
          <a:xfrm>
            <a:off x="3348000" y="28526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Заголовок 1"/>
          <p:cNvSpPr/>
          <p:nvPr/>
        </p:nvSpPr>
        <p:spPr>
          <a:xfrm>
            <a:off x="826920" y="260280"/>
            <a:ext cx="74678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Набери номер телефона, чтобы узнать тему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Кольцо 2"/>
          <p:cNvSpPr/>
          <p:nvPr/>
        </p:nvSpPr>
        <p:spPr>
          <a:xfrm>
            <a:off x="2286000" y="1928880"/>
            <a:ext cx="4286160" cy="4214880"/>
          </a:xfrm>
          <a:custGeom>
            <a:avLst/>
            <a:gdLst>
              <a:gd name="textAreaLeft" fmla="*/ 627480 w 4286160"/>
              <a:gd name="textAreaRight" fmla="*/ 3658680 w 4286160"/>
              <a:gd name="textAreaTop" fmla="*/ 617040 h 4214880"/>
              <a:gd name="textAreaBottom" fmla="*/ 3597840 h 4214880"/>
            </a:gdLst>
            <a:ahLst/>
            <a:rect l="textAreaLeft" t="textAreaTop" r="textAreaRight" b="textAreaBottom"/>
            <a:pathLst>
              <a:path w="4286250" h="4214812">
                <a:moveTo>
                  <a:pt x="0" y="2107406"/>
                </a:moveTo>
                <a:lnTo>
                  <a:pt x="0" y="2107406"/>
                </a:lnTo>
                <a:arcTo wR="2143125" hR="2107406" stAng="-10799997" swAng="5400003"/>
                <a:lnTo>
                  <a:pt x="2143129" y="2"/>
                </a:lnTo>
                <a:arcTo wR="2143125" hR="2107406" stAng="-5399997" swAng="5400003"/>
                <a:lnTo>
                  <a:pt x="4286252" y="2107412"/>
                </a:lnTo>
                <a:arcTo wR="2143125" hR="2107406" stAng="0" swAng="5400002"/>
                <a:lnTo>
                  <a:pt x="2143126" y="4214818"/>
                </a:lnTo>
                <a:arcTo wR="2143125" hR="2107406" stAng="5400002" swAng="5400002"/>
                <a:close/>
                <a:moveTo>
                  <a:pt x="519012" y="2107406"/>
                </a:moveTo>
                <a:lnTo>
                  <a:pt x="519012" y="2107406"/>
                </a:lnTo>
                <a:arcTo wR="1624113" hR="1588394" stAng="-10799996" swAng="-5400000"/>
                <a:lnTo>
                  <a:pt x="2143123" y="3695802"/>
                </a:lnTo>
                <a:arcTo wR="1624113" hR="1588394" stAng="5400002" swAng="-5400000"/>
                <a:lnTo>
                  <a:pt x="3767237" y="2107409"/>
                </a:lnTo>
                <a:arcTo wR="1624113" hR="1588394" stAng="0" swAng="-5400000"/>
                <a:lnTo>
                  <a:pt x="2143124" y="519015"/>
                </a:lnTo>
                <a:arcTo wR="1624113" hR="1588394" stAng="-5399996" swAng="-5400000"/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Знак запрета 3"/>
          <p:cNvSpPr/>
          <p:nvPr/>
        </p:nvSpPr>
        <p:spPr>
          <a:xfrm rot="18932400">
            <a:off x="3315960" y="2889000"/>
            <a:ext cx="2225520" cy="2222280"/>
          </a:xfrm>
          <a:custGeom>
            <a:avLst/>
            <a:gdLst>
              <a:gd name="textAreaLeft" fmla="*/ 325800 w 2225520"/>
              <a:gd name="textAreaRight" fmla="*/ 1899720 w 2225520"/>
              <a:gd name="textAreaTop" fmla="*/ 325440 h 2222280"/>
              <a:gd name="textAreaBottom" fmla="*/ 1896840 h 2222280"/>
            </a:gdLst>
            <a:ahLst/>
            <a:rect l="textAreaLeft" t="textAreaTop" r="textAreaRight" b="textAreaBottom"/>
            <a:pathLst>
              <a:path w="2225675" h="2222500">
                <a:moveTo>
                  <a:pt x="0" y="1111250"/>
                </a:moveTo>
                <a:lnTo>
                  <a:pt x="0" y="1111250"/>
                </a:lnTo>
                <a:arcTo wR="1112838" hR="1111250" stAng="-10799997" swAng="5400003"/>
                <a:lnTo>
                  <a:pt x="1112840" y="1"/>
                </a:lnTo>
                <a:arcTo wR="1112838" hR="1111250" stAng="-5399997" swAng="5400003"/>
                <a:lnTo>
                  <a:pt x="2225677" y="1111253"/>
                </a:lnTo>
                <a:arcTo wR="1112838" hR="1111250" stAng="0" swAng="5400003"/>
                <a:lnTo>
                  <a:pt x="1112838" y="2222503"/>
                </a:lnTo>
                <a:arcTo wR="1112838" hR="1111250" stAng="5400003" swAng="5400000"/>
                <a:close/>
                <a:moveTo>
                  <a:pt x="1663202" y="1322707"/>
                </a:moveTo>
                <a:lnTo>
                  <a:pt x="1663202" y="1322707"/>
                </a:lnTo>
                <a:arcTo wR="589794" hR="588207" stAng="1261043" swAng="-7926997"/>
                <a:close/>
                <a:moveTo>
                  <a:pt x="562473" y="899793"/>
                </a:moveTo>
                <a:lnTo>
                  <a:pt x="562473" y="899793"/>
                </a:lnTo>
                <a:arcTo wR="589794" hR="588207" stAng="-9538957" swAng="-7927004"/>
                <a:close/>
              </a:path>
            </a:pathLst>
          </a:custGeom>
          <a:gradFill rotWithShape="0">
            <a:gsLst>
              <a:gs pos="0">
                <a:srgbClr val="a2a23e"/>
              </a:gs>
              <a:gs pos="100000">
                <a:srgbClr val="d8d852"/>
              </a:gs>
            </a:gsLst>
            <a:lin ang="18870000"/>
          </a:gradFill>
          <a:ln w="9360">
            <a:solidFill>
              <a:srgbClr val="caca61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Равнобедренный треугольник 4"/>
          <p:cNvSpPr/>
          <p:nvPr/>
        </p:nvSpPr>
        <p:spPr>
          <a:xfrm rot="18469800">
            <a:off x="5635440" y="4627440"/>
            <a:ext cx="642960" cy="655560"/>
          </a:xfrm>
          <a:prstGeom prst="triangle">
            <a:avLst>
              <a:gd name="adj" fmla="val 4686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8"/>
          <p:cNvSpPr/>
          <p:nvPr/>
        </p:nvSpPr>
        <p:spPr>
          <a:xfrm>
            <a:off x="5572080" y="3929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0"/>
          <p:cNvSpPr/>
          <p:nvPr/>
        </p:nvSpPr>
        <p:spPr>
          <a:xfrm>
            <a:off x="5357880" y="3143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643280" y="2571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3857760" y="2500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3143160" y="29289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4"/>
          <p:cNvSpPr/>
          <p:nvPr/>
        </p:nvSpPr>
        <p:spPr>
          <a:xfrm>
            <a:off x="285768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5"/>
          <p:cNvSpPr/>
          <p:nvPr/>
        </p:nvSpPr>
        <p:spPr>
          <a:xfrm>
            <a:off x="2928960" y="4286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6"/>
          <p:cNvSpPr/>
          <p:nvPr/>
        </p:nvSpPr>
        <p:spPr>
          <a:xfrm>
            <a:off x="3357720" y="49291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7"/>
          <p:cNvSpPr/>
          <p:nvPr/>
        </p:nvSpPr>
        <p:spPr>
          <a:xfrm>
            <a:off x="4000680" y="51436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8"/>
          <p:cNvSpPr/>
          <p:nvPr/>
        </p:nvSpPr>
        <p:spPr>
          <a:xfrm>
            <a:off x="4857840" y="5000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5"/>
          <p:cNvSpPr/>
          <p:nvPr/>
        </p:nvSpPr>
        <p:spPr>
          <a:xfrm>
            <a:off x="3419640" y="3857760"/>
            <a:ext cx="2016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892875120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6"/>
          <p:cNvSpPr/>
          <p:nvPr/>
        </p:nvSpPr>
        <p:spPr>
          <a:xfrm>
            <a:off x="6000840" y="385776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7"/>
          <p:cNvSpPr/>
          <p:nvPr/>
        </p:nvSpPr>
        <p:spPr>
          <a:xfrm>
            <a:off x="5643720" y="271476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8"/>
          <p:cNvSpPr/>
          <p:nvPr/>
        </p:nvSpPr>
        <p:spPr>
          <a:xfrm>
            <a:off x="4714920" y="200016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9"/>
          <p:cNvSpPr/>
          <p:nvPr/>
        </p:nvSpPr>
        <p:spPr>
          <a:xfrm>
            <a:off x="3714840" y="200016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0"/>
          <p:cNvSpPr/>
          <p:nvPr/>
        </p:nvSpPr>
        <p:spPr>
          <a:xfrm>
            <a:off x="2771640" y="2492280"/>
            <a:ext cx="57168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1"/>
          <p:cNvSpPr/>
          <p:nvPr/>
        </p:nvSpPr>
        <p:spPr>
          <a:xfrm>
            <a:off x="2286000" y="3429000"/>
            <a:ext cx="57168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2"/>
          <p:cNvSpPr/>
          <p:nvPr/>
        </p:nvSpPr>
        <p:spPr>
          <a:xfrm>
            <a:off x="2428920" y="442908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3"/>
          <p:cNvSpPr/>
          <p:nvPr/>
        </p:nvSpPr>
        <p:spPr>
          <a:xfrm>
            <a:off x="3000240" y="5286240"/>
            <a:ext cx="57168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4"/>
          <p:cNvSpPr/>
          <p:nvPr/>
        </p:nvSpPr>
        <p:spPr>
          <a:xfrm>
            <a:off x="4000680" y="564372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5"/>
          <p:cNvSpPr/>
          <p:nvPr/>
        </p:nvSpPr>
        <p:spPr>
          <a:xfrm>
            <a:off x="5143680" y="535788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ELPHRG01.wav" descr=""/>
          <p:cNvPicPr/>
          <p:nvPr/>
        </p:nvPicPr>
        <p:blipFill>
          <a:blip r:embed="rId1"/>
          <a:stretch/>
        </p:blipFill>
        <p:spPr>
          <a:xfrm>
            <a:off x="8072280" y="1928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1" descr="C:\Documents and Settings\User\Local Settings\Temporary Internet Files\Content.IE5\Y3WEWZ9O\MPj04384820000[1].jpg"/>
          <p:cNvPicPr/>
          <p:nvPr/>
        </p:nvPicPr>
        <p:blipFill>
          <a:blip r:embed="rId2"/>
          <a:stretch/>
        </p:blipFill>
        <p:spPr>
          <a:xfrm>
            <a:off x="6659640" y="1700280"/>
            <a:ext cx="2346120" cy="157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2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28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e0e38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Какие синонимы у слова конкуренция?</a:t>
            </a:r>
            <a:endParaRPr b="0" lang="en-US" sz="40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41" name="Picture 6" descr="C:\Users\Сталкер\Desktop\images.jpg"/>
          <p:cNvPicPr/>
          <p:nvPr/>
        </p:nvPicPr>
        <p:blipFill>
          <a:blip r:embed="rId1"/>
          <a:stretch/>
        </p:blipFill>
        <p:spPr>
          <a:xfrm>
            <a:off x="3571920" y="342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C:\Users\Сталкер\Desktop\images.jpg"/>
          <p:cNvPicPr/>
          <p:nvPr/>
        </p:nvPicPr>
        <p:blipFill>
          <a:blip r:embed="rId2"/>
          <a:stretch/>
        </p:blipFill>
        <p:spPr>
          <a:xfrm>
            <a:off x="785880" y="178596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C:\Users\Сталкер\Desktop\images.jpg"/>
          <p:cNvPicPr/>
          <p:nvPr/>
        </p:nvPicPr>
        <p:blipFill>
          <a:blip r:embed="rId3"/>
          <a:stretch/>
        </p:blipFill>
        <p:spPr>
          <a:xfrm>
            <a:off x="6357960" y="17146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Синонимы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45" name="Схема 11" descr=""/>
          <p:cNvPicPr/>
          <p:nvPr/>
        </p:nvPicPr>
        <p:blipFill>
          <a:blip r:embed="rId1"/>
          <a:stretch/>
        </p:blipFill>
        <p:spPr>
          <a:xfrm>
            <a:off x="195120" y="1047600"/>
            <a:ext cx="8631360" cy="528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http://t0.gstatic.com/images?q=tbn:ANd9GcTKn7gEceVgesTKeM8W06gie8rB47D_7X-BAwTbxM6NHko6ukAJ"/>
          <p:cNvPicPr/>
          <p:nvPr/>
        </p:nvPicPr>
        <p:blipFill>
          <a:blip r:embed="rId2"/>
          <a:stretch/>
        </p:blipFill>
        <p:spPr>
          <a:xfrm>
            <a:off x="3348000" y="1125360"/>
            <a:ext cx="2467080" cy="1656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http://t0.gstatic.com/images?q=tbn:ANd9GcTKn7gEceVgesTKeM8W06gie8rB47D_7X-BAwTbxM6NHko6ukAJ"/>
          <p:cNvPicPr/>
          <p:nvPr/>
        </p:nvPicPr>
        <p:blipFill>
          <a:blip r:embed="rId3"/>
          <a:stretch/>
        </p:blipFill>
        <p:spPr>
          <a:xfrm>
            <a:off x="6156360" y="2997360"/>
            <a:ext cx="2467080" cy="1511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http://t0.gstatic.com/images?q=tbn:ANd9GcTKn7gEceVgesTKeM8W06gie8rB47D_7X-BAwTbxM6NHko6ukAJ"/>
          <p:cNvPicPr/>
          <p:nvPr/>
        </p:nvPicPr>
        <p:blipFill>
          <a:blip r:embed="rId4"/>
          <a:stretch/>
        </p:blipFill>
        <p:spPr>
          <a:xfrm>
            <a:off x="468360" y="2924280"/>
            <a:ext cx="2467080" cy="1584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9" descr="http://t0.gstatic.com/images?q=tbn:ANd9GcTKn7gEceVgesTKeM8W06gie8rB47D_7X-BAwTbxM6NHko6ukAJ"/>
          <p:cNvPicPr/>
          <p:nvPr/>
        </p:nvPicPr>
        <p:blipFill>
          <a:blip r:embed="rId5"/>
          <a:stretch/>
        </p:blipFill>
        <p:spPr>
          <a:xfrm>
            <a:off x="3419640" y="4581360"/>
            <a:ext cx="2466720" cy="16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Где встречается конкуренция?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51" name="Picture 13" descr="http://t2.gstatic.com/images?q=tbn:ANd9GcSIc1vJF_Bkt7wbqkwaIuSolnwnVU7OBpRI-xz7B5AnIHALZOkA"/>
          <p:cNvPicPr/>
          <p:nvPr/>
        </p:nvPicPr>
        <p:blipFill>
          <a:blip r:embed="rId1"/>
          <a:stretch/>
        </p:blipFill>
        <p:spPr>
          <a:xfrm>
            <a:off x="3408480" y="2349360"/>
            <a:ext cx="1884240" cy="1800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C:\Users\Сталкер\Desktop\images.jpg"/>
          <p:cNvPicPr/>
          <p:nvPr/>
        </p:nvPicPr>
        <p:blipFill>
          <a:blip r:embed="rId2"/>
          <a:stretch/>
        </p:blipFill>
        <p:spPr>
          <a:xfrm>
            <a:off x="3419640" y="3860640"/>
            <a:ext cx="1847520" cy="24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Где встречается конкуренция?</a:t>
            </a:r>
            <a:endParaRPr b="0" lang="en-US" sz="40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79280" y="2785680"/>
            <a:ext cx="87854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орт                Природа           Устройство на работу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упление в ВУЗ  Конкурс красоты Выборы президент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04000" y="3500280"/>
            <a:ext cx="188280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6" name="Picture 7" descr="http://t2.gstatic.com/images?q=tbn:ANd9GcQOWrYffNDUEt6mLaExFIxYv5PWMDvVj8NKwwjssEMJtfzs_jd3"/>
          <p:cNvPicPr/>
          <p:nvPr/>
        </p:nvPicPr>
        <p:blipFill>
          <a:blip r:embed="rId1"/>
          <a:stretch/>
        </p:blipFill>
        <p:spPr>
          <a:xfrm>
            <a:off x="2843280" y="1052640"/>
            <a:ext cx="2762280" cy="1657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1" descr="https://encrypted-tbn1.google.com/images?q=tbn:ANd9GcRt0hJCWwn6zuQg9ZGNf5pTqEkN4G8RCL5Usfr-zLgYda4LoXA9"/>
          <p:cNvPicPr/>
          <p:nvPr/>
        </p:nvPicPr>
        <p:blipFill>
          <a:blip r:embed="rId2"/>
          <a:stretch/>
        </p:blipFill>
        <p:spPr>
          <a:xfrm>
            <a:off x="5796000" y="1125360"/>
            <a:ext cx="3000240" cy="15242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3" descr="https://encrypted-tbn1.google.com/images?q=tbn:ANd9GcQqFOucVqqeac8ljAKvZTeRfha703Qa8SOinKv4hgDSs5cM1AWg"/>
          <p:cNvPicPr/>
          <p:nvPr/>
        </p:nvPicPr>
        <p:blipFill>
          <a:blip r:embed="rId3"/>
          <a:stretch/>
        </p:blipFill>
        <p:spPr>
          <a:xfrm>
            <a:off x="395280" y="3933720"/>
            <a:ext cx="2382840" cy="1785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http://t3.gstatic.com/images?q=tbn:ANd9GcR6-MVFYyCd1q7R23A-afc3rChcJYBJjrmptwU2REvnb1oNHRE5"/>
          <p:cNvPicPr/>
          <p:nvPr/>
        </p:nvPicPr>
        <p:blipFill>
          <a:blip r:embed="rId4"/>
          <a:stretch/>
        </p:blipFill>
        <p:spPr>
          <a:xfrm>
            <a:off x="3419640" y="3860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http://t1.gstatic.com/images?q=tbn:ANd9GcQvxqk17w8FhlQ6vLrmC8Uj9WwZfNkgOGPO8XFj8d42bCIdHi2bjw"/>
          <p:cNvPicPr/>
          <p:nvPr/>
        </p:nvPicPr>
        <p:blipFill>
          <a:blip r:embed="rId5"/>
          <a:stretch/>
        </p:blipFill>
        <p:spPr>
          <a:xfrm>
            <a:off x="6588000" y="357336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7" descr="http://kp.ru/f/12/image/79/87/1378779.jpg"/>
          <p:cNvPicPr/>
          <p:nvPr/>
        </p:nvPicPr>
        <p:blipFill>
          <a:blip r:embed="rId6"/>
          <a:stretch/>
        </p:blipFill>
        <p:spPr>
          <a:xfrm>
            <a:off x="395280" y="105264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Какие черты характера надо выработать у себя, чтобы выиграть конкуренцию?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63" name="Picture 10" descr="https://encrypted-tbn1.google.com/images?q=tbn:ANd9GcRN3t_4HdIvBpF4rl_mvxFWajHYKi2FW5JbDvI15hWPMaLEhvvM-w"/>
          <p:cNvPicPr/>
          <p:nvPr/>
        </p:nvPicPr>
        <p:blipFill>
          <a:blip r:embed="rId1"/>
          <a:stretch/>
        </p:blipFill>
        <p:spPr>
          <a:xfrm>
            <a:off x="3203640" y="321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C:\Users\Сталкер\Desktop\images.jpg"/>
          <p:cNvPicPr/>
          <p:nvPr/>
        </p:nvPicPr>
        <p:blipFill>
          <a:blip r:embed="rId2"/>
          <a:stretch/>
        </p:blipFill>
        <p:spPr>
          <a:xfrm>
            <a:off x="684360" y="4437000"/>
            <a:ext cx="1369800" cy="18288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C:\Users\Сталкер\Desktop\images.jpg"/>
          <p:cNvPicPr/>
          <p:nvPr/>
        </p:nvPicPr>
        <p:blipFill>
          <a:blip r:embed="rId3"/>
          <a:stretch/>
        </p:blipFill>
        <p:spPr>
          <a:xfrm>
            <a:off x="6732720" y="2060640"/>
            <a:ext cx="1261800" cy="168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374328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e0e38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5e0e38"/>
                </a:solidFill>
                <a:latin typeface="Calibri"/>
              </a:rPr>
              <a:t>безжалостность; </a:t>
            </a:r>
            <a:br>
              <a:rPr sz="3600"/>
            </a:br>
            <a:r>
              <a:rPr b="1" lang="ru-RU" sz="3600" spc="-1" strike="noStrike">
                <a:solidFill>
                  <a:srgbClr val="5e0e38"/>
                </a:solidFill>
                <a:latin typeface="Calibri"/>
              </a:rPr>
              <a:t>- воля; </a:t>
            </a:r>
            <a:br>
              <a:rPr sz="3600"/>
            </a:br>
            <a:r>
              <a:rPr b="1" lang="ru-RU" sz="3600" spc="-1" strike="noStrike">
                <a:solidFill>
                  <a:srgbClr val="5e0e38"/>
                </a:solidFill>
                <a:latin typeface="Calibri"/>
              </a:rPr>
              <a:t>-трудолюбие;</a:t>
            </a:r>
            <a:br>
              <a:rPr sz="3600"/>
            </a:br>
            <a:r>
              <a:rPr b="1" lang="ru-RU" sz="3600" spc="-1" strike="noStrike">
                <a:solidFill>
                  <a:srgbClr val="5e0e38"/>
                </a:solidFill>
                <a:latin typeface="Calibri"/>
              </a:rPr>
              <a:t>-настойчивость;</a:t>
            </a:r>
            <a:br>
              <a:rPr sz="3600"/>
            </a:br>
            <a:r>
              <a:rPr b="1" lang="ru-RU" sz="3600" spc="-1" strike="noStrike">
                <a:solidFill>
                  <a:srgbClr val="5e0e38"/>
                </a:solidFill>
                <a:latin typeface="Calibri"/>
              </a:rPr>
              <a:t>- терпение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67" name="Picture 10" descr="https://encrypted-tbn1.google.com/images?q=tbn:ANd9GcRN3t_4HdIvBpF4rl_mvxFWajHYKi2FW5JbDvI15hWPMaLEhvvM-w"/>
          <p:cNvPicPr/>
          <p:nvPr/>
        </p:nvPicPr>
        <p:blipFill>
          <a:blip r:embed="rId1"/>
          <a:stretch/>
        </p:blipFill>
        <p:spPr>
          <a:xfrm>
            <a:off x="5219640" y="24210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 txBox="1"/>
          <p:nvPr/>
        </p:nvSpPr>
        <p:spPr>
          <a:xfrm rot="10800000">
            <a:off x="4648320" y="6130800"/>
            <a:ext cx="4038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55:28Z</dcterms:created>
  <dc:creator>SiBeRiA</dc:creator>
  <dc:description/>
  <dc:language>en-US</dc:language>
  <cp:lastModifiedBy>Сталкер</cp:lastModifiedBy>
  <dcterms:modified xsi:type="dcterms:W3CDTF">2013-03-20T19:41:38Z</dcterms:modified>
  <cp:revision>265</cp:revision>
  <dc:subject/>
  <dc:title>Презентация по экономике на тему: «Деньги. История возникновения денег».</dc:title>
</cp:coreProperties>
</file>