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6.png" ContentType="image/png"/>
  <Override PartName="/ppt/media/image42.jpeg" ContentType="image/jpeg"/>
  <Override PartName="/ppt/media/image54.jpeg" ContentType="image/jpeg"/>
  <Override PartName="/ppt/media/image58.jpeg" ContentType="image/jpeg"/>
  <Override PartName="/ppt/media/image53.png" ContentType="image/png"/>
  <Override PartName="/ppt/media/image56.jpeg" ContentType="image/jpeg"/>
  <Override PartName="/ppt/media/image52.jpeg" ContentType="image/jpeg"/>
  <Override PartName="/ppt/media/image51.png" ContentType="image/png"/>
  <Override PartName="/ppt/media/image4.jpeg" ContentType="image/jpeg"/>
  <Override PartName="/ppt/media/image50.png" ContentType="image/png"/>
  <Override PartName="/ppt/media/image5.jpeg" ContentType="image/jpeg"/>
  <Override PartName="/ppt/media/image61.png" ContentType="image/png"/>
  <Override PartName="/ppt/media/image17.jpeg" ContentType="image/jpeg"/>
  <Override PartName="/ppt/media/image20.png" ContentType="image/png"/>
  <Override PartName="/ppt/media/image2.jpeg" ContentType="image/jpeg"/>
  <Override PartName="/ppt/media/image57.png" ContentType="image/png"/>
  <Override PartName="/ppt/media/image1.jpeg" ContentType="image/jpeg"/>
  <Override PartName="/ppt/media/image14.jpeg" ContentType="image/jpeg"/>
  <Override PartName="/ppt/media/image71.jpeg" ContentType="image/jpeg"/>
  <Override PartName="/ppt/media/image33.jpeg" ContentType="image/jpeg"/>
  <Override PartName="/ppt/media/image27.png" ContentType="image/png"/>
  <Override PartName="/ppt/media/image26.jpeg" ContentType="image/jpeg"/>
  <Override PartName="/ppt/media/image70.jpeg" ContentType="image/jpeg"/>
  <Override PartName="/ppt/media/image35.png" ContentType="image/png"/>
  <Override PartName="/ppt/media/image69.jpeg" ContentType="image/jpeg"/>
  <Override PartName="/ppt/media/image67.jpeg" ContentType="image/jpeg"/>
  <Override PartName="/ppt/media/image25.png" ContentType="image/png"/>
  <Override PartName="/ppt/media/image19.jpeg" ContentType="image/jpeg"/>
  <Override PartName="/ppt/media/image62.png" ContentType="image/png"/>
  <Override PartName="/ppt/media/image60.jpeg" ContentType="image/jpeg"/>
  <Override PartName="/ppt/media/image30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3.png" ContentType="image/png"/>
  <Override PartName="/ppt/media/image15.png" ContentType="image/png"/>
  <Override PartName="/ppt/media/image29.png" ContentType="image/png"/>
  <Override PartName="/ppt/media/image63.jpeg" ContentType="image/jpeg"/>
  <Override PartName="/ppt/media/image41.jpeg" ContentType="image/jpeg"/>
  <Override PartName="/ppt/media/image66.png" ContentType="image/png"/>
  <Override PartName="/ppt/media/image16.png" ContentType="image/png"/>
  <Override PartName="/ppt/media/image7.jpeg" ContentType="image/jpeg"/>
  <Override PartName="/ppt/media/image43.jpeg" ContentType="image/jpeg"/>
  <Override PartName="/ppt/media/image28.png" ContentType="image/pn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44.jpeg" ContentType="image/jpeg"/>
  <Override PartName="/ppt/media/image38.png" ContentType="image/png"/>
  <Override PartName="/ppt/media/image49.png" ContentType="image/png"/>
  <Override PartName="/ppt/media/image65.jpeg" ContentType="image/jpeg"/>
  <Override PartName="/ppt/media/image23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36.png" ContentType="image/png"/>
  <Override PartName="/ppt/media/image9.jpeg" ContentType="image/jpeg"/>
  <Override PartName="/ppt/media/image11.jpeg" ContentType="image/jpeg"/>
  <Override PartName="/ppt/media/image31.jpeg" ContentType="image/jpeg"/>
  <Override PartName="/ppt/media/image32.jpeg" ContentType="image/jpeg"/>
  <Override PartName="/ppt/media/image37.png" ContentType="image/png"/>
  <Override PartName="/ppt/media/image64.jpeg" ContentType="image/jpeg"/>
  <Override PartName="/ppt/media/image39.png" ContentType="image/png"/>
  <Override PartName="/ppt/media/image45.jpeg" ContentType="image/jpeg"/>
  <Override PartName="/ppt/media/image46.jpeg" ContentType="image/jpeg"/>
  <Override PartName="/ppt/media/image68.png" ContentType="image/png"/>
  <Override PartName="/ppt/media/image47.jpeg" ContentType="image/jpeg"/>
  <Override PartName="/ppt/media/image4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F369-E63E-4123-B210-02E29064F3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14E4-6635-4821-9286-0E3DE4BBDB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CA2C-86B9-4283-AB9E-A2782BD4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AB82-10B3-4C08-895B-A899C429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2532B-44C0-45FF-9D55-914AB393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E4CE2-49CB-4B05-9A3F-9533FDB7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2F16C-15D3-426D-814D-CD9C6A2B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CE869-68D1-4D3C-A3E1-00329AB5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39ADA-0A8F-4C88-A6C7-70325108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C5508-FCC0-4241-B4EE-547FCDA9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7ED63-6093-44E9-BC41-6B83ACFA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6EC68-2BD3-4A28-95C2-9AB48AFA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2B02C-56D3-4424-9DCD-EEDD3D02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E55B5-09CC-4CFC-A963-4E448021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6F00-075E-4B05-B40A-F7927C13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2B18B-C6D5-4AD8-9AB3-F97BADBF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47F16-B6A7-4B44-8374-2DF6A50C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93419-7064-4B19-9510-3DFB536E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F6A35-B92C-4F72-9CDC-F85736BF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634FA-217B-409C-B02B-B2CF8930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0C0FB-0D83-4F06-9B9D-DDEBED63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21DE6-13AE-4C70-800F-C3A6F493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E0B8E-5A7A-49C1-A9CB-E68DC66D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E96A8-C6DD-474F-AD1B-BDD3789E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461D0-3B61-4632-A20E-7203CC8F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444C-186E-4D67-AC02-525B8FBB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964D6-8FC2-486C-A572-AEE125FA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5B0D5-E4B3-4460-9DD0-A1ED4457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03E0D-02F8-479A-8DF6-4668E9C5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29F94-A5A1-468A-9E77-D38556B8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A1EBF-55BB-4C80-AF08-3CCA7D9E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F6199-84D9-47AE-A8A5-71FEA9ED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E8FBA-4B04-44FA-96DA-62136E1B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10125-5C64-4CBE-A2B1-28667CC1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C46D5-EC2D-4EBC-A06C-344FEE0B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A9E18-E9E6-4D80-9544-6B3BCEBD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154F-127C-4529-915C-0931F300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CC841-93AC-48C2-9964-9FF3D64A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DBB21-B754-4B36-9D48-12639EA0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6BC57-C198-4C36-84E5-53D864CC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2D867-E3F7-481F-A0F5-25589740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BD01B-28E2-4309-B7E7-3C68C926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878BE-D072-4557-8C8F-F8103148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278A7-BA4B-4F38-99C9-1A70A0FB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2A411-C04F-4607-8001-5E69F8BA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77255-2794-4451-B65F-2419B394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CFD05-BA7B-4871-9F55-BEBA10E5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57B4-6E6A-49D8-8660-5EE9BCFD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521F8-7B12-4EC2-BD20-986212EC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FC878-F840-4CAD-8363-245F97D5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F60B7-9B23-4297-AB00-BB5F35FD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E9929-6363-4B84-B3CF-F847B956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C5391-59BA-4C19-B633-76A945F0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D793-A068-4275-9EC7-BEBA95AD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6716-DBA9-4C74-B94E-20EB98FB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8182-1347-4FB9-8E4E-E8FB77FE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E291-EFF2-46ED-AE6E-4C947CD5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9706-4035-410C-B1C3-6678E318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F1F5-B8CF-4724-8D65-A9545EAE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1BCE-FD3A-44E6-9C3F-DF9D0B2B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17A3-2CE8-498F-8B92-DADA527E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4847-210E-4246-92FF-E79BC753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6215-F7A0-4AAC-BA1E-DF143C8C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1D32-A47E-402F-805D-C0BFB4FC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9766F-6E06-4049-965C-9D730416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6F3E2-8457-4836-BD0F-271B2AF9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27C35-CB35-4669-81CB-85639C93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179D9-5731-4495-8590-E09E436B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97113-8EBE-4126-8405-06B62A9E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8AD4-49EC-4330-8881-935ADA3A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90368-487F-465D-8397-FD5C7FA6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C7A1B-A461-47FB-AB4A-CCE00AA6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D6705-7E1B-48A6-8C11-C65E360F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2AA07-93C5-44D2-B537-602F36DA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3568D-CB3C-4C2A-A2B4-00E613F9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A30C4-5073-4A0D-A1DD-D317242A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2806D-FEAD-427F-99E7-C93EDDBC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C0E17-077A-48BE-89F7-36D14736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4C926-271A-4427-83E2-0401E64F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B4FC8-2C63-4725-8C6C-C8EDED45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7BA5-EB0B-4042-A588-F52096AC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98145-9DD7-4723-BEEC-D363C1CC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4C6C6-B747-4EC8-A5D4-51566326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6C4A9-F89F-4162-A6E1-9BCA73BD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A7DAC-5097-4A36-859A-02E6388E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1E983-4DE7-4FC4-9372-32C8528E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31E5C-9664-4A4E-ADE9-30AA8E1D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08BAF-DDE7-4059-85CC-E35EEF8F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403F0-14FF-43B6-A112-AB0F5925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01D44-C253-4EEE-B084-E03E296E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48DC8-7876-4032-A9D4-374A4EBD1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478E-BAA1-46C6-849C-770877B6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2E0A1-2EDC-4C6E-87AD-1A8AE981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C55BC-60CB-4395-90E9-92DDA874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60C87-07C8-448C-86EA-DF7810A5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422C1-D961-4E88-9147-74047AE0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478D1-33EE-48C8-9262-A753AAC7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6BA4E-689D-4434-9151-7271007C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0B401-DFBD-4715-905F-A9CAF633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ECBBD-C30F-46E7-B043-DF826EC4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58CEB-E6FA-421B-AED0-9856C87B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67587-1409-4152-8A11-B63FA745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1C69-B4CF-4166-A050-4C808E93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1E1EF-A549-424F-931D-D9AE0B02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D2B83-8FED-4F6A-8DD5-C196F9CB4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EA948-E28E-4E90-AA78-352FFFDE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E5D82-EA16-4525-9FFC-36C8CF56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15AFE-0A7B-4B77-AF04-C6507565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F10A4-337F-42E6-B709-50217865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80600-8260-4CE0-BD0A-D1C1219F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C284C-496A-451E-B02A-012C0022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0C86B-FC10-402C-A756-CB9B4763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ECA43-84B0-4D7A-B2B5-EB7E74C1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BF56-8DEE-48E7-B701-D107CAF0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5DBC8-C01C-4B7C-9E6D-C7FAB9E9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41E7B-82BD-45F5-B9CB-6C453BF8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BE430-B5C6-4B4B-84E2-CF030567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3180E-D863-410E-8B03-10CA72A4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4B762-371F-4FD9-A3FC-CABF8599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71124-E4CB-4376-8D62-0481869E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DA429-BDEC-4CAF-82DE-0ACBCB17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BA429-7484-45A9-AD1E-FC60A19B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1AEF8-1368-4711-9F44-12F50718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76A58-ABBE-47CD-9E6C-EA529AEE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E253-025D-4BA8-8ED7-E8C10832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33045-4102-49CB-9866-3A58C2F8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2D757-2637-4F8B-86B4-650BF9A4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0937D-21A7-426D-BA09-F454D649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29E75-A5A3-4C1F-AB5B-182C3477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EC705-E128-4EE7-B4ED-81B65883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845CC-CD76-497E-8C76-F1BF232A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21BC2-0035-4343-AD56-64184A72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A807A-E925-4D09-9886-7CB53895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6B46C-CE24-45D5-99F9-D52FC68F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AE839-352C-4FA5-B615-02D8B85C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0351-0D6A-41B6-9B9B-75DEE93B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84D35-28B2-4D80-8171-E412CB9F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AECF8-65C7-405C-A792-7CBCAA41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C2628-8141-4649-9C8C-3A747DFD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A0DD2-808A-48C8-AE5C-2B725671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0450E-7212-4B60-9118-2B915783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13594-B608-4E2A-A1F4-34E1BF3D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9A0E7-20A4-45D7-AEED-04A61390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316AC-0B82-403F-9034-91DB633C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C968D-852B-4DF6-A896-4308BD42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54DB8-BA68-4634-8E60-C51F9EFD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C2AD-C2A5-490C-BDB7-6EB43F3F9D07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AA57-5F6E-4895-BE00-5F40C3C09305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B0CC-024E-4DDB-B494-362C51F63A01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C5C4-3A67-44B1-9C6B-532959DD0947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8AE2-0F65-4B0C-AA3C-CD6C0A40AF41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7065-7F5C-43D2-ABBF-677EFF5B3740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F296-877A-4C47-855E-8A39A9D07148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FC6F-D609-486E-B8CB-5E6B4C8F54F2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8B1B-F50F-4A2A-8E2E-C53B1DD6A0BB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FFBE-4CFD-468E-9F2E-20CD87E95305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03C6-C156-47F4-BDD3-E86363A41F9D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3260-5CC4-422C-943E-D0F3C85D33AE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17.jpeg"/><Relationship Id="rId6" Type="http://schemas.openxmlformats.org/officeDocument/2006/relationships/image" Target="../media/image29.png"/><Relationship Id="rId7" Type="http://schemas.openxmlformats.org/officeDocument/2006/relationships/image" Target="../media/image21.jpeg"/><Relationship Id="rId8" Type="http://schemas.openxmlformats.org/officeDocument/2006/relationships/image" Target="../media/image30.png"/><Relationship Id="rId9" Type="http://schemas.openxmlformats.org/officeDocument/2006/relationships/image" Target="../media/image31.jpeg"/><Relationship Id="rId10" Type="http://schemas.openxmlformats.org/officeDocument/2006/relationships/image" Target="../media/image19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pn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png"/><Relationship Id="rId3" Type="http://schemas.openxmlformats.org/officeDocument/2006/relationships/image" Target="../media/image66.png"/><Relationship Id="rId4" Type="http://schemas.openxmlformats.org/officeDocument/2006/relationships/image" Target="../media/image67.jpeg"/><Relationship Id="rId5" Type="http://schemas.openxmlformats.org/officeDocument/2006/relationships/image" Target="../media/image26.jpeg"/><Relationship Id="rId6" Type="http://schemas.openxmlformats.org/officeDocument/2006/relationships/image" Target="../media/image43.jpeg"/><Relationship Id="rId7" Type="http://schemas.openxmlformats.org/officeDocument/2006/relationships/image" Target="../media/image50.png"/><Relationship Id="rId8" Type="http://schemas.openxmlformats.org/officeDocument/2006/relationships/image" Target="../media/image36.png"/><Relationship Id="rId9" Type="http://schemas.openxmlformats.org/officeDocument/2006/relationships/image" Target="../media/image68.png"/><Relationship Id="rId10" Type="http://schemas.openxmlformats.org/officeDocument/2006/relationships/image" Target="../media/image19.jpeg"/><Relationship Id="rId11" Type="http://schemas.openxmlformats.org/officeDocument/2006/relationships/image" Target="../media/image32.jpeg"/><Relationship Id="rId12" Type="http://schemas.openxmlformats.org/officeDocument/2006/relationships/image" Target="../media/image24.jpeg"/><Relationship Id="rId13" Type="http://schemas.openxmlformats.org/officeDocument/2006/relationships/image" Target="../media/image69.jpeg"/><Relationship Id="rId14" Type="http://schemas.openxmlformats.org/officeDocument/2006/relationships/image" Target="../media/image1.jpeg"/><Relationship Id="rId15" Type="http://schemas.openxmlformats.org/officeDocument/2006/relationships/image" Target="../media/image70.jpeg"/><Relationship Id="rId16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13840" y="277920"/>
            <a:ext cx="8643960" cy="207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e0e38"/>
                </a:solidFill>
                <a:latin typeface="Comic Sans MS"/>
              </a:rPr>
              <a:t>Презентация по экономике 5класс</a:t>
            </a:r>
            <a:br>
              <a:rPr sz="3200"/>
            </a:br>
            <a:r>
              <a:rPr b="1" lang="ru-RU" sz="3200" spc="-1" strike="noStrike">
                <a:solidFill>
                  <a:srgbClr val="5e0e38"/>
                </a:solidFill>
                <a:latin typeface="Comic Sans MS"/>
              </a:rPr>
              <a:t>на тему:</a:t>
            </a:r>
            <a:br>
              <a:rPr sz="4000"/>
            </a:br>
            <a:r>
              <a:rPr b="1" lang="ru-RU" sz="4000" spc="-1" strike="noStrike">
                <a:solidFill>
                  <a:srgbClr val="5e0e38"/>
                </a:solidFill>
                <a:latin typeface="Comic Sans MS"/>
              </a:rPr>
              <a:t> «               »</a:t>
            </a:r>
            <a:endParaRPr b="0" lang="en-US" sz="40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508" name="TextBox 2"/>
          <p:cNvSpPr/>
          <p:nvPr/>
        </p:nvSpPr>
        <p:spPr>
          <a:xfrm>
            <a:off x="142920" y="4214880"/>
            <a:ext cx="46432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Учитель эконом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МБОУ СОШ № 1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г.Пав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Логинова О.Р.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4"/>
          <p:cNvSpPr/>
          <p:nvPr/>
        </p:nvSpPr>
        <p:spPr>
          <a:xfrm>
            <a:off x="4344840" y="64882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20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9" descr="http://t0.gstatic.com/images?q=tbn:ANd9GcTKn7gEceVgesTKeM8W06gie8rB47D_7X-BAwTbxM6NHko6ukAJ"/>
          <p:cNvPicPr/>
          <p:nvPr/>
        </p:nvPicPr>
        <p:blipFill>
          <a:blip r:embed="rId1"/>
          <a:stretch/>
        </p:blipFill>
        <p:spPr>
          <a:xfrm>
            <a:off x="4427640" y="2637000"/>
            <a:ext cx="4389480" cy="3287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7487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e0e38"/>
                </a:solidFill>
                <a:latin typeface="Comic Sans MS"/>
              </a:rPr>
              <a:t>Между кем существует конкуренция на рынке?</a:t>
            </a:r>
            <a:endParaRPr b="0" lang="en-US" sz="36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571" name="Picture 7" descr="C:\Users\Сталкер\Desktop\images.jpg"/>
          <p:cNvPicPr/>
          <p:nvPr/>
        </p:nvPicPr>
        <p:blipFill>
          <a:blip r:embed="rId1"/>
          <a:stretch/>
        </p:blipFill>
        <p:spPr>
          <a:xfrm>
            <a:off x="971640" y="4508640"/>
            <a:ext cx="1369800" cy="18288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C:\Users\Сталкер\Desktop\images.jpg"/>
          <p:cNvPicPr/>
          <p:nvPr/>
        </p:nvPicPr>
        <p:blipFill>
          <a:blip r:embed="rId2"/>
          <a:stretch/>
        </p:blipFill>
        <p:spPr>
          <a:xfrm>
            <a:off x="6804000" y="1484280"/>
            <a:ext cx="1262160" cy="16844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7" descr="C:\Users\Сталкер\Desktop\images.jpg"/>
          <p:cNvPicPr/>
          <p:nvPr/>
        </p:nvPicPr>
        <p:blipFill>
          <a:blip r:embed="rId3"/>
          <a:stretch/>
        </p:blipFill>
        <p:spPr>
          <a:xfrm>
            <a:off x="3780000" y="2637000"/>
            <a:ext cx="136980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Прямоугольник 31"/>
          <p:cNvSpPr/>
          <p:nvPr/>
        </p:nvSpPr>
        <p:spPr>
          <a:xfrm>
            <a:off x="684360" y="11592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e0e38"/>
                </a:solidFill>
                <a:uFillTx/>
                <a:latin typeface="Comic Sans MS"/>
              </a:rPr>
              <a:t>Между кем существует конкуренция на рын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оугольник 33"/>
          <p:cNvSpPr/>
          <p:nvPr/>
        </p:nvSpPr>
        <p:spPr>
          <a:xfrm>
            <a:off x="1908000" y="4365720"/>
            <a:ext cx="53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Скругленный прямоугольник 40"/>
          <p:cNvGrpSpPr/>
          <p:nvPr/>
        </p:nvGrpSpPr>
        <p:grpSpPr>
          <a:xfrm>
            <a:off x="3249720" y="5346720"/>
            <a:ext cx="2852640" cy="1054080"/>
            <a:chOff x="3249720" y="5346720"/>
            <a:chExt cx="2852640" cy="1054080"/>
          </a:xfrm>
        </p:grpSpPr>
        <p:pic>
          <p:nvPicPr>
            <p:cNvPr id="577" name="Скругленный прямоугольник 40" descr=""/>
            <p:cNvPicPr/>
            <p:nvPr/>
          </p:nvPicPr>
          <p:blipFill>
            <a:blip r:embed="rId1"/>
            <a:stretch/>
          </p:blipFill>
          <p:spPr>
            <a:xfrm>
              <a:off x="3249720" y="5346720"/>
              <a:ext cx="28526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3325680" y="5423040"/>
              <a:ext cx="2710080" cy="9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ru-RU" sz="1800" spc="-1" strike="noStrike">
                  <a:solidFill>
                    <a:srgbClr val="5e0e38"/>
                  </a:solidFill>
                  <a:latin typeface="Arial"/>
                </a:rPr>
                <a:t>Прибыль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Стрелка вниз 43"/>
          <p:cNvSpPr/>
          <p:nvPr/>
        </p:nvSpPr>
        <p:spPr>
          <a:xfrm flipH="1">
            <a:off x="4643280" y="4149720"/>
            <a:ext cx="216000" cy="71928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Стрелка вниз 45"/>
          <p:cNvSpPr/>
          <p:nvPr/>
        </p:nvSpPr>
        <p:spPr>
          <a:xfrm flipH="1">
            <a:off x="4643280" y="2421000"/>
            <a:ext cx="144720" cy="358560"/>
          </a:xfrm>
          <a:prstGeom prst="downArrow">
            <a:avLst>
              <a:gd name="adj1" fmla="val 50000"/>
              <a:gd name="adj2" fmla="val 49552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Скругленный прямоугольник 49"/>
          <p:cNvGrpSpPr/>
          <p:nvPr/>
        </p:nvGrpSpPr>
        <p:grpSpPr>
          <a:xfrm>
            <a:off x="3322800" y="884160"/>
            <a:ext cx="2633400" cy="1481040"/>
            <a:chOff x="3322800" y="884160"/>
            <a:chExt cx="2633400" cy="1481040"/>
          </a:xfrm>
        </p:grpSpPr>
        <p:pic>
          <p:nvPicPr>
            <p:cNvPr id="582" name="Скругленный прямоугольник 49" descr=""/>
            <p:cNvPicPr/>
            <p:nvPr/>
          </p:nvPicPr>
          <p:blipFill>
            <a:blip r:embed="rId2"/>
            <a:stretch/>
          </p:blipFill>
          <p:spPr>
            <a:xfrm>
              <a:off x="3322800" y="884160"/>
              <a:ext cx="263340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3417840" y="979560"/>
              <a:ext cx="245268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Между продавц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4" name="Picture 12" descr="http://prouglich.ru/wp-content/uploads/051200431.jpg"/>
          <p:cNvPicPr/>
          <p:nvPr/>
        </p:nvPicPr>
        <p:blipFill>
          <a:blip r:embed="rId3"/>
          <a:stretch/>
        </p:blipFill>
        <p:spPr>
          <a:xfrm>
            <a:off x="3995640" y="1341360"/>
            <a:ext cx="1474920" cy="935280"/>
          </a:xfrm>
          <a:prstGeom prst="rect">
            <a:avLst/>
          </a:prstGeom>
          <a:ln w="0">
            <a:noFill/>
          </a:ln>
        </p:spPr>
      </p:pic>
      <p:grpSp>
        <p:nvGrpSpPr>
          <p:cNvPr id="585" name="Овальная выноска 53"/>
          <p:cNvGrpSpPr/>
          <p:nvPr/>
        </p:nvGrpSpPr>
        <p:grpSpPr>
          <a:xfrm>
            <a:off x="3608280" y="3187800"/>
            <a:ext cx="2206800" cy="1019160"/>
            <a:chOff x="3608280" y="3187800"/>
            <a:chExt cx="2206800" cy="1019160"/>
          </a:xfrm>
        </p:grpSpPr>
        <p:pic>
          <p:nvPicPr>
            <p:cNvPr id="586" name="Овальная выноска 53" descr=""/>
            <p:cNvPicPr/>
            <p:nvPr/>
          </p:nvPicPr>
          <p:blipFill>
            <a:blip r:embed="rId4"/>
            <a:stretch/>
          </p:blipFill>
          <p:spPr>
            <a:xfrm>
              <a:off x="3608280" y="3187800"/>
              <a:ext cx="220680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3952800" y="3340080"/>
              <a:ext cx="152712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e0e38"/>
                  </a:solidFill>
                  <a:latin typeface="Arial"/>
                </a:rPr>
                <a:t>За покупате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Прямоугольник 24"/>
          <p:cNvSpPr/>
          <p:nvPr/>
        </p:nvSpPr>
        <p:spPr>
          <a:xfrm>
            <a:off x="3708720" y="27813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 </a:t>
            </a:r>
            <a:r>
              <a:rPr b="1" lang="ru-RU" sz="1800" spc="-1" strike="noStrike" u="sng">
                <a:solidFill>
                  <a:srgbClr val="5e0e38"/>
                </a:solidFill>
                <a:uFillTx/>
                <a:latin typeface="Comic Sans MS"/>
              </a:rPr>
              <a:t>За что бор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25"/>
          <p:cNvSpPr/>
          <p:nvPr/>
        </p:nvSpPr>
        <p:spPr>
          <a:xfrm>
            <a:off x="3814920" y="4869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e0e38"/>
                </a:solidFill>
                <a:uFillTx/>
                <a:latin typeface="Comic Sans MS"/>
              </a:rPr>
              <a:t>Цель борьб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7" descr="C:\Users\Сталкер\Desktop\images (9).jpg"/>
          <p:cNvPicPr/>
          <p:nvPr/>
        </p:nvPicPr>
        <p:blipFill>
          <a:blip r:embed="rId5"/>
          <a:stretch/>
        </p:blipFill>
        <p:spPr>
          <a:xfrm>
            <a:off x="4788000" y="5516640"/>
            <a:ext cx="1212840" cy="77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Скругленный прямоугольник 1"/>
          <p:cNvGrpSpPr/>
          <p:nvPr/>
        </p:nvGrpSpPr>
        <p:grpSpPr>
          <a:xfrm>
            <a:off x="3181320" y="1030320"/>
            <a:ext cx="2811600" cy="1268280"/>
            <a:chOff x="3181320" y="1030320"/>
            <a:chExt cx="2811600" cy="1268280"/>
          </a:xfrm>
        </p:grpSpPr>
        <p:pic>
          <p:nvPicPr>
            <p:cNvPr id="592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3181320" y="1030320"/>
              <a:ext cx="281160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3263760" y="1112760"/>
              <a:ext cx="265284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Между покупателями</a:t>
              </a: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4" name="Picture 14" descr="https://encrypted-tbn3.google.com/images?q=tbn:ANd9GcSXYi5O3bO46O8UUHEZUjB9DqhOkWavLN1ck8aXiu5z2A4fx6XphA"/>
          <p:cNvPicPr/>
          <p:nvPr/>
        </p:nvPicPr>
        <p:blipFill>
          <a:blip r:embed="rId2"/>
          <a:srcRect l="0" t="0" r="0" b="51874"/>
          <a:stretch/>
        </p:blipFill>
        <p:spPr>
          <a:xfrm>
            <a:off x="3924360" y="1413000"/>
            <a:ext cx="1224000" cy="790560"/>
          </a:xfrm>
          <a:prstGeom prst="rect">
            <a:avLst/>
          </a:prstGeom>
          <a:ln w="0">
            <a:noFill/>
          </a:ln>
        </p:spPr>
      </p:pic>
      <p:grpSp>
        <p:nvGrpSpPr>
          <p:cNvPr id="595" name="Скругленный прямоугольник 4"/>
          <p:cNvGrpSpPr/>
          <p:nvPr/>
        </p:nvGrpSpPr>
        <p:grpSpPr>
          <a:xfrm>
            <a:off x="3541680" y="5346720"/>
            <a:ext cx="2273400" cy="1127160"/>
            <a:chOff x="3541680" y="5346720"/>
            <a:chExt cx="2273400" cy="1127160"/>
          </a:xfrm>
        </p:grpSpPr>
        <p:pic>
          <p:nvPicPr>
            <p:cNvPr id="596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3541680" y="5346720"/>
              <a:ext cx="227340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3616200" y="5425920"/>
              <a:ext cx="212724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Большее удовлетворение потребност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Стрелка вниз 44"/>
          <p:cNvSpPr/>
          <p:nvPr/>
        </p:nvSpPr>
        <p:spPr>
          <a:xfrm flipH="1">
            <a:off x="4571280" y="4797360"/>
            <a:ext cx="144360" cy="503280"/>
          </a:xfrm>
          <a:prstGeom prst="downArrow">
            <a:avLst>
              <a:gd name="adj1" fmla="val 50000"/>
              <a:gd name="adj2" fmla="val 49825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Стрелка вниз 44"/>
          <p:cNvSpPr/>
          <p:nvPr/>
        </p:nvSpPr>
        <p:spPr>
          <a:xfrm flipH="1">
            <a:off x="4426920" y="2637000"/>
            <a:ext cx="144360" cy="431640"/>
          </a:xfrm>
          <a:prstGeom prst="downArrow">
            <a:avLst>
              <a:gd name="adj1" fmla="val 50000"/>
              <a:gd name="adj2" fmla="val 49848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оугольник 7"/>
          <p:cNvSpPr/>
          <p:nvPr/>
        </p:nvSpPr>
        <p:spPr>
          <a:xfrm>
            <a:off x="971640" y="33336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e0e38"/>
                </a:solidFill>
                <a:uFillTx/>
                <a:latin typeface="Comic Sans MS"/>
              </a:rPr>
              <a:t>Между кем существует конкуренция на рын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оугольник 8"/>
          <p:cNvSpPr/>
          <p:nvPr/>
        </p:nvSpPr>
        <p:spPr>
          <a:xfrm>
            <a:off x="3564360" y="227664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 </a:t>
            </a:r>
            <a:r>
              <a:rPr b="1" lang="ru-RU" sz="1800" spc="-1" strike="noStrike" u="sng">
                <a:solidFill>
                  <a:srgbClr val="5e0e38"/>
                </a:solidFill>
                <a:uFillTx/>
                <a:latin typeface="Comic Sans MS"/>
              </a:rPr>
              <a:t>За что бор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9"/>
          <p:cNvSpPr/>
          <p:nvPr/>
        </p:nvSpPr>
        <p:spPr>
          <a:xfrm>
            <a:off x="3672000" y="4437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e0e38"/>
                </a:solidFill>
                <a:uFillTx/>
                <a:latin typeface="Comic Sans MS"/>
              </a:rPr>
              <a:t>Цель борьб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Скругленный прямоугольник 12"/>
          <p:cNvGrpSpPr/>
          <p:nvPr/>
        </p:nvGrpSpPr>
        <p:grpSpPr>
          <a:xfrm>
            <a:off x="3181320" y="3187800"/>
            <a:ext cx="2811600" cy="1268280"/>
            <a:chOff x="3181320" y="3187800"/>
            <a:chExt cx="2811600" cy="1268280"/>
          </a:xfrm>
        </p:grpSpPr>
        <p:pic>
          <p:nvPicPr>
            <p:cNvPr id="604" name="Скругленный 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3181320" y="3187800"/>
              <a:ext cx="281160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3263760" y="3273480"/>
              <a:ext cx="2652840" cy="11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e0e38"/>
                  </a:solidFill>
                  <a:latin typeface="Arial"/>
                </a:rPr>
                <a:t>За това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6" name="Picture 2" descr="https://encrypted-tbn1.google.com/images?q=tbn:ANd9GcTC_VWiSdgMdPCrgNO8BwGJ-Geyly5QoAkN2TH-RQLVGvYIrCtF"/>
          <p:cNvPicPr/>
          <p:nvPr/>
        </p:nvPicPr>
        <p:blipFill>
          <a:blip r:embed="rId5"/>
          <a:stretch/>
        </p:blipFill>
        <p:spPr>
          <a:xfrm>
            <a:off x="4427640" y="3284640"/>
            <a:ext cx="1439640" cy="103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Прямоугольник 2"/>
          <p:cNvSpPr/>
          <p:nvPr/>
        </p:nvSpPr>
        <p:spPr>
          <a:xfrm>
            <a:off x="3814920" y="4221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e0e38"/>
                </a:solidFill>
                <a:uFillTx/>
                <a:latin typeface="Comic Sans MS"/>
              </a:rPr>
              <a:t>Цель борьб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5"/>
          <p:cNvSpPr/>
          <p:nvPr/>
        </p:nvSpPr>
        <p:spPr>
          <a:xfrm>
            <a:off x="3493080" y="2205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 </a:t>
            </a:r>
            <a:r>
              <a:rPr b="1" lang="ru-RU" sz="1800" spc="-1" strike="noStrike" u="sng">
                <a:solidFill>
                  <a:srgbClr val="5e0e38"/>
                </a:solidFill>
                <a:uFillTx/>
                <a:latin typeface="Comic Sans MS"/>
              </a:rPr>
              <a:t>За что бор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Скругленный прямоугольник 6"/>
          <p:cNvGrpSpPr/>
          <p:nvPr/>
        </p:nvGrpSpPr>
        <p:grpSpPr>
          <a:xfrm>
            <a:off x="3035160" y="811080"/>
            <a:ext cx="3140280" cy="1193760"/>
            <a:chOff x="3035160" y="811080"/>
            <a:chExt cx="3140280" cy="1193760"/>
          </a:xfrm>
        </p:grpSpPr>
        <p:pic>
          <p:nvPicPr>
            <p:cNvPr id="610" name="Скругленный 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3035160" y="811080"/>
              <a:ext cx="314028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3116160" y="892080"/>
              <a:ext cx="2982960" cy="10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Межд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покупателями                  и продавц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2" name="Picture 2" descr="https://encrypted-tbn2.google.com/images?q=tbn:ANd9GcS3BUPHZts9KFIVtXrPnvEvRq7odty4XL1jh7xESSP2_Gs5oJ6GSQ"/>
          <p:cNvPicPr/>
          <p:nvPr/>
        </p:nvPicPr>
        <p:blipFill>
          <a:blip r:embed="rId2"/>
          <a:stretch/>
        </p:blipFill>
        <p:spPr>
          <a:xfrm>
            <a:off x="4859280" y="981000"/>
            <a:ext cx="1298520" cy="865440"/>
          </a:xfrm>
          <a:prstGeom prst="rect">
            <a:avLst/>
          </a:prstGeom>
          <a:ln w="0">
            <a:noFill/>
          </a:ln>
        </p:spPr>
      </p:pic>
      <p:sp>
        <p:nvSpPr>
          <p:cNvPr id="613" name="Стрелка вниз 44"/>
          <p:cNvSpPr/>
          <p:nvPr/>
        </p:nvSpPr>
        <p:spPr>
          <a:xfrm flipH="1">
            <a:off x="2987640" y="4292640"/>
            <a:ext cx="216000" cy="79200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Стрелка вниз 44"/>
          <p:cNvSpPr/>
          <p:nvPr/>
        </p:nvSpPr>
        <p:spPr>
          <a:xfrm flipH="1">
            <a:off x="5940360" y="4292640"/>
            <a:ext cx="216000" cy="79200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11"/>
          <p:cNvSpPr/>
          <p:nvPr/>
        </p:nvSpPr>
        <p:spPr>
          <a:xfrm>
            <a:off x="1547640" y="11592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e0e38"/>
                </a:solidFill>
                <a:uFillTx/>
                <a:latin typeface="Comic Sans MS"/>
              </a:rPr>
              <a:t>Между кем существует конкуренция на рын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Стрелка вниз 44"/>
          <p:cNvSpPr/>
          <p:nvPr/>
        </p:nvSpPr>
        <p:spPr>
          <a:xfrm flipH="1">
            <a:off x="4356000" y="2565360"/>
            <a:ext cx="216000" cy="79236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Скругленный прямоугольник 13"/>
          <p:cNvGrpSpPr/>
          <p:nvPr/>
        </p:nvGrpSpPr>
        <p:grpSpPr>
          <a:xfrm>
            <a:off x="4761000" y="5278320"/>
            <a:ext cx="3139920" cy="1122480"/>
            <a:chOff x="4761000" y="5278320"/>
            <a:chExt cx="3139920" cy="1122480"/>
          </a:xfrm>
        </p:grpSpPr>
        <p:pic>
          <p:nvPicPr>
            <p:cNvPr id="618" name="Скругленный прямоугольник 13" descr=""/>
            <p:cNvPicPr/>
            <p:nvPr/>
          </p:nvPicPr>
          <p:blipFill>
            <a:blip r:embed="rId3"/>
            <a:stretch/>
          </p:blipFill>
          <p:spPr>
            <a:xfrm>
              <a:off x="4761000" y="5278320"/>
              <a:ext cx="313992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4840200" y="5354640"/>
              <a:ext cx="299088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Прибыль</a:t>
              </a:r>
              <a:r>
                <a:rPr b="0" lang="ru-RU" sz="1800" spc="-1" strike="noStrike">
                  <a:solidFill>
                    <a:srgbClr val="5e0e38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Скругленный прямоугольник 14"/>
          <p:cNvGrpSpPr/>
          <p:nvPr/>
        </p:nvGrpSpPr>
        <p:grpSpPr>
          <a:xfrm>
            <a:off x="1163520" y="5278320"/>
            <a:ext cx="3213360" cy="1122480"/>
            <a:chOff x="1163520" y="5278320"/>
            <a:chExt cx="3213360" cy="1122480"/>
          </a:xfrm>
        </p:grpSpPr>
        <p:pic>
          <p:nvPicPr>
            <p:cNvPr id="621" name="Скругленный прямоугольник 14" descr=""/>
            <p:cNvPicPr/>
            <p:nvPr/>
          </p:nvPicPr>
          <p:blipFill>
            <a:blip r:embed="rId4"/>
            <a:stretch/>
          </p:blipFill>
          <p:spPr>
            <a:xfrm>
              <a:off x="1163520" y="5278320"/>
              <a:ext cx="321336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1239840" y="5354640"/>
              <a:ext cx="306396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Больш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 </a:t>
              </a: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удовлетворение потребност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3" name="Picture 12" descr="http://prouglich.ru/wp-content/uploads/051200431.jpg"/>
          <p:cNvPicPr/>
          <p:nvPr/>
        </p:nvPicPr>
        <p:blipFill>
          <a:blip r:embed="rId5"/>
          <a:stretch/>
        </p:blipFill>
        <p:spPr>
          <a:xfrm>
            <a:off x="6227640" y="2997360"/>
            <a:ext cx="1474920" cy="934920"/>
          </a:xfrm>
          <a:prstGeom prst="rect">
            <a:avLst/>
          </a:prstGeom>
          <a:ln w="0">
            <a:noFill/>
          </a:ln>
        </p:spPr>
      </p:pic>
      <p:grpSp>
        <p:nvGrpSpPr>
          <p:cNvPr id="624" name="Скругленный прямоугольник 16"/>
          <p:cNvGrpSpPr/>
          <p:nvPr/>
        </p:nvGrpSpPr>
        <p:grpSpPr>
          <a:xfrm>
            <a:off x="1090440" y="2828880"/>
            <a:ext cx="3140280" cy="1193760"/>
            <a:chOff x="1090440" y="2828880"/>
            <a:chExt cx="3140280" cy="1193760"/>
          </a:xfrm>
        </p:grpSpPr>
        <p:pic>
          <p:nvPicPr>
            <p:cNvPr id="625" name="Скругленный прямоугольник 16" descr=""/>
            <p:cNvPicPr/>
            <p:nvPr/>
          </p:nvPicPr>
          <p:blipFill>
            <a:blip r:embed="rId6"/>
            <a:stretch/>
          </p:blipFill>
          <p:spPr>
            <a:xfrm>
              <a:off x="1090440" y="2828880"/>
              <a:ext cx="314028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1171440" y="2909880"/>
              <a:ext cx="298476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Покупате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 </a:t>
              </a: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за сни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  </a:t>
              </a: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це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7" name="Picture 14" descr="https://encrypted-tbn3.google.com/images?q=tbn:ANd9GcSXYi5O3bO46O8UUHEZUjB9DqhOkWavLN1ck8aXiu5z2A4fx6XphA"/>
          <p:cNvPicPr/>
          <p:nvPr/>
        </p:nvPicPr>
        <p:blipFill>
          <a:blip r:embed="rId7"/>
          <a:srcRect l="0" t="0" r="0" b="51874"/>
          <a:stretch/>
        </p:blipFill>
        <p:spPr>
          <a:xfrm>
            <a:off x="2771640" y="3068640"/>
            <a:ext cx="1224000" cy="790560"/>
          </a:xfrm>
          <a:prstGeom prst="rect">
            <a:avLst/>
          </a:prstGeom>
          <a:ln w="0">
            <a:noFill/>
          </a:ln>
        </p:spPr>
      </p:pic>
      <p:grpSp>
        <p:nvGrpSpPr>
          <p:cNvPr id="628" name="Скругленный прямоугольник 18"/>
          <p:cNvGrpSpPr/>
          <p:nvPr/>
        </p:nvGrpSpPr>
        <p:grpSpPr>
          <a:xfrm>
            <a:off x="4694400" y="2828880"/>
            <a:ext cx="3138480" cy="1193760"/>
            <a:chOff x="4694400" y="2828880"/>
            <a:chExt cx="3138480" cy="1193760"/>
          </a:xfrm>
        </p:grpSpPr>
        <p:pic>
          <p:nvPicPr>
            <p:cNvPr id="629" name="Скругленный прямоугольник 18" descr=""/>
            <p:cNvPicPr/>
            <p:nvPr/>
          </p:nvPicPr>
          <p:blipFill>
            <a:blip r:embed="rId8"/>
            <a:stretch/>
          </p:blipFill>
          <p:spPr>
            <a:xfrm>
              <a:off x="4694400" y="2828880"/>
              <a:ext cx="313848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4772160" y="2909880"/>
              <a:ext cx="298440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Продавц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 </a:t>
              </a:r>
              <a:r>
                <a:rPr b="0" lang="ru-RU" sz="1800" spc="-1" strike="noStrike">
                  <a:solidFill>
                    <a:srgbClr val="5e0e38"/>
                  </a:solidFill>
                  <a:latin typeface="Comic Sans MS"/>
                </a:rPr>
                <a:t>за рост це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1" name="Picture 12" descr="http://prouglich.ru/wp-content/uploads/051200431.jpg"/>
          <p:cNvPicPr/>
          <p:nvPr/>
        </p:nvPicPr>
        <p:blipFill>
          <a:blip r:embed="rId9"/>
          <a:stretch/>
        </p:blipFill>
        <p:spPr>
          <a:xfrm>
            <a:off x="6300720" y="2924280"/>
            <a:ext cx="1330560" cy="93492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7" descr="C:\Users\Сталкер\Desktop\images (9).jpg"/>
          <p:cNvPicPr/>
          <p:nvPr/>
        </p:nvPicPr>
        <p:blipFill>
          <a:blip r:embed="rId10"/>
          <a:stretch/>
        </p:blipFill>
        <p:spPr>
          <a:xfrm>
            <a:off x="6156360" y="5445000"/>
            <a:ext cx="1212840" cy="7732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" descr="https://encrypted-tbn1.google.com/images?q=tbn:ANd9GcQtbEH6iVOhj3YJ3PSFYDH0q5IdkxazlnnUPJPgmOKkC56mO-CH"/>
          <p:cNvPicPr/>
          <p:nvPr/>
        </p:nvPicPr>
        <p:blipFill>
          <a:blip r:embed="rId11"/>
          <a:stretch/>
        </p:blipFill>
        <p:spPr>
          <a:xfrm>
            <a:off x="3203640" y="5445000"/>
            <a:ext cx="1076400" cy="86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713800" cy="25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e0e38"/>
                </a:solidFill>
                <a:latin typeface="Comic Sans MS"/>
              </a:rPr>
              <a:t>Конкуренция </a:t>
            </a:r>
            <a:br>
              <a:rPr sz="4400"/>
            </a:b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(от лат. столкновение) – </a:t>
            </a:r>
            <a:br>
              <a:rPr sz="2800"/>
            </a:br>
            <a:r>
              <a:rPr b="1" lang="ru-RU" sz="3600" spc="-1" strike="noStrike">
                <a:solidFill>
                  <a:srgbClr val="5e0e38"/>
                </a:solidFill>
                <a:latin typeface="Comic Sans MS"/>
              </a:rPr>
              <a:t>соперничество между участниками рынка за получение преимуществ.</a:t>
            </a:r>
            <a:endParaRPr b="0" lang="en-US" sz="36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635" name="Picture 7" descr="C:\Users\Сталкер\Desktop\images (9).jpg"/>
          <p:cNvPicPr/>
          <p:nvPr/>
        </p:nvPicPr>
        <p:blipFill>
          <a:blip r:embed="rId1"/>
          <a:stretch/>
        </p:blipFill>
        <p:spPr>
          <a:xfrm>
            <a:off x="3276720" y="3716280"/>
            <a:ext cx="3012840" cy="19195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6" descr="https://encrypted-tbn1.google.com/images?q=tbn:ANd9GcQtbEH6iVOhj3YJ3PSFYDH0q5IdkxazlnnUPJPgmOKkC56mO-CH"/>
          <p:cNvPicPr/>
          <p:nvPr/>
        </p:nvPicPr>
        <p:blipFill>
          <a:blip r:embed="rId2"/>
          <a:stretch/>
        </p:blipFill>
        <p:spPr>
          <a:xfrm>
            <a:off x="6372360" y="4724280"/>
            <a:ext cx="2466720" cy="18576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8" descr="https://encrypted-tbn1.google.com/images?q=tbn:ANd9GcSLOVQBF3xSJNlslIk8Ddx5HVoX61ai2u32A5sR0tf11zMGpDGM"/>
          <p:cNvPicPr/>
          <p:nvPr/>
        </p:nvPicPr>
        <p:blipFill>
          <a:blip r:embed="rId3"/>
          <a:stretch/>
        </p:blipFill>
        <p:spPr>
          <a:xfrm>
            <a:off x="250920" y="2997360"/>
            <a:ext cx="2895480" cy="158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e0e38"/>
                </a:solidFill>
                <a:latin typeface="Comic Sans MS"/>
              </a:rPr>
              <a:t>Кто выигрывает от снижения цен?</a:t>
            </a:r>
            <a:endParaRPr b="0" lang="en-US" sz="36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639" name="Picture 2" descr="http://ci.alamogordo.nm.us/Assets/COA+Document/Community+Services/Alamogordo+Family+Rec+Center/Hot+Air+Balloon.gif"/>
          <p:cNvPicPr/>
          <p:nvPr/>
        </p:nvPicPr>
        <p:blipFill>
          <a:blip r:embed="rId1"/>
          <a:stretch/>
        </p:blipFill>
        <p:spPr>
          <a:xfrm>
            <a:off x="250920" y="981000"/>
            <a:ext cx="2838240" cy="35719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6" descr="http://clipartmountain.com/haballoon6.gif"/>
          <p:cNvPicPr/>
          <p:nvPr/>
        </p:nvPicPr>
        <p:blipFill>
          <a:blip r:embed="rId2"/>
          <a:stretch/>
        </p:blipFill>
        <p:spPr>
          <a:xfrm>
            <a:off x="3708360" y="2133720"/>
            <a:ext cx="1943280" cy="258264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2" descr="http://3.bp.blogspot.com/_4kkT22kuvoA/S_aQ848r1mI/AAAAAAAACdk/zR8kgcufVkw/s1600/red-balloon-laura-buxton.jpg"/>
          <p:cNvPicPr/>
          <p:nvPr/>
        </p:nvPicPr>
        <p:blipFill>
          <a:blip r:embed="rId3"/>
          <a:stretch/>
        </p:blipFill>
        <p:spPr>
          <a:xfrm>
            <a:off x="6875640" y="3500280"/>
            <a:ext cx="792000" cy="1177920"/>
          </a:xfrm>
          <a:prstGeom prst="rect">
            <a:avLst/>
          </a:prstGeom>
          <a:ln w="0">
            <a:noFill/>
          </a:ln>
        </p:spPr>
      </p:pic>
      <p:pic>
        <p:nvPicPr>
          <p:cNvPr id="642" name="TextBox 10" descr=""/>
          <p:cNvPicPr/>
          <p:nvPr/>
        </p:nvPicPr>
        <p:blipFill>
          <a:blip r:embed="rId4"/>
          <a:stretch/>
        </p:blipFill>
        <p:spPr>
          <a:xfrm>
            <a:off x="628560" y="2146320"/>
            <a:ext cx="3084480" cy="865080"/>
          </a:xfrm>
          <a:prstGeom prst="rect">
            <a:avLst/>
          </a:prstGeom>
          <a:ln w="0">
            <a:noFill/>
          </a:ln>
        </p:spPr>
      </p:pic>
      <p:pic>
        <p:nvPicPr>
          <p:cNvPr id="643" name="TextBox 12" descr=""/>
          <p:cNvPicPr/>
          <p:nvPr/>
        </p:nvPicPr>
        <p:blipFill>
          <a:blip r:embed="rId5"/>
          <a:stretch/>
        </p:blipFill>
        <p:spPr>
          <a:xfrm>
            <a:off x="3865680" y="3328920"/>
            <a:ext cx="1985760" cy="700200"/>
          </a:xfrm>
          <a:prstGeom prst="rect">
            <a:avLst/>
          </a:prstGeom>
          <a:ln w="0">
            <a:noFill/>
          </a:ln>
        </p:spPr>
      </p:pic>
      <p:pic>
        <p:nvPicPr>
          <p:cNvPr id="644" name="TextBox 13" descr=""/>
          <p:cNvPicPr/>
          <p:nvPr/>
        </p:nvPicPr>
        <p:blipFill>
          <a:blip r:embed="rId6"/>
          <a:stretch/>
        </p:blipFill>
        <p:spPr>
          <a:xfrm>
            <a:off x="6784920" y="3816360"/>
            <a:ext cx="1878120" cy="420840"/>
          </a:xfrm>
          <a:prstGeom prst="rect">
            <a:avLst/>
          </a:prstGeom>
          <a:ln w="0">
            <a:noFill/>
          </a:ln>
        </p:spPr>
      </p:pic>
      <p:cxnSp>
        <p:nvCxnSpPr>
          <p:cNvPr id="645" name="Прямая со стрелкой 14"/>
          <p:cNvCxnSpPr/>
          <p:nvPr/>
        </p:nvCxnSpPr>
        <p:spPr>
          <a:xfrm>
            <a:off x="3564000" y="1483920"/>
            <a:ext cx="2448720" cy="1080"/>
          </a:xfrm>
          <a:prstGeom prst="straightConnector1">
            <a:avLst/>
          </a:prstGeom>
          <a:ln w="10152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646" name="Прямая со стрелкой 15"/>
          <p:cNvCxnSpPr/>
          <p:nvPr/>
        </p:nvCxnSpPr>
        <p:spPr>
          <a:xfrm>
            <a:off x="3564000" y="5229000"/>
            <a:ext cx="2448720" cy="1080"/>
          </a:xfrm>
          <a:prstGeom prst="straightConnector1">
            <a:avLst/>
          </a:prstGeom>
          <a:ln w="101520">
            <a:solidFill>
              <a:srgbClr val="99cc00"/>
            </a:solidFill>
            <a:miter/>
            <a:headEnd len="med" type="triangle" w="med"/>
          </a:ln>
        </p:spPr>
      </p:cxnSp>
      <p:sp>
        <p:nvSpPr>
          <p:cNvPr id="647" name="Заголовок 1"/>
          <p:cNvSpPr/>
          <p:nvPr/>
        </p:nvSpPr>
        <p:spPr>
          <a:xfrm>
            <a:off x="250920" y="5732640"/>
            <a:ext cx="85690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e0e38"/>
                </a:solidFill>
                <a:latin typeface="Comic Sans MS"/>
              </a:rPr>
              <a:t>Кто выигрывает от повышения це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74872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e0e38"/>
                </a:solidFill>
                <a:latin typeface="Comic Sans MS"/>
              </a:rPr>
              <a:t>Виды  конкуренции</a:t>
            </a:r>
            <a:endParaRPr b="0" lang="en-US" sz="36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649" name="Picture 2" descr="Картинка 15 из 102542"/>
          <p:cNvPicPr/>
          <p:nvPr/>
        </p:nvPicPr>
        <p:blipFill>
          <a:blip r:embed="rId1"/>
          <a:stretch/>
        </p:blipFill>
        <p:spPr>
          <a:xfrm>
            <a:off x="2627280" y="4149720"/>
            <a:ext cx="4029120" cy="25210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4" descr="Картинка 17 из 102542"/>
          <p:cNvPicPr/>
          <p:nvPr/>
        </p:nvPicPr>
        <p:blipFill>
          <a:blip r:embed="rId2"/>
          <a:stretch/>
        </p:blipFill>
        <p:spPr>
          <a:xfrm>
            <a:off x="611280" y="119700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6" descr="http://www.pln-pskov.ru/pictures/0564344354.jpg"/>
          <p:cNvPicPr/>
          <p:nvPr/>
        </p:nvPicPr>
        <p:blipFill>
          <a:blip r:embed="rId3"/>
          <a:stretch/>
        </p:blipFill>
        <p:spPr>
          <a:xfrm>
            <a:off x="4643280" y="1197000"/>
            <a:ext cx="3667320" cy="28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e0e38"/>
                </a:solidFill>
                <a:latin typeface="Comic Sans MS"/>
              </a:rPr>
              <a:t>Виды конкуренции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653" name="Содержимое 11"/>
          <p:cNvSpPr/>
          <p:nvPr/>
        </p:nvSpPr>
        <p:spPr>
          <a:xfrm>
            <a:off x="3492360" y="1844640"/>
            <a:ext cx="180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Цен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Содержимое 11"/>
          <p:cNvSpPr/>
          <p:nvPr/>
        </p:nvSpPr>
        <p:spPr>
          <a:xfrm>
            <a:off x="2916360" y="3789360"/>
            <a:ext cx="280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цен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10" descr="https://encrypted-tbn0.google.com/images?q=tbn:ANd9GcThHd-BNmvPlBIwia9hBQhxNIprF5oyaImji4beSIZsRBfTuW9L"/>
          <p:cNvPicPr/>
          <p:nvPr/>
        </p:nvPicPr>
        <p:blipFill>
          <a:blip r:embed="rId1"/>
          <a:stretch/>
        </p:blipFill>
        <p:spPr>
          <a:xfrm>
            <a:off x="5508720" y="1413000"/>
            <a:ext cx="2143080" cy="194472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1" descr="http://www.pravmir.ru/wp-content/uploads/pravmir-images/competition2-460.jpg"/>
          <p:cNvPicPr/>
          <p:nvPr/>
        </p:nvPicPr>
        <p:blipFill>
          <a:blip r:embed="rId2"/>
          <a:stretch/>
        </p:blipFill>
        <p:spPr>
          <a:xfrm>
            <a:off x="3132000" y="4437000"/>
            <a:ext cx="2594160" cy="208764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8" descr="https://encrypted-tbn0.google.com/images?q=tbn:ANd9GcROTXfXsh-VvzcUwUThYmLQmIVNxXDRwUmxJo_w9oy_nU_6v6uq"/>
          <p:cNvPicPr/>
          <p:nvPr/>
        </p:nvPicPr>
        <p:blipFill>
          <a:blip r:embed="rId3"/>
          <a:stretch/>
        </p:blipFill>
        <p:spPr>
          <a:xfrm>
            <a:off x="611280" y="1413000"/>
            <a:ext cx="2409840" cy="1895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9021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e0e38"/>
                </a:solidFill>
                <a:latin typeface="Comic Sans MS"/>
              </a:rPr>
              <a:t>Способы неценовой конкуренции</a:t>
            </a:r>
            <a:endParaRPr b="0" lang="en-US" sz="40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659" name="Picture 2" descr="http://www.mebelnet.lv/image/bogfran_divans_boy.jpg"/>
          <p:cNvPicPr/>
          <p:nvPr/>
        </p:nvPicPr>
        <p:blipFill>
          <a:blip r:embed="rId1"/>
          <a:stretch/>
        </p:blipFill>
        <p:spPr>
          <a:xfrm>
            <a:off x="4356000" y="981000"/>
            <a:ext cx="4152960" cy="22734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4" descr="http://t1.gstatic.com/images?q=tbn:ANd9GcSrpGSm_MLEiT-Gzt4hOrkgOHyWcym223a87Qnfk_S9iAQUFv3bTkrqGF_r"/>
          <p:cNvPicPr/>
          <p:nvPr/>
        </p:nvPicPr>
        <p:blipFill>
          <a:blip r:embed="rId2"/>
          <a:stretch/>
        </p:blipFill>
        <p:spPr>
          <a:xfrm>
            <a:off x="6300720" y="2421000"/>
            <a:ext cx="1524240" cy="68580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6" descr="http://cs4440.vkontakte.ru/u1690361/114592962/x_4a2efbc0.jpg"/>
          <p:cNvPicPr/>
          <p:nvPr/>
        </p:nvPicPr>
        <p:blipFill>
          <a:blip r:embed="rId3"/>
          <a:stretch/>
        </p:blipFill>
        <p:spPr>
          <a:xfrm>
            <a:off x="539640" y="3573360"/>
            <a:ext cx="3105360" cy="271476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8" descr="http://www.mebbeli.ru/img/image/garant.jpg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684360" y="5013360"/>
            <a:ext cx="1439640" cy="110016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0" descr="http://mini-pes.ru/image/data/gar.gif"/>
          <p:cNvPicPr/>
          <p:nvPr/>
        </p:nvPicPr>
        <p:blipFill>
          <a:blip r:embed="rId5"/>
          <a:stretch/>
        </p:blipFill>
        <p:spPr>
          <a:xfrm>
            <a:off x="1258920" y="1052640"/>
            <a:ext cx="1700280" cy="1728720"/>
          </a:xfrm>
          <a:prstGeom prst="rect">
            <a:avLst/>
          </a:prstGeom>
          <a:ln w="0">
            <a:noFill/>
          </a:ln>
        </p:spPr>
      </p:pic>
      <p:sp>
        <p:nvSpPr>
          <p:cNvPr id="664" name="Прямоугольник 9"/>
          <p:cNvSpPr/>
          <p:nvPr/>
        </p:nvSpPr>
        <p:spPr>
          <a:xfrm>
            <a:off x="1490400" y="623736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Гаран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оугольник 12"/>
          <p:cNvSpPr/>
          <p:nvPr/>
        </p:nvSpPr>
        <p:spPr>
          <a:xfrm>
            <a:off x="1429200" y="292428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Ка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14" descr="Картинка 1 из 101939"/>
          <p:cNvPicPr/>
          <p:nvPr/>
        </p:nvPicPr>
        <p:blipFill>
          <a:blip r:embed="rId6"/>
          <a:stretch/>
        </p:blipFill>
        <p:spPr>
          <a:xfrm>
            <a:off x="4788000" y="3860640"/>
            <a:ext cx="3564000" cy="2316240"/>
          </a:xfrm>
          <a:prstGeom prst="rect">
            <a:avLst/>
          </a:prstGeom>
          <a:ln w="0">
            <a:noFill/>
          </a:ln>
        </p:spPr>
      </p:pic>
      <p:sp>
        <p:nvSpPr>
          <p:cNvPr id="667" name="Прямоугольник 14"/>
          <p:cNvSpPr/>
          <p:nvPr/>
        </p:nvSpPr>
        <p:spPr>
          <a:xfrm>
            <a:off x="5235120" y="3357720"/>
            <a:ext cx="23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Продажа в кред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Прямоугольник 15"/>
          <p:cNvSpPr/>
          <p:nvPr/>
        </p:nvSpPr>
        <p:spPr>
          <a:xfrm>
            <a:off x="5371560" y="6308640"/>
            <a:ext cx="30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Бойкое место торгов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932508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e0e38"/>
                </a:solidFill>
                <a:latin typeface="Comic Sans MS"/>
              </a:rPr>
              <a:t>Способы неценовой конкуренции</a:t>
            </a:r>
            <a:endParaRPr b="0" lang="en-US" sz="36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670" name="Picture 2" descr="https://encrypted-tbn3.google.com/images?q=tbn:ANd9GcTs70fuSCX3X2ePLjG9DCZoKi_hY5soKLQbTqkCpcb6bz0UmXhMww"/>
          <p:cNvPicPr/>
          <p:nvPr/>
        </p:nvPicPr>
        <p:blipFill>
          <a:blip r:embed="rId1"/>
          <a:stretch/>
        </p:blipFill>
        <p:spPr>
          <a:xfrm>
            <a:off x="395280" y="692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8" descr="http://svadba-vona.ru/imag/buk_lux2.gif"/>
          <p:cNvPicPr/>
          <p:nvPr/>
        </p:nvPicPr>
        <p:blipFill>
          <a:blip r:embed="rId2"/>
          <a:stretch/>
        </p:blipFill>
        <p:spPr>
          <a:xfrm>
            <a:off x="324000" y="2997360"/>
            <a:ext cx="4103640" cy="3079440"/>
          </a:xfrm>
          <a:prstGeom prst="rect">
            <a:avLst/>
          </a:prstGeom>
          <a:ln w="0">
            <a:noFill/>
          </a:ln>
        </p:spPr>
      </p:pic>
      <p:sp>
        <p:nvSpPr>
          <p:cNvPr id="672" name="Прямоугольник 10"/>
          <p:cNvSpPr/>
          <p:nvPr/>
        </p:nvSpPr>
        <p:spPr>
          <a:xfrm>
            <a:off x="4827960" y="6165720"/>
            <a:ext cx="32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Детская игровая комн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оугольник 11"/>
          <p:cNvSpPr/>
          <p:nvPr/>
        </p:nvSpPr>
        <p:spPr>
          <a:xfrm>
            <a:off x="277200" y="6165720"/>
            <a:ext cx="29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Широкий ассорти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оугольник 12"/>
          <p:cNvSpPr/>
          <p:nvPr/>
        </p:nvSpPr>
        <p:spPr>
          <a:xfrm>
            <a:off x="348840" y="256536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8" descr="http://www.tournavigator.ru/upload_data/articles/detskyi%20turizm/detskie%20kompleksy/102.jpg"/>
          <p:cNvPicPr/>
          <p:nvPr/>
        </p:nvPicPr>
        <p:blipFill>
          <a:blip r:embed="rId3"/>
          <a:stretch/>
        </p:blipFill>
        <p:spPr>
          <a:xfrm>
            <a:off x="4932360" y="3789360"/>
            <a:ext cx="3638520" cy="23130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12" descr="Картинка 6 из 83032"/>
          <p:cNvPicPr/>
          <p:nvPr/>
        </p:nvPicPr>
        <p:blipFill>
          <a:blip r:embed="rId4"/>
          <a:stretch/>
        </p:blipFill>
        <p:spPr>
          <a:xfrm>
            <a:off x="4932360" y="692280"/>
            <a:ext cx="3624120" cy="2039760"/>
          </a:xfrm>
          <a:prstGeom prst="rect">
            <a:avLst/>
          </a:prstGeom>
          <a:ln w="0">
            <a:noFill/>
          </a:ln>
        </p:spPr>
      </p:pic>
      <p:sp>
        <p:nvSpPr>
          <p:cNvPr id="677" name="Прямоугольник 17"/>
          <p:cNvSpPr/>
          <p:nvPr/>
        </p:nvSpPr>
        <p:spPr>
          <a:xfrm>
            <a:off x="4892400" y="2781360"/>
            <a:ext cx="22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Кафе в магаз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e0e38"/>
                </a:solidFill>
                <a:latin typeface="Comic Sans MS"/>
              </a:rPr>
              <a:t>Девиз урока:</a:t>
            </a:r>
            <a:br>
              <a:rPr sz="4400"/>
            </a:b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Орешек знаний тверд</a:t>
            </a:r>
            <a:br>
              <a:rPr sz="2800"/>
            </a:b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Но 5Б не привык отступать</a:t>
            </a:r>
            <a:br>
              <a:rPr sz="2800"/>
            </a:b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Нам расколоть его поможет</a:t>
            </a:r>
            <a:br>
              <a:rPr sz="2800"/>
            </a:b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Простой девиз</a:t>
            </a:r>
            <a:br>
              <a:rPr sz="2800"/>
            </a:b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«ХОЧУ ВСЁ ЗНАТЬ!»</a:t>
            </a: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512" name="Picture 2" descr="http://mi7ya.ru/wp-content/uploads/2011/04/1115716_nuts_1.jpg"/>
          <p:cNvPicPr/>
          <p:nvPr/>
        </p:nvPicPr>
        <p:blipFill>
          <a:blip r:embed="rId1"/>
          <a:stretch/>
        </p:blipFill>
        <p:spPr>
          <a:xfrm>
            <a:off x="4932360" y="33336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13840" y="549000"/>
            <a:ext cx="89298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e0e38"/>
                </a:solidFill>
                <a:latin typeface="Comic Sans MS"/>
              </a:rPr>
              <a:t>Способы неценовой конкуренции</a:t>
            </a:r>
            <a:endParaRPr b="0" lang="en-US" sz="40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679" name="Picture 2" descr="http://rodos-mebli.com.ua/files/images/CongoSofa_650x429.jpg"/>
          <p:cNvPicPr/>
          <p:nvPr/>
        </p:nvPicPr>
        <p:blipFill>
          <a:blip r:embed="rId1"/>
          <a:stretch/>
        </p:blipFill>
        <p:spPr>
          <a:xfrm>
            <a:off x="5219640" y="1413000"/>
            <a:ext cx="3168720" cy="209052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8" descr="http://vash-master.com.ua/images/foto_video/sborka(korus)-07.gif"/>
          <p:cNvPicPr/>
          <p:nvPr/>
        </p:nvPicPr>
        <p:blipFill>
          <a:blip r:embed="rId2"/>
          <a:stretch/>
        </p:blipFill>
        <p:spPr>
          <a:xfrm>
            <a:off x="5148360" y="4005360"/>
            <a:ext cx="3168720" cy="2232000"/>
          </a:xfrm>
          <a:prstGeom prst="rect">
            <a:avLst/>
          </a:prstGeom>
          <a:ln w="0">
            <a:noFill/>
          </a:ln>
        </p:spPr>
      </p:pic>
      <p:sp>
        <p:nvSpPr>
          <p:cNvPr id="681" name="Прямоугольник 9"/>
          <p:cNvSpPr/>
          <p:nvPr/>
        </p:nvSpPr>
        <p:spPr>
          <a:xfrm>
            <a:off x="539640" y="1197000"/>
            <a:ext cx="3918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Дополнительное обслужи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e0e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доста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e0e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уста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e0e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рем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e0e3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0e38"/>
                </a:solidFill>
                <a:latin typeface="Comic Sans MS"/>
              </a:rPr>
              <a:t>дизайнерские услу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4" descr="https://encrypted-tbn0.google.com/images?q=tbn:ANd9GcS3sCDUgVZ1xoJ6dNtyL-SwqdsN4zgk5ijyc4Qy9ha_S97Po2sNFQ"/>
          <p:cNvPicPr/>
          <p:nvPr/>
        </p:nvPicPr>
        <p:blipFill>
          <a:blip r:embed="rId3"/>
          <a:stretch/>
        </p:blipFill>
        <p:spPr>
          <a:xfrm>
            <a:off x="611280" y="4005360"/>
            <a:ext cx="3351240" cy="220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e0e38"/>
                </a:solidFill>
                <a:latin typeface="Comic Sans MS"/>
              </a:rPr>
              <a:t>Последствия конкуренции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-181080" y="1267920"/>
            <a:ext cx="3384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39900"/>
                </a:solidFill>
                <a:uFillTx/>
                <a:latin typeface="Comic Sans MS"/>
              </a:rPr>
              <a:t>Положительные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24000" y="1989000"/>
            <a:ext cx="40399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снижение цен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рост качества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рост ассортимента товар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появление новинок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улучшение технолог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экономия ресурсов при производств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284360" y="1267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39900"/>
                </a:solidFill>
                <a:uFillTx/>
                <a:latin typeface="Comic Sans MS"/>
              </a:rPr>
              <a:t>Отрицательные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25920" y="2060280"/>
            <a:ext cx="4618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риск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банкротство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рост безработицы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e0e38"/>
                </a:solidFill>
                <a:latin typeface="Comic Sans MS"/>
              </a:rPr>
              <a:t>снижение доходов семе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8" name="Плюс 6"/>
          <p:cNvSpPr/>
          <p:nvPr/>
        </p:nvSpPr>
        <p:spPr>
          <a:xfrm>
            <a:off x="179280" y="2205000"/>
            <a:ext cx="289080" cy="287280"/>
          </a:xfrm>
          <a:custGeom>
            <a:avLst/>
            <a:gdLst>
              <a:gd name="textAreaLeft" fmla="*/ 38160 w 289080"/>
              <a:gd name="textAreaRight" fmla="*/ 250920 w 289080"/>
              <a:gd name="textAreaTop" fmla="*/ 109800 h 287280"/>
              <a:gd name="textAreaBottom" fmla="*/ 177480 h 287280"/>
            </a:gdLst>
            <a:ahLst/>
            <a:rect l="textAreaLeft" t="textAreaTop" r="textAreaRight" b="textAreaBottom"/>
            <a:pathLst>
              <a:path w="288925" h="287337">
                <a:moveTo>
                  <a:pt x="38297" y="109878"/>
                </a:moveTo>
                <a:lnTo>
                  <a:pt x="110672" y="109878"/>
                </a:lnTo>
                <a:lnTo>
                  <a:pt x="110672" y="38087"/>
                </a:lnTo>
                <a:lnTo>
                  <a:pt x="178253" y="38087"/>
                </a:lnTo>
                <a:lnTo>
                  <a:pt x="178253" y="109878"/>
                </a:lnTo>
                <a:lnTo>
                  <a:pt x="250628" y="109878"/>
                </a:lnTo>
                <a:lnTo>
                  <a:pt x="250628" y="177459"/>
                </a:lnTo>
                <a:lnTo>
                  <a:pt x="178253" y="177459"/>
                </a:lnTo>
                <a:lnTo>
                  <a:pt x="178253" y="249250"/>
                </a:lnTo>
                <a:lnTo>
                  <a:pt x="110672" y="249250"/>
                </a:lnTo>
                <a:lnTo>
                  <a:pt x="110672" y="177459"/>
                </a:lnTo>
                <a:lnTo>
                  <a:pt x="38297" y="177459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Плюс 7"/>
          <p:cNvSpPr/>
          <p:nvPr/>
        </p:nvSpPr>
        <p:spPr>
          <a:xfrm>
            <a:off x="179280" y="2852640"/>
            <a:ext cx="289080" cy="289080"/>
          </a:xfrm>
          <a:custGeom>
            <a:avLst/>
            <a:gdLst>
              <a:gd name="textAreaLeft" fmla="*/ 38160 w 289080"/>
              <a:gd name="textAreaRight" fmla="*/ 250920 w 289080"/>
              <a:gd name="textAreaTop" fmla="*/ 110520 h 289080"/>
              <a:gd name="textAreaBottom" fmla="*/ 178560 h 289080"/>
            </a:gdLst>
            <a:ahLst/>
            <a:rect l="textAreaLeft" t="textAreaTop" r="textAreaRight" b="textAreaBottom"/>
            <a:pathLst>
              <a:path w="288925" h="288925">
                <a:moveTo>
                  <a:pt x="38297" y="110485"/>
                </a:moveTo>
                <a:lnTo>
                  <a:pt x="110485" y="110485"/>
                </a:lnTo>
                <a:lnTo>
                  <a:pt x="110485" y="38297"/>
                </a:lnTo>
                <a:lnTo>
                  <a:pt x="178440" y="38297"/>
                </a:lnTo>
                <a:lnTo>
                  <a:pt x="178440" y="110485"/>
                </a:lnTo>
                <a:lnTo>
                  <a:pt x="250628" y="110485"/>
                </a:lnTo>
                <a:lnTo>
                  <a:pt x="250628" y="178440"/>
                </a:lnTo>
                <a:lnTo>
                  <a:pt x="178440" y="178440"/>
                </a:lnTo>
                <a:lnTo>
                  <a:pt x="178440" y="250628"/>
                </a:lnTo>
                <a:lnTo>
                  <a:pt x="110485" y="250628"/>
                </a:lnTo>
                <a:lnTo>
                  <a:pt x="110485" y="178440"/>
                </a:lnTo>
                <a:lnTo>
                  <a:pt x="38297" y="17844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Плюс 8"/>
          <p:cNvSpPr/>
          <p:nvPr/>
        </p:nvSpPr>
        <p:spPr>
          <a:xfrm>
            <a:off x="179280" y="3429000"/>
            <a:ext cx="289080" cy="287280"/>
          </a:xfrm>
          <a:custGeom>
            <a:avLst/>
            <a:gdLst>
              <a:gd name="textAreaLeft" fmla="*/ 38160 w 289080"/>
              <a:gd name="textAreaRight" fmla="*/ 250920 w 289080"/>
              <a:gd name="textAreaTop" fmla="*/ 109800 h 287280"/>
              <a:gd name="textAreaBottom" fmla="*/ 177480 h 287280"/>
            </a:gdLst>
            <a:ahLst/>
            <a:rect l="textAreaLeft" t="textAreaTop" r="textAreaRight" b="textAreaBottom"/>
            <a:pathLst>
              <a:path w="288925" h="287338">
                <a:moveTo>
                  <a:pt x="38297" y="109878"/>
                </a:moveTo>
                <a:lnTo>
                  <a:pt x="110672" y="109878"/>
                </a:lnTo>
                <a:lnTo>
                  <a:pt x="110672" y="38087"/>
                </a:lnTo>
                <a:lnTo>
                  <a:pt x="178253" y="38087"/>
                </a:lnTo>
                <a:lnTo>
                  <a:pt x="178253" y="109878"/>
                </a:lnTo>
                <a:lnTo>
                  <a:pt x="250628" y="109878"/>
                </a:lnTo>
                <a:lnTo>
                  <a:pt x="250628" y="177460"/>
                </a:lnTo>
                <a:lnTo>
                  <a:pt x="178253" y="177460"/>
                </a:lnTo>
                <a:lnTo>
                  <a:pt x="178253" y="249251"/>
                </a:lnTo>
                <a:lnTo>
                  <a:pt x="110672" y="249251"/>
                </a:lnTo>
                <a:lnTo>
                  <a:pt x="110672" y="177460"/>
                </a:lnTo>
                <a:lnTo>
                  <a:pt x="38297" y="17746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Плюс 9"/>
          <p:cNvSpPr/>
          <p:nvPr/>
        </p:nvSpPr>
        <p:spPr>
          <a:xfrm>
            <a:off x="179280" y="4653000"/>
            <a:ext cx="289080" cy="288720"/>
          </a:xfrm>
          <a:custGeom>
            <a:avLst/>
            <a:gdLst>
              <a:gd name="textAreaLeft" fmla="*/ 38160 w 289080"/>
              <a:gd name="textAreaRight" fmla="*/ 250920 w 289080"/>
              <a:gd name="textAreaTop" fmla="*/ 110520 h 288720"/>
              <a:gd name="textAreaBottom" fmla="*/ 178200 h 288720"/>
            </a:gdLst>
            <a:ahLst/>
            <a:rect l="textAreaLeft" t="textAreaTop" r="textAreaRight" b="textAreaBottom"/>
            <a:pathLst>
              <a:path w="288925" h="288925">
                <a:moveTo>
                  <a:pt x="38297" y="110485"/>
                </a:moveTo>
                <a:lnTo>
                  <a:pt x="110485" y="110485"/>
                </a:lnTo>
                <a:lnTo>
                  <a:pt x="110485" y="38297"/>
                </a:lnTo>
                <a:lnTo>
                  <a:pt x="178440" y="38297"/>
                </a:lnTo>
                <a:lnTo>
                  <a:pt x="178440" y="110485"/>
                </a:lnTo>
                <a:lnTo>
                  <a:pt x="250628" y="110485"/>
                </a:lnTo>
                <a:lnTo>
                  <a:pt x="250628" y="178440"/>
                </a:lnTo>
                <a:lnTo>
                  <a:pt x="178440" y="178440"/>
                </a:lnTo>
                <a:lnTo>
                  <a:pt x="178440" y="250628"/>
                </a:lnTo>
                <a:lnTo>
                  <a:pt x="110485" y="250628"/>
                </a:lnTo>
                <a:lnTo>
                  <a:pt x="110485" y="178440"/>
                </a:lnTo>
                <a:lnTo>
                  <a:pt x="38297" y="17844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Плюс 10"/>
          <p:cNvSpPr/>
          <p:nvPr/>
        </p:nvSpPr>
        <p:spPr>
          <a:xfrm>
            <a:off x="179280" y="5229360"/>
            <a:ext cx="289080" cy="287280"/>
          </a:xfrm>
          <a:custGeom>
            <a:avLst/>
            <a:gdLst>
              <a:gd name="textAreaLeft" fmla="*/ 38160 w 289080"/>
              <a:gd name="textAreaRight" fmla="*/ 250920 w 289080"/>
              <a:gd name="textAreaTop" fmla="*/ 109800 h 287280"/>
              <a:gd name="textAreaBottom" fmla="*/ 177480 h 287280"/>
            </a:gdLst>
            <a:ahLst/>
            <a:rect l="textAreaLeft" t="textAreaTop" r="textAreaRight" b="textAreaBottom"/>
            <a:pathLst>
              <a:path w="288925" h="287338">
                <a:moveTo>
                  <a:pt x="38297" y="109878"/>
                </a:moveTo>
                <a:lnTo>
                  <a:pt x="110672" y="109878"/>
                </a:lnTo>
                <a:lnTo>
                  <a:pt x="110672" y="38087"/>
                </a:lnTo>
                <a:lnTo>
                  <a:pt x="178253" y="38087"/>
                </a:lnTo>
                <a:lnTo>
                  <a:pt x="178253" y="109878"/>
                </a:lnTo>
                <a:lnTo>
                  <a:pt x="250628" y="109878"/>
                </a:lnTo>
                <a:lnTo>
                  <a:pt x="250628" y="177460"/>
                </a:lnTo>
                <a:lnTo>
                  <a:pt x="178253" y="177460"/>
                </a:lnTo>
                <a:lnTo>
                  <a:pt x="178253" y="249251"/>
                </a:lnTo>
                <a:lnTo>
                  <a:pt x="110672" y="249251"/>
                </a:lnTo>
                <a:lnTo>
                  <a:pt x="110672" y="177460"/>
                </a:lnTo>
                <a:lnTo>
                  <a:pt x="38297" y="17746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Плюс 11"/>
          <p:cNvSpPr/>
          <p:nvPr/>
        </p:nvSpPr>
        <p:spPr>
          <a:xfrm>
            <a:off x="179280" y="5877000"/>
            <a:ext cx="289080" cy="288720"/>
          </a:xfrm>
          <a:custGeom>
            <a:avLst/>
            <a:gdLst>
              <a:gd name="textAreaLeft" fmla="*/ 38160 w 289080"/>
              <a:gd name="textAreaRight" fmla="*/ 250920 w 289080"/>
              <a:gd name="textAreaTop" fmla="*/ 110520 h 288720"/>
              <a:gd name="textAreaBottom" fmla="*/ 178200 h 288720"/>
            </a:gdLst>
            <a:ahLst/>
            <a:rect l="textAreaLeft" t="textAreaTop" r="textAreaRight" b="textAreaBottom"/>
            <a:pathLst>
              <a:path w="288925" h="288925">
                <a:moveTo>
                  <a:pt x="38297" y="110485"/>
                </a:moveTo>
                <a:lnTo>
                  <a:pt x="110485" y="110485"/>
                </a:lnTo>
                <a:lnTo>
                  <a:pt x="110485" y="38297"/>
                </a:lnTo>
                <a:lnTo>
                  <a:pt x="178440" y="38297"/>
                </a:lnTo>
                <a:lnTo>
                  <a:pt x="178440" y="110485"/>
                </a:lnTo>
                <a:lnTo>
                  <a:pt x="250628" y="110485"/>
                </a:lnTo>
                <a:lnTo>
                  <a:pt x="250628" y="178440"/>
                </a:lnTo>
                <a:lnTo>
                  <a:pt x="178440" y="178440"/>
                </a:lnTo>
                <a:lnTo>
                  <a:pt x="178440" y="250628"/>
                </a:lnTo>
                <a:lnTo>
                  <a:pt x="110485" y="250628"/>
                </a:lnTo>
                <a:lnTo>
                  <a:pt x="110485" y="178440"/>
                </a:lnTo>
                <a:lnTo>
                  <a:pt x="38297" y="17844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Минус 12"/>
          <p:cNvSpPr/>
          <p:nvPr/>
        </p:nvSpPr>
        <p:spPr>
          <a:xfrm>
            <a:off x="4284720" y="2276640"/>
            <a:ext cx="216000" cy="360360"/>
          </a:xfrm>
          <a:custGeom>
            <a:avLst/>
            <a:gdLst>
              <a:gd name="textAreaLeft" fmla="*/ 28440 w 216000"/>
              <a:gd name="textAreaRight" fmla="*/ 187560 w 216000"/>
              <a:gd name="textAreaTop" fmla="*/ 137880 h 360360"/>
              <a:gd name="textAreaBottom" fmla="*/ 222480 h 360360"/>
            </a:gdLst>
            <a:ahLst/>
            <a:rect l="textAreaLeft" t="textAreaTop" r="textAreaRight" b="textAreaBottom"/>
            <a:pathLst>
              <a:path w="215900" h="360363">
                <a:moveTo>
                  <a:pt x="28618" y="137803"/>
                </a:moveTo>
                <a:lnTo>
                  <a:pt x="187282" y="137803"/>
                </a:lnTo>
                <a:lnTo>
                  <a:pt x="187282" y="222560"/>
                </a:lnTo>
                <a:lnTo>
                  <a:pt x="28618" y="22256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Минус 13"/>
          <p:cNvSpPr/>
          <p:nvPr/>
        </p:nvSpPr>
        <p:spPr>
          <a:xfrm>
            <a:off x="4284720" y="2924280"/>
            <a:ext cx="216000" cy="360360"/>
          </a:xfrm>
          <a:custGeom>
            <a:avLst/>
            <a:gdLst>
              <a:gd name="textAreaLeft" fmla="*/ 28440 w 216000"/>
              <a:gd name="textAreaRight" fmla="*/ 187560 w 216000"/>
              <a:gd name="textAreaTop" fmla="*/ 137880 h 360360"/>
              <a:gd name="textAreaBottom" fmla="*/ 222480 h 360360"/>
            </a:gdLst>
            <a:ahLst/>
            <a:rect l="textAreaLeft" t="textAreaTop" r="textAreaRight" b="textAreaBottom"/>
            <a:pathLst>
              <a:path w="215900" h="360363">
                <a:moveTo>
                  <a:pt x="28618" y="137803"/>
                </a:moveTo>
                <a:lnTo>
                  <a:pt x="187282" y="137803"/>
                </a:lnTo>
                <a:lnTo>
                  <a:pt x="187282" y="222560"/>
                </a:lnTo>
                <a:lnTo>
                  <a:pt x="28618" y="22256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Минус 14"/>
          <p:cNvSpPr/>
          <p:nvPr/>
        </p:nvSpPr>
        <p:spPr>
          <a:xfrm>
            <a:off x="4284720" y="3500280"/>
            <a:ext cx="216000" cy="360360"/>
          </a:xfrm>
          <a:custGeom>
            <a:avLst/>
            <a:gdLst>
              <a:gd name="textAreaLeft" fmla="*/ 28440 w 216000"/>
              <a:gd name="textAreaRight" fmla="*/ 187560 w 216000"/>
              <a:gd name="textAreaTop" fmla="*/ 137880 h 360360"/>
              <a:gd name="textAreaBottom" fmla="*/ 222480 h 360360"/>
            </a:gdLst>
            <a:ahLst/>
            <a:rect l="textAreaLeft" t="textAreaTop" r="textAreaRight" b="textAreaBottom"/>
            <a:pathLst>
              <a:path w="215900" h="360362">
                <a:moveTo>
                  <a:pt x="28618" y="137802"/>
                </a:moveTo>
                <a:lnTo>
                  <a:pt x="187282" y="137802"/>
                </a:lnTo>
                <a:lnTo>
                  <a:pt x="187282" y="222560"/>
                </a:lnTo>
                <a:lnTo>
                  <a:pt x="28618" y="22256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Минус 15"/>
          <p:cNvSpPr/>
          <p:nvPr/>
        </p:nvSpPr>
        <p:spPr>
          <a:xfrm>
            <a:off x="4356000" y="4149720"/>
            <a:ext cx="216000" cy="358920"/>
          </a:xfrm>
          <a:custGeom>
            <a:avLst/>
            <a:gdLst>
              <a:gd name="textAreaLeft" fmla="*/ 28440 w 216000"/>
              <a:gd name="textAreaRight" fmla="*/ 187560 w 216000"/>
              <a:gd name="textAreaTop" fmla="*/ 137160 h 358920"/>
              <a:gd name="textAreaBottom" fmla="*/ 221760 h 358920"/>
            </a:gdLst>
            <a:ahLst/>
            <a:rect l="textAreaLeft" t="textAreaTop" r="textAreaRight" b="textAreaBottom"/>
            <a:pathLst>
              <a:path w="215900" h="358775">
                <a:moveTo>
                  <a:pt x="28618" y="137196"/>
                </a:moveTo>
                <a:lnTo>
                  <a:pt x="187282" y="137196"/>
                </a:lnTo>
                <a:lnTo>
                  <a:pt x="187282" y="221579"/>
                </a:lnTo>
                <a:lnTo>
                  <a:pt x="28618" y="221579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699" name="Picture 4" descr="http://img.ria.ua/photos/rabota/articles/0/1/126/126m.jpg"/>
          <p:cNvPicPr/>
          <p:nvPr/>
        </p:nvPicPr>
        <p:blipFill>
          <a:blip r:embed="rId1"/>
          <a:stretch/>
        </p:blipFill>
        <p:spPr>
          <a:xfrm>
            <a:off x="826920" y="2565360"/>
            <a:ext cx="3924360" cy="260676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6" descr="Картинка 35 из 82142"/>
          <p:cNvPicPr/>
          <p:nvPr/>
        </p:nvPicPr>
        <p:blipFill>
          <a:blip r:embed="rId2"/>
          <a:stretch/>
        </p:blipFill>
        <p:spPr>
          <a:xfrm>
            <a:off x="5148360" y="2492280"/>
            <a:ext cx="2255760" cy="2665440"/>
          </a:xfrm>
          <a:prstGeom prst="rect">
            <a:avLst/>
          </a:prstGeom>
          <a:ln w="0">
            <a:noFill/>
          </a:ln>
        </p:spPr>
      </p:pic>
      <p:grpSp>
        <p:nvGrpSpPr>
          <p:cNvPr id="701" name="Овальная выноска 4"/>
          <p:cNvGrpSpPr/>
          <p:nvPr/>
        </p:nvGrpSpPr>
        <p:grpSpPr>
          <a:xfrm>
            <a:off x="79200" y="5205240"/>
            <a:ext cx="8906040" cy="1579680"/>
            <a:chOff x="79200" y="5205240"/>
            <a:chExt cx="8906040" cy="1579680"/>
          </a:xfrm>
        </p:grpSpPr>
        <p:pic>
          <p:nvPicPr>
            <p:cNvPr id="702" name="Овальная выноска 4" descr=""/>
            <p:cNvPicPr/>
            <p:nvPr/>
          </p:nvPicPr>
          <p:blipFill>
            <a:blip r:embed="rId3"/>
            <a:stretch/>
          </p:blipFill>
          <p:spPr>
            <a:xfrm>
              <a:off x="79200" y="5205240"/>
              <a:ext cx="890604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1405080" y="5429160"/>
              <a:ext cx="62625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e0e38"/>
                  </a:solidFill>
                  <a:latin typeface="Comic Sans MS"/>
                </a:rPr>
                <a:t>Из 100 новых фирм за год остаются на плаву только 10 ! ! 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Овальная выноска 5"/>
          <p:cNvGrpSpPr/>
          <p:nvPr/>
        </p:nvGrpSpPr>
        <p:grpSpPr>
          <a:xfrm>
            <a:off x="152280" y="92160"/>
            <a:ext cx="8832960" cy="2395440"/>
            <a:chOff x="152280" y="92160"/>
            <a:chExt cx="8832960" cy="2395440"/>
          </a:xfrm>
        </p:grpSpPr>
        <p:pic>
          <p:nvPicPr>
            <p:cNvPr id="705" name="Овальная выноска 5" descr=""/>
            <p:cNvPicPr/>
            <p:nvPr/>
          </p:nvPicPr>
          <p:blipFill>
            <a:blip r:embed="rId4"/>
            <a:stretch/>
          </p:blipFill>
          <p:spPr>
            <a:xfrm>
              <a:off x="152280" y="92160"/>
              <a:ext cx="8832960" cy="23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>
              <a:off x="1465200" y="422280"/>
              <a:ext cx="6213600" cy="14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e0e38"/>
                  </a:solidFill>
                  <a:latin typeface="Comic Sans MS"/>
                </a:rPr>
                <a:t>Когда вы бежите, конкуренты покусывают вас сзади; но если вы остановитесь, они вас сожрут</a:t>
              </a:r>
              <a:r>
                <a:rPr b="1" lang="ru-RU" sz="3200" spc="-1" strike="noStrike">
                  <a:solidFill>
                    <a:srgbClr val="5e0e38"/>
                  </a:solidFill>
                  <a:latin typeface="Comic Sans MS"/>
                </a:rPr>
                <a:t> </a:t>
              </a:r>
              <a:br>
                <a:rPr sz="3200"/>
              </a:br>
              <a:r>
                <a:rPr b="1" lang="ru-RU" sz="3200" spc="-1" strike="noStrike">
                  <a:solidFill>
                    <a:srgbClr val="5e0e38"/>
                  </a:solidFill>
                  <a:latin typeface="Comic Sans MS"/>
                </a:rPr>
                <a:t>      </a:t>
              </a:r>
              <a:r>
                <a:rPr b="1" lang="ru-RU" sz="2400" spc="-1" strike="noStrike">
                  <a:solidFill>
                    <a:srgbClr val="5e0e38"/>
                  </a:solidFill>
                  <a:latin typeface="Comic Sans MS"/>
                </a:rPr>
                <a:t>У.Кнудсе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964720" cy="279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e0e38"/>
                </a:solidFill>
                <a:latin typeface="Comic Sans MS"/>
              </a:rPr>
              <a:t>Рыбы в море поступают как люди на земле: большие поедают малых.</a:t>
            </a:r>
            <a:br>
              <a:rPr sz="3200"/>
            </a:br>
            <a:r>
              <a:rPr b="1" lang="ru-RU" sz="3200" spc="-1" strike="noStrike">
                <a:solidFill>
                  <a:srgbClr val="5e0e38"/>
                </a:solidFill>
                <a:latin typeface="Comic Sans MS"/>
              </a:rPr>
              <a:t>У.Шекспир</a:t>
            </a:r>
            <a:endParaRPr b="0" lang="en-US" sz="32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708" name="Picture 2" descr="Картинка 1 из 82142"/>
          <p:cNvPicPr/>
          <p:nvPr/>
        </p:nvPicPr>
        <p:blipFill>
          <a:blip r:embed="rId1"/>
          <a:stretch/>
        </p:blipFill>
        <p:spPr>
          <a:xfrm>
            <a:off x="2556000" y="3284640"/>
            <a:ext cx="3809880" cy="323856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4" descr="https://encrypted-tbn3.google.com/images?q=tbn:ANd9GcTdByjYjJDbvQgQ4P0I3DYGfXnUEj08ycwnnJfi7jbdNM4WBZJe"/>
          <p:cNvPicPr/>
          <p:nvPr/>
        </p:nvPicPr>
        <p:blipFill>
          <a:blip r:embed="rId2"/>
          <a:stretch/>
        </p:blipFill>
        <p:spPr>
          <a:xfrm>
            <a:off x="3708360" y="189000"/>
            <a:ext cx="1333440" cy="132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22417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Comic Sans MS"/>
              </a:rPr>
              <a:t>                     </a:t>
            </a: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В.В.Путин:</a:t>
            </a:r>
            <a:endParaRPr b="0" lang="en-US" sz="28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3276360" y="259920"/>
            <a:ext cx="5398920" cy="63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5e0e38"/>
                </a:solidFill>
                <a:latin typeface="Comic Sans MS"/>
              </a:rPr>
              <a:t>«Наши</a:t>
            </a:r>
            <a:r>
              <a:rPr b="0" lang="ru-RU" sz="2400" spc="-1" strike="noStrike">
                <a:solidFill>
                  <a:srgbClr val="5e0e38"/>
                </a:solidFill>
                <a:latin typeface="Cambria"/>
              </a:rPr>
              <a:t> планы по развитию конкуренции делятся на два крупных блока. </a:t>
            </a:r>
            <a:r>
              <a:rPr b="0" lang="ru-RU" sz="2400" spc="-1" strike="noStrike" u="sng">
                <a:solidFill>
                  <a:srgbClr val="5e0e38"/>
                </a:solidFill>
                <a:uFillTx/>
                <a:latin typeface="Cambria"/>
              </a:rPr>
              <a:t>Первый блок </a:t>
            </a:r>
            <a:r>
              <a:rPr b="0" lang="ru-RU" sz="2400" spc="-1" strike="noStrike">
                <a:solidFill>
                  <a:srgbClr val="5e0e38"/>
                </a:solidFill>
                <a:latin typeface="Cambria"/>
              </a:rPr>
              <a:t>– это защита конкуренции…. </a:t>
            </a:r>
            <a:r>
              <a:rPr b="0" lang="ru-RU" sz="2400" spc="-1" strike="noStrike" u="sng">
                <a:solidFill>
                  <a:srgbClr val="5e0e38"/>
                </a:solidFill>
                <a:uFillTx/>
                <a:latin typeface="Cambria"/>
              </a:rPr>
              <a:t>Второй блок </a:t>
            </a:r>
            <a:r>
              <a:rPr b="0" lang="ru-RU" sz="2400" spc="-1" strike="noStrike">
                <a:solidFill>
                  <a:srgbClr val="5e0e38"/>
                </a:solidFill>
                <a:latin typeface="Cambria"/>
              </a:rPr>
              <a:t>- …создание максимально благоприятных условий для появления и выхода на рынки новых высокоэффективных хозяйствующих субъектов.»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99640" y="1434960"/>
            <a:ext cx="18716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13" name="Picture 8" descr="http://t1.gstatic.com/images?q=tbn:ANd9GcQvxqk17w8FhlQ6vLrmC8Uj9WwZfNkgOGPO8XFj8d42bCIdHi2bjw"/>
          <p:cNvPicPr/>
          <p:nvPr/>
        </p:nvPicPr>
        <p:blipFill>
          <a:blip r:embed="rId1"/>
          <a:stretch/>
        </p:blipFill>
        <p:spPr>
          <a:xfrm>
            <a:off x="250920" y="907920"/>
            <a:ext cx="2835360" cy="283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27280" y="836640"/>
            <a:ext cx="34923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e0e38"/>
                </a:solidFill>
                <a:latin typeface="Comic Sans MS"/>
              </a:rPr>
              <a:t>Совершенству</a:t>
            </a:r>
            <a:br>
              <a:rPr sz="3200"/>
            </a:br>
            <a:r>
              <a:rPr b="1" lang="ru-RU" sz="3200" spc="-1" strike="noStrike">
                <a:solidFill>
                  <a:srgbClr val="5e0e38"/>
                </a:solidFill>
                <a:latin typeface="Comic Sans MS"/>
              </a:rPr>
              <a:t> нет предела.</a:t>
            </a:r>
            <a:endParaRPr b="0" lang="en-US" sz="32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715" name="Picture 4" descr="LATL0005"/>
          <p:cNvPicPr/>
          <p:nvPr/>
        </p:nvPicPr>
        <p:blipFill>
          <a:blip r:embed="rId1"/>
          <a:stretch/>
        </p:blipFill>
        <p:spPr>
          <a:xfrm>
            <a:off x="468360" y="476280"/>
            <a:ext cx="3925800" cy="232560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9" descr="http://t0.gstatic.com/images?q=tbn:ANd9GcTKn7gEceVgesTKeM8W06gie8rB47D_7X-BAwTbxM6NHko6ukAJ"/>
          <p:cNvPicPr/>
          <p:nvPr/>
        </p:nvPicPr>
        <p:blipFill>
          <a:blip r:embed="rId2"/>
          <a:stretch/>
        </p:blipFill>
        <p:spPr>
          <a:xfrm>
            <a:off x="5003640" y="2924280"/>
            <a:ext cx="3749760" cy="2808360"/>
          </a:xfrm>
          <a:prstGeom prst="rect">
            <a:avLst/>
          </a:prstGeom>
          <a:ln w="0">
            <a:noFill/>
          </a:ln>
        </p:spPr>
      </p:pic>
      <p:sp>
        <p:nvSpPr>
          <p:cNvPr id="717" name="Прямоугольник 5"/>
          <p:cNvSpPr/>
          <p:nvPr/>
        </p:nvSpPr>
        <p:spPr>
          <a:xfrm>
            <a:off x="395280" y="34290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Шаг за шагом упорно боритесь и прежде всего со своей ленью.   Это путь к успеху</a:t>
            </a:r>
            <a:r>
              <a:rPr b="0" lang="ru-RU" sz="1800" spc="-1" strike="noStrike">
                <a:solidFill>
                  <a:srgbClr val="5e0e38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Заголовок 1"/>
          <p:cNvSpPr/>
          <p:nvPr/>
        </p:nvSpPr>
        <p:spPr>
          <a:xfrm>
            <a:off x="468360" y="189000"/>
            <a:ext cx="74674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e0e38"/>
                </a:solidFill>
                <a:latin typeface="Comic Sans MS"/>
              </a:rPr>
              <a:t>Подведем итоги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Содержимое 2"/>
          <p:cNvSpPr/>
          <p:nvPr/>
        </p:nvSpPr>
        <p:spPr>
          <a:xfrm>
            <a:off x="285840" y="836640"/>
            <a:ext cx="86072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Что вы узнали на уро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Все ли вы поняли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Интересно ли было вам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4" descr="https://encrypted-tbn3.google.com/images?q=tbn:ANd9GcSXYi5O3bO46O8UUHEZUjB9DqhOkWavLN1ck8aXiu5z2A4fx6XphA"/>
          <p:cNvPicPr/>
          <p:nvPr/>
        </p:nvPicPr>
        <p:blipFill>
          <a:blip r:embed="rId1"/>
          <a:stretch/>
        </p:blipFill>
        <p:spPr>
          <a:xfrm>
            <a:off x="900000" y="2637000"/>
            <a:ext cx="1222560" cy="136836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2" descr="http://ci.alamogordo.nm.us/Assets/COA+Document/Community+Services/Alamogordo+Family+Rec+Center/Hot+Air+Balloon.gif"/>
          <p:cNvPicPr/>
          <p:nvPr/>
        </p:nvPicPr>
        <p:blipFill>
          <a:blip r:embed="rId2"/>
          <a:stretch/>
        </p:blipFill>
        <p:spPr>
          <a:xfrm>
            <a:off x="2700360" y="3933720"/>
            <a:ext cx="1316160" cy="1656000"/>
          </a:xfrm>
          <a:prstGeom prst="rect">
            <a:avLst/>
          </a:prstGeom>
          <a:ln w="0">
            <a:noFill/>
          </a:ln>
        </p:spPr>
      </p:pic>
      <p:pic>
        <p:nvPicPr>
          <p:cNvPr id="722" name="Прямоугольник 9" descr=""/>
          <p:cNvPicPr/>
          <p:nvPr/>
        </p:nvPicPr>
        <p:blipFill>
          <a:blip r:embed="rId3"/>
          <a:stretch/>
        </p:blipFill>
        <p:spPr>
          <a:xfrm>
            <a:off x="2908440" y="4548240"/>
            <a:ext cx="957240" cy="4078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12" descr="http://prouglich.ru/wp-content/uploads/051200431.jpg"/>
          <p:cNvPicPr/>
          <p:nvPr/>
        </p:nvPicPr>
        <p:blipFill>
          <a:blip r:embed="rId4"/>
          <a:stretch/>
        </p:blipFill>
        <p:spPr>
          <a:xfrm>
            <a:off x="755640" y="4221000"/>
            <a:ext cx="1444680" cy="107964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2" descr="https://encrypted-tbn2.google.com/images?q=tbn:ANd9GcS3BUPHZts9KFIVtXrPnvEvRq7odty4XL1jh7xESSP2_Gs5oJ6GSQ"/>
          <p:cNvPicPr/>
          <p:nvPr/>
        </p:nvPicPr>
        <p:blipFill>
          <a:blip r:embed="rId5"/>
          <a:stretch/>
        </p:blipFill>
        <p:spPr>
          <a:xfrm>
            <a:off x="826920" y="5732640"/>
            <a:ext cx="1298880" cy="86652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0" descr="https://encrypted-tbn0.google.com/images?q=tbn:ANd9GcThHd-BNmvPlBIwia9hBQhxNIprF5oyaImji4beSIZsRBfTuW9L"/>
          <p:cNvPicPr/>
          <p:nvPr/>
        </p:nvPicPr>
        <p:blipFill>
          <a:blip r:embed="rId6"/>
          <a:stretch/>
        </p:blipFill>
        <p:spPr>
          <a:xfrm>
            <a:off x="2771640" y="5661000"/>
            <a:ext cx="1206720" cy="10954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10" descr="http://mini-pes.ru/image/data/gar.gif"/>
          <p:cNvPicPr/>
          <p:nvPr/>
        </p:nvPicPr>
        <p:blipFill>
          <a:blip r:embed="rId7"/>
          <a:stretch/>
        </p:blipFill>
        <p:spPr>
          <a:xfrm>
            <a:off x="4643280" y="2708280"/>
            <a:ext cx="1204920" cy="12254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2" descr="http://3.bp.blogspot.com/_4kkT22kuvoA/S_aQ848r1mI/AAAAAAAACdk/zR8kgcufVkw/s1600/red-balloon-laura-buxton.jpg"/>
          <p:cNvPicPr/>
          <p:nvPr/>
        </p:nvPicPr>
        <p:blipFill>
          <a:blip r:embed="rId8"/>
          <a:stretch/>
        </p:blipFill>
        <p:spPr>
          <a:xfrm>
            <a:off x="2916360" y="2637000"/>
            <a:ext cx="792000" cy="1177920"/>
          </a:xfrm>
          <a:prstGeom prst="rect">
            <a:avLst/>
          </a:prstGeom>
          <a:ln w="0">
            <a:noFill/>
          </a:ln>
        </p:spPr>
      </p:pic>
      <p:pic>
        <p:nvPicPr>
          <p:cNvPr id="728" name="Прямоугольник 16" descr=""/>
          <p:cNvPicPr/>
          <p:nvPr/>
        </p:nvPicPr>
        <p:blipFill>
          <a:blip r:embed="rId9"/>
          <a:stretch/>
        </p:blipFill>
        <p:spPr>
          <a:xfrm>
            <a:off x="2835360" y="2889360"/>
            <a:ext cx="955440" cy="40788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7" descr="C:\Users\Сталкер\Desktop\images (9).jpg"/>
          <p:cNvPicPr/>
          <p:nvPr/>
        </p:nvPicPr>
        <p:blipFill>
          <a:blip r:embed="rId10"/>
          <a:stretch/>
        </p:blipFill>
        <p:spPr>
          <a:xfrm>
            <a:off x="6804000" y="4292640"/>
            <a:ext cx="1582920" cy="100800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6" descr="https://encrypted-tbn1.google.com/images?q=tbn:ANd9GcQtbEH6iVOhj3YJ3PSFYDH0q5IdkxazlnnUPJPgmOKkC56mO-CH"/>
          <p:cNvPicPr/>
          <p:nvPr/>
        </p:nvPicPr>
        <p:blipFill>
          <a:blip r:embed="rId11"/>
          <a:stretch/>
        </p:blipFill>
        <p:spPr>
          <a:xfrm>
            <a:off x="6732720" y="2708280"/>
            <a:ext cx="1601640" cy="120816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2" descr="https://encrypted-tbn1.google.com/images?q=tbn:ANd9GcTC_VWiSdgMdPCrgNO8BwGJ-Geyly5QoAkN2TH-RQLVGvYIrCtF"/>
          <p:cNvPicPr/>
          <p:nvPr/>
        </p:nvPicPr>
        <p:blipFill>
          <a:blip r:embed="rId12"/>
          <a:stretch/>
        </p:blipFill>
        <p:spPr>
          <a:xfrm>
            <a:off x="4716360" y="4292640"/>
            <a:ext cx="1440000" cy="103644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4" descr="http://img.ria.ua/photos/rabota/articles/0/1/126/126m.jpg"/>
          <p:cNvPicPr/>
          <p:nvPr/>
        </p:nvPicPr>
        <p:blipFill>
          <a:blip r:embed="rId13"/>
          <a:stretch/>
        </p:blipFill>
        <p:spPr>
          <a:xfrm>
            <a:off x="4643280" y="5661000"/>
            <a:ext cx="1517760" cy="100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9" descr="http://t0.gstatic.com/images?q=tbn:ANd9GcTKn7gEceVgesTKeM8W06gie8rB47D_7X-BAwTbxM6NHko6ukAJ"/>
          <p:cNvPicPr/>
          <p:nvPr/>
        </p:nvPicPr>
        <p:blipFill>
          <a:blip r:embed="rId14"/>
          <a:stretch/>
        </p:blipFill>
        <p:spPr>
          <a:xfrm>
            <a:off x="6875640" y="5589720"/>
            <a:ext cx="1584000" cy="10746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7" descr="https://encrypted-tbn0.google.com/images?q=tbn:ANd9GcTlKdVUKqoQ4W_q0HmTREU10IFr5Ct5H2hcbdCr0KS8qPl2bxOlHQ"/>
          <p:cNvPicPr/>
          <p:nvPr/>
        </p:nvPicPr>
        <p:blipFill>
          <a:blip r:embed="rId15"/>
          <a:stretch/>
        </p:blipFill>
        <p:spPr>
          <a:xfrm>
            <a:off x="7380360" y="620640"/>
            <a:ext cx="1258920" cy="117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662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e0e38"/>
                </a:solidFill>
                <a:latin typeface="Comic Sans MS"/>
              </a:rPr>
              <a:t>Домашнее задание</a:t>
            </a: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: </a:t>
            </a:r>
            <a:br>
              <a:rPr sz="2800"/>
            </a:b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 стр. 126-127, Рабочая тетрадь                                 «3»</a:t>
            </a:r>
            <a:r>
              <a:rPr b="0" lang="ru-RU" sz="2800" spc="-1" strike="noStrike">
                <a:solidFill>
                  <a:srgbClr val="5e0e38"/>
                </a:solidFill>
                <a:latin typeface="Comic Sans MS"/>
              </a:rPr>
              <a:t> выучить в рамках;</a:t>
            </a:r>
            <a:br>
              <a:rPr sz="2800"/>
            </a:br>
            <a:r>
              <a:rPr b="0" lang="ru-RU" sz="2800" spc="-1" strike="noStrike">
                <a:solidFill>
                  <a:srgbClr val="5e0e38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«4»</a:t>
            </a:r>
            <a:r>
              <a:rPr b="0" lang="ru-RU" sz="2800" spc="-1" strike="noStrike">
                <a:solidFill>
                  <a:srgbClr val="5e0e38"/>
                </a:solidFill>
                <a:latin typeface="Comic Sans MS"/>
              </a:rPr>
              <a:t> пересказ;</a:t>
            </a:r>
            <a:br>
              <a:rPr sz="2800"/>
            </a:br>
            <a:r>
              <a:rPr b="0" lang="ru-RU" sz="2800" spc="-1" strike="noStrike">
                <a:solidFill>
                  <a:srgbClr val="5e0e38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«5»</a:t>
            </a:r>
            <a:r>
              <a:rPr b="0" lang="ru-RU" sz="2800" spc="-1" strike="noStrike">
                <a:solidFill>
                  <a:srgbClr val="5e0e38"/>
                </a:solidFill>
                <a:latin typeface="Comic Sans MS"/>
              </a:rPr>
              <a:t> пересказ с практическими примерами; </a:t>
            </a:r>
            <a:br>
              <a:rPr sz="2800"/>
            </a:br>
            <a:r>
              <a:rPr b="0" lang="ru-RU" sz="2800" spc="-1" strike="noStrike">
                <a:solidFill>
                  <a:srgbClr val="5e0e38"/>
                </a:solidFill>
                <a:latin typeface="Comic Sans MS"/>
              </a:rPr>
              <a:t>+ </a:t>
            </a: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«5»</a:t>
            </a:r>
            <a:r>
              <a:rPr b="0" lang="ru-RU" sz="2800" spc="-1" strike="noStrike">
                <a:solidFill>
                  <a:srgbClr val="5e0e38"/>
                </a:solidFill>
                <a:latin typeface="Comic Sans MS"/>
              </a:rPr>
              <a:t> задание по желанию :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e0e38"/>
                </a:solidFill>
                <a:latin typeface="Comic Sans MS"/>
              </a:rPr>
              <a:t> - исследование №2 </a:t>
            </a: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«Как изменилась конкуренция продуктовых магазинов на Восточном посёлке г. Павлово,  сравнить  1990 год и 2013 год».</a:t>
            </a:r>
            <a:br>
              <a:rPr sz="2800"/>
            </a:br>
            <a:r>
              <a:rPr b="1" lang="ru-RU" sz="2800" spc="-1" strike="noStrike">
                <a:solidFill>
                  <a:srgbClr val="5e0e38"/>
                </a:solidFill>
                <a:latin typeface="Comic Sans MS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736" name="Picture 2" descr="http://mi7ya.ru/wp-content/uploads/2011/04/1115716_nuts_1.jpg"/>
          <p:cNvPicPr/>
          <p:nvPr/>
        </p:nvPicPr>
        <p:blipFill>
          <a:blip r:embed="rId1"/>
          <a:stretch/>
        </p:blipFill>
        <p:spPr>
          <a:xfrm>
            <a:off x="6948360" y="620640"/>
            <a:ext cx="1489320" cy="1489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Comic Sans MS"/>
              </a:rPr>
              <a:t>     </a:t>
            </a:r>
            <a:r>
              <a:rPr b="1" lang="ru-RU" sz="4400" spc="-1" strike="noStrike">
                <a:solidFill>
                  <a:srgbClr val="5e0e38"/>
                </a:solidFill>
                <a:latin typeface="Comic Sans MS"/>
              </a:rPr>
              <a:t>Спасибо за работу!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738" name="Picture 2" descr="https://encrypted-tbn3.google.com/images?q=tbn:ANd9GcSgg85MQVvjidBifCJ5lgNHa2LpLU_iJTtCOs0kXVa2HPb5Hv97Mw"/>
          <p:cNvPicPr/>
          <p:nvPr/>
        </p:nvPicPr>
        <p:blipFill>
          <a:blip r:embed="rId1"/>
          <a:stretch/>
        </p:blipFill>
        <p:spPr>
          <a:xfrm>
            <a:off x="3348000" y="28526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Заголовок 1"/>
          <p:cNvSpPr/>
          <p:nvPr/>
        </p:nvSpPr>
        <p:spPr>
          <a:xfrm>
            <a:off x="826920" y="260280"/>
            <a:ext cx="74678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e0e38"/>
                </a:solidFill>
                <a:latin typeface="Comic Sans MS"/>
              </a:rPr>
              <a:t>Набери номер телефона, чтобы узнать тему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Кольцо 2"/>
          <p:cNvSpPr/>
          <p:nvPr/>
        </p:nvSpPr>
        <p:spPr>
          <a:xfrm>
            <a:off x="2286000" y="1928880"/>
            <a:ext cx="4286160" cy="4214880"/>
          </a:xfrm>
          <a:custGeom>
            <a:avLst/>
            <a:gdLst>
              <a:gd name="textAreaLeft" fmla="*/ 627480 w 4286160"/>
              <a:gd name="textAreaRight" fmla="*/ 3658680 w 4286160"/>
              <a:gd name="textAreaTop" fmla="*/ 617040 h 4214880"/>
              <a:gd name="textAreaBottom" fmla="*/ 3597840 h 4214880"/>
            </a:gdLst>
            <a:ahLst/>
            <a:rect l="textAreaLeft" t="textAreaTop" r="textAreaRight" b="textAreaBottom"/>
            <a:pathLst>
              <a:path w="4286250" h="4214812">
                <a:moveTo>
                  <a:pt x="0" y="2107406"/>
                </a:moveTo>
                <a:lnTo>
                  <a:pt x="0" y="2107406"/>
                </a:lnTo>
                <a:arcTo wR="2143125" hR="2107406" stAng="-10799997" swAng="5400003"/>
                <a:lnTo>
                  <a:pt x="2143129" y="2"/>
                </a:lnTo>
                <a:arcTo wR="2143125" hR="2107406" stAng="-5399997" swAng="5400003"/>
                <a:lnTo>
                  <a:pt x="4286252" y="2107412"/>
                </a:lnTo>
                <a:arcTo wR="2143125" hR="2107406" stAng="0" swAng="5400002"/>
                <a:lnTo>
                  <a:pt x="2143126" y="4214818"/>
                </a:lnTo>
                <a:arcTo wR="2143125" hR="2107406" stAng="5400002" swAng="5400002"/>
                <a:close/>
                <a:moveTo>
                  <a:pt x="519012" y="2107406"/>
                </a:moveTo>
                <a:lnTo>
                  <a:pt x="519012" y="2107406"/>
                </a:lnTo>
                <a:arcTo wR="1624113" hR="1588394" stAng="-10799996" swAng="-5400000"/>
                <a:lnTo>
                  <a:pt x="2143123" y="3695802"/>
                </a:lnTo>
                <a:arcTo wR="1624113" hR="1588394" stAng="5400002" swAng="-5400000"/>
                <a:lnTo>
                  <a:pt x="3767237" y="2107409"/>
                </a:lnTo>
                <a:arcTo wR="1624113" hR="1588394" stAng="0" swAng="-5400000"/>
                <a:lnTo>
                  <a:pt x="2143124" y="519015"/>
                </a:lnTo>
                <a:arcTo wR="1624113" hR="1588394" stAng="-5399996" swAng="-5400000"/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Знак запрета 3"/>
          <p:cNvSpPr/>
          <p:nvPr/>
        </p:nvSpPr>
        <p:spPr>
          <a:xfrm rot="18932400">
            <a:off x="3315960" y="2889000"/>
            <a:ext cx="2225520" cy="2222280"/>
          </a:xfrm>
          <a:custGeom>
            <a:avLst/>
            <a:gdLst>
              <a:gd name="textAreaLeft" fmla="*/ 325800 w 2225520"/>
              <a:gd name="textAreaRight" fmla="*/ 1899720 w 2225520"/>
              <a:gd name="textAreaTop" fmla="*/ 325440 h 2222280"/>
              <a:gd name="textAreaBottom" fmla="*/ 1896840 h 2222280"/>
            </a:gdLst>
            <a:ahLst/>
            <a:rect l="textAreaLeft" t="textAreaTop" r="textAreaRight" b="textAreaBottom"/>
            <a:pathLst>
              <a:path w="2225675" h="2222500">
                <a:moveTo>
                  <a:pt x="0" y="1111250"/>
                </a:moveTo>
                <a:lnTo>
                  <a:pt x="0" y="1111250"/>
                </a:lnTo>
                <a:arcTo wR="1112838" hR="1111250" stAng="-10799997" swAng="5400003"/>
                <a:lnTo>
                  <a:pt x="1112840" y="1"/>
                </a:lnTo>
                <a:arcTo wR="1112838" hR="1111250" stAng="-5399997" swAng="5400003"/>
                <a:lnTo>
                  <a:pt x="2225677" y="1111253"/>
                </a:lnTo>
                <a:arcTo wR="1112838" hR="1111250" stAng="0" swAng="5400003"/>
                <a:lnTo>
                  <a:pt x="1112838" y="2222503"/>
                </a:lnTo>
                <a:arcTo wR="1112838" hR="1111250" stAng="5400003" swAng="5400000"/>
                <a:close/>
                <a:moveTo>
                  <a:pt x="1663202" y="1322707"/>
                </a:moveTo>
                <a:lnTo>
                  <a:pt x="1663202" y="1322707"/>
                </a:lnTo>
                <a:arcTo wR="589794" hR="588207" stAng="1261043" swAng="-7926997"/>
                <a:close/>
                <a:moveTo>
                  <a:pt x="562473" y="899793"/>
                </a:moveTo>
                <a:lnTo>
                  <a:pt x="562473" y="899793"/>
                </a:lnTo>
                <a:arcTo wR="589794" hR="588207" stAng="-9538957" swAng="-7927004"/>
                <a:close/>
              </a:path>
            </a:pathLst>
          </a:custGeom>
          <a:gradFill rotWithShape="0">
            <a:gsLst>
              <a:gs pos="0">
                <a:srgbClr val="a2a23e"/>
              </a:gs>
              <a:gs pos="100000">
                <a:srgbClr val="d8d852"/>
              </a:gs>
            </a:gsLst>
            <a:lin ang="18870000"/>
          </a:gradFill>
          <a:ln w="9360">
            <a:solidFill>
              <a:srgbClr val="caca61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Равнобедренный треугольник 4"/>
          <p:cNvSpPr/>
          <p:nvPr/>
        </p:nvSpPr>
        <p:spPr>
          <a:xfrm rot="18469800">
            <a:off x="5635440" y="4627440"/>
            <a:ext cx="642960" cy="655560"/>
          </a:xfrm>
          <a:prstGeom prst="triangle">
            <a:avLst>
              <a:gd name="adj" fmla="val 4686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8"/>
          <p:cNvSpPr/>
          <p:nvPr/>
        </p:nvSpPr>
        <p:spPr>
          <a:xfrm>
            <a:off x="5572080" y="39290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10"/>
          <p:cNvSpPr/>
          <p:nvPr/>
        </p:nvSpPr>
        <p:spPr>
          <a:xfrm>
            <a:off x="5357880" y="31431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1"/>
          <p:cNvSpPr/>
          <p:nvPr/>
        </p:nvSpPr>
        <p:spPr>
          <a:xfrm>
            <a:off x="4643280" y="257184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2"/>
          <p:cNvSpPr/>
          <p:nvPr/>
        </p:nvSpPr>
        <p:spPr>
          <a:xfrm>
            <a:off x="3857760" y="25002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3"/>
          <p:cNvSpPr/>
          <p:nvPr/>
        </p:nvSpPr>
        <p:spPr>
          <a:xfrm>
            <a:off x="3143160" y="29289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4"/>
          <p:cNvSpPr/>
          <p:nvPr/>
        </p:nvSpPr>
        <p:spPr>
          <a:xfrm>
            <a:off x="2857680" y="35719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5"/>
          <p:cNvSpPr/>
          <p:nvPr/>
        </p:nvSpPr>
        <p:spPr>
          <a:xfrm>
            <a:off x="2928960" y="42861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16"/>
          <p:cNvSpPr/>
          <p:nvPr/>
        </p:nvSpPr>
        <p:spPr>
          <a:xfrm>
            <a:off x="3357720" y="49291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7"/>
          <p:cNvSpPr/>
          <p:nvPr/>
        </p:nvSpPr>
        <p:spPr>
          <a:xfrm>
            <a:off x="4000680" y="51436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18"/>
          <p:cNvSpPr/>
          <p:nvPr/>
        </p:nvSpPr>
        <p:spPr>
          <a:xfrm>
            <a:off x="4857840" y="5000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5"/>
          <p:cNvSpPr/>
          <p:nvPr/>
        </p:nvSpPr>
        <p:spPr>
          <a:xfrm>
            <a:off x="3419640" y="3857760"/>
            <a:ext cx="2016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892875120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Овал 16"/>
          <p:cNvSpPr/>
          <p:nvPr/>
        </p:nvSpPr>
        <p:spPr>
          <a:xfrm>
            <a:off x="6000840" y="3857760"/>
            <a:ext cx="5713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9b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37326"/>
                </a:solidFill>
                <a:latin typeface="Cambria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Овал 17"/>
          <p:cNvSpPr/>
          <p:nvPr/>
        </p:nvSpPr>
        <p:spPr>
          <a:xfrm>
            <a:off x="5643720" y="2714760"/>
            <a:ext cx="5713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9b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37326"/>
                </a:solidFill>
                <a:latin typeface="Cambri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Овал 18"/>
          <p:cNvSpPr/>
          <p:nvPr/>
        </p:nvSpPr>
        <p:spPr>
          <a:xfrm>
            <a:off x="4714920" y="2000160"/>
            <a:ext cx="5713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9b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37326"/>
                </a:solidFill>
                <a:latin typeface="Cambri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19"/>
          <p:cNvSpPr/>
          <p:nvPr/>
        </p:nvSpPr>
        <p:spPr>
          <a:xfrm>
            <a:off x="3714840" y="2000160"/>
            <a:ext cx="5713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9b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37326"/>
                </a:solidFill>
                <a:latin typeface="Cambri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20"/>
          <p:cNvSpPr/>
          <p:nvPr/>
        </p:nvSpPr>
        <p:spPr>
          <a:xfrm>
            <a:off x="2771640" y="2492280"/>
            <a:ext cx="57168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9b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37326"/>
                </a:solidFill>
                <a:latin typeface="Cambri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21"/>
          <p:cNvSpPr/>
          <p:nvPr/>
        </p:nvSpPr>
        <p:spPr>
          <a:xfrm>
            <a:off x="2286000" y="3429000"/>
            <a:ext cx="57168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9b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37326"/>
                </a:solidFill>
                <a:latin typeface="Cambri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22"/>
          <p:cNvSpPr/>
          <p:nvPr/>
        </p:nvSpPr>
        <p:spPr>
          <a:xfrm>
            <a:off x="2428920" y="4429080"/>
            <a:ext cx="5713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9b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37326"/>
                </a:solidFill>
                <a:latin typeface="Cambri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3"/>
          <p:cNvSpPr/>
          <p:nvPr/>
        </p:nvSpPr>
        <p:spPr>
          <a:xfrm>
            <a:off x="3000240" y="5286240"/>
            <a:ext cx="57168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9b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37326"/>
                </a:solidFill>
                <a:latin typeface="Cambria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24"/>
          <p:cNvSpPr/>
          <p:nvPr/>
        </p:nvSpPr>
        <p:spPr>
          <a:xfrm>
            <a:off x="4000680" y="5643720"/>
            <a:ext cx="5713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9b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37326"/>
                </a:solidFill>
                <a:latin typeface="Cambri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25"/>
          <p:cNvSpPr/>
          <p:nvPr/>
        </p:nvSpPr>
        <p:spPr>
          <a:xfrm>
            <a:off x="5143680" y="5357880"/>
            <a:ext cx="5713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9b9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37326"/>
                </a:solidFill>
                <a:latin typeface="Cambr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ELPHRG01.wav" descr=""/>
          <p:cNvPicPr/>
          <p:nvPr/>
        </p:nvPicPr>
        <p:blipFill>
          <a:blip r:embed="rId1"/>
          <a:stretch/>
        </p:blipFill>
        <p:spPr>
          <a:xfrm>
            <a:off x="8072280" y="19288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1" descr="C:\Documents and Settings\User\Local Settings\Temporary Internet Files\Content.IE5\Y3WEWZ9O\MPj04384820000[1].jpg"/>
          <p:cNvPicPr/>
          <p:nvPr/>
        </p:nvPicPr>
        <p:blipFill>
          <a:blip r:embed="rId2"/>
          <a:stretch/>
        </p:blipFill>
        <p:spPr>
          <a:xfrm>
            <a:off x="6659640" y="1700280"/>
            <a:ext cx="2346120" cy="157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92" fill="hold"/>
                                        <p:tgtEl>
                                          <p:spTgt spid="5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9280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e0e38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5e0e38"/>
                </a:solidFill>
                <a:latin typeface="Comic Sans MS"/>
              </a:rPr>
              <a:t>Какие синонимы у слова конкуренция?</a:t>
            </a:r>
            <a:endParaRPr b="0" lang="en-US" sz="40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541" name="Picture 6" descr="C:\Users\Сталкер\Desktop\images.jpg"/>
          <p:cNvPicPr/>
          <p:nvPr/>
        </p:nvPicPr>
        <p:blipFill>
          <a:blip r:embed="rId1"/>
          <a:stretch/>
        </p:blipFill>
        <p:spPr>
          <a:xfrm>
            <a:off x="3571920" y="3429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7" descr="C:\Users\Сталкер\Desktop\images.jpg"/>
          <p:cNvPicPr/>
          <p:nvPr/>
        </p:nvPicPr>
        <p:blipFill>
          <a:blip r:embed="rId2"/>
          <a:stretch/>
        </p:blipFill>
        <p:spPr>
          <a:xfrm>
            <a:off x="785880" y="178596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8" descr="C:\Users\Сталкер\Desktop\images.jpg"/>
          <p:cNvPicPr/>
          <p:nvPr/>
        </p:nvPicPr>
        <p:blipFill>
          <a:blip r:embed="rId3"/>
          <a:stretch/>
        </p:blipFill>
        <p:spPr>
          <a:xfrm>
            <a:off x="6357960" y="171468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e0e38"/>
                </a:solidFill>
                <a:latin typeface="Comic Sans MS"/>
              </a:rPr>
              <a:t>Синонимы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545" name="Схема 11" descr=""/>
          <p:cNvPicPr/>
          <p:nvPr/>
        </p:nvPicPr>
        <p:blipFill>
          <a:blip r:embed="rId1"/>
          <a:stretch/>
        </p:blipFill>
        <p:spPr>
          <a:xfrm>
            <a:off x="195120" y="1047600"/>
            <a:ext cx="8631360" cy="52866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9" descr="http://t0.gstatic.com/images?q=tbn:ANd9GcTKn7gEceVgesTKeM8W06gie8rB47D_7X-BAwTbxM6NHko6ukAJ"/>
          <p:cNvPicPr/>
          <p:nvPr/>
        </p:nvPicPr>
        <p:blipFill>
          <a:blip r:embed="rId2"/>
          <a:stretch/>
        </p:blipFill>
        <p:spPr>
          <a:xfrm>
            <a:off x="3348000" y="1125360"/>
            <a:ext cx="2467080" cy="16560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http://t0.gstatic.com/images?q=tbn:ANd9GcTKn7gEceVgesTKeM8W06gie8rB47D_7X-BAwTbxM6NHko6ukAJ"/>
          <p:cNvPicPr/>
          <p:nvPr/>
        </p:nvPicPr>
        <p:blipFill>
          <a:blip r:embed="rId3"/>
          <a:stretch/>
        </p:blipFill>
        <p:spPr>
          <a:xfrm>
            <a:off x="6156360" y="2997360"/>
            <a:ext cx="2467080" cy="15112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9" descr="http://t0.gstatic.com/images?q=tbn:ANd9GcTKn7gEceVgesTKeM8W06gie8rB47D_7X-BAwTbxM6NHko6ukAJ"/>
          <p:cNvPicPr/>
          <p:nvPr/>
        </p:nvPicPr>
        <p:blipFill>
          <a:blip r:embed="rId4"/>
          <a:stretch/>
        </p:blipFill>
        <p:spPr>
          <a:xfrm>
            <a:off x="468360" y="2924280"/>
            <a:ext cx="2467080" cy="15843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9" descr="http://t0.gstatic.com/images?q=tbn:ANd9GcTKn7gEceVgesTKeM8W06gie8rB47D_7X-BAwTbxM6NHko6ukAJ"/>
          <p:cNvPicPr/>
          <p:nvPr/>
        </p:nvPicPr>
        <p:blipFill>
          <a:blip r:embed="rId5"/>
          <a:stretch/>
        </p:blipFill>
        <p:spPr>
          <a:xfrm>
            <a:off x="3419640" y="4581360"/>
            <a:ext cx="2466720" cy="165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85080" cy="84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e0e38"/>
                </a:solidFill>
                <a:latin typeface="Comic Sans MS"/>
              </a:rPr>
              <a:t>Где встречается конкуренция?</a:t>
            </a:r>
            <a:endParaRPr b="0" lang="en-US" sz="44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551" name="Picture 13" descr="http://t2.gstatic.com/images?q=tbn:ANd9GcSIc1vJF_Bkt7wbqkwaIuSolnwnVU7OBpRI-xz7B5AnIHALZOkA"/>
          <p:cNvPicPr/>
          <p:nvPr/>
        </p:nvPicPr>
        <p:blipFill>
          <a:blip r:embed="rId1"/>
          <a:stretch/>
        </p:blipFill>
        <p:spPr>
          <a:xfrm>
            <a:off x="3408480" y="2349360"/>
            <a:ext cx="1884240" cy="18003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8" descr="C:\Users\Сталкер\Desktop\images.jpg"/>
          <p:cNvPicPr/>
          <p:nvPr/>
        </p:nvPicPr>
        <p:blipFill>
          <a:blip r:embed="rId2"/>
          <a:stretch/>
        </p:blipFill>
        <p:spPr>
          <a:xfrm>
            <a:off x="3419640" y="3860640"/>
            <a:ext cx="1847520" cy="246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e0e38"/>
                </a:solidFill>
                <a:latin typeface="Comic Sans MS"/>
              </a:rPr>
              <a:t>Где встречается конкуренция?</a:t>
            </a:r>
            <a:endParaRPr b="0" lang="en-US" sz="4000" spc="-1" strike="noStrike">
              <a:solidFill>
                <a:srgbClr val="9999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79280" y="2785680"/>
            <a:ext cx="878544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порт                Природа           Устройство на работу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ступление в ВУЗ  Конкурс красоты Выборы президент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04000" y="3500280"/>
            <a:ext cx="1882800" cy="2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56" name="Picture 7" descr="http://t2.gstatic.com/images?q=tbn:ANd9GcQOWrYffNDUEt6mLaExFIxYv5PWMDvVj8NKwwjssEMJtfzs_jd3"/>
          <p:cNvPicPr/>
          <p:nvPr/>
        </p:nvPicPr>
        <p:blipFill>
          <a:blip r:embed="rId1"/>
          <a:stretch/>
        </p:blipFill>
        <p:spPr>
          <a:xfrm>
            <a:off x="2843280" y="1052640"/>
            <a:ext cx="2762280" cy="16570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1" descr="https://encrypted-tbn1.google.com/images?q=tbn:ANd9GcRt0hJCWwn6zuQg9ZGNf5pTqEkN4G8RCL5Usfr-zLgYda4LoXA9"/>
          <p:cNvPicPr/>
          <p:nvPr/>
        </p:nvPicPr>
        <p:blipFill>
          <a:blip r:embed="rId2"/>
          <a:stretch/>
        </p:blipFill>
        <p:spPr>
          <a:xfrm>
            <a:off x="5796000" y="1125360"/>
            <a:ext cx="3000240" cy="15242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3" descr="https://encrypted-tbn1.google.com/images?q=tbn:ANd9GcQqFOucVqqeac8ljAKvZTeRfha703Qa8SOinKv4hgDSs5cM1AWg"/>
          <p:cNvPicPr/>
          <p:nvPr/>
        </p:nvPicPr>
        <p:blipFill>
          <a:blip r:embed="rId3"/>
          <a:stretch/>
        </p:blipFill>
        <p:spPr>
          <a:xfrm>
            <a:off x="395280" y="3933720"/>
            <a:ext cx="2382840" cy="17859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http://t3.gstatic.com/images?q=tbn:ANd9GcR6-MVFYyCd1q7R23A-afc3rChcJYBJjrmptwU2REvnb1oNHRE5"/>
          <p:cNvPicPr/>
          <p:nvPr/>
        </p:nvPicPr>
        <p:blipFill>
          <a:blip r:embed="rId4"/>
          <a:stretch/>
        </p:blipFill>
        <p:spPr>
          <a:xfrm>
            <a:off x="3419640" y="38606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8" descr="http://t1.gstatic.com/images?q=tbn:ANd9GcQvxqk17w8FhlQ6vLrmC8Uj9WwZfNkgOGPO8XFj8d42bCIdHi2bjw"/>
          <p:cNvPicPr/>
          <p:nvPr/>
        </p:nvPicPr>
        <p:blipFill>
          <a:blip r:embed="rId5"/>
          <a:stretch/>
        </p:blipFill>
        <p:spPr>
          <a:xfrm>
            <a:off x="6588000" y="357336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7" descr="http://kp.ru/f/12/image/79/87/1378779.jpg"/>
          <p:cNvPicPr/>
          <p:nvPr/>
        </p:nvPicPr>
        <p:blipFill>
          <a:blip r:embed="rId6"/>
          <a:stretch/>
        </p:blipFill>
        <p:spPr>
          <a:xfrm>
            <a:off x="395280" y="1052640"/>
            <a:ext cx="2305080" cy="172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7487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e0e38"/>
                </a:solidFill>
                <a:latin typeface="Comic Sans MS"/>
              </a:rPr>
              <a:t>Какие черты характера надо выработать у себя, чтобы выиграть конкуренцию?</a:t>
            </a:r>
            <a:endParaRPr b="0" lang="en-US" sz="36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563" name="Picture 10" descr="https://encrypted-tbn1.google.com/images?q=tbn:ANd9GcRN3t_4HdIvBpF4rl_mvxFWajHYKi2FW5JbDvI15hWPMaLEhvvM-w"/>
          <p:cNvPicPr/>
          <p:nvPr/>
        </p:nvPicPr>
        <p:blipFill>
          <a:blip r:embed="rId1"/>
          <a:stretch/>
        </p:blipFill>
        <p:spPr>
          <a:xfrm>
            <a:off x="3203640" y="32130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C:\Users\Сталкер\Desktop\images.jpg"/>
          <p:cNvPicPr/>
          <p:nvPr/>
        </p:nvPicPr>
        <p:blipFill>
          <a:blip r:embed="rId2"/>
          <a:stretch/>
        </p:blipFill>
        <p:spPr>
          <a:xfrm>
            <a:off x="684360" y="4437000"/>
            <a:ext cx="1369800" cy="18288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7" descr="C:\Users\Сталкер\Desktop\images.jpg"/>
          <p:cNvPicPr/>
          <p:nvPr/>
        </p:nvPicPr>
        <p:blipFill>
          <a:blip r:embed="rId3"/>
          <a:stretch/>
        </p:blipFill>
        <p:spPr>
          <a:xfrm>
            <a:off x="6732720" y="2060640"/>
            <a:ext cx="1261800" cy="1684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3743280" cy="28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e0e38"/>
                </a:solidFill>
                <a:latin typeface="Calibri"/>
              </a:rPr>
              <a:t>-</a:t>
            </a:r>
            <a:r>
              <a:rPr b="1" lang="ru-RU" sz="3600" spc="-1" strike="noStrike">
                <a:solidFill>
                  <a:srgbClr val="5e0e38"/>
                </a:solidFill>
                <a:latin typeface="Calibri"/>
              </a:rPr>
              <a:t>безжалостность; </a:t>
            </a:r>
            <a:br>
              <a:rPr sz="3600"/>
            </a:br>
            <a:r>
              <a:rPr b="1" lang="ru-RU" sz="3600" spc="-1" strike="noStrike">
                <a:solidFill>
                  <a:srgbClr val="5e0e38"/>
                </a:solidFill>
                <a:latin typeface="Calibri"/>
              </a:rPr>
              <a:t>- воля; </a:t>
            </a:r>
            <a:br>
              <a:rPr sz="3600"/>
            </a:br>
            <a:r>
              <a:rPr b="1" lang="ru-RU" sz="3600" spc="-1" strike="noStrike">
                <a:solidFill>
                  <a:srgbClr val="5e0e38"/>
                </a:solidFill>
                <a:latin typeface="Calibri"/>
              </a:rPr>
              <a:t>-трудолюбие;</a:t>
            </a:r>
            <a:br>
              <a:rPr sz="3600"/>
            </a:br>
            <a:r>
              <a:rPr b="1" lang="ru-RU" sz="3600" spc="-1" strike="noStrike">
                <a:solidFill>
                  <a:srgbClr val="5e0e38"/>
                </a:solidFill>
                <a:latin typeface="Calibri"/>
              </a:rPr>
              <a:t>-настойчивость;</a:t>
            </a:r>
            <a:br>
              <a:rPr sz="3600"/>
            </a:br>
            <a:r>
              <a:rPr b="1" lang="ru-RU" sz="3600" spc="-1" strike="noStrike">
                <a:solidFill>
                  <a:srgbClr val="5e0e38"/>
                </a:solidFill>
                <a:latin typeface="Calibri"/>
              </a:rPr>
              <a:t>- терпение</a:t>
            </a:r>
            <a:endParaRPr b="0" lang="en-US" sz="3600" spc="-1" strike="noStrike">
              <a:solidFill>
                <a:srgbClr val="999900"/>
              </a:solidFill>
              <a:latin typeface="Calibri"/>
            </a:endParaRPr>
          </a:p>
        </p:txBody>
      </p:sp>
      <p:pic>
        <p:nvPicPr>
          <p:cNvPr id="567" name="Picture 10" descr="https://encrypted-tbn1.google.com/images?q=tbn:ANd9GcRN3t_4HdIvBpF4rl_mvxFWajHYKi2FW5JbDvI15hWPMaLEhvvM-w"/>
          <p:cNvPicPr/>
          <p:nvPr/>
        </p:nvPicPr>
        <p:blipFill>
          <a:blip r:embed="rId1"/>
          <a:stretch/>
        </p:blipFill>
        <p:spPr>
          <a:xfrm>
            <a:off x="5219640" y="24210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 txBox="1"/>
          <p:nvPr/>
        </p:nvSpPr>
        <p:spPr>
          <a:xfrm rot="10800000">
            <a:off x="4648320" y="6130800"/>
            <a:ext cx="40384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19:55:28Z</dcterms:created>
  <dc:creator>SiBeRiA</dc:creator>
  <dc:description/>
  <dc:language>en-US</dc:language>
  <cp:lastModifiedBy>Сталкер</cp:lastModifiedBy>
  <dcterms:modified xsi:type="dcterms:W3CDTF">2013-03-20T19:41:38Z</dcterms:modified>
  <cp:revision>265</cp:revision>
  <dc:subject/>
  <dc:title>Презентация по экономике на тему: «Деньги. История возникновения денег».</dc:title>
</cp:coreProperties>
</file>