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C348-1F69-4856-9693-E39055CB8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6C0F-133D-4C1F-8121-88B1CFF5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B7FA-B3DA-4D46-A057-3B7FB5EBA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134C-E3C1-453B-B7C6-7B9D8B3B6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9923-0600-4899-8D8C-D9A9BD2A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C73B-2993-426F-9DFF-B9B2DFDF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120C-409F-475C-9B4A-D9E0932E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BF71-B155-4E9C-8EE7-6E956E4D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B7A8-F551-4782-84DC-D8113B37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AB63-3F64-49ED-B836-6E6C1A14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B8B4-6919-4CBB-8124-6F1E075F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3C22-3D00-403D-A30A-EA9FD919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6E9F-0783-4608-949C-2516D8212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V="1">
            <a:off x="179280" y="4581000"/>
            <a:ext cx="0" cy="863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684360" y="4581000"/>
            <a:ext cx="0" cy="863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1258920" y="4581000"/>
            <a:ext cx="0" cy="863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8000" y="4581000"/>
            <a:ext cx="0" cy="863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627280" y="4581000"/>
            <a:ext cx="0" cy="863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4642920" y="3933720"/>
            <a:ext cx="576360" cy="503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492000" y="4653000"/>
            <a:ext cx="576360" cy="503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loud"/>
          <p:cNvSpPr/>
          <p:nvPr/>
        </p:nvSpPr>
        <p:spPr>
          <a:xfrm>
            <a:off x="468360" y="692280"/>
            <a:ext cx="2168640" cy="1655640"/>
          </a:xfrm>
          <a:prstGeom prst="pie">
            <a:avLst/>
          </a:prstGeom>
          <a:solidFill>
            <a:srgbClr val="d0f0f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loud"/>
          <p:cNvSpPr/>
          <p:nvPr/>
        </p:nvSpPr>
        <p:spPr>
          <a:xfrm>
            <a:off x="3708360" y="404640"/>
            <a:ext cx="2016000" cy="1224000"/>
          </a:xfrm>
          <a:prstGeom prst="pie">
            <a:avLst/>
          </a:prstGeom>
          <a:solidFill>
            <a:srgbClr val="d0f0f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loud"/>
          <p:cNvSpPr/>
          <p:nvPr/>
        </p:nvSpPr>
        <p:spPr>
          <a:xfrm>
            <a:off x="6516720" y="260280"/>
            <a:ext cx="2168640" cy="1008000"/>
          </a:xfrm>
          <a:prstGeom prst="pie">
            <a:avLst/>
          </a:prstGeom>
          <a:solidFill>
            <a:srgbClr val="d0f0f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2060640"/>
            <a:ext cx="28908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6000" y="2205000"/>
            <a:ext cx="28908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76360" y="2349360"/>
            <a:ext cx="28908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8000" y="2276640"/>
            <a:ext cx="289080" cy="165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95640" y="2060640"/>
            <a:ext cx="28872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56000" y="1700280"/>
            <a:ext cx="28872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1773360"/>
            <a:ext cx="289080" cy="165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1484280"/>
            <a:ext cx="21564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1557360"/>
            <a:ext cx="2156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19640" y="1413000"/>
            <a:ext cx="2160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08720" y="1268280"/>
            <a:ext cx="2156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59280" y="1628640"/>
            <a:ext cx="2160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36000" y="134136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24720" y="141300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17002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28000" y="141300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451640" y="1773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83640" y="220500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956720" y="177336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93080" y="206064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99280" y="242100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32720" y="141300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32720" y="177336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6443640" y="249192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59640" y="249228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804000" y="2565360"/>
            <a:ext cx="730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77080" y="256536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7020000" y="2636640"/>
            <a:ext cx="730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7093080" y="2349000"/>
            <a:ext cx="28728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80360" y="2349360"/>
            <a:ext cx="7128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451640" y="2276280"/>
            <a:ext cx="730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24720" y="227664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667640" y="2276280"/>
            <a:ext cx="73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907920"/>
            <a:ext cx="10080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24360" y="620640"/>
            <a:ext cx="6480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92720" y="4149720"/>
            <a:ext cx="0" cy="3589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43280" y="4581360"/>
            <a:ext cx="0" cy="3603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4869000"/>
            <a:ext cx="0" cy="3603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6021360"/>
            <a:ext cx="936720" cy="2872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ке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08720" y="5516640"/>
            <a:ext cx="1511280" cy="2887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у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16000" y="189000"/>
            <a:ext cx="2016000" cy="2602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тмосф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4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6000"/>
                            </p:stCondLst>
                            <p:childTnLst>
                              <p:par>
                                <p:cTn id="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1T11:45:25Z</dcterms:created>
  <dc:creator>xxx</dc:creator>
  <dc:description/>
  <dc:language>en-US</dc:language>
  <cp:lastModifiedBy>xxx</cp:lastModifiedBy>
  <dcterms:modified xsi:type="dcterms:W3CDTF">2007-04-02T07:16:51Z</dcterms:modified>
  <cp:revision>3</cp:revision>
  <dc:subject/>
  <dc:title>Слайд 1</dc:title>
</cp:coreProperties>
</file>