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33E-CA25-4832-83D6-6072AB5B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ABE-8A43-4674-842F-1D2C63E4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EEB-AA08-4B57-8AC9-AADCCE7C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C67-FAE3-4292-B0F4-5BD328D5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77B-7534-42C2-8E12-5611AD9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CA1-BBB3-4535-A493-920D1F7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4B6-78D5-4C8D-8FE8-A9EE1DB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1F7-8C3F-4414-AB04-11151D9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8FA-2387-4239-95C4-7AB93BA3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E50-2D3C-483A-9D7D-D372523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5A7-52D6-4BF8-89FC-F6BB1086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135-C644-44BA-89E2-2AFAA09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23D-502A-4EE2-8275-11292AB6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7928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8436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25892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800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627280" y="4581000"/>
            <a:ext cx="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2920" y="3933720"/>
            <a:ext cx="57636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492000" y="4653000"/>
            <a:ext cx="57636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loud"/>
          <p:cNvSpPr/>
          <p:nvPr/>
        </p:nvSpPr>
        <p:spPr>
          <a:xfrm>
            <a:off x="468360" y="692280"/>
            <a:ext cx="2168640" cy="165564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3708360" y="404640"/>
            <a:ext cx="2016000" cy="122400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loud"/>
          <p:cNvSpPr/>
          <p:nvPr/>
        </p:nvSpPr>
        <p:spPr>
          <a:xfrm>
            <a:off x="6516720" y="260280"/>
            <a:ext cx="2168640" cy="1008000"/>
          </a:xfrm>
          <a:prstGeom prst="pie">
            <a:avLst/>
          </a:prstGeom>
          <a:solidFill>
            <a:srgbClr val="d0f0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206064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220500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2349360"/>
            <a:ext cx="2890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2276640"/>
            <a:ext cx="28908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2060640"/>
            <a:ext cx="288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700280"/>
            <a:ext cx="288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773360"/>
            <a:ext cx="28908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1484280"/>
            <a:ext cx="215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1557360"/>
            <a:ext cx="215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1413000"/>
            <a:ext cx="216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1268280"/>
            <a:ext cx="215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162864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7272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141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170028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141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51640" y="177336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3640" y="2205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56720" y="177336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93080" y="206064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99280" y="2421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14130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177336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443640" y="2491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2492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804000" y="256536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7080" y="2565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020000" y="263664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093080" y="23490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234936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451640" y="227628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227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667640" y="2276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907920"/>
            <a:ext cx="100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62064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4149720"/>
            <a:ext cx="0" cy="3589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4869000"/>
            <a:ext cx="0" cy="360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6021360"/>
            <a:ext cx="936720" cy="2872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5516640"/>
            <a:ext cx="1511280" cy="2887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189000"/>
            <a:ext cx="2016000" cy="260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1:45:25Z</dcterms:created>
  <dc:creator>xxx</dc:creator>
  <dc:description/>
  <dc:language>en-US</dc:language>
  <cp:lastModifiedBy>xxx</cp:lastModifiedBy>
  <dcterms:modified xsi:type="dcterms:W3CDTF">2007-04-02T07:16:51Z</dcterms:modified>
  <cp:revision>3</cp:revision>
  <dc:subject/>
  <dc:title>Слайд 1</dc:title>
</cp:coreProperties>
</file>