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4AE-6ECC-4020-9378-0AF807D1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CAB-E459-4BC1-86F6-EE0FE0F8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AC174-5708-4BA7-9287-D9B754C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CBF2-3B9D-4E64-B50A-66383D3A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56368-40EF-46A4-9AC0-F194CD3A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82B65-FFF3-409F-93FC-333DB92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624EC-6BBC-45F0-BA12-4FA8AF1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D5EA8-E360-4AC5-9526-5D775071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3ABE-E10A-49C5-A7A6-9EDBACA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FC5A8-0D76-49C3-A9B3-0D168884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89460-C937-4F58-864E-0CBA30D3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D0935-F972-44CC-97D4-1A1B7C1D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11F-66D9-43CA-ACEE-E42F1595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90FB0-E824-41B8-9B24-CE67C7D9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CFD4-F4C7-45A5-908B-93B0B0A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C1D53-5431-44C4-AED2-182A02E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ACEBE-11FE-42E3-A9F6-CA6CDBA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C4475-853E-47E1-BFF7-F32A6921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D7C98-8630-4F8F-B6FC-3C6724F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B13C3-CDF5-45CB-A61F-2EE1F75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F627C-216D-4121-BE22-3D872A7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2E81D-58ED-4BF8-9A77-9C83149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8A2A6-38EA-4BA5-940A-C8E51BDF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6B0-B2B4-4BF9-8FE8-B6BDDF14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4727E-A847-448F-A596-DBE24D4E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FBB8B-757C-4B5D-828F-A68309D7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D513E-4283-4CFC-B5CC-A2EC7C9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1C498-FD7F-454E-A55C-4CB1697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D8B0C-9DF1-4428-90F7-1FA064A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70267-3CAF-4292-BA81-3C97AFF1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DAE1-3D3B-4BAF-9AEA-A52BCC5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F87D0-7223-4529-8EAF-F0B7610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B098F-8D31-41A6-BCF8-C00C084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9FE9F-8A0B-43A6-8165-E5BE6D0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B74D-572B-4FA8-BA3D-703464BF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BC7E9-7454-4716-BA63-DDF7377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EC961-C0D4-4958-A482-F6BC4932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31018-33B1-48B6-87FA-025269AF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E7F93-E676-45A4-815D-68B3DD7D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97C00-5605-4210-B864-F409780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4ADF0-8E04-4E39-94D1-1AD2EF44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D8E5-5E9E-4CC6-B16A-CDECD14C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D96E4-4FA7-43AB-B8F7-FFDC34DD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70BDF-C950-46F7-9379-F9635F2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306C9-87B1-4B3C-A6F1-DDC5A2BF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F179-06F6-4159-9160-2CB4B691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D288B-7DDA-4A8A-8A0F-3271BED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7FB0-AFBA-4B66-BFFA-0E8D53F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35330-BC87-4DD1-A30E-8184F4E5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9E0C5-0609-4E53-9E58-D60A9299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3E097-FD88-4522-B5F3-9C5F7314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380BDF-0903-4009-B7FF-6B88FC85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A89D76-388B-40E2-B6D0-A6E5B14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29E890-2C48-4D07-81D7-5A8C176D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310CDE-C6FE-4CB4-A889-611EC5A9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E5C984-D2AA-4A22-BF9C-9E9BEA4F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96AA-3897-49C4-A7C6-2D0C4D4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FC7B80-D1EC-4246-BE4A-7E292A2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06D1EE-7BB7-4C4C-92E8-881254A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6CC50D-0510-4570-86E4-265C3B2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665F2E-31C4-4222-A436-36AF6EB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3BB52-E862-410C-86E6-3B919B9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A330BD-2206-4167-B41B-F234705F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A6BA47-12CB-49E5-A1C7-E53FDD7B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3A3E2D-E701-4169-894B-149EC295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3DD33-8C7E-4568-86FA-3698CE93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F8CB0-CDD0-48D4-BBD4-87E92BAC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8D4-447D-48FE-B2A0-304FEDFF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EF6A8-8550-4CA6-B7A1-66F2B952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27EFA-F243-405C-A3FD-21BE979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721DB-25F6-4B88-AFF1-7BDFB960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CCAFA-EE1B-44AA-9E48-753E004C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83F5D-1596-4615-9926-1E505E3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48399-506E-440A-A021-5B7E438F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5B0BB-9DC4-4170-A72F-3D5C509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B4F8A-7193-460B-A3C3-D199C786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E1AAA-5377-42EC-AC84-C6D2A386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843B6-49B8-40A5-AAC8-C8EF72FC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BB94-AE84-4EFD-9DF5-31B48855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28165-2AED-46C3-92E4-E2CCE91E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97CCC-2614-471A-854A-233E9FD1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7887B-98E6-47F4-B9EB-57B4406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9F1E6-57E7-4534-8ABB-2A8FA381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48811-8621-4171-AFB1-D505FB29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311EA-663A-4A9D-8416-A4D8581B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D9DD0-68E2-44CA-9767-089D945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A84B0-781C-444E-B30A-46EF55BF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AED6E-1BBE-44FB-8E94-27C509D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B4D1EF-9ECE-41C2-88AA-0A8A5E02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9237-1B6D-491C-BEF0-F1721EF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C657F-9629-449B-BFF0-F312A535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FE054-0244-474F-A79A-99B02EE0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C2FD5-E0C3-414B-9AD4-1594EF0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7380A3-E1E6-40A0-A1F3-000534B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A6215-AA91-4BD6-AF08-58403EA6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DABE2-7C9B-4CC1-A1B6-3DE8FA7A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0D3D8-2453-439B-8D26-29FC3367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552A8-FFF8-4BEB-BDCB-73481A5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49579-587E-49CD-8F69-A85FB92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FDA9E-5746-4007-A1AD-0E35318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006-63D6-4328-A3DC-9A5B9E0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ECAB4-B9E8-409B-8F36-3C95F1F3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9A182-0CDD-4F63-8C70-5DCBE855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FAA95-086B-4FDE-A97F-18CE1557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04A2E5-7531-4923-9CD6-56AEF5F3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8AF57-F57F-47A7-9AF6-3583FC4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BF214-3902-4B1C-9D75-8CB8B0E1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758B7-3F1E-4D69-9DBD-7E1A5D24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4E23A-5BB3-41A1-BDE4-975810E9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7762D-3E12-47C7-A8EB-B110127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C8E38A-C035-45A6-B49B-7F405772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BA9-F4DB-43AF-BD08-2A062142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B924-CEF2-46D9-B5D4-9BE1AE2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19356-AAA7-41B5-9F30-86FFB12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CF13F-7A32-4B0A-9338-5E0CE96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33106-34AB-4C4B-8E4B-E9DAAD8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BB873-E992-4C1A-B065-BE294529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691A1-BD7E-4F58-A405-A7E87393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FAA55-1256-47B9-A0A1-9CCC6979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5199E-B257-491D-8CB3-3FE3E342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A39AB-77DB-491A-AECC-53340C3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22D8C-8986-4D60-B531-3C8985C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1F0F5-EE4D-4E0F-ADF2-7816AA5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051-B8CC-417A-A4EB-97B905FA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0BDCA-9B91-4C61-8B22-6D5B974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EEA58-96CA-4D59-918A-F8DF4D8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8A218B-844C-43C0-AABF-890E5B5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281C3-91CD-424C-8F45-06B7F1CA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8A3CE-D583-41B2-8ED4-04B46BB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4715B-1127-4055-9EC0-EE77B73D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4F82BB-3E08-4BD0-88A8-F9F0F08A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4AF4B-B8FF-4CF0-AA9D-4DFF5B08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12005-B6DA-46E1-9385-5953AF6F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077B9-0BA5-4F6E-B396-439AB708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23AC-DAF4-4CD3-89A5-4FE7E84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83BA0-EE6E-4DA9-BBD7-6BB3243A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3F229-2E43-455C-99D0-8C996A7C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DC87E8-61B2-47F2-9081-B25DD05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2274C-E5BE-4FF4-95A3-A6306407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A2052-A137-476F-B80E-15129EF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E454A-1942-42FB-91FF-1ECAB41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A32330-02CE-44B5-B04E-AC85167A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3AC2C-43E1-49E4-801C-C58982BE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CF1A3-3513-495A-B6CC-199093CF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35B70-7184-4990-A443-6C155C19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56D-7C9C-40CD-8481-65A22B5A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84F4B-0C6E-4F84-9230-DC0AB1FC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4B4304-FBBB-4BF3-BC36-3B3A6E5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0AA37-2133-47B7-AB35-B767C0EB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5974E-A554-4E1C-839A-0C1BE2B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99FF1-5562-438C-AECF-6B5E4775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15C1A-EA4A-4D62-BCB1-9F34B7C9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959C2-11AD-438F-AC04-51450D3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4F93C-B92D-4400-9025-3496A19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8E37E-3511-4787-9102-49A856D6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1ADB2-8E50-4439-BF49-6CE6C2F8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A57-737D-46A4-A991-F7479121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26620-A20B-4732-94C5-5E02DEDF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AAEF252-306E-4573-9D6F-F1AD6C44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FB54F5-159D-4694-B180-761ABE3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61200C-5A68-4F64-A9DB-8B3935A5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0E0589-F8EF-4799-A8B8-E88269F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8210CB-16C7-4B9B-9EB0-CE12B2E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C11FD38-E74F-4A9E-9BAF-C34166B4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579A2D-8EBE-4A97-B789-E63484F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400FEF-E1DC-4618-8A94-47ACD5A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BE5F93-32F6-4AC9-ADDE-8990F34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F2434-9730-4C23-8E36-728F804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5C92C2-81EE-486D-BD6B-DD49C6B9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2A14A9-12CD-43FD-BBB4-5B6D72F4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7B4C89-F21A-4010-AAAC-598016B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3E8B2-FA8E-4974-A378-660F94F2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602DAB-C076-46EB-B5B7-14B2715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3AACE-F5B5-4F94-A5C6-C91BB870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98C53A-38E2-41A0-961C-0556CDE4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894F9-7952-4302-A368-72239F6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934A91-7ED5-415D-9650-8B277644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7158AB-4E0C-47F4-A15B-D266414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D32E-BC4C-4737-8CDF-76C8EAA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CDB09-8837-4998-BC32-76D122F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E81B7-13E5-40A4-BC39-90AC27F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DD2E8A-2D83-431B-B8FE-1E47C504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6BD99-DE83-4E06-9209-0A8BF7C2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E06407-4C3B-4FF3-B77C-15DCE6DD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D337F-891D-4404-8964-1ED89C8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CBA9-B65A-4C7A-9FCA-5901DC6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6346-9029-4D3E-8450-F6B79BD7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4FD-1940-4332-90D3-46BA742D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3234-47A8-442D-B803-C8EC897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DC0F-AA28-4694-AF5E-D197272D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AF6E-6154-4D31-BC5D-121784FC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C81F-5242-437A-B715-EF1CDDF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BC7A-7B71-4FAB-B849-65981211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34EF-489A-4D3A-9974-509D9786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9E73-510D-43EB-9F8D-49DD97EF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2B14-566A-4CB7-806F-CAF4B57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9079-D850-4801-B1DE-C56C7F7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6621-FAE6-4DFC-9F1A-B1B6ED0D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030-A5E4-48C6-BC18-A0424BB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D5E3-391D-4263-A071-23A2532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3922-B6A6-4120-97BE-2DF145F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4DD9-EC7C-4215-A0A8-E274EFF6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85EF3-410A-4CD3-9279-C247D93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D1A1D-209A-4DEE-8E7A-F53A1CB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CAC5-525D-4DD2-BF62-583FA60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6BF1-5EE9-4132-BA7C-9218F172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61A8-C940-4729-A0C1-3914A806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377E-C40C-4642-AD6A-BE82FC25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D96E4-FB36-4B0D-99E9-E30D9708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7AB-0F71-4827-A594-9E70D52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A36AF-A17E-4B70-AF98-6160B784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56310-9970-4CC7-BD7D-AE22A9D5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894FB-86E6-4E57-84E0-5028B808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34A3D-6E4B-4F13-9224-723F304E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C2D22-903E-4599-989E-A714B15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A1540-9DF1-4EAE-9127-37E4C86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AEDA1-25AF-487B-9038-8BCDF192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4B306-AED2-4580-B916-57EB1F7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3BAA3-B672-4C39-9C02-22437939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D58E3-9702-4108-94EC-B37D9611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509-2E8A-41DC-98E8-FA3A0160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154401-A5A8-4826-ACC3-69305CA1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6F11-3388-462C-90B6-88563A4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9CA8E-FBD5-41CC-B5ED-4FD1E2A8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0FA0-7D34-4E4D-BF40-FE8E2250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8443D-F78F-436A-8E31-9C620924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8613-DD11-4B1B-BCA2-F8E69D52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CC93-DB1F-48FB-B6DC-52C3EC27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0D5E-6256-4062-A69B-A14528C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9C57-E263-4CB1-8ED9-0C3A7B8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DC07-C6E3-476A-8B5D-EF58EED8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FC6-0AD8-4481-B463-9F939EF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8FC5E-6FF3-4817-8A13-3347479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8190-100C-4980-86C3-2377CD5C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605F-9DCE-4FDB-94FC-D0E64A79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7C8C5-6DE8-4D62-83CC-900E6975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2056C-3E02-4BE6-BF81-FF52E097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6109-05F5-457F-AFD9-D53C8B6D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80BE-2E57-4404-8021-6309F728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4FEFF-EE8E-44BD-A266-221B78DD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3D7A-7481-495C-A3B9-6F43E88D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046F-1BFC-4D49-8D87-2232C8F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D31-1C96-43F6-9C0C-72665C6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3008-EBDC-4D75-917C-53BA52C3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6967E-09D6-4C64-9A8E-AAB9981A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3C2B-E05F-4096-A480-6839A32A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0510E-CCF3-4E1D-B317-97BEE493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DDE7-48F8-4D90-BC6E-7A1A3600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DB63E-008F-431B-81F2-C62385C2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1ACF4-8B82-4D63-A718-1E9E101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D2351-7940-40EA-B7E1-1C9BC39F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AF12A-7312-455F-8713-2DB4F313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4CD4-025B-4EB1-B6B2-B9C5EB20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669-F3E8-49BE-BF3D-EA665BD3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A5F3A-6385-4682-9F71-95B4688D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7999-C300-492D-89ED-03C4CCAB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FFA6-07C7-4EA1-9162-694432B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D299-8EBF-4BDC-8189-591F6E3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5421-73F8-4368-A93A-B18CFD85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23B4-6A51-4938-BEDF-71D53939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D9B0-8EBA-4B75-AFAF-F9427C02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024AC-44D4-44C3-9A87-DB5BC3DD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5C78-07D5-4A2C-9685-221901AB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B1C84-79D3-42B1-8B05-C4DBBFE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A3A-D14F-4692-AA55-0552975A0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5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6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6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7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8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9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2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7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8960-128A-49CD-ACC4-2136B5D5764D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ED18-551D-48B5-BBC1-2B729EC18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E77B-02DF-4BA0-9580-C8F01BAB4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D20D-1DA2-4BA0-AF03-D129277437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9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5A3-55C5-4695-8EA4-9AAF90449D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84E-A23C-47F2-A721-1761D1F3135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7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7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7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8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7C1-6D70-4A05-873F-17971FD2303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3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3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14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14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18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50DF-FC02-4DE6-A9C9-CE4564A2B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4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1C5-5D0E-4D4D-803B-DB465B7892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577D-83E6-4B45-9305-51116E19DB1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8226-E131-42EE-9D51-6F2A35A77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5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41E-597D-4EB1-95C8-8533D06B57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21C3-9186-48A3-8492-7AC62F58F0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01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4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6FD-74BE-470A-84B7-D4959961B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57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876-800A-46C6-B0BE-117EF2F5B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3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7F0-57A4-4CD3-AC6C-224E63559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8CA5-2B7A-49B4-9CEA-25B3965B3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AAB0-3E63-4DAB-8CF4-5E96954C8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9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DC1-2BD8-4565-8E54-2F6D4B414C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3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211-691A-4DA2-BCA4-FC523D20A3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8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8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8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3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4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4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5C3-1C56-400D-9E1C-6DBC28F9F5F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1692360" y="1268280"/>
            <a:ext cx="59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DO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4"/>
          <a:srcRect l="0" t="2842" r="0" b="2842"/>
          <a:stretch/>
        </p:blipFill>
        <p:spPr>
          <a:xfrm>
            <a:off x="1908000" y="3213000"/>
            <a:ext cx="547236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" descr=""/>
          <p:cNvPicPr/>
          <p:nvPr/>
        </p:nvPicPr>
        <p:blipFill>
          <a:blip r:embed="rId1"/>
          <a:srcRect l="3598" t="0" r="0" b="0"/>
          <a:stretch/>
        </p:blipFill>
        <p:spPr>
          <a:xfrm>
            <a:off x="395280" y="2708280"/>
            <a:ext cx="3889440" cy="3313080"/>
          </a:xfrm>
          <a:prstGeom prst="rect">
            <a:avLst/>
          </a:prstGeom>
          <a:ln w="0">
            <a:noFill/>
          </a:ln>
        </p:spPr>
      </p:pic>
      <p:pic>
        <p:nvPicPr>
          <p:cNvPr id="1531" name="" descr=""/>
          <p:cNvPicPr/>
          <p:nvPr/>
        </p:nvPicPr>
        <p:blipFill>
          <a:blip r:embed="rId2"/>
          <a:srcRect l="5231" t="3322" r="0" b="6073"/>
          <a:stretch/>
        </p:blipFill>
        <p:spPr>
          <a:xfrm>
            <a:off x="4788000" y="2728800"/>
            <a:ext cx="3960720" cy="322128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 txBox="1"/>
          <p:nvPr/>
        </p:nvSpPr>
        <p:spPr>
          <a:xfrm>
            <a:off x="2124000" y="907920"/>
            <a:ext cx="511200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TOWER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" descr=""/>
          <p:cNvPicPr/>
          <p:nvPr/>
        </p:nvPicPr>
        <p:blipFill>
          <a:blip r:embed="rId1"/>
          <a:srcRect l="1975" t="0" r="2244" b="7728"/>
          <a:stretch/>
        </p:blipFill>
        <p:spPr>
          <a:xfrm>
            <a:off x="611280" y="2637000"/>
            <a:ext cx="3673440" cy="26636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 txBox="1"/>
          <p:nvPr/>
        </p:nvSpPr>
        <p:spPr>
          <a:xfrm>
            <a:off x="2050920" y="333360"/>
            <a:ext cx="547380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Hyde Pa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2"/>
          <a:srcRect l="8202" t="11072" r="4334" b="11478"/>
          <a:stretch/>
        </p:blipFill>
        <p:spPr>
          <a:xfrm>
            <a:off x="4932360" y="2637000"/>
            <a:ext cx="388764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6" name="" descr=""/>
          <p:cNvPicPr/>
          <p:nvPr/>
        </p:nvPicPr>
        <p:blipFill>
          <a:blip r:embed="rId1"/>
          <a:srcRect l="0" t="0" r="3036" b="5935"/>
          <a:stretch/>
        </p:blipFill>
        <p:spPr>
          <a:xfrm>
            <a:off x="5076720" y="404640"/>
            <a:ext cx="2880000" cy="5688360"/>
          </a:xfrm>
          <a:prstGeom prst="rect">
            <a:avLst/>
          </a:prstGeom>
          <a:ln w="0">
            <a:noFill/>
          </a:ln>
        </p:spPr>
      </p:pic>
      <p:sp>
        <p:nvSpPr>
          <p:cNvPr id="1537" name=""/>
          <p:cNvSpPr txBox="1"/>
          <p:nvPr/>
        </p:nvSpPr>
        <p:spPr>
          <a:xfrm>
            <a:off x="611280" y="549360"/>
            <a:ext cx="208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IG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50920" y="2637000"/>
            <a:ext cx="208944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3300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EN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3300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179280" y="404640"/>
            <a:ext cx="871380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2"/>
          <a:srcRect l="0" t="0" r="2056" b="2417"/>
          <a:stretch/>
        </p:blipFill>
        <p:spPr>
          <a:xfrm>
            <a:off x="1403280" y="2637000"/>
            <a:ext cx="6553440" cy="338292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 txBox="1"/>
          <p:nvPr/>
        </p:nvSpPr>
        <p:spPr>
          <a:xfrm>
            <a:off x="900000" y="1268280"/>
            <a:ext cx="75438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5400000"/>
                </a:gradFill>
                <a:latin typeface="Times New Roman"/>
              </a:rPr>
              <a:t>The Houses of Parliament and Big B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4140360" y="3284640"/>
            <a:ext cx="3887640" cy="3024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24000" y="189000"/>
            <a:ext cx="2519280" cy="5184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1"/>
          <a:srcRect l="6167" t="2818" r="10781" b="2065"/>
          <a:stretch/>
        </p:blipFill>
        <p:spPr>
          <a:xfrm>
            <a:off x="468360" y="260280"/>
            <a:ext cx="2232000" cy="504036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 txBox="1"/>
          <p:nvPr/>
        </p:nvSpPr>
        <p:spPr>
          <a:xfrm>
            <a:off x="3276720" y="476280"/>
            <a:ext cx="475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Big Be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4"/>
          <a:srcRect l="6681" t="6516" r="7160" b="11144"/>
          <a:stretch/>
        </p:blipFill>
        <p:spPr>
          <a:xfrm>
            <a:off x="4284720" y="3429000"/>
            <a:ext cx="360036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" descr=""/>
          <p:cNvPicPr/>
          <p:nvPr/>
        </p:nvPicPr>
        <p:blipFill>
          <a:blip r:embed="rId1"/>
          <a:srcRect l="6788" t="5181" r="1350" b="7791"/>
          <a:stretch/>
        </p:blipFill>
        <p:spPr>
          <a:xfrm>
            <a:off x="2124000" y="2781360"/>
            <a:ext cx="6264360" cy="316692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 txBox="1"/>
          <p:nvPr/>
        </p:nvSpPr>
        <p:spPr>
          <a:xfrm>
            <a:off x="2700360" y="1052640"/>
            <a:ext cx="50403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Big Be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" descr=""/>
          <p:cNvPicPr/>
          <p:nvPr/>
        </p:nvPicPr>
        <p:blipFill>
          <a:blip r:embed="rId1"/>
          <a:srcRect l="6358" t="3036" r="0" b="3036"/>
          <a:stretch/>
        </p:blipFill>
        <p:spPr>
          <a:xfrm>
            <a:off x="1619280" y="549360"/>
            <a:ext cx="6048360" cy="3168720"/>
          </a:xfrm>
          <a:prstGeom prst="rect">
            <a:avLst/>
          </a:prstGeom>
          <a:ln w="0">
            <a:noFill/>
          </a:ln>
        </p:spPr>
      </p:pic>
      <p:sp>
        <p:nvSpPr>
          <p:cNvPr id="1510" name=""/>
          <p:cNvSpPr txBox="1"/>
          <p:nvPr/>
        </p:nvSpPr>
        <p:spPr>
          <a:xfrm>
            <a:off x="1692360" y="422100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iccadilly Circus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1" name="" descr=""/>
          <p:cNvPicPr/>
          <p:nvPr/>
        </p:nvPicPr>
        <p:blipFill>
          <a:blip r:embed="rId1"/>
          <a:srcRect l="0" t="0" r="5729" b="5758"/>
          <a:stretch/>
        </p:blipFill>
        <p:spPr>
          <a:xfrm>
            <a:off x="2050920" y="836640"/>
            <a:ext cx="5257800" cy="2663640"/>
          </a:xfrm>
          <a:prstGeom prst="rect">
            <a:avLst/>
          </a:prstGeom>
          <a:ln w="0">
            <a:noFill/>
          </a:ln>
        </p:spPr>
      </p:pic>
      <p:sp>
        <p:nvSpPr>
          <p:cNvPr id="1512" name=""/>
          <p:cNvSpPr txBox="1"/>
          <p:nvPr/>
        </p:nvSpPr>
        <p:spPr>
          <a:xfrm>
            <a:off x="1692360" y="393372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atre Royal Haymarke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5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1476360" y="476280"/>
            <a:ext cx="6696000" cy="18730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rcRect l="2731" t="3666" r="2731" b="5758"/>
          <a:stretch/>
        </p:blipFill>
        <p:spPr>
          <a:xfrm>
            <a:off x="539640" y="2708280"/>
            <a:ext cx="3745080" cy="288144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2050920" y="1197000"/>
            <a:ext cx="55454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Arial"/>
              </a:rPr>
              <a:t>Tower Br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16" name="" descr=""/>
          <p:cNvPicPr/>
          <p:nvPr/>
        </p:nvPicPr>
        <p:blipFill>
          <a:blip r:embed="rId2"/>
          <a:srcRect l="7144" t="5693" r="0" b="9086"/>
          <a:stretch/>
        </p:blipFill>
        <p:spPr>
          <a:xfrm>
            <a:off x="4859280" y="278136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1403280" y="2133720"/>
            <a:ext cx="6840720" cy="3743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8" name="" descr=""/>
          <p:cNvPicPr/>
          <p:nvPr/>
        </p:nvPicPr>
        <p:blipFill>
          <a:blip r:embed="rId1"/>
          <a:srcRect l="10467" t="15093" r="6341" b="9285"/>
          <a:stretch/>
        </p:blipFill>
        <p:spPr>
          <a:xfrm>
            <a:off x="1547640" y="2205000"/>
            <a:ext cx="6553440" cy="3457440"/>
          </a:xfrm>
          <a:prstGeom prst="rect">
            <a:avLst/>
          </a:prstGeom>
          <a:ln w="0">
            <a:noFill/>
          </a:ln>
        </p:spPr>
      </p:pic>
      <p:sp>
        <p:nvSpPr>
          <p:cNvPr id="1519" name=""/>
          <p:cNvSpPr txBox="1"/>
          <p:nvPr/>
        </p:nvSpPr>
        <p:spPr>
          <a:xfrm>
            <a:off x="1116000" y="476280"/>
            <a:ext cx="727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66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ational Gallery Trafalgar Sgua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0066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287280" y="907920"/>
            <a:ext cx="8856720" cy="5329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2"/>
          <a:srcRect l="6660" t="3322" r="0" b="2734"/>
          <a:stretch/>
        </p:blipFill>
        <p:spPr>
          <a:xfrm>
            <a:off x="539640" y="1916280"/>
            <a:ext cx="3743280" cy="360036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3"/>
          <a:srcRect l="5482" t="11918" r="7054" b="9549"/>
          <a:stretch/>
        </p:blipFill>
        <p:spPr>
          <a:xfrm>
            <a:off x="4716360" y="1916280"/>
            <a:ext cx="4105440" cy="360180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 txBox="1"/>
          <p:nvPr/>
        </p:nvSpPr>
        <p:spPr>
          <a:xfrm>
            <a:off x="755640" y="189000"/>
            <a:ext cx="20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NDO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" descr=""/>
          <p:cNvPicPr/>
          <p:nvPr/>
        </p:nvPicPr>
        <p:blipFill>
          <a:blip r:embed="rId1"/>
          <a:srcRect l="4271" t="7791" r="7838" b="13077"/>
          <a:stretch/>
        </p:blipFill>
        <p:spPr>
          <a:xfrm>
            <a:off x="2124000" y="2133720"/>
            <a:ext cx="5327640" cy="3671640"/>
          </a:xfrm>
          <a:prstGeom prst="rect">
            <a:avLst/>
          </a:prstGeom>
          <a:ln w="0">
            <a:noFill/>
          </a:ln>
        </p:spPr>
      </p:pic>
      <p:sp>
        <p:nvSpPr>
          <p:cNvPr id="1525" name=""/>
          <p:cNvSpPr txBox="1"/>
          <p:nvPr/>
        </p:nvSpPr>
        <p:spPr>
          <a:xfrm>
            <a:off x="1476360" y="549360"/>
            <a:ext cx="633564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. Paul's Cathedra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" descr=""/>
          <p:cNvPicPr/>
          <p:nvPr/>
        </p:nvPicPr>
        <p:blipFill>
          <a:blip r:embed="rId2"/>
          <a:srcRect l="2115" t="10467" r="8050" b="5181"/>
          <a:stretch/>
        </p:blipFill>
        <p:spPr>
          <a:xfrm>
            <a:off x="1908000" y="2349360"/>
            <a:ext cx="6264360" cy="345600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 txBox="1"/>
          <p:nvPr/>
        </p:nvSpPr>
        <p:spPr>
          <a:xfrm>
            <a:off x="1692360" y="76500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9900cc"/>
                    </a:gs>
                  </a:gsLst>
                  <a:lin ang="5400000"/>
                </a:gradFill>
                <a:latin typeface="Impact"/>
              </a:rPr>
              <a:t>Tower of Lond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99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1"/>
          <a:srcRect l="2768" t="2557" r="1270" b="0"/>
          <a:stretch/>
        </p:blipFill>
        <p:spPr>
          <a:xfrm>
            <a:off x="826920" y="1844640"/>
            <a:ext cx="6553440" cy="367200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 txBox="1"/>
          <p:nvPr/>
        </p:nvSpPr>
        <p:spPr>
          <a:xfrm>
            <a:off x="1187280" y="620640"/>
            <a:ext cx="33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f0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ND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e1f0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6:12:22Z</dcterms:created>
  <dc:creator>user</dc:creator>
  <dc:description/>
  <dc:language>en-US</dc:language>
  <cp:lastModifiedBy>user</cp:lastModifiedBy>
  <dcterms:modified xsi:type="dcterms:W3CDTF">2007-03-20T12:00:3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