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7.jpeg" ContentType="image/jpeg"/>
  <Override PartName="/ppt/media/image23.jpeg" ContentType="image/jpeg"/>
  <Override PartName="/ppt/media/image18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sldIdLst>
    <p:sldId id="256" r:id="rId24"/>
    <p:sldId id="257" r:id="rId25"/>
    <p:sldId id="258" r:id="rId26"/>
    <p:sldId id="259" r:id="rId27"/>
    <p:sldId id="260" r:id="rId28"/>
    <p:sldId id="261" r:id="rId29"/>
    <p:sldId id="262" r:id="rId30"/>
    <p:sldId id="263" r:id="rId31"/>
    <p:sldId id="264" r:id="rId32"/>
    <p:sldId id="265" r:id="rId33"/>
    <p:sldId id="266" r:id="rId34"/>
    <p:sldId id="267" r:id="rId35"/>
    <p:sldId id="268" r:id="rId36"/>
    <p:sldId id="269" r:id="rId37"/>
    <p:sldId id="27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slide" Target="slides/slide5.xml"/><Relationship Id="rId29" Type="http://schemas.openxmlformats.org/officeDocument/2006/relationships/slide" Target="slides/slide6.xml"/><Relationship Id="rId30" Type="http://schemas.openxmlformats.org/officeDocument/2006/relationships/slide" Target="slides/slide7.xml"/><Relationship Id="rId31" Type="http://schemas.openxmlformats.org/officeDocument/2006/relationships/slide" Target="slides/slide8.xml"/><Relationship Id="rId32" Type="http://schemas.openxmlformats.org/officeDocument/2006/relationships/slide" Target="slides/slide9.xml"/><Relationship Id="rId33" Type="http://schemas.openxmlformats.org/officeDocument/2006/relationships/slide" Target="slides/slide10.xml"/><Relationship Id="rId34" Type="http://schemas.openxmlformats.org/officeDocument/2006/relationships/slide" Target="slides/slide11.xml"/><Relationship Id="rId35" Type="http://schemas.openxmlformats.org/officeDocument/2006/relationships/slide" Target="slides/slide12.xml"/><Relationship Id="rId36" Type="http://schemas.openxmlformats.org/officeDocument/2006/relationships/slide" Target="slides/slide13.xml"/><Relationship Id="rId37" Type="http://schemas.openxmlformats.org/officeDocument/2006/relationships/slide" Target="slides/slide14.xml"/><Relationship Id="rId38" Type="http://schemas.openxmlformats.org/officeDocument/2006/relationships/slide" Target="slides/slide1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E42D-5271-4246-B3AC-0D42A9DFF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B6EC-3897-439F-B501-122F36A53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01C1A2-297B-45B4-BF90-2A4BE2B9B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CEE738-E79D-4BA3-85B1-07F5D1628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1099A8-9E86-4DFD-9BA9-70D08D1C8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AF08F2-67B5-4983-A592-CD913420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C0B59A-7019-47C3-82B4-5D9C714F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B855BD-9A54-40D7-A3D7-5FA90B6A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B3CA9D-6981-4F40-A52B-1B13482C2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682BBC-A6D7-48EE-AA0A-4CC40201B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981F64-B587-4D54-91F7-36A810151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51C4D0-0020-4EEF-AD4E-8C8176755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799B-C7B8-4BD6-92A4-A5B9E149C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FFAFEF-0B9D-4FBC-AE9C-27171975D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5F8686-1812-446B-B38B-84AB0118F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5963D1-C181-442D-971F-6FF81F167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4EE10B-1EBC-4ADC-B258-56B2E6723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967F10-A2D8-49B5-854D-A52FFBD2F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D5CA55-7EAE-4F77-A0A5-5553B699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9F626D-5078-4360-B0C9-624C5ACB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ABD1B2-D5A9-43C4-8E25-EC6562557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936EC7-0A19-4C77-8596-C68E2BB42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EE93AD-542F-4BB5-A4C4-B19F550B0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7C55-7CC4-417D-993C-4F72AAE28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ED0A4C-AC7E-4C99-8B3C-7919F1313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51D1A9-6FD7-41D3-B057-42DA8CF7F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0605CC-9E27-4035-828F-AA6BD6AD9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4D1520-7743-420F-9DEA-14E79599A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D3B3B6-33FD-4912-B892-95E2F160D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98938C-117F-42F4-9CDF-212F243A6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A15C93-EE2D-4D9E-BC4C-91EC73681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805E5C-7417-4E88-8972-3AD5C16AB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5D91A6-E8E0-47CB-9930-91A2DCB82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8AA05C-EDDB-4492-BE46-0ADA650E9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4C472-4B11-41B9-A8D4-591ED1A13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FC842E-1753-4FE0-A23F-2ADC935F5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6D1B2A-A944-4ED0-B583-442F52745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05FC77-BD76-4B17-8AC9-A2F61B7A5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6DA68D-4A35-419A-8933-8A0BFC5EC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9842F7-09FB-47B8-8166-ACEF3284C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21FFED-CEBC-4DB0-AABB-E366D5590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2E2518-7F9F-4F7E-839D-ADBF9EC7C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949C69-60A8-4B79-9C82-EC13D57FD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395189-7DB6-44F3-AB3C-9CA87B004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EBCA21-E968-4A1B-B884-42BDF876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DB27F-8CC9-4BAB-9CCB-2F507F09C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F60CE6-E5AB-4D14-AA76-92B8815B8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149128-2019-4FDB-8F94-80E859CB4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608D42-BE0B-4262-A17B-B8B2F1F09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56C477-049A-4AA2-BA09-AA70DFFD8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78F96D-D1F5-4E3B-84DA-2BE2F50DA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F427229-DEDD-4FC8-99DF-256993C54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5D84987-F295-4609-B4F8-00BF07409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D169833-BA59-41EE-B4E5-6849B281B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6920E95-F19E-41A8-8458-1A9C9F292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57B09B8-6618-48F3-8A16-B3E59470D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3685B-3CC7-466C-BC9F-C9F9C68DC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0C2AE90-C02C-4875-93AC-8E50573C9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E4C86EC-2C4A-4A65-BE4A-BC5B446A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78095D5-C187-42FB-8D2D-9A85E5EE3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2788E6F-0048-40D7-97E5-54196EC54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0C337D2-75DD-4BB2-B750-F36D1297E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ECBC2D7-20CC-49A8-B6B5-A86190DFC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04B9CA8-79B0-408E-B815-200A9C197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DCD9B8-B97C-4D93-951B-9743B663B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D1DDCA-372F-4B12-AAD5-1455AF453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FF7D25-1925-4A1E-847F-44A26E590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A45E7-D460-467B-940A-FC34B8F47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F4E6AF-9008-4696-9441-97E9F76B4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E88F1F-4201-4D21-B9CF-75505715E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B71CF1-C294-4DC7-8E57-9C97D9A7C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088923-AD3C-4ED1-A955-2BD447217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F588F4-E257-4E1D-9528-15A0667C3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86CB7E-B937-4BF0-B90F-4A53ACF03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E50887-56BF-4F39-98F5-7DCCB2ED5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CE17DE-B693-4ADB-9991-041AFF679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A9485C-A34C-48C5-9337-5D633697A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80EAFE-99E4-488C-BA74-09A62AC53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075BD-368A-4539-BA16-1D7580FD6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D741E7-3F0F-46C7-AC46-941B562D2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D92EB4-21FA-4DBB-AD95-E883A81C4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88392F-15F1-44FB-887E-991EB6AA7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1F1322-BD24-452E-B5AE-7F7F725A3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B93605-E88F-45AC-BBA5-13C7A4017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598ABA-E3D4-4F94-B034-A6838E68F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FA07F4-E159-4AD9-A9EE-31E50890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27D5CB-279D-40F2-A2E7-8459DF5B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CFFE6E-63AE-4240-AB53-777AC5F0C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61B254-E903-4A17-A225-8741EB8A6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EB77E-5A1B-45B5-8F0E-861E2FDF8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7938C1-C53A-4B97-B72F-A8B457EC7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9E6DC7-FF4C-4A15-8EC9-42F4CCF8E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968F2F-D9C2-4F06-93A7-DCC504C8D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89D0FF-A16C-4DC3-8D7D-76C675B54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55B476-EF5E-407D-8170-05FB25993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9FD908-634E-469E-82AF-D431D229F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6E4040-D49F-4DEF-8FFC-A0754CD62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C6B5F5-D458-499A-A1CC-B6C7B89D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8087CB-10A7-4E7D-B318-BE387A22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C1CB1B-B98B-4911-B0BC-38D409F17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00F77-ABF9-4B6C-9980-6F1A15C69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FE7091-4E54-4D04-830C-7EF62D13D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5C8742-6FC2-464D-8284-553152153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B41739-E704-48FC-A91F-E9AA5507F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B316EA-4B7F-4DAF-AC18-7647E60F2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F4B76B-0556-43B1-B23B-E72DBE454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7BA688-D3A9-41B3-822C-76481FB69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F6C55E-2173-4D75-BC0F-124FF8F91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DEB77D-EEC2-45D3-93AB-DF4E71CAE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B8CED3-B20B-428A-BE61-2D69017A0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89DA24-0C80-480B-88BE-5ED410D7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75E4-8A40-476E-8BCD-9384940C6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00CA1-A546-4197-9382-C2BD5388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40875B-F050-4CD2-B66E-96C0A15FD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8EC743-F0B2-4A7C-8531-389B4766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932221-6BDA-4A65-9AC7-B9C127E8F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0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DF1738-81C4-406B-890D-98CF93647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0B0156-E4A1-4BAE-B3D6-3E221FFF8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A54EED-851B-4AAE-A534-7968E83A4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C72E2D-1987-4005-82A9-8CD0E1510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049B95-9562-4F01-95B0-2B3B10069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1A3E90-9CC7-438A-BCA0-7FE3C8A3D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278AC3-8DE2-47B5-902B-F08179346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3FEEB-BF20-4FF2-88C4-9524CF2E1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AE9516-9F14-4BFB-8288-77EAB19BA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8FAF40-DED0-4C51-9FDB-4D9E1481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B5FA35-58DD-4C71-9F9C-CE8C6448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A07C58-674E-428A-AAE7-E4D18439E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CB9B24-79FA-4A89-BA4A-954CB0846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847CD0-89B3-4609-BA2F-D12F02286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52CEF8-AA47-4EBA-B07D-F7D81C43C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0A7B6D-FB04-455F-B3A1-03A539835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FDCBC7-FC6D-473D-8636-7A22D3BDE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DCF1A4-B346-4696-A975-DB8BA579E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AF808-984A-43E8-B5AA-363A4EE8D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1C1BEA-7B1C-41EA-A1D0-E67EB8204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BF8993-C877-477A-9FF2-2483BD8D2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45F0B7-7189-441D-8A3E-45E01E1CB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568A2A-DC86-4B8D-BE7F-8311448D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1A4D39-9B74-4355-B266-CA545C39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2C230F-93CC-4A43-84AA-07432752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E243EE-1F9A-4E74-B896-4106A3A1E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87ACE1-767F-4F27-AEF1-06E2D7CC3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32B4D4-5E81-48E7-9ABE-ED62E6111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484262-384D-4847-981F-34F4FA735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500CD-AF57-4591-8CBD-1F1EF09DE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0B122F-200B-4E01-A14C-C35A04B8B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DE0305-7CAB-44A8-A368-85F99A08F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D6FA6F-FB89-488A-99AB-181D67DB6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A13302-F790-4B7E-B597-7A5AE524A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99B22B-AA67-407E-A9DA-62E517951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9F1449-3878-4AB1-A575-CA9F5E27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C69BD6-8D61-4CBD-8767-500E417D9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D7F444-B42A-4A82-A3A7-0CA98FB2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FAAF85-0E3B-4AC3-8B26-47F8433CD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E4D18B-AF5E-4E35-8DB7-EFDB2C71E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0DD50-F59A-47EC-95FA-BA7B7C561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9F74F7-6914-4B58-AC5E-744E4AA70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DBFB4C9-2DB8-42A4-A076-D2E017064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8E15310-DDF1-4B45-B88E-9495C3773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DCBCD86-A9FE-4ADE-B334-4035422B4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AE2636B-C6DE-4D32-90FC-31BB26261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77B1B30-D98D-4E13-9554-F5C32AA84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221932C-6494-4540-90C6-78A8BE126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EDFDFEA-7355-460E-9E1D-77E72E5BB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27AA4EB-E01A-436C-A74A-B21B380E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7C9FB4C-3604-4185-AB07-C2CB182D0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C9FF3-9B34-48F0-BA17-EB4248EF9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8B4D1C8-ACB5-45A9-993E-8A353C35F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ACB0972-042E-4520-A55B-871BE8A6E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B1C80AC-0A4D-4ECF-9AED-C83C49654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AE1EA63-E24E-49CC-8006-152E75ABA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F72B4BE-987E-457D-A02A-2162AE996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23633AF-ED9A-49A0-89F6-FBFF058E8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1C2117F-8A02-4DCD-B00B-C826C2B3B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C866F1C-043D-4570-85B9-3AE8EA592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04F1FBD-6954-4BD5-AAF0-C203BBF41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F8276D0-48CD-43DF-9905-2B6B7DE16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421E5-03B6-442D-825C-110C4EB03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3F8BFEF-7B2A-430B-96DF-CFE34A552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DC60D4B-6F3D-4670-9AC3-06602F7B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F280292-C48B-470E-BDBB-43AE887C7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C16F912-89B3-43AD-A0A5-C68AE6F65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879B693-E927-4ECF-9F87-155C74B4F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8D554-4E9F-4016-BFEA-588E63B9D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B135B-C529-413D-BD93-98FFB6B7C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B664A-51F8-44A5-B23F-DD27967A7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9B3B-82E8-451B-B29B-5438BC8ED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4D1BC-0275-44EE-8AF3-4F50CA50C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67194-BFA3-499D-8453-BA5D308DC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8369E-5C9E-4DBE-9883-9924AB7C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54067-0B3A-46E7-A60B-E50F3303F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93937-C51E-452B-AEFA-3807BE4FE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E6F2A-8AD9-462A-A526-63E361F30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30450-1A83-4611-879B-3EE06C3B7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331BB-90EB-44EA-907E-188BB2F69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7ED91-E54E-48ED-A0D9-72D26801D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34925-5331-40DB-A897-3AC1ECB30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2AA7-0E61-407A-B5DD-981A0C619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D44C3-C256-4684-BA7F-3FA017B06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43A3E-B291-4BFE-A42F-80B00DBDB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292DE-F2AD-435D-81A7-C337A83C2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D58A2-E64D-4F6D-A21F-64829476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25E09-AF0F-4913-BBFE-6618C9B6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A7ED2-729B-4827-958D-186380246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BD838-8FD6-42E0-A3A9-B63F98F6D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45F6D-1C60-4087-B876-A1CAAB038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74447-7C7B-483B-B304-4A039DB80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3DAA32-C9F7-40F6-A46C-FAF10A344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B005-805B-422F-89E0-ED5AAB5CD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DE8228-6EB0-4EC9-BAAC-36D6A77B5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1B56D3-BE74-4828-A73D-73A0A7976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4A2E21-763A-490A-90AC-092408DC0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4E1B28-5D38-42E5-B721-88FA87B71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74606A-B9FE-46DC-A93A-90ED0D5C9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A3F75A-7B79-464F-8902-81FD3B031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84AC0F-5D57-4E18-8B9B-A0B7EEF8F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DA7397-763B-4F16-902D-CE34C8EC1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65A1C9-06CA-43FE-88B2-26DE2F846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29CB91-78F8-4F02-9057-A341721FD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EE3C-FC48-4EBC-B039-A50CDD231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DA9B5B-5CD7-4539-B382-898053BB3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117137-5BBD-4FB7-AC2A-71275C0A1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5E203-1FF9-46CE-95CE-46CBFCEE1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F2D69-680F-43BE-AB53-6219E6716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7C94A7-D71A-4379-808D-0246BBE35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C1FAFA-2DC9-4A92-A8F1-787DCF880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AE3F0D-4D8D-457F-BCFF-3DA22E212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A4F83-5FBA-43D1-9C26-72BCD5E02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8C9D83-B6BB-4BBC-8778-29F2EF67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A4BF0-B4A7-41E7-9046-752653730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855F-E307-4FA9-8BE6-FBC96FE5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4E982C-61DE-4F10-8D13-58026A88C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2AC88F-D87C-410F-A097-7F83FA1F0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A663E2-70D5-4AB3-A591-3DF8643B1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11FC34-B9D8-4302-9539-0123BDD24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0BC970-C67A-41CC-864B-FC9964AD3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B2600A-EEB5-4CFE-BB1F-364A32DDA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8847CB-C2D9-42DC-B1D3-B3FF8FAAE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4486F5-7CBD-4D02-A3E4-981B0003E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D0E642-AD3C-4A60-BC54-CACC5B6C0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A320E7-97E2-439E-8BFC-11A7BFBD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ABED-2B70-4855-9CD3-D2E4879E3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B2F936-40C9-4762-99CF-BA4C56DE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F23DF5-6B41-4F0E-8AD5-2FA5C930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6B7E08-3284-4FCA-A60F-271B62F69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737069-8BAC-47C8-A0B5-F47769582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EFA6A0-BA3F-470E-99E7-E4CA447A4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3EEF91-482E-4BCF-91D6-D9C29A1EA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59EF67-8708-4C39-9872-C4D89638E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23D38D-EDC8-45F1-BDD8-DE0E3B6FF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64E18C-5478-4F8A-9C2A-A13F58EA5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1F2191-FBD0-4C9B-A57A-AF33AB457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AC87-7841-4346-87A9-6ABFC7CD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F0B670-42D0-4708-8D7C-EA37C6E32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5A37AF-D378-494B-B9E2-36B63804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E7040C-5925-427E-B5E5-21C108D7F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62B7B2-1B03-4625-8687-85B176D7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D4953E-2CE2-47D8-BFBB-07429980E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572BDA-ADFA-4441-BEFE-6DA0342DA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506CAE-E608-4BCF-A097-B2291D8E6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919455-AEE2-453F-86E1-392639680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EDD864-3C67-4D8D-96CF-41420C6A3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BEEA62-0F9F-4081-A508-5C5FF6ADE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AEA2A-4FA3-45F1-9E7B-BA4DC85AAC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5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656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657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59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660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661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662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3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4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665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666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7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8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669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0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1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672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3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4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675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6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7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678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9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0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681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2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3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684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5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6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687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8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9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690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1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2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693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4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5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696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7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8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699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0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1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702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3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4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705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6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7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708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9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0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711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2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3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714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5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6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717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8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9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720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1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2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723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4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5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726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7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8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0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731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2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3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734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5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6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737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8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9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740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1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2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743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4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5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746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7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8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749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0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1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752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3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4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755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6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7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758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9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0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761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2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763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764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765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6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7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8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9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0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1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72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73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774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B9499-8124-47C2-8D30-B0997BFCAFEC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829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7" name="PlaceHolder 1"/>
          <p:cNvSpPr>
            <a:spLocks noGrp="1"/>
          </p:cNvSpPr>
          <p:nvPr>
            <p:ph type="dt" idx="3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ftr" idx="3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 type="sldNum" idx="3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65C4C-5A4D-4832-9C18-794254CCF2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8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879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dt" idx="3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 type="ftr" idx="3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 type="sldNum" idx="3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841BF-2D74-4009-AF9C-F33F9902BA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 type="ftr" idx="3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 type="sldNum" idx="3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1186E-B2D8-4166-8EC5-12A97E5A926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1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932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5" name="PlaceHolder 5"/>
          <p:cNvSpPr>
            <a:spLocks noGrp="1"/>
          </p:cNvSpPr>
          <p:nvPr>
            <p:ph type="dt" idx="3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F1996-AB8B-4CA3-9BE6-AF6BCE5B3CE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7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988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1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 type="dt" idx="4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 type="ftr" idx="4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5"/>
          <p:cNvSpPr>
            <a:spLocks noGrp="1"/>
          </p:cNvSpPr>
          <p:nvPr>
            <p:ph type="sldNum" idx="4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653EE-7E71-4E0E-8349-58C480BC16E7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6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047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56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57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58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1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64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65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73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074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6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077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078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79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080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88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8EE17-A4AE-41AA-A40F-E1C42AA9CC6D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0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131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34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135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140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141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44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145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50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8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189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4F98F-D144-406A-99E7-D07BCCF4401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8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249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D2A60-FF8B-4D44-B3B6-BFDAD2A3631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7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308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DD0B4-8097-4837-88DA-02BC0B3FCC7F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92DCD-32BB-411F-A199-9025316AFF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1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1352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54" name="PlaceHolder 1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AFCD2-FD72-447F-ABAD-F319177EE55C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ftr" idx="6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sldNum" idx="6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7ED34-D7F9-43BB-8FE8-E7676AC5A3D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00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1401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14" name="PlaceHolder 5"/>
          <p:cNvSpPr>
            <a:spLocks noGrp="1"/>
          </p:cNvSpPr>
          <p:nvPr>
            <p:ph type="dt" idx="6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 type="dt" idx="6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 type="sldNum" idx="6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863CD-47E9-447B-BCA6-0429D0588D9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6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1457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0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83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85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6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97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16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34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1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753ED-A207-4E1B-9DF3-6C3CF7CF78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88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9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90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02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21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39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6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BA48E-B48C-43E7-B8AE-11AE3DC161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dt" idx="1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ldNum" idx="1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3C596-C20F-42E8-AA95-0FFA9785E8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94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95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0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1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42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4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8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dt" idx="16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ftr" idx="17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sldNum" idx="18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E58EE-7AFA-4B2A-B224-6CA8C80AF5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39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dt" idx="19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ftr" idx="20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sldNum" idx="2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E652E-7DCB-41D3-8CA9-930950F0388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3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dt" idx="22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ftr" idx="23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sldNum" idx="24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7FED9-C74D-4C67-A001-26FC2E15432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480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81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3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84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6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87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9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490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3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494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495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7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498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0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501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3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504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6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507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9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510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2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513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5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516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8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519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1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522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4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525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7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528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0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31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3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34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6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37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9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540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2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543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5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546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8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549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1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552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4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555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57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59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560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2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563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5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566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8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569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1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572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4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575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7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578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0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581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3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584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6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587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9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590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92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EE11D-53B3-4F78-BEC3-333613888FD0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9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1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6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24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"/>
          <p:cNvSpPr txBox="1"/>
          <p:nvPr/>
        </p:nvSpPr>
        <p:spPr>
          <a:xfrm>
            <a:off x="1692360" y="1268280"/>
            <a:ext cx="59752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ONDON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08" name="" descr=""/>
          <p:cNvPicPr/>
          <p:nvPr/>
        </p:nvPicPr>
        <p:blipFill>
          <a:blip r:embed="rId4"/>
          <a:srcRect l="0" t="2842" r="0" b="2842"/>
          <a:stretch/>
        </p:blipFill>
        <p:spPr>
          <a:xfrm>
            <a:off x="1908000" y="3213000"/>
            <a:ext cx="5472360" cy="27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10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0" name="" descr=""/>
          <p:cNvPicPr/>
          <p:nvPr/>
        </p:nvPicPr>
        <p:blipFill>
          <a:blip r:embed="rId1"/>
          <a:srcRect l="3598" t="0" r="0" b="0"/>
          <a:stretch/>
        </p:blipFill>
        <p:spPr>
          <a:xfrm>
            <a:off x="395280" y="2708280"/>
            <a:ext cx="3889440" cy="3313080"/>
          </a:xfrm>
          <a:prstGeom prst="rect">
            <a:avLst/>
          </a:prstGeom>
          <a:ln w="0">
            <a:noFill/>
          </a:ln>
        </p:spPr>
      </p:pic>
      <p:pic>
        <p:nvPicPr>
          <p:cNvPr id="1531" name="" descr=""/>
          <p:cNvPicPr/>
          <p:nvPr/>
        </p:nvPicPr>
        <p:blipFill>
          <a:blip r:embed="rId2"/>
          <a:srcRect l="5231" t="3322" r="0" b="6073"/>
          <a:stretch/>
        </p:blipFill>
        <p:spPr>
          <a:xfrm>
            <a:off x="4788000" y="2728800"/>
            <a:ext cx="3960720" cy="3221280"/>
          </a:xfrm>
          <a:prstGeom prst="rect">
            <a:avLst/>
          </a:prstGeom>
          <a:ln w="0">
            <a:noFill/>
          </a:ln>
        </p:spPr>
      </p:pic>
      <p:sp>
        <p:nvSpPr>
          <p:cNvPr id="1532" name=""/>
          <p:cNvSpPr txBox="1"/>
          <p:nvPr/>
        </p:nvSpPr>
        <p:spPr>
          <a:xfrm>
            <a:off x="2124000" y="907920"/>
            <a:ext cx="5112000" cy="95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TOWER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>
    <p:cover dir="d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1" dur="20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3" name="" descr=""/>
          <p:cNvPicPr/>
          <p:nvPr/>
        </p:nvPicPr>
        <p:blipFill>
          <a:blip r:embed="rId1"/>
          <a:srcRect l="1975" t="0" r="2244" b="7728"/>
          <a:stretch/>
        </p:blipFill>
        <p:spPr>
          <a:xfrm>
            <a:off x="611280" y="2637000"/>
            <a:ext cx="3673440" cy="2663640"/>
          </a:xfrm>
          <a:prstGeom prst="rect">
            <a:avLst/>
          </a:prstGeom>
          <a:ln w="0">
            <a:noFill/>
          </a:ln>
        </p:spPr>
      </p:pic>
      <p:sp>
        <p:nvSpPr>
          <p:cNvPr id="1534" name=""/>
          <p:cNvSpPr txBox="1"/>
          <p:nvPr/>
        </p:nvSpPr>
        <p:spPr>
          <a:xfrm>
            <a:off x="2050920" y="333360"/>
            <a:ext cx="5473800" cy="127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0000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Times New Roman"/>
              </a:rPr>
              <a:t>Hyde Par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0000"/>
                  </a:gs>
                  <a:gs pos="100000">
                    <a:srgbClr val="ffcc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535" name="" descr=""/>
          <p:cNvPicPr/>
          <p:nvPr/>
        </p:nvPicPr>
        <p:blipFill>
          <a:blip r:embed="rId2"/>
          <a:srcRect l="8202" t="11072" r="4334" b="11478"/>
          <a:stretch/>
        </p:blipFill>
        <p:spPr>
          <a:xfrm>
            <a:off x="4932360" y="2637000"/>
            <a:ext cx="3887640" cy="26636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3" dur="2000"/>
                                        <p:tgtEl>
                                          <p:spTgt spid="1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400" fill="hold"/>
                                        <p:tgtEl>
                                          <p:spTgt spid="1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400" fill="hold"/>
                                        <p:tgtEl>
                                          <p:spTgt spid="1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5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900" fill="hold"/>
                                        <p:tgtEl>
                                          <p:spTgt spid="1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6" name="" descr=""/>
          <p:cNvPicPr/>
          <p:nvPr/>
        </p:nvPicPr>
        <p:blipFill>
          <a:blip r:embed="rId1"/>
          <a:srcRect l="0" t="0" r="3036" b="5935"/>
          <a:stretch/>
        </p:blipFill>
        <p:spPr>
          <a:xfrm>
            <a:off x="5076720" y="404640"/>
            <a:ext cx="2880000" cy="5688360"/>
          </a:xfrm>
          <a:prstGeom prst="rect">
            <a:avLst/>
          </a:prstGeom>
          <a:ln w="0">
            <a:noFill/>
          </a:ln>
        </p:spPr>
      </p:pic>
      <p:sp>
        <p:nvSpPr>
          <p:cNvPr id="1537" name=""/>
          <p:cNvSpPr txBox="1"/>
          <p:nvPr/>
        </p:nvSpPr>
        <p:spPr>
          <a:xfrm>
            <a:off x="611280" y="549360"/>
            <a:ext cx="20890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cc3300">
                        <a:alpha val="50196"/>
                      </a:srgbClr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BIG</a:t>
            </a:r>
            <a:endParaRPr b="1" lang="en-US" sz="44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cc3300">
                      <a:alpha val="50196"/>
                    </a:srgbClr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38" name=""/>
          <p:cNvSpPr txBox="1"/>
          <p:nvPr/>
        </p:nvSpPr>
        <p:spPr>
          <a:xfrm>
            <a:off x="2050920" y="2637000"/>
            <a:ext cx="2089440" cy="14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cc3300">
                        <a:alpha val="50196"/>
                      </a:srgbClr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BEN</a:t>
            </a:r>
            <a:endParaRPr b="1" lang="en-US" sz="44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cc3300">
                      <a:alpha val="50196"/>
                    </a:srgbClr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wipe dir="d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7" dur="20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"/>
          <p:cNvSpPr/>
          <p:nvPr/>
        </p:nvSpPr>
        <p:spPr>
          <a:xfrm>
            <a:off x="179280" y="404640"/>
            <a:ext cx="8713800" cy="5904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0" name="" descr=""/>
          <p:cNvPicPr/>
          <p:nvPr/>
        </p:nvPicPr>
        <p:blipFill>
          <a:blip r:embed="rId2"/>
          <a:srcRect l="0" t="0" r="2056" b="2417"/>
          <a:stretch/>
        </p:blipFill>
        <p:spPr>
          <a:xfrm>
            <a:off x="1403280" y="2637000"/>
            <a:ext cx="6553440" cy="3382920"/>
          </a:xfrm>
          <a:prstGeom prst="rect">
            <a:avLst/>
          </a:prstGeom>
          <a:ln w="0">
            <a:noFill/>
          </a:ln>
        </p:spPr>
      </p:pic>
      <p:sp>
        <p:nvSpPr>
          <p:cNvPr id="1541" name=""/>
          <p:cNvSpPr txBox="1"/>
          <p:nvPr/>
        </p:nvSpPr>
        <p:spPr>
          <a:xfrm>
            <a:off x="900000" y="1268280"/>
            <a:ext cx="754380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100000">
                      <a:srgbClr val="03d4a8"/>
                    </a:gs>
                  </a:gsLst>
                  <a:lin ang="5400000"/>
                </a:gradFill>
                <a:latin typeface="Times New Roman"/>
              </a:rPr>
              <a:t>The Houses of Parliament and Big Be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5cbf"/>
                  </a:gs>
                  <a:gs pos="100000">
                    <a:srgbClr val="03d4a8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strips dir="rd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4" dur="500"/>
                                        <p:tgtEl>
                                          <p:spTgt spid="1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"/>
          <p:cNvSpPr/>
          <p:nvPr/>
        </p:nvSpPr>
        <p:spPr>
          <a:xfrm>
            <a:off x="4140360" y="3284640"/>
            <a:ext cx="3887640" cy="302400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324000" y="189000"/>
            <a:ext cx="2519280" cy="518472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4" name="" descr=""/>
          <p:cNvPicPr/>
          <p:nvPr/>
        </p:nvPicPr>
        <p:blipFill>
          <a:blip r:embed="rId1"/>
          <a:srcRect l="6167" t="2818" r="10781" b="2065"/>
          <a:stretch/>
        </p:blipFill>
        <p:spPr>
          <a:xfrm>
            <a:off x="468360" y="260280"/>
            <a:ext cx="2232000" cy="5040360"/>
          </a:xfrm>
          <a:prstGeom prst="rect">
            <a:avLst/>
          </a:prstGeom>
          <a:ln w="0">
            <a:noFill/>
          </a:ln>
        </p:spPr>
      </p:pic>
      <p:sp>
        <p:nvSpPr>
          <p:cNvPr id="1545" name=""/>
          <p:cNvSpPr txBox="1"/>
          <p:nvPr/>
        </p:nvSpPr>
        <p:spPr>
          <a:xfrm>
            <a:off x="3276720" y="476280"/>
            <a:ext cx="475128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Big Ben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46" name="" descr=""/>
          <p:cNvPicPr/>
          <p:nvPr/>
        </p:nvPicPr>
        <p:blipFill>
          <a:blip r:embed="rId4"/>
          <a:srcRect l="6681" t="6516" r="7160" b="11144"/>
          <a:stretch/>
        </p:blipFill>
        <p:spPr>
          <a:xfrm>
            <a:off x="4284720" y="3429000"/>
            <a:ext cx="3600360" cy="26640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7" name="" descr=""/>
          <p:cNvPicPr/>
          <p:nvPr/>
        </p:nvPicPr>
        <p:blipFill>
          <a:blip r:embed="rId1"/>
          <a:srcRect l="6788" t="5181" r="1350" b="7791"/>
          <a:stretch/>
        </p:blipFill>
        <p:spPr>
          <a:xfrm>
            <a:off x="2124000" y="2781360"/>
            <a:ext cx="6264360" cy="3166920"/>
          </a:xfrm>
          <a:prstGeom prst="rect">
            <a:avLst/>
          </a:prstGeom>
          <a:ln w="0">
            <a:noFill/>
          </a:ln>
        </p:spPr>
      </p:pic>
      <p:sp>
        <p:nvSpPr>
          <p:cNvPr id="1548" name=""/>
          <p:cNvSpPr txBox="1"/>
          <p:nvPr/>
        </p:nvSpPr>
        <p:spPr>
          <a:xfrm>
            <a:off x="2700360" y="1052640"/>
            <a:ext cx="5040360" cy="100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Big Ben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>
    <p:push dir="r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9" dur="20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9" name="" descr=""/>
          <p:cNvPicPr/>
          <p:nvPr/>
        </p:nvPicPr>
        <p:blipFill>
          <a:blip r:embed="rId1"/>
          <a:srcRect l="6358" t="3036" r="0" b="3036"/>
          <a:stretch/>
        </p:blipFill>
        <p:spPr>
          <a:xfrm>
            <a:off x="1619280" y="549360"/>
            <a:ext cx="6048360" cy="3168720"/>
          </a:xfrm>
          <a:prstGeom prst="rect">
            <a:avLst/>
          </a:prstGeom>
          <a:ln w="0">
            <a:noFill/>
          </a:ln>
        </p:spPr>
      </p:pic>
      <p:sp>
        <p:nvSpPr>
          <p:cNvPr id="1510" name=""/>
          <p:cNvSpPr txBox="1"/>
          <p:nvPr/>
        </p:nvSpPr>
        <p:spPr>
          <a:xfrm>
            <a:off x="1692360" y="4221000"/>
            <a:ext cx="6048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Piccadilly Circus</a:t>
            </a:r>
            <a:endParaRPr b="1" lang="en-US" sz="4400" spc="1" strike="noStrike">
              <a:ln w="0">
                <a:noFill/>
              </a:ln>
              <a:gradFill rotWithShape="0">
                <a:gsLst>
                  <a:gs pos="0">
                    <a:srgbClr val="ffcc0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pull dir="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" dur="20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900" fill="hold"/>
                                        <p:tgtEl>
                                          <p:spTgt spid="1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1" name="" descr=""/>
          <p:cNvPicPr/>
          <p:nvPr/>
        </p:nvPicPr>
        <p:blipFill>
          <a:blip r:embed="rId1"/>
          <a:srcRect l="0" t="0" r="5729" b="5758"/>
          <a:stretch/>
        </p:blipFill>
        <p:spPr>
          <a:xfrm>
            <a:off x="2050920" y="836640"/>
            <a:ext cx="5257800" cy="2663640"/>
          </a:xfrm>
          <a:prstGeom prst="rect">
            <a:avLst/>
          </a:prstGeom>
          <a:ln w="0">
            <a:noFill/>
          </a:ln>
        </p:spPr>
      </p:pic>
      <p:sp>
        <p:nvSpPr>
          <p:cNvPr id="1512" name=""/>
          <p:cNvSpPr txBox="1"/>
          <p:nvPr/>
        </p:nvSpPr>
        <p:spPr>
          <a:xfrm>
            <a:off x="1692360" y="3933720"/>
            <a:ext cx="6048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blipFill rotWithShape="0">
                  <a:blip r:embed="rId2">
                    <a:alphaModFix amt="50000"/>
                  </a:blip>
                  <a:srcRect/>
                  <a:stretch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Theatre Royal Haymarket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blipFill rotWithShape="0">
                <a:blip r:embed="rId3">
                  <a:alphaModFix amt="50000"/>
                </a:blip>
                <a:srcRect/>
                <a:stretch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strips dir="rd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8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15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1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1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77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770" fill="hold"/>
                                        <p:tgtEl>
                                          <p:spTgt spid="15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" dur="77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" dur="77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"/>
          <p:cNvSpPr/>
          <p:nvPr/>
        </p:nvSpPr>
        <p:spPr>
          <a:xfrm>
            <a:off x="1476360" y="476280"/>
            <a:ext cx="6696000" cy="1873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4" name="" descr=""/>
          <p:cNvPicPr/>
          <p:nvPr/>
        </p:nvPicPr>
        <p:blipFill>
          <a:blip r:embed="rId1"/>
          <a:srcRect l="2731" t="3666" r="2731" b="5758"/>
          <a:stretch/>
        </p:blipFill>
        <p:spPr>
          <a:xfrm>
            <a:off x="539640" y="2708280"/>
            <a:ext cx="3745080" cy="2881440"/>
          </a:xfrm>
          <a:prstGeom prst="rect">
            <a:avLst/>
          </a:prstGeom>
          <a:ln w="0">
            <a:noFill/>
          </a:ln>
        </p:spPr>
      </p:pic>
      <p:sp>
        <p:nvSpPr>
          <p:cNvPr id="1515" name=""/>
          <p:cNvSpPr txBox="1"/>
          <p:nvPr/>
        </p:nvSpPr>
        <p:spPr>
          <a:xfrm>
            <a:off x="2050920" y="1197000"/>
            <a:ext cx="5545440" cy="863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ff"/>
                    </a:gs>
                    <a:gs pos="100000">
                      <a:srgbClr val="003399"/>
                    </a:gs>
                  </a:gsLst>
                  <a:lin ang="5400000"/>
                </a:gradFill>
                <a:latin typeface="Arial"/>
              </a:rPr>
              <a:t>Tower Brid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ff"/>
                  </a:gs>
                  <a:gs pos="100000">
                    <a:srgbClr val="003399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1516" name="" descr=""/>
          <p:cNvPicPr/>
          <p:nvPr/>
        </p:nvPicPr>
        <p:blipFill>
          <a:blip r:embed="rId2"/>
          <a:srcRect l="7144" t="5693" r="0" b="9086"/>
          <a:stretch/>
        </p:blipFill>
        <p:spPr>
          <a:xfrm>
            <a:off x="4859280" y="2781360"/>
            <a:ext cx="3600360" cy="27352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5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5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20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"/>
          <p:cNvSpPr/>
          <p:nvPr/>
        </p:nvSpPr>
        <p:spPr>
          <a:xfrm>
            <a:off x="1403280" y="2133720"/>
            <a:ext cx="6840720" cy="374328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8" name="" descr=""/>
          <p:cNvPicPr/>
          <p:nvPr/>
        </p:nvPicPr>
        <p:blipFill>
          <a:blip r:embed="rId1"/>
          <a:srcRect l="10467" t="15093" r="6341" b="9285"/>
          <a:stretch/>
        </p:blipFill>
        <p:spPr>
          <a:xfrm>
            <a:off x="1547640" y="2205000"/>
            <a:ext cx="6553440" cy="3457440"/>
          </a:xfrm>
          <a:prstGeom prst="rect">
            <a:avLst/>
          </a:prstGeom>
          <a:ln w="0">
            <a:noFill/>
          </a:ln>
        </p:spPr>
      </p:pic>
      <p:sp>
        <p:nvSpPr>
          <p:cNvPr id="1519" name=""/>
          <p:cNvSpPr txBox="1"/>
          <p:nvPr/>
        </p:nvSpPr>
        <p:spPr>
          <a:xfrm>
            <a:off x="1116000" y="476280"/>
            <a:ext cx="72738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National Gallery Trafalgar Sguar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33cc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cover dir="d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1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7" dur="20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"/>
          <p:cNvSpPr/>
          <p:nvPr/>
        </p:nvSpPr>
        <p:spPr>
          <a:xfrm>
            <a:off x="287280" y="907920"/>
            <a:ext cx="8856720" cy="532944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1" name="" descr=""/>
          <p:cNvPicPr/>
          <p:nvPr/>
        </p:nvPicPr>
        <p:blipFill>
          <a:blip r:embed="rId2"/>
          <a:srcRect l="6660" t="3322" r="0" b="2734"/>
          <a:stretch/>
        </p:blipFill>
        <p:spPr>
          <a:xfrm>
            <a:off x="539640" y="1916280"/>
            <a:ext cx="3743280" cy="3600360"/>
          </a:xfrm>
          <a:prstGeom prst="rect">
            <a:avLst/>
          </a:prstGeom>
          <a:ln w="0">
            <a:noFill/>
          </a:ln>
        </p:spPr>
      </p:pic>
      <p:pic>
        <p:nvPicPr>
          <p:cNvPr id="1522" name="" descr=""/>
          <p:cNvPicPr/>
          <p:nvPr/>
        </p:nvPicPr>
        <p:blipFill>
          <a:blip r:embed="rId3"/>
          <a:srcRect l="5482" t="11918" r="7054" b="9549"/>
          <a:stretch/>
        </p:blipFill>
        <p:spPr>
          <a:xfrm>
            <a:off x="4716360" y="1916280"/>
            <a:ext cx="4105440" cy="3601800"/>
          </a:xfrm>
          <a:prstGeom prst="rect">
            <a:avLst/>
          </a:prstGeom>
          <a:ln w="0">
            <a:noFill/>
          </a:ln>
        </p:spPr>
      </p:pic>
      <p:sp>
        <p:nvSpPr>
          <p:cNvPr id="1523" name=""/>
          <p:cNvSpPr txBox="1"/>
          <p:nvPr/>
        </p:nvSpPr>
        <p:spPr>
          <a:xfrm>
            <a:off x="755640" y="189000"/>
            <a:ext cx="2016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LONDON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77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" dur="770" fill="hold"/>
                                        <p:tgtEl>
                                          <p:spTgt spid="15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4" dur="770" fill="hold"/>
                                        <p:tgtEl>
                                          <p:spTgt spid="1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6" dur="770" fill="hold"/>
                                        <p:tgtEl>
                                          <p:spTgt spid="1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5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4" name="" descr=""/>
          <p:cNvPicPr/>
          <p:nvPr/>
        </p:nvPicPr>
        <p:blipFill>
          <a:blip r:embed="rId1"/>
          <a:srcRect l="4271" t="7791" r="7838" b="13077"/>
          <a:stretch/>
        </p:blipFill>
        <p:spPr>
          <a:xfrm>
            <a:off x="2124000" y="2133720"/>
            <a:ext cx="5327640" cy="3671640"/>
          </a:xfrm>
          <a:prstGeom prst="rect">
            <a:avLst/>
          </a:prstGeom>
          <a:ln w="0">
            <a:noFill/>
          </a:ln>
        </p:spPr>
      </p:pic>
      <p:sp>
        <p:nvSpPr>
          <p:cNvPr id="1525" name=""/>
          <p:cNvSpPr txBox="1"/>
          <p:nvPr/>
        </p:nvSpPr>
        <p:spPr>
          <a:xfrm>
            <a:off x="1476360" y="549360"/>
            <a:ext cx="6335640" cy="101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t. Paul's Cathedral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cover dir="d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5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6" name="" descr=""/>
          <p:cNvPicPr/>
          <p:nvPr/>
        </p:nvPicPr>
        <p:blipFill>
          <a:blip r:embed="rId2"/>
          <a:srcRect l="2115" t="10467" r="8050" b="5181"/>
          <a:stretch/>
        </p:blipFill>
        <p:spPr>
          <a:xfrm>
            <a:off x="1908000" y="2349360"/>
            <a:ext cx="6264360" cy="3456000"/>
          </a:xfrm>
          <a:prstGeom prst="rect">
            <a:avLst/>
          </a:prstGeom>
          <a:ln w="0">
            <a:noFill/>
          </a:ln>
        </p:spPr>
      </p:pic>
      <p:sp>
        <p:nvSpPr>
          <p:cNvPr id="1527" name=""/>
          <p:cNvSpPr txBox="1"/>
          <p:nvPr/>
        </p:nvSpPr>
        <p:spPr>
          <a:xfrm>
            <a:off x="1692360" y="765000"/>
            <a:ext cx="5688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9900cc"/>
                    </a:gs>
                  </a:gsLst>
                  <a:lin ang="5400000"/>
                </a:gradFill>
                <a:latin typeface="Impact"/>
              </a:rPr>
              <a:t>Tower of Lond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9900cc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push dir="r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5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8" name="" descr=""/>
          <p:cNvPicPr/>
          <p:nvPr/>
        </p:nvPicPr>
        <p:blipFill>
          <a:blip r:embed="rId1"/>
          <a:srcRect l="2768" t="2557" r="1270" b="0"/>
          <a:stretch/>
        </p:blipFill>
        <p:spPr>
          <a:xfrm>
            <a:off x="826920" y="1844640"/>
            <a:ext cx="6553440" cy="3672000"/>
          </a:xfrm>
          <a:prstGeom prst="rect">
            <a:avLst/>
          </a:prstGeom>
          <a:ln w="0">
            <a:noFill/>
          </a:ln>
        </p:spPr>
      </p:pic>
      <p:sp>
        <p:nvSpPr>
          <p:cNvPr id="1529" name=""/>
          <p:cNvSpPr txBox="1"/>
          <p:nvPr/>
        </p:nvSpPr>
        <p:spPr>
          <a:xfrm>
            <a:off x="1187280" y="620640"/>
            <a:ext cx="3384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e1f08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ONDO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e1f08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0T06:12:22Z</dcterms:created>
  <dc:creator>user</dc:creator>
  <dc:description/>
  <dc:language>en-US</dc:language>
  <cp:lastModifiedBy>user</cp:lastModifiedBy>
  <dcterms:modified xsi:type="dcterms:W3CDTF">2007-03-20T12:00:35Z</dcterms:modified>
  <cp:revision>1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