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F7C-3FA8-4FE0-830A-0BC73393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6BF-D660-4F3D-9417-0AC000A6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28B-73C6-4B4E-A86E-040F038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6CB-8C42-484D-97F4-AFA6438C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759-0454-425F-8439-9AC15A33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9D93-9DD0-41CD-B8C0-4700417C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8454-C6F7-4247-BF4C-48199D5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7F8C-5B6A-4B34-9C16-9D7C5009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315B-D945-4FA0-964C-5EB84840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5752-F175-4DE2-BBD2-167EE013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8C1C-7297-4B0D-818F-A078DFC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771-8FC1-4EC4-A31B-CC969D45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FA92-90A5-4C27-AA34-A5A9865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089E-F92C-4A6C-848A-ACE63D8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A746-95DD-427A-AD67-11C26434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7AB1-1246-47D1-9A0C-5A9E9B43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7362-AB24-43BB-854B-9C48F4B4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3790-6ED8-4050-9935-B6748D51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73AE-80C8-41F3-83C2-8303416D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6F8A-717F-4DCC-B7CA-B32EB079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DDB9-DFDF-479A-8063-6D401D4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BDFA-5679-4940-BB01-6213F9D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FA7-7A00-46D1-9C90-76E82DA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F2EF-0320-475C-BDF9-F8B50BF8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5BA81-4865-4AA2-8E2D-003714D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9DBA-D094-44C3-9956-2A10DF0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A8B0-97CF-45B1-9009-C27EA26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7FAB-1BDA-4592-9B8E-5AC4968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2408-2938-4DD7-9AD8-06D7A652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00D7-664C-48AB-B741-E4D9EA1C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DC73-6FCE-4804-9046-1872DF4A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1C9C-164A-4574-B178-102D6EA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D6FC-F163-4F08-9019-B87F46CF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024-9F03-4A80-8EB3-A2ABAD0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9930-90A2-4516-8A53-E86C1D9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9771-86A3-4741-9A5D-EF32A4E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FFFC1-5147-4BE5-92B2-7A4AB169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F781-C2CB-4AAF-8E7F-30C35A3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8BDD-5C76-4017-BBE0-545FC10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69AB-DA41-4BB8-A8A7-4EC24F9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5632-02FA-4B08-A2A4-4A5B5F5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9BED-9A02-4C1F-8E2A-85AAFC01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8D88-1C73-404C-89AF-49C2887F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639D-6185-4FFC-A4C7-C40C04F6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352-243B-4611-8E83-B02C48D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C1F3-0AE0-420A-A761-84E09988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1F4A-518B-4DE9-AAB3-4C9604E3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E2E26-0C81-423F-9544-3D390D62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CE91-490A-4C6F-9E26-ED2AA15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86348-5D31-4045-8120-E44D3FD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DDED4-0543-46B7-B4A0-AA8F5C9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F471F-D7A3-466E-80CC-72E91C8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E1C18-E527-441C-B189-739C86F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D573-FAED-4F35-854B-7DC845BD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11DF-C312-433D-A96C-E29B8DE7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4DD-1F35-4418-9593-0C05A4A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2A38-1285-4934-878C-331BF226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049-F281-404D-ABC4-706D55A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398-6CE4-45AA-80D2-EC8246F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E5B-4BB7-464D-A493-6DE6A81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E51-6446-4279-961D-DF6C2C46FE1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4989-EF29-4374-B7B7-299CF9BD878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A5A2-3754-4BD7-B545-B83E80C503D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1C5-C92F-4FB4-A180-4C00FCC4BBF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5575-ED11-4407-9AE7-B18B044E2B3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00240" y="2143080"/>
            <a:ext cx="585792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Шолохов. Жизнь и творчеств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46814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933 Выходит в свет первая книга романа «Поднятая целина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5" descr="Поднятая целина"/>
          <p:cNvPicPr/>
          <p:nvPr/>
        </p:nvPicPr>
        <p:blipFill>
          <a:blip r:embed="rId1"/>
          <a:stretch/>
        </p:blipFill>
        <p:spPr>
          <a:xfrm>
            <a:off x="611280" y="765000"/>
            <a:ext cx="358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42920" y="856800"/>
            <a:ext cx="85010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1 Присуждение Государственной премии первой степени за роман «Тихий Дон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1 Шолохов-корреспондент направлен в действующую армию. Полученную Сталинскую премию передаёт в фонд оборон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3-1944 Печатаются главы романа «Они сражались за родину».</a:t>
            </a: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29040" y="2357280"/>
            <a:ext cx="45720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56-1957 Опубликован рассказ «Судьба человека» в газете «Правда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5" descr="Sudba-cheloveka-LWD"/>
          <p:cNvPicPr/>
          <p:nvPr/>
        </p:nvPicPr>
        <p:blipFill>
          <a:blip r:embed="rId1"/>
          <a:stretch/>
        </p:blipFill>
        <p:spPr>
          <a:xfrm>
            <a:off x="285840" y="1857240"/>
            <a:ext cx="27860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44290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0 Присуждена Ленинская премия за роман «Поднятая целина», передана на строительство новой школы в станице Каргинск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5 Присуждена Нобелевская прем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5" descr="Нобелевская премия 1"/>
          <p:cNvPicPr/>
          <p:nvPr/>
        </p:nvPicPr>
        <p:blipFill>
          <a:blip r:embed="rId1"/>
          <a:stretch/>
        </p:blipFill>
        <p:spPr>
          <a:xfrm>
            <a:off x="5214960" y="142920"/>
            <a:ext cx="3733920" cy="2773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Премия"/>
          <p:cNvPicPr/>
          <p:nvPr/>
        </p:nvPicPr>
        <p:blipFill>
          <a:blip r:embed="rId2"/>
          <a:stretch/>
        </p:blipFill>
        <p:spPr>
          <a:xfrm>
            <a:off x="142920" y="3214800"/>
            <a:ext cx="4728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7 Присуждено Звание Героя Социалистического Труд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9 В «Правде» опубликованы новые главы романа «Они сражались за родину». После беседы с Л. И. Брежневым Шолохов сжигает роман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3714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21.02.1984 Смерть писателя. Открытие в станице Вешенской Музея-заповедник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могила"/>
          <p:cNvPicPr/>
          <p:nvPr/>
        </p:nvPicPr>
        <p:blipFill>
          <a:blip r:embed="rId1"/>
          <a:stretch/>
        </p:blipFill>
        <p:spPr>
          <a:xfrm>
            <a:off x="3786120" y="3143160"/>
            <a:ext cx="49690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701640" y="249120"/>
            <a:ext cx="7991640" cy="117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56760" y="1600200"/>
            <a:ext cx="5000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кадемик АН СССР (1939);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важды Герой Социалистического Труда (1967, 1980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Член  КПСС (1932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Член ЦК КПСС (1961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Лауреат Нобелевской премии (1965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6" descr="Шолохов1"/>
          <p:cNvPicPr/>
          <p:nvPr/>
        </p:nvPicPr>
        <p:blipFill>
          <a:blip r:embed="rId2"/>
          <a:stretch/>
        </p:blipFill>
        <p:spPr>
          <a:xfrm>
            <a:off x="5506920" y="2643120"/>
            <a:ext cx="29876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57160" y="64260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«Чем же ещё может быть оправдана жизнь и работа каждого из нас, если не доверием народа, не признанием того, что ты отдаёшь народу…, Родине все свои силы и способност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.А. Шолохов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353880" y="249120"/>
            <a:ext cx="8339400" cy="1177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3814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м, в котором родился Шолох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еди шести материков 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краю, где плещет Дон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оит на стыке двух ве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ломой крытый д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 низко кланяюсь ему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постучав в окн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ругие люди в том до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ут давным-давн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 та же в окнах сине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так же помнит дом того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то первые сло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десь начинал с труд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5" descr="Дом"/>
          <p:cNvPicPr/>
          <p:nvPr/>
        </p:nvPicPr>
        <p:blipFill>
          <a:blip r:embed="rId2"/>
          <a:stretch/>
        </p:blipFill>
        <p:spPr>
          <a:xfrm>
            <a:off x="5286240" y="1428840"/>
            <a:ext cx="35737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286160" y="14288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1912 году Миша был принят в мужское приходское училище по второму году обучения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5" descr="С родителями"/>
          <p:cNvPicPr/>
          <p:nvPr/>
        </p:nvPicPr>
        <p:blipFill>
          <a:blip r:embed="rId1"/>
          <a:stretch/>
        </p:blipFill>
        <p:spPr>
          <a:xfrm>
            <a:off x="890640" y="1214280"/>
            <a:ext cx="248580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7120" y="85716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середине 1920 года Шолохов работал учителем по ликвидации неграмотности среди взрослого нас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конце 1922 года приезжает учиться в Москв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1923 году в газете «Юношеская правда» публикуется его первый фельетон «Испытание».В следующем году- рассказ «Родинк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3840" y="21384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4  Женитьба на Марии Громославской (1902-1992). Опубликованы рассказы «Продкомиссар» и «Родинк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С женой"/>
          <p:cNvPicPr/>
          <p:nvPr/>
        </p:nvPicPr>
        <p:blipFill>
          <a:blip r:embed="rId1"/>
          <a:stretch/>
        </p:blipFill>
        <p:spPr>
          <a:xfrm>
            <a:off x="2639880" y="1639800"/>
            <a:ext cx="33703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61760" y="1484280"/>
            <a:ext cx="3809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 Массовыми тиражами выходят первые книжки: «Алёшкино сердце», «Нахалёнок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 Выходят в свет «Донские рассказы» и «Лазоревая степь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3" descr="Нахаленок2"/>
          <p:cNvPicPr/>
          <p:nvPr/>
        </p:nvPicPr>
        <p:blipFill>
          <a:blip r:embed="rId1"/>
          <a:stretch/>
        </p:blipFill>
        <p:spPr>
          <a:xfrm>
            <a:off x="4786200" y="714240"/>
            <a:ext cx="2971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571920" y="213840"/>
            <a:ext cx="46432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6 Начало работы над романом «Тихий Дон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8 Первая публикация «Тихого Дона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30 Первый художественный фильм по роману «Тихий Дон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5" descr="Тихий дон"/>
          <p:cNvPicPr/>
          <p:nvPr/>
        </p:nvPicPr>
        <p:blipFill>
          <a:blip r:embed="rId1"/>
          <a:stretch/>
        </p:blipFill>
        <p:spPr>
          <a:xfrm>
            <a:off x="357120" y="285840"/>
            <a:ext cx="2816280" cy="3660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Тихий Дон3"/>
          <p:cNvPicPr/>
          <p:nvPr/>
        </p:nvPicPr>
        <p:blipFill>
          <a:blip r:embed="rId2"/>
          <a:stretch/>
        </p:blipFill>
        <p:spPr>
          <a:xfrm>
            <a:off x="4643280" y="2571840"/>
            <a:ext cx="2467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2:19:12Z</dcterms:created>
  <dc:creator>Q W</dc:creator>
  <dc:description/>
  <dc:language>en-US</dc:language>
  <cp:lastModifiedBy>Екатерина</cp:lastModifiedBy>
  <dcterms:modified xsi:type="dcterms:W3CDTF">2013-03-31T19:02:29Z</dcterms:modified>
  <cp:revision>27</cp:revision>
  <dc:subject/>
  <dc:title>Тема урока: «М. А. Шолохов. Жизнь, творчество, личность».</dc:title>
</cp:coreProperties>
</file>