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B1B-630A-4461-973F-8A033520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8EC-3299-49BC-B636-BDE2488B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58D-D927-4D6B-B672-E95BF4C4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734-69E4-4357-A46E-B5549BD5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EEF6-A277-48AE-AED1-F125B1A7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CB4-AFF7-47FC-B1EC-8F65E622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7A8-F006-4D8C-8EA3-C7EC93E1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B8C-A1C7-4DE0-B6D7-6E82AADE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4157-FCBD-4D51-B458-54F62CEB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461F-83A0-43A0-B03A-D62EB1B4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4AF-5056-4767-92F2-1932E22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B05-436C-4916-AC58-7D44BD76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9DC-83C3-4C19-A8D2-84755C0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66B1-DBDE-48AE-B945-2FD2449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ADC-2144-4109-A21F-902BC66B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FED9-0005-4852-923D-A48DE8F5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E879-C69E-42AC-A5DD-2FA6320C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10CD-CF81-413A-A705-09E1A15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465E-7509-4F32-8068-EF27D42E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9B3E-9B2D-46C7-8648-3D27BEE1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3903-F38A-47DE-BD75-8622D686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DE2F-1D38-47EB-A59B-C5CCB96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989-ECC6-437A-9C44-DF9BED7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3A3A-BC27-4797-A17D-6F737532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C632-D9FD-4428-ABE9-82375899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27D3-3085-4310-A575-4765EFC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7042-D44E-4B45-B137-3C05DA9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AE24-6780-48C6-BDA5-3354DD0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C41A-FE6C-41C9-BBA0-9CA8839D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7851-64F0-4628-8292-316B9AE4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2F7D-50D5-49C7-B014-15832FD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9CACD-B1BF-4365-983B-D2FC9F18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F568D-FD16-49FF-95EB-9BCDB05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108-FCA2-4A27-B263-B0F2076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5B0B-5283-4C16-90A0-8C756A7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C43C3-DBE3-4933-9F8C-302DD357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E097-A92C-444C-B45A-FF05B98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ED73-BC06-476B-A28C-E44FF115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18BA-BD48-4A51-BBE7-7C1C4BC2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C3D2-ABBA-4C87-9E1E-06E3C1E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85F8-210A-4893-A3FE-ED253EB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7AB8-4B50-48A7-9666-DDEA2352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2027-9380-4F04-807D-602214A7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C231-18D3-42AD-B9CF-B6E5FFE0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196-BDAB-45B4-90AF-4D63E964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D7A5-A858-4C31-8360-49BE007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D4DA-1CD6-4ACE-B82F-B1CCD59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76188-A12C-4593-A635-8054BA6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7790-E4E3-4051-A186-34C312B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96AF-9FCE-484C-8BAD-D4E774B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301F-52D8-487F-A4AA-47EA959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3796-1534-4870-A784-F0940495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7237-B40B-49A8-AFB9-44CDECA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5A5FE-8ED7-4F36-A2CE-5277CE6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7FA17-C954-4227-BC4C-33D2B128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3C0-A45E-474A-BBC9-343A7FE0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2E8F5-804C-4370-BDDC-F6FC926B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6CB-4DA0-4956-B46B-8676001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EEC-E146-4A6A-A214-95F97CA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42B-6611-45E2-B2F1-30574A3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E05C-FFAA-4C44-A21C-CCBB5B6CD4B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729-5EE3-47F8-B00F-E2FCCAB6789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4C7-2548-4131-85A4-6BDE581790C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DEC4-5A9D-4114-A998-D8920DC1099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CC75-1ADB-49E6-8168-6C41175A9D6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000240" y="2143080"/>
            <a:ext cx="585792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ил Шолохов. Жизнь и творчество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46814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933 Выходит в свет первая книга романа «Поднятая целина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5" descr="Поднятая целина"/>
          <p:cNvPicPr/>
          <p:nvPr/>
        </p:nvPicPr>
        <p:blipFill>
          <a:blip r:embed="rId1"/>
          <a:stretch/>
        </p:blipFill>
        <p:spPr>
          <a:xfrm>
            <a:off x="611280" y="765000"/>
            <a:ext cx="3582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42920" y="856800"/>
            <a:ext cx="850104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1 Присуждение Государственной премии первой степени за роман «Тихий Дон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1 Шолохов-корреспондент направлен в действующую армию. Полученную Сталинскую премию передаёт в фонд оборон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43-1944 Печатаются главы романа «Они сражались за родину».</a:t>
            </a: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29040" y="2357280"/>
            <a:ext cx="45720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56-1957 Опубликован рассказ «Судьба человека» в газете «Правда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5" descr="Sudba-cheloveka-LWD"/>
          <p:cNvPicPr/>
          <p:nvPr/>
        </p:nvPicPr>
        <p:blipFill>
          <a:blip r:embed="rId1"/>
          <a:stretch/>
        </p:blipFill>
        <p:spPr>
          <a:xfrm>
            <a:off x="285840" y="1857240"/>
            <a:ext cx="27860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44290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0 Присуждена Ленинская премия за роман «Поднятая целина», передана на строительство новой школы в станице Каргинск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5 Присуждена Нобелевская прем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5" descr="Нобелевская премия 1"/>
          <p:cNvPicPr/>
          <p:nvPr/>
        </p:nvPicPr>
        <p:blipFill>
          <a:blip r:embed="rId1"/>
          <a:stretch/>
        </p:blipFill>
        <p:spPr>
          <a:xfrm>
            <a:off x="5214960" y="142920"/>
            <a:ext cx="3733920" cy="2773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Премия"/>
          <p:cNvPicPr/>
          <p:nvPr/>
        </p:nvPicPr>
        <p:blipFill>
          <a:blip r:embed="rId2"/>
          <a:stretch/>
        </p:blipFill>
        <p:spPr>
          <a:xfrm>
            <a:off x="142920" y="3214800"/>
            <a:ext cx="472896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7 Присуждено Звание Героя Социалистического Труд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69 В «Правде» опубликованы новые главы романа «Они сражались за родину». После беседы с Л. И. Брежневым Шолохов сжигает роман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3714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21.02.1984 Смерть писателя. Открытие в станице Вешенской Музея-заповедник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могила"/>
          <p:cNvPicPr/>
          <p:nvPr/>
        </p:nvPicPr>
        <p:blipFill>
          <a:blip r:embed="rId1"/>
          <a:stretch/>
        </p:blipFill>
        <p:spPr>
          <a:xfrm>
            <a:off x="3786120" y="3143160"/>
            <a:ext cx="49690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701640" y="249120"/>
            <a:ext cx="7991640" cy="11779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56760" y="1600200"/>
            <a:ext cx="50007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кадемик АН СССР (1939);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важды Герой Социалистического Труда (1967, 1980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Член  КПСС (1932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Член ЦК КПСС (1961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Лауреат Нобелевской премии (1965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Picture 6" descr="Шолохов1"/>
          <p:cNvPicPr/>
          <p:nvPr/>
        </p:nvPicPr>
        <p:blipFill>
          <a:blip r:embed="rId2"/>
          <a:stretch/>
        </p:blipFill>
        <p:spPr>
          <a:xfrm>
            <a:off x="5506920" y="2643120"/>
            <a:ext cx="29876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57160" y="64260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«Чем же ещё может быть оправдана жизнь и работа каждого из нас, если не доверием народа, не признанием того, что ты отдаёшь народу…, Родине все свои силы и способност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.А. Шолохов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353880" y="249120"/>
            <a:ext cx="8339400" cy="1177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5840" y="1428840"/>
            <a:ext cx="38145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ом, в котором родился Шолох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реди шести материков 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краю, где плещет Дон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тоит на стыке двух век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ломой крытый д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 низко кланяюсь ему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постучав в окн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ругие люди в том дом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вут давным-давно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 та же в окнах синев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так же помнит дом того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то первые слов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десь начинал с труд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5" descr="Дом"/>
          <p:cNvPicPr/>
          <p:nvPr/>
        </p:nvPicPr>
        <p:blipFill>
          <a:blip r:embed="rId2"/>
          <a:stretch/>
        </p:blipFill>
        <p:spPr>
          <a:xfrm>
            <a:off x="5286240" y="1428840"/>
            <a:ext cx="357372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286160" y="14288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 1912 году Миша был принят в мужское приходское училище по второму году обучения.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5" descr="С родителями"/>
          <p:cNvPicPr/>
          <p:nvPr/>
        </p:nvPicPr>
        <p:blipFill>
          <a:blip r:embed="rId1"/>
          <a:stretch/>
        </p:blipFill>
        <p:spPr>
          <a:xfrm>
            <a:off x="890640" y="1214280"/>
            <a:ext cx="248580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57120" y="85716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середине 1920 года Шолохов работал учителем по ликвидации неграмотности среди взрослого нас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конце 1922 года приезжает учиться в Москв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 1923 году в газете «Юношеская правда» публикуется его первый фельетон «Испытание».В следующем году- рассказ «Родинк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13840" y="213840"/>
            <a:ext cx="80629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4  Женитьба на Марии Громославской (1902-1992). Опубликованы рассказы «Продкомиссар» и «Родинка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С женой"/>
          <p:cNvPicPr/>
          <p:nvPr/>
        </p:nvPicPr>
        <p:blipFill>
          <a:blip r:embed="rId1"/>
          <a:stretch/>
        </p:blipFill>
        <p:spPr>
          <a:xfrm>
            <a:off x="2639880" y="1639800"/>
            <a:ext cx="33703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61760" y="1484280"/>
            <a:ext cx="38098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 Массовыми тиражами выходят первые книжки: «Алёшкино сердце», «Нахалёнок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6 Выходят в свет «Донские рассказы» и «Лазоревая степь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3" descr="Нахаленок2"/>
          <p:cNvPicPr/>
          <p:nvPr/>
        </p:nvPicPr>
        <p:blipFill>
          <a:blip r:embed="rId1"/>
          <a:stretch/>
        </p:blipFill>
        <p:spPr>
          <a:xfrm>
            <a:off x="4786200" y="714240"/>
            <a:ext cx="2971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571920" y="213840"/>
            <a:ext cx="46432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6 Начало работы над романом «Тихий Дон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28 Первая публикация «Тихого Дона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1930 Первый художественный фильм по роману «Тихий Дон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5" descr="Тихий дон"/>
          <p:cNvPicPr/>
          <p:nvPr/>
        </p:nvPicPr>
        <p:blipFill>
          <a:blip r:embed="rId1"/>
          <a:stretch/>
        </p:blipFill>
        <p:spPr>
          <a:xfrm>
            <a:off x="357120" y="285840"/>
            <a:ext cx="2816280" cy="3660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Тихий Дон3"/>
          <p:cNvPicPr/>
          <p:nvPr/>
        </p:nvPicPr>
        <p:blipFill>
          <a:blip r:embed="rId2"/>
          <a:stretch/>
        </p:blipFill>
        <p:spPr>
          <a:xfrm>
            <a:off x="4643280" y="2571840"/>
            <a:ext cx="2467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2:19:12Z</dcterms:created>
  <dc:creator>Q W</dc:creator>
  <dc:description/>
  <dc:language>en-US</dc:language>
  <cp:lastModifiedBy>Екатерина</cp:lastModifiedBy>
  <dcterms:modified xsi:type="dcterms:W3CDTF">2013-03-31T19:02:29Z</dcterms:modified>
  <cp:revision>27</cp:revision>
  <dc:subject/>
  <dc:title>Тема урока: «М. А. Шолохов. Жизнь, творчество, личность».</dc:title>
</cp:coreProperties>
</file>