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3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039-B383-4B89-9ED3-D8AA33A0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827-2F7C-4D8A-97DF-7513D43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68E-6999-4B70-B0AC-5FB4B5C2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66D-1CC9-4165-AE06-8A65DC4A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6300-68C1-4C13-97FC-A449FF6E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B9B-1B89-4AB3-8E44-2A1095F8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A8AB-C2F8-422A-BCA7-C1D369D0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F98E-7972-4B2E-A2CC-A7CEA9B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E47-1646-4D88-8356-5C86A70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54D6-839C-4A5A-B7E4-F35672E2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30EF-9D87-42D2-9FAF-C798B53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C17-F169-49A1-9174-0768960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DE5F-50FB-4569-8F2B-80DA47F8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7E91-4E8E-49FF-9B2C-464BB49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EA7-1D81-42D3-813A-B57EBC64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18EF-9E4B-4B93-9D91-2C73CD50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4F11-3A77-4321-832D-D7AC1E8E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80E1-5056-4826-ACCB-E2F9117F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5C23-578B-4504-923D-B66ED7E5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BD264-EB52-49CA-9040-39BE210C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1130-C64B-41D0-9B7A-EAAC37FE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9392-5F45-4F74-84EB-36464548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4E2-8AC9-4C42-B468-DB07E5C0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D1E2-C846-4FF1-8F8A-C980020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A20B-BEA1-4A5F-B9DD-34208C7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FC76-1625-45FE-903D-11EB25A6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3A90-D490-4BBC-A30A-B26D10D0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04A5-9AE9-4AAF-AEA9-F90A1A5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C832-C70C-487C-84B1-F281A412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91669-EEA4-4B6C-B4F2-6F09B121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280E2-3DFA-4486-A037-FE442055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8143-8FF9-49DE-B893-AAA237F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A2B7-8143-45D6-85DE-A78BCAF9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55C-41DB-487F-8468-3E1B503B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BAA6-2CE9-44EB-89BA-45308975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6458-FF1B-488A-A2CE-FC31CB8D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CEE5-B58E-4FC7-90D0-F13F9194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82579-1C07-457E-B9CC-765A320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6367-904D-47F0-A535-7830FC6A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86CDD-6AE2-49F1-9856-FDFF247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D71A-5CFF-4AE3-AA25-38A49790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BD65D-5637-403A-9240-473EE85B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1829-65BD-488A-B658-0AB845CF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7ED70-5B5C-4024-9675-59314A99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29F-A82F-4009-AFC1-4762D8C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BF7E3-9242-4022-8915-783C9965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4D86-EDF0-4E70-A860-09C12E38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E66FF-7D62-4751-949A-F2AB84F2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3151A-CF5C-4088-80E7-A6B0A92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B1AAB-BF61-428D-A58D-B22F2EF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E6D7-FA79-4F55-8DF6-2F293CD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51FDE-B156-4519-933F-C1D4CE7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7DD6-FACD-48C3-BBD2-6675177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3E5C-495D-4D6A-A26F-3252F438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4ADF7-3CD6-4241-A7BC-F0202525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044-F156-4C3F-8C39-1304762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A1E0-C947-43C1-93F2-FFF6FBD1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8AC-ACD5-4DB7-AA90-F3B95B2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374-3269-4517-85F6-84509A3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658-80C3-4A0F-83D2-199F892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E62B-17E1-4255-A8AE-727D4088D58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29C-BC91-427D-AD51-4BC5EBA9F51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DE49-80E2-4353-AB9E-9CA4144833E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923C-468B-4789-808A-04839EB3617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C62F-9113-4404-813C-463E6052EAE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2.wmf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3.wmf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50920" y="206064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(с использованием ИКТ и здоровьесберегающих технологий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ихеева Наталья Николае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          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иколаев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МОУ Бирюченской СОШ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Таловского  райо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Воронежской  обла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                                      </a:t>
            </a:r>
            <a:r>
              <a:rPr b="1" i="1" lang="ru-RU" sz="2800" spc="-1" strike="noStrike">
                <a:solidFill>
                  <a:srgbClr val="0f6fc6"/>
                </a:solidFill>
                <a:latin typeface="Times New Roman"/>
              </a:rPr>
              <a:t>Бирюч 2011-2012 у.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468360" y="333360"/>
            <a:ext cx="8280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математики во 2 классе по тем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Решение задач»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7" name="Picture 2" descr="C:\Users\Helen\Desktop\временная\сказки\the_rolling_bun9.jpg"/>
          <p:cNvPicPr/>
          <p:nvPr/>
        </p:nvPicPr>
        <p:blipFill>
          <a:blip r:embed="rId1"/>
          <a:stretch/>
        </p:blipFill>
        <p:spPr>
          <a:xfrm>
            <a:off x="0" y="3797280"/>
            <a:ext cx="4003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Р. 5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гурцы – 5 шт.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диска -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мидоры – 6 ш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nstantia"/>
                <a:ea typeface="Arial"/>
              </a:rPr>
              <a:t>5+6=11 (р.) пошло на сала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nstantia"/>
                <a:ea typeface="Arial"/>
              </a:rPr>
              <a:t>Ответ: 11 редисок пошло на салат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324000" y="333360"/>
            <a:ext cx="82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  С  УЧЕБНИКОМ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492360" y="2637000"/>
            <a:ext cx="432000" cy="1223640"/>
          </a:xfrm>
          <a:custGeom>
            <a:avLst/>
            <a:gdLst>
              <a:gd name="textAreaLeft" fmla="*/ 0 w 432000"/>
              <a:gd name="textAreaRight" fmla="*/ 155880 w 432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8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4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4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44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Ос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RCTR065"/>
          <p:cNvPicPr/>
          <p:nvPr/>
        </p:nvPicPr>
        <p:blipFill>
          <a:blip r:embed="rId3"/>
          <a:stretch/>
        </p:blipFill>
        <p:spPr>
          <a:xfrm flipH="1">
            <a:off x="179280" y="3284640"/>
            <a:ext cx="3456000" cy="3344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Безымянный"/>
          <p:cNvPicPr/>
          <p:nvPr/>
        </p:nvPicPr>
        <p:blipFill>
          <a:blip r:embed="rId4"/>
          <a:stretch/>
        </p:blipFill>
        <p:spPr>
          <a:xfrm>
            <a:off x="5796000" y="4724280"/>
            <a:ext cx="1876320" cy="1944720"/>
          </a:xfrm>
          <a:prstGeom prst="rect">
            <a:avLst/>
          </a:prstGeom>
          <a:ln w="0">
            <a:noFill/>
          </a:ln>
        </p:spPr>
      </p:pic>
      <p:pic>
        <p:nvPicPr>
          <p:cNvPr id="293" name="музыка 1.wma" descr=""/>
          <p:cNvPicPr/>
          <p:nvPr/>
        </p:nvPicPr>
        <p:blipFill>
          <a:blip r:embed="rId5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. 53 № 2 – самостоятель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ОВЕРК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расные – 7 к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Зеленые -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олубые – 4 к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7 + 4 = 11 (кв.) зеле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твет : 11 зеленых квадратов вырезала Даш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179280" y="18900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бота над пройденным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4067280" y="2852640"/>
            <a:ext cx="288720" cy="1224000"/>
          </a:xfrm>
          <a:custGeom>
            <a:avLst/>
            <a:gdLst>
              <a:gd name="textAreaLeft" fmla="*/ 0 w 288720"/>
              <a:gd name="textAreaRight" fmla="*/ 10404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4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44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8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6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Ос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FOX"/>
          <p:cNvPicPr/>
          <p:nvPr/>
        </p:nvPicPr>
        <p:blipFill>
          <a:blip r:embed="rId3"/>
          <a:stretch/>
        </p:blipFill>
        <p:spPr>
          <a:xfrm>
            <a:off x="324000" y="2637000"/>
            <a:ext cx="4671720" cy="3935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Безымянный"/>
          <p:cNvPicPr/>
          <p:nvPr/>
        </p:nvPicPr>
        <p:blipFill>
          <a:blip r:embed="rId4"/>
          <a:stretch/>
        </p:blipFill>
        <p:spPr>
          <a:xfrm>
            <a:off x="4932360" y="4581360"/>
            <a:ext cx="1876320" cy="1944720"/>
          </a:xfrm>
          <a:prstGeom prst="rect">
            <a:avLst/>
          </a:prstGeom>
          <a:ln w="0">
            <a:noFill/>
          </a:ln>
        </p:spPr>
      </p:pic>
      <p:pic>
        <p:nvPicPr>
          <p:cNvPr id="301" name="музыка 1.wma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258920" y="836640"/>
            <a:ext cx="712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Oval 3"/>
          <p:cNvSpPr/>
          <p:nvPr/>
        </p:nvSpPr>
        <p:spPr>
          <a:xfrm>
            <a:off x="755640" y="1989000"/>
            <a:ext cx="7780320" cy="4392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1187280" y="2349360"/>
            <a:ext cx="6917040" cy="3649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643280" y="2997360"/>
            <a:ext cx="3198960" cy="230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1459080" y="3032280"/>
            <a:ext cx="3112920" cy="2306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 flipV="1">
            <a:off x="4643280" y="1988640"/>
            <a:ext cx="0" cy="4535640"/>
          </a:xfrm>
          <a:prstGeom prst="line">
            <a:avLst/>
          </a:prstGeom>
          <a:ln w="57240">
            <a:solidFill>
              <a:srgbClr val="0007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684360" y="4149720"/>
            <a:ext cx="7991280" cy="71280"/>
          </a:xfrm>
          <a:prstGeom prst="line">
            <a:avLst/>
          </a:prstGeom>
          <a:ln w="57240">
            <a:solidFill>
              <a:srgbClr val="0007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4932360" y="2133720"/>
            <a:ext cx="792000" cy="71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"/>
          <p:cNvSpPr/>
          <p:nvPr/>
        </p:nvSpPr>
        <p:spPr>
          <a:xfrm flipH="1">
            <a:off x="3419280" y="2492280"/>
            <a:ext cx="865080" cy="14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"/>
          <p:cNvSpPr/>
          <p:nvPr/>
        </p:nvSpPr>
        <p:spPr>
          <a:xfrm flipV="1">
            <a:off x="5364000" y="3141360"/>
            <a:ext cx="57636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2"/>
          <p:cNvSpPr/>
          <p:nvPr/>
        </p:nvSpPr>
        <p:spPr>
          <a:xfrm flipH="1" flipV="1">
            <a:off x="3132000" y="3141720"/>
            <a:ext cx="93528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859280" y="2637000"/>
            <a:ext cx="0" cy="504720"/>
          </a:xfrm>
          <a:prstGeom prst="line">
            <a:avLst/>
          </a:prstGeom>
          <a:ln w="38160">
            <a:solidFill>
              <a:srgbClr val="0007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>
            <a:off x="2916360" y="4005360"/>
            <a:ext cx="1295280" cy="0"/>
          </a:xfrm>
          <a:prstGeom prst="line">
            <a:avLst/>
          </a:prstGeom>
          <a:ln w="38160">
            <a:solidFill>
              <a:srgbClr val="0007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796000" y="21337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3905280" y="2487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86360" y="2630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70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354456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70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.53 № 3 – работа в групп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ПРОВЕРКА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1 груп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Липки – 30 ш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Дубки - ? на 10 шт.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б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30 +10 = 40 (д.) посадил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твет: 40 дубков посадил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2 групп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Липки – 30 ш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Дубки - ? на 10 шт.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nstantia"/>
              </a:rPr>
              <a:t>б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1)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30 +10 = 40 (д.) посадил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) </a:t>
            </a: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30 +40 = 70 (д.) все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Ответ: 70 деревьев всег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611280" y="5445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, с 53 – самостоятельно с взаимопроверк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372360" y="1268280"/>
            <a:ext cx="504720" cy="1800360"/>
          </a:xfrm>
          <a:custGeom>
            <a:avLst/>
            <a:gdLst>
              <a:gd name="textAreaLeft" fmla="*/ 0 w 504720"/>
              <a:gd name="textAreaRight" fmla="*/ 18216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500"/>
                            </p:stCondLst>
                            <p:childTnLst>
                              <p:par>
                                <p:cTn id="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468360" y="260280"/>
            <a:ext cx="82296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WordArt 5"/>
          <p:cNvSpPr txBox="1"/>
          <p:nvPr/>
        </p:nvSpPr>
        <p:spPr>
          <a:xfrm>
            <a:off x="826920" y="1773360"/>
            <a:ext cx="7705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   занимались   на   уроке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му   учились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Безымянный"/>
          <p:cNvPicPr/>
          <p:nvPr/>
        </p:nvPicPr>
        <p:blipFill>
          <a:blip r:embed="rId1"/>
          <a:stretch/>
        </p:blipFill>
        <p:spPr>
          <a:xfrm>
            <a:off x="3564000" y="3429000"/>
            <a:ext cx="2238480" cy="2476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колобок2"/>
          <p:cNvPicPr/>
          <p:nvPr/>
        </p:nvPicPr>
        <p:blipFill>
          <a:blip r:embed="rId2"/>
          <a:stretch/>
        </p:blipFill>
        <p:spPr>
          <a:xfrm>
            <a:off x="324000" y="3284640"/>
            <a:ext cx="3187440" cy="4303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3"/>
          <a:stretch/>
        </p:blipFill>
        <p:spPr>
          <a:xfrm>
            <a:off x="5942160" y="3357720"/>
            <a:ext cx="3201840" cy="43210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5"/>
          <p:cNvSpPr/>
          <p:nvPr/>
        </p:nvSpPr>
        <p:spPr>
          <a:xfrm>
            <a:off x="611280" y="18900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Times New Roman"/>
              </a:rPr>
              <a:t>Вам понравился урок?</a:t>
            </a:r>
            <a:br>
              <a:rPr sz="3600"/>
            </a:br>
            <a:r>
              <a:rPr b="1" i="1" lang="ru-RU" sz="3600" spc="-1" strike="noStrike">
                <a:solidFill>
                  <a:srgbClr val="66ff33"/>
                </a:solidFill>
                <a:latin typeface="Times New Roman"/>
              </a:rPr>
              <a:t> Что больше всего понравилось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Times New Roman"/>
              </a:rPr>
              <a:t>Какой бы вы подобрали смайлик к нашему уро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Индивидуально каждому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( задача записана на   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обратной стороне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колобка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187280" y="907920"/>
            <a:ext cx="720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 на д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1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3645000"/>
            <a:ext cx="2238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4"/>
          <p:cNvSpPr txBox="1"/>
          <p:nvPr/>
        </p:nvSpPr>
        <p:spPr>
          <a:xfrm>
            <a:off x="61128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 УРОК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971640" y="1773360"/>
            <a:ext cx="705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ЕШЕНИЕ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"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Picture 8" descr="BBERASER"/>
          <p:cNvPicPr/>
          <p:nvPr/>
        </p:nvPicPr>
        <p:blipFill>
          <a:blip r:embed="rId3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10920" y="1655280"/>
            <a:ext cx="76928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1.ОБРАЗОВ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ься решать задач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2. РАЗВИВАЮЩ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 мысли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творческих способностей уч-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речи, внимания, памяти, познавательных интерес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умения давать полный и правильный ответ на поставленный вопро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nstantia"/>
              </a:rPr>
              <a:t>3. ВОСПИТАТЕЛЬНА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ление связи с жизненным опытом уч-с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ание интереса к урокам математи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1116000" y="476280"/>
            <a:ext cx="2879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:</a:t>
            </a:r>
            <a:endParaRPr b="1" lang="en-US" sz="1800" spc="1" strike="noStrike">
              <a:ln cap="rnd" w="1908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4" descr="STUDENT1"/>
          <p:cNvPicPr/>
          <p:nvPr/>
        </p:nvPicPr>
        <p:blipFill>
          <a:blip r:embed="rId1"/>
          <a:stretch/>
        </p:blipFill>
        <p:spPr>
          <a:xfrm flipH="1">
            <a:off x="6227280" y="189000"/>
            <a:ext cx="25923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6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64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4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88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96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24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96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6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5986440" cy="1252440"/>
        </p:xfrm>
        <a:graphic>
          <a:graphicData uri="http://schemas.openxmlformats.org/drawingml/2006/table">
            <a:tbl>
              <a:tblPr/>
              <a:tblGrid>
                <a:gridCol w="2419200"/>
                <a:gridCol w="779760"/>
                <a:gridCol w="2085840"/>
                <a:gridCol w="701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- 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- 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- 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+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39640" y="3429000"/>
          <a:ext cx="8136000" cy="2232000"/>
        </p:xfrm>
        <a:graphic>
          <a:graphicData uri="http://schemas.openxmlformats.org/drawingml/2006/table">
            <a:tbl>
              <a:tblPr/>
              <a:tblGrid>
                <a:gridCol w="1162080"/>
                <a:gridCol w="1163880"/>
                <a:gridCol w="1161720"/>
                <a:gridCol w="1160640"/>
                <a:gridCol w="1162080"/>
                <a:gridCol w="1163520"/>
                <a:gridCol w="1162080"/>
              </a:tblGrid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WordArt 4"/>
          <p:cNvSpPr txBox="1"/>
          <p:nvPr/>
        </p:nvSpPr>
        <p:spPr>
          <a:xfrm>
            <a:off x="900000" y="333360"/>
            <a:ext cx="755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сшифруйте название сказк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8" name="Picture 97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457200" y="277920"/>
          <a:ext cx="8218440" cy="2863800"/>
        </p:xfrm>
        <a:graphic>
          <a:graphicData uri="http://schemas.openxmlformats.org/drawingml/2006/table">
            <a:tbl>
              <a:tblPr/>
              <a:tblGrid>
                <a:gridCol w="1173240"/>
                <a:gridCol w="1176120"/>
                <a:gridCol w="1173240"/>
                <a:gridCol w="1173240"/>
                <a:gridCol w="1173240"/>
                <a:gridCol w="1176120"/>
                <a:gridCol w="1173240"/>
              </a:tblGrid>
              <a:tr h="15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Л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4" descr="Безымянный"/>
          <p:cNvPicPr/>
          <p:nvPr/>
        </p:nvPicPr>
        <p:blipFill>
          <a:blip r:embed="rId1"/>
          <a:stretch/>
        </p:blipFill>
        <p:spPr>
          <a:xfrm>
            <a:off x="6099120" y="3357720"/>
            <a:ext cx="3044880" cy="3268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2" descr="pe01821_"/>
          <p:cNvPicPr/>
          <p:nvPr/>
        </p:nvPicPr>
        <p:blipFill>
          <a:blip r:embed="rId2"/>
          <a:stretch/>
        </p:blipFill>
        <p:spPr>
          <a:xfrm flipH="1">
            <a:off x="178920" y="2781360"/>
            <a:ext cx="36291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LANDS121"/>
          <p:cNvPicPr/>
          <p:nvPr/>
        </p:nvPicPr>
        <p:blipFill>
          <a:blip r:embed="rId1"/>
          <a:stretch/>
        </p:blipFill>
        <p:spPr>
          <a:xfrm>
            <a:off x="0" y="-281160"/>
            <a:ext cx="9434520" cy="7139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UPER006"/>
          <p:cNvPicPr/>
          <p:nvPr/>
        </p:nvPicPr>
        <p:blipFill>
          <a:blip r:embed="rId2"/>
          <a:stretch/>
        </p:blipFill>
        <p:spPr>
          <a:xfrm>
            <a:off x="1908000" y="4437000"/>
            <a:ext cx="1271880" cy="194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LANDS055"/>
          <p:cNvPicPr/>
          <p:nvPr/>
        </p:nvPicPr>
        <p:blipFill>
          <a:blip r:embed="rId3"/>
          <a:stretch/>
        </p:blipFill>
        <p:spPr>
          <a:xfrm>
            <a:off x="8228160" y="5883120"/>
            <a:ext cx="915840" cy="974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OLDMAN"/>
          <p:cNvPicPr/>
          <p:nvPr/>
        </p:nvPicPr>
        <p:blipFill>
          <a:blip r:embed="rId4"/>
          <a:stretch/>
        </p:blipFill>
        <p:spPr>
          <a:xfrm>
            <a:off x="6997680" y="4076640"/>
            <a:ext cx="1122480" cy="201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ASTRN2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48"/>
          <p:cNvSpPr/>
          <p:nvPr/>
        </p:nvSpPr>
        <p:spPr>
          <a:xfrm>
            <a:off x="3132000" y="1700280"/>
            <a:ext cx="2519640" cy="23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Осень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RABBIT1"/>
          <p:cNvPicPr/>
          <p:nvPr/>
        </p:nvPicPr>
        <p:blipFill>
          <a:blip r:embed="rId3"/>
          <a:stretch/>
        </p:blipFill>
        <p:spPr>
          <a:xfrm flipH="1">
            <a:off x="250920" y="2997360"/>
            <a:ext cx="2665440" cy="352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0" descr="Безымянный"/>
          <p:cNvPicPr/>
          <p:nvPr/>
        </p:nvPicPr>
        <p:blipFill>
          <a:blip r:embed="rId4"/>
          <a:stretch/>
        </p:blipFill>
        <p:spPr>
          <a:xfrm>
            <a:off x="4280040" y="4292640"/>
            <a:ext cx="1876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60 + 10          50 + 50       12 + 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00 - 30         80 - 20         13 + 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Задач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кувшине было 12 стаканов молока. На кашу пошло 2 стакана молока и 1 стакан на омлет. Сколько стаканов молока оста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Танг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ставьте фигуру по образц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индивидуально каждый на парт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WordArt 6"/>
          <p:cNvSpPr txBox="1"/>
          <p:nvPr/>
        </p:nvSpPr>
        <p:spPr>
          <a:xfrm>
            <a:off x="32400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НЫЙ  СЧЕТ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AutoShape 36"/>
          <p:cNvSpPr/>
          <p:nvPr/>
        </p:nvSpPr>
        <p:spPr>
          <a:xfrm rot="16200000">
            <a:off x="7164360" y="4291920"/>
            <a:ext cx="571320" cy="57168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7"/>
          <p:cNvSpPr/>
          <p:nvPr/>
        </p:nvSpPr>
        <p:spPr>
          <a:xfrm rot="10800000">
            <a:off x="7164360" y="5547960"/>
            <a:ext cx="571680" cy="57132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8"/>
          <p:cNvSpPr/>
          <p:nvPr/>
        </p:nvSpPr>
        <p:spPr>
          <a:xfrm rot="18867600">
            <a:off x="7278480" y="4838400"/>
            <a:ext cx="457200" cy="45720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9"/>
          <p:cNvSpPr/>
          <p:nvPr/>
        </p:nvSpPr>
        <p:spPr>
          <a:xfrm rot="8240400">
            <a:off x="6829560" y="5202000"/>
            <a:ext cx="457200" cy="43344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0"/>
          <p:cNvSpPr/>
          <p:nvPr/>
        </p:nvSpPr>
        <p:spPr>
          <a:xfrm rot="16200000">
            <a:off x="7621560" y="4863960"/>
            <a:ext cx="571680" cy="571680"/>
          </a:xfrm>
          <a:prstGeom prst="rtTriangl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 rot="2745000">
            <a:off x="8203680" y="4862520"/>
            <a:ext cx="666720" cy="669960"/>
          </a:xfrm>
          <a:prstGeom prst="diamond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5549760" y="5067360"/>
            <a:ext cx="1330560" cy="339840"/>
          </a:xfrm>
          <a:prstGeom prst="parallelogram">
            <a:avLst>
              <a:gd name="adj" fmla="val 9788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07_M Legran.mp3" descr=""/>
          <p:cNvPicPr/>
          <p:nvPr/>
        </p:nvPicPr>
        <p:blipFill>
          <a:blip r:embed="rId1"/>
          <a:stretch/>
        </p:blipFill>
        <p:spPr>
          <a:xfrm>
            <a:off x="90000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Осен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WOLF"/>
          <p:cNvPicPr/>
          <p:nvPr/>
        </p:nvPicPr>
        <p:blipFill>
          <a:blip r:embed="rId3"/>
          <a:stretch/>
        </p:blipFill>
        <p:spPr>
          <a:xfrm flipH="1">
            <a:off x="0" y="2897280"/>
            <a:ext cx="3648240" cy="396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Безымянный"/>
          <p:cNvPicPr/>
          <p:nvPr/>
        </p:nvPicPr>
        <p:blipFill>
          <a:blip r:embed="rId4"/>
          <a:stretch/>
        </p:blipFill>
        <p:spPr>
          <a:xfrm>
            <a:off x="5364000" y="4581360"/>
            <a:ext cx="1876680" cy="1944720"/>
          </a:xfrm>
          <a:prstGeom prst="rect">
            <a:avLst/>
          </a:prstGeom>
          <a:ln w="0">
            <a:noFill/>
          </a:ln>
        </p:spPr>
      </p:pic>
      <p:pic>
        <p:nvPicPr>
          <p:cNvPr id="285" name="музыка 1.wma" descr=""/>
          <p:cNvPicPr/>
          <p:nvPr/>
        </p:nvPicPr>
        <p:blipFill>
          <a:blip r:embed="rId5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8:19:21Z</dcterms:created>
  <dc:creator>admin</dc:creator>
  <dc:description/>
  <dc:language>en-US</dc:language>
  <cp:lastModifiedBy>н</cp:lastModifiedBy>
  <dcterms:modified xsi:type="dcterms:W3CDTF">2013-03-31T11:58:12Z</dcterms:modified>
  <cp:revision>98</cp:revision>
  <dc:subject/>
  <dc:title>Слайд 1</dc:title>
</cp:coreProperties>
</file>