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3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C06-736B-420A-A873-691A799C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DED-0F7D-45AB-AA5D-E0C2B1C0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166-7057-4626-A2A6-806A1B27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78D3-0121-4A37-B018-515DDF33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3A10-6432-4DA5-9CC3-1E0CB3EB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7A8C-DA5A-4D66-8DF6-913F9088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947A-2473-4753-9666-F17A31B4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4867-73E0-46DB-BBE1-79237C21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54B7-BE0B-46EF-8324-4B18E979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A69A-1E71-409F-ADE0-B83DA4EC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B1AA-FF2D-4623-ABF7-7ADDF20F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ED6-0E5A-44FA-8214-8C94BCF3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2E10-FFEA-4442-B3D2-2455461F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60CA-49CF-4C49-86D5-793EFC9F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B429-8DC3-422E-850E-305C53E6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A8F0-FFFC-44D9-B74B-E329B956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ADD1-64CB-4B44-A277-FAC18A87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A0EAE-F13E-4AD9-A292-50701A99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34D7-7AE8-4BA1-8636-E1E16FBE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CCD48-E65F-47D5-BDB9-79682F3A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537E-5D78-4139-B3BB-1FA77BFE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382F-5724-4A6A-B4EC-804BCD81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ED3-907B-4027-A26F-B974BA2E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559B-CABC-48ED-A2C9-A6799B8E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6D10-8D89-4FFD-864D-B7570BFD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CD85-4D7F-4C8E-9A79-35E93A71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1E47-5C6D-4A17-A66D-59D31F20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F53F-B4F4-4799-B36E-D4FD562E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6412F-2071-441F-A3BD-56C97F5F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559A-2946-413E-B712-FEBFAB5D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25094-D5DD-42FC-B6CB-C61CBBDC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8D2D2-49A0-4620-8EA6-8829F265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39F2-2F22-408B-AADA-10DA0B62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E60-0DA4-4B41-917F-40F8DC87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E7DE2-4EB2-463B-BFAB-431DE819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655C3-80D2-4F8E-8124-1744FD5A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B4F2-AAA4-429A-A026-FC063D5B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9F03-920B-45EF-8316-08A64CC8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3C78-CF08-4223-87DB-86768CE5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5770F-6406-4CDD-8B93-CF9B7405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5201C-6DBC-42F8-B8D5-9815ECEB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6D93B-64B6-49DA-8996-CDCBC3F6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A1859-6B0F-4AAF-A85D-E20EB456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91817-78EB-4542-9AA0-4902E621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AA8-E2E8-4D63-8A44-0BE6EADC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A029A-6CFF-47FD-AE25-CDC9C27D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B05DA-51DC-41EB-A0F7-45B6D574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B7BA7-E55A-4A84-88C0-161CCB66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116DA-C72D-4A28-84AD-E4F77E1C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483D2-1691-4A8A-961E-CC8F0876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F89A4-1517-4730-BB73-0C01F5E4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4842E-CA7E-4736-8763-62EBED34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FBF86-1794-4C32-B891-4D70C78B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C5AD0-E944-4F2D-8EBC-DCD86A03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2A789-7732-4BFF-8159-DF570AD0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A24-BFD0-406D-A5D5-C4D4778F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8C251-991C-4DCB-97F0-EA079EE3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981-F6F1-4E94-BCB8-E6F858D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597-7C06-43C2-A645-A148FB10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97E-6BD3-4BC9-BAF3-94F1DD20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D5E1-4EFD-4873-8FB9-9F762EFF264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E4BA-259F-4E8F-823E-C77827BCD73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58A6-B3F2-4E14-A9FF-24F57D3B860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BAD0-1DF5-4DBD-A426-D4D60C8F747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9F7C-7A2E-4A20-905E-055313984DD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2.wmf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3.wmf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0920" y="206064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(с использованием ИКТ и здоровьесберегающих технологий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ихеева Наталья Николае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   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Николаевн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МОУ Бирюченской СОШ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Таловского  райо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Воронежской  обла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                                      </a:t>
            </a: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Бирюч 2011-2012 у.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WordArt 4"/>
          <p:cNvSpPr txBox="1"/>
          <p:nvPr/>
        </p:nvSpPr>
        <p:spPr>
          <a:xfrm>
            <a:off x="468360" y="333360"/>
            <a:ext cx="82803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математики во 2 классе по тем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Решение задач»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7" name="Picture 2" descr="C:\Users\Helen\Desktop\временная\сказки\the_rolling_bun9.jpg"/>
          <p:cNvPicPr/>
          <p:nvPr/>
        </p:nvPicPr>
        <p:blipFill>
          <a:blip r:embed="rId1"/>
          <a:stretch/>
        </p:blipFill>
        <p:spPr>
          <a:xfrm>
            <a:off x="0" y="3797280"/>
            <a:ext cx="40035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Р. 53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гурцы – 5 шт.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едиска -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мидоры – 6 ш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nstantia"/>
                <a:ea typeface="Arial"/>
              </a:rPr>
              <a:t>5+6=11 (р.) пошло на сала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nstantia"/>
                <a:ea typeface="Arial"/>
              </a:rPr>
              <a:t>Ответ: 11 редисок пошло на сала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WordArt 4"/>
          <p:cNvSpPr txBox="1"/>
          <p:nvPr/>
        </p:nvSpPr>
        <p:spPr>
          <a:xfrm>
            <a:off x="324000" y="333360"/>
            <a:ext cx="82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А  С  УЧЕБНИКОМ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492360" y="2637000"/>
            <a:ext cx="432000" cy="1223640"/>
          </a:xfrm>
          <a:custGeom>
            <a:avLst/>
            <a:gdLst>
              <a:gd name="textAreaLeft" fmla="*/ 0 w 432000"/>
              <a:gd name="textAreaRight" fmla="*/ 155880 w 43200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8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4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4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44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07_M Legran.mp3" descr=""/>
          <p:cNvPicPr/>
          <p:nvPr/>
        </p:nvPicPr>
        <p:blipFill>
          <a:blip r:embed="rId1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Осен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CRCTR065"/>
          <p:cNvPicPr/>
          <p:nvPr/>
        </p:nvPicPr>
        <p:blipFill>
          <a:blip r:embed="rId3"/>
          <a:stretch/>
        </p:blipFill>
        <p:spPr>
          <a:xfrm flipH="1">
            <a:off x="179280" y="3284640"/>
            <a:ext cx="3456000" cy="3344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Безымянный"/>
          <p:cNvPicPr/>
          <p:nvPr/>
        </p:nvPicPr>
        <p:blipFill>
          <a:blip r:embed="rId4"/>
          <a:stretch/>
        </p:blipFill>
        <p:spPr>
          <a:xfrm>
            <a:off x="5796000" y="4724280"/>
            <a:ext cx="1876320" cy="1944720"/>
          </a:xfrm>
          <a:prstGeom prst="rect">
            <a:avLst/>
          </a:prstGeom>
          <a:ln w="0">
            <a:noFill/>
          </a:ln>
        </p:spPr>
      </p:pic>
      <p:pic>
        <p:nvPicPr>
          <p:cNvPr id="293" name="музыка 1.wma" descr=""/>
          <p:cNvPicPr/>
          <p:nvPr/>
        </p:nvPicPr>
        <p:blipFill>
          <a:blip r:embed="rId5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 53 № 2 – самостоятель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ОВЕРК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расные – 7 к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Зеленые -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олубые – 4 к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7 + 4 = 11 (кв.) зелен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Ответ : 11 зеленых квадратов вырезала Даш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WordArt 5"/>
          <p:cNvSpPr txBox="1"/>
          <p:nvPr/>
        </p:nvSpPr>
        <p:spPr>
          <a:xfrm>
            <a:off x="179280" y="189000"/>
            <a:ext cx="828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а над пройденным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4067280" y="2852640"/>
            <a:ext cx="288720" cy="1224000"/>
          </a:xfrm>
          <a:custGeom>
            <a:avLst/>
            <a:gdLst>
              <a:gd name="textAreaLeft" fmla="*/ 0 w 288720"/>
              <a:gd name="textAreaRight" fmla="*/ 10404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2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4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44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84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64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07_M Legran.mp3" descr=""/>
          <p:cNvPicPr/>
          <p:nvPr/>
        </p:nvPicPr>
        <p:blipFill>
          <a:blip r:embed="rId1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Осен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FOX"/>
          <p:cNvPicPr/>
          <p:nvPr/>
        </p:nvPicPr>
        <p:blipFill>
          <a:blip r:embed="rId3"/>
          <a:stretch/>
        </p:blipFill>
        <p:spPr>
          <a:xfrm>
            <a:off x="324000" y="2637000"/>
            <a:ext cx="4671720" cy="3935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Безымянный"/>
          <p:cNvPicPr/>
          <p:nvPr/>
        </p:nvPicPr>
        <p:blipFill>
          <a:blip r:embed="rId4"/>
          <a:stretch/>
        </p:blipFill>
        <p:spPr>
          <a:xfrm>
            <a:off x="4932360" y="4581360"/>
            <a:ext cx="1876320" cy="1944720"/>
          </a:xfrm>
          <a:prstGeom prst="rect">
            <a:avLst/>
          </a:prstGeom>
          <a:ln w="0">
            <a:noFill/>
          </a:ln>
        </p:spPr>
      </p:pic>
      <p:pic>
        <p:nvPicPr>
          <p:cNvPr id="301" name="музыка 1.wma" descr=""/>
          <p:cNvPicPr/>
          <p:nvPr/>
        </p:nvPicPr>
        <p:blipFill>
          <a:blip r:embed="rId5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2"/>
          <p:cNvSpPr txBox="1"/>
          <p:nvPr/>
        </p:nvSpPr>
        <p:spPr>
          <a:xfrm>
            <a:off x="1258920" y="836640"/>
            <a:ext cx="712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Oval 3"/>
          <p:cNvSpPr/>
          <p:nvPr/>
        </p:nvSpPr>
        <p:spPr>
          <a:xfrm>
            <a:off x="755640" y="1989000"/>
            <a:ext cx="7780320" cy="4392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"/>
          <p:cNvSpPr/>
          <p:nvPr/>
        </p:nvSpPr>
        <p:spPr>
          <a:xfrm>
            <a:off x="1187280" y="2349360"/>
            <a:ext cx="6917040" cy="36496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4643280" y="2997360"/>
            <a:ext cx="3198960" cy="2306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1459080" y="3032280"/>
            <a:ext cx="3112920" cy="2306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7"/>
          <p:cNvSpPr/>
          <p:nvPr/>
        </p:nvSpPr>
        <p:spPr>
          <a:xfrm flipV="1">
            <a:off x="4643280" y="1988640"/>
            <a:ext cx="0" cy="4535640"/>
          </a:xfrm>
          <a:prstGeom prst="line">
            <a:avLst/>
          </a:prstGeom>
          <a:ln w="57240">
            <a:solidFill>
              <a:srgbClr val="0007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>
            <a:off x="684360" y="4149720"/>
            <a:ext cx="7991280" cy="71280"/>
          </a:xfrm>
          <a:prstGeom prst="line">
            <a:avLst/>
          </a:prstGeom>
          <a:ln w="57240">
            <a:solidFill>
              <a:srgbClr val="0007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4932360" y="2133720"/>
            <a:ext cx="792000" cy="71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0"/>
          <p:cNvSpPr/>
          <p:nvPr/>
        </p:nvSpPr>
        <p:spPr>
          <a:xfrm flipH="1">
            <a:off x="3419280" y="2492280"/>
            <a:ext cx="865080" cy="14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1"/>
          <p:cNvSpPr/>
          <p:nvPr/>
        </p:nvSpPr>
        <p:spPr>
          <a:xfrm flipV="1">
            <a:off x="5364000" y="3141360"/>
            <a:ext cx="57636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2"/>
          <p:cNvSpPr/>
          <p:nvPr/>
        </p:nvSpPr>
        <p:spPr>
          <a:xfrm flipH="1" flipV="1">
            <a:off x="3132000" y="3141720"/>
            <a:ext cx="935280" cy="2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V="1">
            <a:off x="4859280" y="2637000"/>
            <a:ext cx="0" cy="504720"/>
          </a:xfrm>
          <a:prstGeom prst="line">
            <a:avLst/>
          </a:prstGeom>
          <a:ln w="38160">
            <a:solidFill>
              <a:srgbClr val="0007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2916360" y="4005360"/>
            <a:ext cx="1295280" cy="0"/>
          </a:xfrm>
          <a:prstGeom prst="line">
            <a:avLst/>
          </a:prstGeom>
          <a:ln w="38160">
            <a:solidFill>
              <a:srgbClr val="0007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5796000" y="213372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3905280" y="248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4986360" y="2630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70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3544560" y="3567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70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3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.53 № 3 – работа в груп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ПРОВЕРКА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1 груп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Липки – 30 ш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Дубки - ? на 10 шт.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б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30 +10 = 40 (д.) посадил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Ответ: 40 дубков посадил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2 групп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Липки – 30 ш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           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Дубки - ? на 10 шт.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б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30 +10 = 40 (д.) посадил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2) 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30 +40 = 70 (д.) все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Ответ: 70 деревьев все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611280" y="544500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, с 53 – самостоятельно с взаимопровер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372360" y="1268280"/>
            <a:ext cx="504720" cy="1800360"/>
          </a:xfrm>
          <a:custGeom>
            <a:avLst/>
            <a:gdLst>
              <a:gd name="textAreaLeft" fmla="*/ 0 w 504720"/>
              <a:gd name="textAreaRight" fmla="*/ 182160 w 504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468360" y="260280"/>
            <a:ext cx="82296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5"/>
          <p:cNvSpPr txBox="1"/>
          <p:nvPr/>
        </p:nvSpPr>
        <p:spPr>
          <a:xfrm>
            <a:off x="826920" y="1773360"/>
            <a:ext cx="7705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м   занимались   на   уроке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му   учились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Безымянный"/>
          <p:cNvPicPr/>
          <p:nvPr/>
        </p:nvPicPr>
        <p:blipFill>
          <a:blip r:embed="rId1"/>
          <a:stretch/>
        </p:blipFill>
        <p:spPr>
          <a:xfrm>
            <a:off x="3564000" y="3429000"/>
            <a:ext cx="2238480" cy="2476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колобок2"/>
          <p:cNvPicPr/>
          <p:nvPr/>
        </p:nvPicPr>
        <p:blipFill>
          <a:blip r:embed="rId2"/>
          <a:stretch/>
        </p:blipFill>
        <p:spPr>
          <a:xfrm>
            <a:off x="324000" y="3284640"/>
            <a:ext cx="3187440" cy="4303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3"/>
          <a:stretch/>
        </p:blipFill>
        <p:spPr>
          <a:xfrm>
            <a:off x="5942160" y="3357720"/>
            <a:ext cx="3201840" cy="4321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15"/>
          <p:cNvSpPr/>
          <p:nvPr/>
        </p:nvSpPr>
        <p:spPr>
          <a:xfrm>
            <a:off x="611280" y="18900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33"/>
                </a:solidFill>
                <a:latin typeface="Times New Roman"/>
              </a:rPr>
              <a:t>Вам понравился урок?</a:t>
            </a:r>
            <a:br>
              <a:rPr sz="3600"/>
            </a:br>
            <a:r>
              <a:rPr b="1" i="1" lang="ru-RU" sz="3600" spc="-1" strike="noStrike">
                <a:solidFill>
                  <a:srgbClr val="66ff33"/>
                </a:solidFill>
                <a:latin typeface="Times New Roman"/>
              </a:rPr>
              <a:t> Что больше всего понравилось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33"/>
                </a:solidFill>
                <a:latin typeface="Times New Roman"/>
              </a:rPr>
              <a:t>Какой бы вы подобрали смайлик к нашему уро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Индивидуально каждому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( задача записана на  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обратной стороне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колобка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WordArt 3"/>
          <p:cNvSpPr txBox="1"/>
          <p:nvPr/>
        </p:nvSpPr>
        <p:spPr>
          <a:xfrm>
            <a:off x="1187280" y="907920"/>
            <a:ext cx="720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  на д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1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3645000"/>
            <a:ext cx="2238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4"/>
          <p:cNvSpPr txBox="1"/>
          <p:nvPr/>
        </p:nvSpPr>
        <p:spPr>
          <a:xfrm>
            <a:off x="611280" y="620640"/>
            <a:ext cx="482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 УРОКА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971640" y="1773360"/>
            <a:ext cx="70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РЕШЕНИЕ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"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Picture 8" descr="BBERASER"/>
          <p:cNvPicPr/>
          <p:nvPr/>
        </p:nvPicPr>
        <p:blipFill>
          <a:blip r:embed="rId3"/>
          <a:stretch/>
        </p:blipFill>
        <p:spPr>
          <a:xfrm>
            <a:off x="6230880" y="4405320"/>
            <a:ext cx="29131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10920" y="1655280"/>
            <a:ext cx="769284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nstantia"/>
              </a:rPr>
              <a:t>1.ОБРАЗОВАТЕЛЬН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иться решать задач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nstantia"/>
              </a:rPr>
              <a:t>2. РАЗВИВАЮЩ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 мысли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творческих способностей уч-с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речи, внимания, памяти, познавательных интерес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умения давать полный и правильный ответ на поставленный вопро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nstantia"/>
              </a:rPr>
              <a:t>3. ВОСПИТАТЕЛЬН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уществление связи с жизненным опытом уч-с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итание интереса к урокам математи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WordArt 3"/>
          <p:cNvSpPr txBox="1"/>
          <p:nvPr/>
        </p:nvSpPr>
        <p:spPr>
          <a:xfrm>
            <a:off x="1116000" y="476280"/>
            <a:ext cx="2879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1908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:</a:t>
            </a:r>
            <a:endParaRPr b="1" lang="en-US" sz="1800" spc="1" strike="noStrike">
              <a:ln cap="rnd" w="1908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Picture 4" descr="STUDENT1"/>
          <p:cNvPicPr/>
          <p:nvPr/>
        </p:nvPicPr>
        <p:blipFill>
          <a:blip r:embed="rId1"/>
          <a:stretch/>
        </p:blipFill>
        <p:spPr>
          <a:xfrm flipH="1">
            <a:off x="6227280" y="189000"/>
            <a:ext cx="25923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76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64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24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88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96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24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96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6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600200"/>
          <a:ext cx="5986440" cy="1252440"/>
        </p:xfrm>
        <a:graphic>
          <a:graphicData uri="http://schemas.openxmlformats.org/drawingml/2006/table">
            <a:tbl>
              <a:tblPr/>
              <a:tblGrid>
                <a:gridCol w="2419200"/>
                <a:gridCol w="779760"/>
                <a:gridCol w="2085840"/>
                <a:gridCol w="70164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- 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- 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- 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+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39640" y="3429000"/>
          <a:ext cx="8136000" cy="2232000"/>
        </p:xfrm>
        <a:graphic>
          <a:graphicData uri="http://schemas.openxmlformats.org/drawingml/2006/table">
            <a:tbl>
              <a:tblPr/>
              <a:tblGrid>
                <a:gridCol w="1162080"/>
                <a:gridCol w="1163880"/>
                <a:gridCol w="1161720"/>
                <a:gridCol w="1160640"/>
                <a:gridCol w="1162080"/>
                <a:gridCol w="1163520"/>
                <a:gridCol w="1162080"/>
              </a:tblGrid>
              <a:tr h="11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WordArt 4"/>
          <p:cNvSpPr txBox="1"/>
          <p:nvPr/>
        </p:nvSpPr>
        <p:spPr>
          <a:xfrm>
            <a:off x="900000" y="333360"/>
            <a:ext cx="755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сшифруйте название сказк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8" name="Picture 97" descr="bd07223_"/>
          <p:cNvPicPr/>
          <p:nvPr/>
        </p:nvPicPr>
        <p:blipFill>
          <a:blip r:embed="rId1"/>
          <a:stretch/>
        </p:blipFill>
        <p:spPr>
          <a:xfrm>
            <a:off x="7020000" y="1389240"/>
            <a:ext cx="1944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57200" y="277920"/>
          <a:ext cx="8218440" cy="2863800"/>
        </p:xfrm>
        <a:graphic>
          <a:graphicData uri="http://schemas.openxmlformats.org/drawingml/2006/table">
            <a:tbl>
              <a:tblPr/>
              <a:tblGrid>
                <a:gridCol w="1173240"/>
                <a:gridCol w="1176120"/>
                <a:gridCol w="1173240"/>
                <a:gridCol w="1173240"/>
                <a:gridCol w="1173240"/>
                <a:gridCol w="1176120"/>
                <a:gridCol w="1173240"/>
              </a:tblGrid>
              <a:tr h="15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Л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4" descr="Безымянный"/>
          <p:cNvPicPr/>
          <p:nvPr/>
        </p:nvPicPr>
        <p:blipFill>
          <a:blip r:embed="rId1"/>
          <a:stretch/>
        </p:blipFill>
        <p:spPr>
          <a:xfrm>
            <a:off x="6099120" y="3357720"/>
            <a:ext cx="3044880" cy="3268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2" descr="pe01821_"/>
          <p:cNvPicPr/>
          <p:nvPr/>
        </p:nvPicPr>
        <p:blipFill>
          <a:blip r:embed="rId2"/>
          <a:stretch/>
        </p:blipFill>
        <p:spPr>
          <a:xfrm flipH="1">
            <a:off x="178920" y="2781360"/>
            <a:ext cx="36291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LANDS121"/>
          <p:cNvPicPr/>
          <p:nvPr/>
        </p:nvPicPr>
        <p:blipFill>
          <a:blip r:embed="rId1"/>
          <a:stretch/>
        </p:blipFill>
        <p:spPr>
          <a:xfrm>
            <a:off x="0" y="-281160"/>
            <a:ext cx="9434520" cy="7139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UPER006"/>
          <p:cNvPicPr/>
          <p:nvPr/>
        </p:nvPicPr>
        <p:blipFill>
          <a:blip r:embed="rId2"/>
          <a:stretch/>
        </p:blipFill>
        <p:spPr>
          <a:xfrm>
            <a:off x="1908000" y="4437000"/>
            <a:ext cx="1271880" cy="1943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LANDS055"/>
          <p:cNvPicPr/>
          <p:nvPr/>
        </p:nvPicPr>
        <p:blipFill>
          <a:blip r:embed="rId3"/>
          <a:stretch/>
        </p:blipFill>
        <p:spPr>
          <a:xfrm>
            <a:off x="8228160" y="5883120"/>
            <a:ext cx="915840" cy="974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OLDMAN"/>
          <p:cNvPicPr/>
          <p:nvPr/>
        </p:nvPicPr>
        <p:blipFill>
          <a:blip r:embed="rId4"/>
          <a:stretch/>
        </p:blipFill>
        <p:spPr>
          <a:xfrm>
            <a:off x="6997680" y="4076640"/>
            <a:ext cx="1122480" cy="201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ASTRN2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val 48"/>
          <p:cNvSpPr/>
          <p:nvPr/>
        </p:nvSpPr>
        <p:spPr>
          <a:xfrm>
            <a:off x="3132000" y="1700280"/>
            <a:ext cx="2519640" cy="23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07_M Legran.mp3" descr=""/>
          <p:cNvPicPr/>
          <p:nvPr/>
        </p:nvPicPr>
        <p:blipFill>
          <a:blip r:embed="rId1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Осень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RABBIT1"/>
          <p:cNvPicPr/>
          <p:nvPr/>
        </p:nvPicPr>
        <p:blipFill>
          <a:blip r:embed="rId3"/>
          <a:stretch/>
        </p:blipFill>
        <p:spPr>
          <a:xfrm flipH="1">
            <a:off x="250920" y="2997360"/>
            <a:ext cx="2665440" cy="3528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0" descr="Безымянный"/>
          <p:cNvPicPr/>
          <p:nvPr/>
        </p:nvPicPr>
        <p:blipFill>
          <a:blip r:embed="rId4"/>
          <a:stretch/>
        </p:blipFill>
        <p:spPr>
          <a:xfrm>
            <a:off x="4280040" y="4292640"/>
            <a:ext cx="1876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505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60 + 10          50 + 50       12 + 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00 - 30         80 - 20         13 +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Задач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увшине было 12 стаканов молока. На кашу пошло 2 стакана молока и 1 стакан на омлет. Сколько стаканов молока оста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Тангр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ставьте фигуру по образц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индивидуально каждый на парте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WordArt 6"/>
          <p:cNvSpPr txBox="1"/>
          <p:nvPr/>
        </p:nvSpPr>
        <p:spPr>
          <a:xfrm>
            <a:off x="324000" y="189000"/>
            <a:ext cx="828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ЫЙ  СЧЕТ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4" name="AutoShape 36"/>
          <p:cNvSpPr/>
          <p:nvPr/>
        </p:nvSpPr>
        <p:spPr>
          <a:xfrm rot="16200000">
            <a:off x="7164360" y="4291920"/>
            <a:ext cx="571320" cy="571680"/>
          </a:xfrm>
          <a:prstGeom prst="rtTriangl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7"/>
          <p:cNvSpPr/>
          <p:nvPr/>
        </p:nvSpPr>
        <p:spPr>
          <a:xfrm rot="10800000">
            <a:off x="7164360" y="5547960"/>
            <a:ext cx="571680" cy="571320"/>
          </a:xfrm>
          <a:prstGeom prst="rtTriangl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8"/>
          <p:cNvSpPr/>
          <p:nvPr/>
        </p:nvSpPr>
        <p:spPr>
          <a:xfrm rot="18867600">
            <a:off x="7278480" y="4838400"/>
            <a:ext cx="457200" cy="457200"/>
          </a:xfrm>
          <a:prstGeom prst="rtTriangl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9"/>
          <p:cNvSpPr/>
          <p:nvPr/>
        </p:nvSpPr>
        <p:spPr>
          <a:xfrm rot="8240400">
            <a:off x="6829560" y="5202000"/>
            <a:ext cx="457200" cy="433440"/>
          </a:xfrm>
          <a:prstGeom prst="rtTriangl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0"/>
          <p:cNvSpPr/>
          <p:nvPr/>
        </p:nvSpPr>
        <p:spPr>
          <a:xfrm rot="16200000">
            <a:off x="7621560" y="4863960"/>
            <a:ext cx="571680" cy="571680"/>
          </a:xfrm>
          <a:prstGeom prst="rtTriangl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1"/>
          <p:cNvSpPr/>
          <p:nvPr/>
        </p:nvSpPr>
        <p:spPr>
          <a:xfrm rot="2745000">
            <a:off x="8203680" y="4862520"/>
            <a:ext cx="666720" cy="669960"/>
          </a:xfrm>
          <a:prstGeom prst="diamond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2"/>
          <p:cNvSpPr/>
          <p:nvPr/>
        </p:nvSpPr>
        <p:spPr>
          <a:xfrm>
            <a:off x="5549760" y="5067360"/>
            <a:ext cx="1330560" cy="339840"/>
          </a:xfrm>
          <a:prstGeom prst="parallelogram">
            <a:avLst>
              <a:gd name="adj" fmla="val 97881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07_M Legran.mp3" descr=""/>
          <p:cNvPicPr/>
          <p:nvPr/>
        </p:nvPicPr>
        <p:blipFill>
          <a:blip r:embed="rId1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Осен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WOLF"/>
          <p:cNvPicPr/>
          <p:nvPr/>
        </p:nvPicPr>
        <p:blipFill>
          <a:blip r:embed="rId3"/>
          <a:stretch/>
        </p:blipFill>
        <p:spPr>
          <a:xfrm flipH="1">
            <a:off x="0" y="2897280"/>
            <a:ext cx="3648240" cy="3960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Безымянный"/>
          <p:cNvPicPr/>
          <p:nvPr/>
        </p:nvPicPr>
        <p:blipFill>
          <a:blip r:embed="rId4"/>
          <a:stretch/>
        </p:blipFill>
        <p:spPr>
          <a:xfrm>
            <a:off x="5364000" y="4581360"/>
            <a:ext cx="1876680" cy="1944720"/>
          </a:xfrm>
          <a:prstGeom prst="rect">
            <a:avLst/>
          </a:prstGeom>
          <a:ln w="0">
            <a:noFill/>
          </a:ln>
        </p:spPr>
      </p:pic>
      <p:pic>
        <p:nvPicPr>
          <p:cNvPr id="285" name="музыка 1.wma" descr=""/>
          <p:cNvPicPr/>
          <p:nvPr/>
        </p:nvPicPr>
        <p:blipFill>
          <a:blip r:embed="rId5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8:19:21Z</dcterms:created>
  <dc:creator>admin</dc:creator>
  <dc:description/>
  <dc:language>en-US</dc:language>
  <cp:lastModifiedBy>н</cp:lastModifiedBy>
  <dcterms:modified xsi:type="dcterms:W3CDTF">2013-03-31T11:58:12Z</dcterms:modified>
  <cp:revision>98</cp:revision>
  <dc:subject/>
  <dc:title>Слайд 1</dc:title>
</cp:coreProperties>
</file>