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978A4-26B6-400B-9FC5-B40EC8F8C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BB84A-4534-4287-ABDB-06453192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7A44B-1B63-4264-BCE0-3F62ED513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AE04A-8B9E-4CE0-A132-4C4D83F9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3C598-3357-4061-B2B8-E675E12F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7FF3F-A495-4ACA-B845-D0CE34A77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C8E0-AC9A-4063-91D1-F77601B0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17F2C-B7E3-445B-B01C-2F5E7247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CD1B3-F7C3-4209-8BA4-B2D0A92D3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754F4-473E-4B7D-BC6B-1DF118917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690A2-E49E-4A23-8C69-C4C9565A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2C8C6-C5EC-45B9-82CE-78DCE44A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D4E7-625E-4B09-8F16-488BF4AE4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27AFC-68A5-4D39-97B3-4E6211E26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D4E00-A16C-4BEF-B33E-37E611DA7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30326-195D-4C93-8833-B80E3FA0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C899F-C169-45DC-A169-181355697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726CC-AEE5-4E8D-8E88-812E54E2E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FAC6-DD6B-4A87-A73B-F47C1614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C8E40-0D6A-4D86-80A0-F7A7DA50B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D7574-DF39-449C-8139-A5C6699D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D2060-995C-470E-8998-9FB6F60B4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FE97-6CD6-4B14-9CE7-B5D3D844F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E9D17-58E8-4AC1-80A0-55EC60F09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D02A5-91D1-4EBE-A7E5-A5C86B488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BECA8-18B0-4780-954E-BEAF30451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EA02B-C317-4569-B8AF-A69EE459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F3B2E-3DD3-4449-AB7A-423F7556D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E6ECC-1F73-4C89-9801-4AC77A736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A63B-431A-410A-87DB-2698411B9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85F5-EB8A-4CC4-B12F-1EC576E02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E46E-F20A-4152-94B3-66FAC6E02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DED7-C4F5-4D9F-9627-A8CF67CD7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E3B7-5A8D-49D4-AE03-2B9173B8C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D5E3-4D6F-4527-A362-CD8B5BDCA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0526-E11F-4627-A1D9-3C3F5E01A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32D3-31F5-4A54-B8A3-769317C65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70CA-55E9-44EF-805A-C24CDF49B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1D64-A0E3-41F1-B873-E0FA22D21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E99F-BB1C-469B-BAB6-CE6397528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9D64-D07B-4FDD-AC09-11FA5608F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0FC586-D4E6-4E4E-9F5F-DD8E37206D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260360" y="2519280"/>
            <a:ext cx="3780000" cy="4319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39640" y="708120"/>
            <a:ext cx="9070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зыкальные иллюстрации Г.В.Свиридов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повести А. С. Пушкина "Метель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040360" y="5219640"/>
            <a:ext cx="450036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кина С.Н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ОШ №3 п.г.т. Смышля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р.Волжский Сама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енный 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800360"/>
            <a:ext cx="90709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619280" y="3060720"/>
            <a:ext cx="6840360" cy="3419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06 - Г. Свиридов - Метель - Военный марш.mp3" descr=""/>
          <p:cNvPicPr/>
          <p:nvPr/>
        </p:nvPicPr>
        <p:blipFill>
          <a:blip r:embed="rId2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450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20720" y="2328840"/>
            <a:ext cx="3635280" cy="43308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04 - Г. Свиридов - Метель - Романс.mp3" descr=""/>
          <p:cNvPicPr/>
          <p:nvPr/>
        </p:nvPicPr>
        <p:blipFill>
          <a:blip r:embed="rId2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342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558800" y="1979640"/>
            <a:ext cx="3660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звуки валь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859280" y="5719680"/>
            <a:ext cx="3780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яя дор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400720" y="72072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260360" y="3959280"/>
            <a:ext cx="378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720720" y="3887640"/>
            <a:ext cx="90709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00360" y="439560"/>
            <a:ext cx="250200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879640" y="3240000"/>
            <a:ext cx="504036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6836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68360" y="2421000"/>
            <a:ext cx="90709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сни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бъединяет двух великих люд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а Сергеевича Пушк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ргия Васильевича Свирид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60360" y="2700360"/>
            <a:ext cx="185256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60360" y="504036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700360" y="2340000"/>
            <a:ext cx="4680000" cy="485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63440" y="10476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6648480" y="179280"/>
            <a:ext cx="32526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сти сю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440000" y="1477800"/>
            <a:ext cx="611964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"Трой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"Валь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"Весна и осен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"Роман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"Пасторал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"Военный марш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"Венч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"Отзвуки вальс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"Зимняя дорог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659640" y="2700360"/>
            <a:ext cx="270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42880" y="1843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580000" y="1440000"/>
            <a:ext cx="414036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мчатся по буг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чут снег глуб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, в сторонке божий х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ен один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друг метелица круг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г валит кло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ный вран, свистя крыл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ьется над сан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щий стон гласит печал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торопл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тко смотрят в темну да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ымая гривы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03280" y="2340000"/>
            <a:ext cx="5075280" cy="3570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01 - Г. Свиридов - Метель - Тройка.mp3" descr=""/>
          <p:cNvPicPr/>
          <p:nvPr/>
        </p:nvPicPr>
        <p:blipFill>
          <a:blip r:embed="rId2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900000" y="1940040"/>
            <a:ext cx="8460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800360" y="3789360"/>
            <a:ext cx="6840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02 - Г. Свиридов - Метель - Вальс.mp3" descr=""/>
          <p:cNvPicPr/>
          <p:nvPr/>
        </p:nvPicPr>
        <p:blipFill>
          <a:blip r:embed="rId2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60360" y="1917720"/>
            <a:ext cx="64800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051680" y="1979640"/>
            <a:ext cx="2666880" cy="4989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54200" y="2779560"/>
            <a:ext cx="4105080" cy="393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5397480" y="2779560"/>
            <a:ext cx="4070520" cy="3902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03 - Г. Свиридов - Метель - Весна. Осень.mp3" descr=""/>
          <p:cNvPicPr/>
          <p:nvPr/>
        </p:nvPicPr>
        <p:blipFill>
          <a:blip r:embed="rId3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1" descr=""/>
          <p:cNvPicPr/>
          <p:nvPr/>
        </p:nvPicPr>
        <p:blipFill>
          <a:blip r:embed="rId4"/>
          <a:srcRect l="5613" t="13806" r="0" b="0"/>
          <a:stretch/>
        </p:blipFill>
        <p:spPr>
          <a:xfrm>
            <a:off x="825480" y="1279440"/>
            <a:ext cx="4000680" cy="1357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2" descr=""/>
          <p:cNvPicPr/>
          <p:nvPr/>
        </p:nvPicPr>
        <p:blipFill>
          <a:blip r:embed="rId5"/>
          <a:srcRect l="1763" t="0" r="13782" b="0"/>
          <a:stretch/>
        </p:blipFill>
        <p:spPr>
          <a:xfrm>
            <a:off x="5397480" y="1279440"/>
            <a:ext cx="40006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752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79280" y="2879640"/>
            <a:ext cx="97203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стораль в переводе с латинского означает "пастушечий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музыкальное произведение, рисующее сцены безмятежной сельской жизни, картины прир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19280" y="450072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662960" y="992160"/>
            <a:ext cx="2057400" cy="1347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8280360" y="4859280"/>
            <a:ext cx="12603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692280" y="5553000"/>
            <a:ext cx="1468440" cy="110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720720" y="900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2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Admin</cp:lastModifiedBy>
  <dcterms:modified xsi:type="dcterms:W3CDTF">2013-03-28T17:42:01Z</dcterms:modified>
  <cp:revision>12</cp:revision>
  <dc:subject/>
  <dc:title>Музыкальные иллюстрации Г.В.Свиридова  к повести А. С. Пушкина "Метель"</dc:title>
</cp:coreProperties>
</file>