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620B7-D6F7-43F2-95F4-B5E6AC8B6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1FF9-C99F-4F11-8B82-50FFE4C1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1D948-FB13-4DEF-BB07-C367ACB3A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37D8C-EEE7-4994-884B-55BD9871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F6767-B78C-4592-BA69-A7B709BFB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6FFAB-814A-4615-A729-C7E672517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56F1D-1077-4583-B3A6-D4F290658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BFF1E-97A6-4A26-AEB6-7C3FDBF77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0C16F-6BE1-43D1-916B-4C38784BE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6EEF9-AA7E-45F0-A3AD-31DC853DD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59E62-7A90-4A4F-98E0-BFD7426F0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E8D68-531A-4400-A809-31D25F5EB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4B66-0C00-4ADA-B4CE-B67859B94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55A01-380F-47F9-BCF9-E09BBA470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0A7B5-668E-4129-A059-A1FF4734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DB8BC-CA96-4065-AEBA-68DDBE9D4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5F8F4-4C7D-4F7B-AB22-57D57FA3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2AF06-5634-47CD-A5D1-BF980244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2E003-FA46-4727-BCF1-968F9F096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6B09A-2A6D-4F4C-96E9-CC2B6996E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3F9C7-D359-4C36-8A28-8F4051FA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EBFAC-F3BA-4DF7-A6C6-F007DAF5E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275FE-7ECA-4CF9-AAA3-8E5CB2641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DD3B7-A857-4554-969E-722E769B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E0E7B-FA13-4714-A44D-898E18E3E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E6513-A22B-4E18-8151-7BB36C1B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284CC-97CB-45CB-AB42-F64ABEFD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337D0-09C5-400E-AAC7-70B896E8C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4B4BB-1801-4511-809E-4878826FE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C6F7-C769-410F-B98C-6E65C5FFC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060E-32BF-439D-BB3D-CF0B47331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9258-32E7-4725-AEC2-B520C7875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27D9-BAD8-46E5-B244-AC3C8BCB70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B59A-7FB3-4028-B0D3-7F05F558F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7B1B-7219-4562-AB30-90AB9BEA3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0000-3675-4453-A35B-FDEAB0350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6E35-D500-4A31-B44C-2B8E0176A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12DB-1B22-4020-9C50-176D7F79A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89E1-2858-4761-82E0-13BBEE61F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3F8E-DE54-428F-AE42-4E834153C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BDF9-D0C3-40B3-9C4A-930779CA1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FD6B8B-1117-499D-948D-FCDFB590EF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260360" y="2519280"/>
            <a:ext cx="3780000" cy="4319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39640" y="708120"/>
            <a:ext cx="90709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зыкальные иллюстрации Г.В.Свиридова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 повести А. С. Пушкина "Метель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040360" y="5219640"/>
            <a:ext cx="450036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кина С.Н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ОШ №3 п.г.т. Смышля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р.Волжский Сама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енный 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539640" y="1800360"/>
            <a:ext cx="90709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619280" y="3060720"/>
            <a:ext cx="6840360" cy="3419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06 - Г. Свиридов - Метель - Военный марш.mp3" descr=""/>
          <p:cNvPicPr/>
          <p:nvPr/>
        </p:nvPicPr>
        <p:blipFill>
          <a:blip r:embed="rId2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450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720720" y="2328840"/>
            <a:ext cx="3635280" cy="43308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04 - Г. Свиридов - Метель - Романс.mp3" descr=""/>
          <p:cNvPicPr/>
          <p:nvPr/>
        </p:nvPicPr>
        <p:blipFill>
          <a:blip r:embed="rId2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342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558800" y="1979640"/>
            <a:ext cx="3660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звуки валь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859280" y="5719680"/>
            <a:ext cx="3780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имняя дор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400720" y="72072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260360" y="3959280"/>
            <a:ext cx="378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720720" y="3887640"/>
            <a:ext cx="907092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600360" y="439560"/>
            <a:ext cx="250200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879640" y="3240000"/>
            <a:ext cx="5040360" cy="39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6836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68360" y="2421000"/>
            <a:ext cx="90709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сни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объединяет двух великих люд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а Сергеевича Пушк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ргия Васильевича Свирид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60360" y="2700360"/>
            <a:ext cx="185256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60360" y="504036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700360" y="2340000"/>
            <a:ext cx="4680000" cy="485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63440" y="10476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6648480" y="179280"/>
            <a:ext cx="32526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сти сю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440000" y="1477800"/>
            <a:ext cx="611964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"Трой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"Валь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"Весна и осен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"Роман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"Пасторал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"Военный марш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"Венч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"Отзвуки вальс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"Зимняя дорог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659640" y="2700360"/>
            <a:ext cx="270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42880" y="1843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580000" y="1440000"/>
            <a:ext cx="414036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мчатся по буг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чут снег глуб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, в сторонке божий х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ен одинокий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друг метелица круг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ег валит клок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ный вран, свистя крыл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ьется над сан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щий стон гласит печал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и торопли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тко смотрят в темну дал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ымая гривы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03280" y="2340000"/>
            <a:ext cx="5075280" cy="3570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01 - Г. Свиридов - Метель - Тройка.mp3" descr=""/>
          <p:cNvPicPr/>
          <p:nvPr/>
        </p:nvPicPr>
        <p:blipFill>
          <a:blip r:embed="rId2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900000" y="1940040"/>
            <a:ext cx="8460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800360" y="3789360"/>
            <a:ext cx="6840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02 - Г. Свиридов - Метель - Вальс.mp3" descr=""/>
          <p:cNvPicPr/>
          <p:nvPr/>
        </p:nvPicPr>
        <p:blipFill>
          <a:blip r:embed="rId2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60360" y="1917720"/>
            <a:ext cx="64800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051680" y="1979640"/>
            <a:ext cx="2666880" cy="4989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54200" y="2779560"/>
            <a:ext cx="4105080" cy="3935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5397480" y="2779560"/>
            <a:ext cx="4070520" cy="3902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03 - Г. Свиридов - Метель - Весна. Осень.mp3" descr=""/>
          <p:cNvPicPr/>
          <p:nvPr/>
        </p:nvPicPr>
        <p:blipFill>
          <a:blip r:embed="rId3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1" descr=""/>
          <p:cNvPicPr/>
          <p:nvPr/>
        </p:nvPicPr>
        <p:blipFill>
          <a:blip r:embed="rId4"/>
          <a:srcRect l="5613" t="13806" r="0" b="0"/>
          <a:stretch/>
        </p:blipFill>
        <p:spPr>
          <a:xfrm>
            <a:off x="825480" y="1279440"/>
            <a:ext cx="4000680" cy="1357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2" descr=""/>
          <p:cNvPicPr/>
          <p:nvPr/>
        </p:nvPicPr>
        <p:blipFill>
          <a:blip r:embed="rId5"/>
          <a:srcRect l="1763" t="0" r="13782" b="0"/>
          <a:stretch/>
        </p:blipFill>
        <p:spPr>
          <a:xfrm>
            <a:off x="5397480" y="1279440"/>
            <a:ext cx="40006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752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79280" y="2879640"/>
            <a:ext cx="97203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стораль в переводе с латинского означает "пастушечий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музыкальное произведение, рисующее сцены безмятежной сельской жизни, картины прир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19280" y="450072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662960" y="992160"/>
            <a:ext cx="2057400" cy="1347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8280360" y="4859280"/>
            <a:ext cx="12603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692280" y="5553000"/>
            <a:ext cx="1468440" cy="110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720720" y="900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23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Admin</cp:lastModifiedBy>
  <dcterms:modified xsi:type="dcterms:W3CDTF">2013-03-28T17:42:01Z</dcterms:modified>
  <cp:revision>12</cp:revision>
  <dc:subject/>
  <dc:title>Музыкальные иллюстрации Г.В.Свиридова  к повести А. С. Пушкина "Метель"</dc:title>
</cp:coreProperties>
</file>