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coin.wav" ContentType="audio/x-wav"/>
  <Override PartName="/ppt/media/image4.png" ContentType="image/png"/>
  <Override PartName="/ppt/media/image3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50F8-EBEE-48A8-B4EF-9E4CFCCA9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F658-5D83-4419-94E1-8CE4FCC18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20E-AC20-48A9-96F2-62E00BFC4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EE7E-22FD-4655-AB47-9EB1BAF40C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8D9A-2029-4F3F-9817-B1F27E6B0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33DF-0870-4659-892E-447A7BA6F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56D7-AA70-4A57-A557-7B8D59B6F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0C61-6DF3-4D9E-8010-BA7E7A37D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61CE-E259-4447-BFE2-1B967FDAE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3A8B-1D6F-42CB-89FB-F012F5E54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93F9-5B6F-4BD2-9ABF-B84C37480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A38-557D-4D20-A408-E03A4391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88F-F5EB-4D03-A564-8B3F9C9D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8EE-E6A8-4045-ADCB-98058DA2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AE8-1266-4F2F-A334-46F36D37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5DB-68A3-4B4E-A2E6-E461BD5D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690-A109-42B7-9CAA-7B3BFD8D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2CF-011A-4E81-8A6B-CBDDC68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93D-E41E-48AD-A887-1AEC97AC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1F6-0935-4D3E-A8A2-6CA12027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C17-A3B0-4A77-A571-2B485286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163-CDF3-416B-8020-902C0F01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974-0800-4A0F-B975-6191D44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45F1-3174-4B5E-9C05-EB376BB0B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16000" y="981000"/>
            <a:ext cx="65530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40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odal Verbs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0">
    <p:newsflash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8 L 0.108 0.0828 L 0.072 0.16694 L 0.108 0.24974 L 0.036 0.24974 L 0 0.33387 L -0.036 0.24974 L -0.108 0.24974 L -0.072 0.16694 L -0.108 0.0828 L -0.036 0.0828 L 0 0 Z">
                                      <p:cBhvr>
                                        <p:cTn id="11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539640" y="907920"/>
            <a:ext cx="7920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763640" y="333360"/>
            <a:ext cx="46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st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5640" y="393372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Comic Sans MS"/>
              </a:rPr>
              <a:t>You must be at school  by eight o'clock. (My teacher  insists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1476360" y="2060640"/>
            <a:ext cx="4896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637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Должен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heel spokes="8"/>
    <p:sndAc>
      <p:stSnd>
        <p:snd r:embed="rId3" name="coin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5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042920" y="-316080"/>
            <a:ext cx="669600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8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Have to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1403280" y="242100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140360" y="242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435640" y="2349360"/>
            <a:ext cx="14414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4"/>
          <p:cNvSpPr txBox="1"/>
          <p:nvPr/>
        </p:nvSpPr>
        <p:spPr>
          <a:xfrm>
            <a:off x="468360" y="3573360"/>
            <a:ext cx="1247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Have t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Has t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(he ,she, it)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57" name="WordArt 15"/>
          <p:cNvSpPr txBox="1"/>
          <p:nvPr/>
        </p:nvSpPr>
        <p:spPr>
          <a:xfrm>
            <a:off x="2050920" y="1989000"/>
            <a:ext cx="4465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В силу обстоятельств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6"/>
          <p:cNvSpPr txBox="1"/>
          <p:nvPr/>
        </p:nvSpPr>
        <p:spPr>
          <a:xfrm>
            <a:off x="3419640" y="357336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ad t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7"/>
          <p:cNvSpPr txBox="1"/>
          <p:nvPr/>
        </p:nvSpPr>
        <p:spPr>
          <a:xfrm>
            <a:off x="6156360" y="3716280"/>
            <a:ext cx="20113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hall    hav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Will        to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7093080" y="350028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1187280" y="508464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 have to be home by eight o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‘clock. (I insist.)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-0.112 L 0.25 0 L 0.125 0.112 L 0 0 Z">
                                      <p:cBhvr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3132000" y="260280"/>
            <a:ext cx="34196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9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Be T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050920" y="2421000"/>
            <a:ext cx="16560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m to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e to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s to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2700000" y="1700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003640" y="1700280"/>
            <a:ext cx="115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5580000" y="2997360"/>
            <a:ext cx="1524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as To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re To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492360" y="4581360"/>
            <a:ext cx="51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99"/>
                </a:solidFill>
                <a:uFillTx/>
                <a:latin typeface="Arial"/>
              </a:rPr>
              <a:t>I am to meet her in the library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476360" y="0"/>
            <a:ext cx="47512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hoUl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395280" y="2565360"/>
            <a:ext cx="693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Следует по моему мнению,совету.)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4508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study English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 rot="21421800">
            <a:off x="1547640" y="404640"/>
            <a:ext cx="65008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Ought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692360" y="206064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едует, моральный долг)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042920" y="450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You ought to return the book to me on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403280" y="549360"/>
            <a:ext cx="4124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edn'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324000" y="2781360"/>
            <a:ext cx="55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Нужно,необходимо)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8360" y="530064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needn’t 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 rot="199800">
            <a:off x="323640" y="0"/>
            <a:ext cx="511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3059280" y="2492280"/>
            <a:ext cx="484164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(По разрешению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692360" y="501336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may go to the cine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755640" y="0"/>
            <a:ext cx="69850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igh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1332000" y="1484280"/>
            <a:ext cx="5832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Мог по разрешению)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48690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You may go to the cine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15:43Z</dcterms:created>
  <dc:creator>user</dc:creator>
  <dc:description/>
  <dc:language>en-US</dc:language>
  <cp:lastModifiedBy>Таня</cp:lastModifiedBy>
  <dcterms:modified xsi:type="dcterms:W3CDTF">2013-03-31T16:41:26Z</dcterms:modified>
  <cp:revision>15</cp:revision>
  <dc:subject/>
  <dc:title>Слайд 1</dc:title>
</cp:coreProperties>
</file>