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coin.wav" ContentType="audio/x-wav"/>
  <Override PartName="/ppt/media/image4.png" ContentType="image/png"/>
  <Override PartName="/ppt/media/image3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99C-FD6A-4206-8EF7-E384018A9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1B2-C892-4250-95C1-314C81DBC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7350-1476-47AF-B345-F9FE4E87BA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1C1E-BC91-4627-834C-FC2606FB9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275E-1B44-48F7-9128-08FA9007D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9EC0-A98A-47D5-B0F6-386EFB54E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C6D-DDC6-4200-BD0A-60A91B5E6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EA6-6766-422E-AC97-459F621CC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C31B-6232-40A8-AE31-002E9A348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EFAF-894F-4041-B8A7-1095A6741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17E-2E54-4750-BC7A-D50CF330D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2C1-A239-4740-8386-F39887B5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EC7-1233-4BE3-B758-EA87A47E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A7C-11A1-4221-B970-D0AA646E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3DF-9F3D-4CD7-94DC-C245C7E8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095-A54E-4890-9E37-4F81244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91C-6A6B-43FD-90F2-EE5DFBC3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12F-7765-493B-8189-C21ADC7C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595-530A-4EFA-9917-76CACD21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779-C83C-44CC-9297-C211D62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8FB-C0EB-4832-B21E-660713A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BE5-B92D-47C3-9D36-BBD34E37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C70-0C40-407E-AE14-9877FDA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29FE-2AB8-41E4-A0B7-89A7D4100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16000" y="981000"/>
            <a:ext cx="6553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40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dal Verbs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0">
    <p:newsflash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8 L 0.108 0.0828 L 0.072 0.16694 L 0.108 0.24974 L 0.036 0.24974 L 0 0.33387 L -0.036 0.24974 L -0.108 0.24974 L -0.072 0.16694 L -0.108 0.0828 L -0.036 0.0828 L 0 0 Z">
                                      <p:cBhvr>
                                        <p:cTn id="11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539640" y="907920"/>
            <a:ext cx="7920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63640" y="333360"/>
            <a:ext cx="46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st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5640" y="393372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Comic Sans MS"/>
              </a:rPr>
              <a:t>You must be at school  by eight o'clock. (My teacher  insists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1476360" y="2060640"/>
            <a:ext cx="489600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637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Должен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 spokes="8"/>
    <p:sndAc>
      <p:stSnd>
        <p:snd r:embed="rId3" name="coin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1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67 0.124 -0.16667 C 0.124 -0.07467 0.179 -0.00133 0.248 -0.00133 C 0.179 -0.00133 0.125 0.07467 0.125 0.16667 C 0.125 0.07467 0.069 0 0 0 Z">
                                      <p:cBhvr>
                                        <p:cTn id="5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042920" y="-316080"/>
            <a:ext cx="669600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Have to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1403280" y="242100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140360" y="242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435640" y="2349360"/>
            <a:ext cx="14414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4"/>
          <p:cNvSpPr txBox="1"/>
          <p:nvPr/>
        </p:nvSpPr>
        <p:spPr>
          <a:xfrm>
            <a:off x="468360" y="3573360"/>
            <a:ext cx="1247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Have 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Has to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(he ,she, it)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2050920" y="1989000"/>
            <a:ext cx="4465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В силу обстоятельств)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3419640" y="357336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ad t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6156360" y="3716280"/>
            <a:ext cx="20113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hall    hav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Will        to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7093080" y="3500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187280" y="5084640"/>
            <a:ext cx="59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have to be home by eight o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‘clock. (I insist.)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-0.112 L 0.25 0 L 0.125 0.112 L 0 0 Z">
                                      <p:cBhvr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3132000" y="260280"/>
            <a:ext cx="34196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9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Be To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050920" y="2421000"/>
            <a:ext cx="16560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 to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e to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s to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2700000" y="1700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003640" y="1700280"/>
            <a:ext cx="1152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5580000" y="2997360"/>
            <a:ext cx="1524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 To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re To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492360" y="4581360"/>
            <a:ext cx="51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0099"/>
                </a:solidFill>
                <a:uFillTx/>
                <a:latin typeface="Arial"/>
              </a:rPr>
              <a:t>I am to meet her in the library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476360" y="0"/>
            <a:ext cx="4751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hoUl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395280" y="2565360"/>
            <a:ext cx="69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(Следует по моему мнению,совету.)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450864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should study English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 rot="21421800">
            <a:off x="1547640" y="404640"/>
            <a:ext cx="65008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Ought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692360" y="206064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едует, моральный долг)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04292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You ought to return the book to me on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403280" y="549360"/>
            <a:ext cx="41245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n'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324000" y="278136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Нужно,необходимо)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8360" y="5300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 needn’t g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 rot="199800">
            <a:off x="323640" y="0"/>
            <a:ext cx="511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3059280" y="2492280"/>
            <a:ext cx="48416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(По разрешению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692360" y="501336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may go to the cine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755640" y="0"/>
            <a:ext cx="698508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igh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1332000" y="1484280"/>
            <a:ext cx="583236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Мог по разрешению)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486900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You may go to the cine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15:43Z</dcterms:created>
  <dc:creator>user</dc:creator>
  <dc:description/>
  <dc:language>en-US</dc:language>
  <cp:lastModifiedBy>Таня</cp:lastModifiedBy>
  <dcterms:modified xsi:type="dcterms:W3CDTF">2013-03-31T16:41:26Z</dcterms:modified>
  <cp:revision>15</cp:revision>
  <dc:subject/>
  <dc:title>Слайд 1</dc:title>
</cp:coreProperties>
</file>