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84E-7270-4739-8A7A-1E1D7320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712-5454-45C8-AFEC-DFE4DCB4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B46-8BBC-4AE5-BE53-F7E2B1C5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BB3-0E62-4210-BEB2-3C6886D9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3C8B-CA7B-4AA0-BC9A-345D4558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7749-3E6F-4E8F-A30A-26B3B02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01A-74C8-43F7-AA3A-FBF3DDCC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A636-1554-4B25-8483-FAFA9DC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CB0-D60D-48BD-8E6A-A43986DC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5261-AAC9-4259-B8AE-4835DC47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F5A1-CE99-4EBD-BF06-82322B7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421-099F-488E-B83C-8B70310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C216-09F9-4BE8-9595-4EA1B99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CC19-11C5-4527-91C3-05D13CE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7334-C816-4186-81A9-903630F4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464-55F0-4021-A936-F13A7E81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DFB4-DB2A-4A87-9677-6808BB71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1FCB-36F0-4DB5-9B39-D5D2DF17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B78-B663-4F68-BB75-E786B13D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4FD-4E35-41DF-898D-27D82428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F99-4337-49AA-A3AA-2941A7F0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4B5-2C23-47B9-B075-C38E5E93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260-0B9F-45FD-867B-135B6E3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BE8-EE48-48B7-81AA-39BD63CB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C947-DB1F-4422-8FC1-A10CA7CB38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6D3C-806E-4F0C-93BF-38E12EF350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«Формирование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основ безопасности  жизнедеятельности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у детей дошкольного возраста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8288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/ПРОГРАММА ОБЖе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для детей 4-5 лет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огутова Ольга Юрьев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воспитатель 1 кв. катег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МБДОУ «Центр развития ребёнка – детский сад «Алёнушк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Organization Chart 7"/>
          <p:cNvGrpSpPr/>
          <p:nvPr/>
        </p:nvGrpSpPr>
        <p:grpSpPr>
          <a:xfrm>
            <a:off x="380880" y="0"/>
            <a:ext cx="8228880" cy="5408280"/>
            <a:chOff x="380880" y="0"/>
            <a:chExt cx="8228880" cy="5408280"/>
          </a:xfrm>
        </p:grpSpPr>
        <p:cxnSp>
          <p:nvCxnSpPr>
            <p:cNvPr id="304" name="_s4100"/>
            <p:cNvCxnSpPr>
              <a:stCxn id="305" idx="0"/>
              <a:endCxn id="306" idx="2"/>
            </p:cNvCxnSpPr>
            <p:nvPr/>
          </p:nvCxnSpPr>
          <p:spPr>
            <a:xfrm flipV="1" rot="16200000">
              <a:off x="5554440" y="1103400"/>
              <a:ext cx="1082160" cy="320076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7" name="_s4101"/>
            <p:cNvCxnSpPr>
              <a:stCxn id="308" idx="0"/>
              <a:endCxn id="306" idx="2"/>
            </p:cNvCxnSpPr>
            <p:nvPr/>
          </p:nvCxnSpPr>
          <p:spPr>
            <a:xfrm flipV="1" rot="16200000">
              <a:off x="4487760" y="2170080"/>
              <a:ext cx="1082160" cy="106704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9" name="_s4102"/>
            <p:cNvCxnSpPr>
              <a:stCxn id="310" idx="0"/>
              <a:endCxn id="306" idx="2"/>
            </p:cNvCxnSpPr>
            <p:nvPr/>
          </p:nvCxnSpPr>
          <p:spPr>
            <a:xfrm flipH="1" flipV="1" rot="5400000">
              <a:off x="3420720" y="2170080"/>
              <a:ext cx="1082160" cy="106740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1" name="_s4103"/>
            <p:cNvCxnSpPr>
              <a:stCxn id="312" idx="0"/>
              <a:endCxn id="306" idx="2"/>
            </p:cNvCxnSpPr>
            <p:nvPr/>
          </p:nvCxnSpPr>
          <p:spPr>
            <a:xfrm flipH="1" flipV="1" rot="5400000">
              <a:off x="2354040" y="1103400"/>
              <a:ext cx="1082160" cy="3201120"/>
            </a:xfrm>
            <a:prstGeom prst="bentConnector3">
              <a:avLst>
                <a:gd name="adj1" fmla="val 1271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6" name="_s4104"/>
            <p:cNvSpPr/>
            <p:nvPr/>
          </p:nvSpPr>
          <p:spPr>
            <a:xfrm>
              <a:off x="3581280" y="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«Незнакомцы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_s4105"/>
            <p:cNvSpPr/>
            <p:nvPr/>
          </p:nvSpPr>
          <p:spPr>
            <a:xfrm>
              <a:off x="38088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 несовпадени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иятно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нешност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и добры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мерени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_s4106"/>
            <p:cNvSpPr/>
            <p:nvPr/>
          </p:nvSpPr>
          <p:spPr>
            <a:xfrm>
              <a:off x="251424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пас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итуаци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контакт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 незнакомым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людьм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_s4107"/>
            <p:cNvSpPr/>
            <p:nvPr/>
          </p:nvSpPr>
          <p:spPr>
            <a:xfrm>
              <a:off x="464796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итуаци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сильственног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вед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о сторон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езнакомог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человек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_s4108"/>
            <p:cNvSpPr/>
            <p:nvPr/>
          </p:nvSpPr>
          <p:spPr>
            <a:xfrm>
              <a:off x="6781320" y="3245040"/>
              <a:ext cx="1828440" cy="21632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63240"/>
                <a:gd name="textAreaBottom" fmla="*/ 2074320 h 2163240"/>
              </a:gdLst>
              <a:ahLst/>
              <a:rect l="textAreaLeft" t="textAreaTop" r="textAreaRight" b="textAreaBottom"/>
              <a:pathLst>
                <a:path w="21600" h="25554">
                  <a:moveTo>
                    <a:pt x="3600" y="0"/>
                  </a:moveTo>
                  <a:arcTo wR="3600" hR="3600" stAng="16200000" swAng="-5400000"/>
                  <a:lnTo>
                    <a:pt x="0" y="21954"/>
                  </a:lnTo>
                  <a:arcTo wR="3600" hR="3600" stAng="10800000" swAng="-5400000"/>
                  <a:lnTo>
                    <a:pt x="18000" y="25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Если «чужой»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иходи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 до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Organization Chart 7"/>
          <p:cNvGrpSpPr/>
          <p:nvPr/>
        </p:nvGrpSpPr>
        <p:grpSpPr>
          <a:xfrm>
            <a:off x="457200" y="0"/>
            <a:ext cx="8228880" cy="6628320"/>
            <a:chOff x="457200" y="0"/>
            <a:chExt cx="8228880" cy="6628320"/>
          </a:xfrm>
        </p:grpSpPr>
        <p:cxnSp>
          <p:nvCxnSpPr>
            <p:cNvPr id="314" name="_s5124"/>
            <p:cNvCxnSpPr>
              <a:stCxn id="315" idx="0"/>
              <a:endCxn id="316" idx="2"/>
            </p:cNvCxnSpPr>
            <p:nvPr/>
          </p:nvCxnSpPr>
          <p:spPr>
            <a:xfrm flipV="1" rot="16200000">
              <a:off x="3447720" y="2780280"/>
              <a:ext cx="3314880" cy="106704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7" name="_s5125"/>
            <p:cNvCxnSpPr>
              <a:stCxn id="318" idx="1"/>
              <a:endCxn id="316" idx="2"/>
            </p:cNvCxnSpPr>
            <p:nvPr/>
          </p:nvCxnSpPr>
          <p:spPr>
            <a:xfrm rot="10800000">
              <a:off x="4571280" y="1656360"/>
              <a:ext cx="305280" cy="16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9" name="_s5126"/>
            <p:cNvCxnSpPr>
              <a:stCxn id="320" idx="3"/>
              <a:endCxn id="316" idx="2"/>
            </p:cNvCxnSpPr>
            <p:nvPr/>
          </p:nvCxnSpPr>
          <p:spPr>
            <a:xfrm flipV="1">
              <a:off x="4267080" y="1656360"/>
              <a:ext cx="305280" cy="1657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1" name="_s5127"/>
            <p:cNvCxnSpPr>
              <a:stCxn id="322" idx="0"/>
              <a:endCxn id="316" idx="2"/>
            </p:cNvCxnSpPr>
            <p:nvPr/>
          </p:nvCxnSpPr>
          <p:spPr>
            <a:xfrm flipV="1" rot="16200000">
              <a:off x="4514400" y="1713600"/>
              <a:ext cx="3314880" cy="320076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3" name="_s5128"/>
            <p:cNvCxnSpPr>
              <a:stCxn id="324" idx="0"/>
              <a:endCxn id="316" idx="2"/>
            </p:cNvCxnSpPr>
            <p:nvPr/>
          </p:nvCxnSpPr>
          <p:spPr>
            <a:xfrm flipH="1" flipV="1" rot="5400000">
              <a:off x="2380680" y="2780280"/>
              <a:ext cx="3314880" cy="106740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25" name="_s5129"/>
            <p:cNvCxnSpPr>
              <a:stCxn id="326" idx="0"/>
              <a:endCxn id="316" idx="2"/>
            </p:cNvCxnSpPr>
            <p:nvPr/>
          </p:nvCxnSpPr>
          <p:spPr>
            <a:xfrm flipH="1" flipV="1" rot="5400000">
              <a:off x="1314000" y="1713600"/>
              <a:ext cx="3314880" cy="3201120"/>
            </a:xfrm>
            <a:prstGeom prst="bentConnector3">
              <a:avLst>
                <a:gd name="adj1" fmla="val 344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6" name="_s5130"/>
            <p:cNvSpPr/>
            <p:nvPr/>
          </p:nvSpPr>
          <p:spPr>
            <a:xfrm>
              <a:off x="3657600" y="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«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Безопасно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колесо</a:t>
              </a: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_s5131"/>
            <p:cNvSpPr/>
            <p:nvPr/>
          </p:nvSpPr>
          <p:spPr>
            <a:xfrm>
              <a:off x="45720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Устрой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оезже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рог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_s5132"/>
            <p:cNvSpPr/>
            <p:nvPr/>
          </p:nvSpPr>
          <p:spPr>
            <a:xfrm>
              <a:off x="259056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«Зебра» 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рож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знак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_s5133"/>
            <p:cNvSpPr/>
            <p:nvPr/>
          </p:nvSpPr>
          <p:spPr>
            <a:xfrm>
              <a:off x="685764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авила езды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елосипед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_s5134"/>
            <p:cNvSpPr/>
            <p:nvPr/>
          </p:nvSpPr>
          <p:spPr>
            <a:xfrm>
              <a:off x="2438280" y="24854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Милиционер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- регулировщи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_s5135"/>
            <p:cNvSpPr/>
            <p:nvPr/>
          </p:nvSpPr>
          <p:spPr>
            <a:xfrm>
              <a:off x="4876920" y="24854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авил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вед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в транспорт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_s5136"/>
            <p:cNvSpPr/>
            <p:nvPr/>
          </p:nvSpPr>
          <p:spPr>
            <a:xfrm>
              <a:off x="4724280" y="4971240"/>
              <a:ext cx="1828440" cy="1657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Если ребенок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терялся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а улиц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Organization Chart 2"/>
          <p:cNvGrpSpPr/>
          <p:nvPr/>
        </p:nvGrpSpPr>
        <p:grpSpPr>
          <a:xfrm>
            <a:off x="457200" y="380880"/>
            <a:ext cx="8228880" cy="5727600"/>
            <a:chOff x="457200" y="380880"/>
            <a:chExt cx="8228880" cy="5727600"/>
          </a:xfrm>
        </p:grpSpPr>
        <p:cxnSp>
          <p:nvCxnSpPr>
            <p:cNvPr id="328" name="_s6148"/>
            <p:cNvCxnSpPr>
              <a:stCxn id="329" idx="0"/>
              <a:endCxn id="330" idx="2"/>
            </p:cNvCxnSpPr>
            <p:nvPr/>
          </p:nvCxnSpPr>
          <p:spPr>
            <a:xfrm flipV="1" rot="16200000">
              <a:off x="5598720" y="1644120"/>
              <a:ext cx="1146240" cy="320076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1" name="_s6149"/>
            <p:cNvCxnSpPr>
              <a:stCxn id="332" idx="0"/>
              <a:endCxn id="330" idx="2"/>
            </p:cNvCxnSpPr>
            <p:nvPr/>
          </p:nvCxnSpPr>
          <p:spPr>
            <a:xfrm flipV="1" rot="16200000">
              <a:off x="4532040" y="2710800"/>
              <a:ext cx="1146240" cy="106704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3" name="_s6150"/>
            <p:cNvCxnSpPr>
              <a:stCxn id="334" idx="0"/>
              <a:endCxn id="330" idx="2"/>
            </p:cNvCxnSpPr>
            <p:nvPr/>
          </p:nvCxnSpPr>
          <p:spPr>
            <a:xfrm flipH="1" flipV="1" rot="5400000">
              <a:off x="3465000" y="2710800"/>
              <a:ext cx="1146240" cy="106740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5" name="_s6151"/>
            <p:cNvCxnSpPr>
              <a:stCxn id="336" idx="0"/>
              <a:endCxn id="330" idx="2"/>
            </p:cNvCxnSpPr>
            <p:nvPr/>
          </p:nvCxnSpPr>
          <p:spPr>
            <a:xfrm flipH="1" flipV="1" rot="5400000">
              <a:off x="2398320" y="1644120"/>
              <a:ext cx="1146240" cy="320112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30" name="_s6152"/>
            <p:cNvSpPr/>
            <p:nvPr/>
          </p:nvSpPr>
          <p:spPr>
            <a:xfrm>
              <a:off x="3657600" y="38088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«Пожарны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герой –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он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с огнем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вступа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в бой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6153"/>
            <p:cNvSpPr/>
            <p:nvPr/>
          </p:nvSpPr>
          <p:spPr>
            <a:xfrm>
              <a:off x="45720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жароопас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едмет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_s6154"/>
            <p:cNvSpPr/>
            <p:nvPr/>
          </p:nvSpPr>
          <p:spPr>
            <a:xfrm>
              <a:off x="259056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брый и зло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гон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6155"/>
            <p:cNvSpPr/>
            <p:nvPr/>
          </p:nvSpPr>
          <p:spPr>
            <a:xfrm>
              <a:off x="472428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ожар в лесу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6156"/>
            <p:cNvSpPr/>
            <p:nvPr/>
          </p:nvSpPr>
          <p:spPr>
            <a:xfrm>
              <a:off x="685764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Спички детя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не игрушк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Organization Chart 7"/>
          <p:cNvGrpSpPr/>
          <p:nvPr/>
        </p:nvGrpSpPr>
        <p:grpSpPr>
          <a:xfrm>
            <a:off x="457200" y="380880"/>
            <a:ext cx="8228880" cy="5727600"/>
            <a:chOff x="457200" y="380880"/>
            <a:chExt cx="8228880" cy="5727600"/>
          </a:xfrm>
        </p:grpSpPr>
        <p:cxnSp>
          <p:nvCxnSpPr>
            <p:cNvPr id="338" name="_s7172"/>
            <p:cNvCxnSpPr>
              <a:stCxn id="339" idx="0"/>
              <a:endCxn id="340" idx="2"/>
            </p:cNvCxnSpPr>
            <p:nvPr/>
          </p:nvCxnSpPr>
          <p:spPr>
            <a:xfrm flipV="1" rot="16200000">
              <a:off x="5598720" y="1644120"/>
              <a:ext cx="1146240" cy="320076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7173"/>
            <p:cNvCxnSpPr>
              <a:stCxn id="342" idx="0"/>
              <a:endCxn id="340" idx="2"/>
            </p:cNvCxnSpPr>
            <p:nvPr/>
          </p:nvCxnSpPr>
          <p:spPr>
            <a:xfrm flipV="1" rot="16200000">
              <a:off x="4532040" y="2710800"/>
              <a:ext cx="1146240" cy="106704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7174"/>
            <p:cNvCxnSpPr>
              <a:stCxn id="344" idx="0"/>
              <a:endCxn id="340" idx="2"/>
            </p:cNvCxnSpPr>
            <p:nvPr/>
          </p:nvCxnSpPr>
          <p:spPr>
            <a:xfrm flipH="1" flipV="1" rot="5400000">
              <a:off x="3465000" y="2710800"/>
              <a:ext cx="1146240" cy="106740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7175"/>
            <p:cNvCxnSpPr>
              <a:stCxn id="346" idx="0"/>
              <a:endCxn id="340" idx="2"/>
            </p:cNvCxnSpPr>
            <p:nvPr/>
          </p:nvCxnSpPr>
          <p:spPr>
            <a:xfrm flipH="1" flipV="1" rot="5400000">
              <a:off x="2398320" y="1644120"/>
              <a:ext cx="1146240" cy="3201120"/>
            </a:xfrm>
            <a:prstGeom prst="bentConnector3">
              <a:avLst>
                <a:gd name="adj1" fmla="val 995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40" name="_s7176"/>
            <p:cNvSpPr/>
            <p:nvPr/>
          </p:nvSpPr>
          <p:spPr>
            <a:xfrm>
              <a:off x="3657600" y="38088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«Не дразнит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собак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не гоняйт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кошек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7177"/>
            <p:cNvSpPr/>
            <p:nvPr/>
          </p:nvSpPr>
          <p:spPr>
            <a:xfrm>
              <a:off x="45720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Бездомн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животны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7178"/>
            <p:cNvSpPr/>
            <p:nvPr/>
          </p:nvSpPr>
          <p:spPr>
            <a:xfrm>
              <a:off x="259056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Домаш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животные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7179"/>
            <p:cNvSpPr/>
            <p:nvPr/>
          </p:nvSpPr>
          <p:spPr>
            <a:xfrm>
              <a:off x="472428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Укусы животны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7180"/>
            <p:cNvSpPr/>
            <p:nvPr/>
          </p:nvSpPr>
          <p:spPr>
            <a:xfrm>
              <a:off x="6857640" y="3817440"/>
              <a:ext cx="1828440" cy="22910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91040"/>
                <a:gd name="textAreaBottom" fmla="*/ 2202120 h 2291040"/>
              </a:gdLst>
              <a:ahLst/>
              <a:rect l="textAreaLeft" t="textAreaTop" r="textAreaRight" b="textAreaBottom"/>
              <a:pathLst>
                <a:path w="21600" h="27064">
                  <a:moveTo>
                    <a:pt x="3600" y="0"/>
                  </a:moveTo>
                  <a:arcTo wR="3600" hR="3600" stAng="16200000" swAng="-5400000"/>
                  <a:lnTo>
                    <a:pt x="0" y="23464"/>
                  </a:lnTo>
                  <a:arcTo wR="3600" hR="3600" stAng="10800000" swAng="-5400000"/>
                  <a:lnTo>
                    <a:pt x="18000" y="270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Правила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обращения 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500" spc="-1" strike="noStrike">
                  <a:solidFill>
                    <a:srgbClr val="ff00ff"/>
                  </a:solidFill>
                  <a:latin typeface="Georgia"/>
                </a:rPr>
                <a:t>животным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Georgia"/>
              </a:rPr>
              <a:t>РЕЗУЛЬТАТЫ ПРОГРАММЫ</a:t>
            </a:r>
            <a:r>
              <a:rPr b="0" lang="ru-RU" sz="3200" spc="-1" strike="noStrike">
                <a:solidFill>
                  <a:srgbClr val="ffff00"/>
                </a:solidFill>
                <a:latin typeface="Georgia"/>
              </a:rPr>
              <a:t>: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рограмма применялась на практике, у детей закрепились знания об общепринятых нормах поведения, как в природе, так и  в социу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Достигли главного – дети узнали не только основные правила личной безопасности, но и смогли  их сформулировать, объяснить необходимость  их применения в экстремальных ситуац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рограмма  востребована  детьми, родителями  и другими педаг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Используемая литератур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Безопасность»  Н.Н.  Авдеева , Н.Л. Князева - СПб: «Детство – Пресс»,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Из опыта работы» Т.Ф.Саули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Твоя безопасность» К.Ю.Белая М – Просвещение 200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Про правила дорожного движения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С. Вол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Правила дорожного движения» Н.А. Изве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Из опыта работы» Т.Ф. Сау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«Тайны дорожных знаков» А.М.Кривиц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8"/>
          <p:cNvGrpSpPr/>
          <p:nvPr/>
        </p:nvGrpSpPr>
        <p:grpSpPr>
          <a:xfrm>
            <a:off x="2230560" y="49680"/>
            <a:ext cx="1787040" cy="1436040"/>
            <a:chOff x="2230560" y="49680"/>
            <a:chExt cx="1787040" cy="1436040"/>
          </a:xfrm>
        </p:grpSpPr>
        <p:sp>
          <p:nvSpPr>
            <p:cNvPr id="214" name="Freeform 19"/>
            <p:cNvSpPr/>
            <p:nvPr/>
          </p:nvSpPr>
          <p:spPr>
            <a:xfrm rot="17556600">
              <a:off x="2520360" y="392760"/>
              <a:ext cx="573120" cy="10011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 rot="17556600">
              <a:off x="3481920" y="277560"/>
              <a:ext cx="296640" cy="71532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 rot="17556600">
              <a:off x="3450600" y="765360"/>
              <a:ext cx="354600" cy="44532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 rot="17556600">
              <a:off x="2552040" y="88920"/>
              <a:ext cx="990360" cy="13572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57200"/>
                <a:gd name="textAreaBottom" fmla="*/ 1357560 h 13572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 18"/>
          <p:cNvGrpSpPr/>
          <p:nvPr/>
        </p:nvGrpSpPr>
        <p:grpSpPr>
          <a:xfrm>
            <a:off x="2201400" y="1441440"/>
            <a:ext cx="1863000" cy="1841760"/>
            <a:chOff x="2201400" y="1441440"/>
            <a:chExt cx="1863000" cy="1841760"/>
          </a:xfrm>
        </p:grpSpPr>
        <p:sp>
          <p:nvSpPr>
            <p:cNvPr id="219" name="Freeform 19"/>
            <p:cNvSpPr/>
            <p:nvPr/>
          </p:nvSpPr>
          <p:spPr>
            <a:xfrm rot="19422600">
              <a:off x="2468880" y="1794600"/>
              <a:ext cx="627480" cy="109800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1098000"/>
                <a:gd name="textAreaBottom" fmla="*/ 1098360 h 10980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20"/>
            <p:cNvSpPr/>
            <p:nvPr/>
          </p:nvSpPr>
          <p:spPr>
            <a:xfrm rot="19422600">
              <a:off x="3538440" y="2175840"/>
              <a:ext cx="324720" cy="78480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21"/>
            <p:cNvSpPr/>
            <p:nvPr/>
          </p:nvSpPr>
          <p:spPr>
            <a:xfrm rot="19422600">
              <a:off x="3305520" y="2653920"/>
              <a:ext cx="388080" cy="48852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22"/>
            <p:cNvSpPr/>
            <p:nvPr/>
          </p:nvSpPr>
          <p:spPr>
            <a:xfrm rot="19422600">
              <a:off x="2536560" y="1617840"/>
              <a:ext cx="1084320" cy="148860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AutoShape 4"/>
          <p:cNvSpPr/>
          <p:nvPr/>
        </p:nvSpPr>
        <p:spPr>
          <a:xfrm>
            <a:off x="457200" y="3808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4038480" y="0"/>
            <a:ext cx="5105520" cy="29718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способствовать усвоению деть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общепринятых норм и прави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пове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безопасно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жизне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8e4"/>
                </a:solidFill>
                <a:latin typeface="Bookman Old Style"/>
              </a:rPr>
              <a:t>в повседневной жизни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33520" y="1752480"/>
            <a:ext cx="2133360" cy="838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ЗАДАЧ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ПРОГРАМ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0" y="2666880"/>
            <a:ext cx="8763120" cy="38102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сформировать  основные правила личной 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обеспечить психологическое благополучие и здоровье де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развивать познавательные способности; твор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способности, воображение, мышление;   коммуникатив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     </a:t>
            </a: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навы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научить детей  оказать помощь  себе и пострадавш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8e4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воспитывать личностные  навыки безопасного поведения 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8e4"/>
                </a:solidFill>
                <a:latin typeface="Bookman Old Style"/>
              </a:rPr>
              <a:t>социуме и в бы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ОСНОВНЫЕ ПРИНЦИПЫ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00400" y="137160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ВОЗРАСТ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АДРЕССОВАН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408720" y="2895480"/>
            <a:ext cx="2735280" cy="1368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УЧЕТ УСЛОВ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МЕС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0" y="114300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ИНТЕГ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124080" y="281952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СИСТЕМНОСТЬ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6408720" y="121932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СЕЗОН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0" y="3048120"/>
            <a:ext cx="2735280" cy="136836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КООРДИН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ДЕЯТЕЛЬНО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ПЕДАГО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2971800" y="4572000"/>
            <a:ext cx="2971800" cy="1981080"/>
          </a:xfrm>
          <a:prstGeom prst="horizontalScrol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ПРЕЕМСТВЕН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ВЗАИМОДЕЙСТВ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С РЕБЕНК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Bookman Old Style"/>
              </a:rPr>
              <a:t>В ДОУ И СЕМ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Воспитательная программа реализовалась при участии 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е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едагогов и специалистов (руководитель по ФИЗО, музыкальный руководитель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Роди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Сроки и этапы реализации программы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007-2009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Georgia"/>
              </a:rPr>
              <a:t>Условия реализации программы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" y="990720"/>
          <a:ext cx="8763120" cy="5867280"/>
        </p:xfrm>
        <a:graphic>
          <a:graphicData uri="http://schemas.openxmlformats.org/drawingml/2006/table">
            <a:tbl>
              <a:tblPr/>
              <a:tblGrid>
                <a:gridCol w="1303200"/>
                <a:gridCol w="745992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Кадровые усло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99ff99"/>
                        </a:buClr>
                        <a:buSzPct val="80000"/>
                        <a:buFont typeface="Georg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вышение квалификации педагога через художественную и  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учно-популярную литератур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привлечение специалистов  ДОУ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уководитель по ФИЗО, старший воспитатель, 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	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                                        музыкальный руководитель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Развитие материально-технической базы</a:t>
                      </a:r>
                      <a:r>
                        <a:rPr b="0" lang="ru-RU" sz="12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наглядные пособия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/ плакаты по ОБЖ, картинки и картины, приобретение художественной литературы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развивающая среда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иобретение настольных иг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зготовление альбомов: «Какими предметами нельзя пользоваться?», «Знаки в природе», изготовление стенда для родителей «Что нельзя приносить в детский сад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оздание  плакатов: «Осторожно, злые животные!» ,«Два леса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формление гербария  «Лекарственные раст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ставки: рисунков и поделок по тем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8ae"/>
                          </a:solidFill>
                          <a:latin typeface="Georgia"/>
                        </a:rPr>
                        <a:t>Ознакомление детей с объектами социальной сфер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Ч-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Скорая помощ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 Ветеринарный пун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66120" y="1813680"/>
            <a:ext cx="2544480" cy="4525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8ae"/>
                </a:solidFill>
                <a:latin typeface="Georgia"/>
              </a:rPr>
              <a:t>       </a:t>
            </a:r>
            <a:r>
              <a:rPr b="1" lang="ru-RU" sz="1600" spc="-1" strike="noStrike">
                <a:solidFill>
                  <a:srgbClr val="993300"/>
                </a:solidFill>
                <a:latin typeface="Georgia"/>
              </a:rPr>
              <a:t>Изучение  теоретических основ 2007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Н.Н.Авдеева «Безопасность» - К.Ю.Белая «Твоя безопасность» - Т.Ф.Саулина Из опыта работы «Три сигнала светофора»»-Н.А.Извекова  «Правила дорожного движени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3200400" y="1676520"/>
            <a:ext cx="2743200" cy="472428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724280"/>
              <a:gd name="textAreaBottom" fmla="*/ 4590360 h 4724280"/>
            </a:gdLst>
            <a:ahLst/>
            <a:rect l="textAreaLeft" t="textAreaTop" r="textAreaRight" b="textAreaBottom"/>
            <a:pathLst>
              <a:path w="21600" h="37197">
                <a:moveTo>
                  <a:pt x="3600" y="0"/>
                </a:moveTo>
                <a:arcTo wR="3600" hR="3600" stAng="16200000" swAng="-5400000"/>
                <a:lnTo>
                  <a:pt x="0" y="33597"/>
                </a:lnTo>
                <a:arcTo wR="3600" hR="3600" stAng="10800000" swAng="-5400000"/>
                <a:lnTo>
                  <a:pt x="18000" y="37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Georgia"/>
              </a:rPr>
              <a:t>Реализация мероприятий программы 2007-2010г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совместная деятельность с     деть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работа с родител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взаимодействие педагога со специалистами ДОУ, (музыкальный работник, физкультурный работник, ст.воспитатель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6172200" y="1676520"/>
            <a:ext cx="2743200" cy="472428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4724280"/>
              <a:gd name="textAreaBottom" fmla="*/ 4590360 h 4724280"/>
            </a:gdLst>
            <a:ahLst/>
            <a:rect l="textAreaLeft" t="textAreaTop" r="textAreaRight" b="textAreaBottom"/>
            <a:pathLst>
              <a:path w="21600" h="37197">
                <a:moveTo>
                  <a:pt x="3600" y="0"/>
                </a:moveTo>
                <a:arcTo wR="3600" hR="3600" stAng="16200000" swAng="-5400000"/>
                <a:lnTo>
                  <a:pt x="0" y="33597"/>
                </a:lnTo>
                <a:arcTo wR="3600" hR="3600" stAng="10800000" swAng="-5400000"/>
                <a:lnTo>
                  <a:pt x="18000" y="37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Georgia"/>
              </a:rPr>
              <a:t>Обобщение и результаты   2010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анкетирование де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анкетирование      роди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обобщение опыта    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участие в педагогических чтениях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8ae"/>
                </a:solidFill>
                <a:latin typeface="Georgia"/>
              </a:rPr>
              <a:t>- участие в районном семина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Bookman Old Style"/>
              </a:rPr>
              <a:t>Этапы реализа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8"/>
          <p:cNvGrpSpPr/>
          <p:nvPr/>
        </p:nvGrpSpPr>
        <p:grpSpPr>
          <a:xfrm>
            <a:off x="1912680" y="-289080"/>
            <a:ext cx="2658240" cy="2547360"/>
            <a:chOff x="1912680" y="-289080"/>
            <a:chExt cx="2658240" cy="2547360"/>
          </a:xfrm>
        </p:grpSpPr>
        <p:sp>
          <p:nvSpPr>
            <p:cNvPr id="244" name="Freeform 19"/>
            <p:cNvSpPr/>
            <p:nvPr/>
          </p:nvSpPr>
          <p:spPr>
            <a:xfrm rot="20247600">
              <a:off x="2146320" y="200160"/>
              <a:ext cx="1142640" cy="1429560"/>
            </a:xfrm>
            <a:custGeom>
              <a:avLst/>
              <a:gdLst>
                <a:gd name="textAreaLeft" fmla="*/ 0 w 1142640"/>
                <a:gd name="textAreaRight" fmla="*/ 1143000 w 1142640"/>
                <a:gd name="textAreaTop" fmla="*/ 0 h 1429560"/>
                <a:gd name="textAreaBottom" fmla="*/ 1429920 h 14295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 rot="20247600">
              <a:off x="3805920" y="851400"/>
              <a:ext cx="591840" cy="102168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1021680"/>
                <a:gd name="textAreaBottom" fmla="*/ 1022040 h 1021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 rot="20247600">
              <a:off x="3218760" y="1470240"/>
              <a:ext cx="707040" cy="63612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22"/>
            <p:cNvSpPr/>
            <p:nvPr/>
          </p:nvSpPr>
          <p:spPr>
            <a:xfrm rot="20247600">
              <a:off x="2208600" y="15120"/>
              <a:ext cx="1974960" cy="1938240"/>
            </a:xfrm>
            <a:custGeom>
              <a:avLst/>
              <a:gdLst>
                <a:gd name="textAreaLeft" fmla="*/ 0 w 1974960"/>
                <a:gd name="textAreaRight" fmla="*/ 1975320 w 1974960"/>
                <a:gd name="textAreaTop" fmla="*/ 0 h 1938240"/>
                <a:gd name="textAreaBottom" fmla="*/ 1938600 h 19382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18"/>
          <p:cNvGrpSpPr/>
          <p:nvPr/>
        </p:nvGrpSpPr>
        <p:grpSpPr>
          <a:xfrm>
            <a:off x="4101480" y="3808080"/>
            <a:ext cx="2832840" cy="1702080"/>
            <a:chOff x="4101480" y="3808080"/>
            <a:chExt cx="2832840" cy="1702080"/>
          </a:xfrm>
        </p:grpSpPr>
        <p:sp>
          <p:nvSpPr>
            <p:cNvPr id="249" name="Freeform 19"/>
            <p:cNvSpPr/>
            <p:nvPr/>
          </p:nvSpPr>
          <p:spPr>
            <a:xfrm rot="11421000">
              <a:off x="5270400" y="4557240"/>
              <a:ext cx="1549800" cy="815760"/>
            </a:xfrm>
            <a:custGeom>
              <a:avLst/>
              <a:gdLst>
                <a:gd name="textAreaLeft" fmla="*/ 0 w 1549800"/>
                <a:gd name="textAreaRight" fmla="*/ 1550160 w 15498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0"/>
            <p:cNvSpPr/>
            <p:nvPr/>
          </p:nvSpPr>
          <p:spPr>
            <a:xfrm rot="11421000">
              <a:off x="4265280" y="3875040"/>
              <a:ext cx="802440" cy="582840"/>
            </a:xfrm>
            <a:custGeom>
              <a:avLst/>
              <a:gdLst>
                <a:gd name="textAreaLeft" fmla="*/ 0 w 802440"/>
                <a:gd name="textAreaRight" fmla="*/ 802800 w 80244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1"/>
            <p:cNvSpPr/>
            <p:nvPr/>
          </p:nvSpPr>
          <p:spPr>
            <a:xfrm rot="11421000">
              <a:off x="5076000" y="4036680"/>
              <a:ext cx="959040" cy="36288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22"/>
            <p:cNvSpPr/>
            <p:nvPr/>
          </p:nvSpPr>
          <p:spPr>
            <a:xfrm rot="11421000">
              <a:off x="4178880" y="4172400"/>
              <a:ext cx="2677680" cy="1105920"/>
            </a:xfrm>
            <a:custGeom>
              <a:avLst/>
              <a:gdLst>
                <a:gd name="textAreaLeft" fmla="*/ 0 w 2677680"/>
                <a:gd name="textAreaRight" fmla="*/ 2678040 w 2677680"/>
                <a:gd name="textAreaTop" fmla="*/ 0 h 1105920"/>
                <a:gd name="textAreaBottom" fmla="*/ 1106280 h 11059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Diagram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4" name="AutoShape 10"/>
          <p:cNvSpPr/>
          <p:nvPr/>
        </p:nvSpPr>
        <p:spPr>
          <a:xfrm>
            <a:off x="6769080" y="45720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Незнакомцы</a:t>
            </a:r>
            <a:r>
              <a:rPr b="1" lang="ru-RU" sz="2000" spc="-1" strike="noStrike">
                <a:solidFill>
                  <a:srgbClr val="ff6699"/>
                </a:solidFill>
                <a:latin typeface="Bookman Old Style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6769080" y="281952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Безопас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колесо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6769080" y="502920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Отдых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природ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0" y="45720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Пожарный герой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он с огн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вступ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в бой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0" y="281952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Один дом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18"/>
          <p:cNvGrpSpPr/>
          <p:nvPr/>
        </p:nvGrpSpPr>
        <p:grpSpPr>
          <a:xfrm>
            <a:off x="4530960" y="10080"/>
            <a:ext cx="2521080" cy="1980000"/>
            <a:chOff x="4530960" y="10080"/>
            <a:chExt cx="2521080" cy="1980000"/>
          </a:xfrm>
        </p:grpSpPr>
        <p:sp>
          <p:nvSpPr>
            <p:cNvPr id="260" name="Freeform 19"/>
            <p:cNvSpPr/>
            <p:nvPr/>
          </p:nvSpPr>
          <p:spPr>
            <a:xfrm flipH="1" rot="849000">
              <a:off x="5672880" y="376200"/>
              <a:ext cx="1260360" cy="1101240"/>
            </a:xfrm>
            <a:custGeom>
              <a:avLst/>
              <a:gdLst>
                <a:gd name="textAreaLeft" fmla="*/ -360 w 1260360"/>
                <a:gd name="textAreaRight" fmla="*/ 1260360 w 1260360"/>
                <a:gd name="textAreaTop" fmla="*/ 0 h 1101240"/>
                <a:gd name="textAreaBottom" fmla="*/ 1101600 h 110124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 flipH="1" rot="849000">
              <a:off x="4617000" y="939960"/>
              <a:ext cx="652680" cy="786600"/>
            </a:xfrm>
            <a:custGeom>
              <a:avLst/>
              <a:gdLst>
                <a:gd name="textAreaLeft" fmla="*/ -360 w 652680"/>
                <a:gd name="textAreaRight" fmla="*/ 652680 w 6526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 flipH="1" rot="849000">
              <a:off x="5214240" y="1406520"/>
              <a:ext cx="779760" cy="489960"/>
            </a:xfrm>
            <a:custGeom>
              <a:avLst/>
              <a:gdLst>
                <a:gd name="textAreaLeft" fmla="*/ 360 w 779760"/>
                <a:gd name="textAreaRight" fmla="*/ 780480 w 779760"/>
                <a:gd name="textAreaTop" fmla="*/ 0 h 489960"/>
                <a:gd name="textAreaBottom" fmla="*/ 490320 h 4899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 flipH="1" rot="849000">
              <a:off x="4724640" y="253440"/>
              <a:ext cx="2178000" cy="1492920"/>
            </a:xfrm>
            <a:custGeom>
              <a:avLst/>
              <a:gdLst>
                <a:gd name="textAreaLeft" fmla="*/ 360 w 2178000"/>
                <a:gd name="textAreaRight" fmla="*/ 2178720 w 2178000"/>
                <a:gd name="textAreaTop" fmla="*/ 0 h 1492920"/>
                <a:gd name="textAreaBottom" fmla="*/ 1493280 h 149292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18"/>
          <p:cNvGrpSpPr/>
          <p:nvPr/>
        </p:nvGrpSpPr>
        <p:grpSpPr>
          <a:xfrm>
            <a:off x="5334480" y="1752480"/>
            <a:ext cx="1371240" cy="2178000"/>
            <a:chOff x="5334480" y="1752480"/>
            <a:chExt cx="1371240" cy="2178000"/>
          </a:xfrm>
        </p:grpSpPr>
        <p:sp>
          <p:nvSpPr>
            <p:cNvPr id="265" name="Freeform 19"/>
            <p:cNvSpPr/>
            <p:nvPr/>
          </p:nvSpPr>
          <p:spPr>
            <a:xfrm flipH="1" rot="5400000">
              <a:off x="5620320" y="2848320"/>
              <a:ext cx="1260360" cy="901080"/>
            </a:xfrm>
            <a:custGeom>
              <a:avLst/>
              <a:gdLst>
                <a:gd name="textAreaLeft" fmla="*/ -360 w 1260360"/>
                <a:gd name="textAreaRight" fmla="*/ 1260360 w 126036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0"/>
            <p:cNvSpPr/>
            <p:nvPr/>
          </p:nvSpPr>
          <p:spPr>
            <a:xfrm flipH="1" rot="5400000">
              <a:off x="5329800" y="1757160"/>
              <a:ext cx="652680" cy="644040"/>
            </a:xfrm>
            <a:custGeom>
              <a:avLst/>
              <a:gdLst>
                <a:gd name="textAreaLeft" fmla="*/ -360 w 652680"/>
                <a:gd name="textAreaRight" fmla="*/ 652680 w 65268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1"/>
            <p:cNvSpPr/>
            <p:nvPr/>
          </p:nvSpPr>
          <p:spPr>
            <a:xfrm flipH="1" rot="5400000">
              <a:off x="5145840" y="2597400"/>
              <a:ext cx="779760" cy="400680"/>
            </a:xfrm>
            <a:custGeom>
              <a:avLst/>
              <a:gdLst>
                <a:gd name="textAreaLeft" fmla="*/ 360 w 779760"/>
                <a:gd name="textAreaRight" fmla="*/ 780480 w 77976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2"/>
            <p:cNvSpPr/>
            <p:nvPr/>
          </p:nvSpPr>
          <p:spPr>
            <a:xfrm flipH="1" rot="5400000">
              <a:off x="5005440" y="2230560"/>
              <a:ext cx="2178000" cy="1221480"/>
            </a:xfrm>
            <a:custGeom>
              <a:avLst/>
              <a:gdLst>
                <a:gd name="textAreaLeft" fmla="*/ 360 w 2178000"/>
                <a:gd name="textAreaRight" fmla="*/ 2178720 w 217800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18"/>
          <p:cNvGrpSpPr/>
          <p:nvPr/>
        </p:nvGrpSpPr>
        <p:grpSpPr>
          <a:xfrm>
            <a:off x="1676520" y="2057040"/>
            <a:ext cx="1523520" cy="1035000"/>
            <a:chOff x="1676520" y="2057040"/>
            <a:chExt cx="1523520" cy="1035000"/>
          </a:xfrm>
        </p:grpSpPr>
        <p:sp>
          <p:nvSpPr>
            <p:cNvPr id="270" name="Freeform 19"/>
            <p:cNvSpPr/>
            <p:nvPr/>
          </p:nvSpPr>
          <p:spPr>
            <a:xfrm rot="16200000">
              <a:off x="1882080" y="2291400"/>
              <a:ext cx="599040" cy="10011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 rot="16200000">
              <a:off x="2687400" y="1854720"/>
              <a:ext cx="309960" cy="7153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 rot="16200000">
              <a:off x="2790720" y="2331360"/>
              <a:ext cx="370440" cy="4453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445320"/>
                <a:gd name="textAreaBottom" fmla="*/ 445680 h 44532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 rot="16200000">
              <a:off x="1837440" y="1895760"/>
              <a:ext cx="1035000" cy="135720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357200"/>
                <a:gd name="textAreaBottom" fmla="*/ 1357560 h 135720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AutoShape 62"/>
          <p:cNvSpPr/>
          <p:nvPr/>
        </p:nvSpPr>
        <p:spPr>
          <a:xfrm>
            <a:off x="3200400" y="2057400"/>
            <a:ext cx="2133720" cy="2057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СНО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РАЗДЕ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0" y="4876920"/>
            <a:ext cx="2374920" cy="122400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«Не дразн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соба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ff6699"/>
                </a:solidFill>
                <a:latin typeface="Bookman Old Style"/>
              </a:rPr>
              <a:t>не гоняйте коше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oup 18"/>
          <p:cNvGrpSpPr/>
          <p:nvPr/>
        </p:nvGrpSpPr>
        <p:grpSpPr>
          <a:xfrm>
            <a:off x="2039400" y="4065120"/>
            <a:ext cx="2322000" cy="1472760"/>
            <a:chOff x="2039400" y="4065120"/>
            <a:chExt cx="2322000" cy="1472760"/>
          </a:xfrm>
        </p:grpSpPr>
        <p:sp>
          <p:nvSpPr>
            <p:cNvPr id="277" name="Freeform 19"/>
            <p:cNvSpPr/>
            <p:nvPr/>
          </p:nvSpPr>
          <p:spPr>
            <a:xfrm flipH="1" rot="11421600">
              <a:off x="2104560" y="4452840"/>
              <a:ext cx="1234440" cy="815400"/>
            </a:xfrm>
            <a:custGeom>
              <a:avLst/>
              <a:gdLst>
                <a:gd name="textAreaLeft" fmla="*/ -360 w 1234440"/>
                <a:gd name="textAreaRight" fmla="*/ 1234440 w 123444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0"/>
            <p:cNvSpPr/>
            <p:nvPr/>
          </p:nvSpPr>
          <p:spPr>
            <a:xfrm flipH="1" rot="11421600">
              <a:off x="3674880" y="4254480"/>
              <a:ext cx="639360" cy="582480"/>
            </a:xfrm>
            <a:custGeom>
              <a:avLst/>
              <a:gdLst>
                <a:gd name="textAreaLeft" fmla="*/ 360 w 639360"/>
                <a:gd name="textAreaRight" fmla="*/ 640080 w 6393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1"/>
            <p:cNvSpPr/>
            <p:nvPr/>
          </p:nvSpPr>
          <p:spPr>
            <a:xfrm flipH="1" rot="11421600">
              <a:off x="2938680" y="4130640"/>
              <a:ext cx="763920" cy="363240"/>
            </a:xfrm>
            <a:custGeom>
              <a:avLst/>
              <a:gdLst>
                <a:gd name="textAreaLeft" fmla="*/ 360 w 763920"/>
                <a:gd name="textAreaRight" fmla="*/ 764640 w 7639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 flipH="1" rot="11421600">
              <a:off x="2120760" y="4249080"/>
              <a:ext cx="2133360" cy="1105560"/>
            </a:xfrm>
            <a:custGeom>
              <a:avLst/>
              <a:gdLst>
                <a:gd name="textAreaLeft" fmla="*/ 360 w 2133360"/>
                <a:gd name="textAreaRight" fmla="*/ 2134080 w 2133360"/>
                <a:gd name="textAreaTop" fmla="*/ 0 h 1105560"/>
                <a:gd name="textAreaBottom" fmla="*/ 1105920 h 110556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Organization Chart 10"/>
          <p:cNvGrpSpPr/>
          <p:nvPr/>
        </p:nvGrpSpPr>
        <p:grpSpPr>
          <a:xfrm>
            <a:off x="0" y="0"/>
            <a:ext cx="9143280" cy="6018120"/>
            <a:chOff x="0" y="0"/>
            <a:chExt cx="9143280" cy="601812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569200" y="1408320"/>
              <a:ext cx="1204200" cy="320076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>
              <a:off x="4571280" y="2406600"/>
              <a:ext cx="3240" cy="120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2369160" y="1408320"/>
              <a:ext cx="1204200" cy="3200760"/>
            </a:xfrm>
            <a:prstGeom prst="bentConnector3">
              <a:avLst>
                <a:gd name="adj1" fmla="val 127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5"/>
            <p:cNvSpPr/>
            <p:nvPr/>
          </p:nvSpPr>
          <p:spPr>
            <a:xfrm>
              <a:off x="3200040" y="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«Один дома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6"/>
            <p:cNvSpPr/>
            <p:nvPr/>
          </p:nvSpPr>
          <p:spPr>
            <a:xfrm>
              <a:off x="0" y="361080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Прямые запр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и умен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правильн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обращатьс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с некоторы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запретами</a:t>
              </a:r>
              <a:r>
                <a:rPr b="1" lang="en-US" sz="2700" spc="-1" strike="noStrike">
                  <a:solidFill>
                    <a:srgbClr val="ff6699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7"/>
            <p:cNvSpPr/>
            <p:nvPr/>
          </p:nvSpPr>
          <p:spPr>
            <a:xfrm>
              <a:off x="3200040" y="361080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Открытое окно,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балкон как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источник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опас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58"/>
            <p:cNvSpPr/>
            <p:nvPr/>
          </p:nvSpPr>
          <p:spPr>
            <a:xfrm>
              <a:off x="6400440" y="3610800"/>
              <a:ext cx="2742840" cy="2407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Экстремаль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Georgia"/>
                </a:rPr>
                <a:t>ситуации в быт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Organization Chart 7"/>
          <p:cNvGrpSpPr/>
          <p:nvPr/>
        </p:nvGrpSpPr>
        <p:grpSpPr>
          <a:xfrm>
            <a:off x="457200" y="0"/>
            <a:ext cx="8228880" cy="6108840"/>
            <a:chOff x="457200" y="0"/>
            <a:chExt cx="8228880" cy="6108840"/>
          </a:xfrm>
        </p:grpSpPr>
        <p:cxnSp>
          <p:nvCxnSpPr>
            <p:cNvPr id="290" name="_s3076"/>
            <p:cNvCxnSpPr>
              <a:stCxn id="291" idx="0"/>
              <a:endCxn id="292" idx="2"/>
            </p:cNvCxnSpPr>
            <p:nvPr/>
          </p:nvCxnSpPr>
          <p:spPr>
            <a:xfrm flipV="1" rot="16200000">
              <a:off x="3123360" y="4198320"/>
              <a:ext cx="764280" cy="252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3" name="_s3077"/>
            <p:cNvCxnSpPr>
              <a:stCxn id="294" idx="0"/>
              <a:endCxn id="295" idx="2"/>
            </p:cNvCxnSpPr>
            <p:nvPr/>
          </p:nvCxnSpPr>
          <p:spPr>
            <a:xfrm flipV="1" rot="16200000">
              <a:off x="5257080" y="4198320"/>
              <a:ext cx="764280" cy="252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3078"/>
            <p:cNvCxnSpPr>
              <a:stCxn id="297" idx="0"/>
              <a:endCxn id="298" idx="2"/>
            </p:cNvCxnSpPr>
            <p:nvPr/>
          </p:nvCxnSpPr>
          <p:spPr>
            <a:xfrm flipV="1" rot="16200000">
              <a:off x="5789520" y="308160"/>
              <a:ext cx="764280" cy="320076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9" name="_s3079"/>
            <p:cNvCxnSpPr>
              <a:stCxn id="295" idx="0"/>
              <a:endCxn id="298" idx="2"/>
            </p:cNvCxnSpPr>
            <p:nvPr/>
          </p:nvCxnSpPr>
          <p:spPr>
            <a:xfrm flipV="1" rot="16200000">
              <a:off x="4722840" y="1374840"/>
              <a:ext cx="764280" cy="106704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3080"/>
            <p:cNvCxnSpPr>
              <a:stCxn id="292" idx="0"/>
              <a:endCxn id="298" idx="2"/>
            </p:cNvCxnSpPr>
            <p:nvPr/>
          </p:nvCxnSpPr>
          <p:spPr>
            <a:xfrm flipH="1" flipV="1" rot="5400000">
              <a:off x="3656160" y="1374840"/>
              <a:ext cx="764280" cy="106740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81"/>
            <p:cNvCxnSpPr>
              <a:stCxn id="302" idx="0"/>
              <a:endCxn id="298" idx="2"/>
            </p:cNvCxnSpPr>
            <p:nvPr/>
          </p:nvCxnSpPr>
          <p:spPr>
            <a:xfrm flipH="1" flipV="1" rot="5400000">
              <a:off x="2589480" y="308160"/>
              <a:ext cx="764280" cy="3201120"/>
            </a:xfrm>
            <a:prstGeom prst="bentConnector3">
              <a:avLst>
                <a:gd name="adj1" fmla="val 149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8" name="_s3082"/>
            <p:cNvSpPr/>
            <p:nvPr/>
          </p:nvSpPr>
          <p:spPr>
            <a:xfrm>
              <a:off x="3657600" y="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«</a:t>
              </a: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Отдых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н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Georgia"/>
                </a:rPr>
                <a:t>природе</a:t>
              </a:r>
              <a:r>
                <a:rPr b="1" lang="en-US" sz="2400" spc="-1" strike="noStrike">
                  <a:solidFill>
                    <a:srgbClr val="993300"/>
                  </a:solidFill>
                  <a:latin typeface="Georgia"/>
                </a:rPr>
                <a:t>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3"/>
            <p:cNvSpPr/>
            <p:nvPr/>
          </p:nvSpPr>
          <p:spPr>
            <a:xfrm>
              <a:off x="45720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В природ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все взаимосвязано</a:t>
              </a:r>
              <a:r>
                <a:rPr b="0" lang="en-US" sz="14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_s3084"/>
            <p:cNvSpPr/>
            <p:nvPr/>
          </p:nvSpPr>
          <p:spPr>
            <a:xfrm>
              <a:off x="259056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Ядовитые 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лекарственны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раст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_s3085"/>
            <p:cNvSpPr/>
            <p:nvPr/>
          </p:nvSpPr>
          <p:spPr>
            <a:xfrm>
              <a:off x="472428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Загрязн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окружающе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сре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6"/>
            <p:cNvSpPr/>
            <p:nvPr/>
          </p:nvSpPr>
          <p:spPr>
            <a:xfrm>
              <a:off x="6857640" y="2290680"/>
              <a:ext cx="18284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Ухудш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экологическ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ситу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_s3087"/>
            <p:cNvSpPr/>
            <p:nvPr/>
          </p:nvSpPr>
          <p:spPr>
            <a:xfrm>
              <a:off x="4726080" y="4581720"/>
              <a:ext cx="18266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Бережно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отношение к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живой природ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3088"/>
            <p:cNvSpPr/>
            <p:nvPr/>
          </p:nvSpPr>
          <p:spPr>
            <a:xfrm>
              <a:off x="2592360" y="4581720"/>
              <a:ext cx="1826640" cy="15271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Восстано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окружающе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сред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р</dc:creator>
  <dc:description/>
  <dc:language>en-US</dc:language>
  <cp:lastModifiedBy>мир</cp:lastModifiedBy>
  <dcterms:modified xsi:type="dcterms:W3CDTF">2012-06-12T19:45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