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FF3F-0F27-4C17-ACCA-EC93AE43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419-5677-4EEE-AD50-EA2DB0AA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EAD-5FD4-4FC8-81CF-D2767215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6C5-EBFD-4C1B-9D3B-97EBBF6C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5A1F-4E9E-45E1-AD4B-A7CD2C7D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09B1-EB46-4358-A187-6E2AB305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7F9E-1A44-41EA-BB44-A7716540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525F-47DD-4812-8C0E-9F7C30BB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E6DA-15FA-4C95-8A98-04025063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A73B-68DE-4861-A272-33936550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6CCD-2AD6-4ADC-8523-B56A0DF9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2EE-D88E-4406-AC54-C0FA9E29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AF2B-ACC0-4C8C-A03F-C3055C68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B3D7-D457-4A55-81BE-213F32DF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A5F0-FDEC-430B-A83A-E3FB10B2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856F-2C90-4A7F-82CE-9D6F96F1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9680-3380-4334-B047-35758664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90C-8580-428B-AD86-6E17DDDC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04F-F556-4B76-B34E-C776DE66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8A6-A43D-4445-B03E-50C8F3D5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78F-0391-4354-848C-12E57227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BC7-3EF8-47B6-B107-01525495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308-2BFB-4F2A-827A-6081A068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D6E8-A9FA-4820-B0E7-16C72CEF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E80D-1D87-464C-8ABA-FDEB0BFFD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58D7-3EAB-44D5-B8FF-40EB05C72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e1a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988e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10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10.xml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91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изация специального и коррекционного образования в райо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835280" y="4508280"/>
            <a:ext cx="71294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казенное специа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ррекционное) образовательное учреждение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хся, воспитанников с ограниче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ями здоровья специа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ррекционная) общеобразовательная  школа-интерн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а г. Советска Кир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о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8000" y="1700280"/>
            <a:ext cx="5328000" cy="43344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дре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2349360"/>
            <a:ext cx="1655640" cy="43200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даг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2349360"/>
            <a:ext cx="1657440" cy="43200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2349360"/>
            <a:ext cx="1584360" cy="43200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3640" y="2349360"/>
            <a:ext cx="1944720" cy="43200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.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3141720"/>
            <a:ext cx="5040360" cy="50328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ординация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3933720"/>
            <a:ext cx="1368360" cy="57492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М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3933720"/>
            <a:ext cx="1295640" cy="57492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720" y="3933720"/>
            <a:ext cx="1439640" cy="57492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40360" y="3933720"/>
            <a:ext cx="2519280" cy="574920"/>
          </a:xfrm>
          <a:prstGeom prst="rect">
            <a:avLst/>
          </a:prstGeom>
          <a:solidFill>
            <a:srgbClr val="e6f5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дминист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492000" y="2133720"/>
            <a:ext cx="35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32360" y="213372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72360" y="2133720"/>
            <a:ext cx="792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08000" y="3645000"/>
            <a:ext cx="1440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419640" y="3645000"/>
            <a:ext cx="57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3645000"/>
            <a:ext cx="1081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3645000"/>
            <a:ext cx="502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67280" y="4221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908000" y="2133720"/>
            <a:ext cx="648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8360" y="256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532720" y="2565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348000" y="4723920"/>
            <a:ext cx="518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48000" y="4508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ганизация работы с педагог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постоянно действующего семинара  по вопросам коррекционной педагог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совместно с психологами ОУ диагностики школьной готовности по единой метод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трудничество с РМО по вопросам школьной готовности детей, имеющих нарушения разви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и распространение опыта работы по новому УМК «Перспективная начальная школ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оение нового УМК по предшколе «Школа нового покол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6" action="ppaction://hlinksldjump"/>
          </p:cNvPr>
          <p:cNvSpPr/>
          <p:nvPr/>
        </p:nvSpPr>
        <p:spPr>
          <a:xfrm>
            <a:off x="8244000" y="6381720"/>
            <a:ext cx="576000" cy="216000"/>
          </a:xfrm>
          <a:custGeom>
            <a:avLst/>
            <a:gdLst>
              <a:gd name="textAreaLeft" fmla="*/ 13680 w 576000"/>
              <a:gd name="textAreaRight" fmla="*/ 562320 w 57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40" h="21600">
                <a:moveTo>
                  <a:pt x="0" y="0"/>
                </a:moveTo>
                <a:lnTo>
                  <a:pt x="57540" y="0"/>
                </a:lnTo>
                <a:lnTo>
                  <a:pt x="57540" y="21600"/>
                </a:lnTo>
                <a:lnTo>
                  <a:pt x="0" y="21600"/>
                </a:lnTo>
                <a:close/>
              </a:path>
              <a:path fill="lightenLess" w="57540" h="21600">
                <a:moveTo>
                  <a:pt x="0" y="0"/>
                </a:moveTo>
                <a:lnTo>
                  <a:pt x="57540" y="0"/>
                </a:lnTo>
                <a:lnTo>
                  <a:pt x="56140" y="1400"/>
                </a:lnTo>
                <a:lnTo>
                  <a:pt x="1400" y="1400"/>
                </a:lnTo>
                <a:close/>
              </a:path>
              <a:path fill="darken" w="57540" h="21600">
                <a:moveTo>
                  <a:pt x="57540" y="0"/>
                </a:moveTo>
                <a:lnTo>
                  <a:pt x="57540" y="21600"/>
                </a:lnTo>
                <a:lnTo>
                  <a:pt x="56140" y="20200"/>
                </a:lnTo>
                <a:lnTo>
                  <a:pt x="56140" y="1400"/>
                </a:lnTo>
                <a:close/>
              </a:path>
              <a:path fill="darkenLess" w="57540" h="21600">
                <a:moveTo>
                  <a:pt x="57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40" y="20200"/>
                </a:lnTo>
                <a:close/>
              </a:path>
              <a:path fill="lighten" w="57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f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ганизация работы с родителями и деть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школы для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уск информационных материалов для педагогов и родителей по вопросам коррекционной педагог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кспресс-диагностика детей по запросу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работка программы коррекционных занятий  для детей, прошедших обследование на ПМП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работы ПМПК с группами кратковременного пребывания для детей, нуждающихся в углубленной диагност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6" action="ppaction://hlinksldjump"/>
          </p:cNvPr>
          <p:cNvSpPr/>
          <p:nvPr/>
        </p:nvSpPr>
        <p:spPr>
          <a:xfrm>
            <a:off x="8028000" y="6381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f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изация работы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медицинской служб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ация сотрудничества с детской консультацией по ранней диагностике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дение мониторинга развития детей в райо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лючение в работу постоянно действующих семинаров по коррекционной педагог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4" action="ppaction://hlinksldjump"/>
          </p:cNvPr>
          <p:cNvSpPr/>
          <p:nvPr/>
        </p:nvSpPr>
        <p:spPr>
          <a:xfrm>
            <a:off x="8101080" y="6453360"/>
            <a:ext cx="503280" cy="21564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364" h="21600">
                <a:moveTo>
                  <a:pt x="0" y="0"/>
                </a:moveTo>
                <a:lnTo>
                  <a:pt x="50364" y="0"/>
                </a:lnTo>
                <a:lnTo>
                  <a:pt x="50364" y="21600"/>
                </a:lnTo>
                <a:lnTo>
                  <a:pt x="0" y="21600"/>
                </a:lnTo>
                <a:close/>
              </a:path>
              <a:path fill="lightenLess" w="50364" h="21600">
                <a:moveTo>
                  <a:pt x="0" y="0"/>
                </a:moveTo>
                <a:lnTo>
                  <a:pt x="50364" y="0"/>
                </a:lnTo>
                <a:lnTo>
                  <a:pt x="48964" y="1400"/>
                </a:lnTo>
                <a:lnTo>
                  <a:pt x="1400" y="1400"/>
                </a:lnTo>
                <a:close/>
              </a:path>
              <a:path fill="darken" w="50364" h="21600">
                <a:moveTo>
                  <a:pt x="50364" y="0"/>
                </a:moveTo>
                <a:lnTo>
                  <a:pt x="50364" y="21600"/>
                </a:lnTo>
                <a:lnTo>
                  <a:pt x="48964" y="20200"/>
                </a:lnTo>
                <a:lnTo>
                  <a:pt x="48964" y="1400"/>
                </a:lnTo>
                <a:close/>
              </a:path>
              <a:path fill="darkenLess" w="50364" h="21600">
                <a:moveTo>
                  <a:pt x="50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4" y="20200"/>
                </a:lnTo>
                <a:close/>
              </a:path>
              <a:path fill="lighten" w="50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f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изация работы ПМ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68360" y="1628640"/>
          <a:ext cx="8229600" cy="4940280"/>
        </p:xfrm>
        <a:graphic>
          <a:graphicData uri="http://schemas.openxmlformats.org/drawingml/2006/table">
            <a:tbl>
              <a:tblPr/>
              <a:tblGrid>
                <a:gridCol w="711000"/>
                <a:gridCol w="4775400"/>
                <a:gridCol w="27432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сотрудничества с детской консультац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граммы коррекционных занятий  для детей, прошедших обследование на ПМП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-май, 2010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летнего лагеря с группами кратковременного пребывания для детей после ПМП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-июль 2010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квалифик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, октябрь 2010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отраслевое взаимодействие и проведение мониторин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8459640" y="6669000"/>
            <a:ext cx="684360" cy="189000"/>
          </a:xfrm>
          <a:custGeom>
            <a:avLst/>
            <a:gdLst>
              <a:gd name="textAreaLeft" fmla="*/ 12240 w 684360"/>
              <a:gd name="textAreaRight" fmla="*/ 672120 w 684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8105" h="21600">
                <a:moveTo>
                  <a:pt x="0" y="0"/>
                </a:moveTo>
                <a:lnTo>
                  <a:pt x="78105" y="0"/>
                </a:lnTo>
                <a:lnTo>
                  <a:pt x="78105" y="21600"/>
                </a:lnTo>
                <a:lnTo>
                  <a:pt x="0" y="21600"/>
                </a:lnTo>
                <a:close/>
              </a:path>
              <a:path fill="lightenLess" w="78105" h="21600">
                <a:moveTo>
                  <a:pt x="0" y="0"/>
                </a:moveTo>
                <a:lnTo>
                  <a:pt x="78105" y="0"/>
                </a:lnTo>
                <a:lnTo>
                  <a:pt x="76705" y="1400"/>
                </a:lnTo>
                <a:lnTo>
                  <a:pt x="1400" y="1400"/>
                </a:lnTo>
                <a:close/>
              </a:path>
              <a:path fill="darken" w="78105" h="21600">
                <a:moveTo>
                  <a:pt x="78105" y="0"/>
                </a:moveTo>
                <a:lnTo>
                  <a:pt x="78105" y="21600"/>
                </a:lnTo>
                <a:lnTo>
                  <a:pt x="76705" y="20200"/>
                </a:lnTo>
                <a:lnTo>
                  <a:pt x="76705" y="1400"/>
                </a:lnTo>
                <a:close/>
              </a:path>
              <a:path fill="darkenLess" w="78105" h="21600">
                <a:moveTo>
                  <a:pt x="78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705" y="20200"/>
                </a:lnTo>
                <a:close/>
              </a:path>
              <a:path fill="lighten" w="78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f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лючитель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600200"/>
          <a:ext cx="8229600" cy="5027760"/>
        </p:xfrm>
        <a:graphic>
          <a:graphicData uri="http://schemas.openxmlformats.org/drawingml/2006/table">
            <a:tbl>
              <a:tblPr/>
              <a:tblGrid>
                <a:gridCol w="711360"/>
                <a:gridCol w="4775040"/>
                <a:gridCol w="27432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результатов реализации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ая половина 2011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ание сборника методических материа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ая половина 2012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ещение результатов работы по проекту в С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реализации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ый доклад директора школы о реализации проекта школы – интерната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и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оветска Кировской обл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сурсное обеспечение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26920" y="1557360"/>
          <a:ext cx="7740720" cy="41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4072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ециально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-1908000" y="1125360"/>
          <a:ext cx="9216720" cy="49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00" y="1125360"/>
                    <a:ext cx="9216720" cy="49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2411280" y="2133720"/>
          <a:ext cx="7850160" cy="427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2133720"/>
                    <a:ext cx="785016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826920" y="1700280"/>
            <a:ext cx="3600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1700280"/>
            <a:ext cx="360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сурсное обеспечение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школе разработаны и успешно реализуются проект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рограмма развития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ониторинг качества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Единое информационное пространство в коррекционной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Внедрение верботонального метода реабилитации детей с нарушением слу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человодство – перспективное направление подсобного хозяйства школы-интерна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дагоги школы входят в состав районной ПМПК при Советском РУ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правление проект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ь проекта - Туева А.М., заведующая ИМЦ УО Совет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 проек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00b6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инова Н. М., директор школы-интерна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00b6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данова О.В., зам. директора по 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b00b6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нина О.И., председатель ПМП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едагогический процесс призван обеспечить успешную социализацию  выпускника образовательного учреждения»</a:t>
            </a:r>
            <a:br>
              <a:rPr sz="3200"/>
            </a:b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990880" y="5157720"/>
            <a:ext cx="615312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удрик А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ализ результативност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дение монитор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ление факторов, способствующих достижению усп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вление причин, вызывающих появление недостатков и определение путей корр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Для де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ая диагностика детей до поступления в школ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няя психолого-педагогическая коррек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соответствующего образовательного маршр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Для педагог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 поддержка работы по сопровожд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стратегии совмест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ие обратной связи по вопросам потребности в услугах и обсуждение перспектив сотрудни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ладение педагогами-стажерами практическими методами индивидуально-дифференцированной работы  с проблемным ребен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Для родит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о-медико-педагогическое просвещение по вопросам развит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льтирование по особенностям развит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местное проектирование образовательного маршр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формационн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06 г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опорный центр по коррекционной работе для образовательных учреждений Советского района (Приказ Управления образования администрации Советского района от 19.09.2006г № 108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07 г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 лицензирование, аттестация и аккредитация на право осуществления образовательной деятельности по программа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дошкольного образ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учрежден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и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специальных (коррекционных) образовательных учрежден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и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основного общего образо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среднего (полного) общего образо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специальных (коррекционных) образовательных учрежден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ида для специальных клас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подготовительного и 1-4 классов коррекционных образовательных учрежден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и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специальной (коррекционной) образовательной шко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ид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-9 класс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классов с углубленной трудовой подготовкой специальных (коррекционных) образовательных учреждени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и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0 г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базовое учреждение КИПК и ПРО по направлению «Перспективная начальная школа для детей с задержкой психического развития»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856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Пробле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величение количества детей дошкольного возраста, обследуемых на ПМП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достаточная информированность населения о необходимости обследования детей у невролога, логопеда, психолог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сутствие ряда специалистов в большинстве образовательных учреждений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ыхо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работка и внедрение проектов  силами педагогического потенциала образовательных учреждений при методической  поддержке и сотрудничестве со специалистами различных ведомств.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ть условия для организации методического взаимодей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педагогами района в соответств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современными достижениями педагогической теории и прак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бласти коррекционной педаг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Раннее оказание помощи детям с ограниченными возможностями здоровья  в целях оптимального развития каждого ребенка на основе педагогической поддержки его индивидуальности (возраста, способностей, интересов, склонностей, развития) в условиях специально организованной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Распространение опыта и оказание методической помощи ОУ района по вопросам коррекционной педагог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Просвещение и оказание практической помощи по вопросам диагностики, обучения и воспитания детей с ограниченными возможностями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Организация сетевого взаимодействия со структурами, оказывающими помощь детям с ограниченными возможностями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Создание единого информационного простр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апы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тап - Подготовительны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2009-2010 уч.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тап -  Основн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2010 – 2011уч.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ап - Заключительны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2011 – 2012 уч.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7945560" cy="4840200"/>
        </p:xfrm>
        <a:graphic>
          <a:graphicData uri="http://schemas.openxmlformats.org/drawingml/2006/table">
            <a:tbl>
              <a:tblPr/>
              <a:tblGrid>
                <a:gridCol w="426960"/>
                <a:gridCol w="4775400"/>
                <a:gridCol w="2743200"/>
              </a:tblGrid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частников проекта и распределение их функ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, 2009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документов, методической литературы по теме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-февраль, 2010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механизма реализации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-февраль, 2010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едение итогов реализации первого этапа проекта. Корректировка программы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, 2010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критериев мониторинга реализации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-апрель,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ловия реализаци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уль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МО на базе шк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о-практические конферен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мен опытом работы, мастер - классы, семинары, педагогические десан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рсовая подготовка на базе шк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ение лекций по коррекционной педагогике для студ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ация и проведение прак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23:56Z</dcterms:created>
  <dc:creator>user5</dc:creator>
  <dc:description/>
  <dc:language>en-US</dc:language>
  <cp:lastModifiedBy>user</cp:lastModifiedBy>
  <dcterms:modified xsi:type="dcterms:W3CDTF">2012-08-27T06:39:23Z</dcterms:modified>
  <cp:revision>18</cp:revision>
  <dc:subject/>
  <dc:title>Организация специального и коррекционного образования в районе</dc:title>
</cp:coreProperties>
</file>