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CA6-8C8F-4708-A116-A6931A12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A09-76B4-4028-835E-919CE150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467-2CB3-4F0D-8C39-33126681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C94-00CB-4ED7-84B0-FDA11A47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6BC9-6CD2-4E6F-BAB4-89849CDE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2EE4-5637-4235-B83F-04AFB3E2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4E0-F2E4-433C-9E2A-DCC9D972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8F30-702E-4A23-AA18-EFA5FFBC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4ABE-3DC1-4509-B337-2F788C9A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D784-798A-437A-A3FC-FC98A8B5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ED79-46A0-4E9B-986E-89DBCA78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012-33AD-455E-AC48-7D5A30D8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34CF-10F1-4BF1-9389-836FE5E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098-B3E6-4A1C-9FAA-7855EC75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B80-86E5-4871-B03D-680AB48C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5D76-56AF-4B91-8A95-C78C4ED6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2511-8886-459D-8551-7646EDD4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B44-4236-4825-B238-FE97E9E5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A2D-3775-4EF6-8156-66706DA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7BF-D372-42B2-A361-0F32AF30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5A4-A4F7-4C2E-BF0E-4B39D85E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685-94AE-484E-A350-DB9E065A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21F-1D60-4147-8BD7-22D051A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953-E169-4AC0-BD81-EAE32AF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078D-0393-435F-A2BE-1A5F3A29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570A-73B0-49F4-A720-7D1A89BDC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 специального и коррекционного образования в рай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835280" y="4508280"/>
            <a:ext cx="7129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казенное специ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ррекционное) образовательное учреждение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хся, воспитанников с огранич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ями здоровья спе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ррекционная) общеобразовательная  школа-интерн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. Советска Кир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8000" y="1700280"/>
            <a:ext cx="5328000" cy="4334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ре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2349360"/>
            <a:ext cx="165564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2349360"/>
            <a:ext cx="165744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2349360"/>
            <a:ext cx="158436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194472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.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3141720"/>
            <a:ext cx="5040360" cy="50328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ординац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3933720"/>
            <a:ext cx="136836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3933720"/>
            <a:ext cx="129564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3933720"/>
            <a:ext cx="143964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0360" y="3933720"/>
            <a:ext cx="251928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мини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492000" y="2133720"/>
            <a:ext cx="35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2360" y="213372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72360" y="213372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8000" y="364500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419640" y="364500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3645000"/>
            <a:ext cx="1081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3645000"/>
            <a:ext cx="50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4221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908000" y="213372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836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532720" y="2565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348000" y="4723920"/>
            <a:ext cx="518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48000" y="4508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я работы с педагог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остоянно действующего семинара  по вопросам коррекционной педагог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вместно с психологами ОУ диагностики школьной готовности по единой метод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чество с РМО по вопросам школьной готовности детей, имеющих нарушения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и распространение опыта работы по новому УМК «Перспективная начальная школ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ение нового УМК по предшколе «Школа нового поко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6" action="ppaction://hlinksldjump"/>
          </p:cNvPr>
          <p:cNvSpPr/>
          <p:nvPr/>
        </p:nvSpPr>
        <p:spPr>
          <a:xfrm>
            <a:off x="8244000" y="6381720"/>
            <a:ext cx="576000" cy="21600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40" h="21600">
                <a:moveTo>
                  <a:pt x="0" y="0"/>
                </a:moveTo>
                <a:lnTo>
                  <a:pt x="57540" y="0"/>
                </a:lnTo>
                <a:lnTo>
                  <a:pt x="57540" y="21600"/>
                </a:lnTo>
                <a:lnTo>
                  <a:pt x="0" y="21600"/>
                </a:lnTo>
                <a:close/>
              </a:path>
              <a:path fill="lightenLess" w="57540" h="21600">
                <a:moveTo>
                  <a:pt x="0" y="0"/>
                </a:moveTo>
                <a:lnTo>
                  <a:pt x="57540" y="0"/>
                </a:lnTo>
                <a:lnTo>
                  <a:pt x="56140" y="1400"/>
                </a:lnTo>
                <a:lnTo>
                  <a:pt x="1400" y="1400"/>
                </a:lnTo>
                <a:close/>
              </a:path>
              <a:path fill="darken" w="57540" h="21600">
                <a:moveTo>
                  <a:pt x="57540" y="0"/>
                </a:moveTo>
                <a:lnTo>
                  <a:pt x="57540" y="21600"/>
                </a:lnTo>
                <a:lnTo>
                  <a:pt x="56140" y="20200"/>
                </a:lnTo>
                <a:lnTo>
                  <a:pt x="56140" y="1400"/>
                </a:lnTo>
                <a:close/>
              </a:path>
              <a:path fill="darkenLess" w="57540" h="21600">
                <a:moveTo>
                  <a:pt x="57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40" y="20200"/>
                </a:lnTo>
                <a:close/>
              </a:path>
              <a:path fill="lighten" w="57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и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школы для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уск информационных материалов для педагогов и родителей по вопросам коррекционной педагог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спресс-диагностика детей по запросу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работка программы коррекционных занятий  для детей, прошедших обследование на ПМП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работы ПМПК с группами кратковременного пребывания для детей, нуждающихся в углубленной диагнос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6" action="ppaction://hlinksldjump"/>
          </p:cNvPr>
          <p:cNvSpPr/>
          <p:nvPr/>
        </p:nvSpPr>
        <p:spPr>
          <a:xfrm>
            <a:off x="8028000" y="6381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я работ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медицинской служ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сотрудничества с детской консультацией по ранней диагностик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мониторинга развития детей в рай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ение в работу постоянно действующих семинаров по коррекционной педагог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8101080" y="6453360"/>
            <a:ext cx="503280" cy="21564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64" h="21600">
                <a:moveTo>
                  <a:pt x="0" y="0"/>
                </a:moveTo>
                <a:lnTo>
                  <a:pt x="50364" y="0"/>
                </a:lnTo>
                <a:lnTo>
                  <a:pt x="50364" y="21600"/>
                </a:lnTo>
                <a:lnTo>
                  <a:pt x="0" y="21600"/>
                </a:lnTo>
                <a:close/>
              </a:path>
              <a:path fill="lightenLess" w="50364" h="21600">
                <a:moveTo>
                  <a:pt x="0" y="0"/>
                </a:moveTo>
                <a:lnTo>
                  <a:pt x="50364" y="0"/>
                </a:lnTo>
                <a:lnTo>
                  <a:pt x="48964" y="1400"/>
                </a:lnTo>
                <a:lnTo>
                  <a:pt x="1400" y="1400"/>
                </a:lnTo>
                <a:close/>
              </a:path>
              <a:path fill="darken" w="50364" h="21600">
                <a:moveTo>
                  <a:pt x="50364" y="0"/>
                </a:moveTo>
                <a:lnTo>
                  <a:pt x="50364" y="21600"/>
                </a:lnTo>
                <a:lnTo>
                  <a:pt x="48964" y="20200"/>
                </a:lnTo>
                <a:lnTo>
                  <a:pt x="48964" y="1400"/>
                </a:lnTo>
                <a:close/>
              </a:path>
              <a:path fill="darkenLess" w="50364" h="21600">
                <a:moveTo>
                  <a:pt x="50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4" y="20200"/>
                </a:lnTo>
                <a:close/>
              </a:path>
              <a:path fill="lighten" w="50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я работы ПМ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8360" y="1628640"/>
          <a:ext cx="8229600" cy="4940280"/>
        </p:xfrm>
        <a:graphic>
          <a:graphicData uri="http://schemas.openxmlformats.org/drawingml/2006/table">
            <a:tbl>
              <a:tblPr/>
              <a:tblGrid>
                <a:gridCol w="711000"/>
                <a:gridCol w="4775400"/>
                <a:gridCol w="27432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сотрудничества с детской консульта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граммы коррекционных занятий  для детей, прошедших обследование на ПМП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-май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летнего лагеря с группами кратковременного пребывания для детей после ПМП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-июль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квалифик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, октябрь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отраслевое взаимодействие и проведение монитори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8459640" y="6669000"/>
            <a:ext cx="684360" cy="189000"/>
          </a:xfrm>
          <a:custGeom>
            <a:avLst/>
            <a:gdLst>
              <a:gd name="textAreaLeft" fmla="*/ 12240 w 684360"/>
              <a:gd name="textAreaRight" fmla="*/ 672120 w 684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8105" h="21600">
                <a:moveTo>
                  <a:pt x="0" y="0"/>
                </a:moveTo>
                <a:lnTo>
                  <a:pt x="78105" y="0"/>
                </a:lnTo>
                <a:lnTo>
                  <a:pt x="78105" y="21600"/>
                </a:lnTo>
                <a:lnTo>
                  <a:pt x="0" y="21600"/>
                </a:lnTo>
                <a:close/>
              </a:path>
              <a:path fill="lightenLess" w="78105" h="21600">
                <a:moveTo>
                  <a:pt x="0" y="0"/>
                </a:moveTo>
                <a:lnTo>
                  <a:pt x="78105" y="0"/>
                </a:lnTo>
                <a:lnTo>
                  <a:pt x="76705" y="1400"/>
                </a:lnTo>
                <a:lnTo>
                  <a:pt x="1400" y="1400"/>
                </a:lnTo>
                <a:close/>
              </a:path>
              <a:path fill="darken" w="78105" h="21600">
                <a:moveTo>
                  <a:pt x="78105" y="0"/>
                </a:moveTo>
                <a:lnTo>
                  <a:pt x="78105" y="21600"/>
                </a:lnTo>
                <a:lnTo>
                  <a:pt x="76705" y="20200"/>
                </a:lnTo>
                <a:lnTo>
                  <a:pt x="76705" y="1400"/>
                </a:lnTo>
                <a:close/>
              </a:path>
              <a:path fill="darkenLess" w="78105" h="21600">
                <a:moveTo>
                  <a:pt x="78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05" y="20200"/>
                </a:lnTo>
                <a:close/>
              </a:path>
              <a:path fill="lighten" w="78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8229600" cy="502776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27432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реализации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2011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ние сборника методических материа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половина 201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 результатов работы по проекту в С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реализации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ый доклад директора школы о реализации проекта школы – интернат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и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оветска Кировской об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сурсное обеспечен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26920" y="1557360"/>
          <a:ext cx="7740720" cy="41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4072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ециальн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-1908000" y="1125360"/>
          <a:ext cx="921672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00" y="1125360"/>
                    <a:ext cx="921672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411280" y="2133720"/>
          <a:ext cx="7850160" cy="42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133720"/>
                    <a:ext cx="785016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826920" y="1700280"/>
            <a:ext cx="360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1700280"/>
            <a:ext cx="360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сурсное обеспечен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школе разработаны и успешно реализуются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рограмма развития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ониторинг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Единое информационное пространство в коррекционной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недрение верботонального метода реабилитации детей с нарушением сл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человодство – перспективное направление подсобного хозяйства школы-интерна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и школы входят в состав районной ПМПК при Советском РУ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правление проект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 проекта - Туева А.М., заведующая ИМЦ УО Совет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 проек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00b6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инова Н. М., директор школы-интерн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00b6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данова О.В., зам. директора по 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00b6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на О.И., председатель ПМ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едагогический процесс призван обеспечить успешную социализацию  выпускника образовательного учреждения»</a:t>
            </a:r>
            <a:br>
              <a:rPr sz="3200"/>
            </a:b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990880" y="5157720"/>
            <a:ext cx="615312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дрик А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ализ результативност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ние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факторов, способствующих достижению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причин, вызывающих появление недостатков и определение путей корр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ля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ая диагностика детей до поступления в шко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няя психолого-педагогическая корр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соответствующего образовательного маршр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ля педаг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 поддержка работы по сопровожд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стратегии совмест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обратной связи по вопросам потребности в услугах и обсуждение перспектив сотрудни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ладение педагогами-стажерами практическими методами индивидуально-дифференцированной работы  с проблемным ребен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Для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о-медико-педагогическое просвещение по вопросам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ирование по особенностям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ое проектирование образовательного маршр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06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опорный центр по коррекционной работе для образовательных учреждений Советского района (Приказ Управления образования администрации Советского района от 19.09.2006г № 108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07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лицензирование, аттестация и аккредитация на право осуществления образовательной деятельности по программа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дошкольного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 для специальных клас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подготовительного и 1-4 классов коррекционных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пециальной (коррекционной) образовательной шко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-9 клас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классов с углубленной трудовой подготовкой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0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базовое учреждение КИПК и ПРО по направлению «Перспективная начальная школа для детей с задержкой психического развития»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еличение количества детей дошкольного возраста, обследуемых на ПМП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достаточная информированность населения о необходимости обследования детей у невролога, логопеда, психолог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сутствие ряда специалистов в большинстве образовательных учреждений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ых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работка и внедрение проектов  силами педагогического потенциала образовательных учреждений при методической  поддержке и сотрудничестве со специалистами различных ведомств.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условия для организации методического взаимо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едагогами района в соответств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современными достижениями педагогической теории и прак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ласти коррекционной педаг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ннее оказание помощи детям с ограниченными возможностями здоровья  в целях оптимального развития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Распространение опыта и оказание методической помощи ОУ района по вопросам коррекционной педагог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росвещение и оказание практической помощи по вопросам диагностики, обучения и воспитания детей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рганизация сетевого взаимодействия со структурами, оказывающими помощь детям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Создание единого информацион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 - Подготовитель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009-2010 уч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 -  Основ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010 – 2011уч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 - Заключитель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011 – 2012 уч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7945560" cy="4840200"/>
        </p:xfrm>
        <a:graphic>
          <a:graphicData uri="http://schemas.openxmlformats.org/drawingml/2006/table">
            <a:tbl>
              <a:tblPr/>
              <a:tblGrid>
                <a:gridCol w="426960"/>
                <a:gridCol w="4775400"/>
                <a:gridCol w="274320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частников проекта и распределение их фун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,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документов, методической литературы по теме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-февраль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механизма реализации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-февраль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 реализации первого этапа проекта. Корректировка программы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критериев мониторинга реализации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-апрель,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ловия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МО на базе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о-практические конфер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мен опытом работы, мастер - классы, семинары, педагогические деса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подготовка на базе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ение лекций по коррекционной педагогике для студ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и проведение прак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23:56Z</dcterms:created>
  <dc:creator>user5</dc:creator>
  <dc:description/>
  <dc:language>en-US</dc:language>
  <cp:lastModifiedBy>user</cp:lastModifiedBy>
  <dcterms:modified xsi:type="dcterms:W3CDTF">2012-08-27T06:39:23Z</dcterms:modified>
  <cp:revision>18</cp:revision>
  <dc:subject/>
  <dc:title>Организация специального и коррекционного образования в районе</dc:title>
</cp:coreProperties>
</file>