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1AF-DA41-4109-8C20-59952AD5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46A-98A5-4F7F-8416-82C83C85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6317-0B3E-4BA1-A10D-C8AFBF56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DAC-4FE7-46E7-BEAE-D3BEB56C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6E35-29EB-4BD0-87DB-134B2459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6437-706D-4F4B-85CA-C621BD0D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C586-3390-4063-902D-77F41C17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E336-2C2D-465D-BEC9-9826C53B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EE0C-C1B4-4CDD-B0BB-32A8534D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AF5B-2235-47F0-AE62-DF049A45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4D2B-C83B-4E3D-B8C8-30C94D4C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46B-02AA-49C9-8600-60CECAF0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B66C-1AAC-4948-93AF-A22A74F8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6AB1-BC80-452A-ACCE-592B60E1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8F29-90B7-4CF6-8BF3-E59251DA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591C-7383-4437-86E4-12930F7B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2E50-390A-4585-A5D2-8C3C5F4F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985E9-CC1E-429D-82F2-BB36D701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73F7-0815-4413-A6B3-E8863B7C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56CA-2FB4-4F0E-9954-0FA60E6C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1722-2F5A-414A-A9B7-AF9D6C18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1888-8F85-4505-8C56-508B69F5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A9D-79F7-41F4-BA0C-C88EF85F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AF52-32AC-4E0A-ACF5-C69AB83B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8A7C-F04B-4637-B29B-C3ED54AB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3F1F-5E0C-4527-A789-D36CDCBD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D8AA-477B-4314-9533-67FE1303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0C20-77E8-450D-B361-EE0DE75C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2B94-1A46-4DCF-9AF6-4FE2A74B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2F4F-456A-4525-A1EC-79919C90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8F58-92D1-46F5-A05A-9C308D05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6C56-EE4B-4B4F-8F8B-367660EF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88E4-8AC7-47D1-9F77-565FAACB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7DF-94A1-4539-9668-DE796D4A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EFE58-3EBC-45BD-BA47-BF5FBA74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4D4B-2CE3-4D64-82ED-24386231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3BD3-C42A-4BB7-845B-1D80C76E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E9E5-A54E-4690-9530-F794225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E47C-AF29-4A75-991F-FB77B50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53E41-3831-47BD-8037-506B4E0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B3F83-9518-4A7E-A776-05FC8E14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FBBA-E30A-4442-B6FF-032B2842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4D20E-BDFC-494B-95EB-3764D101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E8F05-C7A5-4010-8251-1C08A334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D2A-9FD3-411E-B33C-F6DD4E1F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68D4C-6D27-4D6E-94E5-FDF30D75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2F6AE-3AE9-4650-9B43-262C1988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86FFB-B9B5-4FEC-BC34-6EA82DBC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DEB63-44F8-4783-9088-1C6F098D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7BD8-07A7-4265-B98D-F379733F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96B3-D2AF-46C6-BB8F-DADF9369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40C3D-D8E0-4612-BBA2-4E9059B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AFF8F-CB84-4D29-9DFF-637377E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BA9A2-EBBD-4B35-B8ED-E9DCEC3D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C015B-8A16-45F6-BD68-6C2A199C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EBB-000E-4B70-90F1-D47C0408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A831C-68E6-4817-A204-4FAF1A48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D8B36-3EB6-4027-B5C3-48450B1E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B3085-AF20-40CA-8C94-0B68DAAA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DBC53-4E6B-43AE-BCEA-43D47AC6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5287-4AFD-4C89-9171-24A136F6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01BAA-F4DE-49DD-B73F-A541F9A2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C756F-4220-4CEF-BAB2-A24D448E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93765-AF9E-4AF3-A2DE-3FC3A99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77B8C-AD18-4583-984C-833756E0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1CE47-7717-429D-9A0E-18E84679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E14-1243-4B74-A3EB-092F545B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717A9-EC5A-4562-8022-1E37BA1F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AB0C6-EE96-406B-9BEC-143180EC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D68F-AC61-4CA5-AC9F-ACD3DDA3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7E7-89DB-4B97-B8E4-87DC8D42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80A-8596-40C1-895B-14F1F242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5CA4-0348-44EE-8B64-02FB149B5CA3}" type="slidenum">
              <a:rPr b="0" lang="ru-RU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15F7-82DE-476C-A74C-C0178C16D02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E5E5-7AB7-400E-99D9-B94D1C9B5EF4}" type="slidenum">
              <a:rPr b="0" lang="ru-RU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4d4d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85E7-8EF6-428C-8043-D9990536E640}" type="slidenum">
              <a:rPr b="0" lang="ru-RU" sz="11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90CB-92DF-42C1-BF9E-C9B2C56348DE}" type="slidenum">
              <a:rPr b="0" lang="ru-RU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bb76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bb76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bb76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4EDA-1F46-4520-9046-F05E0C1F5B15}" type="slidenum">
              <a:rPr b="0" lang="ru-RU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95120" y="334800"/>
            <a:ext cx="8748720" cy="27370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071760" y="3212640"/>
            <a:ext cx="3071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0ad00"/>
                </a:solidFill>
                <a:latin typeface="Times New Roman"/>
                <a:ea typeface="Times New Roman"/>
              </a:rPr>
              <a:t>ОРКСЭ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4464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:\Users\Администратор\Desktop\Презентация\сканирование0003-horz.jpg"/>
          <p:cNvPicPr/>
          <p:nvPr/>
        </p:nvPicPr>
        <p:blipFill>
          <a:blip r:embed="rId1"/>
          <a:stretch/>
        </p:blipFill>
        <p:spPr>
          <a:xfrm>
            <a:off x="324000" y="333360"/>
            <a:ext cx="76849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I:\съезд 1.jpg"/>
          <p:cNvPicPr/>
          <p:nvPr/>
        </p:nvPicPr>
        <p:blipFill>
          <a:blip r:embed="rId1"/>
          <a:stretch/>
        </p:blipFill>
        <p:spPr>
          <a:xfrm>
            <a:off x="4572000" y="260280"/>
            <a:ext cx="4572000" cy="280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I:\съезд 3.jpg"/>
          <p:cNvPicPr/>
          <p:nvPr/>
        </p:nvPicPr>
        <p:blipFill>
          <a:blip r:embed="rId2"/>
          <a:stretch/>
        </p:blipFill>
        <p:spPr>
          <a:xfrm>
            <a:off x="250920" y="189000"/>
            <a:ext cx="4392360" cy="2923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I:\съезд 5.jpg"/>
          <p:cNvPicPr/>
          <p:nvPr/>
        </p:nvPicPr>
        <p:blipFill>
          <a:blip r:embed="rId3"/>
          <a:stretch/>
        </p:blipFill>
        <p:spPr>
          <a:xfrm>
            <a:off x="250920" y="3357720"/>
            <a:ext cx="4392360" cy="33429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4859280" y="3429000"/>
            <a:ext cx="331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6172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246172"/>
                </a:solidFill>
                <a:latin typeface="Times New Roman"/>
                <a:ea typeface="Times New Roman"/>
              </a:rPr>
              <a:t>Мы желаем каждому человеку МИРА, БЕЗОПАСНОСТИ и ПРОЦВЕТА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C:\Users\Администратор\Desktop\Презентация\сканирование0005.jpg"/>
          <p:cNvPicPr/>
          <p:nvPr/>
        </p:nvPicPr>
        <p:blipFill>
          <a:blip r:embed="rId1"/>
          <a:stretch/>
        </p:blipFill>
        <p:spPr>
          <a:xfrm>
            <a:off x="1908000" y="189000"/>
            <a:ext cx="454824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C:\Users\Администратор\Desktop\Презентация\сканирование0006.jpg"/>
          <p:cNvPicPr/>
          <p:nvPr/>
        </p:nvPicPr>
        <p:blipFill>
          <a:blip r:embed="rId1"/>
          <a:stretch/>
        </p:blipFill>
        <p:spPr>
          <a:xfrm>
            <a:off x="2268360" y="260280"/>
            <a:ext cx="429768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Users\Администратор\Desktop\Презентация\сканирование0007.jpg"/>
          <p:cNvPicPr/>
          <p:nvPr/>
        </p:nvPicPr>
        <p:blipFill>
          <a:blip r:embed="rId1"/>
          <a:stretch/>
        </p:blipFill>
        <p:spPr>
          <a:xfrm>
            <a:off x="2050920" y="189000"/>
            <a:ext cx="436248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250920" y="260280"/>
            <a:ext cx="7416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В христианстве «И как хотите, чтобы с вами поступали люди, так и вы поступайте с ни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Коран обязывает «Делайте добро родителям, родственникам, сиротам, нуждающемуся, соседу, как состоящему с вами в родстве, так и не состоящему, и товарищу, и путнику, и тем, кем вы владеет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Китайский философ Конфуций, когда его спросили: «Есть ли такое слово, которое бы одно выражало моральный закон всей жизни?», ответил: «Разве не «взаимность» это слово? Чего не хочешь для себя – не делай други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Древние индийские писания гласят «Да не соделает какой человек другому того, чего не желает себе, зная, что таковое было бы больно. И да будет намерением его для другого то, чего он желает для себ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68360" y="259920"/>
            <a:ext cx="72388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 Грэй говорил, что ребёнок не научится прощать, если ему прощать некого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учится сотрудничать, если всё всегда проходит так, как хочется ему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учится сочувствию и уважению, если он не видит, что другие испытывают боль и переживают неудачу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овьёт в себе отвагу и оптимизм, если ему не придётся столкнуться лицом к лицу с неприятностя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8352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25360" y="433440"/>
            <a:ext cx="8534520" cy="700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учение Президента Российской Федерации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 августа 2009 г. (Пр-2009 ВП-П44-4632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поряжение Председателя Правительства Российской Федерации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1 августа 2009 г. (ВП-П44-4632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24000" y="189000"/>
            <a:ext cx="7200720" cy="69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Миф пер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у придут священнослуж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Миф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предмет будет иметь вероучительный миссионерский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Миф тре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ов одного класса поделят на группы, что приведет к конфликтам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Миф четвер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857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– прихоть власти, он закончится так же внезапно, как и нач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792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-324360" y="1557000"/>
            <a:ext cx="742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27944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младшего подростка мотиваций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79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ставлений младшего подростка о значении нравственных норм и ценностей для достойной жизни личности, семьи, общества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пособностей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7255080" cy="1565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1763640" y="1628280"/>
            <a:ext cx="5122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46172"/>
                </a:solidFill>
                <a:latin typeface="Times New Roman"/>
                <a:ea typeface="Times New Roman"/>
              </a:rPr>
              <a:t>4 класс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46172"/>
                </a:solidFill>
                <a:latin typeface="Times New Roman"/>
                <a:ea typeface="Times New Roman"/>
              </a:rPr>
              <a:t>Один час в неделю в течение всего года.</a:t>
            </a:r>
            <a:r>
              <a:rPr b="1" i="1" lang="ru-RU" sz="1800" spc="-1" strike="noStrike">
                <a:solidFill>
                  <a:srgbClr val="246172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2270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-201600" y="268200"/>
            <a:ext cx="7016760" cy="8841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я школьного праздника, посвящённого Дню народного единства( 4 ноября)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 творческих работ школьников, выполненные ими при поддержке родителей по результатам изучения модулей курса «Основы религиозных культур и светской этики»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а детской (желательно при участии родителей) художественной самодеятельности, представляющие культурно-исторические, духовно-нравственные традиции концессий и народов России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детских художественных работ, представляющих особенности религиозного искусства в России, а также традиционного искусства народов нашей страны, объединённых общей духовно-нравственной проблематикой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устация блюд национальной кухни народов Росс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ногое другое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08000" y="907920"/>
          <a:ext cx="7920000" cy="5249880"/>
        </p:xfrm>
        <a:graphic>
          <a:graphicData uri="http://schemas.openxmlformats.org/drawingml/2006/table">
            <a:tbl>
              <a:tblPr/>
              <a:tblGrid>
                <a:gridCol w="272880"/>
                <a:gridCol w="4086360"/>
                <a:gridCol w="3560760"/>
              </a:tblGrid>
              <a:tr h="914040">
                <a:tc rowSpan="4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Понятны ли тебе тексты учебник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5a2c64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Да, все поня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Не все поня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Ничего не понят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 rowSpan="4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Было ли тебе интересно на уроках по новому курс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Да, очень интерес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Не очень интерес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Не интерес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840">
                <a:tc rowSpan="4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Обсуждаешь ли ты с родителями, бабушками, дедушками изученные на уроках темы по новому предмет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Да, все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Ино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Не обсужд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5a2c64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Rectangle 1"/>
          <p:cNvSpPr/>
          <p:nvPr/>
        </p:nvSpPr>
        <p:spPr>
          <a:xfrm>
            <a:off x="1453320" y="-89640"/>
            <a:ext cx="56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2c64"/>
                </a:solidFill>
                <a:latin typeface="Times New Roman"/>
                <a:ea typeface="Times New Roman"/>
              </a:rPr>
              <a:t>Результаты опроса четверокласс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03:06Z</dcterms:created>
  <dc:creator>Лапина Валентина Васильевна</dc:creator>
  <dc:description/>
  <dc:language>en-US</dc:language>
  <cp:lastModifiedBy>RWT</cp:lastModifiedBy>
  <dcterms:modified xsi:type="dcterms:W3CDTF">2013-03-31T19:13:13Z</dcterms:modified>
  <cp:revision>44</cp:revision>
  <dc:subject/>
  <dc:title>Основы религиозных культур и светской этики</dc:title>
</cp:coreProperties>
</file>