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23B6-C7D7-42F3-B087-B30E5E646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E45F-81CD-4697-8013-D49FB1F4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0128-89F9-48D4-B3E7-549D8F3BE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FD18-7902-4C99-9BDD-25831DA1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FC52-4CA7-4377-9DED-F53DC7008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BE27-739D-46D9-BE40-2EC3CFE5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4553-F3E9-49F5-BE9F-4402AD10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6928-40D3-4DB3-AA3C-39D76294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DC58-C51E-4EB5-90C5-3A12DE45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77C7-0A32-462E-A620-76818219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51B2-4B7F-4DA4-9EA7-1A145334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930A-0EF5-4C7A-A75B-CC0E4FFB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A24E-B68B-4E0A-9E06-BA1D1426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1FD5-665D-4D06-838F-B13D769B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2ABA-E536-489C-BF66-E692795E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1DCC-C09E-4AF4-929D-59191A223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FA32-D243-468C-9998-39D7D1243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057EB-F050-492C-AEA3-2A920885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5BE52-3D55-4C04-A961-1E6984EC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908FE-0680-4C44-93F0-A6ED954F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76C05-461C-4768-AC30-B31C498B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615A3-E02B-4424-B21C-4D692327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4427-F9DE-4557-A050-5D2CDF4A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6A3BA-9F67-4BED-8579-BADF1702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D254E-13B1-4960-B21F-CCCBBFD7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FDD4D-AFE0-40A0-9B41-9F18BAEA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621E1-8420-44F3-BBC2-D6628318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2B412-E7B3-4C45-9682-934E2224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2A245-86C6-47AF-B1F4-D2888BCD5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0EBD3-A462-4427-84DC-01F4E6924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8A661-BEB8-4F04-905C-4DCDBD499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77BCC-A52F-4773-BA82-25E92072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F2F7D-4248-4761-8F98-7346F091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8CAB-4E99-4CAC-A6CE-0ED5AF4B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89B96-4BAB-4B08-8EFF-D7397813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FA031-0C1D-4DFB-8F2D-64C2BFC5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9D80B-F996-4764-9DCB-1B1735A3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0409A-2EF2-42AF-AEE9-1512937E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B1D92-23A2-4942-9629-FC825389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A12C4-3F37-4A31-BFF0-1C8856E1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438F3-F5EE-4C2A-943D-F036B65C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981C6-5FB0-45DA-A3C0-A0D10E55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84C8A-56D4-4483-808E-80D4DD56D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242B5-D3D6-4294-8709-50C104B1F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118A-58C4-42B5-8E2F-349D849F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C9C07-CFC4-4918-8694-82BA2F87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CA08B-F031-4673-83B7-1A646152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A3A9F-12AF-4664-986E-C0580A96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B6BEC-3A17-4AC3-9DAD-CCC3C401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4A74C-89EC-4D6D-BDF7-57C1685D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D524A-187F-4153-8499-A3C56FCB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1D651-FB9C-4A09-97E6-BC67BB49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3E878-055A-4EDA-8357-03536E1C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0F31F-B90F-4F3A-84E1-08AD802D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5D09D-9DB0-467C-BEBF-997ECF3AB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AA96-3C17-49FA-9510-D39F7807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45A4D-EFAC-42F7-A640-A965C40A1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A3344-90F8-47DF-B378-A4DA4A377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E56E5-3382-4596-8354-E8C844CD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B085D-A2BC-4CDD-BC1B-6154E7FE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80572-95BE-44A5-B7BB-2B991357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77C29-7BB8-4214-B5CA-B1A63E0C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AEB57-528B-43BD-9825-8BC0B037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10B3E-1F0C-440B-B626-9088CA30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D64C0-8A82-4600-9335-3312F372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E913E-4C5C-45BF-9353-D80F43EE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A31B-0EA2-4F4C-A542-710B05C2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EDB5B-C558-48D5-A8B3-F01CBCCC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C4976-938F-421C-8C89-3F2652A8D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8C6CE-C866-4B29-803A-8AB02052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4F09-278D-449F-93BA-78B70CB3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D704-0878-4B0B-ACD4-80A8937C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bb76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bb76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bb76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bb76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99FC-11C4-4F2A-BAB4-D5677ECE0647}" type="slidenum">
              <a:rPr b="0" lang="ru-RU" sz="1100" spc="-1" strike="noStrike">
                <a:solidFill>
                  <a:srgbClr val="5a6378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bb76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bb76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bb76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bb76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63E5-72F2-484C-B292-56841573FB48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bb76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bb76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bb76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bb76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A868-4B2B-4521-A95F-8B5700218112}" type="slidenum">
              <a:rPr b="0" lang="ru-RU" sz="1100" spc="-1" strike="noStrike">
                <a:solidFill>
                  <a:srgbClr val="5a6378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4d4d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bb76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bb76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bb76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bb76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4d4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2A90-4BDF-4F33-8E1D-B955788EF566}" type="slidenum">
              <a:rPr b="0" lang="ru-RU" sz="1100" spc="-1" strike="noStrike">
                <a:solidFill>
                  <a:srgbClr val="d4d4d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bb76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bb76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bb76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bb76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BC35-D4F4-42AD-B081-F63F148B66F6}" type="slidenum">
              <a:rPr b="0" lang="ru-RU" sz="1100" spc="-1" strike="noStrike">
                <a:solidFill>
                  <a:srgbClr val="5a6378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bb76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bb76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bb76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bb76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2849-6246-41ED-912D-E637E867B73C}" type="slidenum">
              <a:rPr b="0" lang="ru-RU" sz="1100" spc="-1" strike="noStrike">
                <a:solidFill>
                  <a:srgbClr val="5a6378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5" name="Rectangle 2" descr=""/>
          <p:cNvPicPr/>
          <p:nvPr/>
        </p:nvPicPr>
        <p:blipFill>
          <a:blip r:embed="rId1"/>
          <a:stretch/>
        </p:blipFill>
        <p:spPr>
          <a:xfrm>
            <a:off x="-195120" y="334800"/>
            <a:ext cx="8748720" cy="27370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071760" y="3212640"/>
            <a:ext cx="3071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0ad00"/>
                </a:solidFill>
                <a:latin typeface="Times New Roman"/>
                <a:ea typeface="Times New Roman"/>
              </a:rPr>
              <a:t>ОРКСЭ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7" name="Picture 6" descr=""/>
          <p:cNvPicPr/>
          <p:nvPr/>
        </p:nvPicPr>
        <p:blipFill>
          <a:blip r:embed="rId2"/>
          <a:stretch/>
        </p:blipFill>
        <p:spPr>
          <a:xfrm>
            <a:off x="1835280" y="4005360"/>
            <a:ext cx="446400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C:\Users\Администратор\Desktop\Презентация\сканирование0003-horz.jpg"/>
          <p:cNvPicPr/>
          <p:nvPr/>
        </p:nvPicPr>
        <p:blipFill>
          <a:blip r:embed="rId1"/>
          <a:stretch/>
        </p:blipFill>
        <p:spPr>
          <a:xfrm>
            <a:off x="324000" y="333360"/>
            <a:ext cx="76849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I:\съезд 1.jpg"/>
          <p:cNvPicPr/>
          <p:nvPr/>
        </p:nvPicPr>
        <p:blipFill>
          <a:blip r:embed="rId1"/>
          <a:stretch/>
        </p:blipFill>
        <p:spPr>
          <a:xfrm>
            <a:off x="4572000" y="260280"/>
            <a:ext cx="4572000" cy="28098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I:\съезд 3.jpg"/>
          <p:cNvPicPr/>
          <p:nvPr/>
        </p:nvPicPr>
        <p:blipFill>
          <a:blip r:embed="rId2"/>
          <a:stretch/>
        </p:blipFill>
        <p:spPr>
          <a:xfrm>
            <a:off x="250920" y="189000"/>
            <a:ext cx="4392360" cy="2923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I:\съезд 5.jpg"/>
          <p:cNvPicPr/>
          <p:nvPr/>
        </p:nvPicPr>
        <p:blipFill>
          <a:blip r:embed="rId3"/>
          <a:stretch/>
        </p:blipFill>
        <p:spPr>
          <a:xfrm>
            <a:off x="250920" y="3357720"/>
            <a:ext cx="4392360" cy="3342960"/>
          </a:xfrm>
          <a:prstGeom prst="rect">
            <a:avLst/>
          </a:prstGeom>
          <a:ln w="0">
            <a:noFill/>
          </a:ln>
        </p:spPr>
      </p:pic>
      <p:sp>
        <p:nvSpPr>
          <p:cNvPr id="288" name="TextBox 5"/>
          <p:cNvSpPr/>
          <p:nvPr/>
        </p:nvSpPr>
        <p:spPr>
          <a:xfrm>
            <a:off x="4859280" y="3429000"/>
            <a:ext cx="331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46172"/>
                </a:solidFill>
                <a:latin typeface="Times New Roman"/>
                <a:ea typeface="Times New Roman"/>
              </a:rPr>
              <a:t>  </a:t>
            </a:r>
            <a:r>
              <a:rPr b="1" i="1" lang="ru-RU" sz="2800" spc="-1" strike="noStrike">
                <a:solidFill>
                  <a:srgbClr val="246172"/>
                </a:solidFill>
                <a:latin typeface="Times New Roman"/>
                <a:ea typeface="Times New Roman"/>
              </a:rPr>
              <a:t>Мы желаем каждому человеку МИРА, БЕЗОПАСНОСТИ и ПРОЦВЕТАНИ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C:\Users\Администратор\Desktop\Презентация\сканирование0005.jpg"/>
          <p:cNvPicPr/>
          <p:nvPr/>
        </p:nvPicPr>
        <p:blipFill>
          <a:blip r:embed="rId1"/>
          <a:stretch/>
        </p:blipFill>
        <p:spPr>
          <a:xfrm>
            <a:off x="1908000" y="189000"/>
            <a:ext cx="4548240" cy="65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C:\Users\Администратор\Desktop\Презентация\сканирование0006.jpg"/>
          <p:cNvPicPr/>
          <p:nvPr/>
        </p:nvPicPr>
        <p:blipFill>
          <a:blip r:embed="rId1"/>
          <a:stretch/>
        </p:blipFill>
        <p:spPr>
          <a:xfrm>
            <a:off x="2268360" y="260280"/>
            <a:ext cx="429768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C:\Users\Администратор\Desktop\Презентация\сканирование0007.jpg"/>
          <p:cNvPicPr/>
          <p:nvPr/>
        </p:nvPicPr>
        <p:blipFill>
          <a:blip r:embed="rId1"/>
          <a:stretch/>
        </p:blipFill>
        <p:spPr>
          <a:xfrm>
            <a:off x="2050920" y="189000"/>
            <a:ext cx="436248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Box 1"/>
          <p:cNvSpPr/>
          <p:nvPr/>
        </p:nvSpPr>
        <p:spPr>
          <a:xfrm>
            <a:off x="250920" y="260280"/>
            <a:ext cx="7416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857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000" spc="-1" strike="noStrike">
                <a:solidFill>
                  <a:srgbClr val="785700"/>
                </a:solidFill>
                <a:latin typeface="Times New Roman"/>
                <a:ea typeface="Times New Roman"/>
              </a:rPr>
              <a:t>В христианстве «И как хотите, чтобы с вами поступали люди, так и вы поступайте с ним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857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000" spc="-1" strike="noStrike">
                <a:solidFill>
                  <a:srgbClr val="785700"/>
                </a:solidFill>
                <a:latin typeface="Times New Roman"/>
                <a:ea typeface="Times New Roman"/>
              </a:rPr>
              <a:t>Коран обязывает «Делайте добро родителям, родственникам, сиротам, нуждающемуся, соседу, как состоящему с вами в родстве, так и не состоящему, и товарищу, и путнику, и тем, кем вы владеет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857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000" spc="-1" strike="noStrike">
                <a:solidFill>
                  <a:srgbClr val="785700"/>
                </a:solidFill>
                <a:latin typeface="Times New Roman"/>
                <a:ea typeface="Times New Roman"/>
              </a:rPr>
              <a:t>Китайский философ Конфуций, когда его спросили: «Есть ли такое слово, которое бы одно выражало моральный закон всей жизни?», ответил: «Разве не «взаимность» это слово? Чего не хочешь для себя – не делай другим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857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000" spc="-1" strike="noStrike">
                <a:solidFill>
                  <a:srgbClr val="785700"/>
                </a:solidFill>
                <a:latin typeface="Times New Roman"/>
                <a:ea typeface="Times New Roman"/>
              </a:rPr>
              <a:t>Древние индийские писания гласят «Да не соделает какой человек другому того, чего не желает себе, зная, что таковое было бы больно. И да будет намерением его для другого то, чего он желает для себ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68360" y="259920"/>
            <a:ext cx="72388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он Грэй говорил, что ребёнок не научится прощать, если ему прощать некого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учится сотрудничать, если всё всегда проходит так, как хочется ему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учится сочувствию и уважению, если он не видит, что другие испытывают боль и переживают неудачу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зовьёт в себе отвагу и оптимизм, если ему не придётся столкнуться лицом к лицу с неприятностям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72421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0" y="260280"/>
            <a:ext cx="835200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1"/>
          <a:stretch/>
        </p:blipFill>
        <p:spPr>
          <a:xfrm>
            <a:off x="225360" y="433440"/>
            <a:ext cx="8534520" cy="7002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учение Президента Российской Федерации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 августа 2009 г. (Пр-2009 ВП-П44-4632)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споряжение Председателя Правительства Российской Федерации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11 августа 2009 г. (ВП-П44-4632)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1"/>
          <p:cNvSpPr/>
          <p:nvPr/>
        </p:nvSpPr>
        <p:spPr>
          <a:xfrm>
            <a:off x="324000" y="189000"/>
            <a:ext cx="7200720" cy="69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7857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785700"/>
                </a:solidFill>
                <a:latin typeface="Times New Roman"/>
                <a:ea typeface="Times New Roman"/>
              </a:rPr>
              <a:t>Миф пер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857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колу придут священнослужит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85700"/>
                </a:solidFill>
                <a:latin typeface="Times New Roman"/>
                <a:ea typeface="Times New Roman"/>
              </a:rPr>
              <a:t>Миф вто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857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й предмет будет иметь вероучительный миссионерский харак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85700"/>
                </a:solidFill>
                <a:latin typeface="Times New Roman"/>
                <a:ea typeface="Times New Roman"/>
              </a:rPr>
              <a:t>Миф тре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857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ов одного класса поделят на группы, что приведет к конфликтам между н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85700"/>
                </a:solidFill>
                <a:latin typeface="Times New Roman"/>
                <a:ea typeface="Times New Roman"/>
              </a:rPr>
              <a:t>Миф четвер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857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 – прихоть власти, он закончится так же внезапно, как и нача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2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2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255600" y="268200"/>
            <a:ext cx="8437680" cy="792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-324360" y="1557000"/>
            <a:ext cx="742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127944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младшего подростка мотиваций к осознанному нравственному поведению, основанному на знании и уважении культурных и религиозных традиций многонационального народа России, а также к диалогу с представителями других культур и мировоззрений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Rectangle 2" descr=""/>
          <p:cNvPicPr/>
          <p:nvPr/>
        </p:nvPicPr>
        <p:blipFill>
          <a:blip r:embed="rId1"/>
          <a:stretch/>
        </p:blipFill>
        <p:spPr>
          <a:xfrm>
            <a:off x="255600" y="268200"/>
            <a:ext cx="8437680" cy="7923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обучающихся с основами православной, мусульманской, буддийской, иудейской культур, основами мировых религиозных культур и светской этики;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редставлений младшего подростка о значении нравственных норм и ценностей для достойной жизни личности, семьи, общества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 знаний, понятий и представлений о духовной культуре и морали, полученных обучающимися в начальной школе, и формирование у них ценностно-смысловых мировоззренческих основ, обеспечивающих целостное восприятие отечественной истории и культуры при изучении гуманитарных предметов на ступени основной школы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способностей младших школьников к общению в полиэтнической и многоконфессиональной среде на основе взаимного уважения и диалога во имя общественного мира и соглас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Rectangle 2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7255080" cy="15652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1763640" y="1628280"/>
            <a:ext cx="51228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46172"/>
                </a:solidFill>
                <a:latin typeface="Times New Roman"/>
                <a:ea typeface="Times New Roman"/>
              </a:rPr>
              <a:t>4 класс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46172"/>
                </a:solidFill>
                <a:latin typeface="Times New Roman"/>
                <a:ea typeface="Times New Roman"/>
              </a:rPr>
              <a:t>Один час в неделю в течение всего года.</a:t>
            </a:r>
            <a:r>
              <a:rPr b="1" i="1" lang="ru-RU" sz="1800" spc="-1" strike="noStrike">
                <a:solidFill>
                  <a:srgbClr val="246172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9" name="Picture 5" descr=""/>
          <p:cNvPicPr/>
          <p:nvPr/>
        </p:nvPicPr>
        <p:blipFill>
          <a:blip r:embed="rId2"/>
          <a:stretch/>
        </p:blipFill>
        <p:spPr>
          <a:xfrm>
            <a:off x="3132000" y="2492280"/>
            <a:ext cx="22701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Rectangle 2" descr=""/>
          <p:cNvPicPr/>
          <p:nvPr/>
        </p:nvPicPr>
        <p:blipFill>
          <a:blip r:embed="rId1"/>
          <a:stretch/>
        </p:blipFill>
        <p:spPr>
          <a:xfrm>
            <a:off x="-201600" y="268200"/>
            <a:ext cx="7016760" cy="8841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я школьного праздника, посвящённого Дню народного единства( 4 ноября)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и творческих работ школьников, выполненные ими при поддержке родителей по результатам изучения модулей курса «Основы религиозных культур и светской этики»;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ера детской (желательно при участии родителей) художественной самодеятельности, представляющие культурно-исторические, духовно-нравственные традиции концессий и народов России;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детских художественных работ, представляющих особенности религиозного искусства в России, а также традиционного искусства народов нашей страны, объединённых общей духовно-нравственной проблематикой;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густация блюд национальной кухни народов Росси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ногое другое …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"/>
          <p:cNvGraphicFramePr/>
          <p:nvPr/>
        </p:nvGraphicFramePr>
        <p:xfrm>
          <a:off x="108000" y="907920"/>
          <a:ext cx="7920000" cy="5249880"/>
        </p:xfrm>
        <a:graphic>
          <a:graphicData uri="http://schemas.openxmlformats.org/drawingml/2006/table">
            <a:tbl>
              <a:tblPr/>
              <a:tblGrid>
                <a:gridCol w="272880"/>
                <a:gridCol w="4086360"/>
                <a:gridCol w="3560760"/>
              </a:tblGrid>
              <a:tr h="914040">
                <a:tc rowSpan="4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Понятны ли тебе тексты учебника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5a2c64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Да, все понят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Не все понят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Ничего не понят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 rowSpan="4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Было ли тебе интересно на уроках по новому курсу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Да, очень интерес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Не очень интерес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Не интерес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9840">
                <a:tc rowSpan="4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Обсуждаешь ли ты с родителями, бабушками, дедушками изученные на уроках темы по новому предмету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Да, всег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Иног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Не обсужда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Rectangle 1"/>
          <p:cNvSpPr/>
          <p:nvPr/>
        </p:nvSpPr>
        <p:spPr>
          <a:xfrm>
            <a:off x="1453320" y="-89640"/>
            <a:ext cx="565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a2c64"/>
                </a:solidFill>
                <a:latin typeface="Times New Roman"/>
                <a:ea typeface="Times New Roman"/>
              </a:rPr>
              <a:t>Результаты опроса четверокласс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5:03:06Z</dcterms:created>
  <dc:creator>Лапина Валентина Васильевна</dc:creator>
  <dc:description/>
  <dc:language>en-US</dc:language>
  <cp:lastModifiedBy>RWT</cp:lastModifiedBy>
  <dcterms:modified xsi:type="dcterms:W3CDTF">2013-03-31T19:13:13Z</dcterms:modified>
  <cp:revision>44</cp:revision>
  <dc:subject/>
  <dc:title>Основы религиозных культур и светской этики</dc:title>
</cp:coreProperties>
</file>