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20FC-12AB-4F56-A79B-7BDA0217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140-EED7-446E-B480-8C6AC2CA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E86-1AB3-41B4-BE95-498CA2CC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C0C4-0746-4B0F-B080-9A2CF1CA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09B-A493-4962-B271-6056E7B4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352-E979-4657-9174-8A580ACA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98AC-9560-45D5-9786-1E5A1775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C00D-FC6F-43FE-A632-820A2F51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60CB-CB31-4C12-A71E-0399F190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45D-536E-45B5-BE4C-96E5D426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EA5-A1C2-4664-BFA4-FD7064AB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2F2-D558-4EBC-A56E-F0F3E04C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AD85-D72B-4608-9EBC-907258F98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pablo-ruiz-picasso.ru/work-2.php" TargetMode="External"/><Relationship Id="rId3" Type="http://schemas.openxmlformats.org/officeDocument/2006/relationships/hyperlink" Target="http://www.pablo-ruiz-picasso.ru/work-2.ph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8;&#1077;&#1090;&#1086;&#1085;" TargetMode="External"/><Relationship Id="rId2" Type="http://schemas.openxmlformats.org/officeDocument/2006/relationships/hyperlink" Target="http://ru.wikipedia.org/wiki/&#1041;&#1088;&#1077;&#1090;&#1086;&#1085;" TargetMode="External"/><Relationship Id="rId3" Type="http://schemas.openxmlformats.org/officeDocument/2006/relationships/hyperlink" Target="http://ru.wikipedia.org/wiki/&#1057;&#1102;&#1088;&#1088;&#1077;&#1072;&#1083;&#1080;&#1079;&#1084;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ворческая работа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чителя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линской  школы</a:t>
            </a:r>
            <a:br>
              <a:rPr sz="2800"/>
            </a:br>
            <a:br>
              <a:rPr sz="40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езаковой Анны Анатольевны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род Луга, 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убиз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абло Пикасс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Если мир плох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иновато з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торое его воспроизвод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бло Пикасс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1778040" cy="2032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03640" y="1628640"/>
            <a:ext cx="568944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спански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художник и скульпто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оит у истоков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убиз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ляющего мир как совокупность геометрических форм и ли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икассо - изобретатель новых форм живописи, новатор стилей и методов, и один из наиболее плодовитых художников в истории (более чем 20 тысяч работ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Его главная тема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человеческое, только человеческое, утвердить преоблада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д вс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держанно  он говорит об ужасах и уродствах современного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го творчество прошло через ряд период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смотрим некоторые из 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400536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881—19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808440" cy="5184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олубой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901-1904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788080"/>
            <a:ext cx="889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удожники - импрессионисты оказали влияние на формирование творческой манеры.                                                                                           Доминируют различные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оттенки голубого и сине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тображая человеческие страдания.           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Рисова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лепых, нищих, алкоголиков и проституток, изможденных матерей с детьми, бродяг, нищих, слеп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7440" y="544500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"Любительниц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бсента«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19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156360" y="1125360"/>
            <a:ext cx="2808360" cy="4248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08720" y="5445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«Мальчик с собакой» 19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994200" cy="640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00720" y="6237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евочка на шаре» 1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8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зовый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904 - 1906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1557360"/>
            <a:ext cx="41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тины "розового" периода представляют мир циркачей и бродяг, написанный более жизнерадостными тонами - охристыми и розов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700280"/>
            <a:ext cx="9144000" cy="48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убизм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одил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 1907-1908 года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демонический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отест проти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сех выродившихся до пошлости привычных форм, в которые воплощалась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литическая и нравствен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человеческая жизнь в 19 ве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стетика кубистов: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о, что мы видим, это только видим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е верили в объективность действительности; объект-это некое понятие, некая философия, его нужно поня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ни опровергали принципы, которые господствовали в течение ве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яли форму, пространство, цвет, технику исполнения- и заменили традиционное применение каждого из них своей собственной интерпретаци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и дали предмету возможность раскрыть себя, показать не только свои внешние данные, но и, при помощи окружения раскрыть свой «внутренний мир», «свою философию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транство конструируется с помощью простейших объемных фор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ь одного и того же предмета мы можем увидеть снизу, другую часть- в профиль, третью- с какой-либо другой сто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икассо - родоначальник куб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бизм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908 - 1917) -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овое искусство, « призванное спасти мир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649116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59280" y="1484280"/>
            <a:ext cx="428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тины Пикассо зачастую сводятся к непонятным ребуса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ходство картин с рельефной скульптур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удовищные деформации видимых вещ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спектива исчез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литра тяготеет к монохром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2400" y="1413000"/>
            <a:ext cx="4589280" cy="5184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03640" y="63705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Три женщины». 19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890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уделяет особое внимание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евращению форм в геометрические бл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ассекает их на плоскости и гр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продолжающиеся в пространстве, которое сам художник считает твердым телом, неизбежно ограниченным плоск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54356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ртрет Амбруаза Волла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9-191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ен в формах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Аналитического" кубизм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предмет дробится на мелкие части, которые чётко отделяются друг от друга,                                                предметная форма как бы расплывается на холс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3724560" cy="5327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219640" y="404640"/>
            <a:ext cx="3689280" cy="4897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11640" y="5300640"/>
            <a:ext cx="5148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этапе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"синтетического"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убизм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912- 191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ы принимают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декоративный и контрастный характ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ртины изображают по большей части натюрморты с различными предмет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36680" y="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Бидон и мис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69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юрреализм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1925 - 1936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"Красота будет конвульсивной, или ее не будет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ндр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рет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сновоположник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юрреализ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79280" y="1413000"/>
            <a:ext cx="8748720" cy="3814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7200" y="5445000"/>
            <a:ext cx="78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йна в Испании. Герника.1937. Вторая мировая война (1937-1945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021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го творческая одержимость спасает нас от равнодуш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1:13:09Z</dcterms:created>
  <dc:creator>дикий КОТ</dc:creator>
  <dc:description/>
  <dc:language>en-US</dc:language>
  <cp:lastModifiedBy>дикий КОТ</cp:lastModifiedBy>
  <dcterms:modified xsi:type="dcterms:W3CDTF">2011-01-30T16:35:00Z</dcterms:modified>
  <cp:revision>33</cp:revision>
  <dc:subject/>
  <dc:title>Пабло Пикассо</dc:title>
</cp:coreProperties>
</file>