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C9D8-C6DC-4B45-8832-23A6131B8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53BF-0445-4BDA-9DF2-C41BEDC52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F41C-3215-4F92-8474-3B2FF3B3D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A86A-9156-40B4-B915-E7A758858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53A8-339B-40E6-BE4C-3985FC4E8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E840-92B9-40A5-8026-714443136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25D7-2AAC-4C33-AA50-BB310B3E5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BEB8-BC70-47C8-9752-68798644D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162B-E73D-440A-9940-113E32FA5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1FD0-F8C4-4A5D-A3DC-0F93ED72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C9F4-BBEC-40D0-B03E-60FFAC59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6357-89A9-4E96-AAAE-93B978F7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FBA2A-8736-4EE9-97B2-F787D00DF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pablo-ruiz-picasso.ru/work-2.php" TargetMode="External"/><Relationship Id="rId3" Type="http://schemas.openxmlformats.org/officeDocument/2006/relationships/hyperlink" Target="http://www.pablo-ruiz-picasso.ru/work-2.php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1;&#1088;&#1077;&#1090;&#1086;&#1085;" TargetMode="External"/><Relationship Id="rId2" Type="http://schemas.openxmlformats.org/officeDocument/2006/relationships/hyperlink" Target="http://ru.wikipedia.org/wiki/&#1041;&#1088;&#1077;&#1090;&#1086;&#1085;" TargetMode="External"/><Relationship Id="rId3" Type="http://schemas.openxmlformats.org/officeDocument/2006/relationships/hyperlink" Target="http://ru.wikipedia.org/wiki/&#1057;&#1102;&#1088;&#1088;&#1077;&#1072;&#1083;&#1080;&#1079;&#1084;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Творческая работа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учителя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Заклинской  школы</a:t>
            </a:r>
            <a:br>
              <a:rPr sz="2800"/>
            </a:br>
            <a:br>
              <a:rPr sz="4000"/>
            </a:b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Резаковой Анны Анатольевны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ород Луга, 2010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Кубизм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абло Пикасс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Если мир плох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иновато зрен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торое его воспроизводи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абло Пикасс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1778040" cy="2032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03640" y="1628640"/>
            <a:ext cx="5689440" cy="49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испанский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художник и скульпто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оит у истоков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кубиз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дставляющего мир как совокупность геометрических форм и ли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икассо - изобретатель новых форм живописи, новатор стилей и методов, и один из наиболее плодовитых художников в истории (более чем 20 тысяч работ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Его главная тема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человеческое, только человеческое, утвердить преобладани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ловек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д вс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держанно  он говорит об ужасах и уродствах современного ми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Его творчество прошло через ряд период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ссмотрим некоторые из ни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58920" y="4005360"/>
            <a:ext cx="18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881—197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808440" cy="51847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Голубой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1901-1904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5788080"/>
            <a:ext cx="8893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Художники - импрессионисты оказали влияние на формирование творческой манеры.                                                                                           Доминируют различные 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оттенки голубого и синег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отображая человеческие страдания.            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Рисова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слепых, нищих, алкоголиков и проституток, изможденных матерей с детьми, бродяг, нищих, слепы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57440" y="5445000"/>
            <a:ext cx="33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"Любительница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абсента«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19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6156360" y="1125360"/>
            <a:ext cx="2808360" cy="4248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508720" y="544500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«Мальчик с собакой» 19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3994200" cy="6408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500720" y="623736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Девочка на шаре» 19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08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озовый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1904 - 1906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16360" y="1557360"/>
            <a:ext cx="410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ртины "розового" периода представляют мир циркачей и бродяг, написанный более жизнерадостными тонами - охристыми и розовы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700280"/>
            <a:ext cx="9144000" cy="48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Кубизм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родилс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в 1907-1908 года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 демонический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протест проти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всех выродившихся до пошлости привычных форм, в которые воплощалась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политическая и нравственна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человеческая жизнь в 19 ве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стетика кубистов: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то, что мы видим, это только видим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Не верили в объективность действительности; объект-это некое понятие, некая философия, его нужно поня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Они опровергали принципы, которые господствовали в течение век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зяли форму, пространство, цвет, технику исполнения- и заменили традиционное применение каждого из них своей собственной интерпретаци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ни дали предмету возможность раскрыть себя, показать не только свои внешние данные, но и, при помощи окружения раскрыть свой «внутренний мир», «свою философию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странство конструируется с помощью простейших объемных фор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асть одного и того же предмета мы можем увидеть снизу, другую часть- в профиль, третью- с какой-либо другой сторо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Пикассо - родоначальник кубиз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убизм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1908 - 1917) -               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новое искусство, « призванное спасти мир»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50920" y="6491160"/>
            <a:ext cx="43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59280" y="1484280"/>
            <a:ext cx="42847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ртины Пикассо зачастую сводятся к непонятным ребусам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ходство картин с рельефной скульптур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удовищные деформации видимых вещ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спектива исчеза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литра тяготеет к монохромно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22400" y="1413000"/>
            <a:ext cx="4589280" cy="5184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003640" y="637056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Три женщины». 19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18900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н уделяет особое внимание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превращению форм в геометрические бло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рассекает их на плоскости и гра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продолжающиеся в пространстве, которое сам художник считает твердым телом, неизбежно ограниченным плоскост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543564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ртрет Амбруаза Волла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909-1910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полнен в формах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"Аналитического" кубизма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предмет дробится на мелкие части, которые чётко отделяются друг от друга,                                                предметная форма как бы расплывается на холст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3724560" cy="5327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219640" y="404640"/>
            <a:ext cx="3689280" cy="4897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211640" y="5300640"/>
            <a:ext cx="51483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этапе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"синтетического"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кубизма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912- 191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боты принимают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декоративный и контрастный характе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артины изображают по большей части натюрморты с различными предметам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736680" y="0"/>
            <a:ext cx="21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Бидон и мис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1692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юрреализм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1925 - 1936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932360" y="0"/>
            <a:ext cx="403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"Красота будет конвульсивной, или ее не будет"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Андре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Брето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основоположник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сюрреализм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179280" y="1413000"/>
            <a:ext cx="8748720" cy="38145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907200" y="5445000"/>
            <a:ext cx="780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йна в Испании. Герника.1937. Вторая мировая война (1937-1945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9280" y="6021360"/>
            <a:ext cx="87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го творческая одержимость спасает нас от равнодуш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2T11:13:09Z</dcterms:created>
  <dc:creator>дикий КОТ</dc:creator>
  <dc:description/>
  <dc:language>en-US</dc:language>
  <cp:lastModifiedBy>дикий КОТ</cp:lastModifiedBy>
  <dcterms:modified xsi:type="dcterms:W3CDTF">2011-01-30T16:35:00Z</dcterms:modified>
  <cp:revision>33</cp:revision>
  <dc:subject/>
  <dc:title>Пабло Пикассо</dc:title>
</cp:coreProperties>
</file>