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9AB-D2CA-4D33-B65E-7CB4C402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C98-80D4-46B4-93E6-3E8D4612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24C-9B14-4528-B213-8EF1F67D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2D8-4A12-4863-88F3-A5F69745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DE2-8A33-46A6-9C77-F6219838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6D3-9DA2-423B-AFF3-152E51BC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417-C311-4BE6-9F3D-1EE33F7B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8AC-4B04-4D86-9492-995596B4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FC9-E5D2-475F-8210-380ADAB2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048-BE14-4C72-906C-B7EF74D6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BC1-249B-4649-B675-EBB1E4BE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9AA-75AE-4433-8864-83D40A95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7E4D-9234-42D3-ABE5-762DFACB09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:\Documents and Settings\Aida\Рабочий стол\Рисунок1.jpg"/>
          <p:cNvPicPr/>
          <p:nvPr/>
        </p:nvPicPr>
        <p:blipFill>
          <a:blip r:embed="rId1"/>
          <a:stretch/>
        </p:blipFill>
        <p:spPr>
          <a:xfrm>
            <a:off x="571680" y="785880"/>
            <a:ext cx="7992720" cy="5664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2"/>
          <a:stretch/>
        </p:blipFill>
        <p:spPr>
          <a:xfrm>
            <a:off x="642960" y="571680"/>
            <a:ext cx="114300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763640" y="1095480"/>
            <a:ext cx="5761080" cy="5524560"/>
          </a:xfrm>
          <a:prstGeom prst="rect">
            <a:avLst/>
          </a:prstGeom>
          <a:ln w="0">
            <a:noFill/>
          </a:ln>
        </p:spPr>
      </p:pic>
      <p:sp>
        <p:nvSpPr>
          <p:cNvPr id="83" name="Freeform 26"/>
          <p:cNvSpPr/>
          <p:nvPr/>
        </p:nvSpPr>
        <p:spPr>
          <a:xfrm flipV="1" rot="11467200">
            <a:off x="694440" y="2561760"/>
            <a:ext cx="3025800" cy="1587600"/>
          </a:xfrm>
          <a:custGeom>
            <a:avLst/>
            <a:gdLst>
              <a:gd name="textAreaLeft" fmla="*/ 0 w 3025800"/>
              <a:gd name="textAreaRight" fmla="*/ 3026160 w 3025800"/>
              <a:gd name="textAreaTop" fmla="*/ 360 h 1587600"/>
              <a:gd name="textAreaBottom" fmla="*/ 1588320 h 1587600"/>
            </a:gdLst>
            <a:ahLst/>
            <a:rect l="textAreaLeft" t="textAreaTop" r="textAreaRight" b="textAreaBottom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763a1c"/>
              </a:gs>
              <a:gs pos="100000">
                <a:srgbClr val="ff7e3d"/>
              </a:gs>
            </a:gsLst>
            <a:lin ang="14166000"/>
          </a:gradFill>
          <a:ln w="3816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7"/>
          <p:cNvSpPr/>
          <p:nvPr/>
        </p:nvSpPr>
        <p:spPr>
          <a:xfrm rot="20677200">
            <a:off x="5362200" y="2831760"/>
            <a:ext cx="3133800" cy="1461960"/>
          </a:xfrm>
          <a:custGeom>
            <a:avLst/>
            <a:gdLst>
              <a:gd name="textAreaLeft" fmla="*/ 0 w 3133800"/>
              <a:gd name="textAreaRight" fmla="*/ 3134160 w 3133800"/>
              <a:gd name="textAreaTop" fmla="*/ 0 h 1461960"/>
              <a:gd name="textAreaBottom" fmla="*/ 1462320 h 1461960"/>
            </a:gdLst>
            <a:ahLst/>
            <a:rect l="textAreaLeft" t="textAreaTop" r="textAreaRight" b="textAreaBottom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00b1f0"/>
              </a:gs>
              <a:gs pos="100000">
                <a:srgbClr val="00526f"/>
              </a:gs>
            </a:gsLst>
            <a:lin ang="3624000"/>
          </a:gradFill>
          <a:ln w="3816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Group 38" descr=""/>
          <p:cNvPicPr/>
          <p:nvPr/>
        </p:nvPicPr>
        <p:blipFill>
          <a:blip r:embed="rId2"/>
          <a:stretch/>
        </p:blipFill>
        <p:spPr>
          <a:xfrm>
            <a:off x="1182600" y="189000"/>
            <a:ext cx="6924600" cy="6480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4"/>
          <p:cNvSpPr/>
          <p:nvPr/>
        </p:nvSpPr>
        <p:spPr>
          <a:xfrm rot="19476600">
            <a:off x="5151960" y="186228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Сотруд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4"/>
          <p:cNvSpPr/>
          <p:nvPr/>
        </p:nvSpPr>
        <p:spPr>
          <a:xfrm rot="5400000">
            <a:off x="3887280" y="140616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3"/>
          <p:cNvSpPr/>
          <p:nvPr/>
        </p:nvSpPr>
        <p:spPr>
          <a:xfrm>
            <a:off x="288000" y="21420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Цветок  толер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"/>
          <p:cNvPicPr/>
          <p:nvPr/>
        </p:nvPicPr>
        <p:blipFill>
          <a:blip r:embed="rId1"/>
          <a:stretch/>
        </p:blipFill>
        <p:spPr>
          <a:xfrm>
            <a:off x="642960" y="428760"/>
            <a:ext cx="7715160" cy="1707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:\Documents and Settings\Aida\Рабочий стол\Рисунок18.jpg"/>
          <p:cNvPicPr/>
          <p:nvPr/>
        </p:nvPicPr>
        <p:blipFill>
          <a:blip r:embed="rId2"/>
          <a:stretch/>
        </p:blipFill>
        <p:spPr>
          <a:xfrm>
            <a:off x="1571760" y="2500200"/>
            <a:ext cx="6181560" cy="1862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"/>
          <p:cNvPicPr/>
          <p:nvPr/>
        </p:nvPicPr>
        <p:blipFill>
          <a:blip r:embed="rId3"/>
          <a:stretch/>
        </p:blipFill>
        <p:spPr>
          <a:xfrm>
            <a:off x="642960" y="4643280"/>
            <a:ext cx="7643880" cy="17686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7"/>
          <p:cNvSpPr/>
          <p:nvPr/>
        </p:nvSpPr>
        <p:spPr>
          <a:xfrm>
            <a:off x="214200" y="207180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Люди на свет рождаются разными: непохожими, своеобраз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142920" y="4286160"/>
            <a:ext cx="90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Чтобы других ты смог понимать, нужно терпенье в себе воспи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785880" y="2643120"/>
            <a:ext cx="7429320" cy="2000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785880" y="500040"/>
            <a:ext cx="7358040" cy="19353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357120" y="471492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олерантность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– признание, уважение и соблюдение прав и свобод всех людей без различения социальных, классовых, религиозных, этнических и иных особе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357120" y="407196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2239200" y="428760"/>
            <a:ext cx="49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черты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28760" y="1143000"/>
          <a:ext cx="8429400" cy="3294000"/>
        </p:xfrm>
        <a:graphic>
          <a:graphicData uri="http://schemas.openxmlformats.org/drawingml/2006/table">
            <a:tbl>
              <a:tblPr/>
              <a:tblGrid>
                <a:gridCol w="4143240"/>
                <a:gridCol w="42861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лерантная л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толерантная л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ажение мнения других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нима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рожелатель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гнорирова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ние что-нибудь делать вмест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гоиз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имание и приняти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ерпим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ткость, снисходитель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небрежение, раздражительн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верие, гуманизм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внодушие, циниз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юбознательн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рессив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1357200" y="4643280"/>
            <a:ext cx="63975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042920" y="981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H:\Documents and Settings\Aida\Рабочий стол\Рисунок6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1857240" y="642960"/>
            <a:ext cx="5429520" cy="50022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2361960" y="35712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ы строим культуру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14200" y="550440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Мы больше получим, чем отдадим, если будем чаще вспоминать про то, что нас соединяет, про то, что человек становится Человеком только благодаря другому челове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H:\Documents and Settings\Aida\Рабочий стол\толерантность\tolerance.jpg"/>
          <p:cNvPicPr/>
          <p:nvPr/>
        </p:nvPicPr>
        <p:blipFill>
          <a:blip r:embed="rId1"/>
          <a:stretch/>
        </p:blipFill>
        <p:spPr>
          <a:xfrm>
            <a:off x="2252520" y="357120"/>
            <a:ext cx="4867560" cy="46436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"/>
          <p:cNvSpPr/>
          <p:nvPr/>
        </p:nvSpPr>
        <p:spPr>
          <a:xfrm>
            <a:off x="285840" y="51436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Наша земля – это место, где мы можем любить друг друга, соблюдать традиции и продолжать  историю Планеты Толеран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1"/>
          <a:stretch/>
        </p:blipFill>
        <p:spPr>
          <a:xfrm>
            <a:off x="3132000" y="1700280"/>
            <a:ext cx="2952720" cy="26971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571680" y="476280"/>
            <a:ext cx="787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1847880" cy="579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2124000" y="515772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5148360" y="5157720"/>
            <a:ext cx="1847880" cy="579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5"/>
          <a:stretch/>
        </p:blipFill>
        <p:spPr>
          <a:xfrm>
            <a:off x="6804000" y="3357720"/>
            <a:ext cx="18478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98680" y="3786120"/>
            <a:ext cx="4030560" cy="239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Рисунок3.jpg"/>
          <p:cNvPicPr/>
          <p:nvPr/>
        </p:nvPicPr>
        <p:blipFill>
          <a:blip r:embed="rId2"/>
          <a:stretch/>
        </p:blipFill>
        <p:spPr>
          <a:xfrm>
            <a:off x="2500200" y="3714840"/>
            <a:ext cx="4143600" cy="2816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142920" y="744480"/>
            <a:ext cx="860580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Французский язык – отношение, при котором допускается, что другие могут думать или действовать иначе, нежели ты с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tolerance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(английский) – готовность быть терпимым, снисходитель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терпимос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(русский) – с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2649600" y="357120"/>
            <a:ext cx="42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то  такое толерант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285840" y="3995640"/>
            <a:ext cx="85723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«…Толерантность означает 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. Толерантность - это обязанность способствовать утверждению прав человека,.. демократии и правопорядка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(Декларация принципов толерантности, утвержденная резолюцией 5.61 Генеральной конференции ЮНЕСКО от 16 ноября 1995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785960" y="642960"/>
            <a:ext cx="5143320" cy="3409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2848680" y="214200"/>
            <a:ext cx="33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лерант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:\Documents and Settings\Aida\Рабочий стол\Рисунок5.jpg"/>
          <p:cNvPicPr/>
          <p:nvPr/>
        </p:nvPicPr>
        <p:blipFill>
          <a:blip r:embed="rId1"/>
          <a:stretch/>
        </p:blipFill>
        <p:spPr>
          <a:xfrm>
            <a:off x="6286680" y="428616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1428840" y="500040"/>
            <a:ext cx="5286240" cy="4476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928800" y="4074840"/>
            <a:ext cx="707364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Arial"/>
              </a:rPr>
              <a:t>Толерантность - это дружба</a:t>
            </a:r>
            <a:r>
              <a:rPr b="1" i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345600" y="714240"/>
            <a:ext cx="70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олерантность - это милосерд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425880" y="2214720"/>
            <a:ext cx="70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Arial"/>
              </a:rPr>
              <a:t>Толерантность - это состр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37280" y="3000240"/>
            <a:ext cx="64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Arial"/>
              </a:rPr>
              <a:t>Толерантность - это ув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213560" y="1500120"/>
            <a:ext cx="73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Толерантность - это доброта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355320" y="5286240"/>
            <a:ext cx="63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олерантность - это терп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643040" y="857160"/>
            <a:ext cx="5688000" cy="4071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285920" y="500076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Толерантность - это гармония в многообраз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3552840" y="1676520"/>
            <a:ext cx="18572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Tole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1214280" y="1000080"/>
            <a:ext cx="6469200" cy="400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4"/>
          <a:stretch/>
        </p:blipFill>
        <p:spPr>
          <a:xfrm>
            <a:off x="714240" y="642960"/>
            <a:ext cx="7429680" cy="4500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571680" y="528624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Толерантности способствуют: знания, открытость, общение и свобода мыслей, совести, убежд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2336760" cy="321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:\Documents and Settings\Aida\Рабочий стол\Рисунок4.jpg"/>
          <p:cNvPicPr/>
          <p:nvPr/>
        </p:nvPicPr>
        <p:blipFill>
          <a:blip r:embed="rId2"/>
          <a:stretch/>
        </p:blipFill>
        <p:spPr>
          <a:xfrm>
            <a:off x="5796000" y="2276640"/>
            <a:ext cx="2473200" cy="338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2470320" cy="3357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H:\Documents and Settings\Aida\Рабочий стол\Рисунок1.jpg"/>
          <p:cNvPicPr/>
          <p:nvPr/>
        </p:nvPicPr>
        <p:blipFill>
          <a:blip r:embed="rId4"/>
          <a:stretch/>
        </p:blipFill>
        <p:spPr>
          <a:xfrm>
            <a:off x="5867280" y="404640"/>
            <a:ext cx="2811600" cy="38577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1580400" y="564372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Толерантность – путь к миру и согла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"/>
          <p:cNvPicPr/>
          <p:nvPr/>
        </p:nvPicPr>
        <p:blipFill>
          <a:blip r:embed="rId5"/>
          <a:stretch/>
        </p:blipFill>
        <p:spPr>
          <a:xfrm>
            <a:off x="611280" y="404640"/>
            <a:ext cx="2665440" cy="360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:\Documents and Settings\Aida\Рабочий стол\Рисунок1.jpg"/>
          <p:cNvPicPr/>
          <p:nvPr/>
        </p:nvPicPr>
        <p:blipFill>
          <a:blip r:embed="rId6"/>
          <a:stretch/>
        </p:blipFill>
        <p:spPr>
          <a:xfrm>
            <a:off x="3276720" y="476280"/>
            <a:ext cx="25002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H:\Documents and Settings\Aida\Рабочий стол\Рисунок4.jpg"/>
          <p:cNvPicPr/>
          <p:nvPr/>
        </p:nvPicPr>
        <p:blipFill>
          <a:blip r:embed="rId1"/>
          <a:stretch/>
        </p:blipFill>
        <p:spPr>
          <a:xfrm>
            <a:off x="3357720" y="3357720"/>
            <a:ext cx="2336760" cy="1571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:\Documents and Settings\Aida\Рабочий стол\Рисунок5.jpg"/>
          <p:cNvPicPr/>
          <p:nvPr/>
        </p:nvPicPr>
        <p:blipFill>
          <a:blip r:embed="rId2"/>
          <a:stretch/>
        </p:blipFill>
        <p:spPr>
          <a:xfrm>
            <a:off x="2928960" y="2714760"/>
            <a:ext cx="3500280" cy="224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"/>
          <p:cNvPicPr/>
          <p:nvPr/>
        </p:nvPicPr>
        <p:blipFill>
          <a:blip r:embed="rId3"/>
          <a:stretch/>
        </p:blipFill>
        <p:spPr>
          <a:xfrm>
            <a:off x="2571840" y="2571840"/>
            <a:ext cx="4071960" cy="271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4"/>
          <a:stretch/>
        </p:blipFill>
        <p:spPr>
          <a:xfrm>
            <a:off x="1428840" y="2071800"/>
            <a:ext cx="6143400" cy="43545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714240" y="500040"/>
            <a:ext cx="785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ыть толерантным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– означает уважать других, невзирая на различия. Это означает быть внимательным к другим и обращать внимание на то, что нас сближ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1" descr=""/>
          <p:cNvPicPr/>
          <p:nvPr/>
        </p:nvPicPr>
        <p:blipFill>
          <a:blip r:embed="rId1"/>
          <a:stretch/>
        </p:blipFill>
        <p:spPr>
          <a:xfrm>
            <a:off x="1785960" y="1357200"/>
            <a:ext cx="5695920" cy="3857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:\Documents and Settings\Aida\Рабочий стол\Рисунок13.jpg"/>
          <p:cNvPicPr/>
          <p:nvPr/>
        </p:nvPicPr>
        <p:blipFill>
          <a:blip r:embed="rId2"/>
          <a:stretch/>
        </p:blipFill>
        <p:spPr>
          <a:xfrm>
            <a:off x="1500120" y="1214280"/>
            <a:ext cx="6254640" cy="4375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857160" y="571680"/>
            <a:ext cx="7315200" cy="5022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784880" y="5787000"/>
            <a:ext cx="556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се  мы -разные, все мы – равны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7:21:25Z</dcterms:created>
  <dc:creator>Александрова З.В. (Aida_Alex) </dc:creator>
  <dc:description>http://aida.ucoz.ru</dc:description>
  <dc:language>en-US</dc:language>
  <cp:lastModifiedBy>Ольга</cp:lastModifiedBy>
  <dcterms:modified xsi:type="dcterms:W3CDTF">2012-01-25T18:51:22Z</dcterms:modified>
  <cp:revision>274</cp:revision>
  <dc:subject>классный час</dc:subject>
  <dc:title>Планета Толератности</dc:title>
</cp:coreProperties>
</file>