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958B41-5628-4B45-A16E-77D23EF97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2B00B8-4C42-4347-B0B2-28D5829D5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3C3660-1D6F-4466-B8CA-2F23F6A17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131C65-ABBC-4056-BD7E-4B7CA0D4E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83AD9A-3DEF-45A4-AA9B-70E0868FE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ло машин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1F42-1B2A-471C-A300-BC4798104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CE1EC-1F87-4676-8332-DF60037AF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7EF432-EDDC-48B1-AA09-3B87FF1DC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33A3A5-8960-4161-85C6-F51CC1529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7B747-D203-476B-9113-23E85BCC1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химедова сила равна весу жидкости в объеме погруженной в нее части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EBB1-4172-4CBD-AA04-2F3BFEC53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78A6-5D6D-48A3-9790-73B99D5FE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9C81-8A3B-4282-B15C-D5AE05760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2DA4B-2D49-4454-B83C-0D53FA67F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D65F-6B50-41CB-8DDD-DAEABC505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D257-A0DF-4DA4-A540-89E116525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9499-89D6-4A6C-81DB-B44FB7B6C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0B44-38A6-4BBF-B926-7852518DB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E88A-3EDE-4445-BD83-B6459D17A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6EAB-C331-408D-BE8F-0DE3F5FF3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1164-8EC2-435E-AF57-38F98490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CD2D-161D-45B6-B531-817FAF445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A9C0-5A8B-4FBC-92F9-804CECEF6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497B15-0655-4D26-8AE6-7AF2D1BBD8C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604360" y="652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0"/>
            <a:ext cx="7162920" cy="10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latin typeface="Arial"/>
              </a:rPr>
              <a:t>плавание те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112536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1052640"/>
            <a:ext cx="3943080" cy="296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961080" cy="201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87700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1657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втор: Васина Л.В.- учитель физики БОУ г.Омска «Средняя общеобразовательная школа № 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33360"/>
            <a:ext cx="8001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Чем меньше плотность  тела по сравнению с плотностью жидкости,  тем меньшая часть тела погружена в жидкость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ж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&gt;</a:t>
            </a:r>
            <a:r>
              <a:rPr b="1" lang="el-GR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ρ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т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   тело вспл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  =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;   тело пла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если 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ж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&lt;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cc0000"/>
                </a:solidFill>
                <a:latin typeface="Times New Roman"/>
              </a:rPr>
              <a:t>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;   тело то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5786280" cy="2214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rot="5400000">
            <a:off x="2701800" y="2781360"/>
            <a:ext cx="9144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rcRect l="77459" t="11223" r="16543" b="10746"/>
          <a:stretch/>
        </p:blipFill>
        <p:spPr>
          <a:xfrm>
            <a:off x="1258920" y="5084640"/>
            <a:ext cx="6143760" cy="14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5400000">
            <a:off x="3925800" y="3213000"/>
            <a:ext cx="914400" cy="914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5294160" y="299736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57200" y="2214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516640"/>
            <a:ext cx="8713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оде плавают три тела шарообразной формы равного объема. Плотность какого тела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75640" y="6308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Users\Директор\Documents\Давление\Архимед1\7.png"/>
          <p:cNvPicPr/>
          <p:nvPr/>
        </p:nvPicPr>
        <p:blipFill>
          <a:blip r:embed="rId2"/>
          <a:srcRect l="0" t="14025" r="0" b="0"/>
          <a:stretch/>
        </p:blipFill>
        <p:spPr>
          <a:xfrm>
            <a:off x="1857240" y="1928880"/>
            <a:ext cx="4143600" cy="27144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9"/>
          <p:cNvSpPr/>
          <p:nvPr/>
        </p:nvSpPr>
        <p:spPr>
          <a:xfrm>
            <a:off x="539640" y="404640"/>
            <a:ext cx="8001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ашинное масло поместили три тела шарообразной формы равного объема. Как будет вести себя каждое из этих т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     B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:\Users\Директор\Documents\Давление\Архимед1\7н.png"/>
          <p:cNvPicPr/>
          <p:nvPr/>
        </p:nvPicPr>
        <p:blipFill>
          <a:blip r:embed="rId3"/>
          <a:srcRect l="0" t="50228" r="0" b="0"/>
          <a:stretch/>
        </p:blipFill>
        <p:spPr>
          <a:xfrm>
            <a:off x="1857240" y="3143160"/>
            <a:ext cx="4143600" cy="207180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5"/>
          <p:cNvSpPr/>
          <p:nvPr/>
        </p:nvSpPr>
        <p:spPr>
          <a:xfrm>
            <a:off x="1857240" y="1857240"/>
            <a:ext cx="4143600" cy="7164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10"/>
          <p:cNvSpPr/>
          <p:nvPr/>
        </p:nvSpPr>
        <p:spPr>
          <a:xfrm>
            <a:off x="2268360" y="2060640"/>
            <a:ext cx="1071720" cy="1057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раф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492360" y="2060640"/>
            <a:ext cx="1071720" cy="1071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4714920" y="2085840"/>
            <a:ext cx="1071360" cy="10573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7"/>
          <a:srcRect l="77453" t="11223" r="16543" b="10746"/>
          <a:stretch/>
        </p:blipFill>
        <p:spPr>
          <a:xfrm>
            <a:off x="1428840" y="5173560"/>
            <a:ext cx="4929120" cy="1126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ая соединительная линия 8"/>
          <p:cNvSpPr/>
          <p:nvPr/>
        </p:nvSpPr>
        <p:spPr>
          <a:xfrm>
            <a:off x="1357200" y="3141720"/>
            <a:ext cx="54295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4723200" y="457200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сло машин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12303E-007 L -5.55556E-007 0.22016 E">
                                      <p:cBhvr>
                                        <p:cTn id="42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5.92044E-006 L 2.77778E-007 0.30412 E">
                                      <p:cBhvr>
                                        <p:cTn id="46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5717E-006 L -1.38889E-006 0.05249 E">
                                      <p:cBhvr>
                                        <p:cTn id="50" dur="3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ъясните опы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устите сырое яйцо в воду. Оно погрузится на 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бавить в воду соль. Нужно сделать крепкий раст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3524400" cy="3672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3386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88280"/>
            <a:ext cx="82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704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полученный раствор положите яйцо. Теперь оно не тонет, а плавает на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6160" y="404280"/>
            <a:ext cx="4038840" cy="57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сли аккуратно подливать в сосуд с соленой водой воду пресную, то можно добиться того, чтобы яйцо плавало посередине сосуда. А можно поочередно подливать, то соленой, то пресно воды и яйцо будет, то подниматься, то погружаться на дн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711600" cy="388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2808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8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ешение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5840" y="765000"/>
            <a:ext cx="822816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ело массой 20 кг при погружении вытеснило воду массой 25 кг. Определить утонет ли т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Айсберг плавает в морской воде. Какая его часть погружена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Будет ли плавать игрушечная машинка на поверхности воды, если ее масса 100г,а объем 150 см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024000" cy="304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356000" y="4005360"/>
            <a:ext cx="4343400" cy="2581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619280" y="3141720"/>
            <a:ext cx="288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440" y="5291280"/>
            <a:ext cx="8458200" cy="1188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0880" y="12603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, задание 15, упражнение 25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0000" y="2556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1818b8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662200" y="2200320"/>
            <a:ext cx="345744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28760" y="285840"/>
            <a:ext cx="84294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Обучающа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истематизировать знания учащихся об архимедовой силе, выяснить условия плавания тел, опираясь на понятия о выталкивающей силе и силе тяжести. Сформировать умения описывать и объяснять условия плавания тел, предсказывать поведение тел, погруженных в жидк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аучить применять теоретические знания для решения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Развивающа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азвивать творческие способности учащихся, логическое мышление, умения наблюдать, сопоставлять, сравнивать, делать выводы, самостоятельно выбирать для себя необходимую информацию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питывающа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азвивать инициативу, активность, самостоятельность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12200" y="6087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ла, выталкивающая целиком погруженное в газ тело, равна 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95480"/>
            <a:ext cx="4267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ассе газа в объем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у газа в объем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ссе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у те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5334120" cy="45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sia Normal"/>
              </a:rPr>
              <a:t>2.</a:t>
            </a:r>
            <a:r>
              <a:rPr b="1" i="1" lang="ru-RU" sz="2400" spc="-1" strike="noStrike">
                <a:solidFill>
                  <a:srgbClr val="ff0000"/>
                </a:solidFill>
                <a:latin typeface="Asia Normal"/>
              </a:rPr>
              <a:t> Три одинаковых по размеру шарика погружены в жидкость. На какой из шариков действует наибольшая выталкивающая сила?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971800"/>
            <a:ext cx="4495680" cy="2895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362320"/>
            <a:ext cx="144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610480" y="2360520"/>
            <a:ext cx="1800" cy="6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257800"/>
            <a:ext cx="60984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971800"/>
            <a:ext cx="609840" cy="533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4800600"/>
            <a:ext cx="6094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93880" y="342900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2160" y="4876920"/>
            <a:ext cx="53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694640" y="4267080"/>
            <a:ext cx="61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8228160" y="56386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627960" y="5029200"/>
            <a:ext cx="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389360" y="5334120"/>
            <a:ext cx="79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008840" y="3657600"/>
            <a:ext cx="536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99000" y="4267080"/>
            <a:ext cx="231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542360" y="47242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627600" y="5029200"/>
            <a:ext cx="231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703560" y="5562720"/>
            <a:ext cx="536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22480" y="419112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51440" y="4724280"/>
            <a:ext cx="79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560560" y="5410080"/>
            <a:ext cx="79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8640" y="3886200"/>
            <a:ext cx="7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743200"/>
            <a:ext cx="296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се одина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0128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3644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а одинаковых кубика погружены в сосуды с жидкостями. В каком сосуде плотность жидкости меньше?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обоих сосудах плотность жидкости одинакова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пер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 вто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3429000"/>
            <a:ext cx="2819520" cy="29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32767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590920"/>
            <a:ext cx="180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51460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429000"/>
            <a:ext cx="2819160" cy="29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514600"/>
            <a:ext cx="14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2590920"/>
            <a:ext cx="1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40384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962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7339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0384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4419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572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800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52578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0292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5627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53341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7913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5943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7339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8862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191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191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48006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3434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105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3341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54864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8672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59436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769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657600"/>
            <a:ext cx="9144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5791320"/>
            <a:ext cx="9144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6324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6324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83480" y="6375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3644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 весах уравновешены 2 тела. Нарушится ли равновесие, если их опустить в сосуд с керосином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ло 1 перевесит тело 2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ло 2 перевесит тело 1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вновесие не наруш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73160" y="1792080"/>
            <a:ext cx="1676520" cy="7696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1148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58200" y="4038480"/>
            <a:ext cx="144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334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2578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54864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52578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59436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56272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8672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61722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1055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647712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3124080"/>
            <a:ext cx="2286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12408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3124080"/>
            <a:ext cx="144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724280" y="2665080"/>
            <a:ext cx="18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666880"/>
            <a:ext cx="22100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 rot="10800000">
            <a:off x="2971800" y="3808800"/>
            <a:ext cx="990720" cy="38124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 rot="10800000">
            <a:off x="5105520" y="3734280"/>
            <a:ext cx="1295280" cy="762120"/>
          </a:xfrm>
          <a:prstGeom prst="flowChartDecision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0128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189000"/>
            <a:ext cx="8381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ело объемом 500 см     погружено в воду. Вычислить архимедову силу, действующую на это тело. Плотность воды 1000 кг/ м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90920" y="1866960"/>
            <a:ext cx="6324480" cy="4991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3248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65760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8862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 000 0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0,05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0 000 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05640" y="10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28200" y="6303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085840" cy="2158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2082960" cy="215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477120" y="304920"/>
            <a:ext cx="2001600" cy="216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276720"/>
            <a:ext cx="26668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тонет (опускается на дно), если сила тяжести больше силы Архим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200400"/>
            <a:ext cx="23940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 плавает (может находится в любом месте жидкости), если сила тяжести равна  силе Архимед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200400"/>
            <a:ext cx="2362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ело всплывает (поднимается из жидкости), если сила тяжести меньше силы Архи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1800" spc="-1" strike="noStrike" baseline="-25000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1523880"/>
            <a:ext cx="785880" cy="571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600200"/>
            <a:ext cx="78588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600200"/>
            <a:ext cx="785880" cy="571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295280"/>
            <a:ext cx="214560" cy="571680"/>
          </a:xfrm>
          <a:prstGeom prst="upArrow">
            <a:avLst>
              <a:gd name="adj1" fmla="val 50000"/>
              <a:gd name="adj2" fmla="val 4995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1371600"/>
            <a:ext cx="216000" cy="64296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1219320"/>
            <a:ext cx="239760" cy="64764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82880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19810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18288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1523880" y="106668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4724280" y="114300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7848720" y="1143000"/>
            <a:ext cx="428400" cy="33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1600200" y="236232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4724280" y="2438280"/>
            <a:ext cx="595440" cy="344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7924680" y="2286000"/>
            <a:ext cx="595440" cy="344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67564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Директор\Documents\Давление\Рисунок1л.png"/>
          <p:cNvPicPr/>
          <p:nvPr/>
        </p:nvPicPr>
        <p:blipFill>
          <a:blip r:embed="rId2"/>
          <a:stretch/>
        </p:blipFill>
        <p:spPr>
          <a:xfrm>
            <a:off x="5429160" y="1428840"/>
            <a:ext cx="3214800" cy="492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Директор\Documents\Давление\Архимед1\Рисунок24.png"/>
          <p:cNvPicPr/>
          <p:nvPr/>
        </p:nvPicPr>
        <p:blipFill>
          <a:blip r:embed="rId3"/>
          <a:stretch/>
        </p:blipFill>
        <p:spPr>
          <a:xfrm>
            <a:off x="6286680" y="4857840"/>
            <a:ext cx="1442880" cy="13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Директор\Documents\Давление\Архимед1\Рисунок23.png"/>
          <p:cNvPicPr/>
          <p:nvPr/>
        </p:nvPicPr>
        <p:blipFill>
          <a:blip r:embed="rId4"/>
          <a:stretch/>
        </p:blipFill>
        <p:spPr>
          <a:xfrm>
            <a:off x="6786720" y="3560760"/>
            <a:ext cx="428400" cy="17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Директор\Documents\Давление\Архимед1\Рисунок20.png"/>
          <p:cNvPicPr/>
          <p:nvPr/>
        </p:nvPicPr>
        <p:blipFill>
          <a:blip r:embed="rId5"/>
          <a:stretch/>
        </p:blipFill>
        <p:spPr>
          <a:xfrm>
            <a:off x="7164360" y="3500280"/>
            <a:ext cx="428760" cy="333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Директор\Documents\Давление\Архимед1\Рисунок20.png"/>
          <p:cNvPicPr/>
          <p:nvPr/>
        </p:nvPicPr>
        <p:blipFill>
          <a:blip r:embed="rId6"/>
          <a:stretch/>
        </p:blipFill>
        <p:spPr>
          <a:xfrm>
            <a:off x="7164360" y="1052640"/>
            <a:ext cx="428760" cy="3333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14"/>
          <p:cNvSpPr/>
          <p:nvPr/>
        </p:nvSpPr>
        <p:spPr>
          <a:xfrm>
            <a:off x="324000" y="404640"/>
            <a:ext cx="492912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мотрим случай, когда тело всплывает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днимается из жидкости)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ла тяжести меньше силы Архи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Директор\Documents\Давление\Архимед1\Рисунок20.png"/>
          <p:cNvPicPr/>
          <p:nvPr/>
        </p:nvPicPr>
        <p:blipFill>
          <a:blip r:embed="rId7"/>
          <a:stretch/>
        </p:blipFill>
        <p:spPr>
          <a:xfrm>
            <a:off x="7072200" y="1214280"/>
            <a:ext cx="42876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7"/>
          <p:cNvSpPr/>
          <p:nvPr/>
        </p:nvSpPr>
        <p:spPr>
          <a:xfrm>
            <a:off x="395280" y="2060640"/>
            <a:ext cx="47862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сплытии тела до поверхности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&lt;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250920" y="2997360"/>
            <a:ext cx="50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дальнейшем всплытии тела вверх архимедова сила уменьшается, так как уменьшается объем части тела, погруженной в жидкость. Тело будет всплывать до тех пор, пока архимедова сила станет равна силе тяжести. После этого тело будет 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/>
          <p:cNvSpPr/>
          <p:nvPr/>
        </p:nvSpPr>
        <p:spPr>
          <a:xfrm>
            <a:off x="3341160" y="4869000"/>
            <a:ext cx="140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ru-RU" sz="2400" spc="-1" strike="noStrike" baseline="-25000">
                <a:solidFill>
                  <a:srgbClr val="cc0000"/>
                </a:solidFill>
                <a:latin typeface="Times New Roman"/>
              </a:rPr>
              <a:t>тяж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0"/>
          <p:cNvSpPr/>
          <p:nvPr/>
        </p:nvSpPr>
        <p:spPr>
          <a:xfrm>
            <a:off x="5500800" y="2357280"/>
            <a:ext cx="3071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Users\Директор\Documents\Давление\Архимед1\Рисунок25.png"/>
          <p:cNvPicPr/>
          <p:nvPr/>
        </p:nvPicPr>
        <p:blipFill>
          <a:blip r:embed="rId8"/>
          <a:stretch/>
        </p:blipFill>
        <p:spPr>
          <a:xfrm>
            <a:off x="6286680" y="2357280"/>
            <a:ext cx="1428480" cy="2858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24"/>
          <p:cNvSpPr/>
          <p:nvPr/>
        </p:nvSpPr>
        <p:spPr>
          <a:xfrm>
            <a:off x="179280" y="544500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Архимедова сила стала равна весу жидкости в объеме погруженной в нее части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17080" y="6021360"/>
            <a:ext cx="6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51840" y="6021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67808E-007 L 0.00139 -0.35939 E">
                                      <p:cBhvr>
                                        <p:cTn id="6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40611E-006 L 6.66667E-006 -0.35661 E">
                                      <p:cBhvr>
                                        <p:cTn id="8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35939 L 0.00139 -0.44334 E">
                                      <p:cBhvr>
                                        <p:cTn id="2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34412 L 5E-006 -0.38598 E">
                                      <p:cBhvr>
                                        <p:cTn id="2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на</cp:lastModifiedBy>
  <dcterms:modified xsi:type="dcterms:W3CDTF">2013-03-30T13:03:3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