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86A0-0ED3-48AC-A8CC-3C02CA63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79A1-B006-4BA0-A6D3-395559AF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612F-8590-4927-8644-7BFA874D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4AFD-0904-4930-91AD-72762614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7668-75A6-43CF-8598-AB920E49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5FBA-DD55-4B0A-9974-91C02AE7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22C0-D517-4D6A-976E-3D67ADD6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E83-300A-4CEB-9A71-1899830D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479D-6CCB-4D81-BFFE-C1C3D81E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E60-A43E-4A9E-BD32-B7C7194E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1B30-3F1B-4407-A68D-CA5A7CBF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5E32-B7F3-4DB1-8E36-0115DDFC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B5EE-1DC3-4368-B7C8-FE74734E7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38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229360"/>
            <a:ext cx="6400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 ученица 7 класса БОУ «Средняя общеобразовательная школа № 17» Дулова Соф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: Васина Лариса Валерье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8000" y="2276640"/>
            <a:ext cx="3816360" cy="2836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4360" y="0"/>
            <a:ext cx="8024760" cy="24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вание в животном и растительном мире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27640" y="2060640"/>
            <a:ext cx="40320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4436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редняя плотность живых организмов, населяющих водную среду, мало отличается от плотности воды, поэтому их вес почти полностью уравновешивается архимедовой силой. Благодаря этому водные животные не нуждаются в столь прочных и массивных скелетах, как наземные. По этой причине эластичны стволы водных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4343400"/>
            <a:ext cx="2701800" cy="2284560"/>
            <a:chOff x="228600" y="4343400"/>
            <a:chExt cx="2701800" cy="228456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228600" y="4343400"/>
              <a:ext cx="2701800" cy="22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28600" y="4343400"/>
              <a:ext cx="2701800" cy="22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638680" y="4038480"/>
            <a:ext cx="289584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715000" y="1828800"/>
            <a:ext cx="289548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200400" y="2362320"/>
            <a:ext cx="2133720" cy="4276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304920" y="1981080"/>
            <a:ext cx="274320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220680"/>
            <a:ext cx="89154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лавательный пузырь рыбы легко меняет свой объем. Когда рыба с помощью мышц опускается на большую глубину и давление воды на нее увеличивается, пузырь сжимается, объем рыбы уменьшается и она не выталкивается вверх, а плавает в глубине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0920" y="4076640"/>
            <a:ext cx="3528720" cy="2530440"/>
            <a:chOff x="250920" y="4076640"/>
            <a:chExt cx="3528720" cy="253044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50920" y="4076640"/>
              <a:ext cx="352872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50920" y="4076640"/>
              <a:ext cx="3528720" cy="25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547640" y="1628640"/>
            <a:ext cx="3240360" cy="2273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211640" y="4114800"/>
            <a:ext cx="3240000" cy="2484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64000" y="1484280"/>
            <a:ext cx="3219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9152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ажным фактором в жизни водоплавающих птиц является наличие толстого, не пропускающего воды слоя перьев и пуха, в котором содержится значительное количество воздуха; благодаря этому своеобразному воздушному пузырю, окружающему все тело птицы, ее средняя плотность оказывается очень малой. Этим объясняется тот факт, что утки и другие водоплавающие мало погружаются в воду при плаван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4610160" cy="3848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148360" y="4076640"/>
            <a:ext cx="3657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 точки зрения законов физики очень интересно существование паука – серебрянки. Он устраивает свое жилище- подводный колокол из крепкой паутин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7645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юда паук приносит с поверхности пузырьки воздуха, задерживающиеся между тонкими волосками брюш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2278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колоколе паук собирает запас воздуха, который время от времени пополняет, благодаря этому он может долго находиться под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49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68360" y="1268280"/>
            <a:ext cx="4464000" cy="4884840"/>
            <a:chOff x="468360" y="1268280"/>
            <a:chExt cx="4464000" cy="488484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468360" y="1268280"/>
              <a:ext cx="4464000" cy="488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468360" y="1268280"/>
              <a:ext cx="4464000" cy="488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32000" y="189000"/>
            <a:ext cx="3753000" cy="59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ногие водные растения сохраняют вертикальное положение, несмотря на чрезвычайную гибкость их стеблей, потому, что на концах их разветвлений заключены крупные пузыри воздуха, играющие роль поплав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2068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иты регулируют глубину своего погружения за счет увеличения и уменьшения объема лег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28600" y="1447920"/>
            <a:ext cx="8761320" cy="4817880"/>
            <a:chOff x="228600" y="1447920"/>
            <a:chExt cx="8761320" cy="481788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228600" y="1447920"/>
              <a:ext cx="8761320" cy="48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28600" y="1447920"/>
              <a:ext cx="8761320" cy="48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10:58:41Z</dcterms:created>
  <dc:creator>Васина</dc:creator>
  <dc:description/>
  <dc:language>en-US</dc:language>
  <cp:lastModifiedBy>Васина</cp:lastModifiedBy>
  <dcterms:modified xsi:type="dcterms:W3CDTF">2013-03-31T13:51:52Z</dcterms:modified>
  <cp:revision>4</cp:revision>
  <dc:subject/>
  <dc:title>Плавание тел. Плавание в животном и растительном мире.</dc:title>
</cp:coreProperties>
</file>