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DCB-4673-40BE-83BF-9071D53E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347-3540-4613-9A4C-6237D4C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4E3-86DC-4E4C-BD16-4EA40D19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9D1-9416-4A67-84FC-2959FC76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E8C-2625-425F-A9FF-45DD877A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08C-140A-4CEA-B740-5FB1F402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20C-A55E-4DF0-B864-A9EB77DF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E43-9398-4475-9D67-FE50EFF3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302-5DB2-4C78-8789-0D61A27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3DB-EF66-4392-A4D7-0A59015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CB9-8A5F-438B-B777-AE3E7CC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4AA-C630-4A79-8CDA-6D984B3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24E4-9D87-4F96-8547-FBB9207F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38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22936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ученица 7 класса БОУ «Средняя общеобразовательная школа № 17» Дулова Соф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: Васина Лариса Валер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3816360" cy="2836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0"/>
            <a:ext cx="802476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вание в животном и растительном мир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27640" y="2060640"/>
            <a:ext cx="4032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43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яя плотность живых организмов, населяющих водную среду, мало отличается от плотности воды, поэтому их вес почти полностью уравновешивается архимедовой силой. Благодаря этому водные животные не нуждаются в столь прочных и массивных скелетах, как наземные. По этой причине эластичны стволы водных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343400"/>
            <a:ext cx="2701800" cy="2284560"/>
            <a:chOff x="228600" y="4343400"/>
            <a:chExt cx="2701800" cy="228456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28600" y="4343400"/>
              <a:ext cx="270180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8600" y="4343400"/>
              <a:ext cx="270180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38680" y="403848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715000" y="18288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0400" y="2362320"/>
            <a:ext cx="2133720" cy="4276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20680"/>
            <a:ext cx="8915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авательный пузырь рыбы легко меняет свой объем. Когда рыба с помощью мышц опускается на большую глубину и давление воды на нее увеличивается, пузырь сжимается, объем рыбы уменьшается и она не выталкивается вверх, а плавает в глубине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0920" y="4076640"/>
            <a:ext cx="3528720" cy="2530440"/>
            <a:chOff x="250920" y="4076640"/>
            <a:chExt cx="3528720" cy="25304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50920" y="4076640"/>
              <a:ext cx="35287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0920" y="4076640"/>
              <a:ext cx="3528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3240360" cy="227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211640" y="4114800"/>
            <a:ext cx="3240000" cy="248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64000" y="1484280"/>
            <a:ext cx="3219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9152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ажным фактором в жизни водоплавающих птиц является наличие толстого, не пропускающего воды слоя перьев и пуха, в котором содержится значительное количество воздуха; благодаря этому своеобразному воздушному пузырю, окружающему все тело птицы, ее средняя плотность оказывается очень малой. Этим объясняется тот факт, что утки и другие водоплавающие мало погружаются в воду при плав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610160" cy="384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 точки зрения законов физики очень интересно существование паука – серебрянки. Он устраивает свое жилище- подводный колокол из крепкой паути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6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юда паук приносит с поверхности пузырьки воздуха, задерживающиеся между тонкими волосками брюш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27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колоколе паук собирает запас воздуха, который время от времени пополняет, благодаря этому он может долго находиться под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49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68360" y="1268280"/>
            <a:ext cx="4464000" cy="4884840"/>
            <a:chOff x="468360" y="1268280"/>
            <a:chExt cx="4464000" cy="488484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4464000" cy="48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468360" y="1268280"/>
              <a:ext cx="4464000" cy="488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32000" y="189000"/>
            <a:ext cx="375300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ие водные растения сохраняют вертикальное положение, несмотря на чрезвычайную гибкость их стеблей, потому, что на концах их разветвлений заключены крупные пузыри воздуха, играющие роль поплав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06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ты регулируют глубину своего погружения за счет увеличения и уменьшения объема лег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8600" y="1447920"/>
            <a:ext cx="8761320" cy="4817880"/>
            <a:chOff x="228600" y="1447920"/>
            <a:chExt cx="8761320" cy="48178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28600" y="1447920"/>
              <a:ext cx="8761320" cy="48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28600" y="1447920"/>
              <a:ext cx="8761320" cy="48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0:58:41Z</dcterms:created>
  <dc:creator>Васина</dc:creator>
  <dc:description/>
  <dc:language>en-US</dc:language>
  <cp:lastModifiedBy>Васина</cp:lastModifiedBy>
  <dcterms:modified xsi:type="dcterms:W3CDTF">2013-03-31T13:51:52Z</dcterms:modified>
  <cp:revision>4</cp:revision>
  <dc:subject/>
  <dc:title>Плавание тел. Плавание в животном и растительном мире.</dc:title>
</cp:coreProperties>
</file>