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BCC-1003-48BB-B76B-65513B8E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B11-B9FE-4ECE-B418-1C56DE56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B05-21DA-47D9-B3C9-3577243F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146C-E94A-47ED-999C-B1F1126C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AA23-8E0D-4FD3-8DBF-D4AABDDC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130-0E92-41DD-9273-49F505C9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A3C-3C27-4434-9B79-DB3F82BF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A38-AF95-4E2F-AACF-4C5B2545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50A-D5A8-45AE-86E9-27961D6A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361-C922-4A7C-970A-0795CCE3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AF1-DB38-44D7-9372-38FBF65E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D76-AD96-45B8-BBBB-AE9C9CE3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4EB8-A301-4DEC-A62D-B0BB15841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620640"/>
            <a:ext cx="6275520" cy="851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сё о здоровом теле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7" descr="IMG_1653"/>
          <p:cNvPicPr/>
          <p:nvPr/>
        </p:nvPicPr>
        <p:blipFill>
          <a:blip r:embed="rId3"/>
          <a:stretch/>
        </p:blipFill>
        <p:spPr>
          <a:xfrm rot="20984400">
            <a:off x="684360" y="1916280"/>
            <a:ext cx="4062240" cy="3138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IMG_1590"/>
          <p:cNvPicPr/>
          <p:nvPr/>
        </p:nvPicPr>
        <p:blipFill>
          <a:blip r:embed="rId4"/>
          <a:stretch/>
        </p:blipFill>
        <p:spPr>
          <a:xfrm rot="20644800">
            <a:off x="4571640" y="3141720"/>
            <a:ext cx="4172040" cy="3011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slide_2"/>
          <p:cNvPicPr/>
          <p:nvPr/>
        </p:nvPicPr>
        <p:blipFill>
          <a:blip r:embed="rId1"/>
          <a:stretch/>
        </p:blipFill>
        <p:spPr>
          <a:xfrm>
            <a:off x="1042920" y="1197000"/>
            <a:ext cx="6912000" cy="5661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14"/>
          <p:cNvSpPr txBox="1"/>
          <p:nvPr/>
        </p:nvSpPr>
        <p:spPr>
          <a:xfrm>
            <a:off x="25092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такое здоровье?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хотим воспитать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частливого, здорового ,у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частливый ребено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любит жизнь, уверен в себе и  легко общ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доровый ребено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физически развит , закален, правильно питается, умеет адаптироваться, реализует 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мный ребено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разован, умеет учиться, хочет учиться, находиться в условиях эмоционального комф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воей работе особое внимание уделяем формированию навыков здорового образа жизни . В увлекательной, наглядно-практической форме обогащаем представление детей о здоровье, об организме, его потребностях, об закали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16000" y="333360"/>
            <a:ext cx="64198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здоровом теле здоровый дух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тобы быть всегда здоровым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ужно бегать и скакать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ольше спортом заниматься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 здоровым не скуч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IMG_1593"/>
          <p:cNvPicPr/>
          <p:nvPr/>
        </p:nvPicPr>
        <p:blipFill>
          <a:blip r:embed="rId1"/>
          <a:stretch/>
        </p:blipFill>
        <p:spPr>
          <a:xfrm>
            <a:off x="3419640" y="2421000"/>
            <a:ext cx="5219640" cy="4275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 здоровье раздобыть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надо далеко ходи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жно нам самим стараться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всё будет получа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DSC05590"/>
          <p:cNvPicPr/>
          <p:nvPr/>
        </p:nvPicPr>
        <p:blipFill>
          <a:blip r:embed="rId1"/>
          <a:stretch/>
        </p:blipFill>
        <p:spPr>
          <a:xfrm>
            <a:off x="4648320" y="2133720"/>
            <a:ext cx="4244760" cy="3555720"/>
          </a:xfrm>
          <a:prstGeom prst="rect">
            <a:avLst/>
          </a:prstGeom>
          <a:ln w="0">
            <a:noFill/>
          </a:ln>
        </p:spPr>
      </p:pic>
      <p:sp>
        <p:nvSpPr>
          <p:cNvPr id="53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ременные здоровьесберегающие технолог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DSC03517"/>
          <p:cNvPicPr/>
          <p:nvPr/>
        </p:nvPicPr>
        <p:blipFill>
          <a:blip r:embed="rId1"/>
          <a:stretch/>
        </p:blipFill>
        <p:spPr>
          <a:xfrm rot="21095400">
            <a:off x="539640" y="2073240"/>
            <a:ext cx="3888000" cy="328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DSC03518"/>
          <p:cNvPicPr/>
          <p:nvPr/>
        </p:nvPicPr>
        <p:blipFill>
          <a:blip r:embed="rId2"/>
          <a:stretch/>
        </p:blipFill>
        <p:spPr>
          <a:xfrm rot="876000">
            <a:off x="5169960" y="2373120"/>
            <a:ext cx="3600720" cy="3144600"/>
          </a:xfrm>
          <a:prstGeom prst="rect">
            <a:avLst/>
          </a:prstGeom>
          <a:ln w="0">
            <a:noFill/>
          </a:ln>
        </p:spPr>
      </p:pic>
      <p:sp>
        <p:nvSpPr>
          <p:cNvPr id="56" name="WordArt 14"/>
          <p:cNvSpPr txBox="1"/>
          <p:nvPr/>
        </p:nvSpPr>
        <p:spPr>
          <a:xfrm>
            <a:off x="395280" y="189000"/>
            <a:ext cx="8497800" cy="136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каливание в нашем детском саду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здоровье берегу –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ло в чистоте держу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 душа была здоровой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физкультурой я друж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DSC03523"/>
          <p:cNvPicPr/>
          <p:nvPr/>
        </p:nvPicPr>
        <p:blipFill>
          <a:blip r:embed="rId1"/>
          <a:stretch/>
        </p:blipFill>
        <p:spPr>
          <a:xfrm rot="5151600">
            <a:off x="3459600" y="1372320"/>
            <a:ext cx="3645000" cy="243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DSC03524"/>
          <p:cNvPicPr/>
          <p:nvPr/>
        </p:nvPicPr>
        <p:blipFill>
          <a:blip r:embed="rId2"/>
          <a:stretch/>
        </p:blipFill>
        <p:spPr>
          <a:xfrm rot="6682800">
            <a:off x="5676120" y="3406320"/>
            <a:ext cx="3195720" cy="2373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жно спину так держать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ровненько стоя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ди смотрят не дыша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х, осанка хорош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DSC03262"/>
          <p:cNvPicPr/>
          <p:nvPr/>
        </p:nvPicPr>
        <p:blipFill>
          <a:blip r:embed="rId1"/>
          <a:stretch/>
        </p:blipFill>
        <p:spPr>
          <a:xfrm>
            <a:off x="5364000" y="765000"/>
            <a:ext cx="313560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DSC03521"/>
          <p:cNvPicPr/>
          <p:nvPr/>
        </p:nvPicPr>
        <p:blipFill>
          <a:blip r:embed="rId2"/>
          <a:stretch/>
        </p:blipFill>
        <p:spPr>
          <a:xfrm>
            <a:off x="5364000" y="3429000"/>
            <a:ext cx="2764080" cy="316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slide_11"/>
          <p:cNvPicPr/>
          <p:nvPr/>
        </p:nvPicPr>
        <p:blipFill>
          <a:blip r:embed="rId1"/>
          <a:stretch/>
        </p:blipFill>
        <p:spPr>
          <a:xfrm rot="534600">
            <a:off x="684000" y="765000"/>
            <a:ext cx="7272360" cy="518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07:44:15Z</dcterms:created>
  <dc:creator>Борис</dc:creator>
  <dc:description/>
  <dc:language>en-US</dc:language>
  <cp:lastModifiedBy>Борис</cp:lastModifiedBy>
  <dcterms:modified xsi:type="dcterms:W3CDTF">2013-01-14T16:28:58Z</dcterms:modified>
  <cp:revision>4</cp:revision>
  <dc:subject/>
  <dc:title>Слайд 1</dc:title>
</cp:coreProperties>
</file>