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23F1E-B46F-4C60-B0B5-C9656FE333C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8296F-0269-40D5-B947-8E1A870212E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BAD0-1E36-4F75-84EB-BE752CE26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F478-9925-4224-A09D-EA8AE53A9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87FF-BB5F-4695-9386-A4BFCB45D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29E3-A8C0-47F9-A261-1044689E9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2A955-2F4B-4D38-BBFB-491CCA2C1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CF4EE-43D9-4A39-A23E-0CEB9D348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A1662-4F8A-4380-AFC9-61315D50F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8BC89-30C3-4AE9-B791-7670E0CED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91223-97E5-425D-9C7D-4353C9251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8BAF3-7480-4EC2-B2B9-453E55453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868A2-7AE7-4364-AD67-A2E8F0CA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897F-62B6-4FE0-B67E-DA8E42B75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F6460-37CF-4886-BDAF-909D4B11B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CB5BF-8D21-47B8-A0D4-C98FC340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A14CD-85E6-4FFE-8F62-A1DC8554B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89394-37E3-44AE-ADA2-004E59408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36151-8F14-4B2A-B03C-D744826AD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DA8C4-9A0A-4B5B-8206-F62653D4E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37BE7-F50E-478A-8B8E-01670D504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69589-3214-4569-9BDA-312F6DB9C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C4EFC-3EAD-4289-86C3-525AD53B5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3693C-C0F4-4E89-B5F8-F9491AFAC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DDD3-583C-40F3-BE51-506E97D52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1580E-11F2-4622-816C-2AE735F7C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A8A2F-F2E9-4183-B3CE-5E35BF791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30FAC-9617-4C00-86E2-00C9F2269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287AC-4F11-4B7E-9139-38CADBDB9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FA94C-D399-4163-8DA1-71D242AA9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920FD-FD7F-4AED-863E-2B9000B0A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C2D08-C917-4BEA-A6B8-46044057A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37648-EF03-4F17-AED9-738A3C07A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C94A1-D3CF-44B1-BB37-A4DD46E0D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3E12C-B543-4FA7-9C62-9EE809243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097A-633D-4A2B-ADCA-67EC08CDE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8BDC4-9F1F-4AA0-A4E4-E93FABCA2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90E50-8A9A-43AE-8B51-1FC84612F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05652-59FC-400F-92A9-39B68B30F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DAF13-145C-4F5A-B1CF-6CD8622B3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218F7-D1F0-4057-B136-F236C209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2A309-ACE1-46BC-8D34-12A01047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38E85-6FDD-4F98-9E28-06917A44B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77001-F821-465D-AF9E-6B150749B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FE5A3-0A55-4BC1-A598-ED2824DA9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9A5DEF-5DA8-4D4E-ACD9-BB78DB469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C8DB-5A9B-4D87-9128-A6593E22A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95224-D9B6-4EE5-844C-66C237C27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E8AA1-7828-43BF-879A-94001AF45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AFB2B1-EF24-4461-BE48-095DBABAA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8DF363-A7B1-417E-A847-DC050E229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44CBE8-A456-47FD-8F78-C62F14A95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F45D3A-AA9A-46C5-8291-CF7434CD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8D0CA6-CF67-440E-ABDC-02A7BCF1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58A2A-63B4-48A7-9D59-52D160B3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64C30-5542-4255-9872-C7C794814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DAE6E-CD62-4E42-A10F-BA9226B08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1F1C-C71E-4573-975C-082B16914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28841-1A69-43A4-8D07-0089078A2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6E8F-27DF-46C8-854D-736855608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2177-FC80-43B5-BE79-E3CB91B5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75DF-F294-42DA-A56D-A54B0B21A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4F8BD-79D9-4DAE-A5D2-95DD3CD96528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086F5-B8A2-47CF-967A-0FD35E8C143E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F49E1-69D3-458E-BB5F-35B426D3FE63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FDCE5-C438-4A4D-9D33-AC1FCABFBCA1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B86C5-B21A-4F2D-93EC-FA951ED9A84E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42960" y="30718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br>
              <a:rPr sz="4100"/>
            </a:br>
            <a:br>
              <a:rPr sz="4100"/>
            </a:br>
            <a:br>
              <a:rPr sz="4100"/>
            </a:br>
            <a:r>
              <a:rPr b="1" lang="ru-RU" sz="4100" spc="-1" strike="noStrike">
                <a:solidFill>
                  <a:srgbClr val="ff8d3e"/>
                </a:solidFill>
                <a:latin typeface="Verdana"/>
              </a:rPr>
              <a:t>Организационно-педагогические условия перевода предметных умений в общеучебные на уроках  природоведения.    </a:t>
            </a:r>
            <a:br>
              <a:rPr sz="4100"/>
            </a:br>
            <a:endParaRPr b="1" lang="en-US" sz="41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500040" y="3643200"/>
            <a:ext cx="5027760" cy="27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79766f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1680" y="71424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Подготовка к наблюдению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857480" y="3684600"/>
            <a:ext cx="3786120" cy="11016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9766f"/>
                </a:solidFill>
                <a:latin typeface="Verdana"/>
              </a:rPr>
              <a:t>Роль учителя состоит в том, чтобы поставить ученика в активную позицию по отношению к своему образованию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Рисунок 3" descr="Изображение 010.jpg"/>
          <p:cNvPicPr/>
          <p:nvPr/>
        </p:nvPicPr>
        <p:blipFill>
          <a:blip r:embed="rId1"/>
          <a:stretch/>
        </p:blipFill>
        <p:spPr>
          <a:xfrm>
            <a:off x="500040" y="3571920"/>
            <a:ext cx="4429080" cy="292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42960" y="12859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8d3e"/>
                </a:solidFill>
                <a:latin typeface="Verdana"/>
              </a:rPr>
              <a:t>Выбор объекта наблюдения и способа фиксации наблюдений</a:t>
            </a:r>
            <a:endParaRPr b="1" lang="en-US" sz="41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 rot="10800000">
            <a:off x="571680" y="3571200"/>
            <a:ext cx="3929040" cy="278604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4" name="Рисунок 4" descr="DSCN1570.jpg"/>
          <p:cNvPicPr/>
          <p:nvPr/>
        </p:nvPicPr>
        <p:blipFill>
          <a:blip r:embed="rId1"/>
          <a:stretch/>
        </p:blipFill>
        <p:spPr>
          <a:xfrm>
            <a:off x="428760" y="3786120"/>
            <a:ext cx="4572000" cy="2379600"/>
          </a:xfrm>
          <a:prstGeom prst="rect">
            <a:avLst/>
          </a:prstGeom>
          <a:ln w="0">
            <a:noFill/>
          </a:ln>
        </p:spPr>
      </p:pic>
      <p:sp>
        <p:nvSpPr>
          <p:cNvPr id="235" name="Прямоугольник 5"/>
          <p:cNvSpPr/>
          <p:nvPr/>
        </p:nvSpPr>
        <p:spPr>
          <a:xfrm>
            <a:off x="5286240" y="3714840"/>
            <a:ext cx="3286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ль учителя по ходу наблюдения состояла в том, чтобы еженедельно интересоваться тем, как наблюдение проход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500040" y="785880"/>
          <a:ext cx="8143920" cy="2687400"/>
        </p:xfrm>
        <a:graphic>
          <a:graphicData uri="http://schemas.openxmlformats.org/drawingml/2006/table">
            <a:tbl>
              <a:tblPr/>
              <a:tblGrid>
                <a:gridCol w="849240"/>
                <a:gridCol w="1150920"/>
                <a:gridCol w="1044720"/>
                <a:gridCol w="1274760"/>
                <a:gridCol w="1062000"/>
                <a:gridCol w="1346040"/>
                <a:gridCol w="1416240"/>
              </a:tblGrid>
              <a:tr h="14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Д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Кол-во корн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Длина корня (мах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Кол-во листье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Длина листа (мах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Условия (свет, вода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°С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Рисун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125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0040" y="785880"/>
            <a:ext cx="8143920" cy="26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571680" y="4071600"/>
            <a:ext cx="7772400" cy="178596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Ценность этой таблицы не только в её конечном результате, но и в процессе её создания, где у учащегося есть реальные условия для приобретения опыта самостоятельной деятельности, начиная с этапа целеполагания и планирования своих шаг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79766f"/>
              </a:solidFill>
              <a:latin typeface="Verdana"/>
            </a:endParaRPr>
          </a:p>
        </p:txBody>
      </p:sp>
      <p:pic>
        <p:nvPicPr>
          <p:cNvPr id="241" name="Рисунок 3" descr="DSCN1568.jpg"/>
          <p:cNvPicPr/>
          <p:nvPr/>
        </p:nvPicPr>
        <p:blipFill>
          <a:blip r:embed="rId1"/>
          <a:stretch/>
        </p:blipFill>
        <p:spPr>
          <a:xfrm>
            <a:off x="785880" y="785880"/>
            <a:ext cx="3595680" cy="269712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3" descr="DSCN1573.jpg"/>
          <p:cNvPicPr/>
          <p:nvPr/>
        </p:nvPicPr>
        <p:blipFill>
          <a:blip r:embed="rId2"/>
          <a:stretch/>
        </p:blipFill>
        <p:spPr>
          <a:xfrm>
            <a:off x="5000760" y="785880"/>
            <a:ext cx="3525840" cy="264312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3" descr="DSCN1575.jpg"/>
          <p:cNvPicPr/>
          <p:nvPr/>
        </p:nvPicPr>
        <p:blipFill>
          <a:blip r:embed="rId3"/>
          <a:stretch/>
        </p:blipFill>
        <p:spPr>
          <a:xfrm>
            <a:off x="3000240" y="3500280"/>
            <a:ext cx="3726000" cy="27943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79766f"/>
              </a:solidFill>
              <a:latin typeface="Verdana"/>
            </a:endParaRPr>
          </a:p>
        </p:txBody>
      </p:sp>
      <p:pic>
        <p:nvPicPr>
          <p:cNvPr id="246" name="Рисунок 3" descr="DSCN1577.jpg"/>
          <p:cNvPicPr/>
          <p:nvPr/>
        </p:nvPicPr>
        <p:blipFill>
          <a:blip r:embed="rId1"/>
          <a:stretch/>
        </p:blipFill>
        <p:spPr>
          <a:xfrm>
            <a:off x="1601640" y="1201680"/>
            <a:ext cx="5940720" cy="44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79766f"/>
              </a:solidFill>
              <a:latin typeface="Verdana"/>
            </a:endParaRPr>
          </a:p>
        </p:txBody>
      </p:sp>
      <p:pic>
        <p:nvPicPr>
          <p:cNvPr id="249" name="Рисунок 3" descr="DSCN1578.jpg"/>
          <p:cNvPicPr/>
          <p:nvPr/>
        </p:nvPicPr>
        <p:blipFill>
          <a:blip r:embed="rId1"/>
          <a:stretch/>
        </p:blipFill>
        <p:spPr>
          <a:xfrm>
            <a:off x="1601640" y="1201680"/>
            <a:ext cx="5940720" cy="44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14240" y="10000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Представление результатов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79766f"/>
              </a:solidFill>
              <a:latin typeface="Verdana"/>
            </a:endParaRPr>
          </a:p>
        </p:txBody>
      </p:sp>
      <p:pic>
        <p:nvPicPr>
          <p:cNvPr id="252" name="Рисунок 3" descr="Изображение 023.jpg"/>
          <p:cNvPicPr/>
          <p:nvPr/>
        </p:nvPicPr>
        <p:blipFill>
          <a:blip r:embed="rId1"/>
          <a:stretch/>
        </p:blipFill>
        <p:spPr>
          <a:xfrm>
            <a:off x="500040" y="3643200"/>
            <a:ext cx="450072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18352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Условия перевода предметного биологического умения вести наблюдение  в общеучебное познавательное умение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1. Подготовительная работа. 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2.Наблюдение должно проводиться самим учеником.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3.Результаты и условия наблюдения должны систематически фиксироваться.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4. Ученик должен представить свой результат наблюдения.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5.Наблюдение должно проводиться до изучения темы.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6. Рефлексия. 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7. Открытость наблюдения.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31T14:37:50Z</dcterms:created>
  <dc:creator>Сергей</dc:creator>
  <dc:description/>
  <dc:language>en-US</dc:language>
  <cp:lastModifiedBy>Сергей</cp:lastModifiedBy>
  <dcterms:modified xsi:type="dcterms:W3CDTF">2013-03-31T14:44:17Z</dcterms:modified>
  <cp:revision>68</cp:revision>
  <dc:subject/>
  <dc:title>Слайд 1</dc:title>
</cp:coreProperties>
</file>