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76E9-4978-4F7B-92D5-FA73D87F2E2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872C-B570-4DE0-B13D-168F0F4CD6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58FA-3517-454F-9325-F3329F516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255A-32C5-4978-A072-D48646D0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4478-69D7-495B-AD6E-57C8F6F0C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9058-75CF-4B88-9479-CC54235E9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67A7-252B-46E1-B600-02F2C90D8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A80D-1F60-4A51-B121-D8625E82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71443-B99A-4BC0-B4D2-DB938775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0F04-51B4-444D-B812-19AA3DD0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DD0D-BD17-4F2B-9869-125EC52F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76D85-3013-4C88-9E30-27D9C19D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76B3-8110-488A-AEA9-51651145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84BA-48EE-4949-B2C6-4A6619C4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0C02-5EF2-44AC-AE5C-4023485C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AEEE-6E88-4684-959B-969E9532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187B2-1399-46B0-BE6F-7899A301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BB16-0B2E-4BE0-A1F3-3BD1B9AD4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7384-C579-4AC6-A9A9-C2DDB6250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66318-4528-415A-AC45-55049FA86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B0B0A-3145-44B5-8724-8ACD6326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EA15A-4D51-4B01-A588-0C795AD4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0FAD9-ABB7-4B04-B8F4-964825C0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3A9E9-06F1-46C4-B61E-80290F33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0BAD-7976-4FFD-8CC5-83C79674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0D437-88F0-4399-8FA6-3CF7548A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55A51-AE69-4C26-9E8C-E57126A2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A83D4-8BBC-449C-88EE-EFE95185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B2D14-2280-4A60-820D-C847D414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CFA0E-6218-4839-8E49-05B919B1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F4F5B-7548-4437-A29F-91A1E97AC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85964-B5FA-4F93-B7A3-79E42372E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4692A-530D-4BD0-8715-9DB07590E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E3773-2C5B-41A0-94F4-E522CAD6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B3789-86FE-4FFB-85AD-34BCF971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0289-5DA1-4A81-AB5F-76F557D8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F8D8D-FAAC-4F4E-9A75-E5712478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BC874-6E2D-4B58-83DC-4DB78078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CD55B-9997-4599-BDAC-E6F45C48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F51AA-1B26-48E5-A95D-1E5B531C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E1747-5A28-4E42-9CF2-D708459E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08F58-0927-4C28-AC6D-824B4B95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2066E-036C-49B3-83FD-58BE00F8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C217A-FC26-444C-8B80-E4CF0630C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6E053-A227-4A3A-A778-9453AA5DC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B2C5F-F850-487E-83BD-3668A5BD8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75E4-D97F-411A-8E7B-AF4F6A50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3FC20-848C-4501-BBBD-EC8964C3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FC25E-A047-4F51-9E75-3123F9D1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BB715-0662-4362-9834-3B66C1CC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C68AA-C69A-4EE9-8239-63177E32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2EACE-F1E1-47EA-8929-C81820E2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17BC8-B51F-4F6A-B4B3-DF259609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1C729-0C53-416D-B449-46A6AC52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4770B-CCBC-4AC5-A2BE-C5DBE817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A3037-C36B-45B1-8C22-13359892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C76E9-35C2-4A36-B88B-B496937DE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7FA8-BBD3-476A-A8C8-73BA2403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FE80E-5F50-47DE-8EE7-569537B00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E5CB-98F5-459E-BC26-B813B8B6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48EF-B26B-4CB6-999F-90420FED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0051-21F6-4E69-A7C1-42CDF3F8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FF32-B904-4928-8233-B649BB2655F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CA30-615F-4203-9BFB-B6F8F308D0CC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2180-590C-4E8E-9273-CE44D120A82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23F2-7688-4542-8FB9-BE0FEF180F71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8C08-6816-4B39-8DCA-BB335D8A69FC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42960" y="3071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r>
              <a:rPr b="1" lang="ru-RU" sz="4100" spc="-1" strike="noStrike">
                <a:solidFill>
                  <a:srgbClr val="ff8d3e"/>
                </a:solidFill>
                <a:latin typeface="Verdana"/>
              </a:rPr>
              <a:t>Организационно-педагогические условия перевода предметных умений в общеучебные на уроках  природоведения.    </a:t>
            </a:r>
            <a:br>
              <a:rPr sz="4100"/>
            </a:b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500040" y="3643200"/>
            <a:ext cx="5027760" cy="27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1680" y="7142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Подготовка к наблюдению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857480" y="3684600"/>
            <a:ext cx="3786120" cy="11016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766f"/>
                </a:solidFill>
                <a:latin typeface="Verdana"/>
              </a:rPr>
              <a:t>Роль учителя состоит в том, чтобы поставить ученика в активную позицию по отношению к своему образованию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Рисунок 3" descr="Изображение 010.jpg"/>
          <p:cNvPicPr/>
          <p:nvPr/>
        </p:nvPicPr>
        <p:blipFill>
          <a:blip r:embed="rId1"/>
          <a:stretch/>
        </p:blipFill>
        <p:spPr>
          <a:xfrm>
            <a:off x="500040" y="3571920"/>
            <a:ext cx="4429080" cy="29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42960" y="1285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8d3e"/>
                </a:solidFill>
                <a:latin typeface="Verdana"/>
              </a:rPr>
              <a:t>Выбор объекта наблюдения и способа фиксации наблюдений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 rot="10800000">
            <a:off x="571680" y="3571200"/>
            <a:ext cx="3929040" cy="278604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Рисунок 4" descr="DSCN1570.jpg"/>
          <p:cNvPicPr/>
          <p:nvPr/>
        </p:nvPicPr>
        <p:blipFill>
          <a:blip r:embed="rId1"/>
          <a:stretch/>
        </p:blipFill>
        <p:spPr>
          <a:xfrm>
            <a:off x="428760" y="3786120"/>
            <a:ext cx="4572000" cy="237960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5"/>
          <p:cNvSpPr/>
          <p:nvPr/>
        </p:nvSpPr>
        <p:spPr>
          <a:xfrm>
            <a:off x="5286240" y="3714840"/>
            <a:ext cx="3286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ль учителя по ходу наблюдения состояла в том, чтобы еженедельно интересоваться тем, как наблюдение проход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500040" y="785880"/>
          <a:ext cx="8143920" cy="2687400"/>
        </p:xfrm>
        <a:graphic>
          <a:graphicData uri="http://schemas.openxmlformats.org/drawingml/2006/table">
            <a:tbl>
              <a:tblPr/>
              <a:tblGrid>
                <a:gridCol w="849240"/>
                <a:gridCol w="1150920"/>
                <a:gridCol w="1044720"/>
                <a:gridCol w="1274760"/>
                <a:gridCol w="1062000"/>
                <a:gridCol w="1346040"/>
                <a:gridCol w="1416240"/>
              </a:tblGrid>
              <a:tr h="14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Д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ол-во кор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Длина корня (ма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ол-во листь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Длина листа (ма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словия (свет, вод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°С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Рисун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125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14392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571680" y="407160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Ценность этой таблицы не только в её конечном результате, но и в процессе её создания, где у учащегося есть реальные условия для приобретения опыта самостоятельной деятельности, начиная с этапа целеполагания и планирования своих шаг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41" name="Рисунок 3" descr="DSCN1568.jpg"/>
          <p:cNvPicPr/>
          <p:nvPr/>
        </p:nvPicPr>
        <p:blipFill>
          <a:blip r:embed="rId1"/>
          <a:stretch/>
        </p:blipFill>
        <p:spPr>
          <a:xfrm>
            <a:off x="785880" y="785880"/>
            <a:ext cx="3595680" cy="269712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3" descr="DSCN1573.jpg"/>
          <p:cNvPicPr/>
          <p:nvPr/>
        </p:nvPicPr>
        <p:blipFill>
          <a:blip r:embed="rId2"/>
          <a:stretch/>
        </p:blipFill>
        <p:spPr>
          <a:xfrm>
            <a:off x="5000760" y="785880"/>
            <a:ext cx="3525840" cy="264312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3" descr="DSCN1575.jpg"/>
          <p:cNvPicPr/>
          <p:nvPr/>
        </p:nvPicPr>
        <p:blipFill>
          <a:blip r:embed="rId3"/>
          <a:stretch/>
        </p:blipFill>
        <p:spPr>
          <a:xfrm>
            <a:off x="3000240" y="3500280"/>
            <a:ext cx="3726000" cy="27943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46" name="Рисунок 3" descr="DSCN1577.jpg"/>
          <p:cNvPicPr/>
          <p:nvPr/>
        </p:nvPicPr>
        <p:blipFill>
          <a:blip r:embed="rId1"/>
          <a:stretch/>
        </p:blipFill>
        <p:spPr>
          <a:xfrm>
            <a:off x="1601640" y="1201680"/>
            <a:ext cx="594072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49" name="Рисунок 3" descr="DSCN1578.jpg"/>
          <p:cNvPicPr/>
          <p:nvPr/>
        </p:nvPicPr>
        <p:blipFill>
          <a:blip r:embed="rId1"/>
          <a:stretch/>
        </p:blipFill>
        <p:spPr>
          <a:xfrm>
            <a:off x="1601640" y="1201680"/>
            <a:ext cx="594072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14240" y="1000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Представление результатов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52" name="Рисунок 3" descr="Изображение 023.jpg"/>
          <p:cNvPicPr/>
          <p:nvPr/>
        </p:nvPicPr>
        <p:blipFill>
          <a:blip r:embed="rId1"/>
          <a:stretch/>
        </p:blipFill>
        <p:spPr>
          <a:xfrm>
            <a:off x="500040" y="3643200"/>
            <a:ext cx="45007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18352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Условия перевода предметного биологического умения вести наблюдение  в общеучебное познавательное умение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1. Подготовительная работа.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2.Наблюдение должно проводиться самим учеником.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3.Результаты и условия наблюдения должны систематически фиксироваться.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4. Ученик должен представить свой результат наблюдения.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5.Наблюдение должно проводиться до изучения темы.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6. Рефлексия.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7. Открытость наблюдения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31T14:37:50Z</dcterms:created>
  <dc:creator>Сергей</dc:creator>
  <dc:description/>
  <dc:language>en-US</dc:language>
  <cp:lastModifiedBy>Сергей</cp:lastModifiedBy>
  <dcterms:modified xsi:type="dcterms:W3CDTF">2013-03-31T14:44:17Z</dcterms:modified>
  <cp:revision>68</cp:revision>
  <dc:subject/>
  <dc:title>Слайд 1</dc:title>
</cp:coreProperties>
</file>