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2AB-6EA9-41D5-9A6E-C969FF31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AD6-EE4B-44C5-AC6F-9C0218A6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873-41D1-444C-9C60-947F0CEF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5AC-2D7C-488E-BDB7-74BB2C55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3A3-22A2-42C7-91B3-B9A1FC8A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FAC-4491-49C3-B5D7-4C4EB6D2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6D8-6952-44A2-9EA2-8D19FD0A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A72-7FCE-4F59-B9BC-D4B03F56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0E2-1D7F-46D2-96A4-98217E9B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4E2-3A50-47DD-96B5-9536DC26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7E4-C4F8-4D5D-BBA5-4F26920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DB4-DBAE-438F-A901-942C4827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2A06-CF6F-4196-A086-A71EC48B3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03280" y="213372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атематикадан  5 класста  үткәрелгән «Тигез</a:t>
            </a:r>
            <a:r>
              <a:rPr b="1" lang="tt-RU" sz="3200" spc="-1" strike="noStrike">
                <a:solidFill>
                  <a:srgbClr val="ff0066"/>
                </a:solidFill>
                <a:latin typeface="Arial"/>
              </a:rPr>
              <a:t>ләмә темасын       йомгаклау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»</a:t>
            </a:r>
            <a:r>
              <a:rPr b="1" lang="tt-RU" sz="3200" spc="-1" strike="noStrike">
                <a:solidFill>
                  <a:srgbClr val="ff0066"/>
                </a:solidFill>
                <a:latin typeface="Arial"/>
              </a:rPr>
              <a:t> дәрес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03280" y="189000"/>
            <a:ext cx="590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66ff"/>
                </a:solidFill>
                <a:latin typeface="Arial"/>
              </a:rPr>
              <a:t>Актаныш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муниципаль рай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66ff"/>
                </a:solidFill>
                <a:latin typeface="Arial"/>
              </a:rPr>
              <a:t>Зөбәер төп гомуми белем бирү мәктә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932360" y="501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66ff"/>
                </a:solidFill>
                <a:latin typeface="Arial"/>
              </a:rPr>
              <a:t>Үткәрде:Н.М.Гыйл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ьф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132000" y="6165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66ff"/>
                </a:solidFill>
                <a:latin typeface="Arial"/>
              </a:rPr>
              <a:t>18.10.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40464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tt-RU" sz="1800" spc="-1" strike="noStrike">
                <a:solidFill>
                  <a:srgbClr val="ff0066"/>
                </a:solidFill>
                <a:latin typeface="Arial"/>
              </a:rPr>
              <a:t>бәясе                 саны       бәясе                          барлы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0066"/>
                </a:solidFill>
                <a:latin typeface="Arial"/>
              </a:rPr>
              <a:t>Т   х сум                   4           4х сум                                       52 с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0066"/>
                </a:solidFill>
                <a:latin typeface="Arial"/>
              </a:rPr>
              <a:t>Ч  16-х сум               3        (16-х)*3 с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867280" y="549360"/>
            <a:ext cx="289080" cy="934920"/>
          </a:xfrm>
          <a:custGeom>
            <a:avLst/>
            <a:gdLst>
              <a:gd name="textAreaLeft" fmla="*/ 0 w 289080"/>
              <a:gd name="textAreaRight" fmla="*/ 104400 w 289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26920" y="2276640"/>
            <a:ext cx="6624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4х+(16-х)*3=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4х+48-3х=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(4х-3х)+48=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Х=52-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Х=4(сум) т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66ff"/>
                </a:solidFill>
                <a:latin typeface="Arial"/>
              </a:rPr>
              <a:t>16-4=12(сум) ч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403280" y="1413000"/>
            <a:ext cx="648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1.     734 санын 86 га арттырыгы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б)1594    җ) 820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)648   г)8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е санны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ң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уммасы 50 г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игез.Бер сан 17 г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игез булса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кенче сан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 табарга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в)67   и)33   д)43   л)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3.Көннең озынлыгы а сәгать, төннең озынлыгы күп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ң)24-а   н)12-а  и) 12+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4.Квадратның ягы 4 см.Периметры күп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т)8   б)12   ү)16  у)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5.   Х-15=20 тигезләмәсенең тамырын таба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к)39, ч)35  н)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6.       78 саны 73 тән ничәгә зуррак?                                                                             и)11  п)9   е)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763640" y="620640"/>
            <a:ext cx="43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Arial"/>
              </a:rPr>
              <a:t>Тест җавап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116000" y="1989000"/>
            <a:ext cx="6335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1.б)1594    җ) 820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ж)648   г)8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2.в)67   и)33   д)43   л)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ң)24-а   н)12-а  и) 12+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4.т)8   б)12   ү)16  у)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5.к)39, ч)35  н)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66ff"/>
                </a:solidFill>
                <a:latin typeface="Arial"/>
              </a:rPr>
              <a:t>6.и)11  п)9   е)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1763640" y="2708280"/>
            <a:ext cx="5184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Җиңүч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503280" y="836640"/>
            <a:ext cx="86407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8800" spc="-1" strike="noStrike">
                <a:solidFill>
                  <a:srgbClr val="cc00cc"/>
                </a:solidFill>
                <a:latin typeface="Arial"/>
              </a:rPr>
              <a:t>Бай</a:t>
            </a:r>
            <a:r>
              <a:rPr b="1" lang="tt-RU" sz="5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tt-RU" sz="7200" spc="-1" strike="noStrike">
                <a:solidFill>
                  <a:srgbClr val="cc00cc"/>
                </a:solidFill>
                <a:latin typeface="Arial"/>
              </a:rPr>
              <a:t>булмасаң- бай булма, тик белемгә сай булма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050920" y="170028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24"/>
          <p:cNvSpPr/>
          <p:nvPr/>
        </p:nvSpPr>
        <p:spPr>
          <a:xfrm>
            <a:off x="1835280" y="404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агик квадратны тутыры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6732720" y="3716280"/>
            <a:ext cx="431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4211640" y="620640"/>
            <a:ext cx="431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3132000" y="1413000"/>
            <a:ext cx="432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2627280" y="2565360"/>
            <a:ext cx="432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2195640" y="3860640"/>
            <a:ext cx="431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580000" y="1484280"/>
            <a:ext cx="432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227640" y="2637000"/>
            <a:ext cx="432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3564000" y="3860640"/>
            <a:ext cx="431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5364000" y="3860640"/>
            <a:ext cx="432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116000" y="551664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66"/>
                </a:solidFill>
                <a:latin typeface="Arial"/>
              </a:rPr>
              <a:t>Һәрбер якта 20 чыгарлык итеп 1дән алып 9 га кадәр саннарны урнаштыры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356364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H="1">
            <a:off x="2987640" y="198900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 flipH="1">
            <a:off x="2484360" y="3141720"/>
            <a:ext cx="216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2627280" y="429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3995640" y="42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796000" y="42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6516720" y="314172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940360" y="1989000"/>
            <a:ext cx="43200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>
            <a:off x="4643280" y="9079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33"/>
          <p:cNvSpPr/>
          <p:nvPr/>
        </p:nvSpPr>
        <p:spPr>
          <a:xfrm>
            <a:off x="565164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2"/>
          <p:cNvSpPr/>
          <p:nvPr/>
        </p:nvSpPr>
        <p:spPr>
          <a:xfrm>
            <a:off x="4211640" y="3429000"/>
            <a:ext cx="504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1"/>
          <p:cNvSpPr/>
          <p:nvPr/>
        </p:nvSpPr>
        <p:spPr>
          <a:xfrm>
            <a:off x="2987640" y="335772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0"/>
          <p:cNvSpPr/>
          <p:nvPr/>
        </p:nvSpPr>
        <p:spPr>
          <a:xfrm>
            <a:off x="5508720" y="2349360"/>
            <a:ext cx="647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5076720" y="1557360"/>
            <a:ext cx="5749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3780000" y="692280"/>
            <a:ext cx="72072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7"/>
          <p:cNvSpPr/>
          <p:nvPr/>
        </p:nvSpPr>
        <p:spPr>
          <a:xfrm>
            <a:off x="2556000" y="1628640"/>
            <a:ext cx="576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1835280" y="2349360"/>
            <a:ext cx="64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5"/>
          <p:cNvSpPr/>
          <p:nvPr/>
        </p:nvSpPr>
        <p:spPr>
          <a:xfrm>
            <a:off x="1547640" y="3141720"/>
            <a:ext cx="503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635280" y="2565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708360" y="620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24360" y="765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627280" y="17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148360" y="155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050920" y="24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58000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9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4764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132000" y="33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211640" y="342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9600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 flipH="1">
            <a:off x="3059280" y="1052640"/>
            <a:ext cx="720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500720" y="112536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H="1">
            <a:off x="2268000" y="191628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 flipH="1">
            <a:off x="1763640" y="2852640"/>
            <a:ext cx="217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5580000" y="1989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5867280" y="278136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1979640" y="3573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3492360" y="3573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464328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835280" y="692280"/>
            <a:ext cx="4681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х+а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а-х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х-а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а/х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а*х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х/а=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763640" y="105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0066"/>
                </a:solidFill>
                <a:latin typeface="Arial"/>
              </a:rPr>
              <a:t>Хатаны т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58920" y="2421000"/>
            <a:ext cx="640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66ff"/>
                </a:solidFill>
                <a:latin typeface="Arial"/>
              </a:rPr>
              <a:t>135+х+65=200-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66ff"/>
                </a:solidFill>
                <a:latin typeface="Arial"/>
              </a:rPr>
              <a:t>43+в-27=70+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66ff"/>
                </a:solidFill>
                <a:latin typeface="Arial"/>
              </a:rPr>
              <a:t>20-(6+в)=26+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58920" y="69228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Математик дикт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619280" y="1844640"/>
            <a:ext cx="6408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0066ff"/>
                </a:solidFill>
                <a:latin typeface="Arial"/>
              </a:rPr>
              <a:t>(а-2)+7=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0066ff"/>
                </a:solidFill>
                <a:latin typeface="Arial"/>
              </a:rPr>
              <a:t>(у+15):2=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0066ff"/>
                </a:solidFill>
                <a:latin typeface="Arial"/>
              </a:rPr>
              <a:t>У*2-10=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258920" y="105264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0066"/>
                </a:solidFill>
                <a:latin typeface="Arial"/>
              </a:rPr>
              <a:t>Карточка белән э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258920" y="2492280"/>
            <a:ext cx="6408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1" lang="tt-RU" sz="6600" spc="-1" strike="noStrike">
                <a:solidFill>
                  <a:srgbClr val="0066ff"/>
                </a:solidFill>
                <a:latin typeface="Arial"/>
              </a:rPr>
              <a:t>24-х)+37=4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0066ff"/>
                </a:solidFill>
                <a:latin typeface="Arial"/>
              </a:rPr>
              <a:t>(х-27)-34=5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ФИЗКУЛЬТ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476360" y="404640"/>
            <a:ext cx="6696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Хәзер бераз ял ит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Тәнебезгә көч кер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Бер урында таптан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Сикергәләп тә ал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Уңга,сулга күз сал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Муеннарны боргалый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Кулларны алга суз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Үткен кайчылар бул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Бер чүгәлик,бер басый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Кул тегермәне ясый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Тиз армаска тырышый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Arial"/>
              </a:rPr>
              <a:t>Арганнарга булышый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20:12:50Z</dcterms:created>
  <dc:creator>Пользователь</dc:creator>
  <dc:description/>
  <dc:language>en-US</dc:language>
  <cp:lastModifiedBy>User</cp:lastModifiedBy>
  <dcterms:modified xsi:type="dcterms:W3CDTF">2013-03-31T15:31:54Z</dcterms:modified>
  <cp:revision>6</cp:revision>
  <dc:subject/>
  <dc:title>Слайд 1</dc:title>
</cp:coreProperties>
</file>