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4A9-F7B4-431C-98D0-9CC23212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31B-B5CF-45A9-A438-19EF6B93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9A7-955E-47CB-B546-DFCA22A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9BE-3258-451B-99BB-DEAED13C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0A5C-2746-419B-8846-77CF8F95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90F-9932-467D-8E25-64DD3EE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894-4A92-4F81-8082-FED67EAE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935-9AA2-40B1-A1F8-B46E03B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1A6-7557-4192-8C2B-D640E2C5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171-D27E-4A5B-8411-C44B1B53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B48-E13F-479A-9879-115DDC9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500-9CBB-4CF0-896E-F9BC305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3E25-B6A6-4931-8C6E-7B1B741EE5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1"/>
          <p:cNvSpPr/>
          <p:nvPr/>
        </p:nvSpPr>
        <p:spPr>
          <a:xfrm>
            <a:off x="2340000" y="1700280"/>
            <a:ext cx="4608360" cy="4176720"/>
          </a:xfrm>
          <a:prstGeom prst="downArrowCallout">
            <a:avLst>
              <a:gd name="adj1" fmla="val 27586"/>
              <a:gd name="adj2" fmla="val 27584"/>
              <a:gd name="adj3" fmla="val 16667"/>
              <a:gd name="adj4" fmla="val 6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eorgia"/>
              </a:rPr>
              <a:t>Е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Georgia"/>
              </a:rPr>
              <a:t>2013 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1571760" y="142920"/>
            <a:ext cx="6121440" cy="642960"/>
          </a:xfrm>
          <a:prstGeom prst="rect">
            <a:avLst/>
          </a:prstGeom>
          <a:solidFill>
            <a:srgbClr val="fdd7f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НИЦИПАЛЬНОЕ КАЗЁН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гинская средняя общеобразователь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403280" y="6281640"/>
            <a:ext cx="5761080" cy="576360"/>
          </a:xfrm>
          <a:prstGeom prst="rect">
            <a:avLst/>
          </a:prstGeom>
          <a:solidFill>
            <a:srgbClr val="fdd7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математики: Васильева Варвара Михай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йти квадрат длины диагонали прямоугольного параллелепипеда, если его измерения равны: 13 см,                4 см, 3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Админ\Downloads\math_9_2_2 (1).png"/>
          <p:cNvPicPr/>
          <p:nvPr/>
        </p:nvPicPr>
        <p:blipFill>
          <a:blip r:embed="rId1"/>
          <a:stretch/>
        </p:blipFill>
        <p:spPr>
          <a:xfrm>
            <a:off x="2928960" y="3857760"/>
            <a:ext cx="37148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итя бросает игральный кубик. С какой вероятностью на верхней грани выпадет четное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йдите площадь боковой поверхности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Админ\Downloads\math_17_11_2.png"/>
          <p:cNvPicPr/>
          <p:nvPr/>
        </p:nvPicPr>
        <p:blipFill>
          <a:blip r:embed="rId1"/>
          <a:stretch/>
        </p:blipFill>
        <p:spPr>
          <a:xfrm>
            <a:off x="3714840" y="2928960"/>
            <a:ext cx="33098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чик сконструирован таким образом, что его антенна ловит радиосигнал, который затем преобразуется в электрический сигнал, изменяющийся со временем по закону                    , где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 –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в секундах, амплитуда                  ,част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Датчик настроен так, что если напряжение в нём не ниже 1В, загорается лампочка. Какую часть времени в % на протяжении первой секунды после начала работы лампочка будет горе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2071800" y="2928960"/>
                <a:ext cx="1850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4786200" y="3286080"/>
                <a:ext cx="1400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785880" y="3786120"/>
                <a:ext cx="1644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sup>
                        </m:sSup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вум сотрудникам издательства поручили отредактировать рукопись объёмом 560 страниц. Один сотрудник, отдав второму 80 страниц рукописи, взял остальные страницы себе. Второй выполнил свою работу за время, в 8 раз меньшее, чем первый свою. Сколько страниц рукописи первый сотрудник должен был сразу отдать второму (взяв себе остальные), чтобы они, работая с прежней производительностью, выполнили свою работу за одинаково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дите   наименьшее значение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 отрез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3787920" y="1612800"/>
                <a:ext cx="2952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000680" y="4286160"/>
                <a:ext cx="1214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1285920" y="2857680"/>
                <a:ext cx="5200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соs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11280" y="1208520"/>
            <a:ext cx="788976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ь 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642960" y="2857680"/>
                <a:ext cx="77328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789120" y="1616040"/>
                <a:ext cx="7419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71680" y="4000680"/>
                <a:ext cx="6072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1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6"/>
          <p:cNvSpPr/>
          <p:nvPr/>
        </p:nvSpPr>
        <p:spPr>
          <a:xfrm>
            <a:off x="785880" y="5727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Найдем ОД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14240" y="25045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я множество значений косинуса, мы видим, что требуемое неравенство может быть только равенством. Т.о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0720" y="3780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42960" y="514620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9040" y="5429160"/>
                <a:ext cx="3515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3987720" y="3523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00120" y="50508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Дан цилиндр,  радиус основания .  которого равен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,  а полная площадь его поверхности  равн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929200" y="1428840"/>
                <a:ext cx="857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Прямоугольник 5"/>
          <p:cNvSpPr/>
          <p:nvPr/>
        </p:nvSpPr>
        <p:spPr>
          <a:xfrm>
            <a:off x="1000080" y="200016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 окружностях разных оснований цилинд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тмечены точки  А  и  В  таким образом, что площадь сечения цилинд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параллельного оси цилиндра и проходящего через эти точки, равна  276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йдите расстояние между плоскостью сечения и осью цилиндра.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000080" y="2286000"/>
                <a:ext cx="672624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Rectangle 5"/>
          <p:cNvSpPr/>
          <p:nvPr/>
        </p:nvSpPr>
        <p:spPr>
          <a:xfrm>
            <a:off x="857160" y="114444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е систему уравнений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209480" y="961200"/>
            <a:ext cx="724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464000" y="13442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агазин закупает тюльпаны по оптовой цене 60 рублей за штуку и продаёт с наценкой 30 %. Какое наибольшее число тюльпанов можно купить в этом магазине на 1180 рубл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С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14240" y="672840"/>
            <a:ext cx="771552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Основанием прямой призмы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ВСА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С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является прямоугольный   треугольник с катетам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В =6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С = 8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Высота призмы равна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Найдите площадь сечения призмы, проходящего через середины рёбер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С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,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и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В</a:t>
            </a:r>
            <a:r>
              <a:rPr b="1" i="1" lang="ru-RU" sz="3600" spc="-1" strike="noStrike" baseline="-30000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.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6715080" y="785880"/>
                <a:ext cx="1500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5214960" y="1285920"/>
                <a:ext cx="32860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928880" y="3000240"/>
                <a:ext cx="8031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214880" y="3357720"/>
                <a:ext cx="642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4857840" y="3643200"/>
                <a:ext cx="3333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428920" y="4071960"/>
                <a:ext cx="57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2357280" y="4572000"/>
                <a:ext cx="1071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2428920" y="5429160"/>
                <a:ext cx="7142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1"/>
          <p:cNvSpPr/>
          <p:nvPr/>
        </p:nvSpPr>
        <p:spPr>
          <a:xfrm>
            <a:off x="1071720" y="2890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Calibri"/>
              </a:rPr>
              <a:t>C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колько решений в зависимости от параметра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Calibri"/>
              </a:rPr>
              <a:t>  имеет  уравнение             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200" y="2716560"/>
            <a:ext cx="2122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Двигая пряму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2643120" y="2861280"/>
            <a:ext cx="614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вверх и вниз, найдите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5786280" y="321660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два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433160" y="4573800"/>
            <a:ext cx="968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3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507960" y="1220760"/>
            <a:ext cx="77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постройте график функц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1"/>
          <p:cNvSpPr/>
          <p:nvPr/>
        </p:nvSpPr>
        <p:spPr>
          <a:xfrm>
            <a:off x="3574440" y="4071960"/>
            <a:ext cx="22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ри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2"/>
          <p:cNvSpPr/>
          <p:nvPr/>
        </p:nvSpPr>
        <p:spPr>
          <a:xfrm>
            <a:off x="3797280" y="4764240"/>
            <a:ext cx="39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имеет четыре реш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3"/>
          <p:cNvSpPr/>
          <p:nvPr/>
        </p:nvSpPr>
        <p:spPr>
          <a:xfrm>
            <a:off x="1395000" y="417024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2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4"/>
          <p:cNvSpPr/>
          <p:nvPr/>
        </p:nvSpPr>
        <p:spPr>
          <a:xfrm>
            <a:off x="1433160" y="535788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4)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5"/>
          <p:cNvSpPr/>
          <p:nvPr/>
        </p:nvSpPr>
        <p:spPr>
          <a:xfrm>
            <a:off x="3722760" y="542916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равнение не имеет ре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1"/>
          <p:cNvSpPr/>
          <p:nvPr/>
        </p:nvSpPr>
        <p:spPr>
          <a:xfrm>
            <a:off x="357120" y="57420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С6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Решите уравн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0" descr=""/>
          <p:cNvPicPr/>
          <p:nvPr/>
        </p:nvPicPr>
        <p:blipFill>
          <a:blip r:embed="rId1"/>
          <a:stretch/>
        </p:blipFill>
        <p:spPr>
          <a:xfrm>
            <a:off x="2500200" y="2643120"/>
            <a:ext cx="411480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2"/>
          <p:cNvSpPr/>
          <p:nvPr/>
        </p:nvSpPr>
        <p:spPr>
          <a:xfrm>
            <a:off x="214200" y="1217160"/>
            <a:ext cx="62150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в натуральных чис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14392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решение угадывается сразу:   Далее,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число 3 дает в остатке (-1), а число 5 дает в остатке 1, следовательно, правая часть равенства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 дает в остатке , а правая часть дает в остатке 1. Отсюда следует, что число  - четное, т.е. .  Тогда уравнение перепишется в виде  .  Правая часть равенства при делен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  дает в остатке  1, а правая часть дает в остатке . Отсюда следует, что 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етное, т.е.  ( p  и  q  теперь больше 1). Уравнение примет вид: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472600" cy="42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                                 . Откуда   что дает уже угаданное решение.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928880" y="142920"/>
            <a:ext cx="1214280" cy="4474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417560" y="195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857160" y="1571760"/>
            <a:ext cx="7643880" cy="77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2000160" y="2786040"/>
            <a:ext cx="1824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4"/>
          <a:stretch/>
        </p:blipFill>
        <p:spPr>
          <a:xfrm>
            <a:off x="2714760" y="5643720"/>
            <a:ext cx="2598480" cy="444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357120" y="27158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460040" y="6811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395000" y="5654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твет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928800" y="34290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система не имеет решений, т.к. в левой части первого уравнения стоит нечетное число, а в правой – чет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475776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571920" y="1571760"/>
          <a:ext cx="5000760" cy="4572000"/>
        </p:xfrm>
        <a:graphic>
          <a:graphicData uri="http://schemas.openxmlformats.org/drawingml/2006/table">
            <a:tbl>
              <a:tblPr/>
              <a:tblGrid>
                <a:gridCol w="857160"/>
                <a:gridCol w="41436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/5; -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, четыре, не имеет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28760" y="285840"/>
          <a:ext cx="2323800" cy="6400800"/>
        </p:xfrm>
        <a:graphic>
          <a:graphicData uri="http://schemas.openxmlformats.org/drawingml/2006/table">
            <a:tbl>
              <a:tblPr/>
              <a:tblGrid>
                <a:gridCol w="1162080"/>
                <a:gridCol w="1161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929120" y="5572080"/>
            <a:ext cx="2503440" cy="42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4786200" y="1714680"/>
                <a:ext cx="28576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k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работе фонарика батарейка постепенно разряжается, и напряжение в электрической цепи фонарика падает. На рисунке показана зависимость напряжения в цепи от времени работы фонарика. На горизонтальной оси отмечается время работы фонарика в часах, на вертикальной оси – напряжение в вольтах. Определите по рисунку, за сколько часов напряжение упадет с 1,2 вольт до 1,0 воль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сканиров_0.tmp"/>
          <p:cNvPicPr/>
          <p:nvPr/>
        </p:nvPicPr>
        <p:blipFill>
          <a:blip r:embed="rId1"/>
          <a:srcRect l="0" t="13542" r="55840" b="68752"/>
          <a:stretch/>
        </p:blipFill>
        <p:spPr>
          <a:xfrm>
            <a:off x="5000760" y="214200"/>
            <a:ext cx="3943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В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дите площадь заштрихованной фигуры, изображенной на клетчатой бумаге, если размер клетки 1х1 см. Ответ дайте в квадратных сантиметр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сканирование0001"/>
          <p:cNvPicPr/>
          <p:nvPr/>
        </p:nvPicPr>
        <p:blipFill>
          <a:blip r:embed="rId1"/>
          <a:srcRect l="14460" t="36483" r="66474" b="57457"/>
          <a:stretch/>
        </p:blipFill>
        <p:spPr>
          <a:xfrm>
            <a:off x="5715000" y="571680"/>
            <a:ext cx="2143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86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дно занятие в спортивном зале стоит 150 рублей. Можно купить абонент на полгода за 7200 рублей. Абонент дает право посещать спортивный зал шесть раз в месяц. Клиент собирается посещать зал в течение полугода, но предполагает заниматься только четыре раза в месяц. Что дешевле – купить абонент или оплачивать каждое занятие отдельно? В ответе укажите наименьшую стоимость посещений тренажерного зала на весь период занятий (в рубля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В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йти корень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4+х)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318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а рисунке угол 1 равен             , угол 2 равен       , угол 3 равен     . Найдите угол  4 . Ответ дайте в градус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4000680" y="1857240"/>
                <a:ext cx="504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6429240" y="1285920"/>
                <a:ext cx="576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6"/>
              <p:cNvSpPr txBox="1"/>
              <p:nvPr/>
            </p:nvSpPr>
            <p:spPr>
              <a:xfrm>
                <a:off x="7929720" y="1857240"/>
                <a:ext cx="576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3133800" cy="28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19"/>
              <p:cNvSpPr txBox="1"/>
              <p:nvPr/>
            </p:nvSpPr>
            <p:spPr>
              <a:xfrm>
                <a:off x="1619280" y="5373720"/>
                <a:ext cx="856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0"/>
              <p:cNvSpPr txBox="1"/>
              <p:nvPr/>
            </p:nvSpPr>
            <p:spPr>
              <a:xfrm>
                <a:off x="2484360" y="4653000"/>
                <a:ext cx="11592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1"/>
              <p:cNvSpPr txBox="1"/>
              <p:nvPr/>
            </p:nvSpPr>
            <p:spPr>
              <a:xfrm>
                <a:off x="2916360" y="5445000"/>
                <a:ext cx="889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2"/>
              <p:cNvSpPr txBox="1"/>
              <p:nvPr/>
            </p:nvSpPr>
            <p:spPr>
              <a:xfrm>
                <a:off x="2411280" y="4941720"/>
                <a:ext cx="11592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\tg \alpha "/>
          <p:cNvPicPr/>
          <p:nvPr/>
        </p:nvPicPr>
        <p:blipFill>
          <a:blip r:embed="rId1"/>
          <a:stretch/>
        </p:blipFill>
        <p:spPr>
          <a:xfrm>
            <a:off x="2771640" y="1844640"/>
            <a:ext cx="865440" cy="41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651640" y="1628640"/>
                <a:ext cx="193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916360" y="3213000"/>
                <a:ext cx="16556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Rectangle 7"/>
          <p:cNvSpPr/>
          <p:nvPr/>
        </p:nvSpPr>
        <p:spPr>
          <a:xfrm>
            <a:off x="541800" y="1628280"/>
            <a:ext cx="23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  <a:ea typeface="Times New Roman"/>
              </a:rPr>
              <a:t>Найдите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6600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780000" y="14443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 есл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971640" y="26539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73760" y="4174200"/>
            <a:ext cx="25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 рисунке изображён графи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изводной функции  у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 (x)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касательная к нему в точке с абсциссой х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Админ\Downloads\math_10_8_2.png"/>
          <p:cNvPicPr/>
          <p:nvPr/>
        </p:nvPicPr>
        <p:blipFill>
          <a:blip r:embed="rId1"/>
          <a:stretch/>
        </p:blipFill>
        <p:spPr>
          <a:xfrm>
            <a:off x="4071960" y="3071880"/>
            <a:ext cx="3429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1:04:01Z</dcterms:created>
  <dc:creator>Админ</dc:creator>
  <dc:description/>
  <dc:language>en-US</dc:language>
  <cp:lastModifiedBy>Админ</cp:lastModifiedBy>
  <dcterms:modified xsi:type="dcterms:W3CDTF">2013-02-28T10:35:52Z</dcterms:modified>
  <cp:revision>72</cp:revision>
  <dc:subject/>
  <dc:title>Слайд 1</dc:title>
</cp:coreProperties>
</file>