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446-ABDB-40A7-893B-D31B65AB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47C-0FED-4912-9125-3104E905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270-3EC1-4AB5-951A-F21EB003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E2B-98B7-409A-B982-63D21033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37B-D89A-4983-8FD2-F215B1A0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4B9-B498-4F3B-BA0D-9A89D24A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206-FA8E-452B-8BEB-B189CFC8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6CB-E714-47FA-979C-B8DAD657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024-C354-43DE-957A-D7F24850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19D-9517-45C2-8502-151999A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072-D6AF-45FA-93BC-32621BB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CCC-B4E7-4534-AD07-976383A8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3BE4-3EE9-440F-A7B6-3B49E032D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685800"/>
            <a:ext cx="71629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7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Доброе утро,друзья!!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дачного дня!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Хорошего настроения!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14560" y="152280"/>
            <a:ext cx="6738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МЕТАЛЛЫ В ОРГАНИЗМЕ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5600" y="990720"/>
            <a:ext cx="515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«Мощь и сила науки -  во множестве фак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цель  -  в обобще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1011400">
            <a:off x="456840" y="2209320"/>
            <a:ext cx="3733920" cy="274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876920" y="2057400"/>
            <a:ext cx="376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903680"/>
            <a:ext cx="8991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речь идёт о Ме как простом веществе -  поставьте «В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речь идёт о Ме как химическом элементе—поставьте«Э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1) в состав ляписа входит серебро;</a:t>
            </a:r>
            <a:br>
              <a:rPr sz="2000"/>
            </a:b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2) степень окисления алюминия +3;</a:t>
            </a:r>
            <a:br>
              <a:rPr sz="2000"/>
            </a:b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3) свинец — пластичный металл;</a:t>
            </a:r>
            <a:br>
              <a:rPr sz="2000"/>
            </a:b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4) золото можно вытянуть в тонкую нить;</a:t>
            </a:r>
            <a:br>
              <a:rPr sz="2000"/>
            </a:br>
            <a:r>
              <a:rPr b="1" i="1" lang="ru-RU" sz="2000" spc="-1" strike="noStrike">
                <a:solidFill>
                  <a:srgbClr val="3366cc"/>
                </a:solidFill>
                <a:latin typeface="Arial"/>
              </a:rPr>
              <a:t>5) электроотрицательность меди меньше электроотрицательности кислорода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60120" y="7621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олните пропуски нужными сло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cc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3366cc"/>
                </a:solidFill>
                <a:latin typeface="Times New Roman"/>
              </a:rPr>
              <a:t>Радиус атомов металлов _______ радиуса атомов неметаллов. Во всех соединениях металлы имеют _______ степени окисления. При комнатной температуре металлы находятся в ________ агрегатном состоянии, за исключением ________. Металлы обладают характерным ________. Они хорошо проводят ________ и ________. Самый  электропроводный Ме - ________ ,самый тугоплавкий Ме - ________ самый пластичный Ме  -________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354168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77640" y="457200"/>
            <a:ext cx="490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рганизм человека состоит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60% из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4% из 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6% не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2160" y="2971800"/>
            <a:ext cx="4377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70 кг массы тела 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1700г –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250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  - 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70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–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2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–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5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–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г -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600200" y="1143000"/>
            <a:ext cx="5867280" cy="14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7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До новых встреч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31T10:29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