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0547-00C7-47A7-851C-D5E20DEEA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E361-8300-4BBC-83C8-A710FAFA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426B-B420-43A3-B916-D195F5A86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2D2C-1663-4786-9EA4-B4EA80B1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24B5-89CE-4A23-8B9E-A41C215B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0CB6-FF68-4EDA-AA6C-0F3A33B8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3D39-B86A-4BE7-8E0A-86A8F947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44AD-35B1-450F-8A9E-B4D7FC08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6E50-A4D3-4D32-AD66-9FB7FDF3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5C14-DF9C-4ACA-88F8-19476B3F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7F4F-CB27-4720-B7CD-7F2A4FC6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92C9-B2A0-4381-8FB4-20B48DA3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EB0B-B2C5-4559-A96B-C06C761C9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14400" y="685800"/>
            <a:ext cx="71629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7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Доброе утро,друзья!!</a:t>
            </a:r>
            <a:endParaRPr b="1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Удачного дня!</a:t>
            </a:r>
            <a:endParaRPr b="1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Хорошего настроения!</a:t>
            </a:r>
            <a:endParaRPr b="1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014560" y="152280"/>
            <a:ext cx="67384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МЕТАЛЛЫ В ОРГАНИЗМЕ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5600" y="990720"/>
            <a:ext cx="515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«Мощь и сила науки -  во множестве факт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цель  -  в обобщен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Д.И.Менделе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rot="21011400">
            <a:off x="456840" y="2209320"/>
            <a:ext cx="3733920" cy="274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876920" y="2057400"/>
            <a:ext cx="376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1903680"/>
            <a:ext cx="8991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сли речь идёт о Ме как простом веществе -  поставьте «В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сли речь идёт о Ме как химическом элементе—поставьте«Э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cc"/>
                </a:solidFill>
                <a:latin typeface="Arial"/>
              </a:rPr>
              <a:t>1) в состав ляписа входит серебро;</a:t>
            </a:r>
            <a:br>
              <a:rPr sz="2000"/>
            </a:br>
            <a:r>
              <a:rPr b="1" i="1" lang="ru-RU" sz="2000" spc="-1" strike="noStrike">
                <a:solidFill>
                  <a:srgbClr val="3366cc"/>
                </a:solidFill>
                <a:latin typeface="Arial"/>
              </a:rPr>
              <a:t>2) степень окисления алюминия +3;</a:t>
            </a:r>
            <a:br>
              <a:rPr sz="2000"/>
            </a:br>
            <a:r>
              <a:rPr b="1" i="1" lang="ru-RU" sz="2000" spc="-1" strike="noStrike">
                <a:solidFill>
                  <a:srgbClr val="3366cc"/>
                </a:solidFill>
                <a:latin typeface="Arial"/>
              </a:rPr>
              <a:t>3) свинец — пластичный металл;</a:t>
            </a:r>
            <a:br>
              <a:rPr sz="2000"/>
            </a:br>
            <a:r>
              <a:rPr b="1" i="1" lang="ru-RU" sz="2000" spc="-1" strike="noStrike">
                <a:solidFill>
                  <a:srgbClr val="3366cc"/>
                </a:solidFill>
                <a:latin typeface="Arial"/>
              </a:rPr>
              <a:t>4) золото можно вытянуть в тонкую нить;</a:t>
            </a:r>
            <a:br>
              <a:rPr sz="2000"/>
            </a:br>
            <a:r>
              <a:rPr b="1" i="1" lang="ru-RU" sz="2000" spc="-1" strike="noStrike">
                <a:solidFill>
                  <a:srgbClr val="3366cc"/>
                </a:solidFill>
                <a:latin typeface="Arial"/>
              </a:rPr>
              <a:t>5) электроотрицательность меди меньше электроотрицательности кислорода</a:t>
            </a: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60120" y="7621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Задание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Задание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полните пропуски нужными слов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cc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3366cc"/>
                </a:solidFill>
                <a:latin typeface="Times New Roman"/>
              </a:rPr>
              <a:t>Радиус атомов металлов _______ радиуса атомов неметаллов. Во всех соединениях металлы имеют _______ степени окисления. При комнатной температуре металлы находятся в ________ агрегатном состоянии, за исключением ________. Металлы обладают характерным ________. Они хорошо проводят ________ и ________. Самый  электропроводный Ме - ________ ,самый тугоплавкий Ме - ________ самый пластичный Ме  -________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0880" y="914400"/>
            <a:ext cx="3541680" cy="4267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77640" y="457200"/>
            <a:ext cx="4908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рганизм человека состоит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60% из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4% из органическ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6% неорганическ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22160" y="2971800"/>
            <a:ext cx="4377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70 кг массы тела содерж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1700г –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250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г   - 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70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г –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42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г –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5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г –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г -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600200" y="1143000"/>
            <a:ext cx="5867280" cy="14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7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До новых встреч!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3-31T10:29:4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