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189-769D-413D-A477-0C12B35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F91-FA3B-4396-9D0A-B0AF7D9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E57-1157-413E-B4B5-E7B174E4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54C-7775-4E92-AFDD-EE58D6F1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FED-FC94-4C4B-B822-0749461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5B-ED0E-4FF5-8FC8-87ED46A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4F8-B7FA-4E59-A4BE-4862C05E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222-8D8C-4950-B7B9-3172CCBC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527-D80E-41B1-B4A4-0C390CC5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7C7-4773-4E8E-991F-F782271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C69-C846-45C5-8503-9B5F54E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323-2D21-4AF3-8AF2-5F49116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C99-D958-4153-96B2-59744F4C1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71800" y="785880"/>
            <a:ext cx="45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МК Школ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УССКИЙ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57280" y="3929040"/>
            <a:ext cx="64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БОУ СОШ №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Уренгой ЯН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оровик Екатерина Пав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4"/>
          <p:cNvSpPr/>
          <p:nvPr/>
        </p:nvSpPr>
        <p:spPr>
          <a:xfrm>
            <a:off x="468360" y="476280"/>
            <a:ext cx="8280360" cy="576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907920"/>
            <a:ext cx="82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павшись в озе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 потом ловили в н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б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15600" y="3573360"/>
            <a:ext cx="77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ловив рыбы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варили из него уху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39640" y="907920"/>
            <a:ext cx="8291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купавшись в озере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 потом ловили в нё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ыб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15600" y="3573360"/>
            <a:ext cx="77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ловив рыбы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варили из неё уху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324000" y="549360"/>
            <a:ext cx="835164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68360" y="1197000"/>
            <a:ext cx="80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писав диктант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ил в нём ошиб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9080" y="314172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йдя три ошибки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её исправ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68360" y="1197000"/>
            <a:ext cx="80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писав диктант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ил в них ошибк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9080" y="314172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йдя три ошибки, 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х исправи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95280" y="476280"/>
            <a:ext cx="8424720" cy="58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74560" y="549360"/>
            <a:ext cx="8569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дрей вышел из дому ра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тром. Андрей торопится в школу. Сегодня     Андрей      дежур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этому  должен  прийти в 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ьше  других  ребят.   Андрей быстро    идёт по тротуару. Хотя Андрей   и   спешит,     Андрей переходит   улицу   только   на        зелёный   свет     светоф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468360" y="476280"/>
            <a:ext cx="8280360" cy="561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68360" y="112536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работали на славу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служили все наград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468360" y="549360"/>
            <a:ext cx="828036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679840" y="172080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1692360" y="1341360"/>
            <a:ext cx="496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стоимение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" name="Picture 13" descr="j0299125"/>
          <p:cNvPicPr/>
          <p:nvPr/>
        </p:nvPicPr>
        <p:blipFill>
          <a:blip r:embed="rId1"/>
          <a:stretch/>
        </p:blipFill>
        <p:spPr>
          <a:xfrm>
            <a:off x="826920" y="3645000"/>
            <a:ext cx="1125720" cy="1805040"/>
          </a:xfrm>
          <a:prstGeom prst="rect">
            <a:avLst/>
          </a:prstGeom>
          <a:ln w="0">
            <a:noFill/>
          </a:ln>
        </p:spPr>
      </p:pic>
      <p:sp>
        <p:nvSpPr>
          <p:cNvPr id="47" name="Oval 15"/>
          <p:cNvSpPr/>
          <p:nvPr/>
        </p:nvSpPr>
        <p:spPr>
          <a:xfrm>
            <a:off x="1547640" y="1413000"/>
            <a:ext cx="503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7"/>
          <p:cNvSpPr/>
          <p:nvPr/>
        </p:nvSpPr>
        <p:spPr>
          <a:xfrm>
            <a:off x="7020000" y="2852640"/>
            <a:ext cx="9367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9"/>
          <p:cNvSpPr/>
          <p:nvPr/>
        </p:nvSpPr>
        <p:spPr>
          <a:xfrm>
            <a:off x="3780000" y="3860640"/>
            <a:ext cx="360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0"/>
          <p:cNvSpPr/>
          <p:nvPr/>
        </p:nvSpPr>
        <p:spPr>
          <a:xfrm>
            <a:off x="1908000" y="5445000"/>
            <a:ext cx="576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2"/>
          <p:cNvSpPr/>
          <p:nvPr/>
        </p:nvSpPr>
        <p:spPr>
          <a:xfrm>
            <a:off x="2916360" y="1052640"/>
            <a:ext cx="934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4"/>
          <p:cNvSpPr/>
          <p:nvPr/>
        </p:nvSpPr>
        <p:spPr>
          <a:xfrm>
            <a:off x="7164360" y="1341360"/>
            <a:ext cx="360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6"/>
          <p:cNvSpPr/>
          <p:nvPr/>
        </p:nvSpPr>
        <p:spPr>
          <a:xfrm>
            <a:off x="5292720" y="3141720"/>
            <a:ext cx="86364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3780000" y="49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ы о нём зна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539640" y="476280"/>
            <a:ext cx="8209080" cy="57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60360" y="1052640"/>
            <a:ext cx="65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стоимение – эт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403280" y="22766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475280" y="2349360"/>
            <a:ext cx="556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лен предлож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258920" y="2997360"/>
            <a:ext cx="38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асть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456200" y="3919680"/>
            <a:ext cx="333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часть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761760" y="4581360"/>
            <a:ext cx="758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торая указывает на предме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не называет е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00104 -0.25301 E">
                                      <p:cBhvr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00174 -0.25324 E">
                                      <p:cBhvr>
                                        <p:cTn id="8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468360" y="476280"/>
            <a:ext cx="8136000" cy="5977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63640" y="134136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70920" y="765000"/>
            <a:ext cx="718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имения изменяю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46520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32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58920" y="177336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родам ( 3-е лиц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258920" y="2565360"/>
            <a:ext cx="35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падежа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Monkey20мартышка"/>
          <p:cNvPicPr/>
          <p:nvPr/>
        </p:nvPicPr>
        <p:blipFill>
          <a:blip r:embed="rId1"/>
          <a:stretch/>
        </p:blipFill>
        <p:spPr>
          <a:xfrm>
            <a:off x="5003640" y="3573360"/>
            <a:ext cx="1924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468360" y="404640"/>
            <a:ext cx="8207280" cy="583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501920" y="2276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500720" y="3141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50072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о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500720" y="49417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бо м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403280" y="692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43280" y="836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4716360" y="620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404720" y="1484280"/>
            <a:ext cx="13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2774880" y="1628640"/>
            <a:ext cx="14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141300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1405080" y="22766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771640" y="242100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500720" y="2276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1332000" y="31417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2771640" y="32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1332000" y="40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2771640" y="4221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1332000" y="4941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п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2771640" y="5084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3" descr="alfq"/>
          <p:cNvPicPr/>
          <p:nvPr/>
        </p:nvPicPr>
        <p:blipFill>
          <a:blip r:embed="rId1"/>
          <a:stretch/>
        </p:blipFill>
        <p:spPr>
          <a:xfrm>
            <a:off x="6227640" y="1413000"/>
            <a:ext cx="2376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395280" y="476280"/>
            <a:ext cx="8353440" cy="590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84360" y="1052640"/>
            <a:ext cx="794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д (им) сидела большая лягушка. Медвежонок протянул к (ей) лапу. Он сунул лапу в воду и потряс не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6000" y="764280"/>
            <a:ext cx="7704360" cy="532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46200" y="692280"/>
            <a:ext cx="84978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ед ним сидела большая лягушка.               Медвежонок протянул к ней лапу. Он сунул лапу в воду и потряс ею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24000" y="404640"/>
            <a:ext cx="8353440" cy="604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00000" y="9079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упив сыр, мальчик положил её в сум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71640" y="1628640"/>
            <a:ext cx="770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23840" y="1665360"/>
            <a:ext cx="765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55640" y="2852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в книгу, я дал её почитать 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900000" y="9079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упив сыр, мальчик положил его в сумк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755640" y="285264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в книгу, я дал его почитать  сосе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468360" y="549360"/>
            <a:ext cx="8207280" cy="58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43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11280" y="105264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йдя на дорогу, путник пошёл по нем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52000" y="3357720"/>
            <a:ext cx="850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в в лодку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плыли на нём по рек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11280" y="1052640"/>
            <a:ext cx="817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ыйдя на дорогу, путник пошёл по н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51640" y="3357720"/>
            <a:ext cx="84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в в лодку, м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плыли на ней по рек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3:27:09Z</dcterms:created>
  <dc:creator>FASTCOOLER</dc:creator>
  <dc:description/>
  <dc:language>en-US</dc:language>
  <cp:lastModifiedBy>Admin</cp:lastModifiedBy>
  <dcterms:modified xsi:type="dcterms:W3CDTF">2013-02-17T15:22:10Z</dcterms:modified>
  <cp:revision>5</cp:revision>
  <dc:subject/>
  <dc:title>Слайд 1</dc:title>
</cp:coreProperties>
</file>