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3EC-D4B1-4219-88AA-C72ED947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75D-3F49-47E5-8A59-EC9C11C8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0E0-8C88-435D-B39F-9D2360AE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B78-CE50-4E15-A55A-9D0EF10F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5C9-B5B3-477B-A5DF-EA03F855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8C3-F50B-41F2-9309-E11F4FDA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EB6-077F-453A-B10C-C6E52ABC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920-4FFE-44A3-8F4F-89C3F2F0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D23-A447-448E-83B0-1D5F69ED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F03-10AC-4F4B-ACD1-4EE314F2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643-0639-425F-A853-AF8A362A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4E9-2A0C-4BFA-8BE7-C810568D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88DA-A286-4782-A3DB-AE139E64A4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071800" y="785880"/>
            <a:ext cx="45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МК Школа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УССКИЙ ЯЗЫ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357280" y="3929040"/>
            <a:ext cx="64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БОУ СОШ №1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вый Уренгой ЯНА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ровик Екатерина Пав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4"/>
          <p:cNvSpPr/>
          <p:nvPr/>
        </p:nvSpPr>
        <p:spPr>
          <a:xfrm>
            <a:off x="468360" y="476280"/>
            <a:ext cx="8280360" cy="5761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9640" y="907920"/>
            <a:ext cx="8291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скупавшись в озере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ы потом ловили в не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ыб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15600" y="3573360"/>
            <a:ext cx="776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ловив рыбы, м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варили из него уху.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39640" y="907920"/>
            <a:ext cx="8291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скупавшись в озере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ы потом ловили в нё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ыб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15600" y="3573360"/>
            <a:ext cx="776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ловив рыбы, м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варили из неё уху.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>
            <a:off x="324000" y="549360"/>
            <a:ext cx="8351640" cy="57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68360" y="1197000"/>
            <a:ext cx="80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писав диктант, 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верил в нём ошиб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69080" y="3141720"/>
            <a:ext cx="757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йдя три ошибки, 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её исправи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68360" y="1197000"/>
            <a:ext cx="80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писав диктант, 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верил в них ошиб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69080" y="3141720"/>
            <a:ext cx="757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йдя три ошибки, 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х исправи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4"/>
          <p:cNvSpPr/>
          <p:nvPr/>
        </p:nvSpPr>
        <p:spPr>
          <a:xfrm>
            <a:off x="395280" y="476280"/>
            <a:ext cx="8424720" cy="583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74560" y="549360"/>
            <a:ext cx="8569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дрей вышел из дому ра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тром. Андрей торопится в школу. Сегодня     Андрей      дежурн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этому  должен  прийти в клас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ньше  других  ребят.   Андрей быстро    идёт по тротуару. Хотя Андрей   и   спешит,     Андрей переходит   улицу   только   на        зелёный   свет     светоф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468360" y="476280"/>
            <a:ext cx="8280360" cy="561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68360" y="1125360"/>
            <a:ext cx="820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работали на слав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служили все награду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6"/>
          <p:cNvSpPr/>
          <p:nvPr/>
        </p:nvSpPr>
        <p:spPr>
          <a:xfrm>
            <a:off x="468360" y="549360"/>
            <a:ext cx="8280360" cy="57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679840" y="172080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0"/>
          <p:cNvSpPr txBox="1"/>
          <p:nvPr/>
        </p:nvSpPr>
        <p:spPr>
          <a:xfrm>
            <a:off x="1692360" y="1341360"/>
            <a:ext cx="4967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стоимение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" name="Picture 13" descr="j0299125"/>
          <p:cNvPicPr/>
          <p:nvPr/>
        </p:nvPicPr>
        <p:blipFill>
          <a:blip r:embed="rId1"/>
          <a:stretch/>
        </p:blipFill>
        <p:spPr>
          <a:xfrm>
            <a:off x="826920" y="3645000"/>
            <a:ext cx="1125720" cy="1805040"/>
          </a:xfrm>
          <a:prstGeom prst="rect">
            <a:avLst/>
          </a:prstGeom>
          <a:ln w="0">
            <a:noFill/>
          </a:ln>
        </p:spPr>
      </p:pic>
      <p:sp>
        <p:nvSpPr>
          <p:cNvPr id="47" name="Oval 15"/>
          <p:cNvSpPr/>
          <p:nvPr/>
        </p:nvSpPr>
        <p:spPr>
          <a:xfrm>
            <a:off x="1547640" y="1413000"/>
            <a:ext cx="503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7"/>
          <p:cNvSpPr/>
          <p:nvPr/>
        </p:nvSpPr>
        <p:spPr>
          <a:xfrm>
            <a:off x="7020000" y="2852640"/>
            <a:ext cx="9367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9"/>
          <p:cNvSpPr/>
          <p:nvPr/>
        </p:nvSpPr>
        <p:spPr>
          <a:xfrm>
            <a:off x="3780000" y="3860640"/>
            <a:ext cx="36036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0"/>
          <p:cNvSpPr/>
          <p:nvPr/>
        </p:nvSpPr>
        <p:spPr>
          <a:xfrm>
            <a:off x="1908000" y="5445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2"/>
          <p:cNvSpPr/>
          <p:nvPr/>
        </p:nvSpPr>
        <p:spPr>
          <a:xfrm>
            <a:off x="2916360" y="1052640"/>
            <a:ext cx="9349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4"/>
          <p:cNvSpPr/>
          <p:nvPr/>
        </p:nvSpPr>
        <p:spPr>
          <a:xfrm>
            <a:off x="7164360" y="1341360"/>
            <a:ext cx="36036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6"/>
          <p:cNvSpPr/>
          <p:nvPr/>
        </p:nvSpPr>
        <p:spPr>
          <a:xfrm>
            <a:off x="5292720" y="3141720"/>
            <a:ext cx="86364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8"/>
          <p:cNvSpPr/>
          <p:nvPr/>
        </p:nvSpPr>
        <p:spPr>
          <a:xfrm>
            <a:off x="3780000" y="4941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мы о нём зна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539640" y="476280"/>
            <a:ext cx="8209080" cy="57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260360" y="1052640"/>
            <a:ext cx="654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естоимение – эт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403280" y="227664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475280" y="2349360"/>
            <a:ext cx="556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член предлож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258920" y="2997360"/>
            <a:ext cx="382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часть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456200" y="3919680"/>
            <a:ext cx="333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часть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761760" y="4581360"/>
            <a:ext cx="758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торая указывает на предме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 не называет ег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0.00104 -0.25301 E">
                                      <p:cBhvr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59259E-006 L 0.00174 -0.25324 E">
                                      <p:cBhvr>
                                        <p:cTn id="8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468360" y="476280"/>
            <a:ext cx="8136000" cy="597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763640" y="134136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970920" y="765000"/>
            <a:ext cx="718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оимения изменяю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46520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40328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258920" y="177336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родам ( 3-е лиц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258920" y="2565360"/>
            <a:ext cx="35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падежа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Monkey20мартышка"/>
          <p:cNvPicPr/>
          <p:nvPr/>
        </p:nvPicPr>
        <p:blipFill>
          <a:blip r:embed="rId1"/>
          <a:stretch/>
        </p:blipFill>
        <p:spPr>
          <a:xfrm>
            <a:off x="5003640" y="3573360"/>
            <a:ext cx="19242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/>
          <p:cNvSpPr/>
          <p:nvPr/>
        </p:nvSpPr>
        <p:spPr>
          <a:xfrm>
            <a:off x="468360" y="404640"/>
            <a:ext cx="8207280" cy="583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501920" y="227664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4500720" y="314172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е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450072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но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500720" y="494172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бо мн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403280" y="692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.п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843280" y="836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4716360" y="62064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1404720" y="1484280"/>
            <a:ext cx="13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.п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2774880" y="1628640"/>
            <a:ext cx="14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500720" y="141300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е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1405080" y="22766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.п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2771640" y="242100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4500720" y="22766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1332000" y="31417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.п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2771640" y="3284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1332000" y="407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.п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2771640" y="4221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1"/>
          <p:cNvSpPr/>
          <p:nvPr/>
        </p:nvSpPr>
        <p:spPr>
          <a:xfrm>
            <a:off x="1332000" y="494172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.п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2"/>
          <p:cNvSpPr/>
          <p:nvPr/>
        </p:nvSpPr>
        <p:spPr>
          <a:xfrm>
            <a:off x="2771640" y="5084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 к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3" descr="alfq"/>
          <p:cNvPicPr/>
          <p:nvPr/>
        </p:nvPicPr>
        <p:blipFill>
          <a:blip r:embed="rId1"/>
          <a:stretch/>
        </p:blipFill>
        <p:spPr>
          <a:xfrm>
            <a:off x="6227640" y="1413000"/>
            <a:ext cx="23767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/>
          <p:cNvSpPr/>
          <p:nvPr/>
        </p:nvSpPr>
        <p:spPr>
          <a:xfrm>
            <a:off x="395280" y="476280"/>
            <a:ext cx="8353440" cy="590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84360" y="1052640"/>
            <a:ext cx="794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еред (им) сидела большая лягушка. Медвежонок протянул к (ей) лапу. Он сунул лапу в воду и потряс нею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56000" y="764280"/>
            <a:ext cx="7704360" cy="532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46200" y="692280"/>
            <a:ext cx="84978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еред ним сидела большая лягушка.               Медвежонок протянул к ней лапу. Он сунул лапу в воду и потряс ею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>
            <a:off x="324000" y="404640"/>
            <a:ext cx="8353440" cy="604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00000" y="907920"/>
            <a:ext cx="729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упив сыр, мальчик положил её в сумк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971640" y="1628640"/>
            <a:ext cx="770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23840" y="1665360"/>
            <a:ext cx="765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55640" y="285264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читав книгу, я дал её почитать  соседу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900000" y="907920"/>
            <a:ext cx="729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упив сыр, мальчик положил его в сумк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755640" y="285264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читав книгу, я дал его почитать  соседу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>
            <a:off x="468360" y="549360"/>
            <a:ext cx="8207280" cy="583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74312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11280" y="1052640"/>
            <a:ext cx="817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ыйдя на дорогу, путник пошёл по нем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252000" y="3357720"/>
            <a:ext cx="850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ев в лодку, м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плыли на нём по реке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11280" y="1052640"/>
            <a:ext cx="817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ыйдя на дорогу, путник пошёл по не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51640" y="3357720"/>
            <a:ext cx="84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ев в лодку, м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плыли на ней по реке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3:27:09Z</dcterms:created>
  <dc:creator>FASTCOOLER</dc:creator>
  <dc:description/>
  <dc:language>en-US</dc:language>
  <cp:lastModifiedBy>Admin</cp:lastModifiedBy>
  <dcterms:modified xsi:type="dcterms:W3CDTF">2013-02-17T15:22:10Z</dcterms:modified>
  <cp:revision>5</cp:revision>
  <dc:subject/>
  <dc:title>Слайд 1</dc:title>
</cp:coreProperties>
</file>