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3EE-8A14-47B1-88BC-5C920A5D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2B0-253D-4978-8B27-98F8F946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82A68-49FB-4521-96FE-B78EC445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6C5D3-F645-403E-BD6E-958D5609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52C0F-AE25-4EBB-BD2E-741E7037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9B03E-3E91-4C2B-AAB6-B5B0FFAA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33887-551A-44EE-AAF9-915B5D7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BF7EA-C843-44ED-9132-596B267A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AD2D4-F506-430E-AC1B-001F54D9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DED2A-435E-4EFA-8352-8A8B5926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5FAB0-EF63-43CB-BE57-6111A1D5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6D4C5-5E72-496D-A575-B33A5CB6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147-3878-46E1-80DA-E953DB19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368E0-9993-49E7-A5F5-0B242E77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7D797-B604-493B-B67A-23599A77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582FC-CD8F-4681-B828-384BC984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372AF-8863-4976-B918-B940111C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E5D48-E6F1-4DF0-A92E-CD53C0F2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BCB48-3C71-461D-A545-581703E9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F650A-6513-479A-AE63-CC124159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7D538-BDEB-4922-A9AD-66D5D92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17D0A-42F8-4ADA-9DE2-41C51EFA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2E58B-8A65-4934-8B77-041F7840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C24-6172-4864-9D87-0E70A4A7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34E38-EE28-44BF-9CA6-99BAD7FF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6C360-2244-4C27-9743-36363DB1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1484C-1CAF-4480-994B-CADBBFA1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8BDFE-76F8-4A4F-9A10-DB7B028D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B58ED-1A12-41C5-BBCD-5DB9293C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2993A-6E2E-45F5-ABAC-29FA84A5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67311-68CB-41F2-AA33-E6400E2A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664D2-72B3-4016-8D4F-58A11B30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7F15A-85A2-4F7C-B5B4-0EB40DD4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1DB77-9262-4D65-B05B-3841F7B4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B981-892A-4168-805F-C37EB071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C28FA-816D-4F25-B788-B1141AA4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C8D32-1DDE-4CE3-AF64-76A5F624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6D76D-DE5D-4BB6-BFEC-FB4C1B88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4494-49DD-4D7B-8AEF-7A665CD0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DFB6-C34A-43C7-9630-5D02F699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F14C-1F64-4E1F-BDD2-B5C74856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4857-4AC8-4F6F-A22A-B1D01C48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FDDD-0414-4832-A58E-AEF1AD65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0847-3810-4B11-B830-9C78ECFC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738-0A5E-4785-BCAF-32C3D156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8D11-F5FF-4BAA-B95E-0CB1284E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E1AA-7B89-4F6E-A3BA-FFF837AC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B872-5BEB-4740-AA50-E335A158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7B9A-21AB-4228-A2F5-244DA5C0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D16F-E790-40B1-973E-E3D6E225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E599-EAE7-4D55-B581-F9A2DD38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C982-E14F-4932-B595-96483A57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1458-5567-4201-AEB4-164FDDB3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4E7A-6DF3-4CE2-9662-7BFBF9F2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91F4-3D4A-4B94-AFAA-BBF7F89D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0EC-BCF0-4BB8-9E20-B333BFBD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FD03-FC24-489F-B7D0-A278C3AC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5302C-1188-494C-B8B9-4DE3E50C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2844-CEB1-4985-9866-4CE213F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EF37-A206-49CC-B0A5-DEE0C99D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E9E7D-75B4-491F-ACC9-81C053AC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9A70-0C18-4C95-9E99-ABCB2804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74C32-201A-4D5E-A9F8-DEC19EE4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87E93-AE2B-494B-A506-205D3CBE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541E-5071-424E-8D7A-1E8D25CC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4FDC-189C-4BBE-A0E8-24597163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A3A-DC3C-4DAE-A45E-F7A89783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8DA55-DFFE-49DF-A3F4-83F6AEEE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8F898-D8DC-4025-8301-FBFF651B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91FD5-B7F5-4FC7-8E88-503CD221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6D4F-F0A2-458C-B521-23255150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E9AF-C25B-4769-9E1B-6F239D0D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DDADF-0FF6-445B-B639-63CB02A3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C27F-C210-4F1B-88C6-E4150513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3C179-0097-403F-970A-EF238D19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9E0B-8966-40E7-8215-DDEE43A6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94BF9-E799-42C3-A798-A3FC8B00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E15-B9C0-47E5-AA0F-AC987CAD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5CF31-81E0-457B-BBF4-AF3511FC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B2F2F-FECC-4461-A794-356E41A8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3445-9803-4117-8FF3-7D4A2161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94F2A-9D9B-4D30-A060-96220243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B4290-FF41-4468-8FA3-86668657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94EFB-E463-48A1-886B-FD7E7564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7BB48-E748-4BA1-B510-A01CF523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30627-516A-48CA-A211-AC54E596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36F87-06DF-410C-A186-8FFA1C9C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4CCE2-1D56-4674-9C8E-4126827B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052-9D12-44A7-A6FE-39D9AFB7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3084-74C0-4328-A491-455682E6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4B38F-F49F-45BD-A08E-3C67DAAB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CDD5D-54D6-4342-B432-0710FAD6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B4FDA-8BE9-41B9-A226-F6398F04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75F00-5B86-467A-A97A-B4F2C4B8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FB55B-5EEC-492D-BBDA-171DB606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6059B-B73E-4C10-9C48-3A32F872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CD3D9-7DEB-4D67-9532-4F2292F5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8515E-DC00-4181-B416-2417DAAE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E34B5-4F59-48F3-A62B-39D32462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A72-9ADF-4C50-AF0C-63F183DF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13A97-81E9-42C8-A5E3-EBF58CF2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7C2C0-566D-40BA-B9E1-B1DD50E9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5747E-1635-4B19-9B41-9C4E7381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ED92B-AC99-481F-8359-BD89844B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EF166-7C53-4637-93A7-B19AE7F3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FA6EC-3C16-41A7-AEF1-7B029FFD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5D0B5-839D-436F-9B7A-AF9E9C9F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252F7-B7B9-4FCE-A762-E3D17F0F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12597-D353-4C1F-AF56-D905F2B1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A3957-FB9A-4256-A03D-BFD8ADB5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DCF-F967-498E-A3F7-3371DEC8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F7679-5F23-46BB-9A8A-8B7C2BDC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A1E81-79F9-4399-8061-C51D5509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5FE5-8BBB-4C64-A0DC-3B99E0D7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4A6BC-724F-489B-BB23-2B072F96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F5BD9-5C7C-4FAE-AA1C-EDE1CD86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D1253-BD39-4E54-ADFE-4F81FAE3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703EA-3C04-4774-BC81-982859DB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EE9E7-8FCA-44DA-8F66-BF1DF0B3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ABFE0-A564-4FD6-A63D-6132A0E4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844F6-0285-4330-B988-2ECD5C00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C32-717F-4CEF-B3A4-812B8CCD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D5EE7-3FE9-474E-92F5-5B35C508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70980-D9C1-4B1A-8498-DFF36698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85338-F299-4B50-B9FD-55D75AAB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96D88-6673-4FE5-8755-AC4897C1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0A55E-0AEB-4B1C-B061-C4561855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BE426-DD4A-42AE-AD70-62417497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D17F9-1F65-4B89-885E-6DC8E3BA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413E3-7424-422E-80D4-B515C709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6056C-FD1F-4524-ADF2-C2995651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31E89-8E93-4A83-83F7-923BCC44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238C-9F8B-4779-AA9D-744FA49FFB8D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A51B-B2B0-4F04-8A05-3738907322F5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B7A7-BDEA-4688-86AC-E1566EE8D1FB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64DC-B737-4036-B6F1-1B18ECA03397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91A9-E575-4BA6-B4AC-8B6BBAF64D8D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CEE1-75E1-4465-9B51-657DFD259696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FBD7-B703-4254-BF2E-16F3517D84A5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A4B9-9933-4BAD-BFC1-1F6811B300D2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4087-A56C-4127-BCFF-309B64C0F2F6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BAE7-F3C9-4534-AE64-80A0C29C0B15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1A3A-0ADA-4711-80FD-FC438A8EA607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929120" y="3928680"/>
            <a:ext cx="657216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ыполнили обучающиеся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В  класса: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усаинова Регин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Резниченко Екатерин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емёнова Юлия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руководитель:  Штефанова Т.Г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Прямоугольник 5"/>
          <p:cNvSpPr/>
          <p:nvPr/>
        </p:nvSpPr>
        <p:spPr>
          <a:xfrm>
            <a:off x="755640" y="260280"/>
            <a:ext cx="788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униципальное общеобразовательное учреждение гимназия № 3 Центрального района г. Волгоград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Прямоугольник 7"/>
          <p:cNvSpPr/>
          <p:nvPr/>
        </p:nvSpPr>
        <p:spPr>
          <a:xfrm>
            <a:off x="3357720" y="628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гоград, 20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1" name="Прямоугольник 11" descr=""/>
          <p:cNvPicPr/>
          <p:nvPr/>
        </p:nvPicPr>
        <p:blipFill>
          <a:blip r:embed="rId1"/>
          <a:stretch/>
        </p:blipFill>
        <p:spPr>
          <a:xfrm>
            <a:off x="609480" y="1633680"/>
            <a:ext cx="82965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55640" y="692280"/>
            <a:ext cx="7632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6% респондентов считают, что курение помогает сохранить стройную фигуру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днако, это является заблуждение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ченые доказали, что курение во время подросткового возраста напрямую ведет к ожирению брюшной области в зрелом возрасте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совершеннолетние курильщицы, опустошавшие в день, по крайней мере, полпачки, в два раза чаще страдают от ожирения, чем некурящи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" descr="C:\Users\1\Desktop\gastro-rauchverbot.jpg"/>
          <p:cNvPicPr/>
          <p:nvPr/>
        </p:nvPicPr>
        <p:blipFill>
          <a:blip r:embed="rId1"/>
          <a:stretch/>
        </p:blipFill>
        <p:spPr>
          <a:xfrm>
            <a:off x="826920" y="2997360"/>
            <a:ext cx="7921800" cy="36716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-360" y="189000"/>
            <a:ext cx="889308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 результату соцопроса 30% респондентов считают курение в общественных местах нормой. Но в европейских странах курение – неприличный поступок, нарушение закон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Табак в Россию пришел с Запада, как элемент цивилизации. Сегодня цивилизованный мир отказывается от курения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идерланды, Франция, Германия, Великобритания и другие страны приняли закон о запрете курения в общественных местах. Несмотря на принятые в России законы эта проблема не решена (35% россиян сегодня курят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4" descr="C:\Users\1\Desktop\город-призрак.jpg"/>
          <p:cNvPicPr/>
          <p:nvPr/>
        </p:nvPicPr>
        <p:blipFill>
          <a:blip r:embed="rId1"/>
          <a:stretch/>
        </p:blipFill>
        <p:spPr>
          <a:xfrm>
            <a:off x="1258920" y="2205000"/>
            <a:ext cx="6842160" cy="44197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179280" y="-360"/>
            <a:ext cx="89647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едставьте себе пятимиллионный город курильщиков, в котором каждые шесть секунд умирает человек. Через год в этом мегаполисе никого не останется в живых. Именно так и происходит, но с той лишь разницей, что жертвы рассеяны по всему миру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51200" y="836640"/>
            <a:ext cx="419112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мер от рака легких американский мультипликатор и курильщик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олт Дисней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Ему было 65 лет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89" name="Picture 4" descr="Walt-Disney-20-16"/>
          <p:cNvPicPr/>
          <p:nvPr/>
        </p:nvPicPr>
        <p:blipFill>
          <a:blip r:embed="rId1"/>
          <a:stretch/>
        </p:blipFill>
        <p:spPr>
          <a:xfrm>
            <a:off x="395280" y="404640"/>
            <a:ext cx="43275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5435280" y="404280"/>
            <a:ext cx="3251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мер  народный артист СССР Роланд Быков, наш любимый Кот Базили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01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6372000" y="1052280"/>
            <a:ext cx="2314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мер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 рака легких первый владелец компании Мальбор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5651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94920" y="260280"/>
            <a:ext cx="793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т рака горла скончался писатель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ауреат Нобелевской премии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ихаил Шолохов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1"/>
          <a:srcRect l="0" t="0" r="1946" b="107"/>
          <a:stretch/>
        </p:blipFill>
        <p:spPr>
          <a:xfrm>
            <a:off x="971640" y="1989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5992560" y="1599840"/>
            <a:ext cx="28494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абак  унёс жизнь великого вратаря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Льва Яшина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462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116000" y="33300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омпозиторов Дмитрия Шостаковича и Микаэла Таривердиева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0" name="Picture 4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124440" cy="47628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8480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692320" y="404640"/>
            <a:ext cx="3149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эта       Пастернак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2865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28400" y="404640"/>
            <a:ext cx="8715240" cy="64533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Цель проект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оздать социальную антитабачную рекламу для демонстрации в школ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Актуальность проекта: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Борьба с курением приобрела глобальный характер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Россия – одна из самых курящих стран мира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ысокий уровень распространенности курения поддерживается за счет пополнения армии курильщиков подросткам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Задачи проекта: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анализировать материалы по проблеме кур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вести анкетирование среди учащихся и их родителей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казать  профилактическую помощь учащимся в осознании реальных последствий от курения сигарет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ыбор модели поведения в ситуации «курить или отказаться»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спользуя социальную антитабачную агитацию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формировать  устойчивую позицию у подростков в пользу отказа от курения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ти люди  не дожили до старости и умерли в расцвете творческой деятельност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 них остались незавершенные проекты, недописанные книги и партитуры, незаконченные фильм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ильно ошибаются те, кто считает, что бросить курить никогда не поздно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2" descr="102_4122x3109a"/>
          <p:cNvPicPr/>
          <p:nvPr/>
        </p:nvPicPr>
        <p:blipFill>
          <a:blip r:embed="rId1"/>
          <a:stretch/>
        </p:blipFill>
        <p:spPr>
          <a:xfrm>
            <a:off x="1116000" y="189000"/>
            <a:ext cx="6800760" cy="1965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9" descr="102_4122x3109"/>
          <p:cNvPicPr/>
          <p:nvPr/>
        </p:nvPicPr>
        <p:blipFill>
          <a:blip r:embed="rId2"/>
          <a:stretch/>
        </p:blipFill>
        <p:spPr>
          <a:xfrm>
            <a:off x="1116000" y="4292640"/>
            <a:ext cx="6767640" cy="20080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899640" y="2492280"/>
            <a:ext cx="6983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урение убьет половину из тех, кто начнет курить в подростковом  возраст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55640" y="549000"/>
            <a:ext cx="7561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дположим, ты с другом закурил в 14 лет. Возможно, тебе повезет больше, чем 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еперь ты быстро устаешь, ты растешь медленнее своих ровеснико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ы недоволен результатами выпускных экзамено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20 лет ты уже не сможешь обойтись без пачки сигарет в ден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30 лет у тебя желтые зубы, землистый цвет лица, тусклые волосы. Ты не можешь пробежать 100-метровку, как в твои 14 лет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40 лет ты просыпаешься с головной болью, тебя беспокоит кашель курильщика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вои дети болеют аллерги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50 лет ты потерял друга, с которым впервые закурил в 14 лет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95280" y="47628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то станет явью, если ты не выберешь обратный путь. И тогда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50 лет ты придешь на день рождения к своему друг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40 лет  ты ведешь активный образ жизн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ы гордишься успехами своих дет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30 лет ты успешный руководител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20 лет ты учишься в престижном вуз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14 лет ты с другом отказался от предложенной сигарет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ждый из вас выберет свой сценарий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Источник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000080" y="1784520"/>
            <a:ext cx="7686720" cy="36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http://www.fototema.ru/photo_pr/1422-brosajj-kurit-kreativnaja-antireklama.html</a:t>
            </a:r>
            <a:br>
              <a:rPr sz="2100"/>
            </a:b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http://ne-kurim.ru/news/v_mire_kazhdye_shest_sekund_iz-za_kurenija_umiraet_odin_chelovek_-_voz/</a:t>
            </a:r>
            <a:br>
              <a:rPr sz="2100"/>
            </a:b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http://www.healthyhearts.ru/index.php?option=com_content&amp;view=article&amp;id=27&amp;Itemid=103</a:t>
            </a:r>
            <a:br>
              <a:rPr sz="2100"/>
            </a:b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http://www.healthyhearts.ru/index.php?option=com_content&amp;view=article&amp;id=27&amp;Itemid=103</a:t>
            </a:r>
            <a:br>
              <a:rPr sz="2100"/>
            </a:b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00080" y="2214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Consolas"/>
              </a:rPr>
              <a:t>Спасибо за внимание!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ы не будем  в своем проекте показывать фотографии пораженных органов, перечислять болезни, связанные с курением, так как подростки не воспринимают  это как личную угрозу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23640" y="4508640"/>
            <a:ext cx="85914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04200" indent="-253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 данным проведенного нами соцопроса мы выяснили , что из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47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респондентов пробовали курить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7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человек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04200" indent="-253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1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человек, курящих в настоящее время, начали курить в подростковом возраст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04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5" name="Диаграмма 3" descr=""/>
          <p:cNvPicPr/>
          <p:nvPr/>
        </p:nvPicPr>
        <p:blipFill>
          <a:blip r:embed="rId1"/>
          <a:stretch/>
        </p:blipFill>
        <p:spPr>
          <a:xfrm>
            <a:off x="1676520" y="530280"/>
            <a:ext cx="629100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01320" y="4652640"/>
            <a:ext cx="83739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 </a:t>
            </a:r>
            <a:r>
              <a:rPr b="0" lang="en-US" sz="2800" spc="-1" strike="noStrike">
                <a:solidFill>
                  <a:srgbClr val="ffffff"/>
                </a:solidFill>
                <a:latin typeface="Californian FB"/>
              </a:rPr>
              <a:t>78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школьников в возрасте 13-14 лет уже пробовали курить 22 человека (28%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99% респондентов считают курение вредной привычкой.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7" name="Диаграмма 3" descr=""/>
          <p:cNvPicPr/>
          <p:nvPr/>
        </p:nvPicPr>
        <p:blipFill>
          <a:blip r:embed="rId1"/>
          <a:stretch/>
        </p:blipFill>
        <p:spPr>
          <a:xfrm>
            <a:off x="0" y="-19080"/>
            <a:ext cx="76010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чему подростки курят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 данным Всемирной Организации Здравоохранения   Россия занимает первое место по подростковому курению 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ы выявили факторы, влияющие на выбор подростков в пользу куре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684360" y="764640"/>
            <a:ext cx="7632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ногие подростки начинают курить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з любопытств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тобы казаться взросле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 компанию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тому что это модн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тому что это доступн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ди самоутвержд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ы попытались проанализировать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екоторые причин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абачные компании проводят рекламные акции с целью привлечения большего числа потребителей. На улицах предлагают сигареты бесплатно. Проводят интернет-акции среди покупателей сигарет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ка это будет происходить, армия курильщиков будет непрерывно пополняться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дна из причин массового курения подростков в том , что идет поток негласной пропаганды курения с телеэкранов . Мы попадаем под очарование блистательных актеров, создающих  образ успешных, деловых, богатых и, при этом, обязательно курящих людей. Знаменитые актеры, демонстрируя свою пагубную привычку, подают пример зрителям –детям, подростка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7:27:12Z</dcterms:created>
  <dc:creator>1</dc:creator>
  <dc:description/>
  <dc:language>en-US</dc:language>
  <cp:lastModifiedBy>пень4</cp:lastModifiedBy>
  <dcterms:modified xsi:type="dcterms:W3CDTF">2013-03-31T11:23:33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