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9CA-1A62-4D54-81D1-99E7C004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E81-0A54-40BA-8FB6-B6A50609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53212-852A-40BF-8496-9DBB330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D8D2E-5682-4C0D-95E7-F48B6589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573BE-FF3A-42D3-8F58-AA9B68A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EB6E8-8079-43B0-961F-5D9F9AD4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2AEA5-3B29-47D2-A7AA-FB6121D4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E5CDF-FB8E-4C50-984B-4A77722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68492-EE52-468D-A127-55E7450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B064B-F898-478F-92E0-A2C4380C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D6F3B-9AEB-4261-8907-7F796C90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DBC28-1EB8-4531-96F3-7738D277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B36-A941-4E12-BD04-0B16D109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B573F-86A1-473E-B5EC-92F1C2D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B8BFD-3BC9-4218-B358-C4A701A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30EC7-4CAA-4F85-A814-55B0ACF6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75AFB-A725-478B-921E-7F5B4D1A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1C31C-F5D9-48AA-BB9E-2F15FC11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01819-5827-490D-B7AD-D2449A7D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362E4-328D-4683-90A2-83E2DC2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63C91-0641-4557-9D2F-4AE55426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F0C4-A419-4DA9-8014-7D286796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40377-0C5E-4A71-9166-D9ABFD3B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5B7-9451-417C-BD82-CDE7A1EB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7992C-5725-4CDE-8D74-FBB73AC6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86A5D-5170-40FE-B67F-942E75B9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FB82-9C0F-4E10-ADFB-4CCEF565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F0CC5-2E27-4375-BE55-998D5941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83DA6-F0BE-42BC-9489-37D3252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C888-AABE-4C37-8FA9-D25B69A7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C1C89-7818-4B33-A8B9-7DFE3D6C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0ED3-73E8-4BE8-AA74-F2DE6ED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A7FD5-7687-4B76-8127-198A156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9E3BB-2E31-419B-AE67-5ED5FF19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14F-C2D6-449C-94C4-D7660388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7E4D8-7578-4951-9469-4BDAE073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5A344-F60A-4686-BD5A-ABF0CFD9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46EE3-990D-45CE-B8F9-83F285FD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31F7-CA31-448E-B3A2-5EED2669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7223-03CF-4413-A44B-A5A8E2DA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CAD2-61B9-4584-9A66-0349C3C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17D0-736E-4F57-A136-E4C8C911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51CA-6929-47B2-BAF6-5D71D689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DF35-032E-4106-ACE6-F509423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9E6-00F8-49C7-A4D0-35D82F72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D0D6-C7AC-4C4A-AFEA-995B9C2C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236-95A1-4D36-8262-0FEB7662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5426-1CA8-4142-A869-C551FB96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D672-7514-4A57-803B-98A2D96D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E3EB-5952-44EA-868E-2C7E3224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AED3-59B3-4563-A120-68A8F6B8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E444-BA6E-4AAB-8728-B41D6856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DDCD-9605-41D3-82AA-C08D8249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07C5-10D9-4077-B3CA-0408EE80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1276-508D-44B1-89D4-949B04C9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A4A-35B7-4E19-A27B-0A2E6AA1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7628-3940-477F-87C9-EA56973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CDA5-AD8B-46D5-A991-6E22CACA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06F6-B9FE-4BA8-A3C1-32A35CD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5FFF-6116-4B45-BA90-0647A12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480D-A8B2-467B-ADAD-5F9211FA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C9D6-7F81-4C9B-812C-C3AA85BE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D7F22-8840-40C8-A5D7-E954917A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19D24-D313-4655-9F26-161215D0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A1A3-751E-4C4F-BEEF-9B2818E0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25808-A43A-4125-856B-088A0722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0BB-81E4-47BB-8D0F-817B3E8A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39FA-749A-4A0D-88AF-7C156B9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68270-8D86-4CC7-96AF-FC332BB3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7D98-4634-4FEE-A3F0-33559DD9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0FDE-B018-459B-910D-16BBEBB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3D4E-4E33-4626-9C73-8370D5F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DD192-2595-426A-9434-0B24B74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A8EB-8612-4FD6-962C-427351C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09633-E23C-44E9-AA77-8DD3A020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1A89-B2EF-47F0-A9C1-5E6A7E2C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D880-EDA0-4622-9D91-4E0A6D64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84D-27DC-41AF-9FAE-A62CE71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904C6-9753-4698-899A-7066209A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1A74-9E84-49A5-A78F-E7CFDA6E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9D846-3F8B-4B9D-9007-E610B51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5B5D-6C59-402C-9604-5F53CDDA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97F4-C93A-4DF4-BA2E-D69A60F8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4E31-C410-439A-BA08-4E81D02A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EF4D-6BC4-4994-83F2-1ADC996D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A6F9A-B7E1-41CF-AAF7-2A3C419B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23038-8CCE-4DF9-ADC1-808FFC03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A88F-0D2E-4D4D-9048-EEAE49C3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AE4-20A5-4B64-AAC1-944F3A52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9814-F00C-4FC8-B869-560D8779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644D6-540C-4AFE-AC65-43299A39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1EB02-8F70-4A39-BB96-1E58400F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63ECF-0E7E-4A88-B0EF-7287CC0D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F5E2-C36F-40E0-A19A-EC4ECD0B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24B6-2404-4464-8990-34CD9132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885FF-90B5-44DA-8DE2-112D50A6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59FFD-CEE1-40ED-A2B8-E62C3B1D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590E-5808-4300-9073-DDC4EFF4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DD91-2932-46F0-BE2C-99D20648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6D2-3ADE-493E-8814-E6C73CF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7FA1E-FE2E-494F-9A23-4560E28D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AE09-426F-4B7E-ACD2-4D9F5D65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BAA04-4667-4021-B0D0-9602C832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D136B-88EB-4E42-9AFC-226D174C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3E789-D3AA-403A-B8E1-47C862CD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E9E65-8C89-4940-94BF-4F308E83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CB719-2B61-4BCF-98B1-548DE5C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68820-7B9F-42F7-BB6A-377CEFB7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D9D76-7563-46C2-A983-B07AD2A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9EA7-D637-4E4C-BBC6-156EA50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C9F-D1DD-4B50-BB5A-BD467FA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400FA-A6A6-47A3-991D-0286848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3230A-F1D6-4A61-B860-88A1720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60D0-4FBB-4724-B920-4955DD95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E389-A5DF-4951-A72F-B9B00412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C958-D46C-41B9-9CC2-09E0C37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5426-090B-44A9-A7CB-A14FF1FD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EE10C-5EFD-4A87-AAE8-1D23BEB3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8093-9573-48C7-9AF6-0D7A797C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23B0E-035C-40A6-9BFA-CAE71446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CE995-2E09-4B7E-A40B-65281369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0BF-4918-4EDA-B08B-4BB71AD0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CA76-B808-4FCD-95AB-8DC7A536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3A691-2F80-49D6-A4DF-77F4872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EA6B0-0D72-480A-A93F-6443585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A1CF-75EE-417D-9DE9-4A5D1630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58F06-7FC2-4A23-9839-3A93F9BE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9E8C-FD3A-48B8-BA90-7BBDB25D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81820-2A2C-4BB3-BB33-C45A9C9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5F609-0859-4A1A-B72C-7E280568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1ABD-9107-4870-A1A8-003EB61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2A6B7-93AA-4576-847F-60484E6E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99DA-E475-46D0-A4A8-70762F2D40AB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DC4A-8BA4-4175-BBDB-019D0B3827BF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9014-CAB8-4F7B-A185-BDA20D187661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5EBE-7A03-4315-BEC5-166C7A7536F0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9F87-3886-4B59-B280-319D36646A89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F32-E428-407E-875A-F49F5901A7B9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3548-AFCA-455A-BBC5-3361F64825D5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BA93-0575-419A-AF7B-F5BAC97E1183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83ED-77A1-4C70-B31F-1C3C2DC76184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4EC0-F60B-4390-9867-5C28D9886E8C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AD90-EE8A-4E57-91CF-619417BA62C0}" type="slidenum">
              <a:rPr b="0" lang="ru-RU" sz="1200" spc="-1" strike="noStrike">
                <a:solidFill>
                  <a:srgbClr val="d6ec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929120" y="3928680"/>
            <a:ext cx="657216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ыполнили обучающиеся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 В  класса: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усаинова Регин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езниченко Екатерин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емёнова Юлия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уководитель:  Штефанова Т.Г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Прямоугольник 5"/>
          <p:cNvSpPr/>
          <p:nvPr/>
        </p:nvSpPr>
        <p:spPr>
          <a:xfrm>
            <a:off x="755640" y="260280"/>
            <a:ext cx="78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униципальное общеобразовательное учреждение гимназия № 3 Центрального района г. Волгоград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Прямоугольник 7"/>
          <p:cNvSpPr/>
          <p:nvPr/>
        </p:nvSpPr>
        <p:spPr>
          <a:xfrm>
            <a:off x="3357720" y="628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гоград, 20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1" name="Прямоугольник 11" descr=""/>
          <p:cNvPicPr/>
          <p:nvPr/>
        </p:nvPicPr>
        <p:blipFill>
          <a:blip r:embed="rId1"/>
          <a:stretch/>
        </p:blipFill>
        <p:spPr>
          <a:xfrm>
            <a:off x="609480" y="1633680"/>
            <a:ext cx="82965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55640" y="692280"/>
            <a:ext cx="7632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6% респондентов считают, что курение помогает сохранить стройную фигуру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днако, это является заблуждение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ченые доказали, что курение во время подросткового возраста напрямую ведет к ожирению брюшной области в зрелом возраст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совершеннолетние курильщицы, опустошавшие в день, по крайней мере, полпачки, в два раза чаще страдают от ожирения, чем некурящи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C:\Users\1\Desktop\gastro-rauchverbot.jpg"/>
          <p:cNvPicPr/>
          <p:nvPr/>
        </p:nvPicPr>
        <p:blipFill>
          <a:blip r:embed="rId1"/>
          <a:stretch/>
        </p:blipFill>
        <p:spPr>
          <a:xfrm>
            <a:off x="826920" y="2997360"/>
            <a:ext cx="7921800" cy="36716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-360" y="189000"/>
            <a:ext cx="889308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 результату соцопроса 30% респондентов считают курение в общественных местах нормой. Но в европейских странах курение – неприличный поступок, нарушение закон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абак в Россию пришел с Запада, как элемент цивилизации. Сегодня цивилизованный мир отказывается от курения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идерланды, Франция, Германия, Великобритания и другие страны приняли закон о запрете курения в общественных местах. Несмотря на принятые в России законы эта проблема не решена (35% россиян сегодня курят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4" descr="C:\Users\1\Desktop\город-призрак.jpg"/>
          <p:cNvPicPr/>
          <p:nvPr/>
        </p:nvPicPr>
        <p:blipFill>
          <a:blip r:embed="rId1"/>
          <a:stretch/>
        </p:blipFill>
        <p:spPr>
          <a:xfrm>
            <a:off x="1258920" y="2205000"/>
            <a:ext cx="6842160" cy="4419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179280" y="-360"/>
            <a:ext cx="896472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едставьте себе пятимиллионный город курильщиков, в котором каждые шесть секунд умирает человек. Через год в этом мегаполисе никого не останется в живых. Именно так и происходит, но с той лишь разницей, что жертвы рассеяны по всему миру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51200" y="836640"/>
            <a:ext cx="419112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ер от рака легких американский мультипликатор и курильщик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олт Дисней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Ему было 65 лет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89" name="Picture 4" descr="Walt-Disney-20-16"/>
          <p:cNvPicPr/>
          <p:nvPr/>
        </p:nvPicPr>
        <p:blipFill>
          <a:blip r:embed="rId1"/>
          <a:stretch/>
        </p:blipFill>
        <p:spPr>
          <a:xfrm>
            <a:off x="395280" y="404640"/>
            <a:ext cx="43275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5435280" y="404280"/>
            <a:ext cx="3251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ер  народный артист СССР Роланд Быков, наш любимый Кот Базили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0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6372000" y="1052280"/>
            <a:ext cx="2314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е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 рака легких первый владелец компании Мальбор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5651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94920" y="260280"/>
            <a:ext cx="7931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т рака горла скончался писатель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ауреат Нобелевской премии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ихаил Шолох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1"/>
          <a:srcRect l="0" t="0" r="1946" b="107"/>
          <a:stretch/>
        </p:blipFill>
        <p:spPr>
          <a:xfrm>
            <a:off x="971640" y="1989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5992560" y="1599840"/>
            <a:ext cx="28494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абак  унёс жизнь великого вратаря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ьва Яшина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462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116000" y="333000"/>
            <a:ext cx="7345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мпозиторов Дмитрия Шостаковича и Микаэла Таривердиева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124440" cy="47628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8480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692320" y="404640"/>
            <a:ext cx="31496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эта       Пастернак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2865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28400" y="404640"/>
            <a:ext cx="8715240" cy="64533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Цель проект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здать социальную антитабачную рекламу для демонстрации в школ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Актуальность проекта: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Борьба с курением приобрела глобальный характер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оссия – одна из самых курящих стран мира,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сокий уровень распространенности курения поддерживается за счет пополнения армии курильщиков подросткам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Задачи проекта: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анализировать материалы по проблеме ку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вести анкетирование среди учащихся и их родителей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казать  профилактическую помощь учащимся в осознании реальных последствий от курения сигарет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бор модели поведения в ситуации «курить или отказаться»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спользуя социальную антитабачную агитацию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формировать  устойчивую позицию у подростков в пользу отказа от курения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ти люди  не дожили до старости и умерли в расцвете творческой деятельност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 них остались незавершенные проекты, недописанные книги и партитуры, незаконченные филь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ильно ошибаются те, кто считает, что бросить курить никогда не поздно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2" descr="102_4122x3109a"/>
          <p:cNvPicPr/>
          <p:nvPr/>
        </p:nvPicPr>
        <p:blipFill>
          <a:blip r:embed="rId1"/>
          <a:stretch/>
        </p:blipFill>
        <p:spPr>
          <a:xfrm>
            <a:off x="1116000" y="189000"/>
            <a:ext cx="6800760" cy="1965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9" descr="102_4122x3109"/>
          <p:cNvPicPr/>
          <p:nvPr/>
        </p:nvPicPr>
        <p:blipFill>
          <a:blip r:embed="rId2"/>
          <a:stretch/>
        </p:blipFill>
        <p:spPr>
          <a:xfrm>
            <a:off x="1116000" y="4292640"/>
            <a:ext cx="6767640" cy="20080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899640" y="2492280"/>
            <a:ext cx="6983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урение убьет половину из тех, кто начнет курить в подростковом  возраст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55640" y="549000"/>
            <a:ext cx="7561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дположим, ты с другом закурил в 14 лет. Возможно, тебе повезет больше, чем 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еперь ты быстро устаешь, ты растешь медленнее своих ровесник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ы недоволен результатами выпускных экзамен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20 лет ты уже не сможешь обойтись без пачки сигарет в ден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30 лет у тебя желтые зубы, землистый цвет лица, тусклые волосы. Ты не можешь пробежать 100-метровку, как в твои 14 ле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40 лет ты просыпаешься с головной болью, тебя беспокоит кашель курильщик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вои дети болеют аллерги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50 лет ты потерял друга, с которым впервые закурил в 14 лет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95280" y="47628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то станет явью, если ты не выберешь обратный путь. И тогда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50 лет ты придешь на день рождения к своему друг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40 лет  ты ведешь активный образ жизн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ы гордишься успехами своих дет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30 лет ты успешный руководител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20 лет ты учишься в престижном вуз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14 лет ты с другом отказался от предложенной сигарет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ждый из вас выберет свой сценарий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Источн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000080" y="1784520"/>
            <a:ext cx="768672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http://www.fototema.ru/photo_pr/1422-brosajj-kurit-kreativnaja-antireklama.html</a:t>
            </a:r>
            <a:br>
              <a:rPr sz="2100"/>
            </a:b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http://ne-kurim.ru/news/v_mire_kazhdye_shest_sekund_iz-za_kurenija_umiraet_odin_chelovek_-_voz/</a:t>
            </a:r>
            <a:br>
              <a:rPr sz="2100"/>
            </a:b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http://www.healthyhearts.ru/index.php?option=com_content&amp;view=article&amp;id=27&amp;Itemid=103</a:t>
            </a:r>
            <a:br>
              <a:rPr sz="2100"/>
            </a:b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http://www.healthyhearts.ru/index.php?option=com_content&amp;view=article&amp;id=27&amp;Itemid=103</a:t>
            </a:r>
            <a:br>
              <a:rPr sz="2100"/>
            </a:br>
            <a:r>
              <a:rPr b="0" lang="ru-RU" sz="2100" spc="-1" strike="noStrike">
                <a:solidFill>
                  <a:srgbClr val="f2f2f2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00080" y="2214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Consolas"/>
              </a:rPr>
              <a:t>Спасибо за внимание!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 не будем  в своем проекте показывать фотографии пораженных органов, перечислять болезни, связанные с курением, так как подростки не воспринимают  это как личную угрозу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23640" y="4508640"/>
            <a:ext cx="85914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04200" indent="-253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 данным проведенного нами соцопроса мы выяснили , что из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47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респондентов пробовали курить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7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человек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04200" indent="-253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1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человек, курящих в настоящее время, начали курить в подростковом возраст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04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5" name="Диаграмма 3" descr=""/>
          <p:cNvPicPr/>
          <p:nvPr/>
        </p:nvPicPr>
        <p:blipFill>
          <a:blip r:embed="rId1"/>
          <a:stretch/>
        </p:blipFill>
        <p:spPr>
          <a:xfrm>
            <a:off x="1676520" y="530280"/>
            <a:ext cx="62910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01320" y="4652640"/>
            <a:ext cx="83739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 </a:t>
            </a:r>
            <a:r>
              <a:rPr b="0" lang="en-US" sz="2800" spc="-1" strike="noStrike">
                <a:solidFill>
                  <a:srgbClr val="ffffff"/>
                </a:solidFill>
                <a:latin typeface="Californian FB"/>
              </a:rPr>
              <a:t>7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школьников в возрасте 13-14 лет уже пробовали курить 22 человека (28%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99% респондентов считают курение вредной привычкой.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7" name="Диаграмма 3" descr=""/>
          <p:cNvPicPr/>
          <p:nvPr/>
        </p:nvPicPr>
        <p:blipFill>
          <a:blip r:embed="rId1"/>
          <a:stretch/>
        </p:blipFill>
        <p:spPr>
          <a:xfrm>
            <a:off x="0" y="-19080"/>
            <a:ext cx="76010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чему подростки курят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 данным Всемирной Организации Здравоохранения   Россия занимает первое место по подростковому курению 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 выявили факторы, влияющие на выбор подростков в пользу куре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684360" y="764640"/>
            <a:ext cx="7632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ногие подростки начинают курить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з любопытств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тобы казаться взросле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 компанию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тому что это модн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тому что это доступн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ди самоутвержд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 попытались проанализировать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которые причи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абачные компании проводят рекламные акции с целью привлечения большего числа потребителей. На улицах предлагают сигареты бесплатно. Проводят интернет-акции среди покупателей сигарет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ка это будет происходить, армия курильщиков будет непрерывно пополняться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дна из причин массового курения подростков в том , что идет поток негласной пропаганды курения с телеэкранов . Мы попадаем под очарование блистательных актеров, создающих  образ успешных, деловых, богатых и, при этом, обязательно курящих людей. Знаменитые актеры, демонстрируя свою пагубную привычку, подают пример зрителям –детям, подростка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7:27:12Z</dcterms:created>
  <dc:creator>1</dc:creator>
  <dc:description/>
  <dc:language>en-US</dc:language>
  <cp:lastModifiedBy>пень4</cp:lastModifiedBy>
  <dcterms:modified xsi:type="dcterms:W3CDTF">2013-03-31T11:23:33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