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gif" ContentType="image/gif"/>
  <Override PartName="/ppt/media/image23.gif" ContentType="image/gif"/>
  <Override PartName="/ppt/media/image22.wmf" ContentType="image/x-wmf"/>
  <Override PartName="/ppt/media/image26.gif" ContentType="image/gif"/>
  <Override PartName="/ppt/media/image20.gif" ContentType="image/gif"/>
  <Override PartName="/ppt/media/image13.png" ContentType="image/png"/>
  <Override PartName="/ppt/media/image21.gif" ContentType="image/gif"/>
  <Override PartName="/ppt/media/image14.png" ContentType="image/png"/>
  <Override PartName="/ppt/media/image19.gif" ContentType="image/gif"/>
  <Override PartName="/ppt/media/image18.jpeg" ContentType="image/jpeg"/>
  <Override PartName="/ppt/media/image15.png" ContentType="image/png"/>
  <Override PartName="/ppt/media/image17.gif" ContentType="image/gif"/>
  <Override PartName="/ppt/media/image16.gif" ContentType="image/gif"/>
  <Override PartName="/ppt/media/image9.wmf" ContentType="image/x-wmf"/>
  <Override PartName="/ppt/media/image32.gif" ContentType="image/gif"/>
  <Override PartName="/ppt/media/image7.gif" ContentType="image/gif"/>
  <Override PartName="/ppt/media/image37.gif" ContentType="image/gif"/>
  <Override PartName="/ppt/media/image25.gif" ContentType="image/gif"/>
  <Override PartName="/ppt/media/image30.png" ContentType="image/png"/>
  <Override PartName="/ppt/media/image8.jpeg" ContentType="image/jpeg"/>
  <Override PartName="/ppt/media/image38.png" ContentType="image/png"/>
  <Override PartName="/ppt/media/image36.wmf" ContentType="image/x-wmf"/>
  <Override PartName="/ppt/media/image39.gif" ContentType="image/gif"/>
  <Override PartName="/ppt/media/image41.gif" ContentType="image/gif"/>
  <Override PartName="/ppt/media/image40.gif" ContentType="image/gif"/>
  <Override PartName="/ppt/media/image42.gif" ContentType="image/gif"/>
  <Override PartName="/ppt/media/image35.gif" ContentType="image/gif"/>
  <Override PartName="/ppt/media/image5.gif" ContentType="image/gif"/>
  <Override PartName="/ppt/media/image28.gif" ContentType="image/gif"/>
  <Override PartName="/ppt/media/image11.jpeg" ContentType="image/jpeg"/>
  <Override PartName="/ppt/media/image31.gif" ContentType="image/gif"/>
  <Override PartName="/ppt/media/image34.gif" ContentType="image/gif"/>
  <Override PartName="/ppt/media/image4.gif" ContentType="image/gif"/>
  <Override PartName="/ppt/media/image27.gif" ContentType="image/gif"/>
  <Override PartName="/ppt/media/image10.png" ContentType="image/png"/>
  <Override PartName="/ppt/media/image1.jpeg" ContentType="image/jpeg"/>
  <Override PartName="/ppt/media/image12.png" ContentType="image/png"/>
  <Override PartName="/ppt/media/image33.gif" ContentType="image/gif"/>
  <Override PartName="/ppt/media/image3.gif" ContentType="image/gif"/>
  <Override PartName="/ppt/media/image6.gif" ContentType="image/gif"/>
  <Override PartName="/ppt/media/image29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1A4B-1698-4D7E-833C-D05316A4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2789-CEBD-45F0-9194-3F4F2C8C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A2B2-95DB-4D72-877F-6A768284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1732-8233-4DC2-A610-EAF80298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1B65-185D-43B7-9CD2-CDD6AB02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A074-55A4-415C-BC01-42D51383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60E0-1029-4E78-AB7B-1CD9D827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0477-47CD-4C2B-9B9D-C71B6FE8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78C0-679A-4023-BEE6-5A300741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65B9-2869-4538-9C40-B3749787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E61E-7AE2-4391-9A7E-65D4819D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5B34-E126-4359-9C5C-370E3DAF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BD56-E586-4420-A662-5481F963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ABE7-F3BE-4BF3-A443-62DE2197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DAD3-0018-4E17-9DFE-9FEFB1AC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9BA7-1BB1-4435-B26F-B7D9382D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EC5A-119D-4F64-9E33-79C2B77C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B3F0-8C39-45B9-AB1D-F1CD228C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041C-BD1D-475E-9161-91BF8604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2F1D-7686-4016-AD84-10DB3CBC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1C80-76FC-4714-9F8D-821A9710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F372-9701-45B6-B372-F08C3ADA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239-C2AB-4FB7-A766-A93058D7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361D-3C36-46FA-B86D-B009F0D3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037F-8F00-4170-A3D0-ECC3D9D13F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AD2B-6D99-45E2-B899-E844E84205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" Target="slide8.xml"/><Relationship Id="rId4" Type="http://schemas.openxmlformats.org/officeDocument/2006/relationships/image" Target="../media/image19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oleObject" Target="../embeddings/oleObject1.bin"/><Relationship Id="rId7" Type="http://schemas.openxmlformats.org/officeDocument/2006/relationships/image" Target="../media/image22.wmf"/><Relationship Id="rId8" Type="http://schemas.openxmlformats.org/officeDocument/2006/relationships/image" Target="../media/image23.gif"/><Relationship Id="rId9" Type="http://schemas.openxmlformats.org/officeDocument/2006/relationships/image" Target="../media/image21.gif"/><Relationship Id="rId10" Type="http://schemas.openxmlformats.org/officeDocument/2006/relationships/image" Target="../media/image21.gif"/><Relationship Id="rId11" Type="http://schemas.openxmlformats.org/officeDocument/2006/relationships/image" Target="../media/image21.gif"/><Relationship Id="rId12" Type="http://schemas.openxmlformats.org/officeDocument/2006/relationships/image" Target="../media/image8.jpeg"/><Relationship Id="rId13" Type="http://schemas.openxmlformats.org/officeDocument/2006/relationships/image" Target="../media/image8.jpeg"/><Relationship Id="rId14" Type="http://schemas.openxmlformats.org/officeDocument/2006/relationships/slide" Target="slide8.xml"/><Relationship Id="rId15" Type="http://schemas.openxmlformats.org/officeDocument/2006/relationships/image" Target="../media/image24.gif"/><Relationship Id="rId16" Type="http://schemas.openxmlformats.org/officeDocument/2006/relationships/image" Target="../media/image25.gif"/><Relationship Id="rId17" Type="http://schemas.openxmlformats.org/officeDocument/2006/relationships/image" Target="../media/image26.gif"/><Relationship Id="rId18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29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0.png"/><Relationship Id="rId21" Type="http://schemas.openxmlformats.org/officeDocument/2006/relationships/image" Target="../media/image8.jpeg"/><Relationship Id="rId22" Type="http://schemas.openxmlformats.org/officeDocument/2006/relationships/image" Target="../media/image8.jpeg"/><Relationship Id="rId2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slide" Target="slide8.xml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32.gi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33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34.gif"/><Relationship Id="rId9" Type="http://schemas.openxmlformats.org/officeDocument/2006/relationships/image" Target="../media/image35.gif"/><Relationship Id="rId10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slide" Target="slide8.xml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37.gif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40.gif"/><Relationship Id="rId7" Type="http://schemas.openxmlformats.org/officeDocument/2006/relationships/image" Target="../media/image40.gif"/><Relationship Id="rId8" Type="http://schemas.openxmlformats.org/officeDocument/2006/relationships/image" Target="../media/image41.gif"/><Relationship Id="rId9" Type="http://schemas.openxmlformats.org/officeDocument/2006/relationships/image" Target="../media/image42.gif"/><Relationship Id="rId10" Type="http://schemas.openxmlformats.org/officeDocument/2006/relationships/image" Target="../media/image40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image" Target="../media/image3.gif"/><Relationship Id="rId26" Type="http://schemas.openxmlformats.org/officeDocument/2006/relationships/image" Target="../media/image3.gif"/><Relationship Id="rId27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15.png"/><Relationship Id="rId2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" Target="slide19.xml"/><Relationship Id="rId4" Type="http://schemas.openxmlformats.org/officeDocument/2006/relationships/slide" Target="slide13.xml"/><Relationship Id="rId5" Type="http://schemas.openxmlformats.org/officeDocument/2006/relationships/slide" Target="slide12.xml"/><Relationship Id="rId6" Type="http://schemas.openxmlformats.org/officeDocument/2006/relationships/slide" Target="slide20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5.xml"/><Relationship Id="rId10" Type="http://schemas.openxmlformats.org/officeDocument/2006/relationships/slide" Target="slide10.xml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3.gif"/><Relationship Id="rId24" Type="http://schemas.openxmlformats.org/officeDocument/2006/relationships/image" Target="../media/image3.gif"/><Relationship Id="rId25" Type="http://schemas.openxmlformats.org/officeDocument/2006/relationships/image" Target="../media/image3.gif"/><Relationship Id="rId26" Type="http://schemas.openxmlformats.org/officeDocument/2006/relationships/image" Target="../media/image3.gif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image" Target="../media/image17.gif"/><Relationship Id="rId11" Type="http://schemas.openxmlformats.org/officeDocument/2006/relationships/image" Target="../media/image17.gif"/><Relationship Id="rId12" Type="http://schemas.openxmlformats.org/officeDocument/2006/relationships/image" Target="../media/image17.gif"/><Relationship Id="rId13" Type="http://schemas.openxmlformats.org/officeDocument/2006/relationships/slide" Target="slide8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77080" cy="686268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468360" y="404640"/>
            <a:ext cx="8343720" cy="6199200"/>
            <a:chOff x="468360" y="404640"/>
            <a:chExt cx="8343720" cy="6199200"/>
          </a:xfrm>
        </p:grpSpPr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468360" y="40464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3132000" y="2565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5219640" y="2637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tretch/>
          </p:blipFill>
          <p:spPr>
            <a:xfrm>
              <a:off x="3924360" y="83664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7"/>
            <a:stretch/>
          </p:blipFill>
          <p:spPr>
            <a:xfrm>
              <a:off x="630072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8"/>
            <a:stretch/>
          </p:blipFill>
          <p:spPr>
            <a:xfrm>
              <a:off x="8317080" y="616572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9"/>
            <a:stretch/>
          </p:blipFill>
          <p:spPr>
            <a:xfrm>
              <a:off x="2843280" y="3789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10"/>
            <a:stretch/>
          </p:blipFill>
          <p:spPr>
            <a:xfrm>
              <a:off x="5148360" y="3933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11"/>
            <a:stretch/>
          </p:blipFill>
          <p:spPr>
            <a:xfrm>
              <a:off x="539640" y="17002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12"/>
            <a:stretch/>
          </p:blipFill>
          <p:spPr>
            <a:xfrm>
              <a:off x="2050920" y="76500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13"/>
            <a:stretch/>
          </p:blipFill>
          <p:spPr>
            <a:xfrm>
              <a:off x="468360" y="3645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14"/>
            <a:stretch/>
          </p:blipFill>
          <p:spPr>
            <a:xfrm>
              <a:off x="118728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15"/>
            <a:stretch/>
          </p:blipFill>
          <p:spPr>
            <a:xfrm>
              <a:off x="2987640" y="59500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16"/>
            <a:stretch/>
          </p:blipFill>
          <p:spPr>
            <a:xfrm>
              <a:off x="5148360" y="6093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17"/>
            <a:stretch/>
          </p:blipFill>
          <p:spPr>
            <a:xfrm>
              <a:off x="7236000" y="206064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18"/>
            <a:stretch/>
          </p:blipFill>
          <p:spPr>
            <a:xfrm>
              <a:off x="7812000" y="692280"/>
              <a:ext cx="495360" cy="43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"/>
          <p:cNvSpPr txBox="1"/>
          <p:nvPr/>
        </p:nvSpPr>
        <p:spPr>
          <a:xfrm rot="5400000">
            <a:off x="4967640" y="2817000"/>
            <a:ext cx="6048720" cy="122400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Математическая игр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-334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1116000" y="189000"/>
            <a:ext cx="69994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ыкальная пауз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">
            <a:hlinkClick r:id="rId3" action="ppaction://hlinksldjump"/>
          </p:cNvPr>
          <p:cNvSpPr/>
          <p:nvPr/>
        </p:nvSpPr>
        <p:spPr>
          <a:xfrm>
            <a:off x="324000" y="6093000"/>
            <a:ext cx="1042920" cy="56484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4840"/>
              <a:gd name="textAreaBottom" fmla="*/ 528480 h 564840"/>
            </a:gdLst>
            <a:ahLst/>
            <a:rect l="textAreaLeft" t="textAreaTop" r="textAreaRight" b="textAreaBottom"/>
            <a:pathLst>
              <a:path w="39871" h="21600">
                <a:moveTo>
                  <a:pt x="0" y="0"/>
                </a:moveTo>
                <a:lnTo>
                  <a:pt x="39871" y="0"/>
                </a:lnTo>
                <a:lnTo>
                  <a:pt x="39871" y="21600"/>
                </a:lnTo>
                <a:lnTo>
                  <a:pt x="0" y="21600"/>
                </a:lnTo>
                <a:close/>
              </a:path>
              <a:path fill="lightenLess" w="39871" h="21600">
                <a:moveTo>
                  <a:pt x="0" y="0"/>
                </a:moveTo>
                <a:lnTo>
                  <a:pt x="39871" y="0"/>
                </a:lnTo>
                <a:lnTo>
                  <a:pt x="38471" y="1400"/>
                </a:lnTo>
                <a:lnTo>
                  <a:pt x="1400" y="1400"/>
                </a:lnTo>
                <a:close/>
              </a:path>
              <a:path fill="darken" w="39871" h="21600">
                <a:moveTo>
                  <a:pt x="39871" y="0"/>
                </a:moveTo>
                <a:lnTo>
                  <a:pt x="39871" y="21600"/>
                </a:lnTo>
                <a:lnTo>
                  <a:pt x="38471" y="20200"/>
                </a:lnTo>
                <a:lnTo>
                  <a:pt x="38471" y="1400"/>
                </a:lnTo>
                <a:close/>
              </a:path>
              <a:path fill="darkenLess" w="39871" h="21600">
                <a:moveTo>
                  <a:pt x="39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71" y="20200"/>
                </a:lnTo>
                <a:close/>
              </a:path>
              <a:path fill="lighten" w="39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6804000" y="1268280"/>
            <a:ext cx="2200320" cy="2048040"/>
          </a:xfrm>
          <a:prstGeom prst="rect">
            <a:avLst/>
          </a:prstGeom>
          <a:ln w="0">
            <a:noFill/>
          </a:ln>
        </p:spPr>
      </p:pic>
      <p:grpSp>
        <p:nvGrpSpPr>
          <p:cNvPr id="306" name=""/>
          <p:cNvGrpSpPr/>
          <p:nvPr/>
        </p:nvGrpSpPr>
        <p:grpSpPr>
          <a:xfrm>
            <a:off x="468360" y="404640"/>
            <a:ext cx="8343720" cy="6199200"/>
            <a:chOff x="468360" y="404640"/>
            <a:chExt cx="8343720" cy="6199200"/>
          </a:xfrm>
        </p:grpSpPr>
        <p:pic>
          <p:nvPicPr>
            <p:cNvPr id="307" name="" descr=""/>
            <p:cNvPicPr/>
            <p:nvPr/>
          </p:nvPicPr>
          <p:blipFill>
            <a:blip r:embed="rId5"/>
            <a:stretch/>
          </p:blipFill>
          <p:spPr>
            <a:xfrm>
              <a:off x="468360" y="40464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6"/>
            <a:stretch/>
          </p:blipFill>
          <p:spPr>
            <a:xfrm>
              <a:off x="3132000" y="2565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7"/>
            <a:stretch/>
          </p:blipFill>
          <p:spPr>
            <a:xfrm>
              <a:off x="5219640" y="2637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8"/>
            <a:stretch/>
          </p:blipFill>
          <p:spPr>
            <a:xfrm>
              <a:off x="3924360" y="83664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9"/>
            <a:stretch/>
          </p:blipFill>
          <p:spPr>
            <a:xfrm>
              <a:off x="630072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10"/>
            <a:stretch/>
          </p:blipFill>
          <p:spPr>
            <a:xfrm>
              <a:off x="8317080" y="616572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11"/>
            <a:stretch/>
          </p:blipFill>
          <p:spPr>
            <a:xfrm>
              <a:off x="2843280" y="3789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12"/>
            <a:stretch/>
          </p:blipFill>
          <p:spPr>
            <a:xfrm>
              <a:off x="5148360" y="3933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13"/>
            <a:stretch/>
          </p:blipFill>
          <p:spPr>
            <a:xfrm>
              <a:off x="539640" y="17002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14"/>
            <a:stretch/>
          </p:blipFill>
          <p:spPr>
            <a:xfrm>
              <a:off x="2050920" y="76500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15"/>
            <a:stretch/>
          </p:blipFill>
          <p:spPr>
            <a:xfrm>
              <a:off x="468360" y="3645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16"/>
            <a:stretch/>
          </p:blipFill>
          <p:spPr>
            <a:xfrm>
              <a:off x="118728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17"/>
            <a:stretch/>
          </p:blipFill>
          <p:spPr>
            <a:xfrm>
              <a:off x="2987640" y="59500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18"/>
            <a:stretch/>
          </p:blipFill>
          <p:spPr>
            <a:xfrm>
              <a:off x="5148360" y="6093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9"/>
            <a:stretch/>
          </p:blipFill>
          <p:spPr>
            <a:xfrm>
              <a:off x="7236000" y="206064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20"/>
            <a:stretch/>
          </p:blipFill>
          <p:spPr>
            <a:xfrm>
              <a:off x="7812000" y="692280"/>
              <a:ext cx="49536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5229360"/>
            <a:ext cx="9144000" cy="71280"/>
          </a:xfrm>
          <a:prstGeom prst="line">
            <a:avLst/>
          </a:prstGeom>
          <a:ln w="572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5805360"/>
            <a:ext cx="9144000" cy="716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4653000"/>
            <a:ext cx="9144000" cy="712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635280" y="1267920"/>
            <a:ext cx="55087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Из Москвы и Санкт- Петербурга одновременно навстречу друг другу выехали два автомобиля. Они двигались равномерно, без остановок со скоростями 80км/ч и 95км/ч. Какое расстояние будет между ними за один час до встречи?</a:t>
            </a: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1834920" cy="28814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179280" y="2781360"/>
            <a:ext cx="276480" cy="4762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611280" y="3573360"/>
            <a:ext cx="276120" cy="4762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5"/>
          <a:stretch/>
        </p:blipFill>
        <p:spPr>
          <a:xfrm>
            <a:off x="324000" y="3284640"/>
            <a:ext cx="27612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"/>
          <p:cNvGraphicFramePr/>
          <p:nvPr/>
        </p:nvGraphicFramePr>
        <p:xfrm>
          <a:off x="971640" y="6524640"/>
          <a:ext cx="4032000" cy="779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6524640"/>
                    <a:ext cx="40320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1979640" y="1628640"/>
            <a:ext cx="1440000" cy="18003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9"/>
          <a:stretch/>
        </p:blipFill>
        <p:spPr>
          <a:xfrm>
            <a:off x="2700360" y="3500280"/>
            <a:ext cx="276120" cy="4762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10"/>
          <a:stretch/>
        </p:blipFill>
        <p:spPr>
          <a:xfrm>
            <a:off x="7524720" y="6165720"/>
            <a:ext cx="276120" cy="4762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1"/>
          <a:stretch/>
        </p:blipFill>
        <p:spPr>
          <a:xfrm>
            <a:off x="8244000" y="6165720"/>
            <a:ext cx="276120" cy="4762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1258920" y="333360"/>
            <a:ext cx="705816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ти - дорог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8" name="">
            <a:hlinkClick r:id="rId14" action="ppaction://hlinksldjump"/>
          </p:cNvPr>
          <p:cNvSpPr/>
          <p:nvPr/>
        </p:nvSpPr>
        <p:spPr>
          <a:xfrm>
            <a:off x="324000" y="6021360"/>
            <a:ext cx="1042920" cy="566640"/>
          </a:xfrm>
          <a:custGeom>
            <a:avLst/>
            <a:gdLst>
              <a:gd name="textAreaLeft" fmla="*/ 36720 w 1042920"/>
              <a:gd name="textAreaRight" fmla="*/ 1006200 w 1042920"/>
              <a:gd name="textAreaTop" fmla="*/ 36720 h 566640"/>
              <a:gd name="textAreaBottom" fmla="*/ 529920 h 566640"/>
            </a:gdLst>
            <a:ahLst/>
            <a:rect l="textAreaLeft" t="textAreaTop" r="textAreaRight" b="textAreaBottom"/>
            <a:pathLst>
              <a:path w="39744" h="21600">
                <a:moveTo>
                  <a:pt x="0" y="0"/>
                </a:moveTo>
                <a:lnTo>
                  <a:pt x="39744" y="0"/>
                </a:lnTo>
                <a:lnTo>
                  <a:pt x="39744" y="21600"/>
                </a:lnTo>
                <a:lnTo>
                  <a:pt x="0" y="21600"/>
                </a:lnTo>
                <a:close/>
              </a:path>
              <a:path fill="lightenLess" w="39744" h="21600">
                <a:moveTo>
                  <a:pt x="0" y="0"/>
                </a:moveTo>
                <a:lnTo>
                  <a:pt x="39744" y="0"/>
                </a:lnTo>
                <a:lnTo>
                  <a:pt x="38344" y="1400"/>
                </a:lnTo>
                <a:lnTo>
                  <a:pt x="1400" y="1400"/>
                </a:lnTo>
                <a:close/>
              </a:path>
              <a:path fill="darken" w="39744" h="21600">
                <a:moveTo>
                  <a:pt x="39744" y="0"/>
                </a:moveTo>
                <a:lnTo>
                  <a:pt x="39744" y="21600"/>
                </a:lnTo>
                <a:lnTo>
                  <a:pt x="38344" y="20200"/>
                </a:lnTo>
                <a:lnTo>
                  <a:pt x="38344" y="1400"/>
                </a:lnTo>
                <a:close/>
              </a:path>
              <a:path fill="darkenLess" w="39744" h="21600">
                <a:moveTo>
                  <a:pt x="39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344" y="20200"/>
                </a:lnTo>
                <a:close/>
              </a:path>
              <a:path fill="lighten" w="39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5"/>
          <a:stretch/>
        </p:blipFill>
        <p:spPr>
          <a:xfrm>
            <a:off x="7254720" y="4221000"/>
            <a:ext cx="1889280" cy="10083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16"/>
          <a:stretch/>
        </p:blipFill>
        <p:spPr>
          <a:xfrm>
            <a:off x="0" y="4941720"/>
            <a:ext cx="1943280" cy="9367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17"/>
          <a:stretch/>
        </p:blipFill>
        <p:spPr>
          <a:xfrm>
            <a:off x="3564000" y="4192560"/>
            <a:ext cx="1871640" cy="26654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5076720" y="6000840"/>
            <a:ext cx="201636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75 км</a:t>
            </a:r>
            <a:endParaRPr b="0" lang="en-US" sz="1800" spc="1" strike="noStrike">
              <a:ln w="0">
                <a:noFill/>
              </a:ln>
              <a:solidFill>
                <a:srgbClr val="cc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6000"/>
                            </p:stCondLst>
                            <p:childTnLst>
                              <p:par>
                                <p:cTn id="6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8.25815E-007 L -0.81198 -8.25815E-007 E">
                                      <p:cBhvr>
                                        <p:cTn id="684" dur="3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42956E-006 L 0.8309 0.00509 E">
                                      <p:cBhvr>
                                        <p:cTn id="686" dur="3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0560" y="2420640"/>
            <a:ext cx="42447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В доме десять этажей. Во сколько раз лестница на десятый этаж дома длиннее,  чем на второй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">
            <a:hlinkClick r:id="rId2" action="ppaction://hlinksldjump"/>
          </p:cNvPr>
          <p:cNvSpPr/>
          <p:nvPr/>
        </p:nvSpPr>
        <p:spPr>
          <a:xfrm>
            <a:off x="395280" y="6021360"/>
            <a:ext cx="1042920" cy="539640"/>
          </a:xfrm>
          <a:custGeom>
            <a:avLst/>
            <a:gdLst>
              <a:gd name="textAreaLeft" fmla="*/ 34920 w 1042920"/>
              <a:gd name="textAreaRight" fmla="*/ 1008000 w 1042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1731" h="21600">
                <a:moveTo>
                  <a:pt x="0" y="0"/>
                </a:moveTo>
                <a:lnTo>
                  <a:pt x="41731" y="0"/>
                </a:lnTo>
                <a:lnTo>
                  <a:pt x="41731" y="21600"/>
                </a:lnTo>
                <a:lnTo>
                  <a:pt x="0" y="21600"/>
                </a:lnTo>
                <a:close/>
              </a:path>
              <a:path fill="lightenLess" w="41731" h="21600">
                <a:moveTo>
                  <a:pt x="0" y="0"/>
                </a:moveTo>
                <a:lnTo>
                  <a:pt x="41731" y="0"/>
                </a:lnTo>
                <a:lnTo>
                  <a:pt x="40331" y="1400"/>
                </a:lnTo>
                <a:lnTo>
                  <a:pt x="1400" y="1400"/>
                </a:lnTo>
                <a:close/>
              </a:path>
              <a:path fill="darken" w="41731" h="21600">
                <a:moveTo>
                  <a:pt x="41731" y="0"/>
                </a:moveTo>
                <a:lnTo>
                  <a:pt x="41731" y="21600"/>
                </a:lnTo>
                <a:lnTo>
                  <a:pt x="40331" y="20200"/>
                </a:lnTo>
                <a:lnTo>
                  <a:pt x="40331" y="1400"/>
                </a:lnTo>
                <a:close/>
              </a:path>
              <a:path fill="darkenLess" w="41731" h="21600">
                <a:moveTo>
                  <a:pt x="41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31" y="20200"/>
                </a:lnTo>
                <a:close/>
              </a:path>
              <a:path fill="lighten" w="41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835280" y="476280"/>
            <a:ext cx="5473440" cy="93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ьпинис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 rot="19917000">
            <a:off x="5580000" y="1628280"/>
            <a:ext cx="3095640" cy="45878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2916360" y="5877000"/>
            <a:ext cx="230328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9 раз</a:t>
            </a:r>
            <a:endParaRPr b="0" lang="en-US" sz="1800" spc="1" strike="noStrike">
              <a:ln w="0">
                <a:noFill/>
              </a:ln>
              <a:solidFill>
                <a:srgbClr val="cc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9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4968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Угадай, что в черном                                                                                                                                                                       ящик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Подсказк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1. Эту игру называют игрой 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2. Она носит имя создате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3. Она удобный спутник в  дорог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2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">
            <a:hlinkClick r:id="rId2" action="ppaction://hlinksldjump"/>
          </p:cNvPr>
          <p:cNvSpPr/>
          <p:nvPr/>
        </p:nvSpPr>
        <p:spPr>
          <a:xfrm>
            <a:off x="395280" y="5950080"/>
            <a:ext cx="1042920" cy="576000"/>
          </a:xfrm>
          <a:custGeom>
            <a:avLst/>
            <a:gdLst>
              <a:gd name="textAreaLeft" fmla="*/ 37080 w 1042920"/>
              <a:gd name="textAreaRight" fmla="*/ 1005840 w 1042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9099" h="21600">
                <a:moveTo>
                  <a:pt x="0" y="0"/>
                </a:moveTo>
                <a:lnTo>
                  <a:pt x="39099" y="0"/>
                </a:lnTo>
                <a:lnTo>
                  <a:pt x="39099" y="21600"/>
                </a:lnTo>
                <a:lnTo>
                  <a:pt x="0" y="21600"/>
                </a:lnTo>
                <a:close/>
              </a:path>
              <a:path fill="lightenLess" w="39099" h="21600">
                <a:moveTo>
                  <a:pt x="0" y="0"/>
                </a:moveTo>
                <a:lnTo>
                  <a:pt x="39099" y="0"/>
                </a:lnTo>
                <a:lnTo>
                  <a:pt x="37699" y="1400"/>
                </a:lnTo>
                <a:lnTo>
                  <a:pt x="1400" y="1400"/>
                </a:lnTo>
                <a:close/>
              </a:path>
              <a:path fill="darken" w="39099" h="21600">
                <a:moveTo>
                  <a:pt x="39099" y="0"/>
                </a:moveTo>
                <a:lnTo>
                  <a:pt x="39099" y="21600"/>
                </a:lnTo>
                <a:lnTo>
                  <a:pt x="37699" y="20200"/>
                </a:lnTo>
                <a:lnTo>
                  <a:pt x="37699" y="1400"/>
                </a:lnTo>
                <a:close/>
              </a:path>
              <a:path fill="darkenLess" w="39099" h="21600">
                <a:moveTo>
                  <a:pt x="39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99" y="20200"/>
                </a:lnTo>
                <a:close/>
              </a:path>
              <a:path fill="lighten" w="39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258920" y="260280"/>
            <a:ext cx="6624720" cy="1366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рный  ящи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5"/>
          <a:stretch/>
        </p:blipFill>
        <p:spPr>
          <a:xfrm>
            <a:off x="5364000" y="2133720"/>
            <a:ext cx="3529080" cy="3959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5435640" y="4941720"/>
            <a:ext cx="1152360" cy="1151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556000" y="5877000"/>
            <a:ext cx="237636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убик Рубика</a:t>
            </a:r>
            <a:endParaRPr b="0" lang="en-US" sz="1800" spc="1" strike="noStrike">
              <a:ln w="0">
                <a:noFill/>
              </a:ln>
              <a:solidFill>
                <a:srgbClr val="cc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77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1" dur="770" fill="hold"/>
                                        <p:tgtEl>
                                          <p:spTgt spid="3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3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5" dur="77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0"/>
                            </p:stCondLst>
                            <p:childTnLst>
                              <p:par>
                                <p:cTn id="7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7000"/>
                            </p:stCondLst>
                            <p:childTnLst>
                              <p:par>
                                <p:cTn id="7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3" dur="10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8" dur="10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5" dur="10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2" dur="10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>
            <a:hlinkClick r:id="rId2" action="ppaction://hlinksldjump"/>
          </p:cNvPr>
          <p:cNvSpPr/>
          <p:nvPr/>
        </p:nvSpPr>
        <p:spPr>
          <a:xfrm>
            <a:off x="324000" y="595008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611280" y="476280"/>
            <a:ext cx="2665440" cy="249228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468360" y="404640"/>
            <a:ext cx="8343720" cy="6199200"/>
            <a:chOff x="468360" y="404640"/>
            <a:chExt cx="8343720" cy="6199200"/>
          </a:xfrm>
        </p:grpSpPr>
        <p:pic>
          <p:nvPicPr>
            <p:cNvPr id="359" name="" descr=""/>
            <p:cNvPicPr/>
            <p:nvPr/>
          </p:nvPicPr>
          <p:blipFill>
            <a:blip r:embed="rId4"/>
            <a:stretch/>
          </p:blipFill>
          <p:spPr>
            <a:xfrm>
              <a:off x="468360" y="40464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5"/>
            <a:stretch/>
          </p:blipFill>
          <p:spPr>
            <a:xfrm>
              <a:off x="3132000" y="2565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" descr=""/>
            <p:cNvPicPr/>
            <p:nvPr/>
          </p:nvPicPr>
          <p:blipFill>
            <a:blip r:embed="rId6"/>
            <a:stretch/>
          </p:blipFill>
          <p:spPr>
            <a:xfrm>
              <a:off x="5219640" y="2637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7"/>
            <a:stretch/>
          </p:blipFill>
          <p:spPr>
            <a:xfrm>
              <a:off x="3924360" y="83664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8"/>
            <a:stretch/>
          </p:blipFill>
          <p:spPr>
            <a:xfrm>
              <a:off x="630072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9"/>
            <a:stretch/>
          </p:blipFill>
          <p:spPr>
            <a:xfrm>
              <a:off x="8317080" y="616572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10"/>
            <a:stretch/>
          </p:blipFill>
          <p:spPr>
            <a:xfrm>
              <a:off x="2843280" y="3789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11"/>
            <a:stretch/>
          </p:blipFill>
          <p:spPr>
            <a:xfrm>
              <a:off x="5148360" y="3933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12"/>
            <a:stretch/>
          </p:blipFill>
          <p:spPr>
            <a:xfrm>
              <a:off x="539640" y="17002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13"/>
            <a:stretch/>
          </p:blipFill>
          <p:spPr>
            <a:xfrm>
              <a:off x="2050920" y="76500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14"/>
            <a:stretch/>
          </p:blipFill>
          <p:spPr>
            <a:xfrm>
              <a:off x="468360" y="3645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15"/>
            <a:stretch/>
          </p:blipFill>
          <p:spPr>
            <a:xfrm>
              <a:off x="118728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16"/>
            <a:stretch/>
          </p:blipFill>
          <p:spPr>
            <a:xfrm>
              <a:off x="2987640" y="59500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17"/>
            <a:stretch/>
          </p:blipFill>
          <p:spPr>
            <a:xfrm>
              <a:off x="5148360" y="6093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18"/>
            <a:stretch/>
          </p:blipFill>
          <p:spPr>
            <a:xfrm>
              <a:off x="7236000" y="206064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19"/>
            <a:stretch/>
          </p:blipFill>
          <p:spPr>
            <a:xfrm>
              <a:off x="7812000" y="692280"/>
              <a:ext cx="495360" cy="438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5" name="" descr=""/>
          <p:cNvPicPr/>
          <p:nvPr/>
        </p:nvPicPr>
        <p:blipFill>
          <a:blip r:embed="rId20"/>
          <a:stretch/>
        </p:blipFill>
        <p:spPr>
          <a:xfrm>
            <a:off x="5651640" y="4076640"/>
            <a:ext cx="3313080" cy="24559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 rot="19911000">
            <a:off x="146160" y="1988640"/>
            <a:ext cx="8748720" cy="223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е зад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 flipH="1">
            <a:off x="3634920" y="3429000"/>
            <a:ext cx="2521080" cy="2016000"/>
          </a:xfrm>
          <a:prstGeom prst="rect">
            <a:avLst/>
          </a:prstGeom>
          <a:ln w="0">
            <a:noFill/>
          </a:ln>
        </p:spPr>
      </p:pic>
      <p:sp>
        <p:nvSpPr>
          <p:cNvPr id="378" name="">
            <a:hlinkClick r:id="rId3" action="ppaction://hlinksldjump"/>
          </p:cNvPr>
          <p:cNvSpPr/>
          <p:nvPr/>
        </p:nvSpPr>
        <p:spPr>
          <a:xfrm>
            <a:off x="395280" y="6021360"/>
            <a:ext cx="1042920" cy="611280"/>
          </a:xfrm>
          <a:custGeom>
            <a:avLst/>
            <a:gdLst>
              <a:gd name="textAreaLeft" fmla="*/ 39600 w 1042920"/>
              <a:gd name="textAreaRight" fmla="*/ 1003320 w 10429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36843" h="21600">
                <a:moveTo>
                  <a:pt x="0" y="0"/>
                </a:moveTo>
                <a:lnTo>
                  <a:pt x="36843" y="0"/>
                </a:lnTo>
                <a:lnTo>
                  <a:pt x="36843" y="21600"/>
                </a:lnTo>
                <a:lnTo>
                  <a:pt x="0" y="21600"/>
                </a:lnTo>
                <a:close/>
              </a:path>
              <a:path fill="lightenLess" w="36843" h="21600">
                <a:moveTo>
                  <a:pt x="0" y="0"/>
                </a:moveTo>
                <a:lnTo>
                  <a:pt x="36843" y="0"/>
                </a:lnTo>
                <a:lnTo>
                  <a:pt x="35443" y="1400"/>
                </a:lnTo>
                <a:lnTo>
                  <a:pt x="1400" y="1400"/>
                </a:lnTo>
                <a:close/>
              </a:path>
              <a:path fill="darken" w="36843" h="21600">
                <a:moveTo>
                  <a:pt x="36843" y="0"/>
                </a:moveTo>
                <a:lnTo>
                  <a:pt x="36843" y="21600"/>
                </a:lnTo>
                <a:lnTo>
                  <a:pt x="35443" y="20200"/>
                </a:lnTo>
                <a:lnTo>
                  <a:pt x="35443" y="1400"/>
                </a:lnTo>
                <a:close/>
              </a:path>
              <a:path fill="darkenLess" w="36843" h="21600">
                <a:moveTo>
                  <a:pt x="36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3" y="20200"/>
                </a:lnTo>
                <a:close/>
              </a:path>
              <a:path fill="lighten" w="36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71640" y="1773360"/>
            <a:ext cx="2808360" cy="771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МАМУС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403280" y="2997360"/>
            <a:ext cx="280836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СОЧЛИ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1280" y="4076640"/>
            <a:ext cx="2879640" cy="790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шкока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619280" y="5373720"/>
            <a:ext cx="273672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НУСИМ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5435640" y="1773360"/>
            <a:ext cx="2808360" cy="1009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latin typeface="Arial"/>
              </a:rPr>
              <a:t>сумма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7575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788000" y="2997360"/>
            <a:ext cx="252072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latin typeface="Arial"/>
              </a:rPr>
              <a:t>число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7575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012000" y="4149720"/>
            <a:ext cx="2663640" cy="790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кошка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076720" y="5373720"/>
            <a:ext cx="288000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latin typeface="Arial"/>
              </a:rPr>
              <a:t>МИНУС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7575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39640" y="333360"/>
            <a:ext cx="7993080" cy="932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ключи лишнее сло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71640" y="1773360"/>
            <a:ext cx="2808360" cy="771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МАМУС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403280" y="2997360"/>
            <a:ext cx="280836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СОЧЛИ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77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8" dur="770" fill="hold"/>
                                        <p:tgtEl>
                                          <p:spTgt spid="3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0" dur="77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2" dur="77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7380360" y="2781360"/>
            <a:ext cx="934920" cy="107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81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1</a:t>
            </a:r>
            <a:endParaRPr b="0" i="1" lang="en-US" sz="1800" spc="1" strike="noStrike">
              <a:ln w="38160">
                <a:solidFill>
                  <a:srgbClr val="99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1" name="">
            <a:hlinkClick r:id="rId2" action="ppaction://hlinksldjump"/>
          </p:cNvPr>
          <p:cNvSpPr/>
          <p:nvPr/>
        </p:nvSpPr>
        <p:spPr>
          <a:xfrm>
            <a:off x="395280" y="5950080"/>
            <a:ext cx="1042920" cy="538200"/>
          </a:xfrm>
          <a:custGeom>
            <a:avLst/>
            <a:gdLst>
              <a:gd name="textAreaLeft" fmla="*/ 34560 w 1042920"/>
              <a:gd name="textAreaRight" fmla="*/ 1008360 w 1042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1843" h="21600">
                <a:moveTo>
                  <a:pt x="0" y="0"/>
                </a:moveTo>
                <a:lnTo>
                  <a:pt x="41843" y="0"/>
                </a:lnTo>
                <a:lnTo>
                  <a:pt x="41843" y="21600"/>
                </a:lnTo>
                <a:lnTo>
                  <a:pt x="0" y="21600"/>
                </a:lnTo>
                <a:close/>
              </a:path>
              <a:path fill="lightenLess" w="41843" h="21600">
                <a:moveTo>
                  <a:pt x="0" y="0"/>
                </a:moveTo>
                <a:lnTo>
                  <a:pt x="41843" y="0"/>
                </a:lnTo>
                <a:lnTo>
                  <a:pt x="40443" y="1400"/>
                </a:lnTo>
                <a:lnTo>
                  <a:pt x="1400" y="1400"/>
                </a:lnTo>
                <a:close/>
              </a:path>
              <a:path fill="darken" w="41843" h="21600">
                <a:moveTo>
                  <a:pt x="41843" y="0"/>
                </a:moveTo>
                <a:lnTo>
                  <a:pt x="41843" y="21600"/>
                </a:lnTo>
                <a:lnTo>
                  <a:pt x="40443" y="20200"/>
                </a:lnTo>
                <a:lnTo>
                  <a:pt x="40443" y="1400"/>
                </a:lnTo>
                <a:close/>
              </a:path>
              <a:path fill="darkenLess" w="41843" h="21600">
                <a:moveTo>
                  <a:pt x="41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43" y="20200"/>
                </a:lnTo>
                <a:close/>
              </a:path>
              <a:path fill="lighten" w="41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26920" y="404640"/>
            <a:ext cx="7490160" cy="1152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должи  ряд  чисе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39640" y="2781360"/>
            <a:ext cx="6193080" cy="1366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81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,1,2,3,5,8,13...</a:t>
            </a:r>
            <a:endParaRPr b="0" i="1" lang="en-US" sz="1800" spc="1" strike="noStrike">
              <a:ln w="38160">
                <a:solidFill>
                  <a:srgbClr val="99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6407280" y="1700280"/>
            <a:ext cx="2736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77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3" dur="770" fill="hold"/>
                                        <p:tgtEl>
                                          <p:spTgt spid="3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5" dur="77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7" dur="77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7" nodeType="after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28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Любушка да Марьюшка вместе съели 9 яблочек, Любушка да Лизонька 10 яблочек, Лизонька да Марьюшка 11 яблочек. Сколько яблочек вместе съели Марьюшка, Любушка и Лизонька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">
            <a:hlinkClick r:id="rId2" action="ppaction://hlinksldjump"/>
          </p:cNvPr>
          <p:cNvSpPr/>
          <p:nvPr/>
        </p:nvSpPr>
        <p:spPr>
          <a:xfrm>
            <a:off x="395280" y="6021360"/>
            <a:ext cx="1042920" cy="576360"/>
          </a:xfrm>
          <a:custGeom>
            <a:avLst/>
            <a:gdLst>
              <a:gd name="textAreaLeft" fmla="*/ 37080 w 1042920"/>
              <a:gd name="textAreaRight" fmla="*/ 1005840 w 1042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9074" h="21600">
                <a:moveTo>
                  <a:pt x="0" y="0"/>
                </a:moveTo>
                <a:lnTo>
                  <a:pt x="39074" y="0"/>
                </a:lnTo>
                <a:lnTo>
                  <a:pt x="39074" y="21600"/>
                </a:lnTo>
                <a:lnTo>
                  <a:pt x="0" y="21600"/>
                </a:lnTo>
                <a:close/>
              </a:path>
              <a:path fill="lightenLess" w="39074" h="21600">
                <a:moveTo>
                  <a:pt x="0" y="0"/>
                </a:moveTo>
                <a:lnTo>
                  <a:pt x="39074" y="0"/>
                </a:lnTo>
                <a:lnTo>
                  <a:pt x="37674" y="1400"/>
                </a:lnTo>
                <a:lnTo>
                  <a:pt x="1400" y="1400"/>
                </a:lnTo>
                <a:close/>
              </a:path>
              <a:path fill="darken" w="39074" h="21600">
                <a:moveTo>
                  <a:pt x="39074" y="0"/>
                </a:moveTo>
                <a:lnTo>
                  <a:pt x="39074" y="21600"/>
                </a:lnTo>
                <a:lnTo>
                  <a:pt x="37674" y="20200"/>
                </a:lnTo>
                <a:lnTo>
                  <a:pt x="37674" y="1400"/>
                </a:lnTo>
                <a:close/>
              </a:path>
              <a:path fill="darkenLess" w="39074" h="21600">
                <a:moveTo>
                  <a:pt x="390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74" y="20200"/>
                </a:lnTo>
                <a:close/>
              </a:path>
              <a:path fill="lighten" w="390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4572000" y="692280"/>
            <a:ext cx="2016000" cy="33242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 flipH="1">
            <a:off x="5867280" y="2637000"/>
            <a:ext cx="2448000" cy="39607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5"/>
          <a:stretch/>
        </p:blipFill>
        <p:spPr>
          <a:xfrm flipH="1">
            <a:off x="7092720" y="1125360"/>
            <a:ext cx="1655640" cy="22323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611280" y="189000"/>
            <a:ext cx="4176720" cy="1438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жа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8"/>
          <a:stretch/>
        </p:blipFill>
        <p:spPr>
          <a:xfrm>
            <a:off x="6804000" y="3573360"/>
            <a:ext cx="1873440" cy="299736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9"/>
          <a:stretch/>
        </p:blipFill>
        <p:spPr>
          <a:xfrm flipH="1">
            <a:off x="3924360" y="1700280"/>
            <a:ext cx="2233440" cy="24750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2916360" y="6165720"/>
            <a:ext cx="331128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 яблочек</a:t>
            </a:r>
            <a:endParaRPr b="0" lang="en-US" sz="1800" spc="1" strike="noStrike">
              <a:ln w="0">
                <a:noFill/>
              </a:ln>
              <a:solidFill>
                <a:srgbClr val="cc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77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1" dur="770" fill="hold"/>
                                        <p:tgtEl>
                                          <p:spTgt spid="4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3" dur="77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5" dur="77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77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1" dur="770" fill="hold"/>
                                        <p:tgtEl>
                                          <p:spTgt spid="4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3" dur="77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5" dur="77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4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511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На все товары наносят штрих-код, который образован черными и белыми полосками, причем, крайние полосы черные. Черных полосок обычно 30, они бывают узкие и широкие. Число белых полос на 10 больше, чем узких черных. Сколько широких черных полос имеет такой штрих-код?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5292720" y="1844640"/>
            <a:ext cx="3600360" cy="4680000"/>
          </a:xfrm>
          <a:prstGeom prst="rect">
            <a:avLst/>
          </a:prstGeom>
          <a:ln w="0">
            <a:noFill/>
          </a:ln>
        </p:spPr>
      </p:pic>
      <p:sp>
        <p:nvSpPr>
          <p:cNvPr id="408" name="">
            <a:hlinkClick r:id="rId3" action="ppaction://hlinksldjump"/>
          </p:cNvPr>
          <p:cNvSpPr/>
          <p:nvPr/>
        </p:nvSpPr>
        <p:spPr>
          <a:xfrm>
            <a:off x="395280" y="6021360"/>
            <a:ext cx="1042920" cy="538200"/>
          </a:xfrm>
          <a:custGeom>
            <a:avLst/>
            <a:gdLst>
              <a:gd name="textAreaLeft" fmla="*/ 34560 w 1042920"/>
              <a:gd name="textAreaRight" fmla="*/ 1008360 w 1042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1843" h="21600">
                <a:moveTo>
                  <a:pt x="0" y="0"/>
                </a:moveTo>
                <a:lnTo>
                  <a:pt x="41843" y="0"/>
                </a:lnTo>
                <a:lnTo>
                  <a:pt x="41843" y="21600"/>
                </a:lnTo>
                <a:lnTo>
                  <a:pt x="0" y="21600"/>
                </a:lnTo>
                <a:close/>
              </a:path>
              <a:path fill="lightenLess" w="41843" h="21600">
                <a:moveTo>
                  <a:pt x="0" y="0"/>
                </a:moveTo>
                <a:lnTo>
                  <a:pt x="41843" y="0"/>
                </a:lnTo>
                <a:lnTo>
                  <a:pt x="40443" y="1400"/>
                </a:lnTo>
                <a:lnTo>
                  <a:pt x="1400" y="1400"/>
                </a:lnTo>
                <a:close/>
              </a:path>
              <a:path fill="darken" w="41843" h="21600">
                <a:moveTo>
                  <a:pt x="41843" y="0"/>
                </a:moveTo>
                <a:lnTo>
                  <a:pt x="41843" y="21600"/>
                </a:lnTo>
                <a:lnTo>
                  <a:pt x="40443" y="20200"/>
                </a:lnTo>
                <a:lnTo>
                  <a:pt x="40443" y="1400"/>
                </a:lnTo>
                <a:close/>
              </a:path>
              <a:path fill="darkenLess" w="41843" h="21600">
                <a:moveTo>
                  <a:pt x="41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43" y="20200"/>
                </a:lnTo>
                <a:close/>
              </a:path>
              <a:path fill="lighten" w="41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5280" y="1700280"/>
            <a:ext cx="518328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80000" y="5157720"/>
            <a:ext cx="0" cy="122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948360" y="5157720"/>
            <a:ext cx="0" cy="122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236000" y="5157720"/>
            <a:ext cx="0" cy="122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604360" y="5157720"/>
            <a:ext cx="0" cy="122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23280" y="5157720"/>
            <a:ext cx="0" cy="122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956720" y="5157720"/>
            <a:ext cx="0" cy="122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172360" y="5157720"/>
            <a:ext cx="0" cy="122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531280" y="5157720"/>
            <a:ext cx="0" cy="122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012000" y="5157720"/>
            <a:ext cx="0" cy="122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661080" y="5157720"/>
            <a:ext cx="0" cy="122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16436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299280" y="5157720"/>
            <a:ext cx="0" cy="122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38036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45164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65164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86728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79600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72292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73892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08328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02000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4400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31708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45964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58800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1528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44364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56360" y="5157720"/>
            <a:ext cx="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099280" y="5157720"/>
            <a:ext cx="0" cy="122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667640" y="5157720"/>
            <a:ext cx="0" cy="122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883640" y="5157720"/>
            <a:ext cx="0" cy="122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05440" y="5157720"/>
            <a:ext cx="0" cy="122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547640" y="333360"/>
            <a:ext cx="6409080" cy="115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езно   зна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"/>
          <p:cNvSpPr/>
          <p:nvPr/>
        </p:nvSpPr>
        <p:spPr>
          <a:xfrm>
            <a:off x="6372360" y="5157720"/>
            <a:ext cx="0" cy="122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619280" y="5877000"/>
            <a:ext cx="352908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1 широких чёрных полос</a:t>
            </a:r>
            <a:endParaRPr b="0" lang="en-US" sz="1800" spc="1" strike="noStrike">
              <a:ln w="0">
                <a:noFill/>
              </a:ln>
              <a:solidFill>
                <a:srgbClr val="cc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0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77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0" dur="77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2" dur="77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4" dur="77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 rot="2090400">
            <a:off x="7596360" y="2347920"/>
            <a:ext cx="1056960" cy="914400"/>
          </a:xfrm>
          <a:prstGeom prst="triangle">
            <a:avLst>
              <a:gd name="adj" fmla="val 50000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19298400">
            <a:off x="5148360" y="2276280"/>
            <a:ext cx="1057320" cy="914400"/>
          </a:xfrm>
          <a:prstGeom prst="triangle">
            <a:avLst>
              <a:gd name="adj" fmla="val 46056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">
            <a:hlinkClick r:id="rId2" action="ppaction://hlinksldjump"/>
          </p:cNvPr>
          <p:cNvSpPr/>
          <p:nvPr/>
        </p:nvSpPr>
        <p:spPr>
          <a:xfrm>
            <a:off x="324000" y="6021360"/>
            <a:ext cx="1042920" cy="538200"/>
          </a:xfrm>
          <a:custGeom>
            <a:avLst/>
            <a:gdLst>
              <a:gd name="textAreaLeft" fmla="*/ 34560 w 1042920"/>
              <a:gd name="textAreaRight" fmla="*/ 1008360 w 1042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1843" h="21600">
                <a:moveTo>
                  <a:pt x="0" y="0"/>
                </a:moveTo>
                <a:lnTo>
                  <a:pt x="41843" y="0"/>
                </a:lnTo>
                <a:lnTo>
                  <a:pt x="41843" y="21600"/>
                </a:lnTo>
                <a:lnTo>
                  <a:pt x="0" y="21600"/>
                </a:lnTo>
                <a:close/>
              </a:path>
              <a:path fill="lightenLess" w="41843" h="21600">
                <a:moveTo>
                  <a:pt x="0" y="0"/>
                </a:moveTo>
                <a:lnTo>
                  <a:pt x="41843" y="0"/>
                </a:lnTo>
                <a:lnTo>
                  <a:pt x="40443" y="1400"/>
                </a:lnTo>
                <a:lnTo>
                  <a:pt x="1400" y="1400"/>
                </a:lnTo>
                <a:close/>
              </a:path>
              <a:path fill="darken" w="41843" h="21600">
                <a:moveTo>
                  <a:pt x="41843" y="0"/>
                </a:moveTo>
                <a:lnTo>
                  <a:pt x="41843" y="21600"/>
                </a:lnTo>
                <a:lnTo>
                  <a:pt x="40443" y="20200"/>
                </a:lnTo>
                <a:lnTo>
                  <a:pt x="40443" y="1400"/>
                </a:lnTo>
                <a:close/>
              </a:path>
              <a:path fill="darkenLess" w="41843" h="21600">
                <a:moveTo>
                  <a:pt x="41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43" y="20200"/>
                </a:lnTo>
                <a:close/>
              </a:path>
              <a:path fill="lighten" w="41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44640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Какой фигуры нет на рисунк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а) круг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б) квадра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в) прямоугольни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г) треугольни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д) все перечисленн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фигуры е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5219640" y="2708280"/>
            <a:ext cx="3384720" cy="28828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875640" y="3284640"/>
            <a:ext cx="86328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83280" y="3284640"/>
            <a:ext cx="86364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372360" y="3571920"/>
            <a:ext cx="431640" cy="36036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2794200">
            <a:off x="6732360" y="4076640"/>
            <a:ext cx="36036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020000" y="3571920"/>
            <a:ext cx="431640" cy="36036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227640" y="4724280"/>
            <a:ext cx="1440000" cy="358920"/>
          </a:xfrm>
          <a:prstGeom prst="rect">
            <a:avLst/>
          </a:prstGeom>
          <a:solidFill>
            <a:srgbClr val="ff0000"/>
          </a:solidFill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948360" y="4724280"/>
            <a:ext cx="0" cy="36036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227640" y="4869000"/>
            <a:ext cx="1440000" cy="0"/>
          </a:xfrm>
          <a:prstGeom prst="line">
            <a:avLst/>
          </a:prstGeom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116000" y="333360"/>
            <a:ext cx="7272360" cy="1003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на вним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643280" y="5877000"/>
            <a:ext cx="381636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еугольника</a:t>
            </a:r>
            <a:endParaRPr b="0" lang="en-US" sz="1800" spc="1" strike="noStrike">
              <a:ln w="0">
                <a:noFill/>
              </a:ln>
              <a:solidFill>
                <a:srgbClr val="cc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0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2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927840" y="3213000"/>
            <a:ext cx="2216160" cy="2567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956720" y="4941720"/>
            <a:ext cx="1792080" cy="1366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551720" y="3716280"/>
            <a:ext cx="1592280" cy="2160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7885080" y="3573360"/>
            <a:ext cx="1895400" cy="2016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684360" y="404640"/>
            <a:ext cx="7704000" cy="10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ематическая   иг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1628640"/>
            <a:ext cx="755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99"/>
                </a:solidFill>
                <a:latin typeface="Arial"/>
              </a:rPr>
              <a:t>Здесь затеи и задачи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99"/>
                </a:solidFill>
                <a:latin typeface="Arial"/>
              </a:rPr>
              <a:t>Игры, шутки, все для вас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99"/>
                </a:solidFill>
                <a:latin typeface="Arial"/>
              </a:rPr>
              <a:t>Пожелаем вам удачи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99"/>
                </a:solidFill>
                <a:latin typeface="Arial"/>
              </a:rPr>
              <a:t>За работу, в добрый час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68360" y="404640"/>
            <a:ext cx="8343720" cy="6199200"/>
            <a:chOff x="468360" y="404640"/>
            <a:chExt cx="8343720" cy="6199200"/>
          </a:xfrm>
        </p:grpSpPr>
        <p:pic>
          <p:nvPicPr>
            <p:cNvPr id="108" name="" descr=""/>
            <p:cNvPicPr/>
            <p:nvPr/>
          </p:nvPicPr>
          <p:blipFill>
            <a:blip r:embed="rId8"/>
            <a:stretch/>
          </p:blipFill>
          <p:spPr>
            <a:xfrm>
              <a:off x="468360" y="40464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9"/>
            <a:stretch/>
          </p:blipFill>
          <p:spPr>
            <a:xfrm>
              <a:off x="3132000" y="2565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0"/>
            <a:stretch/>
          </p:blipFill>
          <p:spPr>
            <a:xfrm>
              <a:off x="5219640" y="2637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11"/>
            <a:stretch/>
          </p:blipFill>
          <p:spPr>
            <a:xfrm>
              <a:off x="3924360" y="83664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12"/>
            <a:stretch/>
          </p:blipFill>
          <p:spPr>
            <a:xfrm>
              <a:off x="630072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13"/>
            <a:stretch/>
          </p:blipFill>
          <p:spPr>
            <a:xfrm>
              <a:off x="8317080" y="616572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14"/>
            <a:stretch/>
          </p:blipFill>
          <p:spPr>
            <a:xfrm>
              <a:off x="2843280" y="3789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15"/>
            <a:stretch/>
          </p:blipFill>
          <p:spPr>
            <a:xfrm>
              <a:off x="5148360" y="3933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16"/>
            <a:stretch/>
          </p:blipFill>
          <p:spPr>
            <a:xfrm>
              <a:off x="539640" y="17002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17"/>
            <a:stretch/>
          </p:blipFill>
          <p:spPr>
            <a:xfrm>
              <a:off x="2050920" y="76500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18"/>
            <a:stretch/>
          </p:blipFill>
          <p:spPr>
            <a:xfrm>
              <a:off x="468360" y="3645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19"/>
            <a:stretch/>
          </p:blipFill>
          <p:spPr>
            <a:xfrm>
              <a:off x="118728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20"/>
            <a:stretch/>
          </p:blipFill>
          <p:spPr>
            <a:xfrm>
              <a:off x="2987640" y="59500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21"/>
            <a:stretch/>
          </p:blipFill>
          <p:spPr>
            <a:xfrm>
              <a:off x="5148360" y="6093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22"/>
            <a:stretch/>
          </p:blipFill>
          <p:spPr>
            <a:xfrm>
              <a:off x="7236000" y="206064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23"/>
            <a:stretch/>
          </p:blipFill>
          <p:spPr>
            <a:xfrm>
              <a:off x="7812000" y="692280"/>
              <a:ext cx="49536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8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580"/>
                            </p:stCondLst>
                            <p:childTnLst>
                              <p:par>
                                <p:cTn id="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53 -0.05228 L -0.73577 0.09461 E">
                                      <p:cBhvr>
                                        <p:cTn id="2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58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08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323 -0.01064 L -0.5368 0.12584 E">
                                      <p:cBhvr>
                                        <p:cTn id="29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08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58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94 -0.01573 L -0.36962 -0.01573 E"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58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80"/>
                            </p:stCondLst>
                            <p:childTnLst>
                              <p:par>
                                <p:cTn id="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56 -0.04002 L -0.0559 0.0229 E">
                                      <p:cBhvr>
                                        <p:cTn id="43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572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Из четырех монет одна фальшивая, причем, неизвестно больше или меньше она по весу, чем настоящие монеты. За какое меньшее количество взвешиваний на рычажных  весах можно определить   эту монет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">
            <a:hlinkClick r:id="rId2" action="ppaction://hlinksldjump"/>
          </p:cNvPr>
          <p:cNvSpPr/>
          <p:nvPr/>
        </p:nvSpPr>
        <p:spPr>
          <a:xfrm>
            <a:off x="324000" y="6093000"/>
            <a:ext cx="1042920" cy="539640"/>
          </a:xfrm>
          <a:custGeom>
            <a:avLst/>
            <a:gdLst>
              <a:gd name="textAreaLeft" fmla="*/ 34920 w 1042920"/>
              <a:gd name="textAreaRight" fmla="*/ 1008000 w 1042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1731" h="21600">
                <a:moveTo>
                  <a:pt x="0" y="0"/>
                </a:moveTo>
                <a:lnTo>
                  <a:pt x="41731" y="0"/>
                </a:lnTo>
                <a:lnTo>
                  <a:pt x="41731" y="21600"/>
                </a:lnTo>
                <a:lnTo>
                  <a:pt x="0" y="21600"/>
                </a:lnTo>
                <a:close/>
              </a:path>
              <a:path fill="lightenLess" w="41731" h="21600">
                <a:moveTo>
                  <a:pt x="0" y="0"/>
                </a:moveTo>
                <a:lnTo>
                  <a:pt x="41731" y="0"/>
                </a:lnTo>
                <a:lnTo>
                  <a:pt x="40331" y="1400"/>
                </a:lnTo>
                <a:lnTo>
                  <a:pt x="1400" y="1400"/>
                </a:lnTo>
                <a:close/>
              </a:path>
              <a:path fill="darken" w="41731" h="21600">
                <a:moveTo>
                  <a:pt x="41731" y="0"/>
                </a:moveTo>
                <a:lnTo>
                  <a:pt x="41731" y="21600"/>
                </a:lnTo>
                <a:lnTo>
                  <a:pt x="40331" y="20200"/>
                </a:lnTo>
                <a:lnTo>
                  <a:pt x="40331" y="1400"/>
                </a:lnTo>
                <a:close/>
              </a:path>
              <a:path fill="darkenLess" w="41731" h="21600">
                <a:moveTo>
                  <a:pt x="41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31" y="20200"/>
                </a:lnTo>
                <a:close/>
              </a:path>
              <a:path fill="lighten" w="41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 flipH="1">
            <a:off x="5076720" y="1989000"/>
            <a:ext cx="3889440" cy="35290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1692360" y="333360"/>
            <a:ext cx="5688000" cy="12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спертиз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2916360" y="5877000"/>
            <a:ext cx="51116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два взвешивания</a:t>
            </a:r>
            <a:endParaRPr b="0" lang="en-US" sz="1800" spc="1" strike="noStrike">
              <a:ln w="0">
                <a:noFill/>
              </a:ln>
              <a:solidFill>
                <a:srgbClr val="cc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0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2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2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-324000" y="-103320"/>
            <a:ext cx="9685440" cy="69613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692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5292720" y="2060640"/>
            <a:ext cx="3454560" cy="280656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971640" y="404640"/>
            <a:ext cx="727236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ведение   итог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6"/>
          <a:stretch/>
        </p:blipFill>
        <p:spPr>
          <a:xfrm>
            <a:off x="4932360" y="3500280"/>
            <a:ext cx="2025720" cy="10083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7"/>
          <a:stretch/>
        </p:blipFill>
        <p:spPr>
          <a:xfrm flipH="1">
            <a:off x="6227280" y="2852640"/>
            <a:ext cx="1538280" cy="165600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8"/>
          <a:stretch/>
        </p:blipFill>
        <p:spPr>
          <a:xfrm>
            <a:off x="179280" y="1341360"/>
            <a:ext cx="4824360" cy="26640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9"/>
          <a:stretch/>
        </p:blipFill>
        <p:spPr>
          <a:xfrm>
            <a:off x="2124000" y="2421000"/>
            <a:ext cx="2521080" cy="309708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10"/>
          <a:stretch/>
        </p:blipFill>
        <p:spPr>
          <a:xfrm>
            <a:off x="7236000" y="3429000"/>
            <a:ext cx="2304720" cy="10080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179280" y="4581360"/>
            <a:ext cx="8712360" cy="2276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спасибо  за  игру!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468360" y="404640"/>
            <a:ext cx="8343720" cy="6199200"/>
            <a:chOff x="468360" y="404640"/>
            <a:chExt cx="8343720" cy="6199200"/>
          </a:xfrm>
        </p:grpSpPr>
        <p:pic>
          <p:nvPicPr>
            <p:cNvPr id="478" name="" descr=""/>
            <p:cNvPicPr/>
            <p:nvPr/>
          </p:nvPicPr>
          <p:blipFill>
            <a:blip r:embed="rId11"/>
            <a:stretch/>
          </p:blipFill>
          <p:spPr>
            <a:xfrm>
              <a:off x="468360" y="40464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12"/>
            <a:stretch/>
          </p:blipFill>
          <p:spPr>
            <a:xfrm>
              <a:off x="3132000" y="2565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13"/>
            <a:stretch/>
          </p:blipFill>
          <p:spPr>
            <a:xfrm>
              <a:off x="5219640" y="2637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" descr=""/>
            <p:cNvPicPr/>
            <p:nvPr/>
          </p:nvPicPr>
          <p:blipFill>
            <a:blip r:embed="rId14"/>
            <a:stretch/>
          </p:blipFill>
          <p:spPr>
            <a:xfrm>
              <a:off x="3924360" y="83664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/>
            <p:cNvPicPr/>
            <p:nvPr/>
          </p:nvPicPr>
          <p:blipFill>
            <a:blip r:embed="rId15"/>
            <a:stretch/>
          </p:blipFill>
          <p:spPr>
            <a:xfrm>
              <a:off x="630072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" descr=""/>
            <p:cNvPicPr/>
            <p:nvPr/>
          </p:nvPicPr>
          <p:blipFill>
            <a:blip r:embed="rId16"/>
            <a:stretch/>
          </p:blipFill>
          <p:spPr>
            <a:xfrm>
              <a:off x="8317080" y="616572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" descr=""/>
            <p:cNvPicPr/>
            <p:nvPr/>
          </p:nvPicPr>
          <p:blipFill>
            <a:blip r:embed="rId17"/>
            <a:stretch/>
          </p:blipFill>
          <p:spPr>
            <a:xfrm>
              <a:off x="2843280" y="3789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" descr=""/>
            <p:cNvPicPr/>
            <p:nvPr/>
          </p:nvPicPr>
          <p:blipFill>
            <a:blip r:embed="rId18"/>
            <a:stretch/>
          </p:blipFill>
          <p:spPr>
            <a:xfrm>
              <a:off x="5148360" y="3933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19"/>
            <a:stretch/>
          </p:blipFill>
          <p:spPr>
            <a:xfrm>
              <a:off x="539640" y="17002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" descr=""/>
            <p:cNvPicPr/>
            <p:nvPr/>
          </p:nvPicPr>
          <p:blipFill>
            <a:blip r:embed="rId20"/>
            <a:stretch/>
          </p:blipFill>
          <p:spPr>
            <a:xfrm>
              <a:off x="2050920" y="76500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" descr=""/>
            <p:cNvPicPr/>
            <p:nvPr/>
          </p:nvPicPr>
          <p:blipFill>
            <a:blip r:embed="rId21"/>
            <a:stretch/>
          </p:blipFill>
          <p:spPr>
            <a:xfrm>
              <a:off x="468360" y="3645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" descr=""/>
            <p:cNvPicPr/>
            <p:nvPr/>
          </p:nvPicPr>
          <p:blipFill>
            <a:blip r:embed="rId22"/>
            <a:stretch/>
          </p:blipFill>
          <p:spPr>
            <a:xfrm>
              <a:off x="118728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23"/>
            <a:stretch/>
          </p:blipFill>
          <p:spPr>
            <a:xfrm>
              <a:off x="2987640" y="59500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" descr=""/>
            <p:cNvPicPr/>
            <p:nvPr/>
          </p:nvPicPr>
          <p:blipFill>
            <a:blip r:embed="rId24"/>
            <a:stretch/>
          </p:blipFill>
          <p:spPr>
            <a:xfrm>
              <a:off x="5148360" y="6093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" descr=""/>
            <p:cNvPicPr/>
            <p:nvPr/>
          </p:nvPicPr>
          <p:blipFill>
            <a:blip r:embed="rId25"/>
            <a:stretch/>
          </p:blipFill>
          <p:spPr>
            <a:xfrm>
              <a:off x="7236000" y="206064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" descr=""/>
            <p:cNvPicPr/>
            <p:nvPr/>
          </p:nvPicPr>
          <p:blipFill>
            <a:blip r:embed="rId26"/>
            <a:stretch/>
          </p:blipFill>
          <p:spPr>
            <a:xfrm>
              <a:off x="7812000" y="692280"/>
              <a:ext cx="49536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0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5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77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0" dur="770" fill="hold"/>
                                        <p:tgtEl>
                                          <p:spTgt spid="4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2" dur="77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4" dur="77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9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1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3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8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0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2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7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9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1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6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8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0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77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5" dur="770" fill="hold"/>
                                        <p:tgtEl>
                                          <p:spTgt spid="4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7" dur="77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9" dur="77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3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3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3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3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324000" y="595008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156360" y="2133720"/>
            <a:ext cx="2701800" cy="4392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 rot="5400000">
            <a:off x="-1441080" y="2672640"/>
            <a:ext cx="5761080" cy="165708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Математи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411280" y="2276640"/>
            <a:ext cx="3745080" cy="23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0066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Царица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0066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0066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сех нау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0066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68360" y="404640"/>
            <a:ext cx="8343720" cy="6199200"/>
            <a:chOff x="468360" y="404640"/>
            <a:chExt cx="8343720" cy="6199200"/>
          </a:xfrm>
        </p:grpSpPr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468360" y="40464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4"/>
            <a:stretch/>
          </p:blipFill>
          <p:spPr>
            <a:xfrm>
              <a:off x="3132000" y="2565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5"/>
            <a:stretch/>
          </p:blipFill>
          <p:spPr>
            <a:xfrm>
              <a:off x="5219640" y="2637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6"/>
            <a:stretch/>
          </p:blipFill>
          <p:spPr>
            <a:xfrm>
              <a:off x="3924360" y="83664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7"/>
            <a:stretch/>
          </p:blipFill>
          <p:spPr>
            <a:xfrm>
              <a:off x="630072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8"/>
            <a:stretch/>
          </p:blipFill>
          <p:spPr>
            <a:xfrm>
              <a:off x="8317080" y="616572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9"/>
            <a:stretch/>
          </p:blipFill>
          <p:spPr>
            <a:xfrm>
              <a:off x="2843280" y="3789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0"/>
            <a:stretch/>
          </p:blipFill>
          <p:spPr>
            <a:xfrm>
              <a:off x="5148360" y="3933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1"/>
            <a:stretch/>
          </p:blipFill>
          <p:spPr>
            <a:xfrm>
              <a:off x="539640" y="17002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12"/>
            <a:stretch/>
          </p:blipFill>
          <p:spPr>
            <a:xfrm>
              <a:off x="2050920" y="76500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13"/>
            <a:stretch/>
          </p:blipFill>
          <p:spPr>
            <a:xfrm>
              <a:off x="468360" y="3645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14"/>
            <a:stretch/>
          </p:blipFill>
          <p:spPr>
            <a:xfrm>
              <a:off x="118728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15"/>
            <a:stretch/>
          </p:blipFill>
          <p:spPr>
            <a:xfrm>
              <a:off x="2987640" y="59500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16"/>
            <a:stretch/>
          </p:blipFill>
          <p:spPr>
            <a:xfrm>
              <a:off x="5148360" y="6093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17"/>
            <a:stretch/>
          </p:blipFill>
          <p:spPr>
            <a:xfrm>
              <a:off x="7236000" y="206064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18"/>
            <a:stretch/>
          </p:blipFill>
          <p:spPr>
            <a:xfrm>
              <a:off x="7812000" y="692280"/>
              <a:ext cx="49536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551120" cy="61912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468360" y="404640"/>
            <a:ext cx="8343720" cy="6199200"/>
            <a:chOff x="468360" y="404640"/>
            <a:chExt cx="8343720" cy="619920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468360" y="40464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3132000" y="2565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5"/>
            <a:stretch/>
          </p:blipFill>
          <p:spPr>
            <a:xfrm>
              <a:off x="5219640" y="2637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6"/>
            <a:stretch/>
          </p:blipFill>
          <p:spPr>
            <a:xfrm>
              <a:off x="3924360" y="83664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7"/>
            <a:stretch/>
          </p:blipFill>
          <p:spPr>
            <a:xfrm>
              <a:off x="630072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8"/>
            <a:stretch/>
          </p:blipFill>
          <p:spPr>
            <a:xfrm>
              <a:off x="8317080" y="616572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9"/>
            <a:stretch/>
          </p:blipFill>
          <p:spPr>
            <a:xfrm>
              <a:off x="2843280" y="3789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0"/>
            <a:stretch/>
          </p:blipFill>
          <p:spPr>
            <a:xfrm>
              <a:off x="5148360" y="3933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11"/>
            <a:stretch/>
          </p:blipFill>
          <p:spPr>
            <a:xfrm>
              <a:off x="539640" y="17002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12"/>
            <a:stretch/>
          </p:blipFill>
          <p:spPr>
            <a:xfrm>
              <a:off x="2050920" y="76500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13"/>
            <a:stretch/>
          </p:blipFill>
          <p:spPr>
            <a:xfrm>
              <a:off x="468360" y="3645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4"/>
            <a:stretch/>
          </p:blipFill>
          <p:spPr>
            <a:xfrm>
              <a:off x="118728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15"/>
            <a:stretch/>
          </p:blipFill>
          <p:spPr>
            <a:xfrm>
              <a:off x="2987640" y="59500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16"/>
            <a:stretch/>
          </p:blipFill>
          <p:spPr>
            <a:xfrm>
              <a:off x="5148360" y="6093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17"/>
            <a:stretch/>
          </p:blipFill>
          <p:spPr>
            <a:xfrm>
              <a:off x="7236000" y="206064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18"/>
            <a:stretch/>
          </p:blipFill>
          <p:spPr>
            <a:xfrm>
              <a:off x="7812000" y="692280"/>
              <a:ext cx="495360" cy="43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"/>
          <p:cNvSpPr txBox="1"/>
          <p:nvPr/>
        </p:nvSpPr>
        <p:spPr>
          <a:xfrm>
            <a:off x="5508720" y="620640"/>
            <a:ext cx="2663640" cy="5329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758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ahoma"/>
              </a:rPr>
              <a:t>Правила игры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5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за представление команды -10 баллов, за правильный, полный, без подсказки ответ на вопрос игры -5 баллов, ответ с помощью болельщиков своей команды – 3 балла. На решение отводится от 2 до 5 минут в зависимости от трудности вопроса. Снимаются 2 балла за некорректное поведение участников и болельщиков. Вопросы выбираются по очереди с «помощью» математической рулет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700360" y="3424320"/>
            <a:ext cx="4165560" cy="288432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179280" y="260280"/>
            <a:ext cx="2737080" cy="3024360"/>
            <a:chOff x="179280" y="260280"/>
            <a:chExt cx="2737080" cy="3024360"/>
          </a:xfrm>
        </p:grpSpPr>
        <p:sp>
          <p:nvSpPr>
            <p:cNvPr id="167" name=""/>
            <p:cNvSpPr/>
            <p:nvPr/>
          </p:nvSpPr>
          <p:spPr>
            <a:xfrm>
              <a:off x="179280" y="260280"/>
              <a:ext cx="2737080" cy="30243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 rot="18391200">
              <a:off x="717480" y="678600"/>
              <a:ext cx="1704960" cy="16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 txBox="1"/>
            <p:nvPr/>
          </p:nvSpPr>
          <p:spPr>
            <a:xfrm>
              <a:off x="745560" y="2309040"/>
              <a:ext cx="1698840" cy="585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"РОМБ"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156360" y="189000"/>
            <a:ext cx="2808360" cy="3168720"/>
            <a:chOff x="6156360" y="189000"/>
            <a:chExt cx="2808360" cy="3168720"/>
          </a:xfrm>
        </p:grpSpPr>
        <p:sp>
          <p:nvSpPr>
            <p:cNvPr id="171" name=""/>
            <p:cNvSpPr/>
            <p:nvPr/>
          </p:nvSpPr>
          <p:spPr>
            <a:xfrm>
              <a:off x="6156360" y="189000"/>
              <a:ext cx="2808360" cy="31687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4"/>
            <a:stretch/>
          </p:blipFill>
          <p:spPr>
            <a:xfrm>
              <a:off x="6834240" y="495360"/>
              <a:ext cx="130608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 txBox="1"/>
            <p:nvPr/>
          </p:nvSpPr>
          <p:spPr>
            <a:xfrm>
              <a:off x="6640560" y="2233440"/>
              <a:ext cx="1743120" cy="613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"РИТМ"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2340000" y="2565360"/>
            <a:ext cx="4968720" cy="4121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2700360" y="981000"/>
            <a:ext cx="3816360" cy="201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люч к успеху -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то команда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68360" y="404640"/>
            <a:ext cx="8343720" cy="6199200"/>
            <a:chOff x="468360" y="404640"/>
            <a:chExt cx="8343720" cy="6199200"/>
          </a:xfrm>
        </p:grpSpPr>
        <p:pic>
          <p:nvPicPr>
            <p:cNvPr id="177" name="" descr=""/>
            <p:cNvPicPr/>
            <p:nvPr/>
          </p:nvPicPr>
          <p:blipFill>
            <a:blip r:embed="rId6"/>
            <a:stretch/>
          </p:blipFill>
          <p:spPr>
            <a:xfrm>
              <a:off x="468360" y="40464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7"/>
            <a:stretch/>
          </p:blipFill>
          <p:spPr>
            <a:xfrm>
              <a:off x="3132000" y="2565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8"/>
            <a:stretch/>
          </p:blipFill>
          <p:spPr>
            <a:xfrm>
              <a:off x="5219640" y="2637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9"/>
            <a:stretch/>
          </p:blipFill>
          <p:spPr>
            <a:xfrm>
              <a:off x="3924360" y="83664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10"/>
            <a:stretch/>
          </p:blipFill>
          <p:spPr>
            <a:xfrm>
              <a:off x="630072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11"/>
            <a:stretch/>
          </p:blipFill>
          <p:spPr>
            <a:xfrm>
              <a:off x="8317080" y="616572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12"/>
            <a:stretch/>
          </p:blipFill>
          <p:spPr>
            <a:xfrm>
              <a:off x="2843280" y="3789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13"/>
            <a:stretch/>
          </p:blipFill>
          <p:spPr>
            <a:xfrm>
              <a:off x="5148360" y="3933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14"/>
            <a:stretch/>
          </p:blipFill>
          <p:spPr>
            <a:xfrm>
              <a:off x="539640" y="17002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5"/>
            <a:stretch/>
          </p:blipFill>
          <p:spPr>
            <a:xfrm>
              <a:off x="2050920" y="76500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16"/>
            <a:stretch/>
          </p:blipFill>
          <p:spPr>
            <a:xfrm>
              <a:off x="468360" y="3645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17"/>
            <a:stretch/>
          </p:blipFill>
          <p:spPr>
            <a:xfrm>
              <a:off x="118728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18"/>
            <a:stretch/>
          </p:blipFill>
          <p:spPr>
            <a:xfrm>
              <a:off x="2987640" y="59500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19"/>
            <a:stretch/>
          </p:blipFill>
          <p:spPr>
            <a:xfrm>
              <a:off x="5148360" y="6093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20"/>
            <a:stretch/>
          </p:blipFill>
          <p:spPr>
            <a:xfrm>
              <a:off x="7236000" y="206064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21"/>
            <a:stretch/>
          </p:blipFill>
          <p:spPr>
            <a:xfrm>
              <a:off x="7812000" y="692280"/>
              <a:ext cx="495360" cy="438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3" name="" descr=""/>
          <p:cNvPicPr/>
          <p:nvPr/>
        </p:nvPicPr>
        <p:blipFill>
          <a:blip r:embed="rId22"/>
          <a:stretch/>
        </p:blipFill>
        <p:spPr>
          <a:xfrm>
            <a:off x="2195640" y="2781360"/>
            <a:ext cx="496872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55640" y="260280"/>
            <a:ext cx="756144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ожи  пословиц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/>
          <p:cNvSpPr/>
          <p:nvPr/>
        </p:nvSpPr>
        <p:spPr>
          <a:xfrm>
            <a:off x="971640" y="1773360"/>
            <a:ext cx="1727280" cy="100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2360" y="5156280"/>
            <a:ext cx="1584360" cy="93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355920"/>
            <a:ext cx="2448000" cy="1079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35280" y="1889280"/>
            <a:ext cx="1768680" cy="863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27640" y="1989000"/>
            <a:ext cx="2006640" cy="919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37080" y="3789360"/>
            <a:ext cx="2232000" cy="100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56360" y="3284640"/>
            <a:ext cx="2303280" cy="865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79640" y="5084640"/>
            <a:ext cx="1584360" cy="93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732720" y="2133720"/>
            <a:ext cx="1008000" cy="57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ди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948360" y="5300640"/>
            <a:ext cx="45720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284720" y="4005360"/>
            <a:ext cx="98100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х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627280" y="522936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948360" y="3500280"/>
            <a:ext cx="704880" cy="500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356000" y="2060640"/>
            <a:ext cx="43200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042920" y="3645000"/>
            <a:ext cx="114300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дно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619280" y="1989000"/>
            <a:ext cx="48564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78000" y="6026040"/>
            <a:ext cx="696600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дин за всех, и все за одного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68360" y="404640"/>
            <a:ext cx="8343720" cy="6199200"/>
            <a:chOff x="468360" y="404640"/>
            <a:chExt cx="8343720" cy="6199200"/>
          </a:xfrm>
        </p:grpSpPr>
        <p:pic>
          <p:nvPicPr>
            <p:cNvPr id="214" name="" descr=""/>
            <p:cNvPicPr/>
            <p:nvPr/>
          </p:nvPicPr>
          <p:blipFill>
            <a:blip r:embed="rId4"/>
            <a:stretch/>
          </p:blipFill>
          <p:spPr>
            <a:xfrm>
              <a:off x="468360" y="40464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5"/>
            <a:stretch/>
          </p:blipFill>
          <p:spPr>
            <a:xfrm>
              <a:off x="3132000" y="2565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6"/>
            <a:stretch/>
          </p:blipFill>
          <p:spPr>
            <a:xfrm>
              <a:off x="5219640" y="2637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7"/>
            <a:stretch/>
          </p:blipFill>
          <p:spPr>
            <a:xfrm>
              <a:off x="3924360" y="83664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8"/>
            <a:stretch/>
          </p:blipFill>
          <p:spPr>
            <a:xfrm>
              <a:off x="630072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9"/>
            <a:stretch/>
          </p:blipFill>
          <p:spPr>
            <a:xfrm>
              <a:off x="8317080" y="616572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10"/>
            <a:stretch/>
          </p:blipFill>
          <p:spPr>
            <a:xfrm>
              <a:off x="2843280" y="3789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11"/>
            <a:stretch/>
          </p:blipFill>
          <p:spPr>
            <a:xfrm>
              <a:off x="5148360" y="3933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12"/>
            <a:stretch/>
          </p:blipFill>
          <p:spPr>
            <a:xfrm>
              <a:off x="539640" y="17002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13"/>
            <a:stretch/>
          </p:blipFill>
          <p:spPr>
            <a:xfrm>
              <a:off x="2050920" y="76500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14"/>
            <a:stretch/>
          </p:blipFill>
          <p:spPr>
            <a:xfrm>
              <a:off x="468360" y="3645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15"/>
            <a:stretch/>
          </p:blipFill>
          <p:spPr>
            <a:xfrm>
              <a:off x="118728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16"/>
            <a:stretch/>
          </p:blipFill>
          <p:spPr>
            <a:xfrm>
              <a:off x="2987640" y="59500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17"/>
            <a:stretch/>
          </p:blipFill>
          <p:spPr>
            <a:xfrm>
              <a:off x="5148360" y="6093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18"/>
            <a:stretch/>
          </p:blipFill>
          <p:spPr>
            <a:xfrm>
              <a:off x="7236000" y="206064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19"/>
            <a:stretch/>
          </p:blipFill>
          <p:spPr>
            <a:xfrm>
              <a:off x="7812000" y="692280"/>
              <a:ext cx="49536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1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5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2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77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770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1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3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77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770" fill="hold"/>
                                        <p:tgtEl>
                                          <p:spTgt spid="2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0" dur="77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77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7" dur="770" fill="hold"/>
                                        <p:tgtEl>
                                          <p:spTgt spid="2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9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1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6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8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0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77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5" dur="770" fill="hold"/>
                                        <p:tgtEl>
                                          <p:spTgt spid="2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7" dur="77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9" dur="77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95280" y="2852640"/>
            <a:ext cx="8497800" cy="381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979640" y="2781360"/>
            <a:ext cx="5470560" cy="2798640"/>
          </a:xfrm>
          <a:prstGeom prst="rect">
            <a:avLst/>
          </a:prstGeom>
          <a:ln w="0">
            <a:noFill/>
          </a:ln>
        </p:spPr>
      </p:pic>
      <p:sp>
        <p:nvSpPr>
          <p:cNvPr id="233" name="">
            <a:hlinkClick r:id="rId3" action="ppaction://hlinksldjump"/>
          </p:cNvPr>
          <p:cNvSpPr/>
          <p:nvPr/>
        </p:nvSpPr>
        <p:spPr>
          <a:xfrm>
            <a:off x="1042920" y="4005360"/>
            <a:ext cx="1042920" cy="539640"/>
          </a:xfrm>
          <a:custGeom>
            <a:avLst/>
            <a:gdLst>
              <a:gd name="textAreaLeft" fmla="*/ 34920 w 1042920"/>
              <a:gd name="textAreaRight" fmla="*/ 1008000 w 1042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1731" h="21600">
                <a:moveTo>
                  <a:pt x="0" y="0"/>
                </a:moveTo>
                <a:lnTo>
                  <a:pt x="41731" y="0"/>
                </a:lnTo>
                <a:lnTo>
                  <a:pt x="41731" y="21600"/>
                </a:lnTo>
                <a:lnTo>
                  <a:pt x="0" y="21600"/>
                </a:lnTo>
                <a:close/>
              </a:path>
              <a:path fill="lightenLess" w="41731" h="21600">
                <a:moveTo>
                  <a:pt x="0" y="0"/>
                </a:moveTo>
                <a:lnTo>
                  <a:pt x="41731" y="0"/>
                </a:lnTo>
                <a:lnTo>
                  <a:pt x="40331" y="1400"/>
                </a:lnTo>
                <a:lnTo>
                  <a:pt x="1400" y="1400"/>
                </a:lnTo>
                <a:close/>
              </a:path>
              <a:path fill="darken" w="41731" h="21600">
                <a:moveTo>
                  <a:pt x="41731" y="0"/>
                </a:moveTo>
                <a:lnTo>
                  <a:pt x="41731" y="21600"/>
                </a:lnTo>
                <a:lnTo>
                  <a:pt x="40331" y="20200"/>
                </a:lnTo>
                <a:lnTo>
                  <a:pt x="40331" y="1400"/>
                </a:lnTo>
                <a:close/>
              </a:path>
              <a:path fill="darkenLess" w="41731" h="21600">
                <a:moveTo>
                  <a:pt x="41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31" y="20200"/>
                </a:lnTo>
                <a:close/>
              </a:path>
              <a:path fill="lighten" w="41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12000" y="5300640"/>
            <a:ext cx="1042920" cy="539640"/>
          </a:xfrm>
          <a:custGeom>
            <a:avLst/>
            <a:gdLst>
              <a:gd name="textAreaLeft" fmla="*/ 34920 w 1042920"/>
              <a:gd name="textAreaRight" fmla="*/ 1008000 w 1042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1731" h="21600">
                <a:moveTo>
                  <a:pt x="0" y="0"/>
                </a:moveTo>
                <a:lnTo>
                  <a:pt x="41731" y="0"/>
                </a:lnTo>
                <a:lnTo>
                  <a:pt x="41731" y="21600"/>
                </a:lnTo>
                <a:lnTo>
                  <a:pt x="0" y="21600"/>
                </a:lnTo>
                <a:close/>
              </a:path>
              <a:path fill="lightenLess" w="41731" h="21600">
                <a:moveTo>
                  <a:pt x="0" y="0"/>
                </a:moveTo>
                <a:lnTo>
                  <a:pt x="41731" y="0"/>
                </a:lnTo>
                <a:lnTo>
                  <a:pt x="40331" y="1400"/>
                </a:lnTo>
                <a:lnTo>
                  <a:pt x="1400" y="1400"/>
                </a:lnTo>
                <a:close/>
              </a:path>
              <a:path fill="darken" w="41731" h="21600">
                <a:moveTo>
                  <a:pt x="41731" y="0"/>
                </a:moveTo>
                <a:lnTo>
                  <a:pt x="41731" y="21600"/>
                </a:lnTo>
                <a:lnTo>
                  <a:pt x="40331" y="20200"/>
                </a:lnTo>
                <a:lnTo>
                  <a:pt x="40331" y="1400"/>
                </a:lnTo>
                <a:close/>
              </a:path>
              <a:path fill="darkenLess" w="41731" h="21600">
                <a:moveTo>
                  <a:pt x="41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31" y="20200"/>
                </a:lnTo>
                <a:close/>
              </a:path>
              <a:path fill="lighten" w="41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>
            <a:hlinkClick r:id="rId4" action="ppaction://hlinksldjump"/>
          </p:cNvPr>
          <p:cNvSpPr/>
          <p:nvPr/>
        </p:nvSpPr>
        <p:spPr>
          <a:xfrm>
            <a:off x="7308720" y="4724280"/>
            <a:ext cx="1043280" cy="540000"/>
          </a:xfrm>
          <a:custGeom>
            <a:avLst/>
            <a:gdLst>
              <a:gd name="textAreaLeft" fmla="*/ 34920 w 1043280"/>
              <a:gd name="textAreaRight" fmla="*/ 1008360 w 1043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1718" h="21600">
                <a:moveTo>
                  <a:pt x="0" y="0"/>
                </a:moveTo>
                <a:lnTo>
                  <a:pt x="41718" y="0"/>
                </a:lnTo>
                <a:lnTo>
                  <a:pt x="41718" y="21600"/>
                </a:lnTo>
                <a:lnTo>
                  <a:pt x="0" y="21600"/>
                </a:lnTo>
                <a:close/>
              </a:path>
              <a:path fill="lightenLess" w="41718" h="21600">
                <a:moveTo>
                  <a:pt x="0" y="0"/>
                </a:moveTo>
                <a:lnTo>
                  <a:pt x="41718" y="0"/>
                </a:lnTo>
                <a:lnTo>
                  <a:pt x="40318" y="1400"/>
                </a:lnTo>
                <a:lnTo>
                  <a:pt x="1400" y="1400"/>
                </a:lnTo>
                <a:close/>
              </a:path>
              <a:path fill="darken" w="41718" h="21600">
                <a:moveTo>
                  <a:pt x="41718" y="0"/>
                </a:moveTo>
                <a:lnTo>
                  <a:pt x="41718" y="21600"/>
                </a:lnTo>
                <a:lnTo>
                  <a:pt x="40318" y="20200"/>
                </a:lnTo>
                <a:lnTo>
                  <a:pt x="40318" y="1400"/>
                </a:lnTo>
                <a:close/>
              </a:path>
              <a:path fill="darkenLess" w="41718" h="21600">
                <a:moveTo>
                  <a:pt x="41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18" y="20200"/>
                </a:lnTo>
                <a:close/>
              </a:path>
              <a:path fill="lighten" w="41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>
            <a:hlinkClick r:id="rId5" action="ppaction://hlinksldjump"/>
          </p:cNvPr>
          <p:cNvSpPr/>
          <p:nvPr/>
        </p:nvSpPr>
        <p:spPr>
          <a:xfrm>
            <a:off x="6300720" y="3357720"/>
            <a:ext cx="970200" cy="574560"/>
          </a:xfrm>
          <a:custGeom>
            <a:avLst/>
            <a:gdLst>
              <a:gd name="textAreaLeft" fmla="*/ 37080 w 970200"/>
              <a:gd name="textAreaRight" fmla="*/ 933120 w 9702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6464" h="21600">
                <a:moveTo>
                  <a:pt x="0" y="0"/>
                </a:moveTo>
                <a:lnTo>
                  <a:pt x="36464" y="0"/>
                </a:lnTo>
                <a:lnTo>
                  <a:pt x="36464" y="21600"/>
                </a:lnTo>
                <a:lnTo>
                  <a:pt x="0" y="21600"/>
                </a:lnTo>
                <a:close/>
              </a:path>
              <a:path fill="lightenLess" w="36464" h="21600">
                <a:moveTo>
                  <a:pt x="0" y="0"/>
                </a:moveTo>
                <a:lnTo>
                  <a:pt x="36464" y="0"/>
                </a:lnTo>
                <a:lnTo>
                  <a:pt x="35064" y="1400"/>
                </a:lnTo>
                <a:lnTo>
                  <a:pt x="1400" y="1400"/>
                </a:lnTo>
                <a:close/>
              </a:path>
              <a:path fill="darken" w="36464" h="21600">
                <a:moveTo>
                  <a:pt x="36464" y="0"/>
                </a:moveTo>
                <a:lnTo>
                  <a:pt x="36464" y="21600"/>
                </a:lnTo>
                <a:lnTo>
                  <a:pt x="35064" y="20200"/>
                </a:lnTo>
                <a:lnTo>
                  <a:pt x="35064" y="1400"/>
                </a:lnTo>
                <a:close/>
              </a:path>
              <a:path fill="darkenLess" w="36464" h="21600">
                <a:moveTo>
                  <a:pt x="364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64" y="20200"/>
                </a:lnTo>
                <a:close/>
              </a:path>
              <a:path fill="lighten" w="364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08720" y="4076640"/>
            <a:ext cx="1043280" cy="539640"/>
          </a:xfrm>
          <a:custGeom>
            <a:avLst/>
            <a:gdLst>
              <a:gd name="textAreaLeft" fmla="*/ 34920 w 1043280"/>
              <a:gd name="textAreaRight" fmla="*/ 1008360 w 1043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1746" h="21600">
                <a:moveTo>
                  <a:pt x="0" y="0"/>
                </a:moveTo>
                <a:lnTo>
                  <a:pt x="41746" y="0"/>
                </a:lnTo>
                <a:lnTo>
                  <a:pt x="41746" y="21600"/>
                </a:lnTo>
                <a:lnTo>
                  <a:pt x="0" y="21600"/>
                </a:lnTo>
                <a:close/>
              </a:path>
              <a:path fill="lightenLess" w="41746" h="21600">
                <a:moveTo>
                  <a:pt x="0" y="0"/>
                </a:moveTo>
                <a:lnTo>
                  <a:pt x="41746" y="0"/>
                </a:lnTo>
                <a:lnTo>
                  <a:pt x="40346" y="1400"/>
                </a:lnTo>
                <a:lnTo>
                  <a:pt x="1400" y="1400"/>
                </a:lnTo>
                <a:close/>
              </a:path>
              <a:path fill="darken" w="41746" h="21600">
                <a:moveTo>
                  <a:pt x="41746" y="0"/>
                </a:moveTo>
                <a:lnTo>
                  <a:pt x="41746" y="21600"/>
                </a:lnTo>
                <a:lnTo>
                  <a:pt x="40346" y="20200"/>
                </a:lnTo>
                <a:lnTo>
                  <a:pt x="40346" y="1400"/>
                </a:lnTo>
                <a:close/>
              </a:path>
              <a:path fill="darkenLess" w="41746" h="21600">
                <a:moveTo>
                  <a:pt x="41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46" y="20200"/>
                </a:lnTo>
                <a:close/>
              </a:path>
              <a:path fill="lighten" w="41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>
            <a:hlinkClick r:id="rId6" action="ppaction://hlinksldjump"/>
          </p:cNvPr>
          <p:cNvSpPr/>
          <p:nvPr/>
        </p:nvSpPr>
        <p:spPr>
          <a:xfrm>
            <a:off x="3348000" y="3213000"/>
            <a:ext cx="936720" cy="540000"/>
          </a:xfrm>
          <a:custGeom>
            <a:avLst/>
            <a:gdLst>
              <a:gd name="textAreaLeft" fmla="*/ 34920 w 936720"/>
              <a:gd name="textAreaRight" fmla="*/ 901800 w 9367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7458" h="21600">
                <a:moveTo>
                  <a:pt x="0" y="0"/>
                </a:moveTo>
                <a:lnTo>
                  <a:pt x="37458" y="0"/>
                </a:lnTo>
                <a:lnTo>
                  <a:pt x="37458" y="21600"/>
                </a:lnTo>
                <a:lnTo>
                  <a:pt x="0" y="21600"/>
                </a:lnTo>
                <a:close/>
              </a:path>
              <a:path fill="lightenLess" w="37458" h="21600">
                <a:moveTo>
                  <a:pt x="0" y="0"/>
                </a:moveTo>
                <a:lnTo>
                  <a:pt x="37458" y="0"/>
                </a:lnTo>
                <a:lnTo>
                  <a:pt x="36058" y="1400"/>
                </a:lnTo>
                <a:lnTo>
                  <a:pt x="1400" y="1400"/>
                </a:lnTo>
                <a:close/>
              </a:path>
              <a:path fill="darken" w="37458" h="21600">
                <a:moveTo>
                  <a:pt x="37458" y="0"/>
                </a:moveTo>
                <a:lnTo>
                  <a:pt x="37458" y="21600"/>
                </a:lnTo>
                <a:lnTo>
                  <a:pt x="36058" y="20200"/>
                </a:lnTo>
                <a:lnTo>
                  <a:pt x="36058" y="1400"/>
                </a:lnTo>
                <a:close/>
              </a:path>
              <a:path fill="darkenLess" w="37458" h="21600">
                <a:moveTo>
                  <a:pt x="37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58" y="20200"/>
                </a:lnTo>
                <a:close/>
              </a:path>
              <a:path fill="lighten" w="37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2124000" y="3284640"/>
            <a:ext cx="1042920" cy="539640"/>
          </a:xfrm>
          <a:custGeom>
            <a:avLst/>
            <a:gdLst>
              <a:gd name="textAreaLeft" fmla="*/ 34920 w 1042920"/>
              <a:gd name="textAreaRight" fmla="*/ 1008000 w 1042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1731" h="21600">
                <a:moveTo>
                  <a:pt x="0" y="0"/>
                </a:moveTo>
                <a:lnTo>
                  <a:pt x="41731" y="0"/>
                </a:lnTo>
                <a:lnTo>
                  <a:pt x="41731" y="21600"/>
                </a:lnTo>
                <a:lnTo>
                  <a:pt x="0" y="21600"/>
                </a:lnTo>
                <a:close/>
              </a:path>
              <a:path fill="lightenLess" w="41731" h="21600">
                <a:moveTo>
                  <a:pt x="0" y="0"/>
                </a:moveTo>
                <a:lnTo>
                  <a:pt x="41731" y="0"/>
                </a:lnTo>
                <a:lnTo>
                  <a:pt x="40331" y="1400"/>
                </a:lnTo>
                <a:lnTo>
                  <a:pt x="1400" y="1400"/>
                </a:lnTo>
                <a:close/>
              </a:path>
              <a:path fill="darken" w="41731" h="21600">
                <a:moveTo>
                  <a:pt x="41731" y="0"/>
                </a:moveTo>
                <a:lnTo>
                  <a:pt x="41731" y="21600"/>
                </a:lnTo>
                <a:lnTo>
                  <a:pt x="40331" y="20200"/>
                </a:lnTo>
                <a:lnTo>
                  <a:pt x="40331" y="1400"/>
                </a:lnTo>
                <a:close/>
              </a:path>
              <a:path fill="darkenLess" w="41731" h="21600">
                <a:moveTo>
                  <a:pt x="41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31" y="20200"/>
                </a:lnTo>
                <a:close/>
              </a:path>
              <a:path fill="lighten" w="41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42920" y="4653000"/>
            <a:ext cx="1042920" cy="539640"/>
          </a:xfrm>
          <a:custGeom>
            <a:avLst/>
            <a:gdLst>
              <a:gd name="textAreaLeft" fmla="*/ 34920 w 1042920"/>
              <a:gd name="textAreaRight" fmla="*/ 1008000 w 1042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1731" h="21600">
                <a:moveTo>
                  <a:pt x="0" y="0"/>
                </a:moveTo>
                <a:lnTo>
                  <a:pt x="41731" y="0"/>
                </a:lnTo>
                <a:lnTo>
                  <a:pt x="41731" y="21600"/>
                </a:lnTo>
                <a:lnTo>
                  <a:pt x="0" y="21600"/>
                </a:lnTo>
                <a:close/>
              </a:path>
              <a:path fill="lightenLess" w="41731" h="21600">
                <a:moveTo>
                  <a:pt x="0" y="0"/>
                </a:moveTo>
                <a:lnTo>
                  <a:pt x="41731" y="0"/>
                </a:lnTo>
                <a:lnTo>
                  <a:pt x="40331" y="1400"/>
                </a:lnTo>
                <a:lnTo>
                  <a:pt x="1400" y="1400"/>
                </a:lnTo>
                <a:close/>
              </a:path>
              <a:path fill="darken" w="41731" h="21600">
                <a:moveTo>
                  <a:pt x="41731" y="0"/>
                </a:moveTo>
                <a:lnTo>
                  <a:pt x="41731" y="21600"/>
                </a:lnTo>
                <a:lnTo>
                  <a:pt x="40331" y="20200"/>
                </a:lnTo>
                <a:lnTo>
                  <a:pt x="40331" y="1400"/>
                </a:lnTo>
                <a:close/>
              </a:path>
              <a:path fill="darkenLess" w="41731" h="21600">
                <a:moveTo>
                  <a:pt x="41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31" y="20200"/>
                </a:lnTo>
                <a:close/>
              </a:path>
              <a:path fill="lighten" w="41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>
            <a:hlinkClick r:id="rId7" action="ppaction://hlinksldjump"/>
          </p:cNvPr>
          <p:cNvSpPr/>
          <p:nvPr/>
        </p:nvSpPr>
        <p:spPr>
          <a:xfrm>
            <a:off x="2195640" y="5300640"/>
            <a:ext cx="1042920" cy="539640"/>
          </a:xfrm>
          <a:custGeom>
            <a:avLst/>
            <a:gdLst>
              <a:gd name="textAreaLeft" fmla="*/ 34920 w 1042920"/>
              <a:gd name="textAreaRight" fmla="*/ 1008000 w 1042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1731" h="21600">
                <a:moveTo>
                  <a:pt x="0" y="0"/>
                </a:moveTo>
                <a:lnTo>
                  <a:pt x="41731" y="0"/>
                </a:lnTo>
                <a:lnTo>
                  <a:pt x="41731" y="21600"/>
                </a:lnTo>
                <a:lnTo>
                  <a:pt x="0" y="21600"/>
                </a:lnTo>
                <a:close/>
              </a:path>
              <a:path fill="lightenLess" w="41731" h="21600">
                <a:moveTo>
                  <a:pt x="0" y="0"/>
                </a:moveTo>
                <a:lnTo>
                  <a:pt x="41731" y="0"/>
                </a:lnTo>
                <a:lnTo>
                  <a:pt x="40331" y="1400"/>
                </a:lnTo>
                <a:lnTo>
                  <a:pt x="1400" y="1400"/>
                </a:lnTo>
                <a:close/>
              </a:path>
              <a:path fill="darken" w="41731" h="21600">
                <a:moveTo>
                  <a:pt x="41731" y="0"/>
                </a:moveTo>
                <a:lnTo>
                  <a:pt x="41731" y="21600"/>
                </a:lnTo>
                <a:lnTo>
                  <a:pt x="40331" y="20200"/>
                </a:lnTo>
                <a:lnTo>
                  <a:pt x="40331" y="1400"/>
                </a:lnTo>
                <a:close/>
              </a:path>
              <a:path fill="darkenLess" w="41731" h="21600">
                <a:moveTo>
                  <a:pt x="41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31" y="20200"/>
                </a:lnTo>
                <a:close/>
              </a:path>
              <a:path fill="lighten" w="41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rId8" action="ppaction://hlinksldjump"/>
          </p:cNvPr>
          <p:cNvSpPr/>
          <p:nvPr/>
        </p:nvSpPr>
        <p:spPr>
          <a:xfrm>
            <a:off x="3492360" y="5516640"/>
            <a:ext cx="1043280" cy="539640"/>
          </a:xfrm>
          <a:custGeom>
            <a:avLst/>
            <a:gdLst>
              <a:gd name="textAreaLeft" fmla="*/ 34920 w 1043280"/>
              <a:gd name="textAreaRight" fmla="*/ 1008360 w 1043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1746" h="21600">
                <a:moveTo>
                  <a:pt x="0" y="0"/>
                </a:moveTo>
                <a:lnTo>
                  <a:pt x="41746" y="0"/>
                </a:lnTo>
                <a:lnTo>
                  <a:pt x="41746" y="21600"/>
                </a:lnTo>
                <a:lnTo>
                  <a:pt x="0" y="21600"/>
                </a:lnTo>
                <a:close/>
              </a:path>
              <a:path fill="lightenLess" w="41746" h="21600">
                <a:moveTo>
                  <a:pt x="0" y="0"/>
                </a:moveTo>
                <a:lnTo>
                  <a:pt x="41746" y="0"/>
                </a:lnTo>
                <a:lnTo>
                  <a:pt x="40346" y="1400"/>
                </a:lnTo>
                <a:lnTo>
                  <a:pt x="1400" y="1400"/>
                </a:lnTo>
                <a:close/>
              </a:path>
              <a:path fill="darken" w="41746" h="21600">
                <a:moveTo>
                  <a:pt x="41746" y="0"/>
                </a:moveTo>
                <a:lnTo>
                  <a:pt x="41746" y="21600"/>
                </a:lnTo>
                <a:lnTo>
                  <a:pt x="40346" y="20200"/>
                </a:lnTo>
                <a:lnTo>
                  <a:pt x="40346" y="1400"/>
                </a:lnTo>
                <a:close/>
              </a:path>
              <a:path fill="darkenLess" w="41746" h="21600">
                <a:moveTo>
                  <a:pt x="41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46" y="20200"/>
                </a:lnTo>
                <a:close/>
              </a:path>
              <a:path fill="lighten" w="41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>
            <a:hlinkClick r:id="rId9" action="ppaction://hlinksldjump"/>
          </p:cNvPr>
          <p:cNvSpPr/>
          <p:nvPr/>
        </p:nvSpPr>
        <p:spPr>
          <a:xfrm>
            <a:off x="4788000" y="5516640"/>
            <a:ext cx="1042920" cy="539640"/>
          </a:xfrm>
          <a:custGeom>
            <a:avLst/>
            <a:gdLst>
              <a:gd name="textAreaLeft" fmla="*/ 34920 w 1042920"/>
              <a:gd name="textAreaRight" fmla="*/ 1008000 w 1042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1731" h="21600">
                <a:moveTo>
                  <a:pt x="0" y="0"/>
                </a:moveTo>
                <a:lnTo>
                  <a:pt x="41731" y="0"/>
                </a:lnTo>
                <a:lnTo>
                  <a:pt x="41731" y="21600"/>
                </a:lnTo>
                <a:lnTo>
                  <a:pt x="0" y="21600"/>
                </a:lnTo>
                <a:close/>
              </a:path>
              <a:path fill="lightenLess" w="41731" h="21600">
                <a:moveTo>
                  <a:pt x="0" y="0"/>
                </a:moveTo>
                <a:lnTo>
                  <a:pt x="41731" y="0"/>
                </a:lnTo>
                <a:lnTo>
                  <a:pt x="40331" y="1400"/>
                </a:lnTo>
                <a:lnTo>
                  <a:pt x="1400" y="1400"/>
                </a:lnTo>
                <a:close/>
              </a:path>
              <a:path fill="darken" w="41731" h="21600">
                <a:moveTo>
                  <a:pt x="41731" y="0"/>
                </a:moveTo>
                <a:lnTo>
                  <a:pt x="41731" y="21600"/>
                </a:lnTo>
                <a:lnTo>
                  <a:pt x="40331" y="20200"/>
                </a:lnTo>
                <a:lnTo>
                  <a:pt x="40331" y="1400"/>
                </a:lnTo>
                <a:close/>
              </a:path>
              <a:path fill="darkenLess" w="41731" h="21600">
                <a:moveTo>
                  <a:pt x="41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31" y="20200"/>
                </a:lnTo>
                <a:close/>
              </a:path>
              <a:path fill="lighten" w="41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740720" y="4149720"/>
            <a:ext cx="216000" cy="425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411280" y="3357720"/>
            <a:ext cx="360360" cy="43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659640" y="3429000"/>
            <a:ext cx="288720" cy="433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372360" y="5373720"/>
            <a:ext cx="287280" cy="433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76720" y="5516640"/>
            <a:ext cx="43200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51280" y="551664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484360" y="5300640"/>
            <a:ext cx="503280" cy="500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332000" y="4653000"/>
            <a:ext cx="36036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95280" y="260280"/>
            <a:ext cx="8497800" cy="2421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математическая  рулетка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253" name="">
            <a:hlinkClick r:id="rId10" action="ppaction://hlinksldjump"/>
          </p:cNvPr>
          <p:cNvSpPr/>
          <p:nvPr/>
        </p:nvSpPr>
        <p:spPr>
          <a:xfrm>
            <a:off x="4932360" y="3213000"/>
            <a:ext cx="1008000" cy="57636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258920" y="4005360"/>
            <a:ext cx="433440" cy="426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635280" y="3284640"/>
            <a:ext cx="360360" cy="428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"/>
          <p:cNvSpPr/>
          <p:nvPr/>
        </p:nvSpPr>
        <p:spPr>
          <a:xfrm>
            <a:off x="108000" y="6093000"/>
            <a:ext cx="1042920" cy="539640"/>
          </a:xfrm>
          <a:custGeom>
            <a:avLst/>
            <a:gdLst>
              <a:gd name="textAreaLeft" fmla="*/ 34920 w 1042920"/>
              <a:gd name="textAreaRight" fmla="*/ 1008000 w 1042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1731" h="21600">
                <a:moveTo>
                  <a:pt x="0" y="0"/>
                </a:moveTo>
                <a:lnTo>
                  <a:pt x="41731" y="0"/>
                </a:lnTo>
                <a:lnTo>
                  <a:pt x="41731" y="21600"/>
                </a:lnTo>
                <a:lnTo>
                  <a:pt x="0" y="21600"/>
                </a:lnTo>
                <a:close/>
              </a:path>
              <a:path fill="lightenLess" w="41731" h="21600">
                <a:moveTo>
                  <a:pt x="0" y="0"/>
                </a:moveTo>
                <a:lnTo>
                  <a:pt x="41731" y="0"/>
                </a:lnTo>
                <a:lnTo>
                  <a:pt x="40331" y="1400"/>
                </a:lnTo>
                <a:lnTo>
                  <a:pt x="1400" y="1400"/>
                </a:lnTo>
                <a:close/>
              </a:path>
              <a:path fill="darken" w="41731" h="21600">
                <a:moveTo>
                  <a:pt x="41731" y="0"/>
                </a:moveTo>
                <a:lnTo>
                  <a:pt x="41731" y="21600"/>
                </a:lnTo>
                <a:lnTo>
                  <a:pt x="40331" y="20200"/>
                </a:lnTo>
                <a:lnTo>
                  <a:pt x="40331" y="1400"/>
                </a:lnTo>
                <a:close/>
              </a:path>
              <a:path fill="darkenLess" w="41731" h="21600">
                <a:moveTo>
                  <a:pt x="41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31" y="20200"/>
                </a:lnTo>
                <a:close/>
              </a:path>
              <a:path fill="lighten" w="41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7120" y="7234200"/>
            <a:ext cx="18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ини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4000" y="616572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ини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67640" y="4724280"/>
            <a:ext cx="289080" cy="500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219640" y="3281400"/>
            <a:ext cx="360360" cy="434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68360" y="404640"/>
            <a:ext cx="8343720" cy="6199200"/>
            <a:chOff x="468360" y="404640"/>
            <a:chExt cx="8343720" cy="6199200"/>
          </a:xfrm>
        </p:grpSpPr>
        <p:pic>
          <p:nvPicPr>
            <p:cNvPr id="262" name="" descr=""/>
            <p:cNvPicPr/>
            <p:nvPr/>
          </p:nvPicPr>
          <p:blipFill>
            <a:blip r:embed="rId11"/>
            <a:stretch/>
          </p:blipFill>
          <p:spPr>
            <a:xfrm>
              <a:off x="468360" y="40464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12"/>
            <a:stretch/>
          </p:blipFill>
          <p:spPr>
            <a:xfrm>
              <a:off x="3132000" y="2565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13"/>
            <a:stretch/>
          </p:blipFill>
          <p:spPr>
            <a:xfrm>
              <a:off x="5219640" y="2637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4"/>
            <a:stretch/>
          </p:blipFill>
          <p:spPr>
            <a:xfrm>
              <a:off x="3924360" y="83664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15"/>
            <a:stretch/>
          </p:blipFill>
          <p:spPr>
            <a:xfrm>
              <a:off x="630072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16"/>
            <a:stretch/>
          </p:blipFill>
          <p:spPr>
            <a:xfrm>
              <a:off x="8317080" y="616572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17"/>
            <a:stretch/>
          </p:blipFill>
          <p:spPr>
            <a:xfrm>
              <a:off x="2843280" y="378936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18"/>
            <a:stretch/>
          </p:blipFill>
          <p:spPr>
            <a:xfrm>
              <a:off x="5148360" y="3933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19"/>
            <a:stretch/>
          </p:blipFill>
          <p:spPr>
            <a:xfrm>
              <a:off x="539640" y="17002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20"/>
            <a:stretch/>
          </p:blipFill>
          <p:spPr>
            <a:xfrm>
              <a:off x="2050920" y="765000"/>
              <a:ext cx="495360" cy="4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21"/>
            <a:stretch/>
          </p:blipFill>
          <p:spPr>
            <a:xfrm>
              <a:off x="468360" y="3645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22"/>
            <a:stretch/>
          </p:blipFill>
          <p:spPr>
            <a:xfrm>
              <a:off x="1187280" y="515772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23"/>
            <a:stretch/>
          </p:blipFill>
          <p:spPr>
            <a:xfrm>
              <a:off x="2987640" y="595008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24"/>
            <a:stretch/>
          </p:blipFill>
          <p:spPr>
            <a:xfrm>
              <a:off x="5148360" y="6093000"/>
              <a:ext cx="49536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25"/>
            <a:stretch/>
          </p:blipFill>
          <p:spPr>
            <a:xfrm>
              <a:off x="7236000" y="2060640"/>
              <a:ext cx="4950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26"/>
            <a:stretch/>
          </p:blipFill>
          <p:spPr>
            <a:xfrm>
              <a:off x="7812000" y="692280"/>
              <a:ext cx="49536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5651280" y="1622520"/>
            <a:ext cx="316836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Расставь на шарах цифры от 1 до 9 так , чтобы их суммы на каждой из сторон треугольника были равн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2486160" y="1555920"/>
            <a:ext cx="761760" cy="6681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684360" y="189000"/>
            <a:ext cx="755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69696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гадочный треугольник</a:t>
            </a:r>
            <a:endParaRPr b="0" lang="en-US" sz="2400" spc="1" strike="noStrike">
              <a:ln w="19080">
                <a:solidFill>
                  <a:srgbClr val="969696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1908000" y="486900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6"/>
          <a:stretch/>
        </p:blipFill>
        <p:spPr>
          <a:xfrm>
            <a:off x="395280" y="486900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7"/>
          <a:stretch/>
        </p:blipFill>
        <p:spPr>
          <a:xfrm>
            <a:off x="1044720" y="371628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8"/>
          <a:stretch/>
        </p:blipFill>
        <p:spPr>
          <a:xfrm>
            <a:off x="1763640" y="256392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9"/>
          <a:stretch/>
        </p:blipFill>
        <p:spPr>
          <a:xfrm>
            <a:off x="3348000" y="256392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0"/>
          <a:stretch/>
        </p:blipFill>
        <p:spPr>
          <a:xfrm>
            <a:off x="4211640" y="371628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1"/>
          <a:stretch/>
        </p:blipFill>
        <p:spPr>
          <a:xfrm>
            <a:off x="4932360" y="479592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2"/>
          <a:stretch/>
        </p:blipFill>
        <p:spPr>
          <a:xfrm>
            <a:off x="3492360" y="4869000"/>
            <a:ext cx="792360" cy="7207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 flipH="1">
            <a:off x="2340000" y="2131920"/>
            <a:ext cx="287280" cy="50328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620360" y="3211560"/>
            <a:ext cx="358920" cy="57636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899640" y="4363920"/>
            <a:ext cx="360360" cy="57636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132000" y="2131920"/>
            <a:ext cx="36036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32000" y="2131920"/>
            <a:ext cx="360360" cy="50328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24360" y="3211560"/>
            <a:ext cx="431640" cy="57636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788000" y="4363920"/>
            <a:ext cx="360360" cy="50508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87280" y="5227560"/>
            <a:ext cx="72072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00360" y="52275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00360" y="5227560"/>
            <a:ext cx="7920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84720" y="5156280"/>
            <a:ext cx="64764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>
            <a:hlinkClick r:id="rId13" action="ppaction://hlinksldjump"/>
          </p:cNvPr>
          <p:cNvSpPr/>
          <p:nvPr/>
        </p:nvSpPr>
        <p:spPr>
          <a:xfrm>
            <a:off x="468360" y="602136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916360" y="5877000"/>
            <a:ext cx="51116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-4-9-2-7-3-8-1-6-5</a:t>
            </a:r>
            <a:endParaRPr b="0" lang="en-US" sz="1800" spc="1" strike="noStrike">
              <a:ln w="0">
                <a:noFill/>
              </a:ln>
              <a:solidFill>
                <a:srgbClr val="cc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wheel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9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5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8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7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9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8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1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500"/>
                            </p:stCondLst>
                            <p:childTnLst>
                              <p:par>
                                <p:cTn id="6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5" dur="2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2:16:52Z</dcterms:created>
  <dc:creator>Мама</dc:creator>
  <dc:description/>
  <dc:language>en-US</dc:language>
  <cp:lastModifiedBy>Библиотекарь</cp:lastModifiedBy>
  <dcterms:modified xsi:type="dcterms:W3CDTF">2010-12-15T06:54:53Z</dcterms:modified>
  <cp:revision>53</cp:revision>
  <dc:subject/>
  <dc:title>Слайд 1</dc:title>
</cp:coreProperties>
</file>