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3.gif" ContentType="image/gif"/>
  <Override PartName="/ppt/media/image22.wmf" ContentType="image/x-wmf"/>
  <Override PartName="/ppt/media/image26.gif" ContentType="image/gif"/>
  <Override PartName="/ppt/media/image20.gif" ContentType="image/gif"/>
  <Override PartName="/ppt/media/image13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18.jpeg" ContentType="image/jpeg"/>
  <Override PartName="/ppt/media/image15.png" ContentType="image/png"/>
  <Override PartName="/ppt/media/image17.gif" ContentType="image/gif"/>
  <Override PartName="/ppt/media/image16.gif" ContentType="image/gif"/>
  <Override PartName="/ppt/media/image9.wmf" ContentType="image/x-wmf"/>
  <Override PartName="/ppt/media/image32.gif" ContentType="image/gif"/>
  <Override PartName="/ppt/media/image7.gif" ContentType="image/gif"/>
  <Override PartName="/ppt/media/image37.gif" ContentType="image/gif"/>
  <Override PartName="/ppt/media/image25.gif" ContentType="image/gif"/>
  <Override PartName="/ppt/media/image30.png" ContentType="image/png"/>
  <Override PartName="/ppt/media/image8.jpeg" ContentType="image/jpeg"/>
  <Override PartName="/ppt/media/image38.png" ContentType="image/png"/>
  <Override PartName="/ppt/media/image36.wmf" ContentType="image/x-wmf"/>
  <Override PartName="/ppt/media/image39.gif" ContentType="image/gif"/>
  <Override PartName="/ppt/media/image41.gif" ContentType="image/gif"/>
  <Override PartName="/ppt/media/image40.gif" ContentType="image/gif"/>
  <Override PartName="/ppt/media/image42.gif" ContentType="image/gif"/>
  <Override PartName="/ppt/media/image35.gif" ContentType="image/gif"/>
  <Override PartName="/ppt/media/image5.gif" ContentType="image/gif"/>
  <Override PartName="/ppt/media/image28.gif" ContentType="image/gif"/>
  <Override PartName="/ppt/media/image11.jpeg" ContentType="image/jpeg"/>
  <Override PartName="/ppt/media/image31.gif" ContentType="image/gif"/>
  <Override PartName="/ppt/media/image34.gif" ContentType="image/gif"/>
  <Override PartName="/ppt/media/image4.gif" ContentType="image/gif"/>
  <Override PartName="/ppt/media/image27.gif" ContentType="image/gif"/>
  <Override PartName="/ppt/media/image10.png" ContentType="image/png"/>
  <Override PartName="/ppt/media/image1.jpeg" ContentType="image/jpeg"/>
  <Override PartName="/ppt/media/image12.png" ContentType="image/png"/>
  <Override PartName="/ppt/media/image33.gif" ContentType="image/gif"/>
  <Override PartName="/ppt/media/image3.gif" ContentType="image/gif"/>
  <Override PartName="/ppt/media/image6.gif" ContentType="image/gif"/>
  <Override PartName="/ppt/media/image29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B0C-8AEF-4460-BFE8-E174B9C3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A4E-019C-4AE5-B390-776CBAEF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ADA-C054-4611-A102-B8073005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338-ED4E-4D85-BBA8-2C0C68D6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7BB7-FB27-4E08-828D-DC2DD420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4381-7C11-4AB6-B82D-9F2521F7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0E70-A595-4EB1-A8DC-09486F44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C659-7885-4D3F-AB88-0B074F1E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F0D0-A7E9-48FD-8564-547D1AD6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4DCB-CBD5-4869-B5FF-1C598280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91A4-0EB1-4FC8-A15D-D9431D7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22B-5A61-48DE-958B-ADE98722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3256-1B76-48DB-ADA5-C5A2B22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064A-009D-4998-81DF-FDE0D9C9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C400-C7F8-4990-8D59-2A1A2A28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408B-30C1-4D4A-A165-EB9E06C0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B1F8-9A25-435F-8CDA-460743EB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879-A183-40F7-93F3-E1AD98C6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772-8C66-44EA-9860-A359FBB8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2F8-D532-45C7-8278-D6077CF2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D20-E791-47AF-AB22-95ADF48D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90E-275A-489B-A9DD-C81F5E1C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DAF-60CF-4294-BC66-60F00CB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31D-1815-4E89-8821-55ECFF67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AEEC-9D84-406F-A706-546F6C5127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3E34-27E5-4580-AE3C-1A1F856502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8.xml"/><Relationship Id="rId4" Type="http://schemas.openxmlformats.org/officeDocument/2006/relationships/image" Target="../media/image19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wmf"/><Relationship Id="rId8" Type="http://schemas.openxmlformats.org/officeDocument/2006/relationships/image" Target="../media/image23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slide" Target="slide8.xml"/><Relationship Id="rId15" Type="http://schemas.openxmlformats.org/officeDocument/2006/relationships/image" Target="../media/image24.gif"/><Relationship Id="rId16" Type="http://schemas.openxmlformats.org/officeDocument/2006/relationships/image" Target="../media/image25.gif"/><Relationship Id="rId17" Type="http://schemas.openxmlformats.org/officeDocument/2006/relationships/image" Target="../media/image26.gif"/><Relationship Id="rId1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9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0.pn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" Target="slide8.xml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" Target="slide8.xml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7.gi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1.gif"/><Relationship Id="rId9" Type="http://schemas.openxmlformats.org/officeDocument/2006/relationships/image" Target="../media/image42.gif"/><Relationship Id="rId10" Type="http://schemas.openxmlformats.org/officeDocument/2006/relationships/image" Target="../media/image40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5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" Target="slide19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20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5.xml"/><Relationship Id="rId10" Type="http://schemas.openxmlformats.org/officeDocument/2006/relationships/slide" Target="slide10.xml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slide" Target="slide8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7708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0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1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2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4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5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6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7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8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 txBox="1"/>
          <p:nvPr/>
        </p:nvSpPr>
        <p:spPr>
          <a:xfrm rot="5400000">
            <a:off x="4967640" y="2817000"/>
            <a:ext cx="6048720" cy="12240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атематическая игр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-33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116000" y="189000"/>
            <a:ext cx="69994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льная пауз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324000" y="6093000"/>
            <a:ext cx="1042920" cy="56484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4840"/>
              <a:gd name="textAreaBottom" fmla="*/ 528480 h 564840"/>
            </a:gdLst>
            <a:ahLst/>
            <a:rect l="textAreaLeft" t="textAreaTop" r="textAreaRight" b="textAreaBottom"/>
            <a:pathLst>
              <a:path w="39871" h="21600">
                <a:moveTo>
                  <a:pt x="0" y="0"/>
                </a:moveTo>
                <a:lnTo>
                  <a:pt x="39871" y="0"/>
                </a:lnTo>
                <a:lnTo>
                  <a:pt x="39871" y="21600"/>
                </a:lnTo>
                <a:lnTo>
                  <a:pt x="0" y="21600"/>
                </a:lnTo>
                <a:close/>
              </a:path>
              <a:path fill="lightenLess" w="39871" h="21600">
                <a:moveTo>
                  <a:pt x="0" y="0"/>
                </a:moveTo>
                <a:lnTo>
                  <a:pt x="39871" y="0"/>
                </a:lnTo>
                <a:lnTo>
                  <a:pt x="38471" y="1400"/>
                </a:lnTo>
                <a:lnTo>
                  <a:pt x="1400" y="1400"/>
                </a:lnTo>
                <a:close/>
              </a:path>
              <a:path fill="darken" w="39871" h="21600">
                <a:moveTo>
                  <a:pt x="39871" y="0"/>
                </a:moveTo>
                <a:lnTo>
                  <a:pt x="39871" y="21600"/>
                </a:lnTo>
                <a:lnTo>
                  <a:pt x="38471" y="20200"/>
                </a:lnTo>
                <a:lnTo>
                  <a:pt x="38471" y="1400"/>
                </a:lnTo>
                <a:close/>
              </a:path>
              <a:path fill="darkenLess" w="39871" h="21600">
                <a:moveTo>
                  <a:pt x="39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71" y="20200"/>
                </a:lnTo>
                <a:close/>
              </a:path>
              <a:path fill="lighten" w="39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804000" y="1268280"/>
            <a:ext cx="2200320" cy="204804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307" name="" descr=""/>
            <p:cNvPicPr/>
            <p:nvPr/>
          </p:nvPicPr>
          <p:blipFill>
            <a:blip r:embed="rId5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6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7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8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0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11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4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16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20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5229360"/>
            <a:ext cx="9144000" cy="71280"/>
          </a:xfrm>
          <a:prstGeom prst="line">
            <a:avLst/>
          </a:prstGeom>
          <a:ln w="572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5805360"/>
            <a:ext cx="9144000" cy="71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4653000"/>
            <a:ext cx="9144000" cy="71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635280" y="1267920"/>
            <a:ext cx="5508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Из Москвы и Санкт- Петербурга одновременно навстречу друг другу выехали два автомобиля. Они двигались равномерно, без остановок со скоростями 80км/ч и 95км/ч. Какое расстояние будет между ними за один час до встречи?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1834920" cy="2881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276480" cy="4762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76120" cy="476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324000" y="3284640"/>
            <a:ext cx="27612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971640" y="6524640"/>
          <a:ext cx="403200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6524640"/>
                    <a:ext cx="40320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979640" y="1628640"/>
            <a:ext cx="1440000" cy="1800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2700360" y="3500280"/>
            <a:ext cx="276120" cy="476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0"/>
          <a:stretch/>
        </p:blipFill>
        <p:spPr>
          <a:xfrm>
            <a:off x="7524720" y="6165720"/>
            <a:ext cx="276120" cy="476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1"/>
          <a:stretch/>
        </p:blipFill>
        <p:spPr>
          <a:xfrm>
            <a:off x="8244000" y="6165720"/>
            <a:ext cx="276120" cy="476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258920" y="333360"/>
            <a:ext cx="70581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и - дорог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>
            <a:hlinkClick r:id="rId14" action="ppaction://hlinksldjump"/>
          </p:cNvPr>
          <p:cNvSpPr/>
          <p:nvPr/>
        </p:nvSpPr>
        <p:spPr>
          <a:xfrm>
            <a:off x="324000" y="6021360"/>
            <a:ext cx="1042920" cy="56664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5"/>
          <a:stretch/>
        </p:blipFill>
        <p:spPr>
          <a:xfrm>
            <a:off x="7254720" y="4221000"/>
            <a:ext cx="1889280" cy="1008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6"/>
          <a:stretch/>
        </p:blipFill>
        <p:spPr>
          <a:xfrm>
            <a:off x="0" y="4941720"/>
            <a:ext cx="1943280" cy="936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7"/>
          <a:stretch/>
        </p:blipFill>
        <p:spPr>
          <a:xfrm>
            <a:off x="3564000" y="4192560"/>
            <a:ext cx="1871640" cy="2665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5076720" y="6000840"/>
            <a:ext cx="20163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75 км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000"/>
                            </p:stCondLst>
                            <p:childTnLst>
                              <p:par>
                                <p:cTn id="6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8.25815E-007 L -0.81198 -8.25815E-007 E">
                                      <p:cBhvr>
                                        <p:cTn id="684" dur="3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2956E-006 L 0.8309 0.00509 E">
                                      <p:cBhvr>
                                        <p:cTn id="686" dur="3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560" y="2420640"/>
            <a:ext cx="42447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В доме десять этажей. Во сколько раз лестница на десятый этаж дома длиннее,  чем на второй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395280" y="602136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835280" y="476280"/>
            <a:ext cx="5473440" cy="93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ьпинис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 rot="19917000">
            <a:off x="5580000" y="1628280"/>
            <a:ext cx="3095640" cy="45878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916360" y="5877000"/>
            <a:ext cx="23032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9 раз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968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Угадай, что в черном                                                                                                                                                                       ящи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одсказ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. Эту игру называют игрой 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. Она носит имя созда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3. Она удобный спутник в  дорог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">
            <a:hlinkClick r:id="rId2" action="ppaction://hlinksldjump"/>
          </p:cNvPr>
          <p:cNvSpPr/>
          <p:nvPr/>
        </p:nvSpPr>
        <p:spPr>
          <a:xfrm>
            <a:off x="39528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58920" y="260280"/>
            <a:ext cx="6624720" cy="136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ный  ящ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5364000" y="2133720"/>
            <a:ext cx="3529080" cy="3959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5435640" y="4941720"/>
            <a:ext cx="1152360" cy="1151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56000" y="587700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бик Рубика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1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000"/>
                            </p:stCondLst>
                            <p:childTnLst>
                              <p:par>
                                <p:cTn id="7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2" action="ppaction://hlinksldjump"/>
          </p:cNvPr>
          <p:cNvSpPr/>
          <p:nvPr/>
        </p:nvSpPr>
        <p:spPr>
          <a:xfrm>
            <a:off x="324000" y="595008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2665440" cy="249228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6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7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8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9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10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11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12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13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4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5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6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7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8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9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5" name="" descr=""/>
          <p:cNvPicPr/>
          <p:nvPr/>
        </p:nvPicPr>
        <p:blipFill>
          <a:blip r:embed="rId20"/>
          <a:stretch/>
        </p:blipFill>
        <p:spPr>
          <a:xfrm>
            <a:off x="5651640" y="4076640"/>
            <a:ext cx="3313080" cy="24559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 rot="19911000">
            <a:off x="146160" y="1988640"/>
            <a:ext cx="8748720" cy="22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 flipH="1">
            <a:off x="3634920" y="3429000"/>
            <a:ext cx="2521080" cy="2016000"/>
          </a:xfrm>
          <a:prstGeom prst="rect">
            <a:avLst/>
          </a:prstGeom>
          <a:ln w="0">
            <a:noFill/>
          </a:ln>
        </p:spPr>
      </p:pic>
      <p:sp>
        <p:nvSpPr>
          <p:cNvPr id="378" name="">
            <a:hlinkClick r:id="rId3" action="ppaction://hlinksldjump"/>
          </p:cNvPr>
          <p:cNvSpPr/>
          <p:nvPr/>
        </p:nvSpPr>
        <p:spPr>
          <a:xfrm>
            <a:off x="395280" y="6021360"/>
            <a:ext cx="1042920" cy="61128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36843" h="21600">
                <a:moveTo>
                  <a:pt x="0" y="0"/>
                </a:moveTo>
                <a:lnTo>
                  <a:pt x="36843" y="0"/>
                </a:lnTo>
                <a:lnTo>
                  <a:pt x="36843" y="21600"/>
                </a:lnTo>
                <a:lnTo>
                  <a:pt x="0" y="21600"/>
                </a:lnTo>
                <a:close/>
              </a:path>
              <a:path fill="lightenLess" w="36843" h="21600">
                <a:moveTo>
                  <a:pt x="0" y="0"/>
                </a:moveTo>
                <a:lnTo>
                  <a:pt x="36843" y="0"/>
                </a:lnTo>
                <a:lnTo>
                  <a:pt x="35443" y="1400"/>
                </a:lnTo>
                <a:lnTo>
                  <a:pt x="1400" y="1400"/>
                </a:lnTo>
                <a:close/>
              </a:path>
              <a:path fill="darken" w="36843" h="21600">
                <a:moveTo>
                  <a:pt x="36843" y="0"/>
                </a:moveTo>
                <a:lnTo>
                  <a:pt x="36843" y="21600"/>
                </a:lnTo>
                <a:lnTo>
                  <a:pt x="35443" y="20200"/>
                </a:lnTo>
                <a:lnTo>
                  <a:pt x="35443" y="1400"/>
                </a:lnTo>
                <a:close/>
              </a:path>
              <a:path fill="darkenLess" w="36843" h="21600">
                <a:moveTo>
                  <a:pt x="3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3" y="20200"/>
                </a:lnTo>
                <a:close/>
              </a:path>
              <a:path fill="lighten" w="3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71640" y="1773360"/>
            <a:ext cx="2808360" cy="77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МАМУС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03280" y="299736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СОЧЛ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1280" y="4076640"/>
            <a:ext cx="287964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шкок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619280" y="5373720"/>
            <a:ext cx="2736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НУСИМ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435640" y="1773360"/>
            <a:ext cx="2808360" cy="1009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"/>
              </a:rPr>
              <a:t>сумм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788000" y="299736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"/>
              </a:rPr>
              <a:t>число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12000" y="4149720"/>
            <a:ext cx="266364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кошк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076720" y="53737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"/>
              </a:rPr>
              <a:t>МИНУС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39640" y="333360"/>
            <a:ext cx="7993080" cy="932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лючи лишнее сло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71640" y="1773360"/>
            <a:ext cx="2808360" cy="77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МАМУС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03280" y="299736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СОЧЛ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8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0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2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7380360" y="2781360"/>
            <a:ext cx="934920" cy="107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1</a:t>
            </a:r>
            <a:endParaRPr b="0" i="1" lang="en-US" sz="1800" spc="1" strike="noStrike">
              <a:ln w="381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395280" y="595008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26920" y="404640"/>
            <a:ext cx="749016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олжи  ряд  чисе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9640" y="2781360"/>
            <a:ext cx="6193080" cy="136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,1,2,3,5,8,13...</a:t>
            </a:r>
            <a:endParaRPr b="0" i="1" lang="en-US" sz="1800" spc="1" strike="noStrike">
              <a:ln w="381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6407280" y="1700280"/>
            <a:ext cx="2736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77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3" dur="770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5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7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7" nodeType="after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Любушка да Марьюшка вместе съели 9 яблочек, Любушка да Лизонька 10 яблочек, Лизонька да Марьюшка 11 яблочек. Сколько яблочек вместе съели Марьюшка, Любушка и Лизоньк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395280" y="6021360"/>
            <a:ext cx="1042920" cy="57636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674" y="1400"/>
                </a:lnTo>
                <a:lnTo>
                  <a:pt x="1400" y="140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674" y="20200"/>
                </a:lnTo>
                <a:lnTo>
                  <a:pt x="37674" y="140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74" y="2020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572000" y="692280"/>
            <a:ext cx="2016000" cy="33242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 flipH="1">
            <a:off x="5867280" y="2637000"/>
            <a:ext cx="2448000" cy="3960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 flipH="1">
            <a:off x="7092720" y="1125360"/>
            <a:ext cx="1655640" cy="2232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611280" y="189000"/>
            <a:ext cx="4176720" cy="1438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ж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6804000" y="3573360"/>
            <a:ext cx="1873440" cy="29973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9"/>
          <a:stretch/>
        </p:blipFill>
        <p:spPr>
          <a:xfrm flipH="1">
            <a:off x="3924360" y="1700280"/>
            <a:ext cx="2233440" cy="2475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916360" y="6165720"/>
            <a:ext cx="331128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 яблочек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77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770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3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5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1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3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5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На все товары наносят штрих-код, который образован черными и белыми полосками, причем, крайние полосы черные. Черных полосок обычно 30, они бывают узкие и широкие. Число белых полос на 10 больше, чем узких черных. Сколько широких черных полос имеет такой штрих-код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600360" cy="468000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395280" y="602136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1700280"/>
            <a:ext cx="518328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8000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4836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600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32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5672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17236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5312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1200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610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6436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992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8036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5164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9600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2292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73892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8328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2000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4400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31708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45964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8800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528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44364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5636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0992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6764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88364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544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547640" y="333360"/>
            <a:ext cx="640908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езно   зна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/>
          <p:nvPr/>
        </p:nvSpPr>
        <p:spPr>
          <a:xfrm>
            <a:off x="637236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9280" y="5877000"/>
            <a:ext cx="35290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 широких чёрных полос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77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0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2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4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rot="2090400">
            <a:off x="7596360" y="234792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9298400">
            <a:off x="5148360" y="2276280"/>
            <a:ext cx="1057320" cy="914400"/>
          </a:xfrm>
          <a:prstGeom prst="triangle">
            <a:avLst>
              <a:gd name="adj" fmla="val 46056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324000" y="602136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4640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акой фигуры нет на рисун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а) круг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б) квадра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) прямоуголь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) треуголь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д) все перечислен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фигуры е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2708280"/>
            <a:ext cx="3384720" cy="2882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75640" y="3284640"/>
            <a:ext cx="86328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83280" y="3284640"/>
            <a:ext cx="86364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72360" y="3571920"/>
            <a:ext cx="431640" cy="360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794200">
            <a:off x="6732360" y="4076640"/>
            <a:ext cx="36036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020000" y="3571920"/>
            <a:ext cx="431640" cy="360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27640" y="4724280"/>
            <a:ext cx="1440000" cy="358920"/>
          </a:xfrm>
          <a:prstGeom prst="rect">
            <a:avLst/>
          </a:prstGeom>
          <a:solidFill>
            <a:srgbClr val="ff0000"/>
          </a:solidFill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4724280"/>
            <a:ext cx="0" cy="36036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27640" y="4869000"/>
            <a:ext cx="1440000" cy="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116000" y="333360"/>
            <a:ext cx="7272360" cy="1003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н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3280" y="587700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угольника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27840" y="3213000"/>
            <a:ext cx="2216160" cy="2567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956720" y="4941720"/>
            <a:ext cx="1792080" cy="136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51720" y="3716280"/>
            <a:ext cx="159228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885080" y="3573360"/>
            <a:ext cx="1895400" cy="201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84360" y="404640"/>
            <a:ext cx="7704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ческая   иг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62864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Здесь затеи и задачи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Игры, шутки, все для вас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Пожелаем вам удачи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За работу, в добрый час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2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3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5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6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17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8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9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0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1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2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3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8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8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53 -0.05228 L -0.73577 0.09461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8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8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3 -0.01064 L -0.5368 0.12584 E">
                                      <p:cBhvr>
                                        <p:cTn id="2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8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8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4 -0.01573 L -0.36962 -0.01573 E"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8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8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56 -0.04002 L -0.0559 0.0229 E">
                                      <p:cBhvr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Из четырех монет одна фальшивая, причем, неизвестно больше или меньше она по весу, чем настоящие монеты. За какое меньшее количество взвешиваний на рычажных  весах можно определить   эту монет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">
            <a:hlinkClick r:id="rId2" action="ppaction://hlinksldjump"/>
          </p:cNvPr>
          <p:cNvSpPr/>
          <p:nvPr/>
        </p:nvSpPr>
        <p:spPr>
          <a:xfrm>
            <a:off x="324000" y="609300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 flipH="1">
            <a:off x="5076720" y="198900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1692360" y="33336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сперти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916360" y="5877000"/>
            <a:ext cx="51116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два взвешивания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-324000" y="-103320"/>
            <a:ext cx="9685440" cy="69613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292720" y="2060640"/>
            <a:ext cx="3454560" cy="28065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971640" y="404640"/>
            <a:ext cx="727236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ведение   итог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4932360" y="3500280"/>
            <a:ext cx="2025720" cy="1008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7"/>
          <a:stretch/>
        </p:blipFill>
        <p:spPr>
          <a:xfrm flipH="1">
            <a:off x="6227280" y="2852640"/>
            <a:ext cx="1538280" cy="16560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179280" y="1341360"/>
            <a:ext cx="4824360" cy="2664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2124000" y="2421000"/>
            <a:ext cx="2521080" cy="30970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0"/>
          <a:stretch/>
        </p:blipFill>
        <p:spPr>
          <a:xfrm>
            <a:off x="7236000" y="3429000"/>
            <a:ext cx="2304720" cy="100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179280" y="4581360"/>
            <a:ext cx="8712360" cy="227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пасибо  за  игру!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478" name="" descr=""/>
            <p:cNvPicPr/>
            <p:nvPr/>
          </p:nvPicPr>
          <p:blipFill>
            <a:blip r:embed="rId11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12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13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14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15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16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17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18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19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20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21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22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3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24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25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26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0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2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4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9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1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3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8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0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2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7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9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1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6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8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0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5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7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9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4000" y="595008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56360" y="2133720"/>
            <a:ext cx="2701800" cy="43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 rot="5400000">
            <a:off x="-1441080" y="2672640"/>
            <a:ext cx="5761080" cy="16570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11280" y="2276640"/>
            <a:ext cx="3745080" cy="23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ариц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х нау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0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1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2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3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4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15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6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7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8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51120" cy="61912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3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5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6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7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8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 txBox="1"/>
          <p:nvPr/>
        </p:nvSpPr>
        <p:spPr>
          <a:xfrm>
            <a:off x="5508720" y="620640"/>
            <a:ext cx="2663640" cy="5329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58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ahoma"/>
              </a:rPr>
              <a:t>Правила игр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5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за представление команды -10 баллов, за правильный, полный, без подсказки ответ на вопрос игры -5 баллов, ответ с помощью болельщиков своей команды – 3 балла. На решение отводится от 2 до 5 минут в зависимости от трудности вопроса. Снимаются 2 балла за некорректное поведение участников и болельщиков. Вопросы выбираются по очереди с «помощью» математической руле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700360" y="3424320"/>
            <a:ext cx="4165560" cy="28843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179280" y="260280"/>
            <a:ext cx="2737080" cy="3024360"/>
            <a:chOff x="179280" y="260280"/>
            <a:chExt cx="2737080" cy="3024360"/>
          </a:xfrm>
        </p:grpSpPr>
        <p:sp>
          <p:nvSpPr>
            <p:cNvPr id="167" name=""/>
            <p:cNvSpPr/>
            <p:nvPr/>
          </p:nvSpPr>
          <p:spPr>
            <a:xfrm>
              <a:off x="179280" y="260280"/>
              <a:ext cx="2737080" cy="30243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 rot="18391200">
              <a:off x="717480" y="678600"/>
              <a:ext cx="1704960" cy="16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745560" y="2309040"/>
              <a:ext cx="1698840" cy="585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"РОМБ"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156360" y="189000"/>
            <a:ext cx="2808360" cy="3168720"/>
            <a:chOff x="6156360" y="189000"/>
            <a:chExt cx="2808360" cy="3168720"/>
          </a:xfrm>
        </p:grpSpPr>
        <p:sp>
          <p:nvSpPr>
            <p:cNvPr id="171" name=""/>
            <p:cNvSpPr/>
            <p:nvPr/>
          </p:nvSpPr>
          <p:spPr>
            <a:xfrm>
              <a:off x="6156360" y="189000"/>
              <a:ext cx="2808360" cy="31687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6834240" y="495360"/>
              <a:ext cx="13060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6640560" y="2233440"/>
              <a:ext cx="1743120" cy="61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"РИТМ"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340000" y="2565360"/>
            <a:ext cx="4968720" cy="4121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700360" y="981000"/>
            <a:ext cx="3816360" cy="20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люч к успеху -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команд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9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0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1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6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0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1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" descr=""/>
          <p:cNvPicPr/>
          <p:nvPr/>
        </p:nvPicPr>
        <p:blipFill>
          <a:blip r:embed="rId22"/>
          <a:stretch/>
        </p:blipFill>
        <p:spPr>
          <a:xfrm>
            <a:off x="2195640" y="2781360"/>
            <a:ext cx="49687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55640" y="260280"/>
            <a:ext cx="756144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жи  пословиц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1773360"/>
            <a:ext cx="17272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5156280"/>
            <a:ext cx="1584360" cy="93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355920"/>
            <a:ext cx="2448000" cy="1079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1889280"/>
            <a:ext cx="1768680" cy="863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1989000"/>
            <a:ext cx="2006640" cy="919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7080" y="3789360"/>
            <a:ext cx="223200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56360" y="3284640"/>
            <a:ext cx="230328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5084640"/>
            <a:ext cx="1584360" cy="93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732720" y="2133720"/>
            <a:ext cx="10080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48360" y="5300640"/>
            <a:ext cx="4572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84720" y="400536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х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27280" y="5229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948360" y="3500280"/>
            <a:ext cx="704880" cy="50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356000" y="206064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42920" y="3645000"/>
            <a:ext cx="11430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о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619280" y="1989000"/>
            <a:ext cx="4856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78000" y="6026040"/>
            <a:ext cx="69660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ин за всех, и все за одног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7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8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9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0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1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2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3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4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5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6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7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8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9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5280" y="2852640"/>
            <a:ext cx="8497800" cy="381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5470560" cy="2798640"/>
          </a:xfrm>
          <a:prstGeom prst="rect">
            <a:avLst/>
          </a:prstGeom>
          <a:ln w="0">
            <a:noFill/>
          </a:ln>
        </p:spPr>
      </p:pic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1042920" y="400536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530064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4" action="ppaction://hlinksldjump"/>
          </p:cNvPr>
          <p:cNvSpPr/>
          <p:nvPr/>
        </p:nvSpPr>
        <p:spPr>
          <a:xfrm>
            <a:off x="7308720" y="4724280"/>
            <a:ext cx="1043280" cy="540000"/>
          </a:xfrm>
          <a:custGeom>
            <a:avLst/>
            <a:gdLst>
              <a:gd name="textAreaLeft" fmla="*/ 34920 w 1043280"/>
              <a:gd name="textAreaRight" fmla="*/ 1008360 w 1043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1718" h="21600">
                <a:moveTo>
                  <a:pt x="0" y="0"/>
                </a:moveTo>
                <a:lnTo>
                  <a:pt x="41718" y="0"/>
                </a:lnTo>
                <a:lnTo>
                  <a:pt x="41718" y="21600"/>
                </a:lnTo>
                <a:lnTo>
                  <a:pt x="0" y="21600"/>
                </a:lnTo>
                <a:close/>
              </a:path>
              <a:path fill="lightenLess" w="41718" h="21600">
                <a:moveTo>
                  <a:pt x="0" y="0"/>
                </a:moveTo>
                <a:lnTo>
                  <a:pt x="41718" y="0"/>
                </a:lnTo>
                <a:lnTo>
                  <a:pt x="40318" y="1400"/>
                </a:lnTo>
                <a:lnTo>
                  <a:pt x="1400" y="1400"/>
                </a:lnTo>
                <a:close/>
              </a:path>
              <a:path fill="darken" w="41718" h="21600">
                <a:moveTo>
                  <a:pt x="41718" y="0"/>
                </a:moveTo>
                <a:lnTo>
                  <a:pt x="41718" y="21600"/>
                </a:lnTo>
                <a:lnTo>
                  <a:pt x="40318" y="20200"/>
                </a:lnTo>
                <a:lnTo>
                  <a:pt x="40318" y="1400"/>
                </a:lnTo>
                <a:close/>
              </a:path>
              <a:path fill="darkenLess" w="41718" h="21600">
                <a:moveTo>
                  <a:pt x="41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18" y="20200"/>
                </a:lnTo>
                <a:close/>
              </a:path>
              <a:path fill="lighten" w="41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5" action="ppaction://hlinksldjump"/>
          </p:cNvPr>
          <p:cNvSpPr/>
          <p:nvPr/>
        </p:nvSpPr>
        <p:spPr>
          <a:xfrm>
            <a:off x="6300720" y="3357720"/>
            <a:ext cx="970200" cy="574560"/>
          </a:xfrm>
          <a:custGeom>
            <a:avLst/>
            <a:gdLst>
              <a:gd name="textAreaLeft" fmla="*/ 37080 w 970200"/>
              <a:gd name="textAreaRight" fmla="*/ 933120 w 9702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6464" h="21600">
                <a:moveTo>
                  <a:pt x="0" y="0"/>
                </a:moveTo>
                <a:lnTo>
                  <a:pt x="36464" y="0"/>
                </a:lnTo>
                <a:lnTo>
                  <a:pt x="36464" y="21600"/>
                </a:lnTo>
                <a:lnTo>
                  <a:pt x="0" y="21600"/>
                </a:lnTo>
                <a:close/>
              </a:path>
              <a:path fill="lightenLess" w="36464" h="21600">
                <a:moveTo>
                  <a:pt x="0" y="0"/>
                </a:moveTo>
                <a:lnTo>
                  <a:pt x="36464" y="0"/>
                </a:lnTo>
                <a:lnTo>
                  <a:pt x="35064" y="1400"/>
                </a:lnTo>
                <a:lnTo>
                  <a:pt x="1400" y="1400"/>
                </a:lnTo>
                <a:close/>
              </a:path>
              <a:path fill="darken" w="36464" h="21600">
                <a:moveTo>
                  <a:pt x="36464" y="0"/>
                </a:moveTo>
                <a:lnTo>
                  <a:pt x="36464" y="21600"/>
                </a:lnTo>
                <a:lnTo>
                  <a:pt x="35064" y="20200"/>
                </a:lnTo>
                <a:lnTo>
                  <a:pt x="35064" y="1400"/>
                </a:lnTo>
                <a:close/>
              </a:path>
              <a:path fill="darkenLess" w="36464" h="21600">
                <a:moveTo>
                  <a:pt x="36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4" y="20200"/>
                </a:lnTo>
                <a:close/>
              </a:path>
              <a:path fill="lighten" w="36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4076640"/>
            <a:ext cx="1043280" cy="539640"/>
          </a:xfrm>
          <a:custGeom>
            <a:avLst/>
            <a:gdLst>
              <a:gd name="textAreaLeft" fmla="*/ 34920 w 1043280"/>
              <a:gd name="textAreaRight" fmla="*/ 1008360 w 1043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46" h="21600">
                <a:moveTo>
                  <a:pt x="0" y="0"/>
                </a:moveTo>
                <a:lnTo>
                  <a:pt x="41746" y="0"/>
                </a:lnTo>
                <a:lnTo>
                  <a:pt x="41746" y="21600"/>
                </a:lnTo>
                <a:lnTo>
                  <a:pt x="0" y="21600"/>
                </a:lnTo>
                <a:close/>
              </a:path>
              <a:path fill="lightenLess" w="41746" h="21600">
                <a:moveTo>
                  <a:pt x="0" y="0"/>
                </a:moveTo>
                <a:lnTo>
                  <a:pt x="41746" y="0"/>
                </a:lnTo>
                <a:lnTo>
                  <a:pt x="40346" y="1400"/>
                </a:lnTo>
                <a:lnTo>
                  <a:pt x="1400" y="1400"/>
                </a:lnTo>
                <a:close/>
              </a:path>
              <a:path fill="darken" w="41746" h="21600">
                <a:moveTo>
                  <a:pt x="41746" y="0"/>
                </a:moveTo>
                <a:lnTo>
                  <a:pt x="41746" y="21600"/>
                </a:lnTo>
                <a:lnTo>
                  <a:pt x="40346" y="20200"/>
                </a:lnTo>
                <a:lnTo>
                  <a:pt x="40346" y="1400"/>
                </a:lnTo>
                <a:close/>
              </a:path>
              <a:path fill="darkenLess" w="41746" h="21600">
                <a:moveTo>
                  <a:pt x="41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46" y="20200"/>
                </a:lnTo>
                <a:close/>
              </a:path>
              <a:path fill="lighten" w="41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6" action="ppaction://hlinksldjump"/>
          </p:cNvPr>
          <p:cNvSpPr/>
          <p:nvPr/>
        </p:nvSpPr>
        <p:spPr>
          <a:xfrm>
            <a:off x="3348000" y="3213000"/>
            <a:ext cx="936720" cy="540000"/>
          </a:xfrm>
          <a:custGeom>
            <a:avLst/>
            <a:gdLst>
              <a:gd name="textAreaLeft" fmla="*/ 34920 w 936720"/>
              <a:gd name="textAreaRight" fmla="*/ 901800 w 9367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7458" h="21600">
                <a:moveTo>
                  <a:pt x="0" y="0"/>
                </a:moveTo>
                <a:lnTo>
                  <a:pt x="37458" y="0"/>
                </a:lnTo>
                <a:lnTo>
                  <a:pt x="37458" y="21600"/>
                </a:lnTo>
                <a:lnTo>
                  <a:pt x="0" y="21600"/>
                </a:lnTo>
                <a:close/>
              </a:path>
              <a:path fill="lightenLess" w="37458" h="21600">
                <a:moveTo>
                  <a:pt x="0" y="0"/>
                </a:moveTo>
                <a:lnTo>
                  <a:pt x="37458" y="0"/>
                </a:lnTo>
                <a:lnTo>
                  <a:pt x="36058" y="1400"/>
                </a:lnTo>
                <a:lnTo>
                  <a:pt x="1400" y="1400"/>
                </a:lnTo>
                <a:close/>
              </a:path>
              <a:path fill="darken" w="37458" h="21600">
                <a:moveTo>
                  <a:pt x="37458" y="0"/>
                </a:moveTo>
                <a:lnTo>
                  <a:pt x="37458" y="21600"/>
                </a:lnTo>
                <a:lnTo>
                  <a:pt x="36058" y="20200"/>
                </a:lnTo>
                <a:lnTo>
                  <a:pt x="36058" y="1400"/>
                </a:lnTo>
                <a:close/>
              </a:path>
              <a:path fill="darkenLess" w="37458" h="21600">
                <a:moveTo>
                  <a:pt x="37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58" y="20200"/>
                </a:lnTo>
                <a:close/>
              </a:path>
              <a:path fill="lighten" w="37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2124000" y="328464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65300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7" action="ppaction://hlinksldjump"/>
          </p:cNvPr>
          <p:cNvSpPr/>
          <p:nvPr/>
        </p:nvSpPr>
        <p:spPr>
          <a:xfrm>
            <a:off x="2195640" y="530064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8" action="ppaction://hlinksldjump"/>
          </p:cNvPr>
          <p:cNvSpPr/>
          <p:nvPr/>
        </p:nvSpPr>
        <p:spPr>
          <a:xfrm>
            <a:off x="3492360" y="5516640"/>
            <a:ext cx="1043280" cy="539640"/>
          </a:xfrm>
          <a:custGeom>
            <a:avLst/>
            <a:gdLst>
              <a:gd name="textAreaLeft" fmla="*/ 34920 w 1043280"/>
              <a:gd name="textAreaRight" fmla="*/ 1008360 w 1043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46" h="21600">
                <a:moveTo>
                  <a:pt x="0" y="0"/>
                </a:moveTo>
                <a:lnTo>
                  <a:pt x="41746" y="0"/>
                </a:lnTo>
                <a:lnTo>
                  <a:pt x="41746" y="21600"/>
                </a:lnTo>
                <a:lnTo>
                  <a:pt x="0" y="21600"/>
                </a:lnTo>
                <a:close/>
              </a:path>
              <a:path fill="lightenLess" w="41746" h="21600">
                <a:moveTo>
                  <a:pt x="0" y="0"/>
                </a:moveTo>
                <a:lnTo>
                  <a:pt x="41746" y="0"/>
                </a:lnTo>
                <a:lnTo>
                  <a:pt x="40346" y="1400"/>
                </a:lnTo>
                <a:lnTo>
                  <a:pt x="1400" y="1400"/>
                </a:lnTo>
                <a:close/>
              </a:path>
              <a:path fill="darken" w="41746" h="21600">
                <a:moveTo>
                  <a:pt x="41746" y="0"/>
                </a:moveTo>
                <a:lnTo>
                  <a:pt x="41746" y="21600"/>
                </a:lnTo>
                <a:lnTo>
                  <a:pt x="40346" y="20200"/>
                </a:lnTo>
                <a:lnTo>
                  <a:pt x="40346" y="1400"/>
                </a:lnTo>
                <a:close/>
              </a:path>
              <a:path fill="darkenLess" w="41746" h="21600">
                <a:moveTo>
                  <a:pt x="41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46" y="20200"/>
                </a:lnTo>
                <a:close/>
              </a:path>
              <a:path fill="lighten" w="41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rId9" action="ppaction://hlinksldjump"/>
          </p:cNvPr>
          <p:cNvSpPr/>
          <p:nvPr/>
        </p:nvSpPr>
        <p:spPr>
          <a:xfrm>
            <a:off x="4788000" y="551664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740720" y="4149720"/>
            <a:ext cx="21600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411280" y="335772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59640" y="3429000"/>
            <a:ext cx="288720" cy="4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72360" y="5373720"/>
            <a:ext cx="287280" cy="4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76720" y="5516640"/>
            <a:ext cx="43200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51280" y="551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84360" y="5300640"/>
            <a:ext cx="503280" cy="500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332000" y="4653000"/>
            <a:ext cx="360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260280"/>
            <a:ext cx="8497800" cy="2421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атематическая  рулетка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53" name="">
            <a:hlinkClick r:id="rId10" action="ppaction://hlinksldjump"/>
          </p:cNvPr>
          <p:cNvSpPr/>
          <p:nvPr/>
        </p:nvSpPr>
        <p:spPr>
          <a:xfrm>
            <a:off x="4932360" y="321300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58920" y="4005360"/>
            <a:ext cx="433440" cy="42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635280" y="3284640"/>
            <a:ext cx="360360" cy="42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108000" y="609300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7120" y="7234200"/>
            <a:ext cx="18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ни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000" y="61657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ни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67640" y="4724280"/>
            <a:ext cx="289080" cy="500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9640" y="3281400"/>
            <a:ext cx="36036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262" name="" descr=""/>
            <p:cNvPicPr/>
            <p:nvPr/>
          </p:nvPicPr>
          <p:blipFill>
            <a:blip r:embed="rId11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2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3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4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5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6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7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8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9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20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1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2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3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4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5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6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651280" y="1622520"/>
            <a:ext cx="31683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Расставь на шарах цифры от 1 до 9 так , чтобы их суммы на каждой из сторон треугольника были рав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486160" y="1555920"/>
            <a:ext cx="761760" cy="6681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84360" y="189000"/>
            <a:ext cx="755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696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адочный треугольник</a:t>
            </a:r>
            <a:endParaRPr b="0" lang="en-US" sz="2400" spc="1" strike="noStrike">
              <a:ln w="19080">
                <a:solidFill>
                  <a:srgbClr val="9696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1908000" y="4869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395280" y="486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1044720" y="3716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1763640" y="25639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3348000" y="25639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4211640" y="3716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>
            <a:off x="4932360" y="47959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2"/>
          <a:stretch/>
        </p:blipFill>
        <p:spPr>
          <a:xfrm>
            <a:off x="3492360" y="4869000"/>
            <a:ext cx="792360" cy="720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H="1">
            <a:off x="2340000" y="2131920"/>
            <a:ext cx="287280" cy="5032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20360" y="3211560"/>
            <a:ext cx="358920" cy="576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99640" y="4363920"/>
            <a:ext cx="360360" cy="576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2131920"/>
            <a:ext cx="360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2131920"/>
            <a:ext cx="360360" cy="5032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24360" y="3211560"/>
            <a:ext cx="431640" cy="576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88000" y="4363920"/>
            <a:ext cx="360360" cy="5050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5227560"/>
            <a:ext cx="7207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52275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5227560"/>
            <a:ext cx="792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84720" y="5156280"/>
            <a:ext cx="6476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13" action="ppaction://hlinksldjump"/>
          </p:cNvPr>
          <p:cNvSpPr/>
          <p:nvPr/>
        </p:nvSpPr>
        <p:spPr>
          <a:xfrm>
            <a:off x="468360" y="602136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916360" y="5877000"/>
            <a:ext cx="51116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4-9-2-7-3-8-1-6-5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5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2:16:52Z</dcterms:created>
  <dc:creator>Мама</dc:creator>
  <dc:description/>
  <dc:language>en-US</dc:language>
  <cp:lastModifiedBy>Библиотекарь</cp:lastModifiedBy>
  <dcterms:modified xsi:type="dcterms:W3CDTF">2010-12-15T06:54:53Z</dcterms:modified>
  <cp:revision>53</cp:revision>
  <dc:subject/>
  <dc:title>Слайд 1</dc:title>
</cp:coreProperties>
</file>