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778-1081-4406-9B61-94E8CC2E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3B49-1918-4767-AC06-C54C5E15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8D8-CA43-4743-AE09-2CACDB38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9C2-4D15-4395-9973-55EF522B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3FA8-BB6F-4440-AD65-E3DD9B91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BDBD-2302-434F-80FD-1B2336CF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5B6B-52BF-46B3-B52E-40CA22BF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0858-9D59-455E-8DE7-054B61F5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C925-37BB-4C0A-8F26-87F06CEE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992B-D994-4E61-95B4-5F2C50E6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228F-F4FF-4AE9-A378-913588EE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33C-5E93-4C49-8425-212E4EF2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60C8-EA6B-4F40-87DB-F89E9034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A765-D901-4239-B6DD-2156BE88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6069-3BFF-4D29-9B27-92F1AFF2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649C-B016-42C3-AA10-FFC59525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3A1E-9039-469C-BFA3-D47F5183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C0E-4726-4D59-BCAE-92B2F4DA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E506-1089-4A25-BD4F-34AA4651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350-5CED-4308-927A-5457386C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F81-AD64-46BF-AE40-31E7FBF6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B20-B62D-42D0-ACCE-2A0F2FA2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A5E-A766-4190-93FC-A05C780B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CD93-F72F-49EC-93D0-324C3946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2757-1425-48CA-B73E-E1F79E2900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63E2-E1F8-4315-8ECD-527281025A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627280" y="476280"/>
            <a:ext cx="38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990033"/>
                    </a:gs>
                    <a:gs pos="100000">
                      <a:srgbClr val="ff0000"/>
                    </a:gs>
                  </a:gsLst>
                  <a:lin ang="8100000"/>
                </a:gradFill>
                <a:latin typeface="Georgia"/>
              </a:rPr>
              <a:t>Букв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990033"/>
                  </a:gs>
                  <a:gs pos="100000">
                    <a:srgbClr val="ff0000"/>
                  </a:gs>
                </a:gsLst>
                <a:lin ang="8100000"/>
              </a:gradFill>
              <a:latin typeface="Georgia"/>
              <a:ea typeface="Georgia"/>
            </a:endParaRPr>
          </a:p>
        </p:txBody>
      </p:sp>
      <p:sp>
        <p:nvSpPr>
          <p:cNvPr id="97" name=""/>
          <p:cNvSpPr txBox="1"/>
          <p:nvPr/>
        </p:nvSpPr>
        <p:spPr>
          <a:xfrm rot="20214600">
            <a:off x="1115640" y="1844280"/>
            <a:ext cx="30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Georgia"/>
              </a:rPr>
              <a:t>З 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Georgia"/>
              <a:ea typeface="Georgia"/>
            </a:endParaRPr>
          </a:p>
        </p:txBody>
      </p:sp>
      <p:sp>
        <p:nvSpPr>
          <p:cNvPr id="98" name=""/>
          <p:cNvSpPr txBox="1"/>
          <p:nvPr/>
        </p:nvSpPr>
        <p:spPr>
          <a:xfrm rot="1990200">
            <a:off x="6372000" y="2060640"/>
            <a:ext cx="153036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Georgia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Georgia"/>
              <a:ea typeface="Georg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340000" y="5157720"/>
            <a:ext cx="4486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99"/>
                    </a:gs>
                    <a:gs pos="50000">
                      <a:srgbClr val="ff0000"/>
                    </a:gs>
                    <a:gs pos="100000">
                      <a:srgbClr val="cccc99"/>
                    </a:gs>
                  </a:gsLst>
                  <a:lin ang="13500000"/>
                </a:gradFill>
                <a:latin typeface="Comic Sans MS"/>
              </a:rPr>
              <a:t>на конце пристав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99"/>
                  </a:gs>
                  <a:gs pos="50000">
                    <a:srgbClr val="ff0000"/>
                  </a:gs>
                  <a:gs pos="100000">
                    <a:srgbClr val="cccc99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987640" y="1628640"/>
            <a:ext cx="28861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</a:rPr>
              <a:t>ЗАПОМНИ!!!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ав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ровь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*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видать (ничего не вид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га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неясное происхождение: либо 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орога, тропинка (стега, стезя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либо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емь, потемки, темнота (сгинуть?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0920" y="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Подберите к каждому слову подходящ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для него  приставку на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З, -С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или приставку 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467080"/>
            <a:ext cx="83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цветающий,  …мерить, …дельник, …ведчик, …лететь, …беж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ложение, …править, …порядок, …пытывать, …бираться, …ду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репенуться, …шумный, …след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20000" y="3141720"/>
            <a:ext cx="197640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Эксперимент! Найдите закономерность в правописании слов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серде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чув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причи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тол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соз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трепену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тян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724360" y="169992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дум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забо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возвра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разд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знагра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зрых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348000" y="2060640"/>
            <a:ext cx="2192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3933720"/>
            <a:ext cx="208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3860640"/>
            <a:ext cx="266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3284640"/>
            <a:ext cx="4104000" cy="115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5280" y="386064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13250" t="81018" r="54209" b="0"/>
          <a:stretch/>
        </p:blipFill>
        <p:spPr>
          <a:xfrm>
            <a:off x="5867280" y="2708280"/>
            <a:ext cx="3076560" cy="2463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9109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Звонкая </a:t>
            </a: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–З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пишется в приставке, если после неё стоит </a:t>
            </a: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з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вонкая согласная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rcRect l="0" t="16414" r="54213" b="20723"/>
          <a:stretch/>
        </p:blipFill>
        <p:spPr>
          <a:xfrm>
            <a:off x="250920" y="1557360"/>
            <a:ext cx="2736720" cy="5157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419640" y="2492280"/>
            <a:ext cx="2422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вени, звонок, зови, звонок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000000"/>
                </a:solidFill>
                <a:uFillTx/>
                <a:latin typeface="Arial"/>
              </a:rPr>
              <a:t>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, В, Г,Д,Ж,З, Л, М, Н, 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03640" y="2962440"/>
            <a:ext cx="3457800" cy="3000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12868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806472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Times New Roman"/>
              </a:rPr>
              <a:t>Глухая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пишется в приставке, если после неё стоит </a:t>
            </a:r>
            <a:r>
              <a:rPr b="1" lang="en-US" sz="3800" spc="-1" strike="noStrike">
                <a:solidFill>
                  <a:srgbClr val="0000ff"/>
                </a:solidFill>
                <a:latin typeface="Times New Roman"/>
              </a:rPr>
              <a:t>глухая</a:t>
            </a:r>
            <a:r>
              <a:rPr b="0" lang="en-US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согласная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49627" t="16405" r="9626" b="21939"/>
          <a:stretch/>
        </p:blipFill>
        <p:spPr>
          <a:xfrm>
            <a:off x="1116000" y="1351080"/>
            <a:ext cx="1994040" cy="5506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rcRect l="59040" t="81018" r="9626" b="0"/>
          <a:stretch/>
        </p:blipFill>
        <p:spPr>
          <a:xfrm>
            <a:off x="6012000" y="2565360"/>
            <a:ext cx="2766960" cy="2300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348000" y="2060640"/>
            <a:ext cx="2479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лухой глухого види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С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728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, Т, С, Ш, К, П, Х, Ц, Ч,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0" y="3016080"/>
            <a:ext cx="4356000" cy="3841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08000" y="3357720"/>
            <a:ext cx="18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4360" y="1484280"/>
            <a:ext cx="320328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Глухие звуки – это непосе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Они спокойно не желают жи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Они мечтают звонкого сос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Во что бы то ни стало оглуш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916360" y="4076640"/>
            <a:ext cx="31813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Times New Roman"/>
              </a:rPr>
              <a:t>Как легче запомнить?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предложения вычеркни все гласные. Какие согласные остал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К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Ф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Ц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,  Х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Ч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ШЬ Щ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Ц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</a:rPr>
              <a:t>ЗАПОМНИ!!!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тавки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З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русском языке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не быва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ть только приставка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С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Сж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Сбе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Сп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Сдел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295308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58:32Z</dcterms:created>
  <dc:creator>ЛЕША</dc:creator>
  <dc:description/>
  <dc:language>en-US</dc:language>
  <cp:lastModifiedBy>1</cp:lastModifiedBy>
  <dcterms:modified xsi:type="dcterms:W3CDTF">2013-03-29T14:56:23Z</dcterms:modified>
  <cp:revision>46</cp:revision>
  <dc:subject/>
  <dc:title>Слайд 1</dc:title>
</cp:coreProperties>
</file>