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EEE-A0A5-461E-A704-663EB93F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F09-ED39-4B14-8105-E1AB4BB9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28B-7C56-42D8-8D1A-5880223A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C0C-2BA1-4F22-A533-FF410FB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59BE-E18F-4CA1-A4E8-FAF6638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BAE9-3660-41A4-940F-8D072D87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32AA-CE71-4636-9994-5631BE9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1CE0-1F0A-44CD-886C-6CCAB21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577A-FE7E-4274-80A6-D498D731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BD92-F3BE-4613-8B84-82B0F6C0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502-F277-4D7B-93ED-E47E2543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172-F984-4FE9-9757-EF1946AA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D5A8-024B-4DAF-8F0E-86299D8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DC6C-B819-4508-A055-0AA53C2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8908-A8D3-4A56-8BDF-6C5EB4B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09F2-0BCB-4DAF-AF1B-990780D3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1EE-32A4-458A-9D74-6946155F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078-66D9-4180-AF1D-48B7DC2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57A-E3D8-4D24-865B-558A395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AAC-CFF5-430F-8E2C-C583F18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A6C-2D93-40F7-A421-5775D47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BF3-1C13-447F-9253-EF29FDE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080-7A20-4CBC-9A39-F7342E7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06A-7371-4ECA-9CD7-5B4A45F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BEB-56FC-4C96-BAAB-1E2C2E682D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715-24F3-46A3-BDF8-5211978DA4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47628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990033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Georgia"/>
              </a:rPr>
              <a:t>Бук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990033"/>
                  </a:gs>
                  <a:gs pos="100000">
                    <a:srgbClr val="ff0000"/>
                  </a:gs>
                </a:gsLst>
                <a:lin ang="8100000"/>
              </a:gradFill>
              <a:latin typeface="Georgia"/>
              <a:ea typeface="Georgia"/>
            </a:endParaRPr>
          </a:p>
        </p:txBody>
      </p:sp>
      <p:sp>
        <p:nvSpPr>
          <p:cNvPr id="97" name=""/>
          <p:cNvSpPr txBox="1"/>
          <p:nvPr/>
        </p:nvSpPr>
        <p:spPr>
          <a:xfrm rot="20214600">
            <a:off x="1115640" y="1844280"/>
            <a:ext cx="30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З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98" name=""/>
          <p:cNvSpPr txBox="1"/>
          <p:nvPr/>
        </p:nvSpPr>
        <p:spPr>
          <a:xfrm rot="1990200">
            <a:off x="6372000" y="2060640"/>
            <a:ext cx="1530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40000" y="5157720"/>
            <a:ext cx="4486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99"/>
                    </a:gs>
                    <a:gs pos="50000">
                      <a:srgbClr val="ff0000"/>
                    </a:gs>
                    <a:gs pos="100000">
                      <a:srgbClr val="cccc99"/>
                    </a:gs>
                  </a:gsLst>
                  <a:lin ang="13500000"/>
                </a:gradFill>
                <a:latin typeface="Comic Sans MS"/>
              </a:rPr>
              <a:t>на конце прист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99"/>
                  </a:gs>
                  <a:gs pos="50000">
                    <a:srgbClr val="ff0000"/>
                  </a:gs>
                  <a:gs pos="100000">
                    <a:srgbClr val="cccc9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87640" y="1628640"/>
            <a:ext cx="2886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ЗАПОМНИ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ав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овь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*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идать (ничего не вид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га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неясное происхождение: либо 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рога, тропинка (стега, стезя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бо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мь, потемки, темнота (сгинуть?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дберите к каждому слову подходящ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для него  приставку на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-З, -С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или приставку 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467080"/>
            <a:ext cx="83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цветающий,  …мерить, …дельник, …ведчик, …лететь, …беж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ложение, …править, …порядок, …пытывать, …бираться, …ду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епенуться, …шумный, …след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20000" y="3141720"/>
            <a:ext cx="19764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ксперимент! Найдите закономерность в правописании слов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ерде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чув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прич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тол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соз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пену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тян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24360" y="16999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ду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забо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возвр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разд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нагр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рых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2192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3933720"/>
            <a:ext cx="20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3860640"/>
            <a:ext cx="266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284640"/>
            <a:ext cx="4104000" cy="115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386064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3250" t="81018" r="54209" b="0"/>
          <a:stretch/>
        </p:blipFill>
        <p:spPr>
          <a:xfrm>
            <a:off x="5867280" y="2708280"/>
            <a:ext cx="3076560" cy="2463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0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Звонкая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–З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пишется в приставке, если после неё стоит 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вонкая согласная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16414" r="54213" b="20723"/>
          <a:stretch/>
        </p:blipFill>
        <p:spPr>
          <a:xfrm>
            <a:off x="250920" y="1557360"/>
            <a:ext cx="2736720" cy="5157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419640" y="2492280"/>
            <a:ext cx="2422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вени, звонок, зови, звонок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, В, Г,Д,Ж,З, Л, М, Н, 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962440"/>
            <a:ext cx="3457800" cy="3000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12868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8064720" cy="12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Глухая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пишется в приставке, если после неё стоит </a:t>
            </a:r>
            <a:r>
              <a:rPr b="1" lang="en-US" sz="3800" spc="-1" strike="noStrike">
                <a:solidFill>
                  <a:srgbClr val="0000ff"/>
                </a:solidFill>
                <a:latin typeface="Times New Roman"/>
              </a:rPr>
              <a:t>глухая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согласна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9627" t="16405" r="9626" b="21939"/>
          <a:stretch/>
        </p:blipFill>
        <p:spPr>
          <a:xfrm>
            <a:off x="1116000" y="1351080"/>
            <a:ext cx="1994040" cy="550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59040" t="81018" r="9626" b="0"/>
          <a:stretch/>
        </p:blipFill>
        <p:spPr>
          <a:xfrm>
            <a:off x="6012000" y="2565360"/>
            <a:ext cx="2766960" cy="23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2479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лухой глухого види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, Т, С, Ш, К, П, Х, Ц, Ч,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3016080"/>
            <a:ext cx="4356000" cy="3841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08000" y="3357720"/>
            <a:ext cx="18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32032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Глухие звуки – это непос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ни спокойно не желают ж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ни мечтают звонкого со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о что бы то ни стало оглуш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31813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Как легче запомнить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предложения вычеркни все гласные. Какие согласные ост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К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Ф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Ц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,  Х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Ч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ШЬ Щ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ЗАПОМНИ!!!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тавк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русском языке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е быва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только приставка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ж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бе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п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2997360"/>
            <a:ext cx="295308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58:32Z</dcterms:created>
  <dc:creator>ЛЕША</dc:creator>
  <dc:description/>
  <dc:language>en-US</dc:language>
  <cp:lastModifiedBy>1</cp:lastModifiedBy>
  <dcterms:modified xsi:type="dcterms:W3CDTF">2013-03-29T14:56:23Z</dcterms:modified>
  <cp:revision>46</cp:revision>
  <dc:subject/>
  <dc:title>Слайд 1</dc:title>
</cp:coreProperties>
</file>