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811-B4BA-45AE-ADCD-CE782DD7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CC4-0EA9-4500-AB52-855EA184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63F-7A3B-4985-A571-D200FED6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72C-BCDA-4A3E-853C-4ECEB3DD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AD25-117A-4A44-B059-A1A36601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52F2-6872-4640-9085-732B5CC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ED9C-C874-4916-97B1-6B781C90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41BF-D8F6-4BE0-94B5-097432ED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5587-C07B-4446-AACD-F3857CD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F1DE-5F30-40E0-AC18-B72C76B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0ADD-EA97-4EBF-A3A7-F994689B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05A-4DEB-401B-B19C-BE46D1E5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C6FE-3299-4BF1-96A8-A5EBD64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85D5-7BBB-4216-8BB5-5A33BA3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A831-F1F5-41EC-9E38-CF13EB0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3CCF-D0A9-4663-BBC1-5BAC8DC0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154-26F3-4C00-9857-B857A75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8426-A5CC-4D48-9ECB-D1E8132C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C020-AC6E-4837-97D9-CDA3ECBD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61DE-D633-45CA-BB49-8B9D13B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E98A-AAA2-4A30-8506-1AD9F767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4939-B6FE-4EA9-AEF8-20D542CD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B53-285B-4CCE-892F-3C1EEA0A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7F88-4B0B-4A4D-80B6-D0C7554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3860-A277-40CC-B7F6-0540918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6AE5-21D7-4A6A-AFD8-43C7B95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D4E5-44F4-4D1D-93C5-E382C76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1976-34F1-467F-8CEF-96201903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4321-C69A-441A-8F93-3956BA2C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EC23-47D4-437D-B86D-AAF2CE65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F84A-2581-4C82-856D-EF926BD6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D2B0-6A48-4E5F-A74B-83FAD649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D9C7-23AE-4713-BE7C-B09A68B1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294-135E-485A-BB5C-44B6CAB8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F789-ABEF-4E37-8E9C-AC90D5E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07D1-B747-490B-962C-A33B803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7D48-2A14-43CC-85B6-F9D99D8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F168-BFEC-4584-B430-E8CC18A7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45FE-35F9-4705-BD3C-0480341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3BAF-DA15-4B84-BFEE-CCABCCF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30DEB-6F2D-4BAC-9300-31181FF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2617-D994-4418-B460-390B60E4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270E-D554-4FE0-B726-82D62B3F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697C-C356-4F18-9877-6A5A32E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F92-810C-43D1-9CEF-FB222681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D2BB4-2D6B-46AC-92FB-0C95B0D5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ED93-1317-438C-822A-DABD8D7D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5A00-B5F1-45A1-BF62-B37EA0C5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0C1B-3F18-4170-8860-AD56F234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B750A-339D-4532-94B5-41DB24C1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DFA4-4470-482D-95FC-0700B300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50738-AF85-43BE-9AC0-39AD1A6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B3B2-99B5-48C6-B96B-0C0222E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DA2D-BA07-4C1A-B603-F7E177E1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807A-8634-4DED-9AD6-D7B3E328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DCD-13F8-4F9A-965E-ACED07E5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3848-EDBA-40C4-9A5E-F0D17B84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2D82-9F4C-4F69-9CF4-A689F463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BA03-6C37-4802-B2D0-543414E2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D42B-94AB-49BA-BDB8-C34D957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2CEC-030E-4374-A627-04FA454E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F70E-FECA-438A-BA32-50B4DED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584A8-5741-4AD2-BB25-E5005F5A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4BF3-9822-415F-9AC4-1942EDF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D90E-E898-4829-95B5-9CC3D87D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8B2C5-969F-461E-AC72-AF9AAD9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C56-3E6C-4512-BB63-B970794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BDC9-44DE-47AA-834D-2888F2FC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D730-6A6E-41FB-B203-F886B06C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AD97C-2BB3-4A02-9AEB-3CA26E54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D0D-D0D5-41D3-994D-6F32F978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F35-847F-434C-A092-1671235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C972-79A4-460B-9745-CF9B3EF49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8094-B4E5-496E-A157-653317F1F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E0FE-8E1E-479B-AB91-7FBA2D74F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2E51-350E-4D0C-AAC6-6A8E51742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2331-344C-49E5-A86D-4F78E3F04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92C9-334B-4AD9-9424-3866E5A93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9360" y="2050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роект на тему «Профессия моей мам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141720" y="6084720"/>
            <a:ext cx="3479760" cy="16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«Г»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СОШ № 1им. Г.К. Нестерен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пко Матв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Головач Т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1680" y="395280"/>
            <a:ext cx="6858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«Вы знаете, мне по-прежнему вер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если останется жить Зем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ысшим достоинством челов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танут когда-нибудь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на словах, а по русской тради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оторые завтрашней жизни  под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чителем надо будет роди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 только после этого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, даже если захочет, не спряч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него, идущего ранней Моск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танут прохожие оборачи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удто бы на оркестр дух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нем будет мудрость талантливо-дерз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 будет солнце нести на пле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читель-профессия дальне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Главная на Земл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33000" y="1258560"/>
            <a:ext cx="63356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ЦЕЛЬ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вичная профориентация учащихся  начальной шк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звивать познавательные способности учащихся на основе создания максимально разнообразных впечатлений о мире професс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3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Формировать конкретно – наглядные представления о существенных сторонах профе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4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звивать интеллектуальные и творческие возможности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5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Научить гордиться профессиями своих м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6000" y="4067280"/>
            <a:ext cx="61722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я мама, Рыбакова Татьяна Сергеевна , выбрала себе профессию учителя. Ей очень нравится её  профессия. И поэтому, я хочу рассказать вам об этой проф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H:\фото семинар в районе 13_10_2010\преподаватель информатики 20-30_2.jpg"/>
          <p:cNvPicPr/>
          <p:nvPr/>
        </p:nvPicPr>
        <p:blipFill>
          <a:blip r:embed="rId1"/>
          <a:stretch/>
        </p:blipFill>
        <p:spPr>
          <a:xfrm>
            <a:off x="1928880" y="539640"/>
            <a:ext cx="3097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4280" y="1042560"/>
            <a:ext cx="6255000" cy="76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мя учителя – свято.  Для каждого из нас учитель – это частичка нашей души. Учитель – это память о школе, о детстве. Память, которая остается на всю жиз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Учитель с одной стороны древнейшая, а с другой  – самая современная профес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rcRect l="0" t="5845" r="39866" b="0"/>
          <a:stretch/>
        </p:blipFill>
        <p:spPr>
          <a:xfrm>
            <a:off x="-100080" y="5743440"/>
            <a:ext cx="29368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5400" y="4716000"/>
            <a:ext cx="6669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детстве моя мама любила играть в школу. Она рассаживала свои  игрушки на ковровой дорожке и  представляла, что это её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071720" y="1258920"/>
            <a:ext cx="4292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640" y="521964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школе любимым предметом мамы была математика. И это пригодилось ей потом в работ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20640" y="900000"/>
            <a:ext cx="5832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003280"/>
            <a:ext cx="6858000" cy="41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После школы мама пошла учиться в Армавирский  педагогический институт, где она получила профессию учителя математики и информатик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549360" y="803160"/>
            <a:ext cx="5688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4080" y="1331640"/>
            <a:ext cx="61722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ле института мама пришла работать в СОШ №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rcRect l="3216" t="44917" r="3323" b="10169"/>
          <a:stretch/>
        </p:blipFill>
        <p:spPr>
          <a:xfrm>
            <a:off x="434880" y="3419640"/>
            <a:ext cx="5981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33000" y="5724000"/>
            <a:ext cx="6172200" cy="22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ейчас моя мама работает учителем информатики и очень любит свою профессию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H:\фото семинар в районе 13_10_2010\DSC02724.JPG"/>
          <p:cNvPicPr/>
          <p:nvPr/>
        </p:nvPicPr>
        <p:blipFill>
          <a:blip r:embed="rId1"/>
          <a:srcRect l="6787" t="0" r="23995" b="30226"/>
          <a:stretch/>
        </p:blipFill>
        <p:spPr>
          <a:xfrm>
            <a:off x="1052640" y="1403280"/>
            <a:ext cx="5225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8:00Z</dcterms:created>
  <dc:creator>Николаевы</dc:creator>
  <dc:description/>
  <dc:language>en-US</dc:language>
  <cp:lastModifiedBy>Дмитрий Каленюк</cp:lastModifiedBy>
  <dcterms:modified xsi:type="dcterms:W3CDTF">2013-03-30T12:47:53Z</dcterms:modified>
  <cp:revision>14</cp:revision>
  <dc:subject/>
  <dc:title>Проект на тему «Профессия моей мамы»</dc:title>
</cp:coreProperties>
</file>