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341-BC0B-42C6-8B24-A4B35EC5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07F-3693-475F-9EA9-B9B040EA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4A5-3E4C-44C4-BCAB-7EB36F36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177-B864-41BF-A38B-95BA877B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4200-3ED5-4A9E-9234-201FE9E3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4EF6-9C70-42BF-9552-55E95A3B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C828-0BD4-4BCD-99BC-C9E41C51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B181-E054-4D33-9C01-D48FAA4F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9078-54E2-49CE-A0A3-D84782C0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54D9-4594-447C-884D-90625E64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BAD4-4890-48A9-82E2-1C0C6447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FE1-ED16-4DF1-A057-058D96D7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1202-7D7D-4F8D-B7BA-E10469F7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DF3E-8689-408B-8BA6-BE7B7B98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7D65-A1EA-40E3-B110-7EB37504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8BF8-20F4-47AB-A3A4-D99E1E65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EAED-D7B8-4217-868D-3CF95C77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C022-FFD8-47AF-9533-659A38D7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9CF8-B8AE-4765-A311-87AA0548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A93C-D393-4CEF-816E-9E654786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2D96F-DA7B-483B-A5A4-571A1F8F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6869-BC81-4AD8-B8ED-2693752C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85B-4B27-4B6B-A703-02C80FEC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6E607-6CBF-4734-A489-B0D88EC4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0D9B-5CCF-40B5-874F-8D9C8EE0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D652-00FE-4EAD-A35A-EF506B60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08561-6056-486D-B306-4B3A8208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15899-D059-49CD-9B9C-767A344A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6772-9753-40D1-A42E-D5FC4E13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46BA-49C2-49F2-9A66-D2FF9DBE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C592F-F6FA-460C-B530-7E696C0B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13338-721C-40BC-9AA9-0A9C04C2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1E31-CCBA-459E-8781-943FCFFA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E39-72FC-4BB8-9C65-B6BB48D1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F781D-3C50-4D5C-8973-02E95651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B2088-6EC6-4D7A-B8A4-2D5CEA25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9FA5F-E4F5-4673-B9A5-6F1236BB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E5B34-FC7B-4EE8-8D5B-D5BBBB7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C853-D617-4A6B-A6FA-2088541F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9CAC6-A9F6-4772-8A1C-A2B5D57F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27AB5-5760-49F8-9169-DF8FE189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9AE4-C2EC-49D2-B79E-D01089FE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E754-D167-469E-984D-78560C62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4BD4C-5476-4BFE-B444-9CEE7753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AEA-6F6C-4C0E-851A-80A46519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6FB42-5985-4701-93F3-7D168554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9D713-5C69-48FC-AD89-42463B25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A233-DE31-4DC6-91F9-F92BDDBD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D3D28-ADB3-44AD-9779-C280BC7F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8C374-B653-4DFF-A90B-1B6B83F7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B5771-AC66-4B98-A3F2-56DFD078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EB3B2-6ED1-4FBC-B01C-A2E07D39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575BA-2AC2-443C-9B13-26F8CBD2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7B4B9-FE28-4CA5-A4F9-343EEAF2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82BA-E754-454C-98A5-CBCB58B1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61B-5285-43D8-BFAC-521EF00F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450C9-6F07-4990-8A6B-89B14BA1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C80E9-0DF8-483B-BCFD-1199A87F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A770-26C5-4CB3-B940-2849D60D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0E5A2-490B-46B9-8D15-95985946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22245-BC24-4397-89A6-740EE50F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E7A34-4126-47D8-8A2F-67BBDB86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C4C31-6F72-48BC-B3A5-DE8253E7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88D6D-9A05-403E-9D2C-AC18799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30F24-E487-4125-AAD7-879C618D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48A47-9AA0-4A66-90CF-44F0A823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287-8891-4474-8DCE-11D0EA65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A1EC3-C0FC-4C52-BC0E-ABE4A35F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50FA9-421B-4A74-83F3-FA7C4D63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EBD61-E628-4D94-912A-5EC8383A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0C7-D948-4EBB-9CE9-8FBC284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2EA-4EF3-40BD-99F8-93E5749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8BC1-17D0-4163-B370-020F7A7AD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59DD-84CA-41D1-9808-06BF54A1F2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150B-8EE6-4472-9D41-D69D6775C7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143F-B9F1-49CC-8630-D156FE674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C5DA-90EF-4B1E-8336-22FFD1BE8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Табличка 7"/>
          <p:cNvSpPr/>
          <p:nvPr/>
        </p:nvSpPr>
        <p:spPr>
          <a:xfrm>
            <a:off x="135000" y="252360"/>
            <a:ext cx="6535800" cy="8639280"/>
          </a:xfrm>
          <a:custGeom>
            <a:avLst/>
            <a:gdLst>
              <a:gd name="textAreaLeft" fmla="*/ 770040 w 6535800"/>
              <a:gd name="textAreaRight" fmla="*/ 5765760 w 6535800"/>
              <a:gd name="textAreaTop" fmla="*/ 770040 h 8639280"/>
              <a:gd name="textAreaBottom" fmla="*/ 7869240 h 8639280"/>
            </a:gdLst>
            <a:ahLst/>
            <a:rect l="textAreaLeft" t="textAreaTop" r="textAreaRight" b="textAreaBottom"/>
            <a:pathLst>
              <a:path w="21600" h="28551">
                <a:moveTo>
                  <a:pt x="3600" y="0"/>
                </a:moveTo>
                <a:arcTo wR="3600" hR="3600" stAng="0" swAng="5400000"/>
                <a:lnTo>
                  <a:pt x="0" y="24951"/>
                </a:lnTo>
                <a:arcTo wR="3600" hR="3600" stAng="16200000" swAng="5400000"/>
                <a:lnTo>
                  <a:pt x="18000" y="28551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2700000"/>
          </a:gradFill>
          <a:ln w="38160">
            <a:solidFill>
              <a:srgbClr val="c00000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8" descr="clip_image001.jpg"/>
          <p:cNvPicPr/>
          <p:nvPr/>
        </p:nvPicPr>
        <p:blipFill>
          <a:blip r:embed="rId2"/>
          <a:stretch/>
        </p:blipFill>
        <p:spPr>
          <a:xfrm>
            <a:off x="81000" y="6877080"/>
            <a:ext cx="120024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9" descr="x_68f70433.jpg"/>
          <p:cNvPicPr/>
          <p:nvPr/>
        </p:nvPicPr>
        <p:blipFill>
          <a:blip r:embed="rId3"/>
          <a:stretch/>
        </p:blipFill>
        <p:spPr>
          <a:xfrm>
            <a:off x="5589720" y="7056360"/>
            <a:ext cx="1128600" cy="19479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7560" y="889164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11" descr="kalendar-1sentyabrya.jpg"/>
          <p:cNvPicPr/>
          <p:nvPr/>
        </p:nvPicPr>
        <p:blipFill>
          <a:blip r:embed="rId4"/>
          <a:stretch/>
        </p:blipFill>
        <p:spPr>
          <a:xfrm>
            <a:off x="5697360" y="154080"/>
            <a:ext cx="1227240" cy="21128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2" descr="s12518111.jpg"/>
          <p:cNvPicPr/>
          <p:nvPr/>
        </p:nvPicPr>
        <p:blipFill>
          <a:blip r:embed="rId5"/>
          <a:stretch/>
        </p:blipFill>
        <p:spPr>
          <a:xfrm rot="19329600">
            <a:off x="129960" y="-25560"/>
            <a:ext cx="1023840" cy="24717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862B-36A3-46A9-90E7-0F25B46A08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9360" y="2050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Проект на тему «Профессия моей мам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141720" y="6084720"/>
            <a:ext cx="3479760" cy="16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уче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«Г»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СОШ № 1им. Г.К. Нестеренк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пко Матв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Головач Т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3"/>
          <p:cNvSpPr/>
          <p:nvPr/>
        </p:nvSpPr>
        <p:spPr>
          <a:xfrm>
            <a:off x="31680" y="395280"/>
            <a:ext cx="6858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«Вы знаете, мне по-прежнему вер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если останется жить Зем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ысшим достоинством челове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танут когда-нибудь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е на словах, а по русской тради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Которые завтрашней жизни  под с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чителем надо будет родить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 только после этого с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н, даже если захочет, не спряч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На него, идущего ранней Москв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танут прохожие оборачив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Будто бы на оркестр дух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нем будет мудрость талантливо-дерз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Он будет солнце нести на плеч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Учитель-профессия дальнег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Главная на Земл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33000" y="1258560"/>
            <a:ext cx="63356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ЦЕЛЬ ПРОЕК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1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Первичная профориентация учащихся  начальной шко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азвивать познавательные способности учащихся на основе создания максимально разнообразных впечатлений о мире професс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3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Формировать конкретно – наглядные представления о существенных сторонах профе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4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азвивать интеллектуальные и творческие возможности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5.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Научить гордиться профессиями своих м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06000" y="4067280"/>
            <a:ext cx="61722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оя мама, Рыбакова Татьяна Сергеевна , выбрала себе профессию учителя. Ей очень нравится её  профессия. И поэтому, я хочу рассказать вам об этой профе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" descr="H:\фото семинар в районе 13_10_2010\преподаватель информатики 20-30_2.jpg"/>
          <p:cNvPicPr/>
          <p:nvPr/>
        </p:nvPicPr>
        <p:blipFill>
          <a:blip r:embed="rId1"/>
          <a:stretch/>
        </p:blipFill>
        <p:spPr>
          <a:xfrm>
            <a:off x="1928880" y="539640"/>
            <a:ext cx="3097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04280" y="1042560"/>
            <a:ext cx="6255000" cy="76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Имя учителя – свято.  Для каждого из нас учитель – это частичка нашей души. Учитель – это память о школе, о детстве. Память, которая остается на всю жиз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Учитель с одной стороны древнейшая, а с другой  – самая современная професс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1" descr=""/>
          <p:cNvPicPr/>
          <p:nvPr/>
        </p:nvPicPr>
        <p:blipFill>
          <a:blip r:embed="rId1"/>
          <a:srcRect l="0" t="5845" r="39866" b="0"/>
          <a:stretch/>
        </p:blipFill>
        <p:spPr>
          <a:xfrm>
            <a:off x="-100080" y="5743440"/>
            <a:ext cx="29368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5400" y="4716000"/>
            <a:ext cx="66690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детстве моя мама любила играть в школу. Она рассаживала свои  игрушки на ковровой дорожке и  представляла, что это её уче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071720" y="1258920"/>
            <a:ext cx="42922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640" y="5219640"/>
            <a:ext cx="5832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школе любимым предметом мамы была математика. И это пригодилось ей потом в работ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620640" y="900000"/>
            <a:ext cx="5832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5003280"/>
            <a:ext cx="6858000" cy="41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После школы мама пошла учиться в Армавирский  педагогический институт, где она получила профессию учителя математики и информатик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549360" y="803160"/>
            <a:ext cx="5688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4080" y="1331640"/>
            <a:ext cx="617220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ле института мама пришла работать в СОШ №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rcRect l="3216" t="44917" r="3323" b="10169"/>
          <a:stretch/>
        </p:blipFill>
        <p:spPr>
          <a:xfrm>
            <a:off x="434880" y="3419640"/>
            <a:ext cx="5981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33000" y="5724000"/>
            <a:ext cx="6172200" cy="22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Сейчас моя мама работает учителем информатики и очень любит свою профессию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4" descr="H:\фото семинар в районе 13_10_2010\DSC02724.JPG"/>
          <p:cNvPicPr/>
          <p:nvPr/>
        </p:nvPicPr>
        <p:blipFill>
          <a:blip r:embed="rId1"/>
          <a:srcRect l="6787" t="0" r="23995" b="30226"/>
          <a:stretch/>
        </p:blipFill>
        <p:spPr>
          <a:xfrm>
            <a:off x="1052640" y="1403280"/>
            <a:ext cx="52257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8:00Z</dcterms:created>
  <dc:creator>Николаевы</dc:creator>
  <dc:description/>
  <dc:language>en-US</dc:language>
  <cp:lastModifiedBy>Дмитрий Каленюк</cp:lastModifiedBy>
  <dcterms:modified xsi:type="dcterms:W3CDTF">2013-03-30T12:47:53Z</dcterms:modified>
  <cp:revision>14</cp:revision>
  <dc:subject/>
  <dc:title>Проект на тему «Профессия моей мамы»</dc:title>
</cp:coreProperties>
</file>