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3C249-3DD1-4538-95C3-9B5C83C20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92F2F-9FCA-4D8B-B21E-A58D3C7C1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746AA-7F08-43C8-A1E6-99B19CE16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948F1-947D-4141-A0E3-8C6C97774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EE5A4-2751-4B66-AB02-13D49EB90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77C35-FD79-468A-A615-E3F29BE78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B7CF6-4D02-401D-9383-CC3E4F35E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DBAF2-2D60-4E06-9618-2642C7847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93BC3-A773-4B5E-84C0-522858A4B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8B07D-2B6D-4325-A296-F3907C1E9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A4968-862E-4761-A8CD-6903C2B30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A0851-5C4C-4724-99A2-B900E57D3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8686C-2A66-4CD8-9970-59A348A83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29011-B7AB-4312-BFAA-52ACE1193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F45D4-F573-4C5D-9271-AB3099622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A99B8-7AA6-40C1-8C74-295AF4D1F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51622-8549-4FE3-97F1-FCD7FE95E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E07DA-B1A8-4A56-842D-94E562676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D998E-404D-4DBC-918C-361F00A8A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8877A-4047-464E-B35C-4408D7388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52AC0-9FB3-43F3-AF09-F3CC5C3BE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9BEB4-21F9-407E-BC52-B842EB999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C115D-A697-4C64-AD57-3743BCC91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34AC5-FC4B-4767-9E7C-C2522F814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CA6B0-FFF8-4376-AE20-004CE5DAC6C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B5091-5862-48E7-81E4-59EDE6BFE34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Развитие вычислительной деятельности младших школьников в рамках УМК «Гармония»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0574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Фадеева Инна Викторовна, учитель начальных классо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БУ школа №21 г.о. Тольят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Вывод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Успешность обучения вычислениям младших школьников определяется активным включением в процесс усвоения мыслительных операци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Мыслительные операции в процессе усвоения содержания вычислительной деятельности выступают как способы организации этой деятельности, как способы познания понятий и общих способов вычислений, как способы включения в процесс познания различных психических функций, характеризующих личность в процессе деятельност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Содержание вычислительной деятельности составляет знание об арифметических действиях, их свойствах и взаимосвязях, а также вычислительные умения и навыки, которые находятся в сложных взаимоотношениях и взаимосвязя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Решение учебных задач осуществляется через виды вычислительных заданий продуктивного характера, в основе выполнения которых лежат приемы сравнения, выбора, конструирования и преобраз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Приложения.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 клас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) Разгадай правило, по которому составлен первый столбик выражений. Запиши по этому же правилу выражения в других столбиках и найди их знач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 + 2 + 4                             80 + 3 + 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2 + 4                                   ... + ... =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4 + 2                                  ... + ... = ..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) а) Разгадай правило, по которому составлены выражения в каждой паре, и найди их знач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8 – 3 = ...                    57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8 – 30 = ..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57-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б) Составь пары выражений по тому же правилу и вычисли и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9 – 6 = ...                       77-5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.. – ... = ...                      ... – ... =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 клас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) Разгадай закономерность и продолжи ряды чисе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а) 99, 78, 57, ..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б) 12, 24, 36,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) 604, 603, 602,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) Вставь пропущенные числа, чтобы получились вер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авен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78 – 300+…+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) Разгадай правило, по которому записаны выражения в первом столбике. Составь по этому же правилу выражения в других столбиках и найди их знач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 – 6                      8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0 – 60                   ……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00 – 60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 клас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) Разгадай правило, по которому составлены выражения. Запиши ещё два выражения по тому же правилу и вычисли значение всех выраже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10-1)-2, (9-2)-4, (8-3)-6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) Вставь пропущенные числа, чтобы получились верные равен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6:7+16=8*…                    (80-45):5=…: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) Поставь скобки так, чтобы равенства были верны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0+70*4=110*4                  150+60*3=60+150*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 клас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) Не выполняя умножения "в столбик", соедини каждое выражение с его значени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82 х 556          339976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43 х 231          26799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64 х 934          1716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) Вставь пропущенные единицы длины. Запиши два различных вариан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3319…=53…319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8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Спасибо за внимание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Введение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армония – в переводе с греческого языка: связь, стройность, соразмерность. В истории эстетики рассматривалась как существенная характеристика прекрасно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Основные задачи УМК «Гармония»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развивает рационально - логическое мышлени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формирует приёмы умственной деятельности: анализ, синтез, обобщение и т. д.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побуждает учащихся к творческому поиску вариантов решения учебных задач и способов действ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учит добывать знания из разных источников информации: энциклопедий, справочников, Интернета, собственных наблюдени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учит самооценке своих возможностей, развивает интерес к собственному развит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могая ученику, учитель должен оказывать ему внутреннюю помощь, т.е. ограничиться такими подсказками, которые могли бы рождаться в сознании самого ученика, и избегать внешней помощи, т.е. давать куски решения, которые не связаны с сознанием учени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. Пой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404640"/>
            <a:ext cx="800244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Цель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844640"/>
            <a:ext cx="82296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нализ системы упражнений для развития вычислительной деятельности младших школьников в рамках УМК «Гармония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Задачи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Проанализировать различные методические подходы к обучению младших школьников вычислениям на различных этапах развития начального математического образования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Выявить и разработать виды вычислительных упражнений, обеспечивающих продуктивную вычислительную деятельност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333360"/>
            <a:ext cx="8229600" cy="57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и один наставник не должен забывать, что его главнейшая обязанность состоит в приучении воспитанников к умственному труду и что эта обязанность более важна,нежели передача самого предме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. Д. Ушинск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ычислительный навык - это высокая степень овладения вычислительными приёмам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лноценный вычислительный навык характеризуется: правильностью, осознанностью, рациональностью, обобщённостью, автоматизмом и прочностью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Проблема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ожно ли организовать вычислительную деятельность младших школьников так, чтобы она способствовала их умственному развитию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6T18:54:20Z</dcterms:created>
  <dc:creator>Инна</dc:creator>
  <dc:description/>
  <dc:language>en-US</dc:language>
  <cp:lastModifiedBy>Инна</cp:lastModifiedBy>
  <dcterms:modified xsi:type="dcterms:W3CDTF">2013-03-31T08:05:47Z</dcterms:modified>
  <cp:revision>25</cp:revision>
  <dc:subject/>
  <dc:title>Развитие вычислительной деятельности младших школьников в рамках УМК «Гармония».</dc:title>
</cp:coreProperties>
</file>