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6EFF-3A89-4CB2-9FE0-E8227033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0545-74EC-449C-B6B4-F47DB52E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A9CD-436F-4111-B4D2-DC008ECF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BBD4-DCC1-4EB8-BF52-C485439D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B021-6B7C-45FC-8191-B962EC6F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59BB-BE0E-4049-A81A-6114B633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3DD9-AA68-432D-A568-CB6A3981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3CED-92D3-44A5-92F7-8192A05B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AE27-846E-458C-936D-47AC0E9D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619A-5DAD-4495-9D25-3CD98740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EBE1-8E7A-42DF-85BA-75915B15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9FA1-D97E-4D1C-8AF0-14670A77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C7AF-4BAA-4970-94A3-529C64CE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15B7-DB83-462B-8FA1-218F6801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2A26-E29B-4E9B-8CF5-3D5961D4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EBAF-1F6E-4412-9C0D-43BCC6A1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A9D7-315F-4DE4-9D35-8F77FF01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D7D-6656-46A9-A321-334D7B72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205-E2E9-4436-9BC5-69FEAC65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0177-BA44-4FF8-8752-EE6707E9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5932-E0B5-4485-8949-5134E1AC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3D12-2FB6-4DAE-BBB3-3595A67A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7584-5EBA-444A-A255-03F7EFF9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E563-1B2F-4357-AA89-CF264F7B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23CC-481B-4AE4-A60A-0D4FB335A9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2458-6CC3-4AEF-B475-46F44E58BA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азвитие вычислительной деятельности младших школьников в рамках УМК «Гармония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деева Инна Викторовна, 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БУ школа №21 г.о. Тольят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Вывод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Успешность обучения вычислениям младших школьников определяется активным включением в процесс усвоения мыслительных опера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Мыслительные операции в процессе усвоения содержания вычислительной деятельности выступают как способы организации этой деятельности, как способы познания понятий и общих способов вычислений, как способы включения в процесс познания различных психических функций, характеризующих личность в процессе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Содержание вычислительной деятельности составляет знание об арифметических действиях, их свойствах и взаимосвязях, а также вычислительные умения и навыки, которые находятся в сложных взаимоотношениях и взаимосвяз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Решение учебных задач осуществляется через виды вычислительных заданий продуктивного характера, в основе выполнения которых лежат приемы сравнения, выбора, конструирования и пре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риложения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Разгадай правило, по которому составлен первый столбик выражений. Запиши по этому же правилу выражения в других столбиках и найди их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+ 2 + 4                             80 + 3 +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+ 4                                   ... + ...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4 + 2                                  ... + ... = ..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а) Разгадай правило, по которому составлены выражения в каждой паре, и найди их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8 – 3 = ...                    5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8 – 30 = ..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57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Составь пары выражений по тому же правилу и вычисли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9 – 6 = ...                       77-5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– ... = ...                      ... – ...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Разгадай закономерность и продолжи ряды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99, 78, 57,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12, 24, 36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604, 603, 602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Вставь пропущенные числа, чтобы получились ве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ве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8 – 300+…+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Разгадай правило, по которому записаны выражения в первом столбике. Составь по этому же правилу выражения в других столбиках и найди их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– 6                      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 – 60                  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0 – 6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Разгадай правило, по которому составлены выражения. Запиши ещё два выражения по тому же правилу и вычисли значение всех выр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-1)-2, (9-2)-4, (8-3)-6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Вставь пропущенные числа, чтобы получились верные раве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:7+16=8*…                    (80-45):5=…: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Поставь скобки так, чтобы равенства были вер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+70*4=110*4                  150+60*3=60+150*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Не выполняя умножения "в столбик", соедини каждое выражение с его знач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2 х 556          339976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43 х 231          267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4 х 934          1716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Вставь пропущенные единицы длины. Запиши два различных вариа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319…=53…319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Введение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армония – в переводе с греческого языка: связь, стройность, соразмерность. В истории эстетики рассматривалась как существенная характеристика прекрас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Основные задачи УМК «Гармония»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развивает рационально - логическое мыш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формирует приёмы умственной деятельности: анализ, синтез, обобщение и т. д.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буждает учащихся к творческому поиску вариантов решения учебных задач и способов дей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учит добывать знания из разных источников информации: энциклопедий, справочников, Интернета, собственных наблюд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учит самооценке своих возможностей, развивает интерес к собственному развит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огая ученику, учитель должен оказывать ему внутреннюю помощь, т.е. ограничиться такими подсказками, которые могли бы рождаться в сознании самого ученика, и избегать внешней помощи, т.е. давать куски решения, которые не связаны с сознанием уче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 Пой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002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 системы упражнений для развития вычислительной деятельности младших школьников в рамках УМК «Гармон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Проанализировать различные методические подходы к обучению младших школьников вычислениям на различных этапах развития начального математического образова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ыявить и разработать виды вычислительных упражнений, обеспечивающих продуктивную вычислительную деятель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 один наставник не должен забывать, что его главнейшая обязанность состоит в приучении воспитанников к умственному труду и что эта обязанность более важна,нежели передача самого предм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. Д. Уш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числительный навык - это высокая степень овладения вычислительными приём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ноценный вычислительный навык характеризуется: правильностью, осознанностью, рациональностью, обобщённостью, автоматизмом и прочност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Проблем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но ли организовать вычислительную деятельность младших школьников так, чтобы она способствовала их умственному развити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8:54:20Z</dcterms:created>
  <dc:creator>Инна</dc:creator>
  <dc:description/>
  <dc:language>en-US</dc:language>
  <cp:lastModifiedBy>Инна</cp:lastModifiedBy>
  <dcterms:modified xsi:type="dcterms:W3CDTF">2013-03-31T08:05:47Z</dcterms:modified>
  <cp:revision>25</cp:revision>
  <dc:subject/>
  <dc:title>Развитие вычислительной деятельности младших школьников в рамках УМК «Гармония».</dc:title>
</cp:coreProperties>
</file>