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FDA-A43D-492B-A8E9-90400244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28D-39E0-434F-B4B1-36367A31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CD5-4D33-46F8-A038-B92CBDA8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294-80C5-4549-828F-75BDAEAB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DC5-28BE-4008-B9DD-DEBAA2CB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193-EB6D-4276-86A4-E3ED8A8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E48-2DAC-4642-AE06-DB08ABF1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166-3C26-4DA3-B0CA-BCA96DD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031-EEE7-4D9C-8DD1-FB15A12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9A4-6E58-4EDC-A517-767D6FB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EA0-52CB-4E92-B597-F09208D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F7B-201F-41B6-94A1-DD2E26E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367-5DEA-4531-8649-B618119C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476280"/>
            <a:ext cx="698508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ff"/>
                </a:solidFill>
                <a:latin typeface="Arial"/>
              </a:rPr>
              <a:t>Птицы зим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Окружающий мир 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33336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клё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40904" t="34301" r="40387" b="38553"/>
          <a:stretch/>
        </p:blipFill>
        <p:spPr>
          <a:xfrm>
            <a:off x="1258920" y="981000"/>
            <a:ext cx="7058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32000" y="333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Пополз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5462" t="17790" r="24874" b="233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5462" t="17771" r="24936" b="25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5462" t="17785" r="24936" b="2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7388" t="17771" r="24936" b="25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5462" t="17776" r="24936" b="231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5462" t="17805" r="24936" b="231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3157" t="12677" r="9552" b="206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1234" t="12648" r="9552" b="206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349360"/>
            <a:ext cx="8353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Носит серенький жиле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А у крыльев черный цв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3157" t="12736" r="9552" b="207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3975" t="7520" r="11475" b="20615"/>
          <a:stretch/>
        </p:blipFill>
        <p:spPr>
          <a:xfrm>
            <a:off x="324000" y="1557360"/>
            <a:ext cx="8351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052640"/>
            <a:ext cx="75614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В серой шубке мехов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И в морозы он гер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Скачет, на лету резви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Не орел, а все же пт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1989" t="2318" r="9490" b="18051"/>
          <a:stretch/>
        </p:blipFill>
        <p:spPr>
          <a:xfrm>
            <a:off x="1042920" y="1628640"/>
            <a:ext cx="68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765000"/>
            <a:ext cx="8496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Какая это птиц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Спинкой пестрова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Животиком желтова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Черненькая шап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И полоска шарф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62064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9670" t="8873" r="5706" b="14262"/>
          <a:stretch/>
        </p:blipFill>
        <p:spPr>
          <a:xfrm>
            <a:off x="826920" y="155736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00080"/>
            <a:ext cx="69840" cy="10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880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476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9274" t="-79" r="19263" b="10586"/>
          <a:stretch/>
        </p:blipFill>
        <p:spPr>
          <a:xfrm>
            <a:off x="1403280" y="907920"/>
            <a:ext cx="61214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1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3:04:31Z</dcterms:created>
  <dc:creator>Настя</dc:creator>
  <dc:description/>
  <dc:language>en-US</dc:language>
  <cp:lastModifiedBy>Seminar</cp:lastModifiedBy>
  <dcterms:modified xsi:type="dcterms:W3CDTF">2006-05-27T05:32:14Z</dcterms:modified>
  <cp:revision>24</cp:revision>
  <dc:subject/>
  <dc:title>Слайд 1</dc:title>
</cp:coreProperties>
</file>