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A2EAD-3348-46F8-A5A3-97DE5BBB0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D427C-04F9-43F3-BCAC-18941957B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763EF-FAEE-4964-BEC0-A5191142A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9A164-9C77-446D-B3BB-28792986A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9F597-01BB-4B74-9D90-4C0AC7278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1933F-220F-4CBA-AED1-978B08519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99C12-3FF7-48C3-B35A-C3B5EF8AC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6000D-7852-4DB7-BA8D-4F31B29E5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FC449-C6DE-4987-972A-2D4AE9CFD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1716A-A785-4E21-BD77-92C09FA45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9D32D-F561-4233-B610-B3242F02E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7E948-CF6F-472C-A25E-E335C72EE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3347B-8680-4C38-B613-1F252E3EB0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47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042920" y="476280"/>
            <a:ext cx="6985080" cy="156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99ccff"/>
                </a:solidFill>
                <a:latin typeface="Arial"/>
              </a:rPr>
              <a:t>Птицы зимо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ccff"/>
                </a:solidFill>
                <a:latin typeface="Arial"/>
              </a:rPr>
              <a:t>Окружающий мир 2 клас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9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476360" y="333360"/>
            <a:ext cx="5543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Arial"/>
              </a:rPr>
              <a:t>клёс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rcRect l="40904" t="34301" r="40387" b="38553"/>
          <a:stretch/>
        </p:blipFill>
        <p:spPr>
          <a:xfrm>
            <a:off x="1258920" y="981000"/>
            <a:ext cx="7058160" cy="558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332000" y="333360"/>
            <a:ext cx="626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Comic Sans MS"/>
              </a:rPr>
              <a:t>Поползен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187280" y="1341360"/>
            <a:ext cx="669780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rcRect l="15462" t="17790" r="24874" b="2336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rcRect l="15462" t="17771" r="24936" b="2574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rcRect l="15462" t="17785" r="24936" b="2590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rcRect l="17388" t="17771" r="24936" b="2574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rcRect l="15462" t="17776" r="24936" b="2318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rcRect l="15462" t="17805" r="24936" b="2318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rcRect l="23157" t="12677" r="9552" b="2061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rcRect l="21234" t="12648" r="9552" b="2062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50920" y="2349360"/>
            <a:ext cx="835344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96600"/>
                </a:solidFill>
                <a:latin typeface="Comic Sans MS"/>
              </a:rPr>
              <a:t>Носит серенький жилет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96600"/>
                </a:solidFill>
                <a:latin typeface="Comic Sans MS"/>
              </a:rPr>
              <a:t>А у крыльев черный цвет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rcRect l="23157" t="12736" r="9552" b="2078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Arial"/>
              </a:rPr>
              <a:t>Воро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rcRect l="3975" t="7520" r="11475" b="20615"/>
          <a:stretch/>
        </p:blipFill>
        <p:spPr>
          <a:xfrm>
            <a:off x="324000" y="1557360"/>
            <a:ext cx="8351640" cy="49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55640" y="1052640"/>
            <a:ext cx="7561440" cy="48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96600"/>
                </a:solidFill>
                <a:latin typeface="Comic Sans MS"/>
              </a:rPr>
              <a:t>В серой шубке мехово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96600"/>
                </a:solidFill>
                <a:latin typeface="Comic Sans MS"/>
              </a:rPr>
              <a:t>И в морозы он герой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96600"/>
                </a:solidFill>
                <a:latin typeface="Comic Sans MS"/>
              </a:rPr>
              <a:t>Скачет, на лету резвится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96600"/>
                </a:solidFill>
                <a:latin typeface="Comic Sans MS"/>
              </a:rPr>
              <a:t>Не орел, а все же птица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268360" y="189000"/>
            <a:ext cx="460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Arial"/>
              </a:rPr>
              <a:t>Воробе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rcRect l="1989" t="2318" r="9490" b="18051"/>
          <a:stretch/>
        </p:blipFill>
        <p:spPr>
          <a:xfrm>
            <a:off x="1042920" y="1628640"/>
            <a:ext cx="684216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8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765000"/>
            <a:ext cx="8496000" cy="52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96600"/>
                </a:solidFill>
                <a:latin typeface="Comic Sans MS"/>
              </a:rPr>
              <a:t>Какая это птица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96600"/>
                </a:solidFill>
                <a:latin typeface="Comic Sans MS"/>
              </a:rPr>
              <a:t>Спинкой пестровата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96600"/>
                </a:solidFill>
                <a:latin typeface="Comic Sans MS"/>
              </a:rPr>
              <a:t>Животиком желтовата,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96600"/>
                </a:solidFill>
                <a:latin typeface="Comic Sans MS"/>
              </a:rPr>
              <a:t>Черненькая шапочк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96600"/>
                </a:solidFill>
                <a:latin typeface="Comic Sans MS"/>
              </a:rPr>
              <a:t>И полоска шарфика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692360" y="620640"/>
            <a:ext cx="590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Arial"/>
              </a:rPr>
              <a:t>Синиц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rcRect l="9670" t="8873" r="5706" b="14262"/>
          <a:stretch/>
        </p:blipFill>
        <p:spPr>
          <a:xfrm>
            <a:off x="826920" y="1557360"/>
            <a:ext cx="756144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-100080"/>
            <a:ext cx="69840" cy="100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189000"/>
            <a:ext cx="882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Comic Sans MS"/>
              </a:rPr>
              <a:t>Снегир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619280" y="1628640"/>
            <a:ext cx="5688000" cy="411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11280" y="476280"/>
            <a:ext cx="698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19274" t="-79" r="19263" b="10586"/>
          <a:stretch/>
        </p:blipFill>
        <p:spPr>
          <a:xfrm>
            <a:off x="1403280" y="907920"/>
            <a:ext cx="6121440" cy="56898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116000" y="189000"/>
            <a:ext cx="619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Arial"/>
              </a:rPr>
              <a:t>Дяте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7T13:04:31Z</dcterms:created>
  <dc:creator>Настя</dc:creator>
  <dc:description/>
  <dc:language>en-US</dc:language>
  <cp:lastModifiedBy>Seminar</cp:lastModifiedBy>
  <dcterms:modified xsi:type="dcterms:W3CDTF">2006-05-27T05:32:14Z</dcterms:modified>
  <cp:revision>24</cp:revision>
  <dc:subject/>
  <dc:title>Слайд 1</dc:title>
</cp:coreProperties>
</file>