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995-BA88-4C53-A6C8-89196BDA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84D-AAF7-4829-A2C2-F1343641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013-88A7-4819-BF70-F2B55736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CE1-8AB4-443C-AECA-1B35852A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DF01-7C30-4CBA-A8ED-3426770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DC589-429C-42FB-9E5C-A0BE8EBB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D76BC-B61E-4161-9FB2-F348527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AA531-7A4B-4D72-8E1D-FD59568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B2BD5-2492-4FC0-8CAD-EA77D8ED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09204-1E90-49D1-81E8-3CE1CAE0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4BADB-CC2C-4EE8-A0E2-C84259BC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164-EB8D-46BE-8F40-98439495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E04F7-5680-40B2-8F5B-2DE10E0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B6907-E688-4054-8BF4-C166996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33398-A647-4F63-94A2-5D110900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6F99B-FF29-4637-9BF5-BCAB591D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59A8B-F8F0-4AF7-B8F0-B7634DFA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CCAF-21EC-407F-8DAB-30947A8D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C730-2925-45CC-AEB4-5400D506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2C89-62B1-46EB-9858-B6B13A50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E62F-7571-412E-A9A4-17A893CA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9784-CAB6-44B6-BE55-377A7BE9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329-DB01-4D75-B3AF-35C3175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2DB0-C6A4-452D-A056-229C01B1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EBF5-6118-4C3D-AA3D-BB3B2E8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1616-2ED5-49BD-85AC-77CFCEB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22A9-F8D7-4D10-9915-7C677ECA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2821-A220-476B-B48D-4DB60009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8958-3A9B-446F-8A88-1FD7F62C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76C0-62F4-4423-ABAC-BDC970DA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86B0B-43BE-4B23-8F8E-95D8BA58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840CA-8AD2-49B0-953D-BB937B4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2A02E-6F4A-4C18-8E2E-88EB29BA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DA3-0B5B-4554-A04D-CE5A0F9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8429B-E48B-47FC-A6C9-BA966A4B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14927-1E53-45BA-9B14-2CF15E0A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BEA3C-C506-417D-A57F-51D8B20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7D4E2-A72B-486B-8A51-52F75D8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F5006-19F2-4CFB-BBBF-B30E899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70B985-8723-4EA8-95CB-6FF51904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B3FE3-D38E-4751-A80B-AD7C2E40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04502-E498-4FA0-AE04-76324C35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76EF8-D3B5-4A95-8495-C3F7D7BA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0B402-2C34-4365-BC66-BAB4612B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242-C236-4441-91AB-44417D1C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0896C-BC37-4A85-BC79-77847D7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78672-074E-4D8F-AF42-11CC1C71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2644D-E69E-48A0-9616-30C9140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793EB-D4CF-45CE-AC24-93731AA7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35C87-468E-481C-90A7-C737704A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0ACFA-EC58-48F2-B59D-5FAA7FCC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6568D-3275-4212-B19E-BA27DF80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7DF4C-5109-4381-A811-E446388D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471A7-7B88-453A-9127-9E501628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5F4BE-02D2-4617-B35A-CD4C554D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29E-2CE1-4DE9-AAD1-5059EDE5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42832-443B-486D-80EC-E3ED9B8D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2B870-F5E6-4871-A1B3-B83B202E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DCE2E-2CB7-493B-8C93-D6DAD29D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E2056-7B97-4FF8-BD7D-43978A82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205D2-489A-43B1-ACD6-C154F91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6761D-00B9-4DBA-8A51-FDBFE5A0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3E73C-973E-430D-ACF3-C2BCDDBA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BD94C-659B-4B4F-B38D-8D4DDFB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16F03-E4F1-4531-8954-A519B6D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DD452-8D94-4824-9A41-85EA7DA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D09-F122-47A5-8A87-6A446E7F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8BBD7-CE68-4003-A871-1D1C369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95735-7C11-4FBF-B640-E5D62E2F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828A17-4CCA-478F-9695-B3E17025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3D2-6880-46B6-9F7C-4AA95ED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1A2-CBB4-431D-95A5-05C79ECC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9D4D-A02B-4CEB-AB03-7836D073511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56C1-88A4-45D0-942C-78E84E25008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DCD4-0DE5-4303-8807-AC9AB3E3A0A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6C9E-76AF-46D8-8DCB-82202F1A2EE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F2BC-FAFF-42E6-8CF8-FA9D1958909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64E-8E4E-457D-B84F-EFBABD1144F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7;_&#1094;&#1072;&#1088;&#1089;&#1090;&#1074;&#1086;_(&#1044;&#1088;&#1077;&#1074;&#1085;&#1080;&#1081;_&#1045;&#1075;&#1080;&#1087;&#1077;&#1090;)" TargetMode="External"/><Relationship Id="rId2" Type="http://schemas.openxmlformats.org/officeDocument/2006/relationships/hyperlink" Target="http://ru.wikipedia.org/wiki/&#1057;&#1088;&#1077;&#1076;&#1085;&#1077;&#1077;_&#1094;&#1072;&#1088;&#1089;&#1090;&#1074;&#1086;_(&#1044;&#1088;&#1077;&#1074;&#1085;&#1080;&#1081;_&#1045;&#1075;&#1080;&#1087;&#1077;&#1090;)" TargetMode="External"/><Relationship Id="rId3" Type="http://schemas.openxmlformats.org/officeDocument/2006/relationships/hyperlink" Target="http://ru.wikipedia.org/wiki/&#1053;&#1086;&#1074;&#1086;&#1077;_&#1094;&#1072;&#1088;&#1089;&#1090;&#1074;&#1086;" TargetMode="External"/><Relationship Id="rId4" Type="http://schemas.openxmlformats.org/officeDocument/2006/relationships/hyperlink" Target="http://ru.wikipedia.org/wiki/&#1055;&#1086;&#1079;&#1076;&#1085;&#1077;&#1077;_&#1094;&#1072;&#1088;&#1089;&#1090;&#1074;&#1086;_(&#1044;&#1088;&#1077;&#1074;&#1085;&#1080;&#1081;_&#1045;&#1075;&#1080;&#1087;&#1077;&#1090;)" TargetMode="External"/><Relationship Id="rId5" Type="http://schemas.openxmlformats.org/officeDocument/2006/relationships/hyperlink" Target="http://ru.wikipedia.org/wiki/&#1069;&#1083;&#1083;&#1080;&#1085;&#1080;&#1089;&#1090;&#1080;&#1095;&#1077;&#1089;&#1082;&#1080;&#1081;_&#1045;&#1075;&#1080;&#1087;&#1077;&#1090;" TargetMode="External"/><Relationship Id="rId6" Type="http://schemas.openxmlformats.org/officeDocument/2006/relationships/hyperlink" Target="http://ru.wikipedia.org/wiki/&#1056;&#1080;&#1084;&#1089;&#1082;&#1080;&#1081;_&#1045;&#1075;&#1080;&#1087;&#1077;&#1090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0;&#1085;&#1072;&#1089;&#1090;&#1080;&#1095;&#1077;&#1089;&#1082;&#1080;&#1081;_&#1087;&#1077;&#1088;&#1080;&#1086;&#1076;_(&#1044;&#1088;&#1077;&#1074;&#1085;&#1080;&#1081;_&#1045;&#1075;&#1080;&#1087;&#1077;&#1090;)" TargetMode="External"/><Relationship Id="rId2" Type="http://schemas.openxmlformats.org/officeDocument/2006/relationships/hyperlink" Target="http://ru.wikipedia.org/wiki/&#1053;&#1086;&#1084;_(&#1044;&#1088;&#1077;&#1074;&#1085;&#1080;&#1081;_&#1045;&#1075;&#1080;&#1087;&#1077;&#1090;)" TargetMode="External"/><Relationship Id="rId3" Type="http://schemas.openxmlformats.org/officeDocument/2006/relationships/hyperlink" Target="http://ru.wikipedia.org/wiki/&#1045;&#1075;&#1080;&#1087;&#1077;&#1090;&#1089;&#1082;&#1086;&#1077;_&#1080;&#1077;&#1088;&#1086;&#1075;&#1083;&#1080;&#1092;&#1080;&#1095;&#1077;&#1089;&#1082;&#1086;&#1077;_&#1087;&#1080;&#1089;&#1100;&#1084;&#108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785880" y="1357200"/>
            <a:ext cx="757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nstantia"/>
              </a:rPr>
              <a:t>Религия Древнего Египта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642960" y="0"/>
            <a:ext cx="81439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 верованиям египтян первым фараоном был сам бог Ра. За ним правили другие боги. Позже на престоле появляется сын Осириса и Исиды, бог Хор. Хор считался прообразом всех египетских фараонов, а сами фараоны его земным воплощением. Каждый реальный фараон считался потомком и Ра и Хора. Полное имя фараона состояло из пяти частей, так называемая титулатура. Первой частью титулатуры было имя фараона как воплощение бога Хора. Второй частью было имя фараона как воплощения двух владычиц - богини Верхнего Египта Нехбет (изображалась в образе коршуна) и богини Нижнего Египта Уаджет (в образе кобры). Иногда здесь добавлялось "устойчивое явление Ра". Третьей частью имени было имя фараона как "золотого Хора". В четвертую часть входило личное имя царя Верхнего и Нижнего Египт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1500120" y="714240"/>
            <a:ext cx="592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едставления о человеке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 представлениям древних египтян человек состоял из нескольких субстанций. Египтологи называют от шести до десяти составов человеческого существа. Вот важнейшие из них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428760" y="50004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1. Ба - так называлось воображаемое существо, представляющее собой душу человека и душу бога. Иногда ба являлось синонимом слова "бог" и одновременно слова "душа". Вначале считалось, что ба есть только у богов и фараонов. Однако позже ба появилось и у простых людей. Ба представлялось, как нечто существующее только после смерти человека и изображалось, как птица с человеческой головой. Ба и тело умершего человека были связаны тесными узами, и ба участвовало в оживлении мумии умершего. После смерти человека ба могло находиться в гробнице, а могло и покидать ее, подниматься на небо, однако в конце все же возвращаться к телу. Боги тоже имели свои души (ба), а бог Ра - даже целых сем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214200" y="4287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2. Ка - приблизительно можно определить как жизненную силу, как ту сущность, которой обладают боги и люди, и которая служит символом различия между одушевленными и неодушевленными предметами. В гробницах ставили специально пустые саркофаги для того, чтобы ка нашла там убежище. Иногда слово ка переводят как "двойник" души. Оно также могло покидать умершего и устремляться в загробный мир, а затем возвращаться в гробницу. Боги имели по несколько ка. У бога Ра, например, 14 ка. Естественно и фараон - живой бог - обладал несколькими 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928800" y="928800"/>
            <a:ext cx="721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3. Ах - слово, которое можно примерно перевести как "дух". Ах также являлся составной частью души человека, но что он представлял из себя неизвестно. Изображался ах в виде хохластого ибис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1571760" y="1143000"/>
            <a:ext cx="6143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4. Шу - это слово можно перевести как "тень". Шу считалось одним из проявлений человеческой сущности. Это тень человека, его скрытая темная сторо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428760" y="214200"/>
            <a:ext cx="807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. Сердце являлось важной составной частью человеческой души. Оно считалось вместилищем человеческого сознания, как бы самостоятельным существом внутри человека. На загробном суде оно могло свидетельствовать о плохих поступках человека. Поэтому при погребении над сердцем произносились специальные заклинания для того, чтобы сердце не могло свидетельствовать против своего хозяина. Амулетом сердца был скарабей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785880" y="785880"/>
            <a:ext cx="73580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6. Сах - так называлось тело умершего человека после мумификации. Оно рассматривалось как воплощение личности, прошедшей через ряд освещающих ее обрядов. Это слово можно перевести как "мумия" или точнее "священные останки"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500040" y="221472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nstantia"/>
              </a:rPr>
              <a:t>Спасибо за внимание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785880" y="1071720"/>
            <a:ext cx="8001000" cy="64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df69c"/>
                </a:solidFill>
                <a:latin typeface="Constantia"/>
              </a:rPr>
              <a:t>Древнеегипетская религия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 —прошла через различные этапы развития: от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Древне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,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Средне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и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Нового царств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до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4"/>
              </a:rPr>
              <a:t>поздне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и 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5"/>
              </a:rPr>
              <a:t>грек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-</a:t>
            </a:r>
            <a:r>
              <a:rPr b="0" lang="ru-RU" sz="4800" spc="-1" strike="noStrike" u="sng">
                <a:solidFill>
                  <a:srgbClr val="8e58b6"/>
                </a:solidFill>
                <a:uFillTx/>
                <a:latin typeface="Constantia"/>
                <a:hlinkClick r:id="rId6"/>
              </a:rPr>
              <a:t>римского</a:t>
            </a:r>
            <a:r>
              <a:rPr b="0" lang="ru-RU" sz="4800" spc="-1" strike="noStrike">
                <a:solidFill>
                  <a:srgbClr val="fdf69c"/>
                </a:solidFill>
                <a:latin typeface="Constantia"/>
              </a:rPr>
              <a:t> периода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698040" y="2428920"/>
            <a:ext cx="77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df69c"/>
                </a:solidFill>
                <a:latin typeface="Constantia"/>
              </a:rPr>
              <a:t>Культ животных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2"/>
          <p:cNvSpPr/>
          <p:nvPr/>
        </p:nvSpPr>
        <p:spPr>
          <a:xfrm>
            <a:off x="357120" y="714240"/>
            <a:ext cx="85726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Обожествление животных в </a:t>
            </a:r>
            <a:r>
              <a:rPr b="0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династическом Египте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мело место на протяжении веков.</a:t>
            </a:r>
            <a:r>
              <a:rPr b="0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Номы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и города часто сопоставлялись и были связаны со своими богами-животными, что отражалось в их названиях также многие </a:t>
            </a:r>
            <a:r>
              <a:rPr b="0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3"/>
              </a:rPr>
              <a:t>иероглифы</a:t>
            </a:r>
            <a:r>
              <a:rPr b="0" lang="ru-RU" sz="3200" spc="-1" strike="noStrike">
                <a:solidFill>
                  <a:srgbClr val="ffff00"/>
                </a:solidFill>
                <a:latin typeface="Constantia"/>
              </a:rPr>
              <a:t> египетского письма представляли собой символы зверей, птиц, пресмыкающихся, рыб и насекомых, являвшихся идеограммами обозначавшими каких-либо божеств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Таблица 1" descr=""/>
          <p:cNvPicPr/>
          <p:nvPr/>
        </p:nvPicPr>
        <p:blipFill>
          <a:blip r:embed="rId1"/>
          <a:stretch/>
        </p:blipFill>
        <p:spPr>
          <a:xfrm>
            <a:off x="-109440" y="1176480"/>
            <a:ext cx="9362880" cy="3681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" descr="G39"/>
          <p:cNvPicPr/>
          <p:nvPr/>
        </p:nvPicPr>
        <p:blipFill>
          <a:blip r:embed="rId2"/>
          <a:stretch/>
        </p:blipFill>
        <p:spPr>
          <a:xfrm>
            <a:off x="1071720" y="185724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G14"/>
          <p:cNvPicPr/>
          <p:nvPr/>
        </p:nvPicPr>
        <p:blipFill>
          <a:blip r:embed="rId3"/>
          <a:stretch/>
        </p:blipFill>
        <p:spPr>
          <a:xfrm>
            <a:off x="2928960" y="1785960"/>
            <a:ext cx="527040" cy="571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I3"/>
          <p:cNvPicPr/>
          <p:nvPr/>
        </p:nvPicPr>
        <p:blipFill>
          <a:blip r:embed="rId4"/>
          <a:stretch/>
        </p:blipFill>
        <p:spPr>
          <a:xfrm>
            <a:off x="3714840" y="2000160"/>
            <a:ext cx="857160" cy="250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E15"/>
          <p:cNvPicPr/>
          <p:nvPr/>
        </p:nvPicPr>
        <p:blipFill>
          <a:blip r:embed="rId5"/>
          <a:stretch/>
        </p:blipFill>
        <p:spPr>
          <a:xfrm>
            <a:off x="2000160" y="1714680"/>
            <a:ext cx="593640" cy="500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E21"/>
          <p:cNvPicPr/>
          <p:nvPr/>
        </p:nvPicPr>
        <p:blipFill>
          <a:blip r:embed="rId6"/>
          <a:stretch/>
        </p:blipFill>
        <p:spPr>
          <a:xfrm>
            <a:off x="4786200" y="2000160"/>
            <a:ext cx="571680" cy="312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G26"/>
          <p:cNvPicPr/>
          <p:nvPr/>
        </p:nvPicPr>
        <p:blipFill>
          <a:blip r:embed="rId7"/>
          <a:stretch/>
        </p:blipFill>
        <p:spPr>
          <a:xfrm>
            <a:off x="5715000" y="1857240"/>
            <a:ext cx="406440" cy="428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I10"/>
          <p:cNvPicPr/>
          <p:nvPr/>
        </p:nvPicPr>
        <p:blipFill>
          <a:blip r:embed="rId8"/>
          <a:stretch/>
        </p:blipFill>
        <p:spPr>
          <a:xfrm>
            <a:off x="6643800" y="1785960"/>
            <a:ext cx="460440" cy="50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E34"/>
          <p:cNvPicPr/>
          <p:nvPr/>
        </p:nvPicPr>
        <p:blipFill>
          <a:blip r:embed="rId9"/>
          <a:stretch/>
        </p:blipFill>
        <p:spPr>
          <a:xfrm>
            <a:off x="7429680" y="2000160"/>
            <a:ext cx="571320" cy="360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G5"/>
          <p:cNvPicPr/>
          <p:nvPr/>
        </p:nvPicPr>
        <p:blipFill>
          <a:blip r:embed="rId10"/>
          <a:stretch/>
        </p:blipFill>
        <p:spPr>
          <a:xfrm>
            <a:off x="8358120" y="1785960"/>
            <a:ext cx="5270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Религия Древнего Египта"/>
          <p:cNvPicPr/>
          <p:nvPr/>
        </p:nvPicPr>
        <p:blipFill>
          <a:blip r:embed="rId1"/>
          <a:stretch/>
        </p:blipFill>
        <p:spPr>
          <a:xfrm>
            <a:off x="214200" y="1000080"/>
            <a:ext cx="3895920" cy="417348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2"/>
          <p:cNvSpPr/>
          <p:nvPr/>
        </p:nvSpPr>
        <p:spPr>
          <a:xfrm>
            <a:off x="4286160" y="1000080"/>
            <a:ext cx="4572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Египетская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религ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всегда привлекала пристальное внимание цивилизованных народов. Уже древние греки, соприкасавшиеся с Египтом, проявляли к ней интерес в своих трудах</a:t>
            </a:r>
            <a:r>
              <a:rPr b="1" lang="ru-RU" sz="2400" spc="-1" strike="noStrike">
                <a:solidFill>
                  <a:srgbClr val="594fb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500040" y="785880"/>
            <a:ext cx="8072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Разумеется,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религия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не могла оставаться неизменной на протяжении столь длительного времени.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Лишь когда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христианство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стало преобладающей религией во всем Средиземноморье и на Ближнем Востоке, мир египетских богов уступил место новой ве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85840" y="928800"/>
            <a:ext cx="8572320" cy="75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Фараон - бог на земле. 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Фараон играл в жизни египтян особую роль. Это слово нельзя перевести, как царь, король или император. Фараон был верховным правителем и одновременно верховным жрецом. Фараон был богом на земле и богом после смерти. К нему относились, как к богу. Его имя не произносилось всуе. Сам термин "фараон" появился из словосочетания двух египетских слов пер-аа, что означало "дом великий". Так говорили о фараоне иносказательно, чтобы не называть его по имени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785880" y="785880"/>
            <a:ext cx="77151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К примеру, личное имя фараона Тутмоса III было Мен-Хепер -Ра. И, наконец, пятой частью титулатуры было то, что можно примерно перевести, как отчество. Оно предварялось словами "сын Ра", а затем следовало второе имя фараона, например Тутмос-Нефер-Хепер. Именно оно обычно и служило официальным именем фараона. 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18T07:34:07Z</dcterms:modified>
  <cp:revision>10</cp:revision>
  <dc:subject/>
  <dc:title>Слайд 1</dc:title>
</cp:coreProperties>
</file>