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29C-3EC0-4518-A432-1202A92C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C37-1F4F-451C-96E6-677F767E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274-073A-4D43-9201-23E811AA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29F-780D-4CB8-BDFF-7581DFD6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43C9F-C21B-4D26-9378-2698DCA7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8CD1D-B99E-42E0-9147-3805121F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22C4D-458C-443E-8C05-AB083D1D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9F0BF-17D9-4976-B711-1A64D4A5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AA871-8150-42C6-B744-DC02DCD8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86B1E-AC04-4252-94CF-460A664B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EE56E-7847-40C1-84DF-437C3AE8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213-1D8F-4CE1-B615-AD716F54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E1051-88DD-4536-9A59-D2F258CE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82BF3-E919-4F15-B698-842C126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84F7D-33B3-4AA2-8F7A-AAB3DE22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E7C88-E8F8-4D80-9841-77CC1695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039FB-B273-4887-A247-14067C7A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33A9E-3802-40C2-B755-93FB0C36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6456-5669-4D10-9829-CD161DE0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AD7C-7996-4056-9911-5F2EFC77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7119D-C1C5-4510-848D-8E6CCEFD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E4FB-14A5-4E25-A30F-6868B30F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736-F249-4E5F-8E28-05691E7F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2CE4-20C8-409E-969A-E2A6AB89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A23E-0030-4663-8CFA-6170C7CC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B17E9-95A5-435B-B32A-26DD6C88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1CFB-9D2D-48A4-9040-21F181F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BE19-C907-45F3-8E3B-D20E7260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A9240-BFB1-44BB-B7F4-97E80987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BF1C-8259-4219-AE51-3ED82E2A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36DBCF-21B5-48B7-BB27-D6E49779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E88CB-261A-4F7E-A6FC-39E01D1A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EDA13-30F6-41FF-B87E-AA8D10E7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B00-0023-4904-8EDB-07BDA5BA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53AEF-E9C7-4737-A8EA-B8997D02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6579E-A561-43D7-8D90-E38F3CAA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F002C-355B-49D2-B814-46F559DD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59CBEC-33C4-4D3A-B745-8250C30B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E2C68-1937-43EE-9512-74F309AF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61722-13F2-4C68-BD3D-EDDCF9F7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59A04-A35B-4475-ADE9-7A73ADD4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8CF229-370F-4C82-935C-32FB962A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B0C66-EFB0-42FA-A75F-1CBFEB7F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2F65C-2145-4E06-84A8-81662100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F64-42E3-4918-AC2B-D567670A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28B1F-1DCF-4D3B-A9C4-ED349F8A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60BF3-E2E1-46B7-A888-715CB57F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CB644-C0D8-48E0-B7E5-F0F6009E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D36E3-2778-43CF-84E9-60233CF6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D12BC-4362-416F-90D7-FF81E69C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8FCB5-3052-4188-BD79-E8CDED1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9AF48-E696-4E87-99F7-C74FA5C8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49C4A-2B98-4152-A2FC-D55B86A4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3287B-E01A-48A9-98D5-B942BE3A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97280-6B2C-42D1-9DD9-9CA25AE9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E0F-8360-4C84-A100-5824109A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188A7-B6B1-40EE-885D-71F76134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F7565-6A7F-4E10-92E7-A8F3F2DF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1DC6D-36DE-4215-968F-E4838B15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086B6-CD96-488A-898D-EDA03A8C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EF548-809A-42EC-B4A6-A7EF1ED8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42E5D-8CD1-4965-BFCE-FD819439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D8373-2F6D-4483-91CA-85B991B4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F4A25-A43F-4E06-B7BF-6DEEC4B8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CBF70-BDE9-4B59-950E-1516279C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0138B-3F64-46C3-91BC-7079BEDB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AEC-3C42-4872-A571-46478C27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1B033-9816-4258-947E-0B6FC3E3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17D89-06BE-4486-875B-FEC32564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B12BAE-8448-4963-9AA2-85846854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A16-36B5-4B03-8321-BD4CAF50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38F-7524-4F64-96E8-DDE46708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FB10-727C-46B3-84D1-242B5918FD9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D19A-E63B-4A43-B357-3F44C46293E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79E7-0D59-4FD0-B3D9-21EDBED022C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B0C8-D204-4CCC-9984-1940D204208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4AB2-4804-43C1-8AD0-7AB3B6BDF3E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809E-8D8F-4291-A6A8-C4D957352AC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7;_&#1094;&#1072;&#1088;&#1089;&#1090;&#1074;&#1086;_(&#1044;&#1088;&#1077;&#1074;&#1085;&#1080;&#1081;_&#1045;&#1075;&#1080;&#1087;&#1077;&#1090;)" TargetMode="External"/><Relationship Id="rId2" Type="http://schemas.openxmlformats.org/officeDocument/2006/relationships/hyperlink" Target="http://ru.wikipedia.org/wiki/&#1057;&#1088;&#1077;&#1076;&#1085;&#1077;&#1077;_&#1094;&#1072;&#1088;&#1089;&#1090;&#1074;&#1086;_(&#1044;&#1088;&#1077;&#1074;&#1085;&#1080;&#1081;_&#1045;&#1075;&#1080;&#1087;&#1077;&#1090;)" TargetMode="External"/><Relationship Id="rId3" Type="http://schemas.openxmlformats.org/officeDocument/2006/relationships/hyperlink" Target="http://ru.wikipedia.org/wiki/&#1053;&#1086;&#1074;&#1086;&#1077;_&#1094;&#1072;&#1088;&#1089;&#1090;&#1074;&#1086;" TargetMode="External"/><Relationship Id="rId4" Type="http://schemas.openxmlformats.org/officeDocument/2006/relationships/hyperlink" Target="http://ru.wikipedia.org/wiki/&#1055;&#1086;&#1079;&#1076;&#1085;&#1077;&#1077;_&#1094;&#1072;&#1088;&#1089;&#1090;&#1074;&#1086;_(&#1044;&#1088;&#1077;&#1074;&#1085;&#1080;&#1081;_&#1045;&#1075;&#1080;&#1087;&#1077;&#1090;)" TargetMode="External"/><Relationship Id="rId5" Type="http://schemas.openxmlformats.org/officeDocument/2006/relationships/hyperlink" Target="http://ru.wikipedia.org/wiki/&#1069;&#1083;&#1083;&#1080;&#1085;&#1080;&#1089;&#1090;&#1080;&#1095;&#1077;&#1089;&#1082;&#1080;&#1081;_&#1045;&#1075;&#1080;&#1087;&#1077;&#1090;" TargetMode="External"/><Relationship Id="rId6" Type="http://schemas.openxmlformats.org/officeDocument/2006/relationships/hyperlink" Target="http://ru.wikipedia.org/wiki/&#1056;&#1080;&#1084;&#1089;&#1082;&#1080;&#1081;_&#1045;&#1075;&#1080;&#1087;&#1077;&#1090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0;&#1085;&#1072;&#1089;&#1090;&#1080;&#1095;&#1077;&#1089;&#1082;&#1080;&#1081;_&#1087;&#1077;&#1088;&#1080;&#1086;&#1076;_(&#1044;&#1088;&#1077;&#1074;&#1085;&#1080;&#1081;_&#1045;&#1075;&#1080;&#1087;&#1077;&#1090;)" TargetMode="External"/><Relationship Id="rId2" Type="http://schemas.openxmlformats.org/officeDocument/2006/relationships/hyperlink" Target="http://ru.wikipedia.org/wiki/&#1053;&#1086;&#1084;_(&#1044;&#1088;&#1077;&#1074;&#1085;&#1080;&#1081;_&#1045;&#1075;&#1080;&#1087;&#1077;&#1090;)" TargetMode="External"/><Relationship Id="rId3" Type="http://schemas.openxmlformats.org/officeDocument/2006/relationships/hyperlink" Target="http://ru.wikipedia.org/wiki/&#1045;&#1075;&#1080;&#1087;&#1077;&#1090;&#1089;&#1082;&#1086;&#1077;_&#1080;&#1077;&#1088;&#1086;&#1075;&#1083;&#1080;&#1092;&#1080;&#1095;&#1077;&#1089;&#1082;&#1086;&#1077;_&#1087;&#1080;&#1089;&#1100;&#1084;&#1086;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785880" y="1357200"/>
            <a:ext cx="757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nstantia"/>
              </a:rPr>
              <a:t>Религия Древнего Египта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642960" y="0"/>
            <a:ext cx="81439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 верованиям египтян первым фараоном был сам бог Ра. За ним правили другие боги. Позже на престоле появляется сын Осириса и Исиды, бог Хор. Хор считался прообразом всех египетских фараонов, а сами фараоны его земным воплощением. Каждый реальный фараон считался потомком и Ра и Хора. Полное имя фараона состояло из пяти частей, так называемая титулатура. Первой частью титулатуры было имя фараона как воплощение бога Хора. Второй частью было имя фараона как воплощения двух владычиц - богини Верхнего Египта Нехбет (изображалась в образе коршуна) и богини Нижнего Египта Уаджет (в образе кобры). Иногда здесь добавлялось "устойчивое явление Ра". Третьей частью имени было имя фараона как "золотого Хора". В четвертую часть входило личное имя царя Верхнего и Нижнего Египта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1500120" y="714240"/>
            <a:ext cx="592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едставления о человеке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о представлениям древних египтян человек состоял из нескольких субстанций. Египтологи называют от шести до десяти составов человеческого существа. Вот важнейшие из них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428760" y="500040"/>
            <a:ext cx="8715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1. Ба - так называлось воображаемое существо, представляющее собой душу человека и душу бога. Иногда ба являлось синонимом слова "бог" и одновременно слова "душа". Вначале считалось, что ба есть только у богов и фараонов. Однако позже ба появилось и у простых людей. Ба представлялось, как нечто существующее только после смерти человека и изображалось, как птица с человеческой головой. Ба и тело умершего человека были связаны тесными узами, и ба участвовало в оживлении мумии умершего. После смерти человека ба могло находиться в гробнице, а могло и покидать ее, подниматься на небо, однако в конце все же возвращаться к телу. Боги тоже имели свои души (ба), а бог Ра - даже целых сем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214200" y="4287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2. Ка - приблизительно можно определить как жизненную силу, как ту сущность, которой обладают боги и люди, и которая служит символом различия между одушевленными и неодушевленными предметами. В гробницах ставили специально пустые саркофаги для того, чтобы ка нашла там убежище. Иногда слово ка переводят как "двойник" души. Оно также могло покидать умершего и устремляться в загробный мир, а затем возвращаться в гробницу. Боги имели по несколько ка. У бога Ра, например, 14 ка. Естественно и фараон - живой бог - обладал несколькими к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928800" y="928800"/>
            <a:ext cx="721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3. Ах - слово, которое можно примерно перевести как "дух". Ах также являлся составной частью души человека, но что он представлял из себя неизвестно. Изображался ах в виде хохластого ибиса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1571760" y="1143000"/>
            <a:ext cx="6143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4. Шу - это слово можно перевести как "тень". Шу считалось одним из проявлений человеческой сущности. Это тень человека, его скрытая темная сторон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428760" y="214200"/>
            <a:ext cx="8072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. Сердце являлось важной составной частью человеческой души. Оно считалось вместилищем человеческого сознания, как бы самостоятельным существом внутри человека. На загробном суде оно могло свидетельствовать о плохих поступках человека. Поэтому при погребении над сердцем произносились специальные заклинания для того, чтобы сердце не могло свидетельствовать против своего хозяина. Амулетом сердца был скарабей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785880" y="785880"/>
            <a:ext cx="73580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6. Сах - так называлось тело умершего человека после мумификации. Оно рассматривалось как воплощение личности, прошедшей через ряд освещающих ее обрядов. Это слово можно перевести как "мумия" или точнее "священные останки"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500040" y="221472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nstantia"/>
              </a:rPr>
              <a:t>Спасибо за внимание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785880" y="1071720"/>
            <a:ext cx="8001000" cy="64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df69c"/>
                </a:solidFill>
                <a:latin typeface="Constantia"/>
              </a:rPr>
              <a:t>Древнеегипетская религия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 —прошла через различные этапы развития: от 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Древнего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, 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Среднего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 и 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3"/>
              </a:rPr>
              <a:t>Нового царств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 до 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4"/>
              </a:rPr>
              <a:t>позднего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 и 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5"/>
              </a:rPr>
              <a:t>греко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-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6"/>
              </a:rPr>
              <a:t>римского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 периода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698040" y="2428920"/>
            <a:ext cx="776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df69c"/>
                </a:solidFill>
                <a:latin typeface="Constantia"/>
              </a:rPr>
              <a:t>Культ животных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2"/>
          <p:cNvSpPr/>
          <p:nvPr/>
        </p:nvSpPr>
        <p:spPr>
          <a:xfrm>
            <a:off x="357120" y="714240"/>
            <a:ext cx="857268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Обожествление животных в </a:t>
            </a:r>
            <a:r>
              <a:rPr b="0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династическом Египте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имело место на протяжении веков.</a:t>
            </a:r>
            <a:r>
              <a:rPr b="0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Номы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и города часто сопоставлялись и были связаны со своими богами-животными, что отражалось в их названиях также многие </a:t>
            </a:r>
            <a:r>
              <a:rPr b="0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3"/>
              </a:rPr>
              <a:t>иероглифы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египетского письма представляли собой символы зверей, птиц, пресмыкающихся, рыб и насекомых, являвшихся идеограммами обозначавшими каких-либо божеств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Таблица 1" descr=""/>
          <p:cNvPicPr/>
          <p:nvPr/>
        </p:nvPicPr>
        <p:blipFill>
          <a:blip r:embed="rId1"/>
          <a:stretch/>
        </p:blipFill>
        <p:spPr>
          <a:xfrm>
            <a:off x="-109440" y="1176480"/>
            <a:ext cx="9362880" cy="3681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" descr="G39"/>
          <p:cNvPicPr/>
          <p:nvPr/>
        </p:nvPicPr>
        <p:blipFill>
          <a:blip r:embed="rId2"/>
          <a:stretch/>
        </p:blipFill>
        <p:spPr>
          <a:xfrm>
            <a:off x="1071720" y="18572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G14"/>
          <p:cNvPicPr/>
          <p:nvPr/>
        </p:nvPicPr>
        <p:blipFill>
          <a:blip r:embed="rId3"/>
          <a:stretch/>
        </p:blipFill>
        <p:spPr>
          <a:xfrm>
            <a:off x="2928960" y="1785960"/>
            <a:ext cx="527040" cy="571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I3"/>
          <p:cNvPicPr/>
          <p:nvPr/>
        </p:nvPicPr>
        <p:blipFill>
          <a:blip r:embed="rId4"/>
          <a:stretch/>
        </p:blipFill>
        <p:spPr>
          <a:xfrm>
            <a:off x="3714840" y="2000160"/>
            <a:ext cx="857160" cy="250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E15"/>
          <p:cNvPicPr/>
          <p:nvPr/>
        </p:nvPicPr>
        <p:blipFill>
          <a:blip r:embed="rId5"/>
          <a:stretch/>
        </p:blipFill>
        <p:spPr>
          <a:xfrm>
            <a:off x="2000160" y="1714680"/>
            <a:ext cx="593640" cy="500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E21"/>
          <p:cNvPicPr/>
          <p:nvPr/>
        </p:nvPicPr>
        <p:blipFill>
          <a:blip r:embed="rId6"/>
          <a:stretch/>
        </p:blipFill>
        <p:spPr>
          <a:xfrm>
            <a:off x="4786200" y="2000160"/>
            <a:ext cx="571680" cy="312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G26"/>
          <p:cNvPicPr/>
          <p:nvPr/>
        </p:nvPicPr>
        <p:blipFill>
          <a:blip r:embed="rId7"/>
          <a:stretch/>
        </p:blipFill>
        <p:spPr>
          <a:xfrm>
            <a:off x="5715000" y="1857240"/>
            <a:ext cx="406440" cy="428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I10"/>
          <p:cNvPicPr/>
          <p:nvPr/>
        </p:nvPicPr>
        <p:blipFill>
          <a:blip r:embed="rId8"/>
          <a:stretch/>
        </p:blipFill>
        <p:spPr>
          <a:xfrm>
            <a:off x="6643800" y="1785960"/>
            <a:ext cx="460440" cy="50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E34"/>
          <p:cNvPicPr/>
          <p:nvPr/>
        </p:nvPicPr>
        <p:blipFill>
          <a:blip r:embed="rId9"/>
          <a:stretch/>
        </p:blipFill>
        <p:spPr>
          <a:xfrm>
            <a:off x="7429680" y="2000160"/>
            <a:ext cx="571320" cy="360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G5"/>
          <p:cNvPicPr/>
          <p:nvPr/>
        </p:nvPicPr>
        <p:blipFill>
          <a:blip r:embed="rId10"/>
          <a:stretch/>
        </p:blipFill>
        <p:spPr>
          <a:xfrm>
            <a:off x="8358120" y="1785960"/>
            <a:ext cx="5270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Религия Древнего Египта"/>
          <p:cNvPicPr/>
          <p:nvPr/>
        </p:nvPicPr>
        <p:blipFill>
          <a:blip r:embed="rId1"/>
          <a:stretch/>
        </p:blipFill>
        <p:spPr>
          <a:xfrm>
            <a:off x="214200" y="1000080"/>
            <a:ext cx="3895920" cy="417348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2"/>
          <p:cNvSpPr/>
          <p:nvPr/>
        </p:nvSpPr>
        <p:spPr>
          <a:xfrm>
            <a:off x="4286160" y="1000080"/>
            <a:ext cx="4572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Египетская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религ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всегда привлекала пристальное внимание цивилизованных народов. Уже древние греки, соприкасавшиеся с Египтом, проявляли к ней интерес в своих трудах</a:t>
            </a:r>
            <a:r>
              <a:rPr b="1" lang="ru-RU" sz="2400" spc="-1" strike="noStrike">
                <a:solidFill>
                  <a:srgbClr val="594fb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500040" y="785880"/>
            <a:ext cx="8072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Разумеется,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религ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не могла оставаться неизменной на протяжении столь длительного времени.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Лишь когда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христианство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стало преобладающей религией во всем Средиземноморье и на Ближнем Востоке, мир египетских богов уступил место новой вер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285840" y="928800"/>
            <a:ext cx="8572320" cy="75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Фараон - бог на земле. 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Фараон играл в жизни египтян особую роль. Это слово нельзя перевести, как царь, король или император. Фараон был верховным правителем и одновременно верховным жрецом. Фараон был богом на земле и богом после смерти. К нему относились, как к богу. Его имя не произносилось всуе. Сам термин "фараон" появился из словосочетания двух египетских слов пер-аа, что означало "дом великий". Так говорили о фараоне иносказательно, чтобы не называть его по имени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785880" y="785880"/>
            <a:ext cx="771516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К примеру, личное имя фараона Тутмоса III было Мен-Хепер -Ра. И, наконец, пятой частью титулатуры было то, что можно примерно перевести, как отчество. Оно предварялось словами "сын Ра", а затем следовало второе имя фараона, например Тутмос-Нефер-Хепер. Именно оно обычно и служило официальным именем фараона. 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18T07:34:07Z</dcterms:modified>
  <cp:revision>10</cp:revision>
  <dc:subject/>
  <dc:title>Слайд 1</dc:title>
</cp:coreProperties>
</file>