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D04D-B13F-4DA4-BD38-BFA192146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124E-DD01-4B3E-BE04-493EEA08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2ABB-DB2B-4CFC-8808-233AB3D68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76A0-5104-481A-A0AC-9104A6E9B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7EB9-194B-4105-9D04-4DB8DE91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14B9-A9FC-4B24-B5F3-C72F9F88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E197-B1EF-406C-9BCE-51F0CC70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0C83-5665-4388-B888-C40B4F9C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520E-E9E9-4D2C-AF04-56277759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E40C-191D-4644-8359-7A71F543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EBDE-B319-4E28-AEEA-0C94C62D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3740-B526-47EC-8182-24EFF746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52D0-CBC3-4281-AA00-2E964A6DD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56360" y="5157720"/>
            <a:ext cx="341928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80"/>
                </a:solidFill>
                <a:latin typeface="Arial"/>
              </a:rPr>
              <a:t>Учитель  </a:t>
            </a:r>
            <a:r>
              <a:rPr b="0" i="1" lang="ru-RU" sz="1600" spc="-1" strike="noStrike">
                <a:solidFill>
                  <a:srgbClr val="808080"/>
                </a:solidFill>
                <a:latin typeface="Arial"/>
              </a:rPr>
              <a:t>ИЗО, черчения 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808080"/>
                </a:solidFill>
                <a:latin typeface="Arial"/>
              </a:rPr>
              <a:t>труда, технологии, МХ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езакова </a:t>
            </a:r>
            <a:br>
              <a:rPr sz="18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нна Анатол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98520" y="6165720"/>
            <a:ext cx="126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808080"/>
                </a:solidFill>
                <a:latin typeface="Arial"/>
              </a:rPr>
              <a:t>2009 -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916360" y="1484280"/>
            <a:ext cx="34574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урсовая рабо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476280"/>
            <a:ext cx="6265800" cy="17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8080"/>
                </a:solidFill>
                <a:latin typeface="Arial"/>
              </a:rPr>
              <a:t>Заклинская шк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8080"/>
                </a:solidFill>
                <a:latin typeface="Arial"/>
              </a:rPr>
              <a:t>Лужский район 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2708280"/>
            <a:ext cx="7848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08080"/>
                </a:solidFill>
                <a:latin typeface="Arial"/>
              </a:rPr>
              <a:t>те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Худож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робуждающий Безмолвие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4360" y="404640"/>
            <a:ext cx="6983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Концепция школ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экологическая направ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4221000"/>
            <a:ext cx="59040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Моя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цель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В контексте экологического воспитания формирование средствами изобразительного искусства осознанного понимания того, что в основе межличностных взаимоотношений лежит высокая нравствен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79640" y="1916280"/>
            <a:ext cx="8532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Эколог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нау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зучающая взаимоотнош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всех живых организм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между собой и окружающей сре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787640" y="188640"/>
            <a:ext cx="338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мбранд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менс ван Рейн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7 век. Голланд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56000" y="1268280"/>
            <a:ext cx="4788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воим творчеством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Рембрандт</a:t>
            </a:r>
            <a:br>
              <a:rPr sz="1600"/>
            </a:b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утверждае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высокие нравственные и эстетические идеа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картинах на мифологические и библейские темы, занимающие значительное место в его творчестве, Рембрандт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размышляе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о вечных проблемах бытия: о единении человеческих душ, о трепетном отношении к женщине, о человеческой подлости и предательстве, о смысле жизни и неотвратимости смерти, о милосердии и сострадании, о раскаянии и  всепрощающей любв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духотворенность модели и драматизм события художник великолепно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передаё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через эффекты светотен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Передача человеческих переживаний у Рембрандта остаётся непревзойдённой в мировом искусств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03640" y="4869000"/>
            <a:ext cx="34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6021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3961080" cy="2968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9280" y="3357720"/>
            <a:ext cx="424836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Самые яркие слова- невысказанные, самое совершенное действие- несовершённо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а самая глубокая перемена - та, что происходит сама соб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57340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смотрим произведения художника и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ответим на вопро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что же лежит в основе человеческих взаимоотношений, отмеченных Рембрандтом  печатью таинственной крас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345440" cy="5205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80000" y="5445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«Еврейская невес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0"/>
            <a:ext cx="882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«Если жена любит мужа, то муж любит жену, и вместе они составляют совершенство. Теперь возможно явиться и ребёнку, чтобы любить их и чтобы они могли любить его.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788080"/>
            <a:ext cx="9144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«Прислушайся ко всему вокруг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нимай каждому шороху Вселенн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о как только услышишь, что говоришь ты сам, замолчи.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82960" y="0"/>
            <a:ext cx="61610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4360" y="64911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 Давид и Ур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04640"/>
            <a:ext cx="2952720" cy="62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зрителя движется, как бы шатаясь, фигура богатого царедвор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эт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еначальник Урия, узревший в глазах царя свой смертный пригово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Совершающий грех не ведает, что творит, и поэтому заслуживает прощения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икто еще не изображал с такой правдой и силой состояние человека, обреченного сделать тот шаг, который отделяет жизнь от небыт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Возвращение блудного сына, Рембрандт, 1669, Эрмитаж"/>
          <p:cNvPicPr/>
          <p:nvPr/>
        </p:nvPicPr>
        <p:blipFill>
          <a:blip r:embed="rId1"/>
          <a:stretch/>
        </p:blipFill>
        <p:spPr>
          <a:xfrm>
            <a:off x="179280" y="189000"/>
            <a:ext cx="5051520" cy="6219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164360" y="26028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4653000"/>
            <a:ext cx="205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92720" y="189000"/>
            <a:ext cx="4067280" cy="73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«Возвращении блудного сына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ничего не происходит и ничего не произносится — все было сказано, передумано, выстрадано и перечувствовано давным-давно, в годы долгого ожидания, но есть радость встречи, тихой и светлой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«Как научиться прощ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е суди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 не придётся прощать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дея всепрощающей любви к человеку -  идея, которой Рембрандт служил всю свою жизнь, находит наивысшее, совершеннейшее воплощение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Возвращении блудного сына»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этом 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завещ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высокой нравственности, лежащей в основе взаимоотношений между люд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0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8:17:39Z</dcterms:created>
  <dc:creator>дикий КОТ</dc:creator>
  <dc:description/>
  <dc:language>en-US</dc:language>
  <cp:lastModifiedBy>дикий КОТ</cp:lastModifiedBy>
  <dcterms:modified xsi:type="dcterms:W3CDTF">2010-04-02T15:40:51Z</dcterms:modified>
  <cp:revision>52</cp:revision>
  <dc:subject/>
  <dc:title>Слайд 1</dc:title>
</cp:coreProperties>
</file>