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008-4F28-42DA-8D90-383071E6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790-5D25-4BB1-9B53-9F2FBF03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AC0-EE2F-4027-B574-D93AB656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1AE-63EC-43A2-94C9-8E8A3648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3EC-1C52-4480-B398-7A7270EB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0D5-FABE-4BB3-A4A4-7B9AB244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D22-9948-4AFB-A45A-F9020C6B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31B-B7A9-493D-97E2-116551D5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4B3-F25C-449C-ADEA-8CE286DB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D57-5C80-4BE5-AD4A-2B5925E1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542-106F-4384-B42B-7778811B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819-3FE5-4959-94D2-FE2E0553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0D8D-5805-4587-8781-05DDC1AE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56360" y="5157720"/>
            <a:ext cx="34192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Учитель  </a:t>
            </a:r>
            <a:r>
              <a:rPr b="0" i="1" lang="ru-RU" sz="1600" spc="-1" strike="noStrike">
                <a:solidFill>
                  <a:srgbClr val="808080"/>
                </a:solidFill>
                <a:latin typeface="Arial"/>
              </a:rPr>
              <a:t>ИЗО, черчения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"/>
              </a:rPr>
              <a:t>труда, технологии, МХ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закова </a:t>
            </a:r>
            <a:br>
              <a:rPr sz="18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н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8520" y="616572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"/>
              </a:rPr>
              <a:t>2009 -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16360" y="1484280"/>
            <a:ext cx="3457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рсов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76280"/>
            <a:ext cx="626580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8080"/>
                </a:solidFill>
                <a:latin typeface="Arial"/>
              </a:rPr>
              <a:t>Заклинск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8080"/>
                </a:solidFill>
                <a:latin typeface="Arial"/>
              </a:rPr>
              <a:t>Лужский район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70828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8080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Худож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буждающий Безмолви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404640"/>
            <a:ext cx="698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онцепция шко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экологическая 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4221000"/>
            <a:ext cx="590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о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л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В контексте экологического воспитания формирование средствами изобразительного искусства осознанного понимания того, что в основе межличностных взаимоотношений лежит высокая нравст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916280"/>
            <a:ext cx="8532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Эколог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у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зучающая взаимоотно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сех живых организ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ежду собой и окружающей сре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87640" y="18864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мбранд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менс ван Рей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7 век. Голланд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1268280"/>
            <a:ext cx="4788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оим творчество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ембрандт</a:t>
            </a:r>
            <a:br>
              <a:rPr sz="1600"/>
            </a:b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утвержда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ысокие нравственные и эстетические иде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картинах на мифологические и библейские темы, занимающие значительное место в его творчестве, Рембрандт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азмышля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 вечных проблемах бытия: о единении человеческих душ, о трепетном отношении к женщине, о человеческой подлости и предательстве, о смысле жизни и неотвратимости смерти, о милосердии и сострадании, о раскаянии и  всепрощающей любв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ухотворенность модели и драматизм события художник великолепно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ередаё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через эффекты светотен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ередача человеческих переживаний у Рембрандта остаётся непревзойдённой в мировом искусст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486900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6021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961080" cy="2968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3357720"/>
            <a:ext cx="42483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амые яркие слова- невысказанные, самое совершенное действие- несовершённо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 самая глубокая перемена - та, что происходит сама с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734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мотрим произведения художника и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тветим на вопр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что же лежит в основе человеческих взаимоотношений, отмеченных Рембрандтом  печатью таинственной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345440" cy="5205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00" y="5445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«Еврейская невес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0"/>
            <a:ext cx="88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Если жена любит мужа, то муж любит жену, и вместе они составляют совершенство. Теперь возможно явиться и ребёнку, чтобы любить их и чтобы они могли любить его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788080"/>
            <a:ext cx="9144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Прислушайся ко всему вокру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нимай каждому шороху Вселен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как только услышишь, что говоришь ты сам, замолчи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82960" y="0"/>
            <a:ext cx="61610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64911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Давид и Ур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04640"/>
            <a:ext cx="295272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рителя движется, как бы шатаясь, фигура богатого царедвор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эт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ачальник Урия, узревший в глазах царя свой смертный пригов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овершающий грех не ведает, что творит, и поэтому заслуживает прощения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кто еще не изображал с такой правдой и силой состояние человека, обреченного сделать тот шаг, который отделяет жизнь от небы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Возвращение блудного сына, Рембрандт, 1669, Эрмитаж"/>
          <p:cNvPicPr/>
          <p:nvPr/>
        </p:nvPicPr>
        <p:blipFill>
          <a:blip r:embed="rId1"/>
          <a:stretch/>
        </p:blipFill>
        <p:spPr>
          <a:xfrm>
            <a:off x="179280" y="189000"/>
            <a:ext cx="5051520" cy="621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164360" y="26028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4653000"/>
            <a:ext cx="20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189000"/>
            <a:ext cx="4067280" cy="73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Возвращении блудного сына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ичего не происходит и ничего не произносится — все было сказано, передумано, выстрадано и перечувствовано давным-давно, в годы долгого ожидания, но есть радость встречи, тихой и светло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Как научиться прощ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 суд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не придётся прощать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всепрощающей любви к человеку -  идея, которой Рембрандт служил всю свою жизнь, находит наивысшее, совершеннейшее воплощени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озвращении блудного сына»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м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завещ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высокой нравственности, лежащей в основе взаимоотношений между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8:17:39Z</dcterms:created>
  <dc:creator>дикий КОТ</dc:creator>
  <dc:description/>
  <dc:language>en-US</dc:language>
  <cp:lastModifiedBy>дикий КОТ</cp:lastModifiedBy>
  <dcterms:modified xsi:type="dcterms:W3CDTF">2010-04-02T15:40:51Z</dcterms:modified>
  <cp:revision>52</cp:revision>
  <dc:subject/>
  <dc:title>Слайд 1</dc:title>
</cp:coreProperties>
</file>