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5C64-F6CD-488F-BFA4-0AE407BF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7A7A-A9D0-421A-9CA5-7E19DB1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CC3C-812D-4C28-A05C-CF068C7F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B159-0198-4621-AA3A-86B22A93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FE17-5DC0-425A-A639-70178031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F4F67-21E1-46DB-A8BD-B6A2DAA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250C-3134-4B2E-A2A1-7BA2CF1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FB38B-5907-4C7A-98AD-8884E26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DC44-4F25-42DF-8DD5-B80047EB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2B56-7B1F-47AB-92F9-6FEAA05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BA2A1-224F-4D65-83D9-CF39BE5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BDE4-3E4F-4C7D-B577-81D2A78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EDF82-4E6D-4060-AE36-FD9F53B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7AB6-8A46-47C1-8D1A-46C54EDB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D4A51-31AB-4C8E-AD9F-6F1317DB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20A4A-C958-4FE6-B21E-8C65F7BD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1E7A6-0B08-4489-9D8A-0C213E67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92AD7-9389-4288-9E85-24031AFA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E910A-1641-4E9C-9C6C-D45356EC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0D926-8876-49DB-B144-B4B6F3D8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146C1-08F1-489D-B58D-DA8F7A21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62A7B-82EC-4910-8CD3-DC208948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33CD-E63B-4844-B082-636E6678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C95C3-AA25-43B1-81A3-653B5CD7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EBEA5-7F03-4AB9-B095-A0F4C2E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327D0-D05D-4557-9A4E-4684AC5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44231-9F94-47B6-9B83-5725660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FB1AD-F969-416C-9F44-E5003C1C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D1794-367E-4327-9369-ED3A6902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3C22F-5183-4691-9FB0-8298EDED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DF7E8-AB4F-4409-9B31-5B011D7C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88E3C-008F-410C-8B88-B50D6078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214DD-5DBF-4601-B002-CF17552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5E8D-5982-4F9E-9C25-633DEA61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BFE57-ED31-454F-9679-E505B73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7C379-3A34-4248-A465-588F633D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5132F-45E8-4733-A517-91F534A5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B3B00-27D8-4AF7-BDF1-57817CF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4CE8C-C78E-475C-B35F-6FC52D8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7D7D1-3F45-4286-AD03-C6264784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0BCAD-FE7A-495A-AC29-43A48B1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FEFDE-FCBE-4A07-BA48-36A7AE84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748C2-9ACC-4E18-A8DA-BE301AC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7DE7-7A04-4E2C-8171-B6CF68C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FC90-CABB-4738-8886-062088B1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954F-051F-4AFC-A5B4-292AEAC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F96E-2D8B-4E2C-AA37-65E8DA5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3F90-2A26-4F5D-BCE1-2D2E69C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452-C7DA-4C2A-A77D-A0FAEB31A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272C-D972-4447-BF26-1FA1864D9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94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732-2D89-4AFC-A547-F95B67377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139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18C-0543-418F-A693-AC6E4A758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61927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Значе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домашнего задания в учебной деятельности школьник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556000" y="4581360"/>
            <a:ext cx="640872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дительское собрание в 5 «А»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уцкова И.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г. Перев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3 собр 58438"/>
          <p:cNvPicPr/>
          <p:nvPr/>
        </p:nvPicPr>
        <p:blipFill>
          <a:blip r:embed="rId1"/>
          <a:stretch/>
        </p:blipFill>
        <p:spPr>
          <a:xfrm>
            <a:off x="0" y="142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8 собр 2236276-the-boy-behind-a-table-with-books"/>
          <p:cNvPicPr/>
          <p:nvPr/>
        </p:nvPicPr>
        <p:blipFill>
          <a:blip r:embed="rId2"/>
          <a:stretch/>
        </p:blipFill>
        <p:spPr>
          <a:xfrm>
            <a:off x="6750000" y="189000"/>
            <a:ext cx="23940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2" descr="Учитесь на здоровье!"/>
          <p:cNvPicPr/>
          <p:nvPr/>
        </p:nvPicPr>
        <p:blipFill>
          <a:blip r:embed="rId1"/>
          <a:stretch/>
        </p:blipFill>
        <p:spPr>
          <a:xfrm>
            <a:off x="142920" y="142920"/>
            <a:ext cx="3071880" cy="22143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3500280" y="285840"/>
            <a:ext cx="49294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Новые нормы СанПиН для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Garamond"/>
              </a:rPr>
              <a:t>Дата публикации 2011-06-07 за подписью Г. Они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1428840" y="2228760"/>
            <a:ext cx="7286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.30.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бъем домашних заданий (по всем предметам) должен быть таким, чтобы затраты времени на его выполнение не превышали (в астрономических часах): во 2 - 3 классах - 1,5 ч., </a:t>
            </a:r>
            <a:r>
              <a:rPr b="1" i="1" lang="ru-RU" sz="2800" spc="-1" strike="noStrike">
                <a:solidFill>
                  <a:srgbClr val="ff0000"/>
                </a:solidFill>
                <a:latin typeface="Garamond"/>
                <a:ea typeface="Times New Roman"/>
              </a:rPr>
              <a:t>в 4 - 5 классах - 2 ч.,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6 - 8 классах - 2,5 ч., в 9 - 11 классах - до 3,5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500040" y="5786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ступили  в силу 1 сентября 2011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Шкала трудности школьных предметов, изучаемых в 5 классе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28760" y="1386000"/>
          <a:ext cx="8215200" cy="5497560"/>
        </p:xfrm>
        <a:graphic>
          <a:graphicData uri="http://schemas.openxmlformats.org/drawingml/2006/table">
            <a:tbl>
              <a:tblPr/>
              <a:tblGrid>
                <a:gridCol w="5187960"/>
                <a:gridCol w="2881080"/>
                <a:gridCol w="146160"/>
              </a:tblGrid>
              <a:tr h="873000">
                <a:tc>
                  <a:txBody>
                    <a:bodyPr lIns="42480" rIns="42480" tIns="42480" bIns="42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образователь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42480" bIns="424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аллов (ранг трудности) 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о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42480" bIns="42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3250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родител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480" y="1499760"/>
            <a:ext cx="8629560" cy="53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В опросе приняли участие 20 роди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Изменилось ли отношение Вашего ребёнка к выполнению дом. заданий в 5 классе по сравнению с начальной школ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9              Да, в лучшую сторону – 4                    Нет -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Сколько времени в день тратит Ваш ребёнок на подготовку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Много -1,    4 ч – 2,    3 ч – 3,  2 ч – 3,  1 – 2 ч – 3,  1-1,5 ч – 1,  1 ч – 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aramond"/>
              </a:rPr>
              <a:t>3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Какие предметы требу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больших затрат време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Диаграмма 3" descr=""/>
          <p:cNvPicPr/>
          <p:nvPr/>
        </p:nvPicPr>
        <p:blipFill>
          <a:blip r:embed="rId1"/>
          <a:stretch/>
        </p:blipFill>
        <p:spPr>
          <a:xfrm>
            <a:off x="3492360" y="3780000"/>
            <a:ext cx="5370480" cy="30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357120"/>
            <a:ext cx="832500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2200"/>
            </a:br>
            <a:br>
              <a:rPr sz="2200"/>
            </a:br>
            <a:br>
              <a:rPr sz="2800"/>
            </a:b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4</a:t>
            </a:r>
            <a:r>
              <a:rPr b="1" i="1" lang="ru-RU" sz="2800" spc="-1" strike="noStrike">
                <a:solidFill>
                  <a:srgbClr val="7030a0"/>
                </a:solidFill>
                <a:latin typeface="Garamond"/>
              </a:rPr>
              <a:t>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Всегда ли Ваш ребёнок понимает что он должен сделать,  выполняя д/з?</a:t>
            </a:r>
            <a:br>
              <a:rPr sz="28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8                         Не всегда – 5                                  Нет - 7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5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Приходится ли Вам помогать ребёнку выполнять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1         Иногда – 5         Очень редко – 3             Нет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6. По каким предметам Вы помогаете ребёнку выполнять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7. Всегда ли вашему ребенку объективно выставляется оценка за выполненную домашнюю работу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9                                  Не всегда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Диаграмма 3" descr=""/>
          <p:cNvPicPr/>
          <p:nvPr/>
        </p:nvPicPr>
        <p:blipFill>
          <a:blip r:embed="rId1"/>
          <a:stretch/>
        </p:blipFill>
        <p:spPr>
          <a:xfrm>
            <a:off x="1352520" y="2852640"/>
            <a:ext cx="672480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8. Всегда ли Ваш ребёнок знает что задано по тому или иному предмету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8                                  Не всегда – 4                          Нет - 8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785880" y="1857240"/>
            <a:ext cx="771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9. Чем объясняет ваш ребенок, что задание в дневнике не записа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Забы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зад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Есть в тетр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Запомни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успе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Не внимательно слуш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10. Всегда ли , по мнению ребенка , учитель аргументирует оценку за домашнее зад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1     Не всегда – 3    Нет – 5    Затрудняюсь ответить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собр 4 -pomoch-rebenku-vypolnjat-domashnie-zadanija"/>
          <p:cNvPicPr/>
          <p:nvPr/>
        </p:nvPicPr>
        <p:blipFill>
          <a:blip r:embed="rId1"/>
          <a:stretch/>
        </p:blipFill>
        <p:spPr>
          <a:xfrm>
            <a:off x="5594400" y="2286000"/>
            <a:ext cx="2975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собр 7302799b"/>
          <p:cNvPicPr/>
          <p:nvPr/>
        </p:nvPicPr>
        <p:blipFill>
          <a:blip r:embed="rId1"/>
          <a:stretch/>
        </p:blipFill>
        <p:spPr>
          <a:xfrm>
            <a:off x="142920" y="214200"/>
            <a:ext cx="2500200" cy="2105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                </a:t>
            </a: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учащихс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642960" y="1928880"/>
            <a:ext cx="8286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  <a:ea typeface="Times New Roman"/>
              </a:rPr>
              <a:t>                           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  <a:ea typeface="Times New Roman"/>
              </a:rPr>
              <a:t>1. Сколько времени в день ты тратишь на приготовление домашних заданий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3 ч- 3,        2 ч – 3,       1-1,5 ч – 2 ,      1 ч – 8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0, 5 -1 ч. -1,                          0,5ч - </a:t>
            </a: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6" descr=""/>
          <p:cNvPicPr/>
          <p:nvPr/>
        </p:nvPicPr>
        <p:blipFill>
          <a:blip r:embed="rId2"/>
          <a:stretch/>
        </p:blipFill>
        <p:spPr>
          <a:xfrm>
            <a:off x="3139920" y="3925800"/>
            <a:ext cx="5650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48664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3. Тебе всегда понятно задание, которое ты выполняешь дома, или ты уточняешь его у кого-нибудь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Уточняю у учителей  - 6    Когда как  – 5       Всегда понятно  - 9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4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Ты делаешь домашнее задание самостоятельно или с помощью взрослы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ам – 11                       Когда как – 3                 С помощью -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5. Проверяют ли взрослые выполнение тобой  д/з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14                      Иногда – 3                         Нет -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6. Всегда ли ты доволен отметкой за домашнее зад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– 7              Не всегда (почти всегда) – 9      Нет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7. С каким настроением ты выполняешь домашнее задание</a:t>
            </a:r>
            <a:r>
              <a:rPr b="1" i="1" lang="ru-RU" sz="22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 С хорошим – 5                                         - С нормальным 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обычным – 4                                     - С веселым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грустным – 5                                      - С невеселым -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С задумчивым – 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Когда как 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собр ad0e0_a346c6dede33dd990abc64492fb3e649"/>
          <p:cNvPicPr/>
          <p:nvPr/>
        </p:nvPicPr>
        <p:blipFill>
          <a:blip r:embed="rId1"/>
          <a:stretch/>
        </p:blipFill>
        <p:spPr>
          <a:xfrm>
            <a:off x="5500800" y="2500200"/>
            <a:ext cx="3241440" cy="2205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Garamond"/>
              </a:rPr>
              <a:t>9. </a:t>
            </a: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Если ты не выполнил домашнее задание потому,  что не понял, как поступит учитель, если ты ему это объясни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-Даст возможность исправить на следующий д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Объяснит, как дел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Поможет после уро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Поставит «2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Руг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10. Бывают ли случаи, когда ты просто списываешь задание перед уроком у своих одноклассник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Нет – 10                      Иногда – 6                     Да –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В анкетировании приняли участие 20 учащихся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486640" cy="101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8. Всегда ли ты успеваешь записывать д/з на уроке?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Garamond"/>
              </a:rPr>
              <a:t>Да - 15                         Не всегда - 1                                    Нет -4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214280" y="1928880"/>
            <a:ext cx="22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Анкета для педагогов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785880" y="1714680"/>
            <a:ext cx="7858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Garamond"/>
              </a:rPr>
              <a:t>Уважаемые педагоги! Подумайте и ответьте, пожалуйста, на следующи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. Всегда ли вы задаете по своему предмету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Учитываете ли вы возраст учащихся, возможности класса при дозировании домашнего зада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Предлагаете ли вы своим ученикам альтернативные задания, разноуровневые, творческие (по желанию), задания на выбор учеником? 4. Всегда ли вы даете домашнее задание на урок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5. Можете ли вы назвать учеников класса, которые выполняют домашнее задание по вашему предмету всегда хорош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6. Можете ли вы назвать учеников класса, которые выполняют задание плохо или вовсе не выполняю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7. Как вы поступаете, если ученик по какой-то причине не выполнил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8. Всегда ли вы аргументируете выставление оценки за домашнее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9. Какие методы стимулирования учащихся за выполнение домашних заданий вы использует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0. Какие рекомендации родителям вы хотели бы предложить по теме родительского собрания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амятка для родителей пятикласснико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Помогайте ребенку в учебе, чтобы он понял все детали трудного задания и сам мог выполнить аналогичное, подробно объясняя сво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Garamond"/>
              </a:rPr>
              <a:t>Чаще играйте с ребенком в развивающие игры, чтобы тренировать его память, внимание и мышление. Разгадывайте кроссворды, головоломки, ша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собр 9 %20%20~1"/>
          <p:cNvPicPr/>
          <p:nvPr/>
        </p:nvPicPr>
        <p:blipFill>
          <a:blip r:embed="rId1"/>
          <a:stretch/>
        </p:blipFill>
        <p:spPr>
          <a:xfrm>
            <a:off x="179280" y="18900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4" descr="собр 6 1235998554"/>
          <p:cNvPicPr/>
          <p:nvPr/>
        </p:nvPicPr>
        <p:blipFill>
          <a:blip r:embed="rId1"/>
          <a:stretch/>
        </p:blipFill>
        <p:spPr>
          <a:xfrm>
            <a:off x="179280" y="189000"/>
            <a:ext cx="4707000" cy="3609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02920" y="4005000"/>
            <a:ext cx="751212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«... 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занятия в школе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 могут только вдолбить в ребенка все правила, добытые чужим пониманием, но способность правильно пользоваться ими разовьет только домашний самостоятельный труд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ануил 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664480" cy="8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Памятка для родителей пятиклассник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3640" y="1790280"/>
            <a:ext cx="8591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риучайте ребенка к режиму дня, тем самым развивая его волю и собр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Помогайте ему стремиться совершенствовать свои способности не только в учебе, но и в других делах. Что касается учебы, то пусть ребенок научится в первую очередь добросовестно выполнять домашнее задание. При подготовке домашнего задания ученику помогут специальные памя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собр 9 %20%20~1"/>
          <p:cNvPicPr/>
          <p:nvPr/>
        </p:nvPicPr>
        <p:blipFill>
          <a:blip r:embed="rId1"/>
          <a:stretch/>
        </p:blipFill>
        <p:spPr>
          <a:xfrm>
            <a:off x="5940360" y="4797360"/>
            <a:ext cx="228600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71640" y="266400"/>
            <a:ext cx="6143760" cy="8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Garamond"/>
              </a:rPr>
              <a:t>Метод 5П для подготовки</a:t>
            </a:r>
            <a:br>
              <a:rPr sz="2800"/>
            </a:br>
            <a:r>
              <a:rPr b="1" lang="ru-RU" sz="2800" spc="-1" strike="noStrike">
                <a:solidFill>
                  <a:srgbClr val="a50021"/>
                </a:solidFill>
                <a:latin typeface="Garamond"/>
              </a:rPr>
              <a:t> устных ответо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235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Garamond"/>
              </a:rPr>
              <a:t>Этот метод был разработан американскими психологами. По их мнению, он позволяет сосредоточиться на самом основном в изучаемом тексте и помогает лучше его запомнит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1П</a:t>
            </a:r>
            <a:r>
              <a:rPr b="0" lang="ru-RU" sz="2500" spc="-1" strike="noStrike">
                <a:solidFill>
                  <a:srgbClr val="000000"/>
                </a:solidFill>
                <a:latin typeface="Garamond"/>
              </a:rPr>
              <a:t>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осмотри текст (бегло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2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идумай к нему вопрос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3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ометь карандашом самые важные мес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4П </a:t>
            </a:r>
            <a:r>
              <a:rPr b="1" i="1" lang="ru-RU" sz="25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ерескажи текст (используя ключевые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слова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5П –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Garamond"/>
              </a:rPr>
              <a:t>просмотри текст повтор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собр 4 -pomoch-rebenku-vypolnjat-domashnie-zadanija"/>
          <p:cNvPicPr/>
          <p:nvPr/>
        </p:nvPicPr>
        <p:blipFill>
          <a:blip r:embed="rId1"/>
          <a:stretch/>
        </p:blipFill>
        <p:spPr>
          <a:xfrm>
            <a:off x="0" y="0"/>
            <a:ext cx="2639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133992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Итоги обучения за первое полугодие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TextBox 7" descr=""/>
          <p:cNvPicPr/>
          <p:nvPr/>
        </p:nvPicPr>
        <p:blipFill>
          <a:blip r:embed="rId2"/>
          <a:stretch/>
        </p:blipFill>
        <p:spPr>
          <a:xfrm>
            <a:off x="2603520" y="3005280"/>
            <a:ext cx="5602320" cy="28224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500120" y="2143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Отлич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Хорошис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Garamond"/>
              </a:rPr>
              <a:t>Уровень обученности (качеств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чи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обр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Показать значение учебной домашней работы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Обсудить  проблемы подготовки домашних заданий учащимися класса, определить возможные пути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7 собр math_disabilities"/>
          <p:cNvPicPr/>
          <p:nvPr/>
        </p:nvPicPr>
        <p:blipFill>
          <a:blip r:embed="rId1"/>
          <a:stretch/>
        </p:blipFill>
        <p:spPr>
          <a:xfrm>
            <a:off x="5329080" y="1700280"/>
            <a:ext cx="38149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Вопросы для обсужде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машнее задание и его значение в умственном развитии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Роль домашнего задания в самостоятельной работе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собенности выполнения домашних заданий по отдельн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6 собр0_2a75_91e9f7b2_XL"/>
          <p:cNvPicPr/>
          <p:nvPr/>
        </p:nvPicPr>
        <p:blipFill>
          <a:blip r:embed="rId1"/>
          <a:stretch/>
        </p:blipFill>
        <p:spPr>
          <a:xfrm>
            <a:off x="5122800" y="1790640"/>
            <a:ext cx="377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56760" y="3071520"/>
            <a:ext cx="7715160" cy="34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ередко в учебе пятиклассников возникают проблемы, несмотря на то, что ребята хотят хорошо учиться и радовать своих близких и окружающих. Причины плохой учебы могут быть связаны: во-первых, со слабой учебной подготовкой в начальных классах; во-вторых, с неумением анализировать, плохой речью, слабой память и вниманием; в-третьих, с нежеланием заставить себя заниматься, неразвитой в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5 собр ce3372bb7ca1t"/>
          <p:cNvPicPr/>
          <p:nvPr/>
        </p:nvPicPr>
        <p:blipFill>
          <a:blip r:embed="rId1"/>
          <a:srcRect l="0" t="0" r="0" b="11569"/>
          <a:stretch/>
        </p:blipFill>
        <p:spPr>
          <a:xfrm>
            <a:off x="6357960" y="357120"/>
            <a:ext cx="246204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собр 7302799b"/>
          <p:cNvPicPr/>
          <p:nvPr/>
        </p:nvPicPr>
        <p:blipFill>
          <a:blip r:embed="rId2"/>
          <a:stretch/>
        </p:blipFill>
        <p:spPr>
          <a:xfrm>
            <a:off x="285840" y="214200"/>
            <a:ext cx="35290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начение домашнего зад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90640"/>
            <a:ext cx="436572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ь способность к суждению у всех учащихся на уроке – неблагодарное и нереальное зан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витие ума, способность самостоятельно мыслить формируются и совершенствуются в ходе индивидуального освоения умственной культуры 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собр 2 13"/>
          <p:cNvPicPr/>
          <p:nvPr/>
        </p:nvPicPr>
        <p:blipFill>
          <a:blip r:embed="rId1"/>
          <a:stretch/>
        </p:blipFill>
        <p:spPr>
          <a:xfrm>
            <a:off x="5508720" y="1700280"/>
            <a:ext cx="33354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начение домашнего зада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537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ыполнение домашнего задания должно обучать ребенка полемизировать с самим собой, без наличия оппонента и учителя взвешивать все "за" и "против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амое элементарное в домашнем задании – это буквальное повторение пройденного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5" descr="собр 5 pupil"/>
          <p:cNvPicPr/>
          <p:nvPr/>
        </p:nvPicPr>
        <p:blipFill>
          <a:blip r:embed="rId1"/>
          <a:stretch/>
        </p:blipFill>
        <p:spPr>
          <a:xfrm>
            <a:off x="6516720" y="1989000"/>
            <a:ext cx="2060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360" y="266760"/>
            <a:ext cx="542304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Garamond"/>
              </a:rPr>
              <a:t>Главное назначение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Garamond"/>
              </a:rPr>
              <a:t> домашнего задания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493120" cy="41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спитание волевых усилий ребенка, ответственности и самосто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владение навыками учебного труда, выраженное в различных способах учебн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ормирование умения добывать необходимую информацию из различных справочников, пособий, словар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ормирование исследовательских умений ученика (сопоставление, сравнение, предположение, построение гипоте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 т. 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собр ad0e0_a346c6dede33dd990abc64492fb3e649"/>
          <p:cNvPicPr/>
          <p:nvPr/>
        </p:nvPicPr>
        <p:blipFill>
          <a:blip r:embed="rId1"/>
          <a:stretch/>
        </p:blipFill>
        <p:spPr>
          <a:xfrm>
            <a:off x="250920" y="189000"/>
            <a:ext cx="3241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715240" cy="12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Garamond"/>
              </a:rPr>
              <a:t>Гигиенические требования к максимальным величинам недельной образовательной нагруз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00040" y="1643040"/>
          <a:ext cx="8286840" cy="4905360"/>
        </p:xfrm>
        <a:graphic>
          <a:graphicData uri="http://schemas.openxmlformats.org/drawingml/2006/table">
            <a:tbl>
              <a:tblPr/>
              <a:tblGrid>
                <a:gridCol w="4091040"/>
                <a:gridCol w="2098800"/>
                <a:gridCol w="2097000"/>
              </a:tblGrid>
              <a:tr h="112860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 допустимая недельная нагрузка в академических ча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6-дневной неделе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5-дневной неделе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8:53:10Z</dcterms:created>
  <dc:creator>Алексей</dc:creator>
  <dc:description/>
  <dc:language>en-US</dc:language>
  <cp:lastModifiedBy>Алексей</cp:lastModifiedBy>
  <dcterms:modified xsi:type="dcterms:W3CDTF">2013-02-05T15:17:37Z</dcterms:modified>
  <cp:revision>25</cp:revision>
  <dc:subject/>
  <dc:title>Значение  домашнего задания в учебной деятельности школьника</dc:title>
</cp:coreProperties>
</file>