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13.png" ContentType="image/pn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0BD0D-CECF-454A-906B-1C5AC2C3B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D66DF-B1B8-4785-934B-2C2339DC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EA7E9-F3B2-4F78-8DE1-AA96293A5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5C952-6A22-445E-A7D0-DF07E277F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DD46C0-CA28-4CC4-8812-B86CAF249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981C7B-7A93-492B-BC6B-1DBCF14B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243D67-8FF0-4F4C-92E2-B23EB6AD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18E03C-2267-4BD1-A441-AD926682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D3C94-268B-4DAD-BA4A-11A3C98B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9FB20-0153-47A5-879A-D450637E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635F8-5CDC-4CB4-9DE2-9198B1E8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FB272-70D1-45A7-966A-5CACD0D0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453C55-DEED-4290-B6D1-4A70C396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781DB-E885-4D0E-BEB8-20A803AA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0CE185-7938-4DC4-A44B-512C27E0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97569F-38F8-4DF2-9CA4-56718F82D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8E8FE2-E573-492E-BD46-7D91075F3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295184-33D0-4696-8926-56D93B861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CAD245-D894-4190-B7FB-6E5D355C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46559E-9215-46C5-AC85-2E2CC355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B66E51-8107-4763-A01E-F205F736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EAB32F-CD81-4526-8BBA-C12A3759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E72AD-2A9E-4820-828B-14F3E761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7842FC-7AD4-42DC-99A7-3D447734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B6809F-8393-4069-9F0C-B029E04A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FD81B7-4F47-4CE2-A8BB-120F749D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1DA483-82FE-4B72-8EF2-4A29250E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F030B3-C1BD-4B92-817A-64272BDE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A69D04-C8A5-4A4F-B21A-41E8C5BBC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83CF46-E241-46D0-A6A8-C5AD869D9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C9273F-0CBA-4654-99B4-B3D1A8203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ECC3E7-6F37-4BAA-9860-A59A35E7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51F70C-BAEF-499D-9EF9-F4762860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DC87B-8798-450A-B03B-2910E4FB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23E677-CA9D-40A6-9AC1-C3A7D7F7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DE7AFB-7415-492D-B351-FF7950E3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955B29-94B3-4F64-9917-05E9073B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B5BE6C-CD23-44E5-845F-DE1A81B8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0FFFEF-59A7-4BB1-8A4B-CE3D12C8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4D953B-913B-4841-87D5-697053C4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7413D0-BFEB-403B-BC2D-52023BCE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0F6B52-CD9D-4D2A-8FD6-925FA0F6A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19D76C-839A-49BC-B446-B83F8A32D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1DC6E-0167-4293-8E1D-CF5A50F9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F49B3-2E6D-4BE5-92E6-8F684974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5A252-1E3F-40CB-ABA3-B6C86611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129A4-6056-41EB-8717-A0C93CF5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53C3F-BCDC-4E5B-949D-63B14795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Line 4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294B-E976-491D-80C3-0CBEEB343D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Line 5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Line 6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Rectangle 7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ADAC-9C8E-4581-82C2-2FAF622CD1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94" name="Line 4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5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7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8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47B4-3839-42FF-AF91-3DBBD1C680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dt" idx="9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3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139" name="Line 4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5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ftr" idx="10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C0BE-9292-433C-8249-A421A09B6D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dt" idx="12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6192720" cy="324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Значение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домашнего задания в учебной деятельности школьника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2556000" y="4581360"/>
            <a:ext cx="6408720" cy="194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одительское собрание в 5 «А»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уцкова И.А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БОУ СОШ г. Перев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3 собр 58438"/>
          <p:cNvPicPr/>
          <p:nvPr/>
        </p:nvPicPr>
        <p:blipFill>
          <a:blip r:embed="rId1"/>
          <a:stretch/>
        </p:blipFill>
        <p:spPr>
          <a:xfrm>
            <a:off x="0" y="142920"/>
            <a:ext cx="1800360" cy="13478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8 собр 2236276-the-boy-behind-a-table-with-books"/>
          <p:cNvPicPr/>
          <p:nvPr/>
        </p:nvPicPr>
        <p:blipFill>
          <a:blip r:embed="rId2"/>
          <a:stretch/>
        </p:blipFill>
        <p:spPr>
          <a:xfrm>
            <a:off x="6750000" y="189000"/>
            <a:ext cx="239400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Рисунок 2" descr="Учитесь на здоровье!"/>
          <p:cNvPicPr/>
          <p:nvPr/>
        </p:nvPicPr>
        <p:blipFill>
          <a:blip r:embed="rId1"/>
          <a:stretch/>
        </p:blipFill>
        <p:spPr>
          <a:xfrm>
            <a:off x="142920" y="142920"/>
            <a:ext cx="3071880" cy="2214360"/>
          </a:xfrm>
          <a:prstGeom prst="rect">
            <a:avLst/>
          </a:prstGeom>
          <a:ln w="0">
            <a:noFill/>
          </a:ln>
        </p:spPr>
      </p:pic>
      <p:sp>
        <p:nvSpPr>
          <p:cNvPr id="209" name="TextBox 6"/>
          <p:cNvSpPr/>
          <p:nvPr/>
        </p:nvSpPr>
        <p:spPr>
          <a:xfrm>
            <a:off x="3500280" y="285840"/>
            <a:ext cx="49294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aramond"/>
              </a:rPr>
              <a:t>Новые нормы СанПиН для школь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i="1" lang="ru-RU" sz="2800" spc="-1" strike="noStrike">
                <a:solidFill>
                  <a:srgbClr val="c00000"/>
                </a:solidFill>
                <a:latin typeface="Garamond"/>
              </a:rPr>
              <a:t>Дата публикации 2011-06-07 за подписью Г. Онищ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7"/>
          <p:cNvSpPr/>
          <p:nvPr/>
        </p:nvSpPr>
        <p:spPr>
          <a:xfrm>
            <a:off x="1428840" y="2228760"/>
            <a:ext cx="728640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0.30.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Объем домашних заданий (по всем предметам) должен быть таким, чтобы затраты времени на его выполнение не превышали (в астрономических часах): во 2 - 3 классах - 1,5 ч., </a:t>
            </a:r>
            <a:r>
              <a:rPr b="1" i="1" lang="ru-RU" sz="2800" spc="-1" strike="noStrike">
                <a:solidFill>
                  <a:srgbClr val="ff0000"/>
                </a:solidFill>
                <a:latin typeface="Garamond"/>
                <a:ea typeface="Times New Roman"/>
              </a:rPr>
              <a:t>в 4 - 5 классах - 2 ч.,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в 6 - 8 классах - 2,5 ч., в 9 - 11 классах - до 3,5 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8"/>
          <p:cNvSpPr/>
          <p:nvPr/>
        </p:nvSpPr>
        <p:spPr>
          <a:xfrm>
            <a:off x="500040" y="578628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ступили  в силу 1 сентября 2011 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Шкала трудности школьных предметов, изучаемых в 5 классе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28760" y="1386000"/>
          <a:ext cx="8215200" cy="5497560"/>
        </p:xfrm>
        <a:graphic>
          <a:graphicData uri="http://schemas.openxmlformats.org/drawingml/2006/table">
            <a:tbl>
              <a:tblPr/>
              <a:tblGrid>
                <a:gridCol w="5187960"/>
                <a:gridCol w="2881080"/>
                <a:gridCol w="146160"/>
              </a:tblGrid>
              <a:tr h="873000">
                <a:tc>
                  <a:txBody>
                    <a:bodyPr lIns="42480" rIns="42480" tIns="42480" bIns="424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образовательные предм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42480" bIns="424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баллов (ранг трудности) 5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42480" rIns="42480" tIns="42480" bIns="42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2480" rIns="42480" tIns="42480" bIns="42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0120">
                <a:tc>
                  <a:txBody>
                    <a:bodyPr lIns="42480" rIns="42480" tIns="42480" bIns="42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остранны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2480" rIns="42480" tIns="42480" bIns="42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0480">
                <a:tc>
                  <a:txBody>
                    <a:bodyPr lIns="42480" rIns="42480" tIns="42480" bIns="42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2480" rIns="42480" tIns="42480" bIns="42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0120">
                <a:tc>
                  <a:txBody>
                    <a:bodyPr lIns="42480" rIns="42480" tIns="42480" bIns="42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но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2480" rIns="42480" tIns="42480" bIns="42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0120">
                <a:tc>
                  <a:txBody>
                    <a:bodyPr lIns="42480" rIns="42480" tIns="42480" bIns="42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ове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2480" rIns="42480" tIns="42480" bIns="42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0120">
                <a:tc>
                  <a:txBody>
                    <a:bodyPr lIns="42480" rIns="42480" tIns="42480" bIns="42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жданове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2480" rIns="42480" tIns="42480" bIns="42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0480">
                <a:tc>
                  <a:txBody>
                    <a:bodyPr lIns="42480" rIns="42480" tIns="42480" bIns="42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2480" rIns="42480" tIns="42480" bIns="42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0120">
                <a:tc>
                  <a:txBody>
                    <a:bodyPr lIns="42480" rIns="42480" tIns="42480" bIns="42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2480" rIns="42480" tIns="42480" bIns="42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0120">
                <a:tc>
                  <a:txBody>
                    <a:bodyPr lIns="42480" rIns="42480" tIns="42480" bIns="42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2480" rIns="42480" tIns="42480" bIns="42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1920">
                <a:tc>
                  <a:txBody>
                    <a:bodyPr lIns="42480" rIns="42480" tIns="42480" bIns="42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2480" rIns="42480" tIns="42480" bIns="42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0120">
                <a:tc>
                  <a:txBody>
                    <a:bodyPr lIns="42480" rIns="42480" tIns="42480" bIns="42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2480" rIns="42480" tIns="42480" bIns="42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0120">
                <a:tc>
                  <a:txBody>
                    <a:bodyPr lIns="42480" rIns="42480" tIns="42480" bIns="42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2480" rIns="42480" tIns="42480" bIns="42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0120">
                <a:tc>
                  <a:txBody>
                    <a:bodyPr lIns="42480" rIns="42480" tIns="42480" bIns="42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2480" rIns="42480" tIns="42480" bIns="42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0480">
                <a:tc>
                  <a:txBody>
                    <a:bodyPr lIns="42480" rIns="42480" tIns="42480" bIns="42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Ж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2480" rIns="42480" tIns="42480" bIns="42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42600" y="285480"/>
            <a:ext cx="832500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Garamond"/>
              </a:rPr>
              <a:t>Анкета для родителей: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85480" y="1499760"/>
            <a:ext cx="8629560" cy="53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14440" indent="-514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                 </a:t>
            </a: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В опросе приняли участие 20 родител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7030a0"/>
                </a:solidFill>
                <a:latin typeface="Garamond"/>
              </a:rPr>
              <a:t>Изменилось ли отношение Вашего ребёнка к выполнению дом. заданий в 5 классе по сравнению с начальной школой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Да – 9              Да, в лучшую сторону – 4                    Нет - 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aramond"/>
              </a:rPr>
              <a:t>2</a:t>
            </a:r>
            <a:r>
              <a:rPr b="0" lang="ru-RU" sz="2200" spc="-1" strike="noStrike">
                <a:solidFill>
                  <a:srgbClr val="7030a0"/>
                </a:solidFill>
                <a:latin typeface="Garamond"/>
              </a:rPr>
              <a:t>. </a:t>
            </a:r>
            <a:r>
              <a:rPr b="1" i="1" lang="ru-RU" sz="2200" spc="-1" strike="noStrike">
                <a:solidFill>
                  <a:srgbClr val="7030a0"/>
                </a:solidFill>
                <a:latin typeface="Garamond"/>
              </a:rPr>
              <a:t>Сколько времени в день тратит Ваш ребёнок на подготовку д/з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Много -1,    4 ч – 2,    3 ч – 3,  2 ч – 3,  1 – 2 ч – 3,  1-1,5 ч – 1,  1 ч – 7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aramond"/>
              </a:rPr>
              <a:t>3. </a:t>
            </a:r>
            <a:r>
              <a:rPr b="1" i="1" lang="ru-RU" sz="2200" spc="-1" strike="noStrike">
                <a:solidFill>
                  <a:srgbClr val="7030a0"/>
                </a:solidFill>
                <a:latin typeface="Garamond"/>
              </a:rPr>
              <a:t>Какие предметы требую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7030a0"/>
                </a:solidFill>
                <a:latin typeface="Garamond"/>
              </a:rPr>
              <a:t> </a:t>
            </a:r>
            <a:r>
              <a:rPr b="1" i="1" lang="ru-RU" sz="2200" spc="-1" strike="noStrike">
                <a:solidFill>
                  <a:srgbClr val="7030a0"/>
                </a:solidFill>
                <a:latin typeface="Garamond"/>
              </a:rPr>
              <a:t>больших затрат времен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Диаграмма 3" descr=""/>
          <p:cNvPicPr/>
          <p:nvPr/>
        </p:nvPicPr>
        <p:blipFill>
          <a:blip r:embed="rId1"/>
          <a:stretch/>
        </p:blipFill>
        <p:spPr>
          <a:xfrm>
            <a:off x="3492360" y="3780000"/>
            <a:ext cx="5370480" cy="308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90040" y="357120"/>
            <a:ext cx="8325000" cy="101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2200"/>
            </a:br>
            <a:br>
              <a:rPr sz="2200"/>
            </a:br>
            <a:br>
              <a:rPr sz="2800"/>
            </a:br>
            <a:r>
              <a:rPr b="1" i="1" lang="ru-RU" sz="2200" spc="-1" strike="noStrike">
                <a:solidFill>
                  <a:srgbClr val="7030a0"/>
                </a:solidFill>
                <a:latin typeface="Garamond"/>
              </a:rPr>
              <a:t>4</a:t>
            </a:r>
            <a:r>
              <a:rPr b="1" i="1" lang="ru-RU" sz="2800" spc="-1" strike="noStrike">
                <a:solidFill>
                  <a:srgbClr val="7030a0"/>
                </a:solidFill>
                <a:latin typeface="Garamond"/>
              </a:rPr>
              <a:t>. </a:t>
            </a:r>
            <a:r>
              <a:rPr b="1" i="1" lang="ru-RU" sz="2200" spc="-1" strike="noStrike">
                <a:solidFill>
                  <a:srgbClr val="7030a0"/>
                </a:solidFill>
                <a:latin typeface="Garamond"/>
              </a:rPr>
              <a:t>Всегда ли Ваш ребёнок понимает что он должен сделать,  выполняя д/з?</a:t>
            </a:r>
            <a:br>
              <a:rPr sz="2800"/>
            </a:b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Да – 8                         Не всегда – 5                                  Нет - 7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4268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Garamond"/>
              </a:rPr>
              <a:t>5. </a:t>
            </a:r>
            <a:r>
              <a:rPr b="1" i="1" lang="ru-RU" sz="2200" spc="-1" strike="noStrike">
                <a:solidFill>
                  <a:srgbClr val="7030a0"/>
                </a:solidFill>
                <a:latin typeface="Garamond"/>
              </a:rPr>
              <a:t>Приходится ли Вам помогать ребёнку выполнять д/з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Да – 11         Иногда – 5         Очень редко – 3             Нет -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7030a0"/>
                </a:solidFill>
                <a:latin typeface="Garamond"/>
              </a:rPr>
              <a:t>6. По каким предметам Вы помогаете ребёнку выполнять д/з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7030a0"/>
                </a:solidFill>
                <a:latin typeface="Garamond"/>
              </a:rPr>
              <a:t>7. Всегда ли вашему ребенку объективно выставляется оценка за выполненную домашнюю работу</a:t>
            </a:r>
            <a:r>
              <a:rPr b="1" i="1" lang="ru-RU" sz="2200" spc="-1" strike="noStrike">
                <a:solidFill>
                  <a:srgbClr val="7030a0"/>
                </a:solidFill>
                <a:latin typeface="Arial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Да – 19                                  Не всегда -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Диаграмма 3" descr=""/>
          <p:cNvPicPr/>
          <p:nvPr/>
        </p:nvPicPr>
        <p:blipFill>
          <a:blip r:embed="rId1"/>
          <a:stretch/>
        </p:blipFill>
        <p:spPr>
          <a:xfrm>
            <a:off x="1352520" y="2852640"/>
            <a:ext cx="6724800" cy="251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7030a0"/>
                </a:solidFill>
                <a:latin typeface="Garamond"/>
              </a:rPr>
              <a:t>8. Всегда ли Ваш ребёнок знает что задано по тому или иному предмету?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Да – 8                                  Не всегда – 4                          Нет - 8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2" name="TextBox 3"/>
          <p:cNvSpPr/>
          <p:nvPr/>
        </p:nvSpPr>
        <p:spPr>
          <a:xfrm>
            <a:off x="785880" y="1857240"/>
            <a:ext cx="7715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7030a0"/>
                </a:solidFill>
                <a:latin typeface="Garamond"/>
              </a:rPr>
              <a:t>9. Чем объясняет ваш ребенок, что задание в дневнике не записано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-Забы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-Не задаю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-Есть в тетрад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-Запомни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-Не успе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-Не внимательно слуша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7030a0"/>
                </a:solidFill>
                <a:latin typeface="Garamond"/>
              </a:rPr>
              <a:t>10. Всегда ли , по мнению ребенка , учитель аргументирует оценку за домашнее задани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Да – 11     Не всегда – 3    Нет – 5    Затрудняюсь ответить -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7" descr="собр 4 -pomoch-rebenku-vypolnjat-domashnie-zadanija"/>
          <p:cNvPicPr/>
          <p:nvPr/>
        </p:nvPicPr>
        <p:blipFill>
          <a:blip r:embed="rId1"/>
          <a:stretch/>
        </p:blipFill>
        <p:spPr>
          <a:xfrm>
            <a:off x="5594400" y="2286000"/>
            <a:ext cx="2975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8" descr="собр 7302799b"/>
          <p:cNvPicPr/>
          <p:nvPr/>
        </p:nvPicPr>
        <p:blipFill>
          <a:blip r:embed="rId1"/>
          <a:stretch/>
        </p:blipFill>
        <p:spPr>
          <a:xfrm>
            <a:off x="142920" y="214200"/>
            <a:ext cx="2500200" cy="210528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32464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Garamond"/>
              </a:rPr>
              <a:t>                </a:t>
            </a:r>
            <a:r>
              <a:rPr b="1" lang="ru-RU" sz="4400" spc="-1" strike="noStrike">
                <a:solidFill>
                  <a:srgbClr val="c00000"/>
                </a:solidFill>
                <a:latin typeface="Garamond"/>
              </a:rPr>
              <a:t>Анкета для учащихся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642960" y="1928880"/>
            <a:ext cx="82868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7030a0"/>
                </a:solidFill>
                <a:latin typeface="Garamond"/>
                <a:ea typeface="Times New Roman"/>
              </a:rPr>
              <a:t>                            </a:t>
            </a:r>
            <a:r>
              <a:rPr b="1" i="1" lang="ru-RU" sz="2200" spc="-1" strike="noStrike">
                <a:solidFill>
                  <a:srgbClr val="7030a0"/>
                </a:solidFill>
                <a:latin typeface="Garamond"/>
                <a:ea typeface="Times New Roman"/>
              </a:rPr>
              <a:t>1. Сколько времени в день ты тратишь на приготовление домашних заданий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aramond"/>
                <a:ea typeface="Times New Roman"/>
              </a:rPr>
              <a:t>3 ч- 3,        2 ч – 3,       1-1,5 ч – 2 ,      1 ч – 8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</a:t>
            </a:r>
            <a:r>
              <a:rPr b="1" i="1" lang="ru-RU" sz="2200" spc="-1" strike="noStrike">
                <a:solidFill>
                  <a:srgbClr val="000000"/>
                </a:solidFill>
                <a:latin typeface="Garamond"/>
                <a:ea typeface="Times New Roman"/>
              </a:rPr>
              <a:t>0, 5 -1 ч. -1,                          0,5ч - </a:t>
            </a: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3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7030a0"/>
                </a:solidFill>
                <a:latin typeface="Garamond"/>
              </a:rPr>
              <a:t>2. На подготовку каких домашних заданий тебе приходится тратить больше времени, чем на все остальны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Диаграмма 6" descr=""/>
          <p:cNvPicPr/>
          <p:nvPr/>
        </p:nvPicPr>
        <p:blipFill>
          <a:blip r:embed="rId2"/>
          <a:stretch/>
        </p:blipFill>
        <p:spPr>
          <a:xfrm>
            <a:off x="3139920" y="3925800"/>
            <a:ext cx="565020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486640" cy="101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7030a0"/>
                </a:solidFill>
                <a:latin typeface="Garamond"/>
              </a:rPr>
              <a:t>3. Тебе всегда понятно задание, которое ты выполняешь дома, или ты уточняешь его у кого-нибудь?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Уточняю у учителей  - 6    Когда как  – 5       Всегда понятно  - 9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4268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Garamond"/>
              </a:rPr>
              <a:t>4. </a:t>
            </a:r>
            <a:r>
              <a:rPr b="1" i="1" lang="ru-RU" sz="2200" spc="-1" strike="noStrike">
                <a:solidFill>
                  <a:srgbClr val="7030a0"/>
                </a:solidFill>
                <a:latin typeface="Garamond"/>
              </a:rPr>
              <a:t>Ты делаешь домашнее задание самостоятельно или с помощью взрослых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Сам – 11                       Когда как – 3                 С помощью - 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7030a0"/>
                </a:solidFill>
                <a:latin typeface="Garamond"/>
              </a:rPr>
              <a:t>5. Проверяют ли взрослые выполнение тобой  д/з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Да – 14                      Иногда – 3                         Нет -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7030a0"/>
                </a:solidFill>
                <a:latin typeface="Garamond"/>
              </a:rPr>
              <a:t>6. Всегда ли ты доволен отметкой за домашнее задани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Да – 7              Не всегда (почти всегда) – 9      Нет –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7030a0"/>
                </a:solidFill>
                <a:latin typeface="Garamond"/>
              </a:rPr>
              <a:t>7. С каким настроением ты выполняешь домашнее задание</a:t>
            </a:r>
            <a:r>
              <a:rPr b="1" i="1" lang="ru-RU" sz="2200" spc="-1" strike="noStrike">
                <a:solidFill>
                  <a:srgbClr val="7030a0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- С хорошим – 5                                         - С нормальным  -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С обычным – 4                                     - С веселым -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С грустным – 5                                      - С невеселым - 2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С задумчивым – 1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Когда как -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7" descr="собр ad0e0_a346c6dede33dd990abc64492fb3e649"/>
          <p:cNvPicPr/>
          <p:nvPr/>
        </p:nvPicPr>
        <p:blipFill>
          <a:blip r:embed="rId1"/>
          <a:stretch/>
        </p:blipFill>
        <p:spPr>
          <a:xfrm>
            <a:off x="5500800" y="2500200"/>
            <a:ext cx="3241440" cy="22050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164268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Garamond"/>
              </a:rPr>
              <a:t>9. </a:t>
            </a:r>
            <a:r>
              <a:rPr b="1" i="1" lang="ru-RU" sz="2200" spc="-1" strike="noStrike">
                <a:solidFill>
                  <a:srgbClr val="7030a0"/>
                </a:solidFill>
                <a:latin typeface="Garamond"/>
              </a:rPr>
              <a:t>Если ты не выполнил домашнее задание потому,  что не понял, как поступит учитель, если ты ему это объяснишь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-Даст возможность исправить на следующий ден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Объяснит, как дела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Поможет после уро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Поставит «2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Ругае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7030a0"/>
                </a:solidFill>
                <a:latin typeface="Garamond"/>
              </a:rPr>
              <a:t>10. Бывают ли случаи, когда ты просто списываешь задание перед уроком у своих одноклассников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Нет – 10                      Иногда – 6                     Да –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В анкетировании приняли участие 20 учащихся клас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486640" cy="101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7030a0"/>
                </a:solidFill>
                <a:latin typeface="Garamond"/>
              </a:rPr>
              <a:t>8. Всегда ли ты успеваешь записывать д/з на уроке?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Да - 15                         Не всегда - 1                                    Нет -4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10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оугольник 1"/>
          <p:cNvSpPr/>
          <p:nvPr/>
        </p:nvSpPr>
        <p:spPr>
          <a:xfrm>
            <a:off x="1214280" y="1928880"/>
            <a:ext cx="2221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Garamond"/>
              </a:rPr>
              <a:t>Анкета для педагогов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TextBox 3"/>
          <p:cNvSpPr/>
          <p:nvPr/>
        </p:nvSpPr>
        <p:spPr>
          <a:xfrm>
            <a:off x="785880" y="1714680"/>
            <a:ext cx="78580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7030a0"/>
                </a:solidFill>
                <a:latin typeface="Garamond"/>
              </a:rPr>
              <a:t>Уважаемые педагоги! Подумайте и ответьте, пожалуйста, на следующие вопро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. Всегда ли вы задаете по своему предмету домашнее задание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2. Учитываете ли вы возраст учащихся, возможности класса при дозировании домашнего задания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3. Предлагаете ли вы своим ученикам альтернативные задания, разноуровневые, творческие (по желанию), задания на выбор учеником? 4. Всегда ли вы даете домашнее задание на урок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5. Можете ли вы назвать учеников класса, которые выполняют домашнее задание по вашему предмету всегда хорошо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6. Можете ли вы назвать учеников класса, которые выполняют задание плохо или вовсе не выполняют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7. Как вы поступаете, если ученик по какой-то причине не выполнил домашнее задание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8. Всегда ли вы аргументируете выставление оценки за домашнее задание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9. Какие методы стимулирования учащихся за выполнение домашних заданий вы используете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10. Какие рекомендации родителям вы хотели бы предложить по теме родительского собрания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aramond"/>
              </a:rPr>
              <a:t>Памятка для родителей пятиклассников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7138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Garamond"/>
              </a:rPr>
              <a:t>Помогайте ребенку в учебе, чтобы он понял все детали трудного задания и сам мог выполнить аналогичное, подробно объясняя свои 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Garamond"/>
              </a:rPr>
              <a:t>Чаще играйте с ребенком в развивающие игры, чтобы тренировать его память, внимание и мышление. Разгадывайте кроссворды, головоломки, шар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7" descr="собр 9 %20%20~1"/>
          <p:cNvPicPr/>
          <p:nvPr/>
        </p:nvPicPr>
        <p:blipFill>
          <a:blip r:embed="rId1"/>
          <a:stretch/>
        </p:blipFill>
        <p:spPr>
          <a:xfrm>
            <a:off x="179280" y="189000"/>
            <a:ext cx="22860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4" descr="собр 6 1235998554"/>
          <p:cNvPicPr/>
          <p:nvPr/>
        </p:nvPicPr>
        <p:blipFill>
          <a:blip r:embed="rId1"/>
          <a:stretch/>
        </p:blipFill>
        <p:spPr>
          <a:xfrm>
            <a:off x="179280" y="189000"/>
            <a:ext cx="4707000" cy="360972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402920" y="4005000"/>
            <a:ext cx="7512120" cy="216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«... 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занятия в школе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 могут только вдолбить в ребенка все правила, добытые чужим пониманием, но способность правильно пользоваться ими разовьет только домашний самостоятельный труд</a:t>
            </a: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мануил К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1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664480" cy="85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aramond"/>
              </a:rPr>
              <a:t>Памятка для родителей пятиклассников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23640" y="1790280"/>
            <a:ext cx="8591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Garamond"/>
              </a:rPr>
              <a:t>Приучайте ребенка к режиму дня, тем самым развивая его волю и собра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Garamond"/>
              </a:rPr>
              <a:t>Помогайте ему стремиться совершенствовать свои способности не только в учебе, но и в других делах. Что касается учебы, то пусть ребенок научится в первую очередь добросовестно выполнять домашнее задание. При подготовке домашнего задания ученику помогут специальные памя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собр 9 %20%20~1"/>
          <p:cNvPicPr/>
          <p:nvPr/>
        </p:nvPicPr>
        <p:blipFill>
          <a:blip r:embed="rId1"/>
          <a:stretch/>
        </p:blipFill>
        <p:spPr>
          <a:xfrm>
            <a:off x="5940360" y="4797360"/>
            <a:ext cx="2286000" cy="180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771640" y="266400"/>
            <a:ext cx="6143760" cy="85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Garamond"/>
              </a:rPr>
              <a:t>Метод 5П для подготовки</a:t>
            </a:r>
            <a:br>
              <a:rPr sz="2800"/>
            </a:br>
            <a:r>
              <a:rPr b="1" lang="ru-RU" sz="2800" spc="-1" strike="noStrike">
                <a:solidFill>
                  <a:srgbClr val="a50021"/>
                </a:solidFill>
                <a:latin typeface="Garamond"/>
              </a:rPr>
              <a:t> устных ответов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9280" y="2204640"/>
            <a:ext cx="872352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66"/>
                </a:solidFill>
                <a:latin typeface="Garamond"/>
              </a:rPr>
              <a:t>Этот метод был разработан американскими психологами. По их мнению, он позволяет сосредоточиться на самом основном в изучаемом тексте и помогает лучше его запомнить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Garamond"/>
              </a:rPr>
              <a:t>1П</a:t>
            </a:r>
            <a:r>
              <a:rPr b="0" lang="ru-RU" sz="2500" spc="-1" strike="noStrike">
                <a:solidFill>
                  <a:srgbClr val="000000"/>
                </a:solidFill>
                <a:latin typeface="Garamond"/>
              </a:rPr>
              <a:t> – </a:t>
            </a:r>
            <a:r>
              <a:rPr b="1" i="1" lang="ru-RU" sz="2500" spc="-1" strike="noStrike" u="sng">
                <a:solidFill>
                  <a:srgbClr val="000000"/>
                </a:solidFill>
                <a:uFillTx/>
                <a:latin typeface="Garamond"/>
              </a:rPr>
              <a:t>просмотри текст (бегло)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Garamond"/>
              </a:rPr>
              <a:t>2П – </a:t>
            </a:r>
            <a:r>
              <a:rPr b="1" i="1" lang="ru-RU" sz="2500" spc="-1" strike="noStrike" u="sng">
                <a:solidFill>
                  <a:srgbClr val="000000"/>
                </a:solidFill>
                <a:uFillTx/>
                <a:latin typeface="Garamond"/>
              </a:rPr>
              <a:t>придумай к нему вопросы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Garamond"/>
              </a:rPr>
              <a:t>3П – </a:t>
            </a:r>
            <a:r>
              <a:rPr b="1" i="1" lang="ru-RU" sz="2500" spc="-1" strike="noStrike" u="sng">
                <a:solidFill>
                  <a:srgbClr val="000000"/>
                </a:solidFill>
                <a:uFillTx/>
                <a:latin typeface="Garamond"/>
              </a:rPr>
              <a:t>пометь карандашом самые важные места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Garamond"/>
              </a:rPr>
              <a:t>4П </a:t>
            </a:r>
            <a:r>
              <a:rPr b="1" i="1" lang="ru-RU" sz="2500" spc="-1" strike="noStrike">
                <a:solidFill>
                  <a:srgbClr val="000000"/>
                </a:solidFill>
                <a:latin typeface="Garamond"/>
              </a:rPr>
              <a:t>– </a:t>
            </a:r>
            <a:r>
              <a:rPr b="1" i="1" lang="ru-RU" sz="2500" spc="-1" strike="noStrike" u="sng">
                <a:solidFill>
                  <a:srgbClr val="000000"/>
                </a:solidFill>
                <a:uFillTx/>
                <a:latin typeface="Garamond"/>
              </a:rPr>
              <a:t>перескажи текст (используя ключевые</a:t>
            </a:r>
            <a:r>
              <a:rPr b="1" lang="ru-RU" sz="25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i="1" lang="ru-RU" sz="2500" spc="-1" strike="noStrike" u="sng">
                <a:solidFill>
                  <a:srgbClr val="000000"/>
                </a:solidFill>
                <a:uFillTx/>
                <a:latin typeface="Garamond"/>
              </a:rPr>
              <a:t>слова)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Garamond"/>
              </a:rPr>
              <a:t>5П – </a:t>
            </a:r>
            <a:r>
              <a:rPr b="1" i="1" lang="ru-RU" sz="2500" spc="-1" strike="noStrike" u="sng">
                <a:solidFill>
                  <a:srgbClr val="000000"/>
                </a:solidFill>
                <a:uFillTx/>
                <a:latin typeface="Garamond"/>
              </a:rPr>
              <a:t>просмотри текст повторно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7" descr="собр 4 -pomoch-rebenku-vypolnjat-domashnie-zadanija"/>
          <p:cNvPicPr/>
          <p:nvPr/>
        </p:nvPicPr>
        <p:blipFill>
          <a:blip r:embed="rId1"/>
          <a:stretch/>
        </p:blipFill>
        <p:spPr>
          <a:xfrm>
            <a:off x="0" y="0"/>
            <a:ext cx="26398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10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10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5" descr=""/>
          <p:cNvPicPr/>
          <p:nvPr/>
        </p:nvPicPr>
        <p:blipFill>
          <a:blip r:embed="rId1"/>
          <a:stretch/>
        </p:blipFill>
        <p:spPr>
          <a:xfrm>
            <a:off x="0" y="1339920"/>
            <a:ext cx="9144000" cy="551808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Garamond"/>
              </a:rPr>
              <a:t>Итоги обучения за первое полугодие 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7" name="TextBox 7" descr=""/>
          <p:cNvPicPr/>
          <p:nvPr/>
        </p:nvPicPr>
        <p:blipFill>
          <a:blip r:embed="rId2"/>
          <a:stretch/>
        </p:blipFill>
        <p:spPr>
          <a:xfrm>
            <a:off x="2603520" y="3005280"/>
            <a:ext cx="5602320" cy="282240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оугольник 8"/>
          <p:cNvSpPr/>
          <p:nvPr/>
        </p:nvSpPr>
        <p:spPr>
          <a:xfrm>
            <a:off x="1500120" y="214308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7030a0"/>
                </a:solidFill>
                <a:latin typeface="Garamond"/>
              </a:rPr>
              <a:t>Отлични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7030a0"/>
                </a:solidFill>
                <a:latin typeface="Garamond"/>
              </a:rPr>
              <a:t>Хорошис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7030a0"/>
                </a:solidFill>
                <a:latin typeface="Garamond"/>
              </a:rPr>
              <a:t>Уровень обученности (качество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Задачи</a:t>
            </a: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собрания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2640" y="1790280"/>
            <a:ext cx="381492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Показать значение учебной домашней работы школьн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Обсудить  проблемы подготовки домашних заданий учащимися класса, определить возможные пути решения данной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7" descr="7 собр math_disabilities"/>
          <p:cNvPicPr/>
          <p:nvPr/>
        </p:nvPicPr>
        <p:blipFill>
          <a:blip r:embed="rId1"/>
          <a:stretch/>
        </p:blipFill>
        <p:spPr>
          <a:xfrm>
            <a:off x="5329080" y="1700280"/>
            <a:ext cx="3814920" cy="26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Вопросы для обсуждения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2640" y="1790280"/>
            <a:ext cx="381492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Домашнее задание и его значение в умственном развитии шк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Роль домашнего задания в самостоятельной работе шк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Особенности выполнения домашних заданий по отдельным предмет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7" descr="6 собр0_2a75_91e9f7b2_XL"/>
          <p:cNvPicPr/>
          <p:nvPr/>
        </p:nvPicPr>
        <p:blipFill>
          <a:blip r:embed="rId1"/>
          <a:stretch/>
        </p:blipFill>
        <p:spPr>
          <a:xfrm>
            <a:off x="5122800" y="1790640"/>
            <a:ext cx="377208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56760" y="3071520"/>
            <a:ext cx="7715160" cy="34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just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Нередко в учебе пятиклассников возникают проблемы, несмотря на то, что ребята хотят хорошо учиться и радовать своих близких и окружающих. Причины плохой учебы могут быть связаны: во-первых, со слабой учебной подготовкой в начальных классах; во-вторых, с неумением анализировать, плохой речью, слабой память и вниманием; в-третьих, с нежеланием заставить себя заниматься, неразвитой во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7" descr="5 собр ce3372bb7ca1t"/>
          <p:cNvPicPr/>
          <p:nvPr/>
        </p:nvPicPr>
        <p:blipFill>
          <a:blip r:embed="rId1"/>
          <a:srcRect l="0" t="0" r="0" b="11569"/>
          <a:stretch/>
        </p:blipFill>
        <p:spPr>
          <a:xfrm>
            <a:off x="6357960" y="357120"/>
            <a:ext cx="2462040" cy="17859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собр 7302799b"/>
          <p:cNvPicPr/>
          <p:nvPr/>
        </p:nvPicPr>
        <p:blipFill>
          <a:blip r:embed="rId2"/>
          <a:stretch/>
        </p:blipFill>
        <p:spPr>
          <a:xfrm>
            <a:off x="285840" y="214200"/>
            <a:ext cx="352908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Значение домашнего задания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2640" y="1790640"/>
            <a:ext cx="4365720" cy="473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Развить способность к суждению у всех учащихся на уроке – неблагодарное и нереальное занят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Развитие ума, способность самостоятельно мыслить формируются и совершенствуются в ходе индивидуального освоения умственной культуры эпох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9" descr="собр 2 13"/>
          <p:cNvPicPr/>
          <p:nvPr/>
        </p:nvPicPr>
        <p:blipFill>
          <a:blip r:embed="rId1"/>
          <a:stretch/>
        </p:blipFill>
        <p:spPr>
          <a:xfrm>
            <a:off x="5508720" y="1700280"/>
            <a:ext cx="333540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Значение домашнего задания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2640" y="1790280"/>
            <a:ext cx="537372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Выполнение домашнего задания должно обучать ребенка полемизировать с самим собой, без наличия оппонента и учителя взвешивать все "за" и "против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Самое элементарное в домашнем задании – это буквальное повторение пройденного учебного матери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5" descr="собр 5 pupil"/>
          <p:cNvPicPr/>
          <p:nvPr/>
        </p:nvPicPr>
        <p:blipFill>
          <a:blip r:embed="rId1"/>
          <a:stretch/>
        </p:blipFill>
        <p:spPr>
          <a:xfrm>
            <a:off x="6516720" y="1989000"/>
            <a:ext cx="20606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492360" y="266760"/>
            <a:ext cx="5423040" cy="93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Garamond"/>
              </a:rPr>
              <a:t>Главное назначение</a:t>
            </a:r>
            <a:br>
              <a:rPr sz="3600"/>
            </a:br>
            <a:r>
              <a:rPr b="1" lang="ru-RU" sz="3600" spc="-1" strike="noStrike">
                <a:solidFill>
                  <a:srgbClr val="a50021"/>
                </a:solidFill>
                <a:latin typeface="Garamond"/>
              </a:rPr>
              <a:t> домашнего задания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493120" cy="41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оспитание волевых усилий ребенка, ответственности и самосто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владение навыками учебного труда, выраженное в различных способах учебной рабо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формирование умения добывать необходимую информацию из различных справочников, пособий, словар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формирование исследовательских умений ученика (сопоставление, сравнение, предположение, построение гипотез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и т. 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7" descr="собр ad0e0_a346c6dede33dd990abc64492fb3e649"/>
          <p:cNvPicPr/>
          <p:nvPr/>
        </p:nvPicPr>
        <p:blipFill>
          <a:blip r:embed="rId1"/>
          <a:stretch/>
        </p:blipFill>
        <p:spPr>
          <a:xfrm>
            <a:off x="250920" y="189000"/>
            <a:ext cx="32414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8715240" cy="128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Garamond"/>
              </a:rPr>
              <a:t>Гигиенические требования к максимальным величинам недельной образовательной нагрузки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500040" y="1643040"/>
          <a:ext cx="8286840" cy="4905360"/>
        </p:xfrm>
        <a:graphic>
          <a:graphicData uri="http://schemas.openxmlformats.org/drawingml/2006/table">
            <a:tbl>
              <a:tblPr/>
              <a:tblGrid>
                <a:gridCol w="4091040"/>
                <a:gridCol w="2098800"/>
                <a:gridCol w="2097000"/>
              </a:tblGrid>
              <a:tr h="1128600">
                <a:tc rowSpan="2"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о допустимая недельная нагрузка в академических час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6-дневной неделе, не бол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5-дневной неделе, не бол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38160" rIns="38160" tIns="38160" bIns="381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38160" rIns="38160" tIns="38160" bIns="381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38160" rIns="38160" tIns="38160" bIns="381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428400">
                <a:tc>
                  <a:txBody>
                    <a:bodyPr lIns="38160" rIns="38160" tIns="38160" bIns="381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38160" rIns="38160" tIns="38160" bIns="381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38160" rIns="38160" tIns="38160" bIns="381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-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38160" rIns="38160" tIns="38160" bIns="381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3T08:53:10Z</dcterms:created>
  <dc:creator>Алексей</dc:creator>
  <dc:description/>
  <dc:language>en-US</dc:language>
  <cp:lastModifiedBy>Алексей</cp:lastModifiedBy>
  <dcterms:modified xsi:type="dcterms:W3CDTF">2013-02-05T15:17:37Z</dcterms:modified>
  <cp:revision>25</cp:revision>
  <dc:subject/>
  <dc:title>Значение  домашнего задания в учебной деятельности школьника</dc:title>
</cp:coreProperties>
</file>