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40A-44EE-4830-9B6C-50D864EB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1AE-FDAA-439F-948C-A4C71558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973-4773-4098-BDFD-2D2ACC18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2D6-4698-49E4-83A1-5555B31D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3C0C-19E2-4590-8270-B8EBA340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E00-DA05-4720-BB66-4EF584EC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026-EB91-45B0-A34B-BA4DD9A5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F38-7563-4200-8060-99CE9EE4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FDA-968D-4505-B17A-BC802A70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79B-C45C-4ADA-A69A-3C7B98EC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67A-460C-4D2E-A53B-B0AE9E5A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C3D-F111-4970-BA3C-39ADCD3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84AE-9793-4F0D-BBD3-2F8435A0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и в Отечестве тал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9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торой полови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 событием в художественной жизни России станови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крытие первого высшего художественного заведения «Академии художеств»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ртретное искусство достигает  своего рас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рад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ртр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тупает место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мерному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ально раскрывающему внутренний мир человека, 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тимном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его осторожным, но глубоким интересом к частной жизни, запечатлевающий  человека таким, каким он представляется взгляду близкого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е живописцы Ф.С. Рокотов, Д.Г. Левицкий, В.Л. Боровиковский создают галерею портретов своих современников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вая национальную концепцию русского портр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личающу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кой психологичностью образ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енность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воив опыт евопейской пластики, скульптор  Ф. И. Шубин своим самобытным творчеством вместе с соотечественниками – живописцами поднял жанр портрета на новую качественную ступ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спевая красоту и благородство устремлений человека они оставили заметный след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тановлении и развитии отечественной художественной школы портретного искусств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826240"/>
            <a:ext cx="91440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ряду с традиционным парадным портретом в творчестве Рокотова находит распростран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имный портрет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давал не только “вид лица”, но и “нежность сердц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10400" y="189000"/>
            <a:ext cx="328104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50133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ко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ртрет неизвест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розовом платье. 1770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735200" cy="23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00" y="2781360"/>
            <a:ext cx="21038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едор Степанович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ко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35-18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нтимн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амер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ртр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077920" y="189000"/>
            <a:ext cx="366084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00320" y="544500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кот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тр III. 176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080" y="2421000"/>
            <a:ext cx="22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митрий Григорьеви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ц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735—18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8053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альнейшее развит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имног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ртрета было связано с именем Левицкого. В его ранних полотнах - связь с традиционным парадным портретом. Перелом знаменовала заказная портретная серия воспитанниц Смольного института благородных девиц в 1773 - 1776 годах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189000"/>
            <a:ext cx="30384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67280" y="5229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евиц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рет Нелидовой. 177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29264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195640" y="189000"/>
            <a:ext cx="358776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95640" y="5229360"/>
            <a:ext cx="31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евиц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.                                Портрет Кокоринова. 176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5120" y="189000"/>
            <a:ext cx="1273320" cy="165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92360" y="18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мир Лукич Боровиковский (1757 – 18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51577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476280"/>
            <a:ext cx="73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успевал и в парадном портрете, и в интимном, и был крупнейшим представителем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ентиментализм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в живо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ртины Боровиковского во многом определили настроение, вкусы и духовный облик образованного русского об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284652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24360" y="6340320"/>
            <a:ext cx="536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иковский.                                                                          Екатери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рогулке в Царскосельском парке.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127920"/>
            <a:ext cx="295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75292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00720" y="5516640"/>
            <a:ext cx="457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иков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рет Лопухиной.17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79280" y="1989000"/>
            <a:ext cx="3063960" cy="4564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545160"/>
            <a:ext cx="705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иковский. Князь А. Б. Куракин.179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68360" y="189000"/>
            <a:ext cx="2305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́т Ива́но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у́б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740—1805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первый статуйных дел мастер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2060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уби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Портрет Павла I. 18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924280"/>
            <a:ext cx="212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уби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Портре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Г. Орлова. Барельеф. 1771. Мрамо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620640"/>
            <a:ext cx="36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уби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Екатерина II - законодательница. 1789-179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786120" cy="525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85256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56000" y="2565360"/>
            <a:ext cx="253368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50920" y="4076640"/>
            <a:ext cx="2131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3:19:59Z</dcterms:created>
  <dc:creator>дикий КОТ</dc:creator>
  <dc:description/>
  <dc:language>en-US</dc:language>
  <cp:lastModifiedBy>дикий КОТ</cp:lastModifiedBy>
  <dcterms:modified xsi:type="dcterms:W3CDTF">2012-10-30T15:45:26Z</dcterms:modified>
  <cp:revision>38</cp:revision>
  <dc:subject/>
  <dc:title>Слайд 1</dc:title>
</cp:coreProperties>
</file>