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14F-B4CF-4659-82FD-9E3C96FA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56C-7B4F-4D5F-AD5F-808DE59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FA7-BED5-4965-9222-C043471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21A-1F10-497E-AD08-678485BC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5BE-DC9E-46C9-967C-A2A510F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EC1-41F5-4A83-B714-7FC4971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7A7-ABCC-4163-8404-C80DE84B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B34-836B-4FD2-B984-2E806914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6A8-BD6A-4403-99A8-B9BD788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CC2-A3AC-4210-ACEE-2136E3E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22-C46D-4AAE-BE75-69B4F74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04F-CE5A-4E3A-912D-EB43C388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3214-E788-480F-A773-1BD20AC3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ая работ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ител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линской  школы</a:t>
            </a:r>
            <a:br>
              <a:rPr sz="2800"/>
            </a:br>
            <a:br>
              <a:rPr sz="40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заковой Анны Анатольевн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род Луга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и в Отечестве тал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9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торой полови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событием в художественной жизни России станови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крытие первого высшего художественного заведения «Академии художеств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ртретное искусство достигает  своего расц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ад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ртр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упает место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ерному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ально раскрывающему внутренний мир человека, 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тимном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его осторожным, но глубоким интересом к частной жизни, запечатлевающий  человека таким, каким он представляется взгляду близко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е живописцы Ф.С. Рокотов, Д.Г. Левицкий, В.Л. Боровиковский создают галерею портретов своих современников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я национальную концепцию русского портр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личающую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окой психологичностью образ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енност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ч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воив опыт евопейской пластики, скульптор  Ф. И. Шубин своим самобытным творчеством вместе с соотечественниками – живописцами поднял жанр портрета на новую качественную ступ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спевая красоту и благородство устремлений человека они оставили заметный след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становлении и развитии отечественной художественной школы портретного искусств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826240"/>
            <a:ext cx="91440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ряду с традиционным парадным портретом в творчестве Рокотова находит распростран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имный портрет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давал не только “вид лица”, но и “нежность сердц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10400" y="189000"/>
            <a:ext cx="328104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5013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ко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ртрет неизвест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розовом платье. 1770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35200" cy="23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00" y="2781360"/>
            <a:ext cx="21038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ор Степанович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к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35-18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тимн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амер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ртр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077920" y="189000"/>
            <a:ext cx="366084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00320" y="544500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кот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тр III. 176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080" y="2421000"/>
            <a:ext cx="22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митрий Григорьеви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иц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735—18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80536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альнейшее развитие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имног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ортрета было связано с именем Левицкого. В его ранних полотнах - связь с традиционным парадным портретом. Перелом знаменовала заказная портретная серия воспитанниц Смольного института благородных девиц в 1773 - 1776 года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30384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7280" y="5229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виц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Нелидовой. 177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292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195640" y="189000"/>
            <a:ext cx="358776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95640" y="5229360"/>
            <a:ext cx="31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виц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.                                Портрет Кокоринова. 176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5120" y="189000"/>
            <a:ext cx="1273320" cy="1655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92360" y="189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имир Лукич Боровиковский (1757 – 18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51577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476280"/>
            <a:ext cx="73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успевал и в парадном портрете, и в интимном, и был крупнейшим представителе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ентиментализм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 живопи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ртины Боровиковского во многом определили настроение, вкусы и духовный облик образованного русского об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2846520" cy="43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24360" y="6340320"/>
            <a:ext cx="536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.                                                                          Екатери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рогулке в Царскосельском парке.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9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127920"/>
            <a:ext cx="295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752920" cy="3456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300720" y="5516640"/>
            <a:ext cx="457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рет Лопухиной.17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79280" y="1989000"/>
            <a:ext cx="3063960" cy="456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545160"/>
            <a:ext cx="705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иковский. Князь А. Б. Куракин.179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68360" y="189000"/>
            <a:ext cx="2305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́т Ива́но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у́б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740—1805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первый статуйных дел мастер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2060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ртрет Павла I. 18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924280"/>
            <a:ext cx="21240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Портре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Г. Орлова. Барельеф. 1771. Мрам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620640"/>
            <a:ext cx="36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уби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Екатерина II - законодательница. 1789-179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786120" cy="525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85256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56000" y="2565360"/>
            <a:ext cx="253368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50920" y="4076640"/>
            <a:ext cx="2131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3:19:59Z</dcterms:created>
  <dc:creator>дикий КОТ</dc:creator>
  <dc:description/>
  <dc:language>en-US</dc:language>
  <cp:lastModifiedBy>дикий КОТ</cp:lastModifiedBy>
  <dcterms:modified xsi:type="dcterms:W3CDTF">2012-10-30T15:45:26Z</dcterms:modified>
  <cp:revision>38</cp:revision>
  <dc:subject/>
  <dc:title>Слайд 1</dc:title>
</cp:coreProperties>
</file>