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DF13-29AA-49D1-8A0A-B0A974402E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C772-7F2F-4DF6-B290-A6C0ABBE1E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7764-052B-4310-9EB6-FC6116D0A3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8F38-F280-42C4-93B9-E059B911C1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7B3A-10F8-4A5A-AE9F-83E4DD7575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1971-7BF1-4E98-8A0D-E289577033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9AF0-9414-489F-918F-BD5D012D28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DDCD-5D14-4709-97D3-74BAEED135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4032-06E3-4CBE-86DA-50C4408E1F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E09C-9DED-436E-A5C9-9E154170B1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9162-7B1C-46D4-8DE6-29C5173589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C46A-276A-4C10-B399-52BDE733CF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D1F9-0A36-4060-9897-3570DAD53C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41E0-6EE3-4210-A329-4804683AEC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F69F-6693-4034-A334-E7B7E985C8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3A70-7564-4EA8-922B-E954797DA6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E451-A602-429C-B732-FBA04BE746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56CD-8F9A-4300-A96E-1042636036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6BF5-F6FF-46DF-849E-AEBC84EC54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A3FC-2B72-4141-B3C5-9429505892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17AA-2147-4C96-846F-4564B32C44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35DD-D68B-4CA9-9B18-1A491D0D12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A88D-62EB-4DE1-972F-D9119B8E55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B6B5-CFCD-42C3-866C-A0014A2552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A598-9744-4564-A762-1D85EF70FD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E17C-2B0B-482F-BB76-A2471F8C91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A664-9333-4367-A442-4344C9C750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8C50-D112-4865-9842-7102EE3FBF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DEA2-9812-46BD-B5C3-FCF2B46F7A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8325-1C5A-44D7-9358-570CAC1106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D745-24CC-4F87-9E0D-9A6D92E042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F60F-DC8E-4E26-B012-ADD3F24A89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3399-EDB1-467A-BDCD-C997029FD1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A2C6-C05B-4BA9-9641-80DA25F073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92AB-C1E1-4216-9D23-DC955D85D2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8366-DD71-4658-B5F3-A562B0DC40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2F55-C47E-4CAA-A0D4-36E5EFB410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2CD2-8ACF-4284-AC76-B41627F7E3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5B53-A973-4690-A168-10C677A889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846C-353D-4891-8308-27C46BBFB7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9B91-4ED8-430B-81B7-99BD129020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C243-0EDF-4F19-8802-2C8D7B4278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9CD2-9670-4F27-B7D8-79E34DF266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AA13-9226-4C77-8A10-6C429BBD7B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209-C02F-4F2D-8730-35E1A2C9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6C4-BBAE-4909-8F07-E555E94C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3A3-EFEF-41A1-9397-15A79DB9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3CC-E26E-4365-A2ED-82ECB67C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9D87-3D4C-4B3E-A0D4-D743FE8A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4C63-0A29-4146-8F4A-7E199639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ED69-6C82-41AE-9057-BAB57FAE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7FCB-F49C-4018-A305-3AD70177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9E51-4485-4599-B9AE-46423644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B058-C63C-4D18-8905-6DFC189C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6CDD-7208-41D9-BFB0-DD24AB3E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601-15A5-43B6-8A55-8E78C7C5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91BC-21E7-4FCF-A858-99BCB8A6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820A-D341-4F55-A6C8-1C5F510D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51F2-F3DE-4A3B-9FFD-D861EA9C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188C-2189-4984-8B57-0109E225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0581-3A09-4F9A-98E1-2C6B40DE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07552-04A4-4319-A3AB-926F0D32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C7D91-6BA4-43E2-953F-15202AA9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0D1EA-274C-4CC3-96C2-6B9A965F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9A8B-66A6-4BE1-ACF5-13960201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6BB33-BAF7-4298-B8A3-20E3B017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0EF-E270-43D7-8C82-CF6414D7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464F3-9C01-4BF3-9277-1CEE71F6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1411F-D2D8-43CA-AEB6-166171FB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EF7A3-40A4-4949-9141-BD9B4350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FDE33-9ECE-43FB-B4CC-9217752F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A0C38-49ED-47A8-861D-9635C7F1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D276-9528-4782-B100-6F09D08E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7710-292C-4A38-A24B-83BD14A1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96C53-498B-4266-A73F-8A356F36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B7843-FC55-40F4-9C18-5DE5A463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60756-DA1D-4434-A478-9205455C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489-5927-415E-826D-96FBB6AE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01BC3-7C21-4061-8818-3FE92712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A41E-9595-4821-B35C-2F8BF228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48B73-2D13-4AD1-9664-FE67EAC9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470F6-18DF-4B36-AD6D-4134869C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CE3D7-8383-4CDE-8DB4-99C83E63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84CD3-B2F7-4ED5-B679-752149B3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88CE6-6515-4343-AA0A-93C2B32B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B0421-C15B-4AEA-95BE-35E57076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7A5F2-DAC4-47A8-9A14-15A86252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AD611-6023-4DFB-B92D-053D54A8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D91-E51B-46BD-B498-78D388A7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832E6-D511-4C0B-B1BC-625DD5EC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08EF1-9D31-44B2-8D70-99AAD0F2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FAA20-2BC6-4A0B-B3A1-EE121DFE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37CAF-736F-4F0D-AFAE-1A0B1270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DFA70-7857-4D54-9AD3-5AA8C5C2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F1BA8-FBB5-47DF-A97B-72388704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DA763-B36D-4F14-8D5D-3647B3FA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4CB69-7A6E-4139-BCFC-FA1E3519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7B93B-9907-437C-8292-9F57A006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91F5A-7E3D-4CF4-9D37-113E1F63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EFF-D8A0-48CB-8A3C-A2277BD3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4D6B7-85A2-4E33-84E1-B431A451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610C3-CFED-4197-8968-E4460BD7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B7253-94CD-4097-851A-9C28F132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5498F-0C18-4396-AAEB-4315A147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D6214-8E04-44E9-BE31-E3CAB728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B7A56-0527-4458-9B4D-5A275E7F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3DF9A-02C1-4B8D-ABF0-F67FA522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511DF-3535-46B6-8459-06F0141B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2D9CC-178E-437C-BD80-58BDA457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3B83B-F387-4716-9984-2CC347B4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569-F774-4A6E-9FCC-BE734A7E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826F3-5AB6-48B2-A7B0-95BF4E2B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62684-7D03-45A5-B313-0469CB03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9780E-7CFB-4723-A8DA-33C2D66E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D69AB-9E62-415F-A6B5-A6BA823B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EB8E1-D9D5-4DA6-B80C-091064F1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22DCC-8733-449A-AA91-0C67961F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6C5D7-FBD5-43FA-A5E3-E3E6D145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61730-5547-498B-A3C4-10F7C0E2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9B2FE-59AA-47F6-AADF-2D277801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FA5A9-EC03-4648-B464-0E390ECF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C8E-46EA-49AB-BB63-E1E13596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9C214-A3AB-429C-B1A4-47A67FDB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40206-F49E-4800-9E84-20C5C4BF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2857B-98AC-49C3-802D-6B770B7E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1F024-4B92-4409-9CD2-EB045083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9EBC1-A741-4183-ADEA-B75FEDE4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A5928-DF83-4E1C-ABAA-8CFBDE10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60F56-3F51-40D2-927C-D7C28A02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44625-64C0-4ED7-B051-7236A923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DD95F-D189-4B94-A5E8-5B18D44B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690BB-051A-4448-BDD8-E1FA782A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3FD-7EED-487F-A2D9-08A010DD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7A7C9-7832-4EB7-8D8E-5DCAAAFD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7D3FD-3A86-4238-8AF2-6B857741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C9734-EDC0-42A2-993B-8A3C4054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1219A-7F68-4C5D-9773-7BD3ED8F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16F2A-3B0C-4623-B9FF-B3CE3E32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159FA-4701-4A5E-A70E-9A4B15D5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3D0D8-CE00-4464-BA8A-1AD71516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A70C-1D62-4D35-9969-3F507DDD035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C7A5-C21F-4276-96FA-6DBD3691809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B133-6981-4100-A0C3-DA650538532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9BF8-4C37-413D-B1C3-C06A807AA3D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9EB0-D5D3-41E4-BBA4-96F47251AED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69DB-EDE3-41F7-B18C-94E3038FA43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5CE2-5161-483F-87A0-C125D2C84DEC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0E1D-3BC4-40B3-9366-8180BA74643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mbria"/>
              </a:rPr>
              <a:t>Рыбные ресурсы Пермского края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58920" y="515772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1" name="Рисунок 3" descr="river.jpg"/>
          <p:cNvPicPr/>
          <p:nvPr/>
        </p:nvPicPr>
        <p:blipFill>
          <a:blip r:embed="rId1"/>
          <a:stretch/>
        </p:blipFill>
        <p:spPr>
          <a:xfrm>
            <a:off x="1979640" y="189000"/>
            <a:ext cx="525636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64653"/>
                </a:solidFill>
                <a:latin typeface="Cambria"/>
              </a:rPr>
              <a:t>Федеральные объекты Красной книг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терлядь 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Acipenser ruthenu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Linnaeus, 1758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аймень 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Hucho taimen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(Pall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учьевая форель 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Salmotruttacaspiusmorfafario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Linnaeus, 1758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Быстрянка русская 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Alburnoides bipunctatus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 (Bloc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Берш 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Stizostedionvolgense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(Gmeli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Бычок-подкаменщик 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Cottus gobio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Linnaeus, 1758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Стерляд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1" name="Рисунок 3" descr="стерлядь.jpg"/>
          <p:cNvPicPr/>
          <p:nvPr/>
        </p:nvPicPr>
        <p:blipFill>
          <a:blip r:embed="rId1"/>
          <a:stretch/>
        </p:blipFill>
        <p:spPr>
          <a:xfrm>
            <a:off x="755640" y="1557360"/>
            <a:ext cx="76201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Таймен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3" name="Рисунок 3" descr="таймень.jpg"/>
          <p:cNvPicPr/>
          <p:nvPr/>
        </p:nvPicPr>
        <p:blipFill>
          <a:blip r:embed="rId1"/>
          <a:stretch/>
        </p:blipFill>
        <p:spPr>
          <a:xfrm>
            <a:off x="1042920" y="1484280"/>
            <a:ext cx="65199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Ручьевая форел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5" name="Рисунок 3" descr="ручьевая форель.jpg"/>
          <p:cNvPicPr/>
          <p:nvPr/>
        </p:nvPicPr>
        <p:blipFill>
          <a:blip r:embed="rId1"/>
          <a:stretch/>
        </p:blipFill>
        <p:spPr>
          <a:xfrm>
            <a:off x="2268360" y="1413000"/>
            <a:ext cx="40356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Быстрянка русская 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7" name="Рисунок 3" descr="быстрянка.jpg"/>
          <p:cNvPicPr/>
          <p:nvPr/>
        </p:nvPicPr>
        <p:blipFill>
          <a:blip r:embed="rId1"/>
          <a:stretch/>
        </p:blipFill>
        <p:spPr>
          <a:xfrm>
            <a:off x="1403280" y="1557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Берш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9" name="Рисунок 3" descr="берш.jpg"/>
          <p:cNvPicPr/>
          <p:nvPr/>
        </p:nvPicPr>
        <p:blipFill>
          <a:blip r:embed="rId1"/>
          <a:stretch/>
        </p:blipFill>
        <p:spPr>
          <a:xfrm>
            <a:off x="1979640" y="1557360"/>
            <a:ext cx="49039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Бычок-подкаменщик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1" name="Рисунок 3" descr="бычок подк.gif"/>
          <p:cNvPicPr/>
          <p:nvPr/>
        </p:nvPicPr>
        <p:blipFill>
          <a:blip r:embed="rId1"/>
          <a:stretch/>
        </p:blipFill>
        <p:spPr>
          <a:xfrm>
            <a:off x="1332000" y="1628640"/>
            <a:ext cx="640872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64653"/>
                </a:solidFill>
                <a:latin typeface="Cambria"/>
              </a:rPr>
              <a:t>Остальные виды рыб: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3" name="Содержимое 2" descr=""/>
          <p:cNvPicPr/>
          <p:nvPr/>
        </p:nvPicPr>
        <p:blipFill>
          <a:blip r:embed="rId1"/>
          <a:stretch/>
        </p:blipFill>
        <p:spPr>
          <a:xfrm>
            <a:off x="450720" y="1133640"/>
            <a:ext cx="824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Сом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5" name="Содержимое 3" descr="сом.jpg"/>
          <p:cNvPicPr/>
          <p:nvPr/>
        </p:nvPicPr>
        <p:blipFill>
          <a:blip r:embed="rId1"/>
          <a:stretch/>
        </p:blipFill>
        <p:spPr>
          <a:xfrm>
            <a:off x="1042920" y="1916280"/>
            <a:ext cx="665316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Жерех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7" name="Содержимое 3" descr="жерех.jpg"/>
          <p:cNvPicPr/>
          <p:nvPr/>
        </p:nvPicPr>
        <p:blipFill>
          <a:blip r:embed="rId1"/>
          <a:stretch/>
        </p:blipFill>
        <p:spPr>
          <a:xfrm>
            <a:off x="1403280" y="1413000"/>
            <a:ext cx="658008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Всего – 42 вида ры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0 видов - редкие обитатели разнотипных водоемов, многие из которых занесены в Красную книгу Пермского края и в приложение к н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Рисунок 3" descr="1305354452_chusovaja.jpg"/>
          <p:cNvPicPr/>
          <p:nvPr/>
        </p:nvPicPr>
        <p:blipFill>
          <a:blip r:embed="rId1"/>
          <a:stretch/>
        </p:blipFill>
        <p:spPr>
          <a:xfrm>
            <a:off x="4140360" y="3068640"/>
            <a:ext cx="46796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Судак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99" name="Содержимое 3" descr="судак.jpg"/>
          <p:cNvPicPr/>
          <p:nvPr/>
        </p:nvPicPr>
        <p:blipFill>
          <a:blip r:embed="rId1"/>
          <a:stretch/>
        </p:blipFill>
        <p:spPr>
          <a:xfrm>
            <a:off x="1476360" y="1557360"/>
            <a:ext cx="6135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Синец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1" name="Содержимое 3" descr="синец.jpg"/>
          <p:cNvPicPr/>
          <p:nvPr/>
        </p:nvPicPr>
        <p:blipFill>
          <a:blip r:embed="rId1"/>
          <a:stretch/>
        </p:blipFill>
        <p:spPr>
          <a:xfrm>
            <a:off x="1908000" y="1341360"/>
            <a:ext cx="53834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Щука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3" name="Содержимое 3" descr="щука.jpg"/>
          <p:cNvPicPr/>
          <p:nvPr/>
        </p:nvPicPr>
        <p:blipFill>
          <a:blip r:embed="rId1"/>
          <a:stretch/>
        </p:blipFill>
        <p:spPr>
          <a:xfrm>
            <a:off x="130320" y="1628640"/>
            <a:ext cx="90136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Чехонь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5" name="Содержимое 3" descr="Чехонь.jpg"/>
          <p:cNvPicPr/>
          <p:nvPr/>
        </p:nvPicPr>
        <p:blipFill>
          <a:blip r:embed="rId1"/>
          <a:stretch/>
        </p:blipFill>
        <p:spPr>
          <a:xfrm>
            <a:off x="457200" y="2128680"/>
            <a:ext cx="822960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Лещ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7" name="Содержимое 3" descr="Лещ.gif"/>
          <p:cNvPicPr/>
          <p:nvPr/>
        </p:nvPicPr>
        <p:blipFill>
          <a:blip r:embed="rId1"/>
          <a:stretch/>
        </p:blipFill>
        <p:spPr>
          <a:xfrm>
            <a:off x="1116000" y="1700280"/>
            <a:ext cx="70041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Густер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09" name="Содержимое 3" descr="Густер.jpg"/>
          <p:cNvPicPr/>
          <p:nvPr/>
        </p:nvPicPr>
        <p:blipFill>
          <a:blip r:embed="rId1"/>
          <a:stretch/>
        </p:blipFill>
        <p:spPr>
          <a:xfrm>
            <a:off x="1258920" y="1628640"/>
            <a:ext cx="67611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Плотва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11" name="Содержимое 3" descr="Плотва.jpg"/>
          <p:cNvPicPr/>
          <p:nvPr/>
        </p:nvPicPr>
        <p:blipFill>
          <a:blip r:embed="rId1"/>
          <a:stretch/>
        </p:blipFill>
        <p:spPr>
          <a:xfrm>
            <a:off x="596880" y="1655640"/>
            <a:ext cx="79502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Язь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13" name="Содержимое 3" descr="Язь.jpg"/>
          <p:cNvPicPr/>
          <p:nvPr/>
        </p:nvPicPr>
        <p:blipFill>
          <a:blip r:embed="rId1"/>
          <a:stretch/>
        </p:blipFill>
        <p:spPr>
          <a:xfrm>
            <a:off x="1332000" y="1628640"/>
            <a:ext cx="626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Уклея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15" name="Содержимое 3" descr="уклея.jpg"/>
          <p:cNvPicPr/>
          <p:nvPr/>
        </p:nvPicPr>
        <p:blipFill>
          <a:blip r:embed="rId1"/>
          <a:stretch/>
        </p:blipFill>
        <p:spPr>
          <a:xfrm>
            <a:off x="1619280" y="1844640"/>
            <a:ext cx="66596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Тюлька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17" name="Содержимое 3" descr="Тюлька.jpg"/>
          <p:cNvPicPr/>
          <p:nvPr/>
        </p:nvPicPr>
        <p:blipFill>
          <a:blip r:embed="rId1"/>
          <a:stretch/>
        </p:blipFill>
        <p:spPr>
          <a:xfrm>
            <a:off x="1476360" y="1484280"/>
            <a:ext cx="5856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464653"/>
                </a:solidFill>
                <a:latin typeface="Cambria"/>
              </a:rPr>
              <a:t>Региональные объекты Красной книги Пермского края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Европейский хариус – 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Thymallusthymallus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Linnaeus, 1758) –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амые ультракороткоцикловые в мире популяции вблизи г. Перми, I категория редк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азан 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Cyprinuscarpio</a:t>
            </a:r>
            <a:r>
              <a:rPr b="1" lang="arn-CL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Linnaeus, 1758, I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тегория редк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Белопёрый пескарь 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Romanogobioalbipinnatus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(Lukasch, 1933), III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тегория редк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Окунь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19" name="Содержимое 3" descr="Окунь.jpg"/>
          <p:cNvPicPr/>
          <p:nvPr/>
        </p:nvPicPr>
        <p:blipFill>
          <a:blip r:embed="rId1"/>
          <a:stretch/>
        </p:blipFill>
        <p:spPr>
          <a:xfrm>
            <a:off x="1332000" y="1700280"/>
            <a:ext cx="67024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Ерш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21" name="Содержимое 3" descr="Ерш.jpg"/>
          <p:cNvPicPr/>
          <p:nvPr/>
        </p:nvPicPr>
        <p:blipFill>
          <a:blip r:embed="rId1"/>
          <a:stretch/>
        </p:blipFill>
        <p:spPr>
          <a:xfrm>
            <a:off x="1403280" y="1557360"/>
            <a:ext cx="6067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Голавль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23" name="Содержимое 3" descr="голавль.jpg"/>
          <p:cNvPicPr/>
          <p:nvPr/>
        </p:nvPicPr>
        <p:blipFill>
          <a:blip r:embed="rId1"/>
          <a:stretch/>
        </p:blipFill>
        <p:spPr>
          <a:xfrm>
            <a:off x="1692360" y="1413000"/>
            <a:ext cx="537984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Карась золотой и серебряный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25" name="Содержимое 3" descr="Карась золотой и серебряный.jpg"/>
          <p:cNvPicPr/>
          <p:nvPr/>
        </p:nvPicPr>
        <p:blipFill>
          <a:blip r:embed="rId1"/>
          <a:stretch/>
        </p:blipFill>
        <p:spPr>
          <a:xfrm>
            <a:off x="2700360" y="1413000"/>
            <a:ext cx="3456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Налим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27" name="Содержимое 3" descr="Налим.jpeg"/>
          <p:cNvPicPr/>
          <p:nvPr/>
        </p:nvPicPr>
        <p:blipFill>
          <a:blip r:embed="rId1"/>
          <a:stretch/>
        </p:blipFill>
        <p:spPr>
          <a:xfrm>
            <a:off x="1714680" y="15447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Ротан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29" name="Содержимое 3" descr="Ротан.jpg"/>
          <p:cNvPicPr/>
          <p:nvPr/>
        </p:nvPicPr>
        <p:blipFill>
          <a:blip r:embed="rId1"/>
          <a:stretch/>
        </p:blipFill>
        <p:spPr>
          <a:xfrm>
            <a:off x="1332000" y="1484280"/>
            <a:ext cx="6581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Игла-рыба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31" name="Содержимое 3" descr="Игла-рыба.jpg"/>
          <p:cNvPicPr/>
          <p:nvPr/>
        </p:nvPicPr>
        <p:blipFill>
          <a:blip r:embed="rId1"/>
          <a:stretch/>
        </p:blipFill>
        <p:spPr>
          <a:xfrm>
            <a:off x="1979640" y="1341360"/>
            <a:ext cx="5227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Гольян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33" name="Содержимое 3" descr="гольян.jpg"/>
          <p:cNvPicPr/>
          <p:nvPr/>
        </p:nvPicPr>
        <p:blipFill>
          <a:blip r:embed="rId1"/>
          <a:stretch/>
        </p:blipFill>
        <p:spPr>
          <a:xfrm>
            <a:off x="1042920" y="1989000"/>
            <a:ext cx="72010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Голец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35" name="Содержимое 3" descr="Голец.JPG"/>
          <p:cNvPicPr/>
          <p:nvPr/>
        </p:nvPicPr>
        <p:blipFill>
          <a:blip r:embed="rId1"/>
          <a:stretch/>
        </p:blipFill>
        <p:spPr>
          <a:xfrm>
            <a:off x="1042920" y="1844640"/>
            <a:ext cx="7439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Линь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37" name="Содержимое 3" descr="Линь.jpeg"/>
          <p:cNvPicPr/>
          <p:nvPr/>
        </p:nvPicPr>
        <p:blipFill>
          <a:blip r:embed="rId1"/>
          <a:stretch/>
        </p:blipFill>
        <p:spPr>
          <a:xfrm>
            <a:off x="1258920" y="1484280"/>
            <a:ext cx="65833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Европейский хариус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7" name="Рисунок 3" descr="хариус.jpg"/>
          <p:cNvPicPr/>
          <p:nvPr/>
        </p:nvPicPr>
        <p:blipFill>
          <a:blip r:embed="rId1"/>
          <a:stretch/>
        </p:blipFill>
        <p:spPr>
          <a:xfrm>
            <a:off x="1187280" y="1557360"/>
            <a:ext cx="64152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Осетр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39" name="Содержимое 3" descr="Осетр.jpg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mbria"/>
              </a:rPr>
              <a:t>Подлещик</a:t>
            </a:r>
            <a:br>
              <a:rPr sz="2900"/>
            </a:b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41" name="Содержимое 3" descr="Подлещик.jpg"/>
          <p:cNvPicPr/>
          <p:nvPr/>
        </p:nvPicPr>
        <p:blipFill>
          <a:blip r:embed="rId1"/>
          <a:stretch/>
        </p:blipFill>
        <p:spPr>
          <a:xfrm>
            <a:off x="762120" y="1382760"/>
            <a:ext cx="76197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Сорог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43" name="Содержимое 3" descr="Сорога.jpg"/>
          <p:cNvPicPr/>
          <p:nvPr/>
        </p:nvPicPr>
        <p:blipFill>
          <a:blip r:embed="rId1"/>
          <a:stretch/>
        </p:blipFill>
        <p:spPr>
          <a:xfrm>
            <a:off x="971640" y="1844640"/>
            <a:ext cx="69166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Спасибо за внимание!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45" name="Рисунок 3" descr="196045.jpg"/>
          <p:cNvPicPr/>
          <p:nvPr/>
        </p:nvPicPr>
        <p:blipFill>
          <a:blip r:embed="rId1"/>
          <a:stretch/>
        </p:blipFill>
        <p:spPr>
          <a:xfrm>
            <a:off x="2627280" y="1341360"/>
            <a:ext cx="33624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Сазан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9" name="Рисунок 3" descr="sazan_2k.jpg"/>
          <p:cNvPicPr/>
          <p:nvPr/>
        </p:nvPicPr>
        <p:blipFill>
          <a:blip r:embed="rId1"/>
          <a:stretch/>
        </p:blipFill>
        <p:spPr>
          <a:xfrm>
            <a:off x="1042920" y="1700280"/>
            <a:ext cx="694872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Белопёрый пескар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1" name="Рисунок 3" descr="пескарь белоперый.jpg"/>
          <p:cNvPicPr/>
          <p:nvPr/>
        </p:nvPicPr>
        <p:blipFill>
          <a:blip r:embed="rId1"/>
          <a:stretch/>
        </p:blipFill>
        <p:spPr>
          <a:xfrm>
            <a:off x="1116000" y="1628640"/>
            <a:ext cx="705636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464653"/>
                </a:solidFill>
                <a:latin typeface="Cambria"/>
              </a:rPr>
              <a:t>Региональные объекты в приложении Красной книги Пермского края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раснопёрка –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Scardinius erythrophtalmus</a:t>
            </a:r>
            <a:r>
              <a:rPr b="1" lang="arn-CL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(Linnaeus, 1758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Белоглазка - </a:t>
            </a:r>
            <a:r>
              <a:rPr b="1" i="1" lang="arn-CL" sz="2600" spc="-1" strike="noStrike">
                <a:solidFill>
                  <a:srgbClr val="000000"/>
                </a:solidFill>
                <a:latin typeface="Gill Sans MT"/>
              </a:rPr>
              <a:t>Abramis sapa</a:t>
            </a:r>
            <a:r>
              <a:rPr b="1" lang="arn-CL" sz="26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(Pallas)</a:t>
            </a:r>
            <a:br>
              <a:rPr sz="2600"/>
            </a:br>
            <a:r>
              <a:rPr b="0" lang="arn-C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Краснопёрка 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5" name="Рисунок 3" descr="krasnoperka.jpg"/>
          <p:cNvPicPr/>
          <p:nvPr/>
        </p:nvPicPr>
        <p:blipFill>
          <a:blip r:embed="rId1"/>
          <a:stretch/>
        </p:blipFill>
        <p:spPr>
          <a:xfrm>
            <a:off x="125892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Cambria"/>
              </a:rPr>
              <a:t>Белоглазк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7" name="Рисунок 3" descr="beloglazka_big.jpg"/>
          <p:cNvPicPr/>
          <p:nvPr/>
        </p:nvPicPr>
        <p:blipFill>
          <a:blip r:embed="rId1"/>
          <a:stretch/>
        </p:blipFill>
        <p:spPr>
          <a:xfrm>
            <a:off x="1403280" y="1413000"/>
            <a:ext cx="57610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7:28:19Z</dcterms:created>
  <dc:creator>Дашка)))</dc:creator>
  <dc:description/>
  <dc:language>en-US</dc:language>
  <cp:lastModifiedBy>Биология</cp:lastModifiedBy>
  <dcterms:modified xsi:type="dcterms:W3CDTF">2013-03-02T08:06:24Z</dcterms:modified>
  <cp:revision>12</cp:revision>
  <dc:subject/>
  <dc:title>Рыбные ресурсы Пермского края </dc:title>
</cp:coreProperties>
</file>