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08B5-B82C-4104-BE6C-F142FF5D43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141-64F2-4622-BE5E-26BDBA5F7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4E9-F054-46D5-8262-912C65375E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623-7D63-4F80-8205-72282F7255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6F55-43E0-4228-BD1B-F9E821BD75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0215-817B-47AF-843D-197525A2D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7E3E-1A35-4050-8DEE-EECE5C5D05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4461-9D82-48BD-ADBB-099138FB67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0762-DEFB-4B6E-AE65-19C20A4D39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5E7-D5AA-4BEC-A97D-6E99628839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E50E-0A04-4962-AFFE-94481C429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27D6-BB7E-422B-AC71-7B4256498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F37-A59A-4961-B401-C35E0B542E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1CD-F259-4CE3-8070-B898C8FE6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6A9-CA92-4011-BDBE-32CA6B4344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E9F7-3D9D-47CB-AB3E-816D93BF11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B95-DC81-4611-97AF-EB88678F23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4505-07C1-4693-941B-25790EEDC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064E-E7EF-4935-A610-E81BDEEF38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113E-DF91-439E-8EEA-F27C1C632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4C21-32FF-4E68-8E46-4D62E1F58F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F9B-9491-4161-9800-B795E5BB0C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7C1-20C9-4F8F-9A52-B5498B3B18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9C0-FF2D-4AAD-A8CE-9B8E20A42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D27-861D-420E-AF0E-35FBD5F21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2D2A-ED4F-4BDD-BB1A-C69182C368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288-C470-4320-80F2-0746960F70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621-BC52-4DFC-8F18-3DB780398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360-0CBA-4EAE-9DB4-FDA109BF7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F2D-F617-4C7D-B79D-E37B1272B4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C3E-73BD-4701-8365-51FCF6006F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0704-0607-4A3C-A2E8-C216E3107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FF0-F71C-4E49-8BE4-603D905EF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1E7-B676-4D1D-A9B3-53D93F88CE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C889-6030-476D-8844-DCEC78E1ED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8475-2BDC-47FE-8C7E-1B72F25AE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564C-660F-488C-98B4-F691327B4B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3D99-6714-441A-9227-2471309035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C77-CC22-4C39-BE6C-45104F860B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C8E-3A5A-47E7-A692-6640FD655E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43E-4265-49BD-8CD2-AB5E9E6B2C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991-E31C-482D-B02A-8A3B89E3B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0254-8E53-40D5-876C-636B1CB405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3F83-1F71-4F37-A6ED-A2F62C91C3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82C-AC93-4DB0-81D1-1CE78FFE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BAF-A7BA-4798-ABCF-AEEF0024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D14-0D02-4CAD-873E-0D152584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485-D804-4D74-B5B9-DB373D47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6693-75EF-4291-9517-7385AF6B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0E86-57FB-41F2-8C76-A950F2C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8B17-D109-4F8B-A579-455BE24B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50E4-A058-4EFE-861F-B8A7516B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5D2-BBB0-4610-A116-A0C481AD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65BF-BDED-4D83-AC9E-8B72CAFE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58E9-5C3F-4719-828E-1359019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7F1-84C3-4C79-ADE8-852A1C0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E87-5F45-45FE-8035-2934AA6F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8D95-F90C-45BC-99B3-534F212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149B-C444-459D-8C0A-FED490C6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2984-45E5-4B86-B9A3-399D050A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875-0420-4318-A509-2C50F4F5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0C03-16CE-4BB9-AFF3-BD72F393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C78C-9827-4F1E-BAE6-29D150EC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A260-5BD1-48C1-B39F-BDE98726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DE05-2AB1-442A-8475-0652CBF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58F2-D6C4-4328-92C4-9EB68970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B3D-223E-41CA-BC83-2D39AB2B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19B6-6AA8-46F8-BFA1-80621644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20A9-3C9E-41C4-9160-4CBD5FB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40F6-AC85-40AE-B971-39842FD4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84D1-ED79-42DE-9343-9EC5748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8991-8D1A-4749-A020-42647B74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6982-B735-41EA-A910-1744E005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6E21-2EF0-4831-8612-AABA89DB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F432-F893-4984-B984-676A59CD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8367-ECA0-488C-96A6-805A848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DE89-CC6C-447A-9920-D7A91C65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A14-9992-4480-B374-195D8ED8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6953-0334-46CC-AD1C-D0A0EF44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8547-C691-467F-8054-81FD2AE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79B7-6904-4A5B-80B7-EC14B135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ECF9-C429-497B-A0AD-30CA639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1903-2DB8-44E4-BE6B-F85CA4F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08C9-D7EB-4508-8CE5-AA4A86B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6B6B-C01E-4B1A-837D-6CD6743C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3FA2-633B-4B41-9417-4AAF7196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7134-60EF-41EB-8C20-CD618D7B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F6387-1B3B-4404-A329-1A56D3B4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ED0-B7B4-4544-8A2D-306388FB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207D-5A03-4650-A555-C680EFFB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FF30D-0605-4867-BD8A-DC6F224A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8E7B-9C9C-435A-A775-51B3F003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B7A49-9A80-4CE6-AFFA-98C79A6D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4820-1CB9-4BEE-8B88-DE11855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389EA-6A1B-4A15-B653-B0F997F1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23AA9-1C27-4879-AA9A-315093E9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A61B-6F9A-41CF-8723-B308F0B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1E28-4ECA-4DDF-A77D-86914847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0F95-9B7F-4EC6-83A9-3C345A54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9B7-7A47-446A-96D8-6EE9481A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E4663-02DD-4C9B-9789-8E55A628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4996-E289-49FD-BC9C-46635F41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7274-EC8C-42A8-9C39-DEB6F03A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3B09-C2E6-440D-90DD-CA63E8C2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00A8-E4A2-4DAE-9057-7C4E92D4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47EA-A429-4306-B2CA-D6CE053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EE9C9-E596-439E-9E32-FAE9AB27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2C24-7127-4AAD-9AD2-FA30AE6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8E150-71BE-4576-A9BC-7F34FEC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52CE-ED40-4958-BE03-4E13921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CD5-1D9D-49EC-AA85-B93CD43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B9270-6D30-4903-B1F8-8F9F6125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22A1C-8B74-45EB-808B-8A6EB7F1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8A00-DA98-401E-88FE-F9E59A5D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3FD7-2735-492D-9E95-10AB0A7D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CEDB0-9DAF-4302-BDFD-31869549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509C-9A15-4146-9EA8-E78B8D16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0230-8154-4888-8A71-7E6A84E7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4DD5-0C29-4D9F-97DC-12122D40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867E-8AC1-4CED-8667-5F07EB5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30BC9-AE31-4E86-A376-2D4EB3A1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8C2-F413-479A-900D-23579A3D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4C895-2806-43C4-94EF-02AF6A71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BA55B-0437-4A31-BB43-D1514D7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E121-2E11-4C4F-82B7-B219593F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3742-7745-45F9-8E2A-8E074B3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B13A-FC2A-474E-98B7-D0E55A3E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B24EB-2439-4F83-B2B5-C3F14DE3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1DC7B-F401-48B8-B69D-CD0A62B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21E6-1EF7-4755-B9A4-D682E7CE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A23D-073F-46F4-A40A-952C312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E1D25-DE44-4CAE-93FF-55EFAC0F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911-8DDB-4CF9-B301-8EC8F501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F716F-1FFB-4F9E-821C-22E5E25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B9E01-1087-401F-82A0-855C8F2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C77C2-6D87-46A2-A172-DE212412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EE08D-6A8D-450E-AB0C-2B35437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D2EE-8229-4EDB-8DE6-9BAAF29D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9C154-A8DF-4B9F-A477-49E9A102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D206-280C-4FDB-8331-3B6F9831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E9B2-8118-4373-812E-9C06561368E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9BCE-D7BD-4950-A239-7761218537D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63BF-3191-4C84-9A27-BB499EAC682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AD70-7899-420F-9845-AE292EC61D1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C617-D450-40B1-AF27-D5E42D7B957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26A-08CD-4DC2-B8BE-45B362FB882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E60-7C96-41D7-B6D1-FB876E878925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78F-7ED0-47B7-A3BB-1A3841D8A7F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mbria"/>
              </a:rPr>
              <a:t>Рыбные ресурсы Пермского края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1" name="Рисунок 3" descr="river.jpg"/>
          <p:cNvPicPr/>
          <p:nvPr/>
        </p:nvPicPr>
        <p:blipFill>
          <a:blip r:embed="rId1"/>
          <a:stretch/>
        </p:blipFill>
        <p:spPr>
          <a:xfrm>
            <a:off x="1979640" y="189000"/>
            <a:ext cx="5256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64653"/>
                </a:solidFill>
                <a:latin typeface="Cambria"/>
              </a:rPr>
              <a:t>Федеральные объекты Красной книг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ерляд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Acipenser ruthenu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ймен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Hucho taimen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Pall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учьевая форел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Salmotruttacaspiusmorfafario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ыстрянка русская 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Alburnoides bipunctatus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 (Bloc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ерш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Stizostedionvolgense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Gmeli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ычок-подкаменщик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Cottus gobio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Стерляд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1" name="Рисунок 3" descr="стерлядь.jpg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Таймен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3" name="Рисунок 3" descr="таймень.jpg"/>
          <p:cNvPicPr/>
          <p:nvPr/>
        </p:nvPicPr>
        <p:blipFill>
          <a:blip r:embed="rId1"/>
          <a:stretch/>
        </p:blipFill>
        <p:spPr>
          <a:xfrm>
            <a:off x="1042920" y="1484280"/>
            <a:ext cx="65199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Ручьевая форел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5" name="Рисунок 3" descr="ручьевая форель.jpg"/>
          <p:cNvPicPr/>
          <p:nvPr/>
        </p:nvPicPr>
        <p:blipFill>
          <a:blip r:embed="rId1"/>
          <a:stretch/>
        </p:blipFill>
        <p:spPr>
          <a:xfrm>
            <a:off x="2268360" y="1413000"/>
            <a:ext cx="4035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ыстрянка русская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7" name="Рисунок 3" descr="быстрянка.jpg"/>
          <p:cNvPicPr/>
          <p:nvPr/>
        </p:nvPicPr>
        <p:blipFill>
          <a:blip r:embed="rId1"/>
          <a:stretch/>
        </p:blipFill>
        <p:spPr>
          <a:xfrm>
            <a:off x="140328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ерш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9" name="Рисунок 3" descr="берш.jpg"/>
          <p:cNvPicPr/>
          <p:nvPr/>
        </p:nvPicPr>
        <p:blipFill>
          <a:blip r:embed="rId1"/>
          <a:stretch/>
        </p:blipFill>
        <p:spPr>
          <a:xfrm>
            <a:off x="1979640" y="1557360"/>
            <a:ext cx="49039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Бычок-подкаменщик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1" name="Рисунок 3" descr="бычок подк.gif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64653"/>
                </a:solidFill>
                <a:latin typeface="Cambria"/>
              </a:rPr>
              <a:t>Остальные виды рыб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3" name="Содержимое 2" descr=""/>
          <p:cNvPicPr/>
          <p:nvPr/>
        </p:nvPicPr>
        <p:blipFill>
          <a:blip r:embed="rId1"/>
          <a:stretch/>
        </p:blipFill>
        <p:spPr>
          <a:xfrm>
            <a:off x="450720" y="1133640"/>
            <a:ext cx="824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ом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5" name="Содержимое 3" descr="сом.jpg"/>
          <p:cNvPicPr/>
          <p:nvPr/>
        </p:nvPicPr>
        <p:blipFill>
          <a:blip r:embed="rId1"/>
          <a:stretch/>
        </p:blipFill>
        <p:spPr>
          <a:xfrm>
            <a:off x="1042920" y="1916280"/>
            <a:ext cx="66531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Жерех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7" name="Содержимое 3" descr="жерех.jpg"/>
          <p:cNvPicPr/>
          <p:nvPr/>
        </p:nvPicPr>
        <p:blipFill>
          <a:blip r:embed="rId1"/>
          <a:stretch/>
        </p:blipFill>
        <p:spPr>
          <a:xfrm>
            <a:off x="1403280" y="1413000"/>
            <a:ext cx="658008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сего – 42 вида ры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 видов - редкие обитатели разнотипных водоемов, многие из которых занесены в Красную книгу Пермского края и в приложение к н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Рисунок 3" descr="1305354452_chusovaja.jpg"/>
          <p:cNvPicPr/>
          <p:nvPr/>
        </p:nvPicPr>
        <p:blipFill>
          <a:blip r:embed="rId1"/>
          <a:stretch/>
        </p:blipFill>
        <p:spPr>
          <a:xfrm>
            <a:off x="4140360" y="3068640"/>
            <a:ext cx="4679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Судак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9" name="Содержимое 3" descr="судак.jpg"/>
          <p:cNvPicPr/>
          <p:nvPr/>
        </p:nvPicPr>
        <p:blipFill>
          <a:blip r:embed="rId1"/>
          <a:stretch/>
        </p:blipFill>
        <p:spPr>
          <a:xfrm>
            <a:off x="1476360" y="1557360"/>
            <a:ext cx="6135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Синец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1" name="Содержимое 3" descr="синец.jpg"/>
          <p:cNvPicPr/>
          <p:nvPr/>
        </p:nvPicPr>
        <p:blipFill>
          <a:blip r:embed="rId1"/>
          <a:stretch/>
        </p:blipFill>
        <p:spPr>
          <a:xfrm>
            <a:off x="1908000" y="1341360"/>
            <a:ext cx="538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Щук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3" name="Содержимое 3" descr="щука.jpg"/>
          <p:cNvPicPr/>
          <p:nvPr/>
        </p:nvPicPr>
        <p:blipFill>
          <a:blip r:embed="rId1"/>
          <a:stretch/>
        </p:blipFill>
        <p:spPr>
          <a:xfrm>
            <a:off x="130320" y="1628640"/>
            <a:ext cx="9013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Чехон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5" name="Содержимое 3" descr="Чехонь.jpg"/>
          <p:cNvPicPr/>
          <p:nvPr/>
        </p:nvPicPr>
        <p:blipFill>
          <a:blip r:embed="rId1"/>
          <a:stretch/>
        </p:blipFill>
        <p:spPr>
          <a:xfrm>
            <a:off x="457200" y="2128680"/>
            <a:ext cx="82296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Лещ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7" name="Содержимое 3" descr="Лещ.gif"/>
          <p:cNvPicPr/>
          <p:nvPr/>
        </p:nvPicPr>
        <p:blipFill>
          <a:blip r:embed="rId1"/>
          <a:stretch/>
        </p:blipFill>
        <p:spPr>
          <a:xfrm>
            <a:off x="1116000" y="1700280"/>
            <a:ext cx="70041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Густер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9" name="Содержимое 3" descr="Густер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611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Плотв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1" name="Содержимое 3" descr="Плотва.jpg"/>
          <p:cNvPicPr/>
          <p:nvPr/>
        </p:nvPicPr>
        <p:blipFill>
          <a:blip r:embed="rId1"/>
          <a:stretch/>
        </p:blipFill>
        <p:spPr>
          <a:xfrm>
            <a:off x="596880" y="1655640"/>
            <a:ext cx="7950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Яз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3" name="Содержимое 3" descr="Язь.jpg"/>
          <p:cNvPicPr/>
          <p:nvPr/>
        </p:nvPicPr>
        <p:blipFill>
          <a:blip r:embed="rId1"/>
          <a:stretch/>
        </p:blipFill>
        <p:spPr>
          <a:xfrm>
            <a:off x="1332000" y="1628640"/>
            <a:ext cx="626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Уклея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5" name="Содержимое 3" descr="уклея.jpg"/>
          <p:cNvPicPr/>
          <p:nvPr/>
        </p:nvPicPr>
        <p:blipFill>
          <a:blip r:embed="rId1"/>
          <a:stretch/>
        </p:blipFill>
        <p:spPr>
          <a:xfrm>
            <a:off x="1619280" y="1844640"/>
            <a:ext cx="6659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Тюльк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7" name="Содержимое 3" descr="Тюлька.jpg"/>
          <p:cNvPicPr/>
          <p:nvPr/>
        </p:nvPicPr>
        <p:blipFill>
          <a:blip r:embed="rId1"/>
          <a:stretch/>
        </p:blipFill>
        <p:spPr>
          <a:xfrm>
            <a:off x="1476360" y="1484280"/>
            <a:ext cx="5856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464653"/>
                </a:solidFill>
                <a:latin typeface="Cambria"/>
              </a:rPr>
              <a:t>Региональные объекты Красной книги Пермского кра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Европейский хариус – 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Thymallusthymallus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Linnaeus, 1758) –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ые ультракороткоцикловые в мире популяции вблизи г. Перми, I категория редк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азан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Cyprinuscarpio</a:t>
            </a:r>
            <a:r>
              <a:rPr b="1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, 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егория редк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елопёрый пескар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Romanogobioalbipinnatus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Lukasch, 1933), II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егория редк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Окун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9" name="Содержимое 3" descr="Окунь.jpg"/>
          <p:cNvPicPr/>
          <p:nvPr/>
        </p:nvPicPr>
        <p:blipFill>
          <a:blip r:embed="rId1"/>
          <a:stretch/>
        </p:blipFill>
        <p:spPr>
          <a:xfrm>
            <a:off x="1332000" y="1700280"/>
            <a:ext cx="6702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Ерш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1" name="Содержимое 3" descr="Ерш.jpg"/>
          <p:cNvPicPr/>
          <p:nvPr/>
        </p:nvPicPr>
        <p:blipFill>
          <a:blip r:embed="rId1"/>
          <a:stretch/>
        </p:blipFill>
        <p:spPr>
          <a:xfrm>
            <a:off x="1403280" y="1557360"/>
            <a:ext cx="6067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Голавл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3" name="Содержимое 3" descr="голавль.jpg"/>
          <p:cNvPicPr/>
          <p:nvPr/>
        </p:nvPicPr>
        <p:blipFill>
          <a:blip r:embed="rId1"/>
          <a:stretch/>
        </p:blipFill>
        <p:spPr>
          <a:xfrm>
            <a:off x="1692360" y="1413000"/>
            <a:ext cx="5379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Карась золотой и серебряный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5" name="Содержимое 3" descr="Карась золотой и серебряный.jpg"/>
          <p:cNvPicPr/>
          <p:nvPr/>
        </p:nvPicPr>
        <p:blipFill>
          <a:blip r:embed="rId1"/>
          <a:stretch/>
        </p:blipFill>
        <p:spPr>
          <a:xfrm>
            <a:off x="2700360" y="1413000"/>
            <a:ext cx="3456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Налим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7" name="Содержимое 3" descr="Налим.jpeg"/>
          <p:cNvPicPr/>
          <p:nvPr/>
        </p:nvPicPr>
        <p:blipFill>
          <a:blip r:embed="rId1"/>
          <a:stretch/>
        </p:blipFill>
        <p:spPr>
          <a:xfrm>
            <a:off x="1714680" y="15447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Ротан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9" name="Содержимое 3" descr="Ротан.jpg"/>
          <p:cNvPicPr/>
          <p:nvPr/>
        </p:nvPicPr>
        <p:blipFill>
          <a:blip r:embed="rId1"/>
          <a:stretch/>
        </p:blipFill>
        <p:spPr>
          <a:xfrm>
            <a:off x="1332000" y="148428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Игла-рыб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1" name="Содержимое 3" descr="Игла-рыба.jpg"/>
          <p:cNvPicPr/>
          <p:nvPr/>
        </p:nvPicPr>
        <p:blipFill>
          <a:blip r:embed="rId1"/>
          <a:stretch/>
        </p:blipFill>
        <p:spPr>
          <a:xfrm>
            <a:off x="1979640" y="1341360"/>
            <a:ext cx="5227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Гольян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3" name="Содержимое 3" descr="гольян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010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Голец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5" name="Содержимое 3" descr="Голец.JPG"/>
          <p:cNvPicPr/>
          <p:nvPr/>
        </p:nvPicPr>
        <p:blipFill>
          <a:blip r:embed="rId1"/>
          <a:stretch/>
        </p:blipFill>
        <p:spPr>
          <a:xfrm>
            <a:off x="1042920" y="1844640"/>
            <a:ext cx="7439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Лин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7" name="Содержимое 3" descr="Линь.jpeg"/>
          <p:cNvPicPr/>
          <p:nvPr/>
        </p:nvPicPr>
        <p:blipFill>
          <a:blip r:embed="rId1"/>
          <a:stretch/>
        </p:blipFill>
        <p:spPr>
          <a:xfrm>
            <a:off x="1258920" y="1484280"/>
            <a:ext cx="65833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Европейский хариус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7" name="Рисунок 3" descr="хариус.jpg"/>
          <p:cNvPicPr/>
          <p:nvPr/>
        </p:nvPicPr>
        <p:blipFill>
          <a:blip r:embed="rId1"/>
          <a:stretch/>
        </p:blipFill>
        <p:spPr>
          <a:xfrm>
            <a:off x="1187280" y="1557360"/>
            <a:ext cx="64152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Осетр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9" name="Содержимое 3" descr="Осетр.jpg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Подлещик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1" name="Содержимое 3" descr="Подлещик.jpg"/>
          <p:cNvPicPr/>
          <p:nvPr/>
        </p:nvPicPr>
        <p:blipFill>
          <a:blip r:embed="rId1"/>
          <a:stretch/>
        </p:blipFill>
        <p:spPr>
          <a:xfrm>
            <a:off x="762120" y="1382760"/>
            <a:ext cx="7619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орог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3" name="Содержимое 3" descr="Сорога.jpg"/>
          <p:cNvPicPr/>
          <p:nvPr/>
        </p:nvPicPr>
        <p:blipFill>
          <a:blip r:embed="rId1"/>
          <a:stretch/>
        </p:blipFill>
        <p:spPr>
          <a:xfrm>
            <a:off x="971640" y="1844640"/>
            <a:ext cx="69166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пасибо за внимание!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5" name="Рисунок 3" descr="196045.jpg"/>
          <p:cNvPicPr/>
          <p:nvPr/>
        </p:nvPicPr>
        <p:blipFill>
          <a:blip r:embed="rId1"/>
          <a:stretch/>
        </p:blipFill>
        <p:spPr>
          <a:xfrm>
            <a:off x="2627280" y="1341360"/>
            <a:ext cx="3362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Сазан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9" name="Рисунок 3" descr="sazan_2k.jpg"/>
          <p:cNvPicPr/>
          <p:nvPr/>
        </p:nvPicPr>
        <p:blipFill>
          <a:blip r:embed="rId1"/>
          <a:stretch/>
        </p:blipFill>
        <p:spPr>
          <a:xfrm>
            <a:off x="1042920" y="1700280"/>
            <a:ext cx="69487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елопёрый пескар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1" name="Рисунок 3" descr="пескарь белоперый.jpg"/>
          <p:cNvPicPr/>
          <p:nvPr/>
        </p:nvPicPr>
        <p:blipFill>
          <a:blip r:embed="rId1"/>
          <a:stretch/>
        </p:blipFill>
        <p:spPr>
          <a:xfrm>
            <a:off x="1116000" y="1628640"/>
            <a:ext cx="70563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464653"/>
                </a:solidFill>
                <a:latin typeface="Cambria"/>
              </a:rPr>
              <a:t>Региональные объекты в приложении Красной книги Пермского кра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раснопёрка 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Scardinius erythrophtalmus</a:t>
            </a:r>
            <a:r>
              <a:rPr b="1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Linnaeus, 1758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елоглазка -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Abramis sapa</a:t>
            </a:r>
            <a:r>
              <a:rPr b="1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Pallas)</a:t>
            </a:r>
            <a:br>
              <a:rPr sz="2600"/>
            </a:b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Краснопёрка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Рисунок 3" descr="krasnoperka.jpg"/>
          <p:cNvPicPr/>
          <p:nvPr/>
        </p:nvPicPr>
        <p:blipFill>
          <a:blip r:embed="rId1"/>
          <a:stretch/>
        </p:blipFill>
        <p:spPr>
          <a:xfrm>
            <a:off x="125892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Белоглаз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7" name="Рисунок 3" descr="beloglazka_big.jpg"/>
          <p:cNvPicPr/>
          <p:nvPr/>
        </p:nvPicPr>
        <p:blipFill>
          <a:blip r:embed="rId1"/>
          <a:stretch/>
        </p:blipFill>
        <p:spPr>
          <a:xfrm>
            <a:off x="1403280" y="1413000"/>
            <a:ext cx="5761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7:28:19Z</dcterms:created>
  <dc:creator>Дашка)))</dc:creator>
  <dc:description/>
  <dc:language>en-US</dc:language>
  <cp:lastModifiedBy>Биология</cp:lastModifiedBy>
  <dcterms:modified xsi:type="dcterms:W3CDTF">2013-03-02T08:06:24Z</dcterms:modified>
  <cp:revision>12</cp:revision>
  <dc:subject/>
  <dc:title>Рыбные ресурсы Пермского края </dc:title>
</cp:coreProperties>
</file>