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34B-FF6F-423D-9380-A56C2F08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F2E-A885-4B37-B555-C1BE38CA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E6D-85A1-4D93-83B0-37CD53CE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190-D72B-4F43-8CC8-4267ABE6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B99F-9F2A-488C-8CBA-437C399E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3247-0343-4690-B4CF-82A2FA7B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6D5A-0711-4A72-B15D-D1EBBBF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B25-1014-4A42-8054-6469CC9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6E19-7B0C-4415-B7A9-13BBE293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3C7F-256D-4AB3-AF6C-5453DDB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0FB7-2873-4E43-B3B3-19E395A5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41B-2D65-453B-A91D-85C3DB25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A59C-5B03-4F58-BBFA-FEF2EBDA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871B-C323-4B08-8AE9-A4BC4EB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D57A-889A-4D42-BFD1-837F70E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D602-3760-4384-B687-870435F6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8DFB-BF8E-4C48-83D5-5A6CE771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95F-676F-4A08-85CE-8D79E1D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99F-6D98-4E50-8C73-8504882F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995-23EC-4C7D-86C2-4155D4BC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435-C8F9-4777-B839-BA7209FF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042-EBE3-4ED2-859A-E5CCE3E0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063-317E-4038-BADC-91EB02D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2ED-24C9-48CE-9779-4BE99098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ff03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D871-21BB-4322-B656-D8B06B4BE02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072-FC7D-4AD6-ABC1-2EE17C4EF154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34/34125_o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76;" TargetMode="External"/><Relationship Id="rId2" Type="http://schemas.openxmlformats.org/officeDocument/2006/relationships/hyperlink" Target="http://ru.wikipedia.org/wiki/&#1055;&#1090;&#1080;&#1094;&#1099;" TargetMode="External"/><Relationship Id="rId3" Type="http://schemas.openxmlformats.org/officeDocument/2006/relationships/hyperlink" Target="http://ru.wikipedia.org/wiki/&#1055;&#1086;&#1076;&#1089;&#1077;&#1084;&#1077;&#1081;&#1089;&#1090;&#1074;&#1086;_(&#1073;&#1080;&#1086;&#1083;&#1086;&#1075;&#1080;&#1103;)" TargetMode="External"/><Relationship Id="rId4" Type="http://schemas.openxmlformats.org/officeDocument/2006/relationships/hyperlink" Target="http://ru.wikipedia.org/wiki/&#1060;&#1072;&#1079;&#1072;&#1085;&#1086;&#1074;&#1099;&#1077;_(&#1087;&#1086;&#1076;&#1089;&#1077;&#1084;&#1077;&#1081;&#1089;&#1090;&#1074;&#1086;)" TargetMode="External"/><Relationship Id="rId5" Type="http://schemas.openxmlformats.org/officeDocument/2006/relationships/hyperlink" Target="http://ru.wikipedia.org/wiki/&#1057;&#1077;&#1084;&#1077;&#1081;&#1089;&#1090;&#1074;&#1086;" TargetMode="External"/><Relationship Id="rId6" Type="http://schemas.openxmlformats.org/officeDocument/2006/relationships/hyperlink" Target="http://ru.wikipedia.org/wiki/&#1060;&#1072;&#1079;&#1072;&#1085;&#1086;&#1074;&#1099;&#1077;" TargetMode="External"/><Relationship Id="rId7" Type="http://schemas.openxmlformats.org/officeDocument/2006/relationships/hyperlink" Target="http://ru.wikipedia.org/wiki/&#1054;&#1090;&#1088;&#1103;&#1076;" TargetMode="External"/><Relationship Id="rId8" Type="http://schemas.openxmlformats.org/officeDocument/2006/relationships/hyperlink" Target="http://ru.wikipedia.org/wiki/&#1050;&#1091;&#1088;&#1086;&#1086;&#1073;&#1088;&#1072;&#1079;&#1085;&#1099;&#1077;" TargetMode="External"/><Relationship Id="rId9" Type="http://schemas.openxmlformats.org/officeDocument/2006/relationships/hyperlink" Target="http://ru.wikipedia.org/wiki/&#1061;&#1074;&#1086;&#1089;&#1090;" TargetMode="External"/><Relationship Id="rId10" Type="http://schemas.openxmlformats.org/officeDocument/2006/relationships/hyperlink" Target="http://www.zhaba.ru/_pics/m6swopm9r1twkn5t.jpg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-sborka.ru/images/photos/photo-sborka.ru_0/0/4/photo-sborka.ru_4408_view_E7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82;&#1080;&#1089;&#1090;&#1072;&#1085;" TargetMode="External"/><Relationship Id="rId2" Type="http://schemas.openxmlformats.org/officeDocument/2006/relationships/hyperlink" Target="http://ru.wikipedia.org/wiki/&#1048;&#1085;&#1076;&#1080;&#1103;" TargetMode="External"/><Relationship Id="rId3" Type="http://schemas.openxmlformats.org/officeDocument/2006/relationships/hyperlink" Target="http://ru.wikipedia.org/wiki/&#1064;&#1088;&#1080;_&#1051;&#1072;&#1085;&#1082;&#1072;" TargetMode="External"/><Relationship Id="rId4" Type="http://schemas.openxmlformats.org/officeDocument/2006/relationships/hyperlink" Target="http://ru.wikipedia.org/wiki/&#1044;&#1078;&#1091;&#1085;&#1075;&#1083;&#1080;" TargetMode="External"/><Relationship Id="rId5" Type="http://schemas.openxmlformats.org/officeDocument/2006/relationships/hyperlink" Target="http://aboutpeacock.com/images/Peacocks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vejournal.ru/static/files/photos/zoom/514_pict007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ards.infan.ru/img/c/p/pavli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4;&#1082;&#1072;" TargetMode="External"/><Relationship Id="rId2" Type="http://schemas.openxmlformats.org/officeDocument/2006/relationships/hyperlink" Target="http://ru.wikipedia.org/wiki/&#1061;&#1074;&#1086;&#1089;&#1090;" TargetMode="External"/><Relationship Id="rId3" Type="http://schemas.openxmlformats.org/officeDocument/2006/relationships/hyperlink" Target="http://ru.wikipedia.org/wiki/&#1050;&#1083;&#1102;&#1074;" TargetMode="External"/><Relationship Id="rId4" Type="http://schemas.openxmlformats.org/officeDocument/2006/relationships/hyperlink" Target="http://aclavet.free.fr/Stavenn_Afropavo_congensis_00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smitry.ru/Indian_subcontinent" TargetMode="External"/><Relationship Id="rId2" Type="http://schemas.openxmlformats.org/officeDocument/2006/relationships/hyperlink" Target="http://dsmitry.ru/National_bird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3e7"/>
                </a:solidFill>
                <a:latin typeface="Arial Black"/>
              </a:rPr>
              <a:t>Самая-самая лучшая птиц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Цоголакян Анжелик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БОУ СОШ № 103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 Москв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00"/>
                </a:solidFill>
                <a:latin typeface="Arial Black"/>
              </a:rPr>
              <a:t>Зеленый (яванский) пав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4148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Зеленый павлин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подвержен риску исчезновения из-за охоты и сокращения масштабов и качества среды обитания 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8" descr="Картинка 4 из 176"/>
          <p:cNvPicPr/>
          <p:nvPr/>
        </p:nvPicPr>
        <p:blipFill>
          <a:blip r:embed="rId1"/>
          <a:stretch/>
        </p:blipFill>
        <p:spPr>
          <a:xfrm>
            <a:off x="539640" y="1916280"/>
            <a:ext cx="4105440" cy="424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Черноплечий пав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4148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Черноплечий или чернокрылый павлин известен в Европе приблизительно с </a:t>
            </a: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1823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, в Америке Дарвин убедительно показал, что черноплечий павлин, считавшийся самостоятельным видом, является новой формой обыкновенного павлина и не может рассматриваться в качестве отдельного вида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0" name="Picture 1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457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3e7"/>
                </a:solidFill>
                <a:latin typeface="Arial Black"/>
              </a:rPr>
              <a:t>Самая-самая лучшая птица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Picture 18" descr="Картинка 8 из 3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628640"/>
            <a:ext cx="4464000" cy="40323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9"/>
          <p:cNvSpPr/>
          <p:nvPr/>
        </p:nvSpPr>
        <p:spPr>
          <a:xfrm>
            <a:off x="755640" y="535140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3e7"/>
                </a:solidFill>
                <a:latin typeface="Arial Black"/>
              </a:rPr>
              <a:t>павлин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Общая характеристи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148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авлины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 —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род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крупных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птиц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из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подсемейства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фазановых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семейства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фазановых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,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отряда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курообразных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. Удлинённый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хвост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павлинов плоский, в то время как у большинства фазановых — крышеобразный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8" descr="Картинка 24 из 6396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9640" y="1916280"/>
            <a:ext cx="4032360" cy="422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Хвост павли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Благодаря пышному, распускаемому веером глазчатому «хвосту» павлин известен как самая красивая птица среди курообразных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11" descr="Картинка 41 из 25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16280"/>
            <a:ext cx="4716360" cy="424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Распростран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Широко распространен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Пакистан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Индии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и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Шри Ланк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на высоте до 2000 м над уровнем моря, обитает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джунглях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и лесистых местностях, на культивируемых землях и вблизи деревень, предпочитая заросли кустарников, лесные вырубки и берега рек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7" descr="Картинка 19 из 167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4176720" cy="42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Питание павли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авлины — в основном растительноядные птицы, но не побрезгуют и разнообразной живностью, встретившейся на дороге. В их меню входят семена дикорастущих и возделываемых растений, их зеленые, мягкие части, ягоды и плоды. В питании диких павлинов есть одна странность: они очень любят змей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7" descr="Картинка 42 из 4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844640"/>
            <a:ext cx="4356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Голос павли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332000" y="2491920"/>
            <a:ext cx="17272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ля этой прекрасной птицы характерен мерзкий мяукающий голос. Мяукающий крик павлина «мии-ау» в Индии «переводят» как «минх-ао», что означает «дождь идет» или, точнее, «Дождь, иди!»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9" descr="Картинка 34 из 17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133720"/>
            <a:ext cx="2830320" cy="380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Африканский пав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Длина самца 64—70 см, </a:t>
            </a:r>
            <a:r>
              <a:rPr b="0" lang="ru-RU" sz="1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самки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— 60—63 см.Голова у самца голая, сине-серого цвета, горло оранжево-красное, остальная часть шеи прикрыта короткими бархатисто-чёрными пёрышками; на голове хохол в виде пучка прямостоящих перьев. Верхняя часть тела бронзово-зелёная с большими каймами фиолетового цвета, а на надхвостье яркие овальные пятна, как у азиатских павлинов.</a:t>
            </a:r>
            <a:r>
              <a:rPr b="0" lang="ru-RU" sz="1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Хвост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чёрный с зеленовато-голубыми каймами на концах перьев, нижняя сторона темно-зелёная, подхвостье чёрное. </a:t>
            </a:r>
            <a:r>
              <a:rPr b="0" lang="ru-RU" sz="1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Клюв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голубовато-серый. Длинные ноги имеют по одной шпоре, которые в укороченном виде есть и у самк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10" descr="Картинка 1 из 4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773360"/>
            <a:ext cx="3888000" cy="45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68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68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68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Arial Black"/>
              </a:rPr>
              <a:t>Индийский пав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ндийский павлин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является резидентом селекционера в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индийском субконтиненте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. Павлин обозначена как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национальная птиц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из Индии и провинциальная птица Пенджаб (Индия) 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11" descr="Картинка 7 из 1113"/>
          <p:cNvPicPr/>
          <p:nvPr/>
        </p:nvPicPr>
        <p:blipFill>
          <a:blip r:embed="rId3"/>
          <a:stretch/>
        </p:blipFill>
        <p:spPr>
          <a:xfrm>
            <a:off x="324000" y="1916280"/>
            <a:ext cx="4381200" cy="421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8:57:32Z</dcterms:created>
  <dc:creator>Ученик</dc:creator>
  <dc:description/>
  <dc:language>en-US</dc:language>
  <cp:lastModifiedBy>Ирина</cp:lastModifiedBy>
  <dcterms:modified xsi:type="dcterms:W3CDTF">2013-03-24T13:01:12Z</dcterms:modified>
  <cp:revision>5</cp:revision>
  <dc:subject/>
  <dc:title>Самая лучшая птица в мире</dc:title>
</cp:coreProperties>
</file>