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39B-02BA-4C7B-A818-3211D718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F1B-2201-4115-86BD-EC271E21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F22-65EC-4438-87A9-AFC2AEF6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92F-6840-46EC-9F4A-427C250D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4D50-241E-4E67-8B30-F23A9738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966A-2A23-4836-AD72-3CCF2A7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FB50-1354-467D-83AE-1E15917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414B-AC7A-41DB-A6B3-8745C41F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6678-CB6D-4089-A9FF-AC7A3835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703F-5A9A-4717-B9C6-EFACAB1C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DF9F-2946-4FD8-9EE6-E743FEA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64D-EC27-4B63-963E-F0D694E9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D13-B438-41A8-8192-A721EF7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8426-70C5-45DE-B6FA-8FB0F7AA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3EBC-F5F4-499C-AE6C-1FA64AE6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DC5C-90E8-46DB-A47C-34333612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24FF-CDD3-4A5C-AAEB-D064E8BC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2B3-E883-4049-83D0-7EB742DC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79F-42B3-41D8-9826-629BB1D1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B67-F96F-41A9-BB26-AE5C365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85B-0F0E-4FF0-8D43-3D194DD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DD3-B742-4BDE-B4D8-73F57448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68F-3901-43BF-A8AF-312DF10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3C0-61BE-4581-A4C1-6505B28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E710-8FE8-4955-BBF3-DED321D886B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62CA-92A9-466B-8E09-A78B64AF298A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34/34125_o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76;" TargetMode="External"/><Relationship Id="rId2" Type="http://schemas.openxmlformats.org/officeDocument/2006/relationships/hyperlink" Target="http://ru.wikipedia.org/wiki/&#1055;&#1090;&#1080;&#1094;&#1099;" TargetMode="External"/><Relationship Id="rId3" Type="http://schemas.openxmlformats.org/officeDocument/2006/relationships/hyperlink" Target="http://ru.wikipedia.org/wiki/&#1055;&#1086;&#1076;&#1089;&#1077;&#1084;&#1077;&#1081;&#1089;&#1090;&#1074;&#1086;_(&#1073;&#1080;&#1086;&#1083;&#1086;&#1075;&#1080;&#1103;)" TargetMode="External"/><Relationship Id="rId4" Type="http://schemas.openxmlformats.org/officeDocument/2006/relationships/hyperlink" Target="http://ru.wikipedia.org/wiki/&#1060;&#1072;&#1079;&#1072;&#1085;&#1086;&#1074;&#1099;&#1077;_(&#1087;&#1086;&#1076;&#1089;&#1077;&#1084;&#1077;&#1081;&#1089;&#1090;&#1074;&#1086;)" TargetMode="External"/><Relationship Id="rId5" Type="http://schemas.openxmlformats.org/officeDocument/2006/relationships/hyperlink" Target="http://ru.wikipedia.org/wiki/&#1057;&#1077;&#1084;&#1077;&#1081;&#1089;&#1090;&#1074;&#1086;" TargetMode="External"/><Relationship Id="rId6" Type="http://schemas.openxmlformats.org/officeDocument/2006/relationships/hyperlink" Target="http://ru.wikipedia.org/wiki/&#1060;&#1072;&#1079;&#1072;&#1085;&#1086;&#1074;&#1099;&#1077;" TargetMode="External"/><Relationship Id="rId7" Type="http://schemas.openxmlformats.org/officeDocument/2006/relationships/hyperlink" Target="http://ru.wikipedia.org/wiki/&#1054;&#1090;&#1088;&#1103;&#1076;" TargetMode="External"/><Relationship Id="rId8" Type="http://schemas.openxmlformats.org/officeDocument/2006/relationships/hyperlink" Target="http://ru.wikipedia.org/wiki/&#1050;&#1091;&#1088;&#1086;&#1086;&#1073;&#1088;&#1072;&#1079;&#1085;&#1099;&#1077;" TargetMode="External"/><Relationship Id="rId9" Type="http://schemas.openxmlformats.org/officeDocument/2006/relationships/hyperlink" Target="http://ru.wikipedia.org/wiki/&#1061;&#1074;&#1086;&#1089;&#1090;" TargetMode="External"/><Relationship Id="rId10" Type="http://schemas.openxmlformats.org/officeDocument/2006/relationships/hyperlink" Target="http://www.zhaba.ru/_pics/m6swopm9r1twkn5t.jpg" TargetMode="External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-sborka.ru/images/photos/photo-sborka.ru_0/0/4/photo-sborka.ru_4408_view_E7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82;&#1080;&#1089;&#1090;&#1072;&#1085;" TargetMode="External"/><Relationship Id="rId2" Type="http://schemas.openxmlformats.org/officeDocument/2006/relationships/hyperlink" Target="http://ru.wikipedia.org/wiki/&#1048;&#1085;&#1076;&#1080;&#1103;" TargetMode="External"/><Relationship Id="rId3" Type="http://schemas.openxmlformats.org/officeDocument/2006/relationships/hyperlink" Target="http://ru.wikipedia.org/wiki/&#1064;&#1088;&#1080;_&#1051;&#1072;&#1085;&#1082;&#1072;" TargetMode="External"/><Relationship Id="rId4" Type="http://schemas.openxmlformats.org/officeDocument/2006/relationships/hyperlink" Target="http://ru.wikipedia.org/wiki/&#1044;&#1078;&#1091;&#1085;&#1075;&#1083;&#1080;" TargetMode="External"/><Relationship Id="rId5" Type="http://schemas.openxmlformats.org/officeDocument/2006/relationships/hyperlink" Target="http://aboutpeacock.com/images/Peacocks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ivejournal.ru/static/files/photos/zoom/514_pict007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ards.infan.ru/img/c/p/pavli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4;&#1082;&#1072;" TargetMode="External"/><Relationship Id="rId2" Type="http://schemas.openxmlformats.org/officeDocument/2006/relationships/hyperlink" Target="http://ru.wikipedia.org/wiki/&#1061;&#1074;&#1086;&#1089;&#1090;" TargetMode="External"/><Relationship Id="rId3" Type="http://schemas.openxmlformats.org/officeDocument/2006/relationships/hyperlink" Target="http://ru.wikipedia.org/wiki/&#1050;&#1083;&#1102;&#1074;" TargetMode="External"/><Relationship Id="rId4" Type="http://schemas.openxmlformats.org/officeDocument/2006/relationships/hyperlink" Target="http://aclavet.free.fr/Stavenn_Afropavo_congensis_0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smitry.ru/Indian_subcontinent" TargetMode="External"/><Relationship Id="rId2" Type="http://schemas.openxmlformats.org/officeDocument/2006/relationships/hyperlink" Target="http://dsmitry.ru/National_bird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3e7"/>
                </a:solidFill>
                <a:latin typeface="Arial Black"/>
              </a:rPr>
              <a:t>Самая-самая лучшая птиц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Цоголакян Анжели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БОУ СОШ № 1035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 Москв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Arial Black"/>
              </a:rPr>
              <a:t>Зеленый (яванский)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Зеленый павлин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подвержен риску исчезновения из-за охоты и сокращения масштабов и качества среды обитания 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8" descr="Картинка 4 из 176"/>
          <p:cNvPicPr/>
          <p:nvPr/>
        </p:nvPicPr>
        <p:blipFill>
          <a:blip r:embed="rId1"/>
          <a:stretch/>
        </p:blipFill>
        <p:spPr>
          <a:xfrm>
            <a:off x="539640" y="1916280"/>
            <a:ext cx="4105440" cy="424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 Black"/>
              </a:rPr>
              <a:t>Черноплечий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Черноплечий или чернокрылый павлин известен в Европе приблизительно с </a:t>
            </a: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1823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, в Америке Дарвин убедительно показал, что черноплечий павлин, считавшийся самостоятельным видом, является новой формой обыкновенного павлина и не может рассматриваться в качестве отдельного вида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0" name="Picture 1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90920" cy="457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3e7"/>
                </a:solidFill>
                <a:latin typeface="Arial Black"/>
              </a:rPr>
              <a:t>Самая-самая лучшая птица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Picture 18" descr="Картинка 8 из 36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628640"/>
            <a:ext cx="4464000" cy="40323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9"/>
          <p:cNvSpPr/>
          <p:nvPr/>
        </p:nvSpPr>
        <p:spPr>
          <a:xfrm>
            <a:off x="755640" y="535140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3e7"/>
                </a:solidFill>
                <a:latin typeface="Arial Black"/>
              </a:rPr>
              <a:t>павли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Общая характеристи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148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Павлины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 —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д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крупных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птиц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из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одсемейства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фазановых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семейства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фазановых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,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отряда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курообразных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. Удлинённый </a:t>
            </a:r>
            <a:r>
              <a:rPr b="0" lang="ru-RU" sz="18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хвост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павлинов плоский, в то время как у большинства фазановых — крышеобразны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8" descr="Картинка 24 из 6396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9640" y="1916280"/>
            <a:ext cx="4032360" cy="422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Хвост павл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Благодаря пышному, распускаемому веером глазчатому «хвосту» павлин известен как самая красивая птица среди курообразны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11" descr="Картинка 41 из 25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16280"/>
            <a:ext cx="4716360" cy="424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Распростран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Широко распространен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Пакистан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Индии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и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Шри Ланк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на высоте до 2000 м над уровнем моря, обитает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джунглях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и лесистых местностях, на культивируемых землях и вблизи деревень, предпочитая заросли кустарников, лесные вырубки и берега рек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7" descr="Картинка 19 из 167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4176720" cy="42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Питание павл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авлины — в основном растительноядные птицы, но не побрезгуют и разнообразной живностью, встретившейся на дороге. В их меню входят семена дикорастущих и возделываемых растений, их зеленые, мягкие части, ягоды и плоды. В питании диких павлинов есть одна странность: они очень любят змей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7" descr="Картинка 42 из 4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844640"/>
            <a:ext cx="4356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</a:rPr>
              <a:t>Голос павли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332000" y="2491920"/>
            <a:ext cx="17272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ля этой прекрасной птицы характерен мерзкий мяукающий голос. Мяукающий крик павлина «мии-ау» в Индии «переводят» как «минх-ао», что означает «дождь идет» или, точнее, «Дождь, иди!»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9" descr="Картинка 34 из 17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133720"/>
            <a:ext cx="2830320" cy="380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Африканский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лина самца 64—70 см, </a:t>
            </a:r>
            <a:r>
              <a:rPr b="0" lang="ru-RU" sz="1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самки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— 60—63 см.Голова у самца голая, сине-серого цвета, горло оранжево-красное, остальная часть шеи прикрыта короткими бархатисто-чёрными пёрышками; на голове хохол в виде пучка прямостоящих перьев. Верхняя часть тела бронзово-зелёная с большими каймами фиолетового цвета, а на надхвостье яркие овальные пятна, как у азиатских павлинов.</a:t>
            </a:r>
            <a:r>
              <a:rPr b="0" lang="ru-RU" sz="1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Хвост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чёрный с зеленовато-голубыми каймами на концах перьев, нижняя сторона темно-зелёная, подхвостье чёрное. </a:t>
            </a:r>
            <a:r>
              <a:rPr b="0" lang="ru-RU" sz="1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Клюв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голубовато-серый. Длинные ноги имеют по одной шпоре, которые в укороченном виде есть и у самк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10" descr="Картинка 1 из 4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773360"/>
            <a:ext cx="3888000" cy="458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68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68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68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 Black"/>
              </a:rPr>
              <a:t>Индийский павли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Индийский павлин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является резидентом селекционера в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индийском субконтиненте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. Павлин обозначена как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национальная птиц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из Индии и провинциальная птица Пенджаб (Индия) 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11" descr="Картинка 7 из 1113"/>
          <p:cNvPicPr/>
          <p:nvPr/>
        </p:nvPicPr>
        <p:blipFill>
          <a:blip r:embed="rId3"/>
          <a:stretch/>
        </p:blipFill>
        <p:spPr>
          <a:xfrm>
            <a:off x="324000" y="1916280"/>
            <a:ext cx="4381200" cy="4216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8:57:32Z</dcterms:created>
  <dc:creator>Ученик</dc:creator>
  <dc:description/>
  <dc:language>en-US</dc:language>
  <cp:lastModifiedBy>Ирина</cp:lastModifiedBy>
  <dcterms:modified xsi:type="dcterms:W3CDTF">2013-03-24T13:01:12Z</dcterms:modified>
  <cp:revision>5</cp:revision>
  <dc:subject/>
  <dc:title>Самая лучшая птица в мире</dc:title>
</cp:coreProperties>
</file>