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ammer.wav" ContentType="audio/x-wav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  <p:custShowLst>
    <p:custShow name="Произвольный показ 1" id="0">
      <p:sldLst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9D6-43E9-4EBA-BBFA-B0891F99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825-ADBB-41E3-848F-F84CEE0C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051-205E-4E23-817C-5DAFEF72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19E-73E4-452D-893F-FC08FAEA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6E7E-6D0D-4449-8321-03814790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FE2C-1052-4979-8A2F-0B25A8BA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68A1-0146-442A-BB46-35657985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839F-4E23-4B0E-8489-8A90C833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2531-C593-4B69-A48B-831FA915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B028-B991-40AD-AAE2-ED64FCD4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D6CF-E962-4027-A654-10005167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B00-64E0-490C-8A67-A8A1FA69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42F4-CAC4-4CF3-9F9B-2E1FA433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69B8-E2B0-4238-95E2-6DF259C2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CC68-0063-40F7-8380-932BC9AC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11AD-1008-4E56-8A05-7477D1D5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1E83-2442-4B32-89D2-10CB4298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F4D-BF9B-48FC-993A-A02B0273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94C-F284-4115-A088-A9A2FF9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B63-81ED-4632-9351-0CA8B24C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9AA-752D-47F0-81E9-8EB136D3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BE1-9AAC-40F0-8856-434C1EB6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170-89B7-4F8A-A85B-8F1DC35D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43F-8A57-4602-93BC-0E718337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8D7D-E9B9-41F9-93A0-4F8971A4FB6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DB13-D7B2-44DE-8F10-61EC287E8FE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5040" y="3801240"/>
            <a:ext cx="7485480" cy="25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006666"/>
                </a:solidFill>
                <a:latin typeface="Lucida Handwriting"/>
              </a:rPr>
              <a:t>Сложение и вычитание                 в пределах 20</a:t>
            </a:r>
            <a:endParaRPr b="1" lang="en-US" sz="8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Rectangle 11">
            <a:hlinkClick r:id="" action="ppaction://hlinkshowjump?jump=nextslide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5-5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13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Rectangle 14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4+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13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Rectangle 14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8+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Rectangle 14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Rectangle 15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Rectangle 16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7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Rectangle 18">
            <a:hlinkClick r:id="" action="ppaction://hlinkshowjump?jump=nextslide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Rectangle 14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Rectangle 15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Rectangle 16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Rectangle 17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Rectangle 18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Rectangle 19">
            <a:hlinkClick r:id="" action="ppaction://hlinkshowjump?jump=nextslide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+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Rectangle 13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5+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Rectangle 6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Rectangle 7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Rectangle 8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Rectangle 9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Rectangle 10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Rectangle 11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Rectangle 12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Rectangle 13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Rectangle 14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8+3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Rectangle 16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Rectangle 17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Rectangle 18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Rectangle 19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Rectangle 20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Rectangle 21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Rectangle 22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Rectangle 23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Rectangle 24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Rectangle 25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Rectangle 14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Rectangle 15">
            <a:hlinkClick r:id="" action="ppaction://hlinkshowjump?jump=nextslide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7+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0+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Rectangle 14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Rectangle 15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Rectangle 16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Rectangle 17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Rectangle 18">
            <a:hlinkClick r:id="" action="ppaction://hlinkshowjump?jump=nextslide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Rectangle 14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Rectangle 15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Rectangle 16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Rectangle 17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Rectangle 18">
            <a:hlinkClick r:id="" action="ppaction://hlinkshowjump?jump=nextslide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20-3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Rectangle 5">
            <a:hlinkClick r:id="" action="ppaction://hlinkshowjump?jump=nextslide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Rectangle 6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2-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88280" y="1026000"/>
            <a:ext cx="8767440" cy="25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Lucida Handwriting"/>
              </a:rPr>
              <a:t>  </a:t>
            </a:r>
            <a:r>
              <a:rPr b="1" lang="ru-RU" sz="8800" spc="-1" strike="noStrike">
                <a:solidFill>
                  <a:srgbClr val="006666"/>
                </a:solidFill>
                <a:latin typeface="Lucida Handwriting"/>
              </a:rPr>
              <a:t>Вы ошиблись!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Rectangle 4">
            <a:hlinkClick r:id="" action="ppaction://hlinkshowjump?jump=nextslide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Rectangle 5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Rectangle 6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2-9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Rectangle 9">
            <a:hlinkClick r:id="" action="ppaction://hlinkshowjump?jump=nextslide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4-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Rectangle 14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7+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Rectangle 14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20-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Rectangle 13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+3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angle 3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Rectangle 4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Rectangle 5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Rectangle 6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Text Box 22"/>
          <p:cNvSpPr/>
          <p:nvPr/>
        </p:nvSpPr>
        <p:spPr>
          <a:xfrm>
            <a:off x="380880" y="914400"/>
            <a:ext cx="5486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-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Rectangle 14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+4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Rectangle 13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0+2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Rectangle 9">
            <a:hlinkClick r:id="" action="ppaction://hlinkshowjump?jump=nextslide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5-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Rectangle 13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1+1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85800" y="99072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6+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14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2-3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6-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Rectangle 12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7+4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Rectangle 14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Rectangle 15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Rectangle 16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Rectangle 17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3" name="Rectangle 18">
            <a:hlinkClick r:id="rId17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Rectangle 19">
            <a:hlinkClick r:id="" action="ppaction://hlinkshowjump?jump=nextslide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6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+9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0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5-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8-9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8">
            <a:hlinkClick r:id="" action="ppaction://hlinkshowjump?jump=nextslide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0-3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Rectangle 3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Rectangle 4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Rectangle 5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Rectangle 6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0-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4-5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Rectangle 12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Rectangle 13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Rectangle 14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Rectangle 15">
            <a:hlinkClick r:id="" action="ppaction://hlinkshowjump?jump=nextslide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9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9+5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10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5-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Rectangle 3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Rectangle 4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Rectangle 5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Rectangle 6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Text Box 22"/>
          <p:cNvSpPr/>
          <p:nvPr/>
        </p:nvSpPr>
        <p:spPr>
          <a:xfrm>
            <a:off x="380880" y="914400"/>
            <a:ext cx="5486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2-10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Rectangle 6">
            <a:hlinkClick r:id="" action="ppaction://hlinkshowjump?jump=nextslide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Rectangle 7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Rectangle 8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Rectangle 9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Rectangle 10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4" name="Rectangle 11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5" name="Rectangle 12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6" name="Rectangle 13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Rectangle 14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Rectangle 15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Rectangle 16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0" name="Rectangle 17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Rectangle 18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Rectangle 19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Rectangle 20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Rectangle 21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2-7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Rectangle 4"/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9" name="Rectangle 5"/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0" name="Rectangle 6"/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Rectangle 8"/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3" name="Rectangle 9"/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4" name="Rectangle 10"/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5" name="Rectangle 11"/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6" name="Rectangle 12"/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Rectangle 13"/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Rectangle 14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9" name="Rectangle 15"/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0" name="Rectangle 16"/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Rectangle 17"/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Rectangle 18"/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3" name="Rectangle 19"/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Rectangle 20"/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Rectangle 21"/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Text Box 2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7+6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783360" y="1469160"/>
            <a:ext cx="8796240" cy="23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6666"/>
                </a:solidFill>
                <a:latin typeface="Lucida Handwriting"/>
              </a:rPr>
              <a:t>Молодцы!</a:t>
            </a:r>
            <a:endParaRPr b="1" lang="en-US" sz="10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685800" y="99072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20-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4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19-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13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Rectangle 14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11">
            <a:hlinkClick r:id="" action="ppaction://hlinkshowjump?jump=nextslide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5+5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13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14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6+5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3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Rectangle 14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Rectangle 15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3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4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5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Rectangle 6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Rectangle 7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Rectangle 8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9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10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11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3366"/>
                </a:solidFill>
                <a:latin typeface="Lucida Handwriting"/>
              </a:rPr>
              <a:t>5+8</a:t>
            </a:r>
            <a:endParaRPr b="0" i="1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13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14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15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6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17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Rectangle 18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19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Rectangle 20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21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22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i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</cp:lastModifiedBy>
  <dcterms:modified xsi:type="dcterms:W3CDTF">2013-03-28T21:48:3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