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hammer.wav" ContentType="audio/x-wav"/>
  <Override PartName="/ppt/media/camera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  <p:custShowLst>
    <p:custShow name="Произвольный показ 1" id="0">
      <p:sldLst>
        <p:sld r:id="rId1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354C-458A-45F2-86FB-21956AFD1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07A2-0964-4756-906D-7BEA51DA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D210-1FCF-4198-A614-34B6EBAD1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B91C-7456-4EB1-94D7-96F26911F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16B7-D994-43FB-A2DA-69201544E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51CB9-4A8C-4FFD-B66B-29D531EC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61A15-463C-45F3-83EA-68574675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4378E-4E33-4D76-A136-8986F332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B316-DE8F-498E-B47F-CC254F8F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D951-BCD4-40DF-B352-8D96E8FD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DEEF-4457-4403-B668-825942AF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460A-909B-4780-B679-1BBF4EE3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E2D0-5876-4195-A472-30FEFB33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6A10-5B72-4F42-8776-EAD40CEF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7920-6564-4C36-9625-4DD3FE3C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2BB6-4519-4550-8AEA-D8C3589F9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B1D4-FF05-4779-9F08-1827856EE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A748-E617-4E05-9A76-8E74710A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C111-BC02-4400-BFB8-F47236E9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EDA9-9AFC-49FA-A15B-52F51410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A89C-98C3-48C0-908A-2894577B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08AB-2C36-40F5-BFDB-FC2900D1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ECB4-3C62-4EE8-90C9-440D83FD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3DAF-8782-40AA-8682-44F70049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D858-CBCD-4973-80DC-15E81AF0270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3F9A-B4C5-4D67-8D83-93FB3CD6C89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05040" y="3801240"/>
            <a:ext cx="7485480" cy="25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600" spc="-1" strike="noStrike">
                <a:solidFill>
                  <a:srgbClr val="006666"/>
                </a:solidFill>
                <a:latin typeface="Lucida Handwriting"/>
              </a:rPr>
              <a:t>Сложение и вычитание                 в пределах 20</a:t>
            </a:r>
            <a:endParaRPr b="1" lang="en-US" sz="8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Rectangle 6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Rectangle 7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Rectangle 8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Rectangle 9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Rectangle 10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Rectangle 11">
            <a:hlinkClick r:id="" action="ppaction://hlinkshowjump?jump=nextslide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15-5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Rectangle 13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Rectangle 14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Rectangle 15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Rectangle 16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Rectangle 17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Rectangle 18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Rectangle 19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Rectangle 20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Rectangle 21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Rectangle 22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Rectangle 6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Rectangle 7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Rectangle 8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Rectangle 9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Rectangle 10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Rectangle 11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4+7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Rectangle 13">
            <a:hlinkClick r:id="" action="ppaction://hlinkshowjump?jump=nextslide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Rectangle 14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Rectangle 15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Rectangle 16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Rectangle 17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Rectangle 18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Rectangle 19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Rectangle 20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Rectangle 21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Rectangle 22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Rectangle 6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Rectangle 7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Rectangle 8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Rectangle 9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Rectangle 10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Rectangle 11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Text Box 1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8+8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Rectangle 13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Rectangle 14">
            <a:hlinkClick r:id="rId12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Rectangle 15">
            <a:hlinkClick r:id="rId13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Rectangle 16">
            <a:hlinkClick r:id="rId14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Rectangle 17">
            <a:hlinkClick r:id="rId15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Rectangle 18">
            <a:hlinkClick r:id="" action="ppaction://hlinkshowjump?jump=nextslide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Rectangle 19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Rectangle 20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Rectangle 21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Rectangle 22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Rectangle 6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Rectangle 7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Rectangle 8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Rectangle 9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Rectangle 10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Rectangle 11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Rectangle 13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Rectangle 14">
            <a:hlinkClick r:id="rId12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Rectangle 15">
            <a:hlinkClick r:id="rId13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Rectangle 16">
            <a:hlinkClick r:id="rId14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Rectangle 17">
            <a:hlinkClick r:id="rId15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Rectangle 18">
            <a:hlinkClick r:id="rId16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Rectangle 19">
            <a:hlinkClick r:id="" action="ppaction://hlinkshowjump?jump=nextslide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Rectangle 20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Rectangle 21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Rectangle 22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Text Box 23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9+8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Rectangle 6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Rectangle 7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Rectangle 8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Rectangle 9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Rectangle 10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Rectangle 11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Rectangle 12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Rectangle 13">
            <a:hlinkClick r:id="" action="ppaction://hlinkshowjump?jump=nextslide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Rectangle 14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Rectangle 15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Rectangle 16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Rectangle 17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Rectangle 18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Rectangle 19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Rectangle 20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Rectangle 21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Text Box 2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5+7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5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Rectangle 6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Rectangle 7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Rectangle 8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Rectangle 9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4" name="Rectangle 10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5" name="Rectangle 11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Rectangle 12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7" name="Rectangle 13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Rectangle 14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Text Box 15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8+3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Rectangle 16">
            <a:hlinkClick r:id="" action="ppaction://hlinkshowjump?jump=nextslide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Rectangle 17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Rectangle 18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Rectangle 19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Rectangle 20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Rectangle 21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Rectangle 22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Rectangle 23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Rectangle 24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9" name="Rectangle 25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1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2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3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Rectangle 6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5" name="Rectangle 7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6" name="Rectangle 8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7" name="Rectangle 9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Rectangle 10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Rectangle 11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Rectangle 12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1" name="Rectangle 13">
            <a:hlinkClick r:id="rId12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Rectangle 14">
            <a:hlinkClick r:id="rId13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Rectangle 15">
            <a:hlinkClick r:id="" action="ppaction://hlinkshowjump?jump=nextslide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Rectangle 16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Rectangle 17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Rectangle 18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Rectangle 19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Rectangle 20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Rectangle 21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0" name="Text Box 2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7+7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2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4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5" name="Rectangle 6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6" name="Rectangle 7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7" name="Rectangle 8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8" name="Rectangle 9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9" name="Rectangle 10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0" name="Rectangle 11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1" name="Text Box 1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10+6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2" name="Rectangle 13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3" name="Rectangle 14">
            <a:hlinkClick r:id="rId12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4" name="Rectangle 15">
            <a:hlinkClick r:id="rId13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5" name="Rectangle 16">
            <a:hlinkClick r:id="rId14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6" name="Rectangle 17">
            <a:hlinkClick r:id="rId15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7" name="Rectangle 18">
            <a:hlinkClick r:id="" action="ppaction://hlinkshowjump?jump=nextslide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8" name="Rectangle 19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9" name="Rectangle 20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0" name="Rectangle 21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1" name="Rectangle 22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3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4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5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6" name="Rectangle 6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7" name="Rectangle 7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8" name="Rectangle 8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9" name="Rectangle 9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0" name="Rectangle 10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1" name="Rectangle 11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2" name="Rectangle 12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3" name="Rectangle 13">
            <a:hlinkClick r:id="rId12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4" name="Rectangle 14">
            <a:hlinkClick r:id="rId13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Rectangle 15">
            <a:hlinkClick r:id="rId14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6" name="Rectangle 16">
            <a:hlinkClick r:id="rId15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7" name="Rectangle 17">
            <a:hlinkClick r:id="rId16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8" name="Rectangle 18">
            <a:hlinkClick r:id="" action="ppaction://hlinkshowjump?jump=nextslide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9" name="Rectangle 19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0" name="Rectangle 20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1" name="Rectangle 21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2" name="Text Box 2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20-3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4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5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6" name="Rectangle 5">
            <a:hlinkClick r:id="" action="ppaction://hlinkshowjump?jump=nextslide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Rectangle 6">
            <a:hlinkClick r:id="rId4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8" name="Rectangle 7">
            <a:hlinkClick r:id="rId5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9" name="Rectangle 8">
            <a:hlinkClick r:id="rId6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0" name="Rectangle 9">
            <a:hlinkClick r:id="rId7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1" name="Rectangle 10">
            <a:hlinkClick r:id="rId8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2" name="Rectangle 11">
            <a:hlinkClick r:id="rId9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3" name="Rectangle 12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4" name="Rectangle 13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5" name="Rectangle 14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6" name="Rectangle 15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7" name="Rectangle 16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8" name="Rectangle 17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Rectangle 18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0" name="Rectangle 19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Rectangle 20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Rectangle 21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Text Box 2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12-8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88280" y="1026000"/>
            <a:ext cx="8767440" cy="259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Lucida Handwriting"/>
              </a:rPr>
              <a:t>  </a:t>
            </a:r>
            <a:r>
              <a:rPr b="1" lang="ru-RU" sz="8800" spc="-1" strike="noStrike">
                <a:solidFill>
                  <a:srgbClr val="006666"/>
                </a:solidFill>
                <a:latin typeface="Lucida Handwriting"/>
              </a:rPr>
              <a:t>Вы ошиблись!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6" name="Rectangle 4">
            <a:hlinkClick r:id="" action="ppaction://hlinkshowjump?jump=nextslide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7" name="Rectangle 5">
            <a:hlinkClick r:id="rId3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8" name="Rectangle 6">
            <a:hlinkClick r:id="rId4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9" name="Rectangle 7">
            <a:hlinkClick r:id="rId5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0" name="Rectangle 8">
            <a:hlinkClick r:id="rId6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1" name="Rectangle 9">
            <a:hlinkClick r:id="rId7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Rectangle 10">
            <a:hlinkClick r:id="rId8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Rectangle 11">
            <a:hlinkClick r:id="rId9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4" name="Rectangle 12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5" name="Rectangle 13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Rectangle 14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7" name="Rectangle 15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8" name="Rectangle 16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9" name="Rectangle 17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Rectangle 18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Rectangle 19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2" name="Rectangle 20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3" name="Rectangle 21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4" name="Text Box 2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12-9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9" name="Rectangle 6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0" name="Rectangle 7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1" name="Rectangle 8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2" name="Rectangle 9">
            <a:hlinkClick r:id="" action="ppaction://hlinkshowjump?jump=nextslide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3" name="Rectangle 10">
            <a:hlinkClick r:id="rId8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4" name="Rectangle 11">
            <a:hlinkClick r:id="rId9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5" name="Rectangle 12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6" name="Rectangle 13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Rectangle 14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Rectangle 15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Rectangle 16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0" name="Rectangle 17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1" name="Rectangle 18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2" name="Rectangle 19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3" name="Rectangle 20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Rectangle 21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5" name="Text Box 2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14-6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9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0" name="Rectangle 6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Rectangle 7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Rectangle 8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Rectangle 9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Rectangle 10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5" name="Rectangle 11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Rectangle 12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Rectangle 13">
            <a:hlinkClick r:id="rId12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8" name="Rectangle 14">
            <a:hlinkClick r:id="" action="ppaction://hlinkshowjump?jump=nextslide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9" name="Rectangle 15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0" name="Rectangle 16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Rectangle 17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Rectangle 18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3" name="Rectangle 19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Rectangle 20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5" name="Rectangle 21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6" name="Text Box 2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7+6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8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9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0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1" name="Rectangle 6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2" name="Rectangle 7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Rectangle 8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Rectangle 9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5" name="Rectangle 10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6" name="Rectangle 11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7" name="Rectangle 12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Rectangle 13">
            <a:hlinkClick r:id="rId12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Rectangle 14">
            <a:hlinkClick r:id="" action="ppaction://hlinkshowjump?jump=nextslide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Rectangle 15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Rectangle 16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Rectangle 17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Rectangle 18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Rectangle 19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5" name="Rectangle 20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Rectangle 21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Text Box 2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20-7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9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0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1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2" name="Rectangle 6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3" name="Rectangle 7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4" name="Rectangle 8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5" name="Rectangle 9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6" name="Rectangle 10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7" name="Rectangle 11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8" name="Rectangle 12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9" name="Rectangle 13">
            <a:hlinkClick r:id="" action="ppaction://hlinkshowjump?jump=nextslide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0" name="Rectangle 14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1" name="Rectangle 15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2" name="Rectangle 16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Rectangle 17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Rectangle 18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5" name="Rectangle 19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6" name="Rectangle 20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7" name="Rectangle 21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Text Box 2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9+3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0" name="Rectangle 3">
            <a:hlinkClick r:id="" action="ppaction://hlinkshowjump?jump=nextslide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1" name="Rectangle 4">
            <a:hlinkClick r:id="rId2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2" name="Rectangle 5">
            <a:hlinkClick r:id="rId3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3" name="Rectangle 6">
            <a:hlinkClick r:id="rId4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4" name="Rectangle 7">
            <a:hlinkClick r:id="rId5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5" name="Rectangle 8">
            <a:hlinkClick r:id="rId6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6" name="Rectangle 9">
            <a:hlinkClick r:id="rId7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7" name="Rectangle 10">
            <a:hlinkClick r:id="rId8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8" name="Rectangle 11">
            <a:hlinkClick r:id="rId9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9" name="Rectangle 12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0" name="Rectangle 13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1" name="Rectangle 14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Rectangle 15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3" name="Rectangle 16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4" name="Rectangle 17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5" name="Rectangle 18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6" name="Rectangle 19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7" name="Rectangle 20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8" name="Rectangle 21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9" name="Text Box 22"/>
          <p:cNvSpPr/>
          <p:nvPr/>
        </p:nvSpPr>
        <p:spPr>
          <a:xfrm>
            <a:off x="380880" y="914400"/>
            <a:ext cx="548640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9-7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1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2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3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4" name="Rectangle 6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5" name="Rectangle 7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6" name="Rectangle 8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7" name="Rectangle 9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8" name="Rectangle 10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9" name="Rectangle 11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0" name="Rectangle 12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1" name="Rectangle 13">
            <a:hlinkClick r:id="rId12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2" name="Rectangle 14">
            <a:hlinkClick r:id="" action="ppaction://hlinkshowjump?jump=nextslide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3" name="Rectangle 15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4" name="Rectangle 16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5" name="Rectangle 17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6" name="Rectangle 18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7" name="Rectangle 19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8" name="Rectangle 20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9" name="Rectangle 21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0" name="Text Box 2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9+4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2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3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4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5" name="Rectangle 6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6" name="Rectangle 7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7" name="Rectangle 8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8" name="Rectangle 9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9" name="Rectangle 10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0" name="Rectangle 11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1" name="Rectangle 12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2" name="Rectangle 13">
            <a:hlinkClick r:id="" action="ppaction://hlinkshowjump?jump=nextslide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Rectangle 14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4" name="Rectangle 15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5" name="Rectangle 16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6" name="Rectangle 17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7" name="Rectangle 18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8" name="Rectangle 19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9" name="Rectangle 20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0" name="Rectangle 21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1" name="Text Box 2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10+2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3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4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5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6" name="Rectangle 6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7" name="Rectangle 7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8" name="Rectangle 8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9" name="Rectangle 9">
            <a:hlinkClick r:id="" action="ppaction://hlinkshowjump?jump=nextslide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0" name="Rectangle 10">
            <a:hlinkClick r:id="rId8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1" name="Rectangle 11">
            <a:hlinkClick r:id="rId9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2" name="Rectangle 12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3" name="Rectangle 13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4" name="Rectangle 14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5" name="Rectangle 15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6" name="Rectangle 16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7" name="Rectangle 17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8" name="Rectangle 18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9" name="Rectangle 19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0" name="Rectangle 20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1" name="Rectangle 21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2" name="Text Box 2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15-7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4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5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6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7" name="Rectangle 6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8" name="Rectangle 7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9" name="Rectangle 8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0" name="Rectangle 9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1" name="Rectangle 10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2" name="Rectangle 11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3" name="Rectangle 12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4" name="Rectangle 13">
            <a:hlinkClick r:id="" action="ppaction://hlinkshowjump?jump=nextslide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5" name="Rectangle 14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6" name="Rectangle 15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7" name="Rectangle 16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8" name="Rectangle 17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9" name="Rectangle 18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0" name="Rectangle 19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1" name="Rectangle 20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2" name="Rectangle 21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Text Box 2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11+1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Rectangle 6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Rectangle 7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Rectangle 8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Rectangle 9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Rectangle 10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Rectangle 11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685800" y="99072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6+6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Rectangle 13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Rectangle 14">
            <a:hlinkClick r:id="" action="ppaction://hlinkshowjump?jump=nextslide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Rectangle 15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16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Rectangle 17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Rectangle 18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Rectangle 19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Rectangle 20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Rectangle 21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Rectangle 22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5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6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7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8" name="Rectangle 6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9" name="Rectangle 7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0" name="Rectangle 8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1" name="Rectangle 9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2" name="Rectangle 10">
            <a:hlinkClick r:id="" action="ppaction://hlinkshowjump?jump=nextslide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3" name="Rectangle 11">
            <a:hlinkClick r:id="rId9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4" name="Rectangle 12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5" name="Rectangle 13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6" name="Rectangle 14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7" name="Rectangle 15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8" name="Rectangle 16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9" name="Rectangle 17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0" name="Rectangle 18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1" name="Rectangle 19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2" name="Rectangle 20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3" name="Rectangle 21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4" name="Text Box 2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12-3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6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7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8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9" name="Rectangle 6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0" name="Rectangle 7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1" name="Rectangle 8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2" name="Rectangle 9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3" name="Rectangle 10">
            <a:hlinkClick r:id="" action="ppaction://hlinkshowjump?jump=nextslide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4" name="Rectangle 11">
            <a:hlinkClick r:id="rId9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5" name="Rectangle 12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6" name="Rectangle 13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7" name="Rectangle 14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8" name="Rectangle 15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9" name="Rectangle 16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0" name="Rectangle 17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1" name="Rectangle 18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2" name="Rectangle 19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3" name="Rectangle 20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Rectangle 21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5" name="Text Box 2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16-7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7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8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9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0" name="Rectangle 6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1" name="Rectangle 7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2" name="Rectangle 8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3" name="Rectangle 9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4" name="Rectangle 10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5" name="Rectangle 11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6" name="Rectangle 12">
            <a:hlinkClick r:id="" action="ppaction://hlinkshowjump?jump=nextslide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7" name="Rectangle 13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8" name="Rectangle 14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9" name="Rectangle 15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0" name="Rectangle 16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1" name="Rectangle 17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2" name="Rectangle 18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3" name="Rectangle 19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4" name="Rectangle 20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5" name="Rectangle 21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6" name="Text Box 2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7+4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8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9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0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1" name="Rectangle 6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2" name="Rectangle 7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3" name="Rectangle 8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4" name="Rectangle 9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5" name="Rectangle 10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6" name="Rectangle 11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7" name="Rectangle 12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8" name="Rectangle 13">
            <a:hlinkClick r:id="rId12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9" name="Rectangle 14">
            <a:hlinkClick r:id="rId13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0" name="Rectangle 15">
            <a:hlinkClick r:id="rId14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1" name="Rectangle 16">
            <a:hlinkClick r:id="rId15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Rectangle 17">
            <a:hlinkClick r:id="rId16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3" name="Rectangle 18">
            <a:hlinkClick r:id="rId17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4" name="Rectangle 19">
            <a:hlinkClick r:id="" action="ppaction://hlinkshowjump?jump=nextslide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5" name="Rectangle 20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6" name="Rectangle 21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7" name="Text Box 2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9+9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9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0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1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2" name="Rectangle 6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3" name="Rectangle 7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4" name="Rectangle 8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5" name="Rectangle 9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6" name="Rectangle 10">
            <a:hlinkClick r:id="" action="ppaction://hlinkshowjump?jump=nextslide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7" name="Rectangle 11">
            <a:hlinkClick r:id="rId9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8" name="Rectangle 12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9" name="Rectangle 13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0" name="Rectangle 14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1" name="Rectangle 15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2" name="Rectangle 16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3" name="Rectangle 17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4" name="Rectangle 18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5" name="Rectangle 19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6" name="Rectangle 20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7" name="Rectangle 21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8" name="Text Box 2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15-6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0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1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2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3" name="Rectangle 6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4" name="Rectangle 7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5" name="Rectangle 8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6" name="Rectangle 9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7" name="Rectangle 10">
            <a:hlinkClick r:id="" action="ppaction://hlinkshowjump?jump=nextslide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8" name="Rectangle 11">
            <a:hlinkClick r:id="rId9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9" name="Rectangle 12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0" name="Rectangle 13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1" name="Rectangle 14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2" name="Rectangle 15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3" name="Rectangle 16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4" name="Rectangle 17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5" name="Rectangle 18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6" name="Rectangle 19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7" name="Rectangle 20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8" name="Rectangle 21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9" name="Text Box 2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18-9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1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2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3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4" name="Rectangle 6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5" name="Rectangle 7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6" name="Rectangle 8">
            <a:hlinkClick r:id="" action="ppaction://hlinkshowjump?jump=nextslide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7" name="Rectangle 9">
            <a:hlinkClick r:id="rId7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8" name="Rectangle 10">
            <a:hlinkClick r:id="rId8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9" name="Rectangle 11">
            <a:hlinkClick r:id="rId9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0" name="Rectangle 12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1" name="Rectangle 13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2" name="Rectangle 14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3" name="Rectangle 15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4" name="Rectangle 16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5" name="Rectangle 17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6" name="Rectangle 18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7" name="Rectangle 19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8" name="Rectangle 20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9" name="Rectangle 21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0" name="Text Box 2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10-3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2" name="Rectangle 3">
            <a:hlinkClick r:id="" action="ppaction://hlinkshowjump?jump=nextslide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3" name="Rectangle 4">
            <a:hlinkClick r:id="rId2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4" name="Rectangle 5">
            <a:hlinkClick r:id="rId3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5" name="Rectangle 6">
            <a:hlinkClick r:id="rId4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6" name="Rectangle 7">
            <a:hlinkClick r:id="rId5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7" name="Rectangle 8">
            <a:hlinkClick r:id="rId6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8" name="Rectangle 9">
            <a:hlinkClick r:id="rId7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9" name="Rectangle 10">
            <a:hlinkClick r:id="rId8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0" name="Rectangle 11">
            <a:hlinkClick r:id="rId9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1" name="Rectangle 12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2" name="Rectangle 13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3" name="Rectangle 14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4" name="Rectangle 15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5" name="Rectangle 16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6" name="Rectangle 17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7" name="Rectangle 18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8" name="Rectangle 19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9" name="Rectangle 20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0" name="Rectangle 21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1" name="Text Box 2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10-8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3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4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5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6" name="Rectangle 6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7" name="Rectangle 7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8" name="Rectangle 8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9" name="Rectangle 9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0" name="Rectangle 10">
            <a:hlinkClick r:id="" action="ppaction://hlinkshowjump?jump=nextslide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1" name="Rectangle 11">
            <a:hlinkClick r:id="rId9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2" name="Rectangle 12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3" name="Rectangle 13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4" name="Rectangle 14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5" name="Rectangle 15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6" name="Rectangle 16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7" name="Rectangle 17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8" name="Rectangle 18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9" name="Rectangle 19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0" name="Rectangle 20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1" name="Rectangle 21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2" name="Text Box 2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14-5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4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5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6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7" name="Rectangle 6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8" name="Rectangle 7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9" name="Rectangle 8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0" name="Rectangle 9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1" name="Rectangle 10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2" name="Rectangle 11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3" name="Rectangle 12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4" name="Rectangle 13">
            <a:hlinkClick r:id="rId12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5" name="Rectangle 14">
            <a:hlinkClick r:id="rId13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6" name="Rectangle 15">
            <a:hlinkClick r:id="" action="ppaction://hlinkshowjump?jump=nextslide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7" name="Rectangle 16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8" name="Rectangle 17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9" name="Rectangle 18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0" name="Rectangle 19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1" name="Rectangle 20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2" name="Rectangle 21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3" name="Text Box 2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9+5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Rectangle 6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Rectangle 7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Rectangle 8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Rectangle 9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Rectangle 10">
            <a:hlinkClick r:id="" action="ppaction://hlinkshowjump?jump=nextslide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Rectangle 11">
            <a:hlinkClick r:id="rId9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Rectangle 12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Rectangle 13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Rectangle 14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Rectangle 15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Rectangle 16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Rectangle 17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Rectangle 18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Rectangle 19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Rectangle 20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Rectangle 21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Text Box 2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15-6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5" name="Rectangle 3">
            <a:hlinkClick r:id="" action="ppaction://hlinkshowjump?jump=nextslide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6" name="Rectangle 4">
            <a:hlinkClick r:id="rId2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7" name="Rectangle 5">
            <a:hlinkClick r:id="rId3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8" name="Rectangle 6">
            <a:hlinkClick r:id="rId4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9" name="Rectangle 7">
            <a:hlinkClick r:id="rId5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0" name="Rectangle 8">
            <a:hlinkClick r:id="rId6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1" name="Rectangle 9">
            <a:hlinkClick r:id="rId7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2" name="Rectangle 10">
            <a:hlinkClick r:id="rId8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3" name="Rectangle 11">
            <a:hlinkClick r:id="rId9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4" name="Rectangle 12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5" name="Rectangle 13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6" name="Rectangle 14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7" name="Rectangle 15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8" name="Rectangle 16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9" name="Rectangle 17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0" name="Rectangle 18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1" name="Rectangle 19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2" name="Rectangle 20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3" name="Rectangle 21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4" name="Text Box 22"/>
          <p:cNvSpPr/>
          <p:nvPr/>
        </p:nvSpPr>
        <p:spPr>
          <a:xfrm>
            <a:off x="380880" y="914400"/>
            <a:ext cx="548640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12-10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6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7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8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9" name="Rectangle 6">
            <a:hlinkClick r:id="" action="ppaction://hlinkshowjump?jump=nextslide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0" name="Rectangle 7">
            <a:hlinkClick r:id="rId5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1" name="Rectangle 8">
            <a:hlinkClick r:id="rId6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2" name="Rectangle 9">
            <a:hlinkClick r:id="rId7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3" name="Rectangle 10">
            <a:hlinkClick r:id="rId8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4" name="Rectangle 11">
            <a:hlinkClick r:id="rId9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5" name="Rectangle 12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6" name="Rectangle 13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7" name="Rectangle 14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8" name="Rectangle 15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9" name="Rectangle 16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0" name="Rectangle 17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1" name="Rectangle 18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2" name="Rectangle 19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3" name="Rectangle 20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4" name="Rectangle 21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5" name="Text Box 2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12-7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7" name="Rectangle 3"/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8" name="Rectangle 4"/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9" name="Rectangle 5"/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0" name="Rectangle 6"/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1" name="Rectangle 7"/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2" name="Rectangle 8"/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3" name="Rectangle 9"/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4" name="Rectangle 10"/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5" name="Rectangle 11"/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6" name="Rectangle 12"/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7" name="Rectangle 13"/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8" name="Rectangle 14">
            <a:hlinkClick r:id="" action="ppaction://hlinkshowjump?jump=nextslide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9" name="Rectangle 15"/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0" name="Rectangle 16"/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1" name="Rectangle 17"/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2" name="Rectangle 18"/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3" name="Rectangle 19"/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4" name="Rectangle 20"/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5" name="Rectangle 21"/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6" name="Text Box 2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7+6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 txBox="1"/>
          <p:nvPr/>
        </p:nvSpPr>
        <p:spPr>
          <a:xfrm>
            <a:off x="783360" y="1469160"/>
            <a:ext cx="8796240" cy="239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600" spc="-1" strike="noStrike">
                <a:solidFill>
                  <a:srgbClr val="006666"/>
                </a:solidFill>
                <a:latin typeface="Lucida Handwriting"/>
              </a:rPr>
              <a:t>Молодцы!</a:t>
            </a:r>
            <a:endParaRPr b="1" lang="en-US" sz="10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Rectangle 6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Rectangle 7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Rectangle 8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Rectangle 9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Rectangle 10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Rectangle 11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685800" y="99072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20-8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Rectangle 13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Rectangle 14">
            <a:hlinkClick r:id="" action="ppaction://hlinkshowjump?jump=nextslide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Rectangle 15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Rectangle 16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Rectangle 17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Rectangle 18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Rectangle 19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Rectangle 20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Rectangle 21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Rectangle 22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Rectangle 6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Rectangle 7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Rectangle 8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Rectangle 9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Rectangle 10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Rectangle 11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19-8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Rectangle 13">
            <a:hlinkClick r:id="" action="ppaction://hlinkshowjump?jump=nextslide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Rectangle 14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Rectangle 15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Rectangle 16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Rectangle 17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Rectangle 18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Rectangle 19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Rectangle 20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Rectangle 21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Rectangle 22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Rectangle 6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Rectangle 7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Rectangle 8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Rectangle 9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Rectangle 10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Rectangle 11">
            <a:hlinkClick r:id="" action="ppaction://hlinkshowjump?jump=nextslide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5+5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Rectangle 13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Rectangle 14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Rectangle 15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Rectangle 16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Rectangle 17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Rectangle 18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Rectangle 19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Rectangle 20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Rectangle 21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Rectangle 22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Rectangle 6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Rectangle 7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Rectangle 8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Rectangle 9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Rectangle 10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Rectangle 11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6+5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Rectangle 13">
            <a:hlinkClick r:id="" action="ppaction://hlinkshowjump?jump=nextslide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Rectangle 14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Rectangle 15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Rectangle 16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Rectangle 17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Rectangle 18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Rectangle 19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Rectangle 20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Rectangle 21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Rectangle 22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Rectangle 6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Rectangle 7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Rectangle 8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Rectangle 9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Rectangle 10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Rectangle 11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5+8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Rectangle 13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Rectangle 14">
            <a:hlinkClick r:id="rId12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Rectangle 15">
            <a:hlinkClick r:id="" action="ppaction://hlinkshowjump?jump=nextslide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Rectangle 16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Rectangle 17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Rectangle 18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Rectangle 19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Rectangle 20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Rectangle 21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Rectangle 22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y</cp:lastModifiedBy>
  <dcterms:modified xsi:type="dcterms:W3CDTF">2013-03-28T21:48:34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