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F934-D62A-48E2-95F0-E51542F7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66EB-906F-4CEF-A166-05AC002A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13C3-423B-4CC2-830C-D74B9911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1581-EC2E-498C-B09A-238CA429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B033-61B6-4706-AC69-EE7BED43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2CFA-5B91-4B05-9CCA-16BA670C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8FC3-5AB0-4F44-9269-32A33F23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96CE-E2DE-4C72-8827-9EE04E8B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7EA6-4E21-4CF5-A0E5-A6FD8913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6306-9938-4F0F-AC8A-F864CD8B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8DDE-2010-4050-9493-E52FDAF0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13C5-C6FE-4E7F-A6EB-6184969C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0DC0-E36D-4AAD-AEF9-8AF9C717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7171-D6E8-467A-9BF4-C0C03B43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A2E6-9C64-4593-877C-3F4510E5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99E9-E3B4-4E20-9D45-7F152FD3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ADE2-58CA-4ADF-BB6C-34FFCE24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20196C-2135-4F61-B7ED-693781F9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DF0D8-4B12-47F6-B3F6-6C58BC5B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CDE98-BA97-47F1-B4B7-10AA30D7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E728E-59D6-49BE-9365-D6EB3427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AEFD70-849D-4577-932D-5E7B871F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4050-496A-4D7F-AE45-B4FAA634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ECB10-A178-488F-A8B4-684E9D3A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5FFAE-E0A1-4B13-A51B-04F4274B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B5B87-8C62-4F1B-A0E3-98475292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30E29-0CA5-425E-9879-E20D621E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C949AA-228B-4FCC-BFBC-F6FC6E3D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F2DB27-5C91-457F-9A3C-B62A2695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E61789-A0C0-4976-8F0D-34ABF1DA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B3F71-8007-4327-876F-787549BD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07506-EB97-4FC7-8532-3973FC98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47D35-F542-49BC-AADC-60AEA6E5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217A-06AA-4754-A365-4C07E5E6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A821A-FDB8-46E2-82AA-4524718A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6DBC0-39FA-4779-8CBB-03C69511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A30AC-03EF-465C-A654-1028DC1E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BD661-AA7C-4A50-8670-5F40A056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93C21-4F3C-4D3C-B800-7E621721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3CC27-B860-40B9-85E4-A0C80DE6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1DDD9-9617-43C5-9C4A-E8AD0B3F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AC9EE-90C9-4C82-AC89-A790A06F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6B994-E3B1-46B5-B606-CDE305BA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ABC-601B-432F-BBC1-C8B51DF0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5D49-8F5D-4308-873D-42776B9D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30C6-F583-4759-ABD7-1ECA41CB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A71-45B8-458B-A379-85DFC553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3592-F94E-4761-821B-8AC53E58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34E1-C23C-4000-89DE-4CCD5D83A5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2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6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F9F5-CB54-486B-A39C-B12303E04FA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0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4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4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1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3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6013-A947-4B7F-8A4A-0CB91788C9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01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05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3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2093-0400-4E08-9F62-ADA614A92EC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Родительское собрание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Семья- здоровый образ жизни» 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рода не может перечить человеку, если человек не перечит ее законам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И.Герц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адиться за уроки нецелесообразно, не отдохнув после школ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е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ежий воздух 1,5-2 час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ктивный отдых обеспечивает «разрядку»: потребность в движении, общении, снятие напряжени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0" name="Picture 7" descr="j0285698"/>
          <p:cNvPicPr/>
          <p:nvPr/>
        </p:nvPicPr>
        <p:blipFill>
          <a:blip r:embed="rId1"/>
          <a:stretch/>
        </p:blipFill>
        <p:spPr>
          <a:xfrm>
            <a:off x="5148360" y="1989000"/>
            <a:ext cx="3527280" cy="431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ыполнение домашнего зада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 начала выполнения д/з должно быть твердо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фиксирован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 ребенка должен быть свой письменный сто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3" name="Picture 7" descr="j0195384"/>
          <p:cNvPicPr/>
          <p:nvPr/>
        </p:nvPicPr>
        <p:blipFill>
          <a:blip r:embed="rId1"/>
          <a:stretch/>
        </p:blipFill>
        <p:spPr>
          <a:xfrm>
            <a:off x="179280" y="1916280"/>
            <a:ext cx="4176720" cy="432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5" descr="j0199283"/>
          <p:cNvPicPr/>
          <p:nvPr/>
        </p:nvPicPr>
        <p:blipFill>
          <a:blip r:embed="rId1"/>
          <a:stretch/>
        </p:blipFill>
        <p:spPr>
          <a:xfrm>
            <a:off x="1042920" y="549360"/>
            <a:ext cx="6842160" cy="5975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91520" cy="11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ремя завтрака и ужина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втрак- через полчаса после пробуждения,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ужин- не позже , чем за 1,5 часа до с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6" name="Picture 6" descr="Blue Lace 16"/>
          <p:cNvPicPr/>
          <p:nvPr/>
        </p:nvPicPr>
        <p:blipFill>
          <a:blip r:embed="rId1"/>
          <a:stretch/>
        </p:blipFill>
        <p:spPr>
          <a:xfrm>
            <a:off x="826920" y="3716280"/>
            <a:ext cx="2162520" cy="23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435880" cy="329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требность во сне составляет: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0-12 лет -  9-10 часов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3-14 лет -  9-9,5 часов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15-16 лет -  8,5-9  часов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8" name="Picture 6" descr="BD10263_"/>
          <p:cNvPicPr/>
          <p:nvPr/>
        </p:nvPicPr>
        <p:blipFill>
          <a:blip r:embed="rId1"/>
          <a:stretch/>
        </p:blipFill>
        <p:spPr>
          <a:xfrm>
            <a:off x="4788000" y="2708280"/>
            <a:ext cx="4176720" cy="388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доровый образ жиз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циональный режи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истематическ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физкультурные занят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калива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авильное пита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лагоприятная психологическая обстановка в семь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1" name="Picture 11" descr="j0281904"/>
          <p:cNvPicPr/>
          <p:nvPr/>
        </p:nvPicPr>
        <p:blipFill>
          <a:blip r:embed="rId1"/>
          <a:stretch/>
        </p:blipFill>
        <p:spPr>
          <a:xfrm>
            <a:off x="539640" y="3002040"/>
            <a:ext cx="2849760" cy="301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147160" cy="344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СПАСИБО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!</a:t>
            </a:r>
            <a:br>
              <a:rPr sz="6000"/>
            </a:b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БУДЬТЕ ЗДОРОВЫ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осточная мудрость гласит 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Если ты думаешь на год вперед –посади сем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ты думаешь на десятилетия вперед- посади дере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ты думаешь на век вперед – воспитай человека»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аков он, здоровый ребенок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он и болеет, то очень редк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жизнерадостен и активе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ие его физических качеств проходит гармоничн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закален, не нуждается в лекарств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быстр, ловок и силен, не имеет лишней массы тела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вильная осан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ней положение тела наиболее устойчиво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ртикальная поза сохраняется при наименьшем напряжении мыш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6" descr="j0216724"/>
          <p:cNvPicPr/>
          <p:nvPr/>
        </p:nvPicPr>
        <p:blipFill>
          <a:blip r:embed="rId1"/>
          <a:stretch/>
        </p:blipFill>
        <p:spPr>
          <a:xfrm>
            <a:off x="4951440" y="1484280"/>
            <a:ext cx="40082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5 правил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ащивать ребенку мышечный корсе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 следить за тем, как ребенок сидит, стои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тить внимание на позу при работе за письменным стол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ить, чтобы не появилось плоскостоп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елить мягкую пост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ля нормальной работы глаз важно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орошее освеще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ол для занятий нужно ставить ближе к окну, чтобы свет падал сле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стольная лампа с лампочкой мощностью 50-60 Вт защищенная абажуро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1" name="Picture 7" descr="j0090070"/>
          <p:cNvPicPr/>
          <p:nvPr/>
        </p:nvPicPr>
        <p:blipFill>
          <a:blip r:embed="rId1"/>
          <a:stretch/>
        </p:blipFill>
        <p:spPr>
          <a:xfrm>
            <a:off x="611280" y="1700280"/>
            <a:ext cx="3581280" cy="444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ежим дня- это рациональное чередование работы и отдых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3" name="Picture 6" descr="j0234131"/>
          <p:cNvPicPr/>
          <p:nvPr/>
        </p:nvPicPr>
        <p:blipFill>
          <a:blip r:embed="rId1"/>
          <a:stretch/>
        </p:blipFill>
        <p:spPr>
          <a:xfrm>
            <a:off x="1619280" y="1773360"/>
            <a:ext cx="5184720" cy="460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Всякая живая работающая система, как и ее отдельные элементы, должна отдыхать, восстанавливаться. А отдых таких реактивнейших элементов, как корковые клетки, должен в особенности быть охраняем»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                 И.П.Павлов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ужно правильно построить режим дня школьни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должительность школьных и внешкольных занятий должна учитывать возрастные возможност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лжен быть обеспечен достаточный отдых (с максимальным пребыванием на свежем воздухе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обходимое время должно быть отведено на сон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4:56:11Z</dcterms:created>
  <dc:creator>1</dc:creator>
  <dc:description/>
  <dc:language>en-US</dc:language>
  <cp:lastModifiedBy>Лена</cp:lastModifiedBy>
  <dcterms:modified xsi:type="dcterms:W3CDTF">2013-03-13T13:18:40Z</dcterms:modified>
  <cp:revision>9</cp:revision>
  <dc:subject/>
  <dc:title>Родительское собрание</dc:title>
</cp:coreProperties>
</file>