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722-CF87-4A61-A649-75C82DAF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F24-4F8C-4030-BBF9-BA9925D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676-9FB8-40B5-AC08-B09E83A0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020-B0E3-4257-9CD0-A05FD130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3B20-CA6F-4383-A515-C28879DD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66F3-E290-4BFB-8487-5B37385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2FE1-B6A7-4D6E-8AA2-12F4D184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6EC1-C2CC-42FB-9C55-62A96516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2CCA-7C60-49BA-814D-5DC52200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6397-3F19-49A0-9FDE-402AB431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E3D5-FA5F-4B47-BBA2-52E9B24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460-F247-42B8-9DCD-0622F83A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920-DC78-4290-BFB1-189E2D1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159C-CBA6-4BF6-9BE6-D93C93D5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C734-824B-473C-B555-13ECF74B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15FE-CBDA-47E7-913B-2261345D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8943-9EB4-4CB6-BAA1-B6BD7A1A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653C2-DB3A-404A-9398-C96C88EB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9175C-2C9F-4D85-BF99-37C3103E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A9CAE-E16C-45E9-9964-44EB4F9C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AE70A-B87E-4BFC-BA2D-668B35B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32ACD-AEDF-4771-B1B7-32FAEE7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33A-6554-4A6A-8054-61332574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68DEB-400A-4C80-8050-1454CA38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4AF33-60D9-46E7-91BD-7CCD94CC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6FEB3-5087-43D9-A2EE-14A7FFA7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7EC26-7109-499D-ABD3-0C215EB4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5A2B1-C4FC-4E3D-B330-F4CE8DD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161BD-9312-4E61-96F3-92B09D08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115C8-30F3-4B98-B51F-5B65F2ED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22D7-BEB5-4A02-A8C1-00F23F55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0D909-A97A-4AF1-AF83-3E794CB5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B2F68-4FFC-46E7-BD6C-2C3468E6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A68-449A-4731-BF99-B2C1DCFD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1A16-4451-469B-9217-D1C1BCBC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ACC7-4A2F-4E60-91B0-2878DC91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F49D-A8FF-4726-AFA7-15CEE72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7A7A-EEB4-4E82-A7F1-DBEC897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3122-CA8E-402C-B297-0AF58F2A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B6DD-21E8-4104-8337-3F001999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F86D-4B27-4A04-9802-ACA5BE7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6766-465D-4C63-AF7D-1340777A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170B-1A3E-4114-A544-54507F92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B9C-4511-49F9-986A-CC387B61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592-EE94-44DA-B604-0018ADD9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EC8-7CCF-4C86-A33F-24AFB507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421-5D39-4722-94DE-E3BD8B04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BC1-2B9E-4AFC-815B-ACF90994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C73-50F0-4205-9AC0-2E3AA6FE3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DFB7-6555-4319-AC4A-954EB330612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0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4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3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AFE8-B1C6-4D06-8981-D0AAB3C06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1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5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6937-9EDB-46FF-B37B-CECBE309DCA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Родительское собрание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Семья- здоровый образ жизни»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 не может перечить человеку, если человек не перечит ее закон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И.Герц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адиться за уроки нецелесообразно, не отдохнув после школ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е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жий воздух 1,5-2 час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ктивный отдых обеспечивает «разрядку»: потребность в движении, общении, снятие напряж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7" descr="j0285698"/>
          <p:cNvPicPr/>
          <p:nvPr/>
        </p:nvPicPr>
        <p:blipFill>
          <a:blip r:embed="rId1"/>
          <a:stretch/>
        </p:blipFill>
        <p:spPr>
          <a:xfrm>
            <a:off x="5148360" y="1989000"/>
            <a:ext cx="352728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полнение домашнего зад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начала выполнения д/з должно быть тверд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фиксирова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ребенка должен быть свой письменный сто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3" name="Picture 7" descr="j0195384"/>
          <p:cNvPicPr/>
          <p:nvPr/>
        </p:nvPicPr>
        <p:blipFill>
          <a:blip r:embed="rId1"/>
          <a:stretch/>
        </p:blipFill>
        <p:spPr>
          <a:xfrm>
            <a:off x="179280" y="1916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j0199283"/>
          <p:cNvPicPr/>
          <p:nvPr/>
        </p:nvPicPr>
        <p:blipFill>
          <a:blip r:embed="rId1"/>
          <a:stretch/>
        </p:blipFill>
        <p:spPr>
          <a:xfrm>
            <a:off x="1042920" y="549360"/>
            <a:ext cx="6842160" cy="597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9152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ремя завтрака и ужин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втрак- через полчаса после пробуждения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жин- не позже , чем за 1,5 часа до с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6" descr="Blue Lace 16"/>
          <p:cNvPicPr/>
          <p:nvPr/>
        </p:nvPicPr>
        <p:blipFill>
          <a:blip r:embed="rId1"/>
          <a:stretch/>
        </p:blipFill>
        <p:spPr>
          <a:xfrm>
            <a:off x="826920" y="3716280"/>
            <a:ext cx="216252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35880" cy="329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требность во сне составляет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-12 лет -  9-10 час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3-14 лет -  9-9,5 час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5-16 лет -  8,5-9  час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6" descr="BD10263_"/>
          <p:cNvPicPr/>
          <p:nvPr/>
        </p:nvPicPr>
        <p:blipFill>
          <a:blip r:embed="rId1"/>
          <a:stretch/>
        </p:blipFill>
        <p:spPr>
          <a:xfrm>
            <a:off x="4788000" y="2708280"/>
            <a:ext cx="417672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доровый образ жиз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циональный режи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истематическ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изкультурные заня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кали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вильное пит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лагоприятная психологическая обстановка в сем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11" descr="j0281904"/>
          <p:cNvPicPr/>
          <p:nvPr/>
        </p:nvPicPr>
        <p:blipFill>
          <a:blip r:embed="rId1"/>
          <a:stretch/>
        </p:blipFill>
        <p:spPr>
          <a:xfrm>
            <a:off x="539640" y="3002040"/>
            <a:ext cx="2849760" cy="30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147160" cy="344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СПАСИБО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!</a:t>
            </a:r>
            <a:br>
              <a:rPr sz="6000"/>
            </a:b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БУДЬТЕ ЗДОРОВ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осточная мудрость гласит 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Если ты думаешь на год вперед –посади с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ты думаешь на десятилетия вперед- посади дере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ты думаешь на век вперед – воспитай человека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ков он, здоровый ребенок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н и болеет, то очень редк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жизнерадостен и актив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его физических качеств проходит гармонич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закален, не нуждается в лекарств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быстр, ловок и силен, не имеет лишней массы тел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ая осан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ей положение тела наиболее устойчив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тикальная поза сохраняется при наименьшем напряжении мыш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j0216724"/>
          <p:cNvPicPr/>
          <p:nvPr/>
        </p:nvPicPr>
        <p:blipFill>
          <a:blip r:embed="rId1"/>
          <a:stretch/>
        </p:blipFill>
        <p:spPr>
          <a:xfrm>
            <a:off x="4951440" y="1484280"/>
            <a:ext cx="4008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 правил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ащивать ребенку мышечный корс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следить за тем, как ребенок сидит, стои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ить внимание на позу при работе за письменным стол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ить, чтобы не появилось плоскостоп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елить мягкую пос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нормальной работы глаз важн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рошее освещ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ол для занятий нужно ставить ближе к окну, чтобы свет падал сле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тольная лампа с лампочкой мощностью 50-60 Вт защищенная абажур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Picture 7" descr="j0090070"/>
          <p:cNvPicPr/>
          <p:nvPr/>
        </p:nvPicPr>
        <p:blipFill>
          <a:blip r:embed="rId1"/>
          <a:stretch/>
        </p:blipFill>
        <p:spPr>
          <a:xfrm>
            <a:off x="611280" y="1700280"/>
            <a:ext cx="3581280" cy="444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жим дня- это рациональное чередование работы и отдых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6" descr="j0234131"/>
          <p:cNvPicPr/>
          <p:nvPr/>
        </p:nvPicPr>
        <p:blipFill>
          <a:blip r:embed="rId1"/>
          <a:stretch/>
        </p:blipFill>
        <p:spPr>
          <a:xfrm>
            <a:off x="1619280" y="1773360"/>
            <a:ext cx="5184720" cy="46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Всякая живая работающая система, как и ее отдельные элементы, должна отдыхать, восстанавливаться. А отдых таких реактивнейших элементов, как корковые клетки, должен в особенности быть охраняем»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          И.П.Павлов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ужно правильно построить режим дня школьн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школьных и внешкольных занятий должна учитывать возрастные возмож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лжен быть обеспечен достаточный отдых (с максимальным пребыванием на свежем воздухе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обходимое время должно быть отведено на со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6:11Z</dcterms:created>
  <dc:creator>1</dc:creator>
  <dc:description/>
  <dc:language>en-US</dc:language>
  <cp:lastModifiedBy>Лена</cp:lastModifiedBy>
  <dcterms:modified xsi:type="dcterms:W3CDTF">2013-03-13T13:18:40Z</dcterms:modified>
  <cp:revision>9</cp:revision>
  <dc:subject/>
  <dc:title>Родительское собрание</dc:title>
</cp:coreProperties>
</file>