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079-3502-46AB-A66E-FD6E6743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773-4D69-4A84-AFE5-84BDD05F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FC4-3D77-4720-97CA-0AE1A7E4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ADC-31D4-4967-9B25-A7D6901B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FB3-8DB6-43EE-BC16-F1D7601D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75E-2535-4B18-ABBA-2DBB6D16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E54-14CF-42CB-80C4-31B9E07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9E5-BBCD-4F00-808F-7B9A9DD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FC5-4191-44F7-AF7C-2F52C798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53D-EC8A-4DFB-8BCB-84B4A0F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8D1-16BD-4638-992C-C472BD5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97E-3777-4F11-BCA9-F43518D8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675-0B30-4F54-A41E-8EE17CAEE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928800"/>
            <a:ext cx="80010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овременная противопожарная и спасательная техника, перспективы её развития</a:t>
            </a: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4171680"/>
            <a:ext cx="82152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Борисенко Артём, 8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Ш №31-филиал МОУ СОШ №13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. Карталы, Челябин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уководитель: Белова Ларис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ожарная техника в прошл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bohca"/>
          <p:cNvPicPr/>
          <p:nvPr/>
        </p:nvPicPr>
        <p:blipFill>
          <a:blip r:embed="rId1"/>
          <a:srcRect l="8178" t="0" r="8877" b="0"/>
          <a:stretch/>
        </p:blipFill>
        <p:spPr>
          <a:xfrm>
            <a:off x="1571760" y="1428840"/>
            <a:ext cx="5072040" cy="25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E:\Безимени-3.gif"/>
          <p:cNvPicPr/>
          <p:nvPr/>
        </p:nvPicPr>
        <p:blipFill>
          <a:blip r:embed="rId2"/>
          <a:srcRect l="11238" t="1146" r="7868" b="0"/>
          <a:stretch/>
        </p:blipFill>
        <p:spPr>
          <a:xfrm>
            <a:off x="2786040" y="3714840"/>
            <a:ext cx="5143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овременная пожарная и спасательная техник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втомоб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E:\пожар\POZHTECHNIKA_AA-5-40-kamaz_perevozka.info.jpg"/>
          <p:cNvPicPr/>
          <p:nvPr/>
        </p:nvPicPr>
        <p:blipFill>
          <a:blip r:embed="rId1"/>
          <a:stretch/>
        </p:blipFill>
        <p:spPr>
          <a:xfrm>
            <a:off x="4857840" y="4429080"/>
            <a:ext cx="3929040" cy="242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:\пожар\автом.jpg"/>
          <p:cNvPicPr/>
          <p:nvPr/>
        </p:nvPicPr>
        <p:blipFill>
          <a:blip r:embed="rId2"/>
          <a:stretch/>
        </p:blipFill>
        <p:spPr>
          <a:xfrm>
            <a:off x="428760" y="1214280"/>
            <a:ext cx="3000240" cy="185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E:\пожар\09.jpg"/>
          <p:cNvPicPr/>
          <p:nvPr/>
        </p:nvPicPr>
        <p:blipFill>
          <a:blip r:embed="rId3"/>
          <a:stretch/>
        </p:blipFill>
        <p:spPr>
          <a:xfrm>
            <a:off x="1000080" y="3786120"/>
            <a:ext cx="371484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Безимени-2.gif"/>
          <p:cNvPicPr/>
          <p:nvPr/>
        </p:nvPicPr>
        <p:blipFill>
          <a:blip r:embed="rId4"/>
          <a:srcRect l="9373" t="9373" r="6249" b="0"/>
          <a:stretch/>
        </p:blipFill>
        <p:spPr>
          <a:xfrm>
            <a:off x="5000760" y="1285920"/>
            <a:ext cx="38574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амолёты, вертолёты, су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452cfdf6c21c"/>
          <p:cNvPicPr/>
          <p:nvPr/>
        </p:nvPicPr>
        <p:blipFill>
          <a:blip r:embed="rId1"/>
          <a:stretch/>
        </p:blipFill>
        <p:spPr>
          <a:xfrm>
            <a:off x="3962520" y="1225440"/>
            <a:ext cx="3743280" cy="264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vertvsu"/>
          <p:cNvPicPr/>
          <p:nvPr/>
        </p:nvPicPr>
        <p:blipFill>
          <a:blip r:embed="rId2"/>
          <a:stretch/>
        </p:blipFill>
        <p:spPr>
          <a:xfrm>
            <a:off x="463680" y="1407960"/>
            <a:ext cx="2468520" cy="478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82160404"/>
          <p:cNvPicPr/>
          <p:nvPr/>
        </p:nvPicPr>
        <p:blipFill>
          <a:blip r:embed="rId3"/>
          <a:stretch/>
        </p:blipFill>
        <p:spPr>
          <a:xfrm>
            <a:off x="3706920" y="3822840"/>
            <a:ext cx="44067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E:\пожар\поезддддддд.jpg"/>
          <p:cNvPicPr/>
          <p:nvPr/>
        </p:nvPicPr>
        <p:blipFill>
          <a:blip r:embed="rId1"/>
          <a:stretch/>
        </p:blipFill>
        <p:spPr>
          <a:xfrm>
            <a:off x="2714760" y="2928960"/>
            <a:ext cx="6215040" cy="1162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пожар\поезддддддд ва.jpg"/>
          <p:cNvPicPr/>
          <p:nvPr/>
        </p:nvPicPr>
        <p:blipFill>
          <a:blip r:embed="rId2"/>
          <a:stretch/>
        </p:blipFill>
        <p:spPr>
          <a:xfrm>
            <a:off x="357120" y="2928960"/>
            <a:ext cx="2405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ООООО.JPG"/>
          <p:cNvPicPr/>
          <p:nvPr/>
        </p:nvPicPr>
        <p:blipFill>
          <a:blip r:embed="rId1"/>
          <a:stretch/>
        </p:blipFill>
        <p:spPr>
          <a:xfrm>
            <a:off x="1657440" y="1481040"/>
            <a:ext cx="6170400" cy="4091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жарный звездол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5:42:30Z</dcterms:created>
  <dc:creator>komp 7</dc:creator>
  <dc:description/>
  <dc:language>en-US</dc:language>
  <cp:lastModifiedBy>c400</cp:lastModifiedBy>
  <dcterms:modified xsi:type="dcterms:W3CDTF">2013-03-31T15:40:32Z</dcterms:modified>
  <cp:revision>46</cp:revision>
  <dc:subject/>
  <dc:title>Современная противопожарная и спасательная техника, перспективы её развития</dc:title>
</cp:coreProperties>
</file>