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8A9-F7C4-43F1-AE5A-12079DE2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8E9-F52E-49D8-942E-EBDD22B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F19-637C-4135-90C1-94693551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347-A48E-454A-9ECE-65D32127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729-6583-40D0-8494-C8FD7E64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20F-3738-415A-A9EA-C4346FC0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F92-231E-4339-AA39-3184D0BF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231-6C3C-47D4-BE3E-AAC563B9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002-3F88-4D25-8D10-5126D5DF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A9C-E806-4918-A04B-4CD7EFA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A87-23B4-42B5-9F0E-A6D425F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164-7210-4B3B-A44F-4B08F4A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3B0-696B-4DDC-A038-16B116251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80010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овременная противопожарная и спасательная техника, перспективы её развития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4171680"/>
            <a:ext cx="82152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орисенко Артём, 8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Ш №31-филиал МОУ СОШ №1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. Карталы, Челябин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уководитель: Белова Ларис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жарная техника в прошл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bohca"/>
          <p:cNvPicPr/>
          <p:nvPr/>
        </p:nvPicPr>
        <p:blipFill>
          <a:blip r:embed="rId1"/>
          <a:srcRect l="8178" t="0" r="8877" b="0"/>
          <a:stretch/>
        </p:blipFill>
        <p:spPr>
          <a:xfrm>
            <a:off x="1571760" y="1428840"/>
            <a:ext cx="5072040" cy="25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E:\Безимени-3.gif"/>
          <p:cNvPicPr/>
          <p:nvPr/>
        </p:nvPicPr>
        <p:blipFill>
          <a:blip r:embed="rId2"/>
          <a:srcRect l="11238" t="1146" r="7868" b="0"/>
          <a:stretch/>
        </p:blipFill>
        <p:spPr>
          <a:xfrm>
            <a:off x="2786040" y="3714840"/>
            <a:ext cx="5143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овременная пожарная и спасательная техник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втомоб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E:\пожар\POZHTECHNIKA_AA-5-40-kamaz_perevozka.info.jpg"/>
          <p:cNvPicPr/>
          <p:nvPr/>
        </p:nvPicPr>
        <p:blipFill>
          <a:blip r:embed="rId1"/>
          <a:stretch/>
        </p:blipFill>
        <p:spPr>
          <a:xfrm>
            <a:off x="4857840" y="442908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:\пожар\автом.jpg"/>
          <p:cNvPicPr/>
          <p:nvPr/>
        </p:nvPicPr>
        <p:blipFill>
          <a:blip r:embed="rId2"/>
          <a:stretch/>
        </p:blipFill>
        <p:spPr>
          <a:xfrm>
            <a:off x="428760" y="1214280"/>
            <a:ext cx="3000240" cy="18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:\пожар\09.jpg"/>
          <p:cNvPicPr/>
          <p:nvPr/>
        </p:nvPicPr>
        <p:blipFill>
          <a:blip r:embed="rId3"/>
          <a:stretch/>
        </p:blipFill>
        <p:spPr>
          <a:xfrm>
            <a:off x="1000080" y="3786120"/>
            <a:ext cx="371484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Безимени-2.gif"/>
          <p:cNvPicPr/>
          <p:nvPr/>
        </p:nvPicPr>
        <p:blipFill>
          <a:blip r:embed="rId4"/>
          <a:srcRect l="9373" t="9373" r="6249" b="0"/>
          <a:stretch/>
        </p:blipFill>
        <p:spPr>
          <a:xfrm>
            <a:off x="5000760" y="1285920"/>
            <a:ext cx="38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амолёты, вертолёты, с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452cfdf6c21c"/>
          <p:cNvPicPr/>
          <p:nvPr/>
        </p:nvPicPr>
        <p:blipFill>
          <a:blip r:embed="rId1"/>
          <a:stretch/>
        </p:blipFill>
        <p:spPr>
          <a:xfrm>
            <a:off x="3962520" y="1225440"/>
            <a:ext cx="3743280" cy="264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vertvsu"/>
          <p:cNvPicPr/>
          <p:nvPr/>
        </p:nvPicPr>
        <p:blipFill>
          <a:blip r:embed="rId2"/>
          <a:stretch/>
        </p:blipFill>
        <p:spPr>
          <a:xfrm>
            <a:off x="463680" y="1407960"/>
            <a:ext cx="2468520" cy="478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2160404"/>
          <p:cNvPicPr/>
          <p:nvPr/>
        </p:nvPicPr>
        <p:blipFill>
          <a:blip r:embed="rId3"/>
          <a:stretch/>
        </p:blipFill>
        <p:spPr>
          <a:xfrm>
            <a:off x="3706920" y="3822840"/>
            <a:ext cx="44067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пожар\поезддддддд.jpg"/>
          <p:cNvPicPr/>
          <p:nvPr/>
        </p:nvPicPr>
        <p:blipFill>
          <a:blip r:embed="rId1"/>
          <a:stretch/>
        </p:blipFill>
        <p:spPr>
          <a:xfrm>
            <a:off x="2714760" y="2928960"/>
            <a:ext cx="6215040" cy="116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пожар\поезддддддд ва.jpg"/>
          <p:cNvPicPr/>
          <p:nvPr/>
        </p:nvPicPr>
        <p:blipFill>
          <a:blip r:embed="rId2"/>
          <a:stretch/>
        </p:blipFill>
        <p:spPr>
          <a:xfrm>
            <a:off x="357120" y="2928960"/>
            <a:ext cx="2405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ООООО.JPG"/>
          <p:cNvPicPr/>
          <p:nvPr/>
        </p:nvPicPr>
        <p:blipFill>
          <a:blip r:embed="rId1"/>
          <a:stretch/>
        </p:blipFill>
        <p:spPr>
          <a:xfrm>
            <a:off x="1657440" y="1481040"/>
            <a:ext cx="6170400" cy="4091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жарный звездол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5:42:30Z</dcterms:created>
  <dc:creator>komp 7</dc:creator>
  <dc:description/>
  <dc:language>en-US</dc:language>
  <cp:lastModifiedBy>c400</cp:lastModifiedBy>
  <dcterms:modified xsi:type="dcterms:W3CDTF">2013-03-31T15:40:32Z</dcterms:modified>
  <cp:revision>46</cp:revision>
  <dc:subject/>
  <dc:title>Современная противопожарная и спасательная техника, перспективы её развития</dc:title>
</cp:coreProperties>
</file>