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28.jpeg" ContentType="image/jpeg"/>
  <Override PartName="/ppt/media/image44.png" ContentType="image/pn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3.png" ContentType="image/png"/>
  <Override PartName="/ppt/media/image9.jpeg" ContentType="image/jpeg"/>
  <Override PartName="/ppt/media/image11.png" ContentType="image/png"/>
  <Override PartName="/ppt/media/image6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9F61-2C20-41F4-BB3E-BB1F3A4E4A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0;&#1072;&#1083;&#1080;&#1103;_&#1087;&#1077;&#1088;&#1093;&#1083;&#1086;&#1088;&#1072;&#1090;&amp;action=edit&amp;redlink=1" TargetMode="External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спички появились в конце XVIII века. Это были химические спички, зажигавшиеся при соприкосновении головки из смеси сахара и перхлората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ия с серной кислотой. В 1813 году в Вене была зарегистрирована первая в Австро-Венгрии спичечная мануфактура Mahliard’а и Wik’а по производству химических спичек. Ко времени начала производства серных спичек (1826 год) английским химиком и аптекарем Джоном Уокером (англ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John Walke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химические спички были уже достаточно широко распространены в Европе (вариантом такой спички пользовался Чарльз Дарвин, раскусывая стекло колбочки с кислотой и рискуя обжеч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37A9-41D2-4A5D-8C64-A093F85F9E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A486-6585-40BB-B9FF-77E377E19A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7E6-9733-4C48-8AB0-187D42F2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E34-4354-45B0-B6F1-4B55158F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358-4BE7-42AA-A3FE-0223EE92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E00-D4ED-436B-BB91-B101DD9B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19DB-ED63-46FE-BBC2-3EDC3E1D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F845-C4D6-4EAB-A1ED-B914125A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543C-1E3B-4248-B2FC-F06D95A7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041D-255D-46F5-85EE-A16FB210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B0EA-A55C-408C-828D-9FEB1505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AED7-8C15-4145-BBEF-C72B1E83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9BDE-308A-4BD1-B385-661F23B1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B9C-119E-4F3A-A446-8293EECC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FAA2-9F10-4046-9B35-E6780835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FC0F-D9A1-4758-9A1C-275F534F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E8F8-A152-412F-B49B-296C11ED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A6AE-504A-4C57-9A33-2AAFE571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53C2-AD2E-490F-82CB-E1FD1D8D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5D65E-8CC2-46DA-B1E6-56CE4072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0B6B4-FC92-47CC-B00B-2873E809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D4C6C-DB18-49BB-A05D-EE58BE2A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CF4AC-71CC-4194-91B6-E7B734F5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BD1B7-DC73-4EF3-8E3A-4AF4685A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686-2F43-4B34-86A9-1C3AC2F2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5A743-07C5-40E1-A627-C9E43BEF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66B42-AFE4-430C-A4F3-2DDD2FA0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C134C-2CB9-46F6-ADC7-9B82CDC2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FCED0-D6C1-4909-903D-6F90B3EA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FC767-773C-40EA-B78B-E8F7F573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C4F90-EF50-4959-AD07-9759138A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D6F6C-65D1-484F-8328-D446E0C6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36E0C-EC60-4C06-AB8A-F4815EE2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00605-7ED7-46D8-AB73-FD485462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3B231-3933-4396-A244-29DCDD53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9FD-DDA2-4429-8EAC-349936B1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F0BA9-130D-4DD0-8188-EAAA3101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6C7CD-77AB-49E1-94D1-6FB52DA2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88082-8ACD-475F-9508-3B3B018A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78B58-C1A3-4065-8D9A-84519F55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A149F-0C75-43C1-B4B2-BE73AC25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CB190-0441-4681-96A0-6D391968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00A0D-636F-4D08-B93D-F7C40C4E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729D7-F483-4E88-92FC-0DDBA403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67750-8A62-40F7-B7FC-CBD1AC12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77AAD-B05F-46CE-AD1E-1BFC9A24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376-629C-4A36-9C56-39880AA7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876B6-A76C-4C87-BF47-C42DA5F9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043FA-8DEA-4799-BCAB-5AF36613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7ACF5-0EEE-402F-B826-0D02E8F5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91178-1627-48D3-ACAF-C06EC013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26FD5-8BF2-4934-9EF2-2BDBE59C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70BD7-E759-42D8-BED6-929E6289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8258D-A6B4-4294-ACF6-388A7E77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51423-A375-41E5-AD1F-20D1617C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9F281-A8BA-40CB-985F-194870F1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BE6E9-6BA3-4D2F-B677-AFDE99D0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5B3-09DB-4580-B92B-0DC42A1D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88816-5120-4B4F-8B60-26AFAB9B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334E1-1DB3-49BA-955A-F7EA7B52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12726-4123-46B7-988E-DC1DB0D3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D9053-3DF2-485E-9CB2-C04F6CFF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11418-7A27-470A-92FA-F8F4139C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B8E80-389C-4D83-A915-C3870AA1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81E9E-BE46-4B6F-8651-96C40C35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F82A1-0BC1-43B3-8CCC-363AD0AE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C0617-F8D6-4B6B-B511-8C905432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EAB43-D334-4430-838B-9497B1D3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5A4F-0384-4E14-902A-34860ECD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BCFAF-343D-4061-908E-8501BD9F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5B7AC-8F1F-41C9-BF11-2F62F8EB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F12B3-6FB1-4E12-AAA0-5FAF2960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5EFEF-64A4-40F4-80F6-A98F62EF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FA592-34BA-4D1D-A06D-E2B8260B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5A14B-F8FE-4DD2-BFD4-2E1E91FA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BBF99-D239-495C-ADD6-4E36F022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A8310-4443-4C7E-8EC5-3DC1EEE6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F0BFF-A334-42F2-AAEC-18E83461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FEAF0-03A4-45D5-A3F0-C89348EC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6C6-B79C-4803-975B-C221442B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A5751-E8A8-405C-B3B9-3C95328B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500C7-07DA-4A7B-9DC3-2D32AF4E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03C45-9ACE-49DD-8F2D-D833EA5E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D7C4F-0E77-41A1-BCE8-D0F82AA0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09AF2-0D84-4DC7-A0EC-29100135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293-09DD-4F9E-A921-F68C7C71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DA83-1CCB-4BDC-BFC0-FE93E1E5F33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c6300"/>
              </a:gs>
              <a:gs pos="100000">
                <a:srgbClr val="ffc16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50B4-3944-47E1-8847-5AC0470082A2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565C-4641-435B-9A43-0A01E9F18E2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c6300"/>
              </a:gs>
              <a:gs pos="100000">
                <a:srgbClr val="ffc16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2A98-0853-4955-B147-1F4E2D6242E8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6CC7-087F-4670-9A02-45A2B0BC06E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152D-FE13-49E0-9323-8BDAB85A66F0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078C-FAC3-4C53-B4CE-9E7EAA2EC052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image" Target="../media/image41.jpeg"/><Relationship Id="rId1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6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8" descr="default18.jpeg"/>
          <p:cNvPicPr/>
          <p:nvPr/>
        </p:nvPicPr>
        <p:blipFill>
          <a:blip r:embed="rId2"/>
          <a:stretch/>
        </p:blipFill>
        <p:spPr>
          <a:xfrm>
            <a:off x="2556000" y="2492280"/>
            <a:ext cx="439236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68360" y="1844640"/>
            <a:ext cx="424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80000"/>
              </a:lnSpc>
              <a:spcBef>
                <a:spcPts val="425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Музеи спичек существуют в Швеции, Швейцарии и Германии. Небольшой музей спичек есть и в России — в Рыбинске.   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425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пички часто используются как реквизит для фокусов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425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Интересный факт: спичка часто применяется как объект для сравнения размера при фотографировании небольших предметов, таких как современные радиодетали. При этом предполагается то, что спичку все видели, и используется то, что её всегда нетрудно найти для выполнения фото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425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2 марта - Международный день спичк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Picture 4" descr="C:\Documents and Settings\USER\Desktop\документы антон\vf`\374026200ac3.jpg"/>
          <p:cNvPicPr/>
          <p:nvPr/>
        </p:nvPicPr>
        <p:blipFill>
          <a:blip r:embed="rId2"/>
          <a:stretch/>
        </p:blipFill>
        <p:spPr>
          <a:xfrm>
            <a:off x="5361120" y="1413000"/>
            <a:ext cx="3481200" cy="2376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C:\Documents and Settings\USER\Desktop\документы антон\vf`\SM-350-001_4_enl.jpg"/>
          <p:cNvPicPr/>
          <p:nvPr/>
        </p:nvPicPr>
        <p:blipFill>
          <a:blip r:embed="rId3"/>
          <a:stretch/>
        </p:blipFill>
        <p:spPr>
          <a:xfrm>
            <a:off x="5364000" y="4149720"/>
            <a:ext cx="349884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02680" cy="1085760"/>
          </a:xfrm>
          <a:prstGeom prst="rect">
            <a:avLst/>
          </a:prstGeom>
          <a:ln w="0">
            <a:noFill/>
          </a:ln>
        </p:spPr>
      </p:pic>
      <p:pic>
        <p:nvPicPr>
          <p:cNvPr id="351" name="Содержимое 3" descr="default 3.jpeg"/>
          <p:cNvPicPr/>
          <p:nvPr/>
        </p:nvPicPr>
        <p:blipFill>
          <a:blip r:embed="rId2"/>
          <a:stretch/>
        </p:blipFill>
        <p:spPr>
          <a:xfrm>
            <a:off x="3708360" y="2852640"/>
            <a:ext cx="1306440" cy="172872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4" descr="default 4.jpeg"/>
          <p:cNvPicPr/>
          <p:nvPr/>
        </p:nvPicPr>
        <p:blipFill>
          <a:blip r:embed="rId3"/>
          <a:stretch/>
        </p:blipFill>
        <p:spPr>
          <a:xfrm>
            <a:off x="539640" y="2924280"/>
            <a:ext cx="2216160" cy="172872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5" descr="default 5.jpeg"/>
          <p:cNvPicPr/>
          <p:nvPr/>
        </p:nvPicPr>
        <p:blipFill>
          <a:blip r:embed="rId4"/>
          <a:stretch/>
        </p:blipFill>
        <p:spPr>
          <a:xfrm>
            <a:off x="6227640" y="1197000"/>
            <a:ext cx="2259000" cy="15112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6" descr="default 6.jpeg"/>
          <p:cNvPicPr/>
          <p:nvPr/>
        </p:nvPicPr>
        <p:blipFill>
          <a:blip r:embed="rId5"/>
          <a:stretch/>
        </p:blipFill>
        <p:spPr>
          <a:xfrm>
            <a:off x="6372360" y="2997360"/>
            <a:ext cx="2232000" cy="17269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7" descr="default15.jpeg"/>
          <p:cNvPicPr/>
          <p:nvPr/>
        </p:nvPicPr>
        <p:blipFill>
          <a:blip r:embed="rId6"/>
          <a:stretch/>
        </p:blipFill>
        <p:spPr>
          <a:xfrm>
            <a:off x="539640" y="1125360"/>
            <a:ext cx="2160720" cy="162900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8" descr="default14.jpeg"/>
          <p:cNvPicPr/>
          <p:nvPr/>
        </p:nvPicPr>
        <p:blipFill>
          <a:blip r:embed="rId7"/>
          <a:stretch/>
        </p:blipFill>
        <p:spPr>
          <a:xfrm>
            <a:off x="3348000" y="119700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9" descr="default16.jpeg"/>
          <p:cNvPicPr/>
          <p:nvPr/>
        </p:nvPicPr>
        <p:blipFill>
          <a:blip r:embed="rId8"/>
          <a:stretch/>
        </p:blipFill>
        <p:spPr>
          <a:xfrm>
            <a:off x="539640" y="4797360"/>
            <a:ext cx="2160720" cy="160200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10" descr="default 13.jpeg"/>
          <p:cNvPicPr/>
          <p:nvPr/>
        </p:nvPicPr>
        <p:blipFill>
          <a:blip r:embed="rId9"/>
          <a:stretch/>
        </p:blipFill>
        <p:spPr>
          <a:xfrm>
            <a:off x="3348000" y="4797360"/>
            <a:ext cx="2303640" cy="173196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11" descr="664.jpg"/>
          <p:cNvPicPr/>
          <p:nvPr/>
        </p:nvPicPr>
        <p:blipFill>
          <a:blip r:embed="rId10"/>
          <a:stretch/>
        </p:blipFill>
        <p:spPr>
          <a:xfrm>
            <a:off x="6443640" y="4941720"/>
            <a:ext cx="2149560" cy="15163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12" descr="default17.jpeg"/>
          <p:cNvPicPr/>
          <p:nvPr/>
        </p:nvPicPr>
        <p:blipFill>
          <a:blip r:embed="rId11"/>
          <a:stretch/>
        </p:blipFill>
        <p:spPr>
          <a:xfrm rot="1603800">
            <a:off x="4865400" y="3244320"/>
            <a:ext cx="1158840" cy="158436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13" descr="18.jpeg"/>
          <p:cNvPicPr/>
          <p:nvPr/>
        </p:nvPicPr>
        <p:blipFill>
          <a:blip r:embed="rId12"/>
          <a:stretch/>
        </p:blipFill>
        <p:spPr>
          <a:xfrm rot="20282400">
            <a:off x="2904840" y="3209400"/>
            <a:ext cx="10810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C:\Documents and Settings\USER\Desktop\документы антон\vf`\61_1.jpg"/>
          <p:cNvPicPr/>
          <p:nvPr/>
        </p:nvPicPr>
        <p:blipFill>
          <a:blip r:embed="rId1"/>
          <a:stretch/>
        </p:blipFill>
        <p:spPr>
          <a:xfrm>
            <a:off x="0" y="189000"/>
            <a:ext cx="2916360" cy="2017800"/>
          </a:xfrm>
          <a:prstGeom prst="rect">
            <a:avLst/>
          </a:prstGeom>
          <a:ln w="0">
            <a:noFill/>
          </a:ln>
        </p:spPr>
      </p:pic>
      <p:pic>
        <p:nvPicPr>
          <p:cNvPr id="363" name="Заголовок 1" descr=""/>
          <p:cNvPicPr/>
          <p:nvPr/>
        </p:nvPicPr>
        <p:blipFill>
          <a:blip r:embed="rId2"/>
          <a:stretch/>
        </p:blipFill>
        <p:spPr>
          <a:xfrm>
            <a:off x="1036800" y="457200"/>
            <a:ext cx="6589440" cy="10368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324000" y="2997360"/>
            <a:ext cx="8496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phillumeny.onego.ru/collect/articles/phil36/1_r.htm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russian.alibaba.com/categorylist/match-making-machinery-153001-1.htm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whoyougle.ru/texts/matches-history/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www.tourblogger.ru/blog/za-spichkami.htm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www.domspichki.ru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ru.wikipedia.org/wiki/</a:t>
            </a:r>
            <a:r>
              <a:rPr b="0" lang="ru-RU" sz="1400" spc="-1" strike="noStrike">
                <a:solidFill>
                  <a:srgbClr val="e9b19f"/>
                </a:solidFill>
                <a:latin typeface="Century Gothic"/>
              </a:rPr>
              <a:t>Спичк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spichki.abca.ru/pro_spichki/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www.genon.ru/GetAnswer.aspx?qid=dacbc8a8-efaa-47f8-8b94-fdd9bcf1e1d4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lifecity.com.ua/?l=knowledge&amp;mod=view&amp;id=2903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www.tonnel.ru/?l=kniga&amp;1237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b19f"/>
                </a:solidFill>
                <a:latin typeface="Century Gothic"/>
              </a:rPr>
              <a:t>http://www.afizika.ru/zanimatelniestati/176-otomkakizobrelispichki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ГОУ средняя общеобразовательная школа №263 СВОУО Департамента образования г. Москвы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втор проекта –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убков Антон Глебович, 7 класс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Руководители проекта –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Шаверская Ольга Николаевна - учитель химии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Шаверская Любовь Андреевна – учитель ИКТ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Февраль 2011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600200"/>
            <a:ext cx="807552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Спи́чка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 — палочка (черенок, соломка) из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горючего материала, снабжённая на конце зажигательной головкой, служащая для получения открытого огня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Picture 2" descr="C:\Documents and Settings\USER\Desktop\Streichholz.JPG"/>
          <p:cNvPicPr/>
          <p:nvPr/>
        </p:nvPicPr>
        <p:blipFill>
          <a:blip r:embed="rId2"/>
          <a:stretch/>
        </p:blipFill>
        <p:spPr>
          <a:xfrm>
            <a:off x="4500720" y="4005360"/>
            <a:ext cx="3930480" cy="2506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C:\Documents and Settings\USER\Desktop\документы антон\vf`\0BBD0797-51D1-43D4-ADF5-1B71C689A682_mw800_mh600_s.jpg"/>
          <p:cNvPicPr/>
          <p:nvPr/>
        </p:nvPicPr>
        <p:blipFill>
          <a:blip r:embed="rId3"/>
          <a:stretch/>
        </p:blipFill>
        <p:spPr>
          <a:xfrm>
            <a:off x="755640" y="4076640"/>
            <a:ext cx="352908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557000"/>
            <a:ext cx="4038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Химик Вагеманн из Тюбингена использовал в 1806 году изобретение Шанселя, но добавил к серной кислотекусочки асбеста для замедления процесса горения. Созданная им в Берлине фабрика была первым крупным производством по изготовлению зажигательных устройств. В 1813 году в Вене была зарегистрирована первая в Австро-Венгрии спичечная мануфактура Mahliardа и Wikа по производству так называемых химических спичек.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6" name="Рисунок 4" descr="86f8f0be-acea-37c1-92b4-f293fcfc1960.jpg"/>
          <p:cNvPicPr/>
          <p:nvPr/>
        </p:nvPicPr>
        <p:blipFill>
          <a:blip r:embed="rId2"/>
          <a:stretch/>
        </p:blipFill>
        <p:spPr>
          <a:xfrm>
            <a:off x="5292720" y="1557360"/>
            <a:ext cx="3316320" cy="3979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00720" y="5661000"/>
            <a:ext cx="4186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добными химическими спичками пользовался Чарлз Дарвин, раскусывая с риском обжечься ампулу с кислот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549000"/>
            <a:ext cx="403848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В 1832 году в Вене были изобретены «сухие спички». Химик Леонард Тревани покрыл головку деревянной соломки смесью бертолетовой соли с серой и клеем, зажигались эти спички трением о шероховатую поверхность; однако иногда головка воспламенялась со взрывом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179280" algn="just">
              <a:spcBef>
                <a:spcPts val="425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1792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Изобретателем первых фосфорных спичек стал юный француз Шарль Сориа. В 1831 году девятнадцатилетний экспериментатор к смеси бертолетовой соли с серой для ослабления ее взрывчатых свойств добавил белый фосфор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Содержимое 4" descr="8527f21f-7dd2-30dd-9290-5bb8b812952d.jpg"/>
          <p:cNvPicPr/>
          <p:nvPr/>
        </p:nvPicPr>
        <p:blipFill>
          <a:blip r:embed="rId1"/>
          <a:stretch/>
        </p:blipFill>
        <p:spPr>
          <a:xfrm>
            <a:off x="5008680" y="692280"/>
            <a:ext cx="3600360" cy="432108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12"/>
          <p:cNvSpPr/>
          <p:nvPr/>
        </p:nvSpPr>
        <p:spPr>
          <a:xfrm>
            <a:off x="4572000" y="530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робок российских дореволюционных спичек фабрики «Балканская звезд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95280" y="549360"/>
            <a:ext cx="44640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 1855 году шведский химик Йохан Лундстрем нанёс красный фосфор на поверхность наждачной бумаги и заменил им же белый фосфор в составе головки спички. Такие спички уже не приносили вреда здоровью, легко зажигались о заранее приготовленную поверхность и практически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самовоспламенялись.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Йохан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Лундстрем патентует первую «шведскую спичку», дошедшую практически до наших дней. В 1855 году спички Лундстрема были удостоены медали на Всемирной выставке в Париже. Позднее фосфор был полностью выведен из состава головок спичек и оставался только в составе намазки (тёрки)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1792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2" name="Picture 4" descr="C:\Documents and Settings\USER\Desktop\документы антон\vf`\2009-12-14 16-56-10.JPG"/>
          <p:cNvPicPr/>
          <p:nvPr/>
        </p:nvPicPr>
        <p:blipFill>
          <a:blip r:embed="rId1"/>
          <a:stretch/>
        </p:blipFill>
        <p:spPr>
          <a:xfrm>
            <a:off x="5003640" y="620640"/>
            <a:ext cx="3954600" cy="266220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7_19.jpg"/>
          <p:cNvPicPr/>
          <p:nvPr/>
        </p:nvPicPr>
        <p:blipFill>
          <a:blip r:embed="rId2"/>
          <a:stretch/>
        </p:blipFill>
        <p:spPr>
          <a:xfrm>
            <a:off x="5003640" y="3500280"/>
            <a:ext cx="3859200" cy="27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534520" cy="1755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0" y="1557360"/>
            <a:ext cx="478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 материалу спичечной палочки спички можно подразделить на деревянные (изготовленные из мягких пород дерева — осины, липы, тополя, американской белой сосны и т. п.), картонные и восковые (парафиновые — изготовленные из хлопчатобумажного жгута, пропитанного парафином)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 методу зажигания — на тёрочные (зажигающиеся при трении о специальную поверхность — тёрку) и бестёрочные (зажигающиеся при трении об любую поверхность)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 России наиболее распространёнными являются осиновые тёрочные спички, составляющие более 99 % выпускаемых спичек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ёрочные спички различного типа являются основным массовым видом спичек во всём мире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Бестёрочные (сесквисульфидные) спички выпускаются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 основном, в Англии и США в ограниченном количестве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6" name="Picture 2" descr="C:\Documents and Settings\USER\Desktop\Современые_Российские_спички.jpg"/>
          <p:cNvPicPr/>
          <p:nvPr/>
        </p:nvPicPr>
        <p:blipFill>
          <a:blip r:embed="rId2"/>
          <a:stretch/>
        </p:blipFill>
        <p:spPr>
          <a:xfrm>
            <a:off x="4932360" y="1628640"/>
            <a:ext cx="386244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2" descr="default 12.jpeg"/>
          <p:cNvPicPr/>
          <p:nvPr/>
        </p:nvPicPr>
        <p:blipFill>
          <a:blip r:embed="rId1"/>
          <a:stretch/>
        </p:blipFill>
        <p:spPr>
          <a:xfrm>
            <a:off x="7236000" y="3357720"/>
            <a:ext cx="1512720" cy="115092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10" descr="default.jpeg 10.jpeg"/>
          <p:cNvPicPr/>
          <p:nvPr/>
        </p:nvPicPr>
        <p:blipFill>
          <a:blip r:embed="rId2"/>
          <a:stretch/>
        </p:blipFill>
        <p:spPr>
          <a:xfrm>
            <a:off x="4859280" y="5084640"/>
            <a:ext cx="1668600" cy="111132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7" descr="default 7.jpeg"/>
          <p:cNvPicPr/>
          <p:nvPr/>
        </p:nvPicPr>
        <p:blipFill>
          <a:blip r:embed="rId3"/>
          <a:stretch/>
        </p:blipFill>
        <p:spPr>
          <a:xfrm>
            <a:off x="6012000" y="2708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330" name="Заголовок 1" descr=""/>
          <p:cNvPicPr/>
          <p:nvPr/>
        </p:nvPicPr>
        <p:blipFill>
          <a:blip r:embed="rId4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0" y="1125360"/>
            <a:ext cx="4859280" cy="500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Штормовые (охотничьи)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 — горящие на ветру, в сырости и под дождём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Термические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 — развивающие при горении более высокую температуру и дающие при сгорании головки большее количество тепл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Сигнальные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 — дающие при горении цветное пламя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Фотографические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 — дающие мгновенную яркую вспышку, используемую при фотографировани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Каминные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 — очень длинные спички, чтобы зажигать камины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Газовые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 — чуть более короткие, чем каминные, чтобы зажигать газовые горелк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Декоративные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0" i="1" lang="ru-RU" sz="1400" spc="-1" strike="noStrike">
                <a:solidFill>
                  <a:srgbClr val="ffffff"/>
                </a:solidFill>
                <a:latin typeface="Century Gothic"/>
              </a:rPr>
              <a:t>подарочные, коллекционные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) — ограниченные выпуски коробков с различными рисунками (подобно почтовым маркам), сами спички часто имели цветную головку (розовую, зелёную). Выпускались также отдельно наборы этикеток размером с коробок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Хозяйственные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 — имели, как теперь говорят, «экономичную упаковку»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2" name="Picture 4" descr="C:\Documents and Settings\USER\Desktop\документы антон\vf`\14_2..jpeg"/>
          <p:cNvPicPr/>
          <p:nvPr/>
        </p:nvPicPr>
        <p:blipFill>
          <a:blip r:embed="rId5"/>
          <a:stretch/>
        </p:blipFill>
        <p:spPr>
          <a:xfrm>
            <a:off x="7164360" y="1484280"/>
            <a:ext cx="1568520" cy="136836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6" descr="default 1.jpeg"/>
          <p:cNvPicPr/>
          <p:nvPr/>
        </p:nvPicPr>
        <p:blipFill>
          <a:blip r:embed="rId6"/>
          <a:stretch/>
        </p:blipFill>
        <p:spPr>
          <a:xfrm>
            <a:off x="6300720" y="4365720"/>
            <a:ext cx="1162080" cy="123804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8" descr="default 8.jpeg"/>
          <p:cNvPicPr/>
          <p:nvPr/>
        </p:nvPicPr>
        <p:blipFill>
          <a:blip r:embed="rId7"/>
          <a:stretch/>
        </p:blipFill>
        <p:spPr>
          <a:xfrm>
            <a:off x="5292720" y="342900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5" descr="default.jpeg"/>
          <p:cNvPicPr/>
          <p:nvPr/>
        </p:nvPicPr>
        <p:blipFill>
          <a:blip r:embed="rId8"/>
          <a:stretch/>
        </p:blipFill>
        <p:spPr>
          <a:xfrm>
            <a:off x="5219640" y="1484280"/>
            <a:ext cx="1681200" cy="1341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11" descr="default 11.jpeg"/>
          <p:cNvPicPr/>
          <p:nvPr/>
        </p:nvPicPr>
        <p:blipFill>
          <a:blip r:embed="rId9"/>
          <a:stretch/>
        </p:blipFill>
        <p:spPr>
          <a:xfrm>
            <a:off x="7236000" y="5084640"/>
            <a:ext cx="15840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68000" y="1412640"/>
            <a:ext cx="3816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пички изготавливаются в соответствии с ГОСТ 1820—2001 «Спички. Технические условия»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1792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пичечная соломка во избежание её тления пропитывается 1,5%-ным раствором Н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entury Gothic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, а затем парафинируется (окунанием в расплавленный парафин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9" name="Рисунок 4" descr="1.jpg"/>
          <p:cNvPicPr/>
          <p:nvPr/>
        </p:nvPicPr>
        <p:blipFill>
          <a:blip r:embed="rId2"/>
          <a:stretch/>
        </p:blipFill>
        <p:spPr>
          <a:xfrm>
            <a:off x="4643280" y="1484280"/>
            <a:ext cx="4105440" cy="345744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5"/>
          <p:cNvSpPr/>
          <p:nvPr/>
        </p:nvSpPr>
        <p:spPr>
          <a:xfrm>
            <a:off x="4859280" y="5013360"/>
            <a:ext cx="39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я производства спич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до реконструкции 1911 г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Текст 6" descr=""/>
          <p:cNvPicPr/>
          <p:nvPr/>
        </p:nvPicPr>
        <p:blipFill>
          <a:blip r:embed="rId1"/>
          <a:stretch/>
        </p:blipFill>
        <p:spPr>
          <a:xfrm>
            <a:off x="1352520" y="281160"/>
            <a:ext cx="604800" cy="3041640"/>
          </a:xfrm>
          <a:prstGeom prst="rect">
            <a:avLst/>
          </a:prstGeom>
          <a:ln w="0">
            <a:noFill/>
          </a:ln>
        </p:spPr>
      </p:pic>
      <p:pic>
        <p:nvPicPr>
          <p:cNvPr id="342" name="Текст 7" descr=""/>
          <p:cNvPicPr/>
          <p:nvPr/>
        </p:nvPicPr>
        <p:blipFill>
          <a:blip r:embed="rId2"/>
          <a:stretch/>
        </p:blipFill>
        <p:spPr>
          <a:xfrm>
            <a:off x="1359000" y="3419640"/>
            <a:ext cx="592200" cy="303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"/>
          <p:cNvGraphicFramePr/>
          <p:nvPr/>
        </p:nvGraphicFramePr>
        <p:xfrm>
          <a:off x="2022480" y="290520"/>
          <a:ext cx="6858000" cy="3032280"/>
        </p:xfrm>
        <a:graphic>
          <a:graphicData uri="http://schemas.openxmlformats.org/drawingml/2006/table">
            <a:tbl>
              <a:tblPr/>
              <a:tblGrid>
                <a:gridCol w="2981160"/>
                <a:gridCol w="1979640"/>
                <a:gridCol w="1897200"/>
              </a:tblGrid>
              <a:tr h="717480"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бертолетова со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78470"/>
                    </a:solidFill>
                  </a:tcPr>
                </a:tc>
                <a:tc>
                  <a:txBody>
                    <a:bodyPr lIns="185400" rIns="1854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ClO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78470"/>
                    </a:solidFill>
                  </a:tcPr>
                </a:tc>
                <a:tc>
                  <a:txBody>
                    <a:bodyPr lIns="185400" rIns="1854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6,5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78470"/>
                    </a:solidFill>
                  </a:tcPr>
                </a:tc>
              </a:tr>
              <a:tr h="405720"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ромп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5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</a:tr>
              <a:tr h="375840"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,2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05720"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винцовый сур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b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,3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</a:tr>
              <a:tr h="375840"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лила цинков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85400" rIns="1854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Z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85400" rIns="1854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,8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75840"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екло молот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,2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</a:tr>
              <a:tr h="375840"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лей костя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85400" rIns="185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,5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5400" marR="18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2050920" y="3429000"/>
          <a:ext cx="6858000" cy="2860560"/>
        </p:xfrm>
        <a:graphic>
          <a:graphicData uri="http://schemas.openxmlformats.org/drawingml/2006/table">
            <a:tbl>
              <a:tblPr/>
              <a:tblGrid>
                <a:gridCol w="2952720"/>
                <a:gridCol w="2016360"/>
                <a:gridCol w="1888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расный фосф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78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78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0,8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78470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ёхсернистая сурь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b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1,8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елезный сурик или мум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,8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C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,6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лила цинков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Z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5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екло молото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,8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b19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лей костя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,7 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pic>
        <p:nvPicPr>
          <p:cNvPr id="345" name="Заголовок 10" descr=""/>
          <p:cNvPicPr/>
          <p:nvPr/>
        </p:nvPicPr>
        <p:blipFill>
          <a:blip r:embed="rId3"/>
          <a:stretch/>
        </p:blipFill>
        <p:spPr>
          <a:xfrm>
            <a:off x="237960" y="281160"/>
            <a:ext cx="1090800" cy="61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9:16:05Z</dcterms:created>
  <dc:creator>USER</dc:creator>
  <dc:description/>
  <dc:language>en-US</dc:language>
  <cp:lastModifiedBy>1</cp:lastModifiedBy>
  <dcterms:modified xsi:type="dcterms:W3CDTF">2011-02-20T17:51:28Z</dcterms:modified>
  <cp:revision>44</cp:revision>
  <dc:subject/>
  <dc:title>Огонь друг огонь враг</dc:title>
</cp:coreProperties>
</file>