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F6A6-0EB8-46E7-AD1E-05BA5476AD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0;&#1072;&#1083;&#1080;&#1103;_&#1087;&#1077;&#1088;&#1093;&#1083;&#1086;&#1088;&#1072;&#1090;&amp;action=edit&amp;redlink=1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спички появились в конце XVIII века. Это были химические спички, зажигавшиеся при соприкосновении головки из смеси сахара и перхлорат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ия с серной кислотой. В 1813 году в Вене была зарегистрирована первая в Австро-Венгрии спичечная мануфактура Mahliard’а и Wik’а по производству химических спичек. Ко времени начала производства серных спичек (1826 год) английским химиком и аптекарем Джоном Уокером (англ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John Walke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химические спички были уже достаточно широко распространены в Европе (вариантом такой спички пользовался Чарльз Дарвин, раскусывая стекло колбочки с кислотой и рискуя обжеч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56CB-3223-45C7-8DDF-098B3AA943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7EC8-8886-4299-80F7-D53DB7EB63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A55-4497-4EE7-9DC9-384A323D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5DA-39A1-401D-B8E3-80D62866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CAC-D01F-4937-9E4B-31704830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E15-5552-4A0F-860E-DFEC876B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6601-C26E-4266-83F1-11ABF40C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584A-0042-4BE3-87B6-963B41F1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EEB8-C962-41FE-85B3-B29BAC0C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F1F-68AC-485A-9C6A-C479A1C0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BB52-423C-4B7A-AF13-8958248A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F253-D148-4611-9980-6820458A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70FD-2AF1-4C9D-AB00-8070BA6B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863-F9D2-4C4D-96C3-700D2C98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E1C7-2C74-4F8F-B68D-80067616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933F-8940-4727-99CD-75FB7955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78F3-ACF6-4CE3-8254-05BB993A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E4D8-BD73-4BE2-A51C-81311BDB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EB9F-77FC-437B-AB86-D8CAE4A6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0F320-957E-41A3-A0A8-BA5F7A7F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25B0-31AF-4691-B0E7-C7C3B527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1B0D-156C-4C5D-A899-C53F3B5F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4497-F2FA-41F6-BA97-6A97769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5B8FF-A379-4C87-9D6D-83360064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040-4285-4850-9984-6829A768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9632-F0AD-458E-89F1-74040110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9A9A-EE72-4CB6-8AC8-F05CD01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33FA-FDE5-4F0D-9A33-2D57D5DF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E3B2D-18BB-4626-A94A-C87AAF3F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C584-36BD-4CF2-9136-F5C94E3F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FFFF-00C9-4342-8318-C4DE35E2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B3B9-8637-48BC-9E32-6D785CB8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B7748-A8D2-427D-BC55-A1E3CC64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8DC5-9C7D-4A28-AE88-601200E6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FC1C-0073-4305-845D-9D041EF8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19C-865A-4F13-A8E1-8E684185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1F09-922F-48E8-9252-2657293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C105-8588-4728-BB0F-06FAD83C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2FEB-25AE-47C4-B411-CD885C50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83B1E-C52B-4D23-9B83-64A121B5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B3F80-762A-4D25-A20B-BA464EB8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9DAE6-8AE2-4060-8B89-188DBD9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9AAE-17E2-4E44-9E4A-12163805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95E7-B686-4D63-AF11-916BCF59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32B4-2E17-450A-9FE5-D74968FF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E11CF-C4F0-4756-9454-FB9CA3E6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5BD-8230-4875-8787-3157F752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9CDB2-ECE0-4DDA-B85E-8CEABFDC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EEB9-7B9C-4EAE-A4F0-1F71863D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E963E-577B-4B6A-AB23-6E84D71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4688A-3EE0-427C-A9F4-DDC90457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60E70-63E1-4C80-A35F-1845B4B2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A0B33-F193-46EA-AD9D-091FC7ED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5566-27CE-433A-880F-C89708A7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F4DD8-7733-4709-B2A7-D6FC7A57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8F35E-C29C-41E6-9966-8C575E56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BCD8-8B2B-498E-B468-A70AAB35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C87-EA43-4DFB-B624-67B04A9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7401-F419-409A-B516-B59EAB66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46F66-F850-40DB-8CEB-DDBDFE45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A8B11-A9E1-41E9-A2FD-E3C9FA5E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EFD5-9129-4E82-A345-40813EB9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5A021-8D02-4D98-B0BF-E2AF799E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5F211-D2A9-4B33-A6A4-438FEE06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3D15-3867-4804-8661-1D5C5170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05ABE-9A51-49B7-8EA1-EEE332D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649EC-0821-446A-BF19-B93C16ED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7C3F-17B0-477F-82EC-AB7E5A80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A00-EF25-4152-A31B-1254ABF5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2CA88-3DEE-4BEF-98F5-9A1E486C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FE69-19F2-48FB-9215-96046CF6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4AFC4-D3A6-49F8-9591-B8D3230B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C6F43-DDB4-4AA8-94B8-980AF3C9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917DC-8B0D-4C65-9416-B042DD4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C19C6-FF19-4BC1-B3F9-B2275FE4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B45DD-5F0A-427A-B74F-08AC16C2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19A75-4B16-4EE4-9598-528DBB35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BC887-2BCE-4F5F-A243-B0DD33AB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7E76-1E10-4CB4-80B5-0A1270E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749-E718-4072-8CD1-D2CC266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3249D-1C0D-4136-9862-BD95CC76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72DBF-C5A2-48B9-A5AD-86637FE0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CCCEA-149B-42BC-9073-E199217F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1B85-6D72-4CEA-89F1-BE052A61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F56CB-8946-4052-A43A-BC34F8F6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CAB-CE1C-475A-9C59-9CB8ABC3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E6FA-A139-465F-8F18-3CB1EA48DDC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384A-DB74-4D0B-865D-698700F23D5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3309-5560-487A-8929-93335B460E4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3C7A-F447-4E05-960E-063D7331C0A4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8853-8B97-4C23-8E99-FA874522F7E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AD3D-A176-449D-879F-E8D821C558C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12CF-ECB5-4339-89D5-8769EE75D48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6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8" descr="default18.jpeg"/>
          <p:cNvPicPr/>
          <p:nvPr/>
        </p:nvPicPr>
        <p:blipFill>
          <a:blip r:embed="rId2"/>
          <a:stretch/>
        </p:blipFill>
        <p:spPr>
          <a:xfrm>
            <a:off x="2556000" y="2492280"/>
            <a:ext cx="439236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68360" y="1844640"/>
            <a:ext cx="424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Музеи спичек существуют в Швеции, Швейцарии и Германии. Небольшой музей спичек есть и в России — в Рыбинске.   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пички часто используются как реквизит для фокусов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нтересный факт: спичка часто применяется как объект для сравнения размера при фотографировании небольших предметов, таких как современные радиодетали. При этом предполагается то, что спичку все видели, и используется то, что её всегда нетрудно найти для выполнения фото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2 марта - Международный день спичк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4" descr="C:\Documents and Settings\USER\Desktop\документы антон\vf`\374026200ac3.jpg"/>
          <p:cNvPicPr/>
          <p:nvPr/>
        </p:nvPicPr>
        <p:blipFill>
          <a:blip r:embed="rId2"/>
          <a:stretch/>
        </p:blipFill>
        <p:spPr>
          <a:xfrm>
            <a:off x="5361120" y="1413000"/>
            <a:ext cx="3481200" cy="2376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C:\Documents and Settings\USER\Desktop\документы антон\vf`\SM-350-001_4_enl.jpg"/>
          <p:cNvPicPr/>
          <p:nvPr/>
        </p:nvPicPr>
        <p:blipFill>
          <a:blip r:embed="rId3"/>
          <a:stretch/>
        </p:blipFill>
        <p:spPr>
          <a:xfrm>
            <a:off x="5364000" y="4149720"/>
            <a:ext cx="349884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02680" cy="1085760"/>
          </a:xfrm>
          <a:prstGeom prst="rect">
            <a:avLst/>
          </a:prstGeom>
          <a:ln w="0">
            <a:noFill/>
          </a:ln>
        </p:spPr>
      </p:pic>
      <p:pic>
        <p:nvPicPr>
          <p:cNvPr id="351" name="Содержимое 3" descr="default 3.jpeg"/>
          <p:cNvPicPr/>
          <p:nvPr/>
        </p:nvPicPr>
        <p:blipFill>
          <a:blip r:embed="rId2"/>
          <a:stretch/>
        </p:blipFill>
        <p:spPr>
          <a:xfrm>
            <a:off x="3708360" y="2852640"/>
            <a:ext cx="1306440" cy="172872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4" descr="default 4.jpeg"/>
          <p:cNvPicPr/>
          <p:nvPr/>
        </p:nvPicPr>
        <p:blipFill>
          <a:blip r:embed="rId3"/>
          <a:stretch/>
        </p:blipFill>
        <p:spPr>
          <a:xfrm>
            <a:off x="539640" y="2924280"/>
            <a:ext cx="2216160" cy="17287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5" descr="default 5.jpeg"/>
          <p:cNvPicPr/>
          <p:nvPr/>
        </p:nvPicPr>
        <p:blipFill>
          <a:blip r:embed="rId4"/>
          <a:stretch/>
        </p:blipFill>
        <p:spPr>
          <a:xfrm>
            <a:off x="6227640" y="1197000"/>
            <a:ext cx="2259000" cy="15112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default 6.jpeg"/>
          <p:cNvPicPr/>
          <p:nvPr/>
        </p:nvPicPr>
        <p:blipFill>
          <a:blip r:embed="rId5"/>
          <a:stretch/>
        </p:blipFill>
        <p:spPr>
          <a:xfrm>
            <a:off x="6372360" y="2997360"/>
            <a:ext cx="2232000" cy="17269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7" descr="default15.jpeg"/>
          <p:cNvPicPr/>
          <p:nvPr/>
        </p:nvPicPr>
        <p:blipFill>
          <a:blip r:embed="rId6"/>
          <a:stretch/>
        </p:blipFill>
        <p:spPr>
          <a:xfrm>
            <a:off x="539640" y="1125360"/>
            <a:ext cx="2160720" cy="162900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8" descr="default14.jpeg"/>
          <p:cNvPicPr/>
          <p:nvPr/>
        </p:nvPicPr>
        <p:blipFill>
          <a:blip r:embed="rId7"/>
          <a:stretch/>
        </p:blipFill>
        <p:spPr>
          <a:xfrm>
            <a:off x="3348000" y="119700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9" descr="default16.jpeg"/>
          <p:cNvPicPr/>
          <p:nvPr/>
        </p:nvPicPr>
        <p:blipFill>
          <a:blip r:embed="rId8"/>
          <a:stretch/>
        </p:blipFill>
        <p:spPr>
          <a:xfrm>
            <a:off x="539640" y="4797360"/>
            <a:ext cx="2160720" cy="1602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0" descr="default 13.jpeg"/>
          <p:cNvPicPr/>
          <p:nvPr/>
        </p:nvPicPr>
        <p:blipFill>
          <a:blip r:embed="rId9"/>
          <a:stretch/>
        </p:blipFill>
        <p:spPr>
          <a:xfrm>
            <a:off x="3348000" y="4797360"/>
            <a:ext cx="2303640" cy="17319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1" descr="664.jpg"/>
          <p:cNvPicPr/>
          <p:nvPr/>
        </p:nvPicPr>
        <p:blipFill>
          <a:blip r:embed="rId10"/>
          <a:stretch/>
        </p:blipFill>
        <p:spPr>
          <a:xfrm>
            <a:off x="6443640" y="4941720"/>
            <a:ext cx="2149560" cy="15163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2" descr="default17.jpeg"/>
          <p:cNvPicPr/>
          <p:nvPr/>
        </p:nvPicPr>
        <p:blipFill>
          <a:blip r:embed="rId11"/>
          <a:stretch/>
        </p:blipFill>
        <p:spPr>
          <a:xfrm rot="1603800">
            <a:off x="4865400" y="3244320"/>
            <a:ext cx="1158840" cy="15843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3" descr="18.jpeg"/>
          <p:cNvPicPr/>
          <p:nvPr/>
        </p:nvPicPr>
        <p:blipFill>
          <a:blip r:embed="rId12"/>
          <a:stretch/>
        </p:blipFill>
        <p:spPr>
          <a:xfrm rot="20282400">
            <a:off x="2904840" y="3209400"/>
            <a:ext cx="1081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Documents and Settings\USER\Desktop\документы антон\vf`\61_1.jpg"/>
          <p:cNvPicPr/>
          <p:nvPr/>
        </p:nvPicPr>
        <p:blipFill>
          <a:blip r:embed="rId1"/>
          <a:stretch/>
        </p:blipFill>
        <p:spPr>
          <a:xfrm>
            <a:off x="0" y="189000"/>
            <a:ext cx="2916360" cy="2017800"/>
          </a:xfrm>
          <a:prstGeom prst="rect">
            <a:avLst/>
          </a:prstGeom>
          <a:ln w="0">
            <a:noFill/>
          </a:ln>
        </p:spPr>
      </p:pic>
      <p:pic>
        <p:nvPicPr>
          <p:cNvPr id="363" name="Заголовок 1" descr=""/>
          <p:cNvPicPr/>
          <p:nvPr/>
        </p:nvPicPr>
        <p:blipFill>
          <a:blip r:embed="rId2"/>
          <a:stretch/>
        </p:blipFill>
        <p:spPr>
          <a:xfrm>
            <a:off x="1036800" y="457200"/>
            <a:ext cx="6589440" cy="1036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24000" y="2997360"/>
            <a:ext cx="8496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phillumeny.onego.ru/collect/articles/phil36/1_r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russian.alibaba.com/categorylist/match-making-machinery-153001-1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hoyougle.ru/texts/matches-history/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ww.tourblogger.ru/blog/za-spichkami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www.domspichki.ru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ru.wikipedia.org/wiki/</a:t>
            </a:r>
            <a:r>
              <a:rPr b="0" lang="ru-RU" sz="1400" spc="-1" strike="noStrike">
                <a:solidFill>
                  <a:srgbClr val="e9b19f"/>
                </a:solidFill>
                <a:latin typeface="Century Gothic"/>
              </a:rPr>
              <a:t>Спичк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spichki.abca.ru/pro_spichki/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ww.genon.ru/GetAnswer.aspx?qid=dacbc8a8-efaa-47f8-8b94-fdd9bcf1e1d4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lifecity.com.ua/?l=knowledge&amp;mod=view&amp;id=2903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ww.tonnel.ru/?l=kniga&amp;1237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ww.afizika.ru/zanimatelniestati/176-otomkakizobrelispichki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ГОУ средняя общеобразовательная школа №263 СВОУО Департамента образования г. Москв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втор проекта –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убков Антон Глебович, 7 клас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уководители проекта –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Шаверская Ольга Николаевна - учитель химии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Шаверская Любовь Андреевна – учитель ИК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Февраль 2011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0200"/>
            <a:ext cx="80755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пи́чка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 — палочка (черенок, соломка) из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горючего материала, снабжённая на конце зажигательной головкой, служащая для получения открытого огня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C:\Documents and Settings\USER\Desktop\Streichholz.JPG"/>
          <p:cNvPicPr/>
          <p:nvPr/>
        </p:nvPicPr>
        <p:blipFill>
          <a:blip r:embed="rId2"/>
          <a:stretch/>
        </p:blipFill>
        <p:spPr>
          <a:xfrm>
            <a:off x="4500720" y="4005360"/>
            <a:ext cx="3930480" cy="2506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C:\Documents and Settings\USER\Desktop\документы антон\vf`\0BBD0797-51D1-43D4-ADF5-1B71C689A682_mw800_mh600_s.jpg"/>
          <p:cNvPicPr/>
          <p:nvPr/>
        </p:nvPicPr>
        <p:blipFill>
          <a:blip r:embed="rId3"/>
          <a:stretch/>
        </p:blipFill>
        <p:spPr>
          <a:xfrm>
            <a:off x="755640" y="4076640"/>
            <a:ext cx="352908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557000"/>
            <a:ext cx="4038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Химик Вагеманн из Тюбингена использовал в 1806 году изобретение Шанселя, но добавил к серной кислотекусочки асбеста для замедления процесса горения. Созданная им в Берлине фабрика была первым крупным производством по изготовлению зажигательных устройств. В 1813 году в Вене была зарегистрирована первая в Австро-Венгрии спичечная мануфактура Mahliardа и Wikа по производству так называемых химических спичек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Рисунок 4" descr="86f8f0be-acea-37c1-92b4-f293fcfc1960.jpg"/>
          <p:cNvPicPr/>
          <p:nvPr/>
        </p:nvPicPr>
        <p:blipFill>
          <a:blip r:embed="rId2"/>
          <a:stretch/>
        </p:blipFill>
        <p:spPr>
          <a:xfrm>
            <a:off x="5292720" y="1557360"/>
            <a:ext cx="3316320" cy="3979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00720" y="5661000"/>
            <a:ext cx="4186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добными химическими спичками пользовался Чарлз Дарвин, раскусывая с риском обжечься ампулу с кислот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549000"/>
            <a:ext cx="403848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В 1832 году в Вене были изобретены «сухие спички». Химик Леонард Тревани покрыл головку деревянной соломки смесью бертолетовой соли с серой и клеем, зажигались эти спички трением о шероховатую поверхность; однако иногда головка воспламенялась со взрывом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179280" algn="just"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1792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зобретателем первых фосфорных спичек стал юный француз Шарль Сориа. В 1831 году девятнадцатилетний экспериментатор к смеси бертолетовой соли с серой для ослабления ее взрывчатых свойств добавил белый фосфор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Содержимое 4" descr="8527f21f-7dd2-30dd-9290-5bb8b812952d.jpg"/>
          <p:cNvPicPr/>
          <p:nvPr/>
        </p:nvPicPr>
        <p:blipFill>
          <a:blip r:embed="rId1"/>
          <a:stretch/>
        </p:blipFill>
        <p:spPr>
          <a:xfrm>
            <a:off x="5008680" y="692280"/>
            <a:ext cx="3600360" cy="432108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12"/>
          <p:cNvSpPr/>
          <p:nvPr/>
        </p:nvSpPr>
        <p:spPr>
          <a:xfrm>
            <a:off x="4572000" y="530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обок российских дореволюционных спичек фабрики «Балканская звез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95280" y="549360"/>
            <a:ext cx="446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 1855 году шведский химик Йохан Лундстрем нанёс красный фосфор на поверхность наждачной бумаги и заменил им же белый фосфор в составе головки спички. Такие спички уже не приносили вреда здоровью, легко зажигались о заранее приготовленную поверхность и практически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амовоспламенялись.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Йохан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Лундстрем патентует первую «шведскую спичку», дошедшую практически до наших дней. В 1855 году спички Лундстрема были удостоены медали на Всемирной выставке в Париже. Позднее фосфор был полностью выведен из состава головок спичек и оставался только в составе намазки (тёрки)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1792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4" descr="C:\Documents and Settings\USER\Desktop\документы антон\vf`\2009-12-14 16-56-10.JPG"/>
          <p:cNvPicPr/>
          <p:nvPr/>
        </p:nvPicPr>
        <p:blipFill>
          <a:blip r:embed="rId1"/>
          <a:stretch/>
        </p:blipFill>
        <p:spPr>
          <a:xfrm>
            <a:off x="5003640" y="620640"/>
            <a:ext cx="3954600" cy="266220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7_19.jpg"/>
          <p:cNvPicPr/>
          <p:nvPr/>
        </p:nvPicPr>
        <p:blipFill>
          <a:blip r:embed="rId2"/>
          <a:stretch/>
        </p:blipFill>
        <p:spPr>
          <a:xfrm>
            <a:off x="5003640" y="3500280"/>
            <a:ext cx="3859200" cy="27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534520" cy="1755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0" y="1557360"/>
            <a:ext cx="47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материалу спичечной палочки спички можно подразделить на деревянные (изготовленные из мягких пород дерева — осины, липы, тополя, американской белой сосны и т. п.), картонные и восковые (парафиновые — изготовленные из хлопчатобумажного жгута, пропитанного парафином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методу зажигания — на тёрочные (зажигающиеся при трении о специальную поверхность — тёрку) и бестёрочные (зажигающиеся при трении об любую поверхность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 России наиболее распространёнными являются осиновые тёрочные спички, составляющие более 99 % выпускаемых спичек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ёрочные спички различного типа являются основным массовым видом спичек во всём мир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естёрочные (сесквисульфидные) спички выпускаются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 основном, в Англии и США в ограниченном количеств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2" descr="C:\Documents and Settings\USER\Desktop\Современые_Российские_спички.jpg"/>
          <p:cNvPicPr/>
          <p:nvPr/>
        </p:nvPicPr>
        <p:blipFill>
          <a:blip r:embed="rId2"/>
          <a:stretch/>
        </p:blipFill>
        <p:spPr>
          <a:xfrm>
            <a:off x="4932360" y="1628640"/>
            <a:ext cx="3862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2" descr="default 12.jpeg"/>
          <p:cNvPicPr/>
          <p:nvPr/>
        </p:nvPicPr>
        <p:blipFill>
          <a:blip r:embed="rId1"/>
          <a:stretch/>
        </p:blipFill>
        <p:spPr>
          <a:xfrm>
            <a:off x="7236000" y="335772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0" descr="default.jpeg 10.jpeg"/>
          <p:cNvPicPr/>
          <p:nvPr/>
        </p:nvPicPr>
        <p:blipFill>
          <a:blip r:embed="rId2"/>
          <a:stretch/>
        </p:blipFill>
        <p:spPr>
          <a:xfrm>
            <a:off x="4859280" y="5084640"/>
            <a:ext cx="1668600" cy="11113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7" descr="default 7.jpeg"/>
          <p:cNvPicPr/>
          <p:nvPr/>
        </p:nvPicPr>
        <p:blipFill>
          <a:blip r:embed="rId3"/>
          <a:stretch/>
        </p:blipFill>
        <p:spPr>
          <a:xfrm>
            <a:off x="601200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330" name="Заголовок 1" descr=""/>
          <p:cNvPicPr/>
          <p:nvPr/>
        </p:nvPicPr>
        <p:blipFill>
          <a:blip r:embed="rId4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0" y="1125360"/>
            <a:ext cx="4859280" cy="50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Штормовые (охотничьи)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горящие на ветру, в сырости и под дождё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Термически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развивающие при горении более высокую температуру и дающие при сгорании головки большее количество тепл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Сигналь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дающие при горении цветное пламя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Фотографически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дающие мгновенную яркую вспышку, используемую при фотографировани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Камин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очень длинные спички, чтобы зажигать камины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Газов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чуть более короткие, чем каминные, чтобы зажигать газовые горелк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Декоратив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i="1" lang="ru-RU" sz="1400" spc="-1" strike="noStrike">
                <a:solidFill>
                  <a:srgbClr val="ffffff"/>
                </a:solidFill>
                <a:latin typeface="Century Gothic"/>
              </a:rPr>
              <a:t>подарочные, коллекцион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) — ограниченные выпуски коробков с различными рисунками (подобно почтовым маркам), сами спички часто имели цветную головку (розовую, зелёную). Выпускались также отдельно наборы этикеток размером с коробок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Хозяйствен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имели, как теперь говорят, «экономичную упаковку»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4" descr="C:\Documents and Settings\USER\Desktop\документы антон\vf`\14_2..jpeg"/>
          <p:cNvPicPr/>
          <p:nvPr/>
        </p:nvPicPr>
        <p:blipFill>
          <a:blip r:embed="rId5"/>
          <a:stretch/>
        </p:blipFill>
        <p:spPr>
          <a:xfrm>
            <a:off x="7164360" y="1484280"/>
            <a:ext cx="1568520" cy="13683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default 1.jpeg"/>
          <p:cNvPicPr/>
          <p:nvPr/>
        </p:nvPicPr>
        <p:blipFill>
          <a:blip r:embed="rId6"/>
          <a:stretch/>
        </p:blipFill>
        <p:spPr>
          <a:xfrm>
            <a:off x="6300720" y="4365720"/>
            <a:ext cx="1162080" cy="12380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8" descr="default 8.jpeg"/>
          <p:cNvPicPr/>
          <p:nvPr/>
        </p:nvPicPr>
        <p:blipFill>
          <a:blip r:embed="rId7"/>
          <a:stretch/>
        </p:blipFill>
        <p:spPr>
          <a:xfrm>
            <a:off x="5292720" y="342900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5" descr="default.jpeg"/>
          <p:cNvPicPr/>
          <p:nvPr/>
        </p:nvPicPr>
        <p:blipFill>
          <a:blip r:embed="rId8"/>
          <a:stretch/>
        </p:blipFill>
        <p:spPr>
          <a:xfrm>
            <a:off x="5219640" y="1484280"/>
            <a:ext cx="1681200" cy="134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11" descr="default 11.jpeg"/>
          <p:cNvPicPr/>
          <p:nvPr/>
        </p:nvPicPr>
        <p:blipFill>
          <a:blip r:embed="rId9"/>
          <a:stretch/>
        </p:blipFill>
        <p:spPr>
          <a:xfrm>
            <a:off x="7236000" y="5084640"/>
            <a:ext cx="15840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68000" y="1412640"/>
            <a:ext cx="3816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пички изготавливаются в соответствии с ГОСТ 1820—2001 «Спички. Технические условия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179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пичечная соломка во избежание её тления пропитывается 1,5%-ным раствором 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, а затем парафинируется (окунанием в расплавленный парафин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Рисунок 4" descr="1.jpg"/>
          <p:cNvPicPr/>
          <p:nvPr/>
        </p:nvPicPr>
        <p:blipFill>
          <a:blip r:embed="rId2"/>
          <a:stretch/>
        </p:blipFill>
        <p:spPr>
          <a:xfrm>
            <a:off x="4643280" y="1484280"/>
            <a:ext cx="4105440" cy="345744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4859280" y="5013360"/>
            <a:ext cx="39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 производства спи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до реконструкции 1911 г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Текст 6" descr=""/>
          <p:cNvPicPr/>
          <p:nvPr/>
        </p:nvPicPr>
        <p:blipFill>
          <a:blip r:embed="rId1"/>
          <a:stretch/>
        </p:blipFill>
        <p:spPr>
          <a:xfrm>
            <a:off x="1352520" y="281160"/>
            <a:ext cx="604800" cy="3041640"/>
          </a:xfrm>
          <a:prstGeom prst="rect">
            <a:avLst/>
          </a:prstGeom>
          <a:ln w="0">
            <a:noFill/>
          </a:ln>
        </p:spPr>
      </p:pic>
      <p:pic>
        <p:nvPicPr>
          <p:cNvPr id="342" name="Текст 7" descr=""/>
          <p:cNvPicPr/>
          <p:nvPr/>
        </p:nvPicPr>
        <p:blipFill>
          <a:blip r:embed="rId2"/>
          <a:stretch/>
        </p:blipFill>
        <p:spPr>
          <a:xfrm>
            <a:off x="1359000" y="3419640"/>
            <a:ext cx="592200" cy="303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2022480" y="290520"/>
          <a:ext cx="6858000" cy="3032280"/>
        </p:xfrm>
        <a:graphic>
          <a:graphicData uri="http://schemas.openxmlformats.org/drawingml/2006/table">
            <a:tbl>
              <a:tblPr/>
              <a:tblGrid>
                <a:gridCol w="2981160"/>
                <a:gridCol w="1979640"/>
                <a:gridCol w="1897200"/>
              </a:tblGrid>
              <a:tr h="71748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бертолетова 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  <a:tc>
                  <a:txBody>
                    <a:bodyPr lIns="185400" rIns="1854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Cl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  <a:tc>
                  <a:txBody>
                    <a:bodyPr lIns="185400" rIns="1854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6,5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</a:tr>
              <a:tr h="40572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ромп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7584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,2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572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винцовый сур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b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,3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7584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лила цинк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7584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екло молот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,2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7584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лей костя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,5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050920" y="3429000"/>
          <a:ext cx="6858000" cy="2860560"/>
        </p:xfrm>
        <a:graphic>
          <a:graphicData uri="http://schemas.openxmlformats.org/drawingml/2006/table">
            <a:tbl>
              <a:tblPr/>
              <a:tblGrid>
                <a:gridCol w="2952720"/>
                <a:gridCol w="2016360"/>
                <a:gridCol w="1888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расный фосф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0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ёхсернистая сурь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b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1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елезный сурик или мум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C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,6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лила цинк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екло молот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лей костя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7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345" name="Заголовок 10" descr=""/>
          <p:cNvPicPr/>
          <p:nvPr/>
        </p:nvPicPr>
        <p:blipFill>
          <a:blip r:embed="rId3"/>
          <a:stretch/>
        </p:blipFill>
        <p:spPr>
          <a:xfrm>
            <a:off x="237960" y="281160"/>
            <a:ext cx="1090800" cy="61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9:16:05Z</dcterms:created>
  <dc:creator>USER</dc:creator>
  <dc:description/>
  <dc:language>en-US</dc:language>
  <cp:lastModifiedBy>1</cp:lastModifiedBy>
  <dcterms:modified xsi:type="dcterms:W3CDTF">2011-02-20T17:51:28Z</dcterms:modified>
  <cp:revision>44</cp:revision>
  <dc:subject/>
  <dc:title>Огонь друг огонь враг</dc:title>
</cp:coreProperties>
</file>