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6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FC6A-0725-451A-9ECE-B14472E3A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5F7-C74E-4776-91C1-1D4A19A65A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715E-733D-42E8-A2F8-925703D476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5976-166E-4458-A410-44A7C09435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D9A-D02D-46D9-B808-3A3682CEBA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A25A-0C4E-42D5-B237-C75894622B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F39-B1EE-4929-B3A9-4DF2E03A1B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2F31-F451-462A-BC92-D0864DDEFE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00E-39EA-495C-BDCD-BD98E509A5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795C-F781-4387-AACC-47FDA51990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706D-B664-4789-AE1A-045BD066FF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A66B-0274-488C-9A2A-2E75DE0FAC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366A-71A1-425A-A48E-2AC772E324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1116-DDFB-47F6-9F8F-7BB177FCEB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475D-8FC4-4870-BA65-708CD2A0C4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9C4A-B635-453B-A04E-2E7F266CBB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DE3-4239-4052-9666-29F52C7677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1156-5044-48D6-88F9-19C653D160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36A-ECEE-4C4F-8B7A-8AEDC5F34F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03D-C9E5-4434-9E90-E6F7052A59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971C-7CC7-4086-ACB7-1ECED28837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AAB1-7780-4541-9EAA-1DB7A51803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2594-B743-46E8-98D1-BC4F184D47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5529-E2B9-4DBE-A30D-475B5B75B8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797-B4A9-440F-95B3-A8693199BA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E0EF-A841-4183-9A71-5C45627548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3671-DB09-47FE-B64B-5C9158FA1B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5E9-B301-4BA9-BE25-C923C6FC8E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A0D-E1CE-4F5E-A33F-FE827BC0A0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57C0-124B-403D-9DAC-EB3DE83AF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E8A4-05A7-419E-ABC4-8CD4AB3B92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CDFE-AB66-4322-8CC9-478AE3334D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8E5A-E948-4D58-AD88-32F02BA4AD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800-3B2B-46EC-90B4-AB715FF2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49B-8FF6-4B4D-B21D-E202B82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B36-0F26-4746-ADD2-802CE9C8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AB7-E299-45D1-AF64-EE48798C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556F-A4E6-436C-AB30-38745B47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AA9D-8BBB-42C6-BF3B-49D7CE35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64D2-393E-4465-81CA-3B9952F0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B833-3D88-45BD-B76B-742B480D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7D74-6868-43F9-910D-A09EB06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0D1C-C7CC-4C5C-BDCE-FA54345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7E9B-8FB9-4291-AA28-3F6FFD1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FB0-E33B-4C90-9D88-D0D08FE7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A9EF-DC08-4A8C-9798-E638CB0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3569-B44D-4C16-9F53-F3DC7FA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2E3B-B5BE-4335-BFAF-E1487802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612D-3199-4F12-93E2-039B03C1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C462-5DB7-4160-91F2-CA0F8568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102-BA8C-4156-8CF9-01E815F8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77E-25FB-49B8-A978-C63F2DAB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373-0406-40B9-88B9-89F5CDDC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228-3B59-4AE3-AC92-7C5F914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73F-572B-47BD-AA8D-C5D7DDEB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B9B-A13D-4D71-979C-552C8BB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8CA-5A2A-4581-B199-60AF982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15DD-FAAD-4827-8BD5-1288CFE297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142-5756-42A4-A914-440B66361B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mirsovetov.ru/images/985/37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ainfo.com/photos/big/214109_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atele-misha.narod.ru/photo/6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lvi-group.ucoz.ua/_ph/17/2/72334381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belmetizdelie.by/reklschitbig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ornilova.by/upload/iblock/f14/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sie.arizona.edu/MURI/papers/images/handing%20over%20money.jpg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forum.21region.org/uploads/monthly_03_2008/post-10-1206900431_thum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to.ru/images/big/2150689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dic.academic.ru/pictures/wiki/files/77/Matches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www.lapshinn.ru/images/krupa_max.jp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www.dommoy.ru/images/newtovary/0101/010102002.jpg" TargetMode="External"/><Relationship Id="rId7" Type="http://schemas.openxmlformats.org/officeDocument/2006/relationships/image" Target="../media/image28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img-2007-04.photosight.ru/25/2052959.jp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img0.liveinternet.ru/images/attach/c/0/33/464/33464368_dbimage.jp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img12.nnm.ru/imagez/gallery/0/2/e/c/e/02ece5902d8942c02db2a244cdb27016_full.jpg" TargetMode="External"/><Relationship Id="rId7" Type="http://schemas.openxmlformats.org/officeDocument/2006/relationships/image" Target="../media/image32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grizant-group.ru/uploads/posts/2009-08/1249891761_Kol_co_s_brilliantom_iz_zolota_585_proby_almaz.jpg" TargetMode="External"/><Relationship Id="rId3" Type="http://schemas.openxmlformats.org/officeDocument/2006/relationships/image" Target="../media/image3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ravda-nn.ru/upl/newspapers/src/5047.jpg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.ria.ua/photos/ria/news_common/9/932/93209/93209m.jpg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news.filefront.com/wp-content/uploads/2007/11/nike-air-force-1-playstation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g-fotki.yandex.ru/get/52/adeator.3/0_12dff_2fdd9699_XL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www.academgorodok.ru/applications/social/images/social_clubs_38_pict.jpg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www.3dcenter.ru/gallery/data/media/8/zajigalka.jpg" TargetMode="External"/><Relationship Id="rId8" Type="http://schemas.openxmlformats.org/officeDocument/2006/relationships/image" Target="../media/image41.jpe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asia.ru/img/alibaba/photo/50299687/Textbooks_and_Tutorials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freelance.ru/img/portfolio/big/13987.jpg" TargetMode="External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hyperlink" Target="http://www.all-trade.in.ua/gallery/prod/46/46094/46094_3.jpg" TargetMode="External"/><Relationship Id="rId7" Type="http://schemas.openxmlformats.org/officeDocument/2006/relationships/image" Target="../media/image45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39.beon.ru/67/19/521967/45/16590045/MONEY082.jpeg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osfoto.ru/photos/big/0029000/030001_297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nsk.ru/data/blog/images/5/j4309ll3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hyperlink" Target="http://www.digimedia.ru/UserFiles/image/materials/deceit/shop1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48348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БОУ СОШ № 16 г. Павлово, Нижегородская обл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курс творческих работ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ченик для учител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Электронные образовательные продукт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оминация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гуманитарные дисцип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зентация по тем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«Спрос. Рыночное равновесие. Эластично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ыполнила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олотова Юл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учащаяся 11 А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уководитель: учитель экономи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Логинова О.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спользование в учебном процесс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презентация наглядно раскрывает тему «Спрос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Рыночное равновесие. 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уроках экономики в 8 классе (4 урока), в 10 классе (3 урока). Позволяет провести тестирование, как форму контроля и самоконтроля после прохождения 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) дистанционное обучение учащихся при индивидуальном обучении на д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) самостоятельное изучение темы учащимися при пропуске учебных занятий по болезни и т.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378360" y="1447920"/>
            <a:ext cx="84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Pb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цены на товары - дополнители (комплимен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7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benz_crbr005133"/>
          <p:cNvPicPr/>
          <p:nvPr/>
        </p:nvPicPr>
        <p:blipFill>
          <a:blip r:embed="rId2"/>
          <a:stretch/>
        </p:blipFill>
        <p:spPr>
          <a:xfrm>
            <a:off x="4648320" y="236232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53352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втомоб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648320" y="5181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н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WordArt 17"/>
          <p:cNvSpPr txBox="1"/>
          <p:nvPr/>
        </p:nvSpPr>
        <p:spPr>
          <a:xfrm>
            <a:off x="2133720" y="45720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9" name="9.wav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00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53352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M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мода, вкусы, предпоч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2704"/>
          <p:cNvPicPr/>
          <p:nvPr/>
        </p:nvPicPr>
        <p:blipFill>
          <a:blip r:embed="rId1"/>
          <a:stretch/>
        </p:blipFill>
        <p:spPr>
          <a:xfrm>
            <a:off x="457200" y="2666880"/>
            <a:ext cx="3719520" cy="2479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Картинка 41 из 62632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2666880"/>
            <a:ext cx="400068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WordArt 7"/>
          <p:cNvSpPr txBox="1"/>
          <p:nvPr/>
        </p:nvSpPr>
        <p:spPr>
          <a:xfrm>
            <a:off x="1905120" y="45720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4" name="10.wav" descr=""/>
          <p:cNvPicPr/>
          <p:nvPr/>
        </p:nvPicPr>
        <p:blipFill>
          <a:blip r:embed="rId4"/>
          <a:stretch/>
        </p:blipFill>
        <p:spPr>
          <a:xfrm>
            <a:off x="7621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25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762120" y="990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Z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сезонные изме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WordArt 18"/>
          <p:cNvSpPr txBox="1"/>
          <p:nvPr/>
        </p:nvSpPr>
        <p:spPr>
          <a:xfrm>
            <a:off x="1981080" y="457200"/>
            <a:ext cx="50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7" name="Picture 22" descr="Картинка 131 из 30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3"/>
          <p:cNvSpPr/>
          <p:nvPr/>
        </p:nvSpPr>
        <p:spPr>
          <a:xfrm>
            <a:off x="68580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у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6" descr="Картинка 36 из 9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600200"/>
            <a:ext cx="3371760" cy="44956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7"/>
          <p:cNvSpPr/>
          <p:nvPr/>
        </p:nvSpPr>
        <p:spPr>
          <a:xfrm>
            <a:off x="502920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упа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11.wav" descr=""/>
          <p:cNvPicPr/>
          <p:nvPr/>
        </p:nvPicPr>
        <p:blipFill>
          <a:blip r:embed="rId5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252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251460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R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рекл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666880" y="53341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кламные щ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WordArt 17"/>
          <p:cNvSpPr txBox="1"/>
          <p:nvPr/>
        </p:nvSpPr>
        <p:spPr>
          <a:xfrm>
            <a:off x="2133720" y="76212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5" name="Picture 20" descr="Картинка 8 из 179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86000"/>
            <a:ext cx="4114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2" descr="Картинка 4 из 1173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286000"/>
            <a:ext cx="3886200" cy="2800440"/>
          </a:xfrm>
          <a:prstGeom prst="rect">
            <a:avLst/>
          </a:prstGeom>
          <a:ln w="0">
            <a:noFill/>
          </a:ln>
        </p:spPr>
      </p:pic>
      <p:pic>
        <p:nvPicPr>
          <p:cNvPr id="287" name="12.wav" descr=""/>
          <p:cNvPicPr/>
          <p:nvPr/>
        </p:nvPicPr>
        <p:blipFill>
          <a:blip r:embed="rId5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75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523880" y="1523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доходы потреб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514600" y="5486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WordArt 8"/>
          <p:cNvSpPr txBox="1"/>
          <p:nvPr/>
        </p:nvSpPr>
        <p:spPr>
          <a:xfrm>
            <a:off x="1981080" y="685800"/>
            <a:ext cx="505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1" name="Picture 10" descr="Картинка 72 из 87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86000"/>
            <a:ext cx="38862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2" name="Picture 15" descr="Картинка 20 из 22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286000"/>
            <a:ext cx="413856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3" name="13.wav" descr=""/>
          <p:cNvPicPr/>
          <p:nvPr/>
        </p:nvPicPr>
        <p:blipFill>
          <a:blip r:embed="rId5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25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6"/>
          <p:cNvSpPr/>
          <p:nvPr/>
        </p:nvSpPr>
        <p:spPr>
          <a:xfrm>
            <a:off x="533520" y="1295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Численность покупа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8" descr="b03c08036674c48a1751822e8f9f9774_big"/>
          <p:cNvPicPr/>
          <p:nvPr/>
        </p:nvPicPr>
        <p:blipFill>
          <a:blip r:embed="rId1"/>
          <a:stretch/>
        </p:blipFill>
        <p:spPr>
          <a:xfrm>
            <a:off x="4800600" y="2286000"/>
            <a:ext cx="3962520" cy="2766960"/>
          </a:xfrm>
          <a:prstGeom prst="rect">
            <a:avLst/>
          </a:prstGeom>
          <a:ln w="0">
            <a:noFill/>
          </a:ln>
        </p:spPr>
      </p:pic>
      <p:sp>
        <p:nvSpPr>
          <p:cNvPr id="296" name="WordArt 9"/>
          <p:cNvSpPr txBox="1"/>
          <p:nvPr/>
        </p:nvSpPr>
        <p:spPr>
          <a:xfrm>
            <a:off x="2057400" y="533520"/>
            <a:ext cx="505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7" name="Picture 11" descr="Картинка 21 из 78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286000"/>
            <a:ext cx="4138560" cy="2743200"/>
          </a:xfrm>
          <a:prstGeom prst="rect">
            <a:avLst/>
          </a:prstGeom>
          <a:ln w="0">
            <a:noFill/>
          </a:ln>
        </p:spPr>
      </p:pic>
      <p:pic>
        <p:nvPicPr>
          <p:cNvPr id="298" name="14.wav" descr=""/>
          <p:cNvPicPr/>
          <p:nvPr/>
        </p:nvPicPr>
        <p:blipFill>
          <a:blip r:embed="rId4"/>
          <a:stretch/>
        </p:blipFill>
        <p:spPr>
          <a:xfrm>
            <a:off x="609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00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685800" y="1143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Н - ожидание потреб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04920" y="4800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4724280" y="4800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ременный 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12" descr="Картинка 97 из 10980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4100400" cy="290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03" name="Picture 14" descr="view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4" name="WordArt 15"/>
          <p:cNvSpPr txBox="1"/>
          <p:nvPr/>
        </p:nvSpPr>
        <p:spPr>
          <a:xfrm>
            <a:off x="2286000" y="457200"/>
            <a:ext cx="50576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5" name="15.wav" descr=""/>
          <p:cNvPicPr/>
          <p:nvPr/>
        </p:nvPicPr>
        <p:blipFill>
          <a:blip r:embed="rId4"/>
          <a:stretch/>
        </p:blipFill>
        <p:spPr>
          <a:xfrm>
            <a:off x="457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252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4"/>
          <p:cNvSpPr/>
          <p:nvPr/>
        </p:nvSpPr>
        <p:spPr>
          <a:xfrm flipV="1">
            <a:off x="1828800" y="2362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182880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2133720" y="2590920"/>
            <a:ext cx="703080" cy="1218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 flipV="1">
            <a:off x="5867280" y="2362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586728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6172200" y="2590920"/>
            <a:ext cx="703440" cy="1218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5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2209680" y="2743200"/>
            <a:ext cx="76320" cy="763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28"/>
          <p:cNvSpPr/>
          <p:nvPr/>
        </p:nvSpPr>
        <p:spPr>
          <a:xfrm>
            <a:off x="2666880" y="3505320"/>
            <a:ext cx="76320" cy="7596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29"/>
          <p:cNvSpPr/>
          <p:nvPr/>
        </p:nvSpPr>
        <p:spPr>
          <a:xfrm>
            <a:off x="6248520" y="2743200"/>
            <a:ext cx="75960" cy="763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0"/>
          <p:cNvSpPr/>
          <p:nvPr/>
        </p:nvSpPr>
        <p:spPr>
          <a:xfrm>
            <a:off x="6705720" y="3581280"/>
            <a:ext cx="75960" cy="7632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>
            <a:off x="182880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1828800" y="35812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>
            <a:off x="5867280" y="3657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5867280" y="2819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 flipV="1">
            <a:off x="220968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 flipV="1">
            <a:off x="624852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2"/>
          <p:cNvSpPr/>
          <p:nvPr/>
        </p:nvSpPr>
        <p:spPr>
          <a:xfrm flipV="1">
            <a:off x="2666880" y="35049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3"/>
          <p:cNvSpPr/>
          <p:nvPr/>
        </p:nvSpPr>
        <p:spPr>
          <a:xfrm flipV="1">
            <a:off x="670572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8"/>
          <p:cNvSpPr/>
          <p:nvPr/>
        </p:nvSpPr>
        <p:spPr>
          <a:xfrm>
            <a:off x="14479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9"/>
          <p:cNvSpPr/>
          <p:nvPr/>
        </p:nvSpPr>
        <p:spPr>
          <a:xfrm>
            <a:off x="52578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50"/>
          <p:cNvSpPr/>
          <p:nvPr/>
        </p:nvSpPr>
        <p:spPr>
          <a:xfrm>
            <a:off x="33526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51"/>
          <p:cNvSpPr/>
          <p:nvPr/>
        </p:nvSpPr>
        <p:spPr>
          <a:xfrm>
            <a:off x="73915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52"/>
          <p:cNvSpPr/>
          <p:nvPr/>
        </p:nvSpPr>
        <p:spPr>
          <a:xfrm>
            <a:off x="22096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53"/>
          <p:cNvSpPr/>
          <p:nvPr/>
        </p:nvSpPr>
        <p:spPr>
          <a:xfrm>
            <a:off x="62485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4"/>
          <p:cNvSpPr/>
          <p:nvPr/>
        </p:nvSpPr>
        <p:spPr>
          <a:xfrm>
            <a:off x="274320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55"/>
          <p:cNvSpPr/>
          <p:nvPr/>
        </p:nvSpPr>
        <p:spPr>
          <a:xfrm>
            <a:off x="63244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6"/>
          <p:cNvSpPr/>
          <p:nvPr/>
        </p:nvSpPr>
        <p:spPr>
          <a:xfrm>
            <a:off x="22860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7"/>
          <p:cNvSpPr/>
          <p:nvPr/>
        </p:nvSpPr>
        <p:spPr>
          <a:xfrm>
            <a:off x="67816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106668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 При увеличении цены точка смещается вверх по граф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71"/>
          <p:cNvSpPr/>
          <p:nvPr/>
        </p:nvSpPr>
        <p:spPr>
          <a:xfrm flipH="1" flipV="1">
            <a:off x="2490480" y="2971440"/>
            <a:ext cx="1760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75"/>
          <p:cNvSpPr/>
          <p:nvPr/>
        </p:nvSpPr>
        <p:spPr>
          <a:xfrm>
            <a:off x="609480" y="1600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Цена (ценовой фактор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изменяет величину спр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76"/>
          <p:cNvSpPr/>
          <p:nvPr/>
        </p:nvSpPr>
        <p:spPr>
          <a:xfrm>
            <a:off x="5257800" y="47242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При уменьшении цены точка смещается вниз по граф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77"/>
          <p:cNvSpPr/>
          <p:nvPr/>
        </p:nvSpPr>
        <p:spPr>
          <a:xfrm>
            <a:off x="6553080" y="2895480"/>
            <a:ext cx="2206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85"/>
          <p:cNvSpPr/>
          <p:nvPr/>
        </p:nvSpPr>
        <p:spPr>
          <a:xfrm>
            <a:off x="1447920" y="3429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86"/>
          <p:cNvSpPr/>
          <p:nvPr/>
        </p:nvSpPr>
        <p:spPr>
          <a:xfrm>
            <a:off x="1447920" y="2514600"/>
            <a:ext cx="99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87"/>
          <p:cNvSpPr/>
          <p:nvPr/>
        </p:nvSpPr>
        <p:spPr>
          <a:xfrm>
            <a:off x="15238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88"/>
          <p:cNvSpPr/>
          <p:nvPr/>
        </p:nvSpPr>
        <p:spPr>
          <a:xfrm>
            <a:off x="2514600" y="41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89"/>
          <p:cNvSpPr/>
          <p:nvPr/>
        </p:nvSpPr>
        <p:spPr>
          <a:xfrm>
            <a:off x="2057400" y="41148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90"/>
          <p:cNvSpPr/>
          <p:nvPr/>
        </p:nvSpPr>
        <p:spPr>
          <a:xfrm>
            <a:off x="5486400" y="25909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91"/>
          <p:cNvSpPr/>
          <p:nvPr/>
        </p:nvSpPr>
        <p:spPr>
          <a:xfrm>
            <a:off x="5486400" y="3429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92"/>
          <p:cNvSpPr/>
          <p:nvPr/>
        </p:nvSpPr>
        <p:spPr>
          <a:xfrm>
            <a:off x="6553080" y="411480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3"/>
          <p:cNvSpPr/>
          <p:nvPr/>
        </p:nvSpPr>
        <p:spPr>
          <a:xfrm>
            <a:off x="6019920" y="41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WordArt 94"/>
          <p:cNvSpPr txBox="1"/>
          <p:nvPr/>
        </p:nvSpPr>
        <p:spPr>
          <a:xfrm>
            <a:off x="1981080" y="533520"/>
            <a:ext cx="51055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мечание 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Line 95"/>
          <p:cNvSpPr/>
          <p:nvPr/>
        </p:nvSpPr>
        <p:spPr>
          <a:xfrm flipV="1">
            <a:off x="167652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96"/>
          <p:cNvSpPr/>
          <p:nvPr/>
        </p:nvSpPr>
        <p:spPr>
          <a:xfrm flipH="1">
            <a:off x="236196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97"/>
          <p:cNvSpPr/>
          <p:nvPr/>
        </p:nvSpPr>
        <p:spPr>
          <a:xfrm>
            <a:off x="5638680" y="3048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98"/>
          <p:cNvSpPr/>
          <p:nvPr/>
        </p:nvSpPr>
        <p:spPr>
          <a:xfrm>
            <a:off x="6324480" y="4191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16.wav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752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Line 5"/>
          <p:cNvSpPr/>
          <p:nvPr/>
        </p:nvSpPr>
        <p:spPr>
          <a:xfrm flipV="1">
            <a:off x="1676520" y="243792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 flipV="1">
            <a:off x="5562720" y="2437920"/>
            <a:ext cx="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676520" y="4191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8"/>
          <p:cNvSpPr/>
          <p:nvPr/>
        </p:nvSpPr>
        <p:spPr>
          <a:xfrm>
            <a:off x="5562720" y="4191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9"/>
          <p:cNvSpPr/>
          <p:nvPr/>
        </p:nvSpPr>
        <p:spPr>
          <a:xfrm>
            <a:off x="1905120" y="281952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0"/>
          <p:cNvSpPr/>
          <p:nvPr/>
        </p:nvSpPr>
        <p:spPr>
          <a:xfrm>
            <a:off x="2286000" y="251460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5791320" y="281952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6172200" y="2514600"/>
            <a:ext cx="1143000" cy="1143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742840" y="3276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4"/>
          <p:cNvSpPr/>
          <p:nvPr/>
        </p:nvSpPr>
        <p:spPr>
          <a:xfrm flipV="1">
            <a:off x="6629400" y="32767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12193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1814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335268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7162920" y="4114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23623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18288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5791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6248520" y="2057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1523880" y="16002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Неценовой фактор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изменяет с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457200" y="4876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уменьшении спроса график смещается           влево - вн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5029200" y="4876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При увеличении спроса график смещается   вправо –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14479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2"/>
          <p:cNvSpPr/>
          <p:nvPr/>
        </p:nvSpPr>
        <p:spPr>
          <a:xfrm>
            <a:off x="525780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WordArt 33"/>
          <p:cNvSpPr txBox="1"/>
          <p:nvPr/>
        </p:nvSpPr>
        <p:spPr>
          <a:xfrm>
            <a:off x="1981080" y="609480"/>
            <a:ext cx="51818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мечание 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79" name="17.wav" descr=""/>
          <p:cNvPicPr/>
          <p:nvPr/>
        </p:nvPicPr>
        <p:blipFill>
          <a:blip r:embed="rId1"/>
          <a:stretch/>
        </p:blipFill>
        <p:spPr>
          <a:xfrm>
            <a:off x="685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002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457200" y="2057400"/>
            <a:ext cx="8305920" cy="30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I.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Эффект                                                                                     Гифф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росте цен на некоторые товары население скупает данный товар, опасаясь дальнейшего роста цен из-за дефицита, обычно это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товары первой необходимост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соль, спички; или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товары низшей категори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:крупа, макароны. Был впервые замечен в середине ХХ века в Ирландии: подорожавший картофель население стало покупать больш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8" descr="1238613444_sol"/>
          <p:cNvPicPr/>
          <p:nvPr/>
        </p:nvPicPr>
        <p:blipFill>
          <a:blip r:embed="rId1"/>
          <a:stretch/>
        </p:blipFill>
        <p:spPr>
          <a:xfrm>
            <a:off x="533520" y="12193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Картинка 13 из 160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1219320"/>
            <a:ext cx="2895480" cy="1752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Картинка 45 из 420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4800600"/>
            <a:ext cx="2819520" cy="1808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Картинка 127 из 2661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4876920"/>
            <a:ext cx="276696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85" name="WordArt 15"/>
          <p:cNvSpPr txBox="1"/>
          <p:nvPr/>
        </p:nvSpPr>
        <p:spPr>
          <a:xfrm>
            <a:off x="457200" y="533520"/>
            <a:ext cx="8325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сключение из закона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86" name="18.wav" descr=""/>
          <p:cNvPicPr/>
          <p:nvPr/>
        </p:nvPicPr>
        <p:blipFill>
          <a:blip r:embed="rId8"/>
          <a:stretch/>
        </p:blipFill>
        <p:spPr>
          <a:xfrm>
            <a:off x="3581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4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3754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10"/>
          <p:cNvSpPr txBox="1"/>
          <p:nvPr/>
        </p:nvSpPr>
        <p:spPr>
          <a:xfrm>
            <a:off x="1143000" y="762120"/>
            <a:ext cx="7391520" cy="483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езентация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ем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Спрос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5"/>
          <p:cNvSpPr/>
          <p:nvPr/>
        </p:nvSpPr>
        <p:spPr>
          <a:xfrm>
            <a:off x="457200" y="2438280"/>
            <a:ext cx="84582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Эффект                                                                                       до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ем выше доход, тем выше спрос на товары высшей категории - нормальные товары: мясо, масло, рыба (и наоборо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ем выше доход, тем ниже спрос на товары низшей категории -        инфериорные товары:  хлеб, картофель, крупа, макароны                   (и наоборо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9" descr="948"/>
          <p:cNvPicPr/>
          <p:nvPr/>
        </p:nvPicPr>
        <p:blipFill>
          <a:blip r:embed="rId1"/>
          <a:stretch/>
        </p:blipFill>
        <p:spPr>
          <a:xfrm>
            <a:off x="380880" y="4648320"/>
            <a:ext cx="3429000" cy="204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89" name="Picture 11" descr="Картинка 2 из 173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295280"/>
            <a:ext cx="2919240" cy="1955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Картинка 22 из 189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1219320"/>
            <a:ext cx="2971800" cy="1955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5" descr="Картинка 18 из 9986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62720" y="4572000"/>
            <a:ext cx="3200400" cy="2104920"/>
          </a:xfrm>
          <a:prstGeom prst="rect">
            <a:avLst/>
          </a:prstGeom>
          <a:ln w="0">
            <a:noFill/>
          </a:ln>
        </p:spPr>
      </p:pic>
      <p:sp>
        <p:nvSpPr>
          <p:cNvPr id="392" name="WordArt 16"/>
          <p:cNvSpPr txBox="1"/>
          <p:nvPr/>
        </p:nvSpPr>
        <p:spPr>
          <a:xfrm>
            <a:off x="609480" y="380880"/>
            <a:ext cx="800604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сключение из закона спрос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93" name="19.wav" descr=""/>
          <p:cNvPicPr/>
          <p:nvPr/>
        </p:nvPicPr>
        <p:blipFill>
          <a:blip r:embed="rId8"/>
          <a:stretch/>
        </p:blipFill>
        <p:spPr>
          <a:xfrm>
            <a:off x="4114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503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685800" y="473040"/>
            <a:ext cx="4419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4. Эффект престижного спроса (эффект Веблен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н связан с демонстративным, престижным потреблением. Приобретая редкий товар, как правило, дорогой и в силу этого не всем доступный, потребитель подчеркивает свою исключительность. Он демонстрирует поведения сноба, сокращает спрос на блага, широко используемые другими людь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486400" y="3276720"/>
            <a:ext cx="31240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а отрезке АВ – цена – показатель престижа (качества). На отрезке ВС – товар оценивается как нормаль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8" descr="0_1d9d7_6b23a49f_XL"/>
          <p:cNvPicPr/>
          <p:nvPr/>
        </p:nvPicPr>
        <p:blipFill>
          <a:blip r:embed="rId1"/>
          <a:stretch/>
        </p:blipFill>
        <p:spPr>
          <a:xfrm>
            <a:off x="762120" y="4038480"/>
            <a:ext cx="4419360" cy="2286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Картинка 37 из 347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495680"/>
            <a:ext cx="213336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98" name="Text Box 11"/>
          <p:cNvSpPr/>
          <p:nvPr/>
        </p:nvSpPr>
        <p:spPr>
          <a:xfrm>
            <a:off x="762120" y="63244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тер, маш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6248520" y="6324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20.wav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1" name="Line 14"/>
          <p:cNvSpPr/>
          <p:nvPr/>
        </p:nvSpPr>
        <p:spPr>
          <a:xfrm>
            <a:off x="6019920" y="259092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6"/>
          <p:cNvSpPr/>
          <p:nvPr/>
        </p:nvSpPr>
        <p:spPr>
          <a:xfrm flipV="1">
            <a:off x="6019920" y="7621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Freeform 17"/>
          <p:cNvSpPr/>
          <p:nvPr/>
        </p:nvSpPr>
        <p:spPr>
          <a:xfrm>
            <a:off x="6248520" y="914400"/>
            <a:ext cx="876240" cy="1447920"/>
          </a:xfrm>
          <a:custGeom>
            <a:avLst/>
            <a:gdLst>
              <a:gd name="textAreaLeft" fmla="*/ 0 w 876240"/>
              <a:gd name="textAreaRight" fmla="*/ 876600 w 8762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552" h="912">
                <a:moveTo>
                  <a:pt x="0" y="912"/>
                </a:moveTo>
                <a:cubicBezTo>
                  <a:pt x="252" y="780"/>
                  <a:pt x="504" y="648"/>
                  <a:pt x="528" y="528"/>
                </a:cubicBezTo>
                <a:cubicBezTo>
                  <a:pt x="552" y="408"/>
                  <a:pt x="216" y="280"/>
                  <a:pt x="144" y="192"/>
                </a:cubicBezTo>
                <a:cubicBezTo>
                  <a:pt x="72" y="104"/>
                  <a:pt x="104" y="32"/>
                  <a:pt x="9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5562720" y="457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8305920" y="2438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6553080" y="22860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6553080" y="2209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72388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6324480" y="457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4"/>
          <p:cNvSpPr/>
          <p:nvPr/>
        </p:nvSpPr>
        <p:spPr>
          <a:xfrm>
            <a:off x="579132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7000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753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5"/>
          <p:cNvSpPr/>
          <p:nvPr/>
        </p:nvSpPr>
        <p:spPr>
          <a:xfrm>
            <a:off x="533520" y="1143000"/>
            <a:ext cx="769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1. Спрос на товар – это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количество проданных това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желание и возможность потребителей приобрести то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потребность покупателей в каком - либо това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желание человека приобрести това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4" descr="Картинка 42 из 2403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505320"/>
            <a:ext cx="4267080" cy="2857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" descr="money_n_hand"/>
          <p:cNvPicPr/>
          <p:nvPr/>
        </p:nvPicPr>
        <p:blipFill>
          <a:blip r:embed="rId3"/>
          <a:stretch/>
        </p:blipFill>
        <p:spPr>
          <a:xfrm>
            <a:off x="5715000" y="2971800"/>
            <a:ext cx="2865600" cy="3352680"/>
          </a:xfrm>
          <a:prstGeom prst="rect">
            <a:avLst/>
          </a:prstGeom>
          <a:ln w="0">
            <a:noFill/>
          </a:ln>
        </p:spPr>
      </p:pic>
      <p:sp>
        <p:nvSpPr>
          <p:cNvPr id="414" name="WordArt 17"/>
          <p:cNvSpPr txBox="1"/>
          <p:nvPr/>
        </p:nvSpPr>
        <p:spPr>
          <a:xfrm>
            <a:off x="5257800" y="533520"/>
            <a:ext cx="3048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ест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5" name="21.wav" descr=""/>
          <p:cNvPicPr/>
          <p:nvPr/>
        </p:nvPicPr>
        <p:blipFill>
          <a:blip r:embed="rId4"/>
          <a:stretch/>
        </p:blipFill>
        <p:spPr>
          <a:xfrm>
            <a:off x="304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21000">
    <p:newsflash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752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228600" y="533520"/>
            <a:ext cx="86104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Величина спроса показывает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 количество покупателей на ры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 максимальную сумму денег, которую согласен заплатить потреб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 количество товара, которое согласен купить потребитель по конкретной це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 расходы покупателя при приобретении това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6477120" y="5257800"/>
            <a:ext cx="17524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 flipV="1">
            <a:off x="6477120" y="3505320"/>
            <a:ext cx="144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6553080" y="3809880"/>
            <a:ext cx="121932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238880" y="4495680"/>
            <a:ext cx="18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7086600" y="4343400"/>
            <a:ext cx="144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6476760" y="4343400"/>
            <a:ext cx="6094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60199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67816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8153280" y="5410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6858000" y="54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60199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6248520" y="5181480"/>
            <a:ext cx="2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19"/>
          <p:cNvSpPr/>
          <p:nvPr/>
        </p:nvSpPr>
        <p:spPr>
          <a:xfrm>
            <a:off x="7010280" y="4267080"/>
            <a:ext cx="152640" cy="152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43" descr="Картинка 15 из 452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27672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431" name="22.wav" descr=""/>
          <p:cNvPicPr/>
          <p:nvPr/>
        </p:nvPicPr>
        <p:blipFill>
          <a:blip r:embed="rId3"/>
          <a:stretch/>
        </p:blipFill>
        <p:spPr>
          <a:xfrm>
            <a:off x="228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400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380880" y="838080"/>
            <a:ext cx="44960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3. Согласно закону спроса при увеличении цен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снижается количество товара, которое хотели бы приобрести покупа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увеличивается количество покуп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увеличивается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снижается количество товара, которое хотели бы продать производ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"/>
          <p:cNvSpPr/>
          <p:nvPr/>
        </p:nvSpPr>
        <p:spPr>
          <a:xfrm flipV="1">
            <a:off x="5943600" y="1752480"/>
            <a:ext cx="1440" cy="243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6"/>
          <p:cNvSpPr/>
          <p:nvPr/>
        </p:nvSpPr>
        <p:spPr>
          <a:xfrm>
            <a:off x="5943600" y="4191120"/>
            <a:ext cx="2133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6324480" y="1905120"/>
            <a:ext cx="182880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5943600" y="236232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5943600" y="3276720"/>
            <a:ext cx="17524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10"/>
          <p:cNvSpPr/>
          <p:nvPr/>
        </p:nvSpPr>
        <p:spPr>
          <a:xfrm flipV="1">
            <a:off x="6781680" y="2362320"/>
            <a:ext cx="1800" cy="1828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11"/>
          <p:cNvSpPr/>
          <p:nvPr/>
        </p:nvSpPr>
        <p:spPr>
          <a:xfrm flipV="1">
            <a:off x="7696080" y="3276720"/>
            <a:ext cx="180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2"/>
          <p:cNvSpPr/>
          <p:nvPr/>
        </p:nvSpPr>
        <p:spPr>
          <a:xfrm>
            <a:off x="6705720" y="228600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3"/>
          <p:cNvSpPr/>
          <p:nvPr/>
        </p:nvSpPr>
        <p:spPr>
          <a:xfrm>
            <a:off x="7620120" y="320040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14"/>
          <p:cNvSpPr/>
          <p:nvPr/>
        </p:nvSpPr>
        <p:spPr>
          <a:xfrm flipH="1" flipV="1">
            <a:off x="7162560" y="2438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56386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6"/>
          <p:cNvSpPr/>
          <p:nvPr/>
        </p:nvSpPr>
        <p:spPr>
          <a:xfrm flipV="1" rot="10800000">
            <a:off x="8001000" y="426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6324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7772400" y="2819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9"/>
          <p:cNvSpPr/>
          <p:nvPr/>
        </p:nvSpPr>
        <p:spPr>
          <a:xfrm>
            <a:off x="678168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0"/>
          <p:cNvSpPr/>
          <p:nvPr/>
        </p:nvSpPr>
        <p:spPr>
          <a:xfrm>
            <a:off x="6477120" y="4191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7391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2"/>
          <p:cNvSpPr/>
          <p:nvPr/>
        </p:nvSpPr>
        <p:spPr>
          <a:xfrm>
            <a:off x="5486400" y="22096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3"/>
          <p:cNvSpPr/>
          <p:nvPr/>
        </p:nvSpPr>
        <p:spPr>
          <a:xfrm>
            <a:off x="5486400" y="30481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4"/>
          <p:cNvSpPr/>
          <p:nvPr/>
        </p:nvSpPr>
        <p:spPr>
          <a:xfrm>
            <a:off x="5638680" y="403848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23.wav" descr=""/>
          <p:cNvPicPr/>
          <p:nvPr/>
        </p:nvPicPr>
        <p:blipFill>
          <a:blip r:embed="rId1"/>
          <a:stretch/>
        </p:blipFill>
        <p:spPr>
          <a:xfrm>
            <a:off x="6858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4753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1066680" y="533520"/>
            <a:ext cx="67820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Какие из перечисленных товаров являются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товарами – заменителя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кроссовки и футб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пички и зажига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21" descr="Картинка 10 из 263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886200" cy="2116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3" descr="Картинка 50 из 2707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676520"/>
            <a:ext cx="3886200" cy="20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7" name="Picture 25" descr="Картинка 22 из 160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29200" y="4648320"/>
            <a:ext cx="3505320" cy="1828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7" descr="Картинка 36 из 9181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4648320"/>
            <a:ext cx="3504960" cy="1844640"/>
          </a:xfrm>
          <a:prstGeom prst="rect">
            <a:avLst/>
          </a:prstGeom>
          <a:ln w="0">
            <a:noFill/>
          </a:ln>
        </p:spPr>
      </p:pic>
      <p:pic>
        <p:nvPicPr>
          <p:cNvPr id="459" name="24.wav" descr=""/>
          <p:cNvPicPr/>
          <p:nvPr/>
        </p:nvPicPr>
        <p:blipFill>
          <a:blip r:embed="rId9"/>
          <a:stretch/>
        </p:blipFill>
        <p:spPr>
          <a:xfrm>
            <a:off x="152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1752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5"/>
          <p:cNvSpPr/>
          <p:nvPr/>
        </p:nvSpPr>
        <p:spPr>
          <a:xfrm>
            <a:off x="533520" y="533520"/>
            <a:ext cx="8001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 Учебники и тетр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Кухонные комбайны и стиральные маш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0" descr="Картинка 14 из 1995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990720"/>
            <a:ext cx="3657600" cy="2235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2" name="Picture 12" descr="Картинка 10 из 717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990720"/>
            <a:ext cx="365760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3" name="Picture 14" descr="Tefal%20FP%204025_enl"/>
          <p:cNvPicPr/>
          <p:nvPr/>
        </p:nvPicPr>
        <p:blipFill>
          <a:blip r:embed="rId5"/>
          <a:stretch/>
        </p:blipFill>
        <p:spPr>
          <a:xfrm>
            <a:off x="685800" y="403848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4" name="Picture 16" descr="Картинка 366 из 11963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403848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5" name="25.wav" descr=""/>
          <p:cNvPicPr/>
          <p:nvPr/>
        </p:nvPicPr>
        <p:blipFill>
          <a:blip r:embed="rId8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650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5"/>
          <p:cNvSpPr/>
          <p:nvPr/>
        </p:nvSpPr>
        <p:spPr>
          <a:xfrm>
            <a:off x="533520" y="1066680"/>
            <a:ext cx="83055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5. Изменение какого фактора вызывает движение точки вдоль графика спроса ввер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вкусы потреб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размер д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увеличение цены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) потребительские ожи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32"/>
          <p:cNvSpPr/>
          <p:nvPr/>
        </p:nvSpPr>
        <p:spPr>
          <a:xfrm flipV="1">
            <a:off x="6019920" y="2819160"/>
            <a:ext cx="144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3"/>
          <p:cNvSpPr/>
          <p:nvPr/>
        </p:nvSpPr>
        <p:spPr>
          <a:xfrm>
            <a:off x="6019920" y="5257800"/>
            <a:ext cx="2133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4"/>
          <p:cNvSpPr/>
          <p:nvPr/>
        </p:nvSpPr>
        <p:spPr>
          <a:xfrm>
            <a:off x="6400800" y="2971800"/>
            <a:ext cx="1828800" cy="1828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5"/>
          <p:cNvSpPr/>
          <p:nvPr/>
        </p:nvSpPr>
        <p:spPr>
          <a:xfrm>
            <a:off x="6019920" y="3429000"/>
            <a:ext cx="838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6"/>
          <p:cNvSpPr/>
          <p:nvPr/>
        </p:nvSpPr>
        <p:spPr>
          <a:xfrm>
            <a:off x="6019920" y="4343400"/>
            <a:ext cx="17524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7"/>
          <p:cNvSpPr/>
          <p:nvPr/>
        </p:nvSpPr>
        <p:spPr>
          <a:xfrm flipV="1">
            <a:off x="6858000" y="3429000"/>
            <a:ext cx="1440" cy="1828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8"/>
          <p:cNvSpPr/>
          <p:nvPr/>
        </p:nvSpPr>
        <p:spPr>
          <a:xfrm flipV="1">
            <a:off x="7772400" y="4343400"/>
            <a:ext cx="144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39"/>
          <p:cNvSpPr/>
          <p:nvPr/>
        </p:nvSpPr>
        <p:spPr>
          <a:xfrm>
            <a:off x="6781680" y="3352680"/>
            <a:ext cx="152640" cy="152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40"/>
          <p:cNvSpPr/>
          <p:nvPr/>
        </p:nvSpPr>
        <p:spPr>
          <a:xfrm>
            <a:off x="7696080" y="4267080"/>
            <a:ext cx="152640" cy="152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1"/>
          <p:cNvSpPr/>
          <p:nvPr/>
        </p:nvSpPr>
        <p:spPr>
          <a:xfrm flipH="1" flipV="1">
            <a:off x="7238880" y="3504960"/>
            <a:ext cx="5335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42"/>
          <p:cNvSpPr/>
          <p:nvPr/>
        </p:nvSpPr>
        <p:spPr>
          <a:xfrm>
            <a:off x="57150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43"/>
          <p:cNvSpPr/>
          <p:nvPr/>
        </p:nvSpPr>
        <p:spPr>
          <a:xfrm flipV="1" rot="10800000">
            <a:off x="8077320" y="53337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4"/>
          <p:cNvSpPr/>
          <p:nvPr/>
        </p:nvSpPr>
        <p:spPr>
          <a:xfrm>
            <a:off x="640080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5"/>
          <p:cNvSpPr/>
          <p:nvPr/>
        </p:nvSpPr>
        <p:spPr>
          <a:xfrm>
            <a:off x="78487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68580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6553080" y="52578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7467480" y="52578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49"/>
          <p:cNvSpPr/>
          <p:nvPr/>
        </p:nvSpPr>
        <p:spPr>
          <a:xfrm>
            <a:off x="5562720" y="32767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0"/>
          <p:cNvSpPr/>
          <p:nvPr/>
        </p:nvSpPr>
        <p:spPr>
          <a:xfrm>
            <a:off x="5562720" y="41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51"/>
          <p:cNvSpPr/>
          <p:nvPr/>
        </p:nvSpPr>
        <p:spPr>
          <a:xfrm>
            <a:off x="5715000" y="510552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56" descr="Картинка 27 из 823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5320"/>
            <a:ext cx="4138560" cy="2800080"/>
          </a:xfrm>
          <a:prstGeom prst="rect">
            <a:avLst/>
          </a:prstGeom>
          <a:ln w="0">
            <a:noFill/>
          </a:ln>
        </p:spPr>
      </p:pic>
      <p:pic>
        <p:nvPicPr>
          <p:cNvPr id="488" name="26.wav" descr=""/>
          <p:cNvPicPr/>
          <p:nvPr/>
        </p:nvPicPr>
        <p:blipFill>
          <a:blip r:embed="rId3"/>
          <a:stretch/>
        </p:blipFill>
        <p:spPr>
          <a:xfrm>
            <a:off x="228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8002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380880" y="914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6. Причиной увеличения спроса на роликовые коньки может б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ожидание наступления сезона дож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нижение цен на подшип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приближение летних каник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6" descr="118921_1"/>
          <p:cNvPicPr/>
          <p:nvPr/>
        </p:nvPicPr>
        <p:blipFill>
          <a:blip r:embed="rId1"/>
          <a:stretch/>
        </p:blipFill>
        <p:spPr>
          <a:xfrm>
            <a:off x="533520" y="3657600"/>
            <a:ext cx="4190760" cy="2612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Картинка 23 из 1049573"/>
          <p:cNvPicPr/>
          <p:nvPr/>
        </p:nvPicPr>
        <p:blipFill>
          <a:blip r:embed="rId2"/>
          <a:stretch/>
        </p:blipFill>
        <p:spPr>
          <a:xfrm>
            <a:off x="5486400" y="1828800"/>
            <a:ext cx="3243240" cy="4495680"/>
          </a:xfrm>
          <a:prstGeom prst="rect">
            <a:avLst/>
          </a:prstGeom>
          <a:ln w="0">
            <a:noFill/>
          </a:ln>
        </p:spPr>
      </p:pic>
      <p:pic>
        <p:nvPicPr>
          <p:cNvPr id="492" name="27.wav" descr=""/>
          <p:cNvPicPr/>
          <p:nvPr/>
        </p:nvPicPr>
        <p:blipFill>
          <a:blip r:embed="rId3"/>
          <a:stretch/>
        </p:blipFill>
        <p:spPr>
          <a:xfrm>
            <a:off x="152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6251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380880" y="914400"/>
            <a:ext cx="7696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7. Рыночный спрос – э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спрос, предъявляемый на товар отдельными потребител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прос, предъявляемый на товар всеми потребителями на рынке данног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28.wav" descr=""/>
          <p:cNvPicPr/>
          <p:nvPr/>
        </p:nvPicPr>
        <p:blipFill>
          <a:blip r:embed="rId1"/>
          <a:stretch/>
        </p:blipFill>
        <p:spPr>
          <a:xfrm>
            <a:off x="45720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Картинка 4 из 1421271"/>
          <p:cNvPicPr/>
          <p:nvPr/>
        </p:nvPicPr>
        <p:blipFill>
          <a:blip r:embed="rId2"/>
          <a:stretch/>
        </p:blipFill>
        <p:spPr>
          <a:xfrm>
            <a:off x="3581280" y="2971800"/>
            <a:ext cx="4953240" cy="3289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4502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5"/>
          <p:cNvSpPr/>
          <p:nvPr/>
        </p:nvSpPr>
        <p:spPr>
          <a:xfrm flipV="1">
            <a:off x="1676520" y="3200040"/>
            <a:ext cx="0" cy="20574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1676520" y="5257800"/>
            <a:ext cx="19810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057400" y="3505320"/>
            <a:ext cx="129528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22860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29528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65760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04920" y="15238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Спрос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 (demand)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желание и возможность покупателя приобрести товар или услугу в единицу времени при данных условиях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4114800" cy="24750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26"/>
          <p:cNvSpPr txBox="1"/>
          <p:nvPr/>
        </p:nvSpPr>
        <p:spPr>
          <a:xfrm>
            <a:off x="1600200" y="7621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р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1295280" y="5181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28"/>
          <p:cNvSpPr txBox="1"/>
          <p:nvPr/>
        </p:nvSpPr>
        <p:spPr>
          <a:xfrm>
            <a:off x="5029200" y="3505320"/>
            <a:ext cx="339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еличина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4572000" y="44956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Величина спроса 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Qd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количество товаров и услуг, которые готовы приобрести покупатели по определенной цене в определенный период времени ( точка на графике спрос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1219320" y="5410080"/>
            <a:ext cx="30477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 – цена на то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количеств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- спрос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2.wav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52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4"/>
          <p:cNvSpPr/>
          <p:nvPr/>
        </p:nvSpPr>
        <p:spPr>
          <a:xfrm>
            <a:off x="457200" y="914400"/>
            <a:ext cx="8001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8. Цена спроса – это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минимальная цена, по которой продавцы согласны продать то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максимальная цена, которую покупатели согласны заплатить при покупке данног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минимальная цена, которую покупатели согласны заплатить при покупке данного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>
            <a:off x="5791320" y="57150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 flipV="1">
            <a:off x="57913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10"/>
          <p:cNvSpPr/>
          <p:nvPr/>
        </p:nvSpPr>
        <p:spPr>
          <a:xfrm>
            <a:off x="5562720" y="4114800"/>
            <a:ext cx="1904760" cy="1100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715000" y="419112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80010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708660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18148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4100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18" descr="Картинка 49 из 114649"/>
          <p:cNvPicPr/>
          <p:nvPr/>
        </p:nvPicPr>
        <p:blipFill>
          <a:blip r:embed="rId1"/>
          <a:stretch/>
        </p:blipFill>
        <p:spPr>
          <a:xfrm>
            <a:off x="609480" y="3505320"/>
            <a:ext cx="4138560" cy="264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7" name="29.wav" descr=""/>
          <p:cNvPicPr/>
          <p:nvPr/>
        </p:nvPicPr>
        <p:blipFill>
          <a:blip r:embed="rId2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3003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304920" y="380880"/>
            <a:ext cx="8458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9. Какие из перечисленных товаров являются товарами – комплимента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сотовый телефон – зарядное устро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автомобиль – авто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мыло – стиральный порош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6" descr="17816"/>
          <p:cNvPicPr/>
          <p:nvPr/>
        </p:nvPicPr>
        <p:blipFill>
          <a:blip r:embed="rId1"/>
          <a:stretch/>
        </p:blipFill>
        <p:spPr>
          <a:xfrm>
            <a:off x="5867280" y="1828800"/>
            <a:ext cx="2982960" cy="440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0" name="Picture 8" descr="1253771115"/>
          <p:cNvPicPr/>
          <p:nvPr/>
        </p:nvPicPr>
        <p:blipFill>
          <a:blip r:embed="rId2"/>
          <a:stretch/>
        </p:blipFill>
        <p:spPr>
          <a:xfrm>
            <a:off x="1905120" y="2286000"/>
            <a:ext cx="3714480" cy="202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1" name="Picture 9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3505320" cy="228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2" name="30.wav" descr=""/>
          <p:cNvPicPr/>
          <p:nvPr/>
        </p:nvPicPr>
        <p:blipFill>
          <a:blip r:embed="rId4"/>
          <a:stretch/>
        </p:blipFill>
        <p:spPr>
          <a:xfrm>
            <a:off x="1522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002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304920" y="68580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10. Летом больше покупают велосипеды, а зимой лыжи. Какой неценовой фактор на это влия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) ожидание потреб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) сезонные изменения в спр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) доходы потреб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10" descr="Картинка 2 из 267713"/>
          <p:cNvPicPr/>
          <p:nvPr/>
        </p:nvPicPr>
        <p:blipFill>
          <a:blip r:embed="rId1"/>
          <a:stretch/>
        </p:blipFill>
        <p:spPr>
          <a:xfrm>
            <a:off x="4876920" y="1447920"/>
            <a:ext cx="3857400" cy="28954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Картинка 100 из 200922"/>
          <p:cNvPicPr/>
          <p:nvPr/>
        </p:nvPicPr>
        <p:blipFill>
          <a:blip r:embed="rId2"/>
          <a:stretch/>
        </p:blipFill>
        <p:spPr>
          <a:xfrm>
            <a:off x="457200" y="3124080"/>
            <a:ext cx="4286160" cy="2800440"/>
          </a:xfrm>
          <a:prstGeom prst="rect">
            <a:avLst/>
          </a:prstGeom>
          <a:ln w="0">
            <a:noFill/>
          </a:ln>
        </p:spPr>
      </p:pic>
      <p:pic>
        <p:nvPicPr>
          <p:cNvPr id="516" name="31.wav" descr=""/>
          <p:cNvPicPr/>
          <p:nvPr/>
        </p:nvPicPr>
        <p:blipFill>
          <a:blip r:embed="rId3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9000"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8002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5029200" y="2209680"/>
            <a:ext cx="33526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увеличении цены на товар величина спроса уменьш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уменьшении цены на товар величина спроса увеличива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братная зависимость между ценой и величиной спрос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600200" y="4724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981080" y="2438280"/>
            <a:ext cx="1447920" cy="1447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1600200" y="28954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1600200" y="38098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2438280" y="2895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3809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2590920" y="3048120"/>
            <a:ext cx="1371600" cy="1371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2362320" y="281952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3276720" y="373392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2819520" y="274320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 flipH="1" flipV="1">
            <a:off x="2514240" y="33523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129528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373392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1828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2438280" y="2514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335268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2133720" y="47242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3048120" y="4724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1143000" y="2743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1143000" y="3581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WordArt 32"/>
          <p:cNvSpPr txBox="1"/>
          <p:nvPr/>
        </p:nvSpPr>
        <p:spPr>
          <a:xfrm>
            <a:off x="2286000" y="685800"/>
            <a:ext cx="42670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кон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1295280" y="457200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4"/>
          <p:cNvSpPr/>
          <p:nvPr/>
        </p:nvSpPr>
        <p:spPr>
          <a:xfrm flipV="1">
            <a:off x="1523880" y="30477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>
            <a:off x="1676520" y="30481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6"/>
          <p:cNvSpPr/>
          <p:nvPr/>
        </p:nvSpPr>
        <p:spPr>
          <a:xfrm>
            <a:off x="2590920" y="4572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37"/>
          <p:cNvSpPr/>
          <p:nvPr/>
        </p:nvSpPr>
        <p:spPr>
          <a:xfrm flipH="1">
            <a:off x="2590920" y="4876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3.wav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02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6"/>
          <p:cNvSpPr txBox="1"/>
          <p:nvPr/>
        </p:nvSpPr>
        <p:spPr>
          <a:xfrm>
            <a:off x="2743200" y="838080"/>
            <a:ext cx="38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Цена спрос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33520" y="1981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Цена спроса </a:t>
            </a:r>
            <a:r>
              <a:rPr b="1" i="1" lang="en-US" sz="1800" spc="-1" strike="noStrike">
                <a:solidFill>
                  <a:srgbClr val="008080"/>
                </a:solidFill>
                <a:latin typeface="Arial"/>
              </a:rPr>
              <a:t>Pd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максимальная цена, которую готовы покупатели заплатить за данный тов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Картинка 27 из 308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971800"/>
            <a:ext cx="3886200" cy="2297160"/>
          </a:xfrm>
          <a:prstGeom prst="rect">
            <a:avLst/>
          </a:prstGeom>
          <a:ln w="0">
            <a:noFill/>
          </a:ln>
        </p:spPr>
      </p:pic>
      <p:sp>
        <p:nvSpPr>
          <p:cNvPr id="217" name="Line 12"/>
          <p:cNvSpPr/>
          <p:nvPr/>
        </p:nvSpPr>
        <p:spPr>
          <a:xfrm>
            <a:off x="6095880" y="4952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6095880" y="32004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5867280" y="3352680"/>
            <a:ext cx="1905120" cy="1100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019920" y="3429000"/>
            <a:ext cx="152280" cy="15228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807732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73915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57913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486400" y="35053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71500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4.wav" descr=""/>
          <p:cNvPicPr/>
          <p:nvPr/>
        </p:nvPicPr>
        <p:blipFill>
          <a:blip r:embed="rId3"/>
          <a:stretch/>
        </p:blipFill>
        <p:spPr>
          <a:xfrm>
            <a:off x="990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533520" y="16765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62120" y="1447920"/>
            <a:ext cx="3352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Рыночный спрос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это спрос, предъявляемый на товар всеми потребителями на рынке данного тов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800600" y="47242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Индивидуальный спрос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это спрос, предъявляемый на товар отдельными потреб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3" descr="j4309ll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609480"/>
            <a:ext cx="4114800" cy="2478240"/>
          </a:xfrm>
          <a:prstGeom prst="rect">
            <a:avLst/>
          </a:prstGeom>
          <a:ln w="0">
            <a:noFill/>
          </a:ln>
        </p:spPr>
      </p:pic>
      <p:sp>
        <p:nvSpPr>
          <p:cNvPr id="231" name="WordArt 14"/>
          <p:cNvSpPr txBox="1"/>
          <p:nvPr/>
        </p:nvSpPr>
        <p:spPr>
          <a:xfrm>
            <a:off x="990720" y="762120"/>
            <a:ext cx="28954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ыночный спр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WordArt 15"/>
          <p:cNvSpPr txBox="1"/>
          <p:nvPr/>
        </p:nvSpPr>
        <p:spPr>
          <a:xfrm>
            <a:off x="5105520" y="3962520"/>
            <a:ext cx="358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Индивидуальный спр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3" name="5.wav" descr=""/>
          <p:cNvPicPr/>
          <p:nvPr/>
        </p:nvPicPr>
        <p:blipFill>
          <a:blip r:embed="rId3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Картинка 16 из 2597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3429000"/>
            <a:ext cx="41148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752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533520" y="5335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висимоcть объема спроса от цены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жет быть представлена несколькими способами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33520" y="1523880"/>
            <a:ext cx="81532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Шкала спрос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таблица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которая показывает какое количество товара будет куплено по различным це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Функция спрос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которая выражает зависимость между количеством спроса и це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мер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d = 15 – 2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00200" y="2209680"/>
          <a:ext cx="5791320" cy="73188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Line 43"/>
          <p:cNvSpPr/>
          <p:nvPr/>
        </p:nvSpPr>
        <p:spPr>
          <a:xfrm>
            <a:off x="5334120" y="586728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45"/>
          <p:cNvSpPr/>
          <p:nvPr/>
        </p:nvSpPr>
        <p:spPr>
          <a:xfrm>
            <a:off x="5334120" y="5715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5334120" y="37339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029200" y="3809880"/>
            <a:ext cx="53352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9"/>
          <p:cNvSpPr/>
          <p:nvPr/>
        </p:nvSpPr>
        <p:spPr>
          <a:xfrm>
            <a:off x="5257800" y="594360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  2   3   4   5   6   7   8   9   10   11   12  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0"/>
          <p:cNvSpPr/>
          <p:nvPr/>
        </p:nvSpPr>
        <p:spPr>
          <a:xfrm>
            <a:off x="48006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61"/>
          <p:cNvSpPr/>
          <p:nvPr/>
        </p:nvSpPr>
        <p:spPr>
          <a:xfrm>
            <a:off x="8534520" y="56847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>
            <a:off x="5486400" y="3962520"/>
            <a:ext cx="2743200" cy="1676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5791320" y="3733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533520" y="4343400"/>
            <a:ext cx="3962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  </a:t>
            </a: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График спроса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ривую спроса  можно получить, если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ользоваться функцией спроса или взять данные из шкалы спр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8"/>
          <p:cNvSpPr/>
          <p:nvPr/>
        </p:nvSpPr>
        <p:spPr>
          <a:xfrm>
            <a:off x="685800" y="6019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6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7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6004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69960" y="1255680"/>
            <a:ext cx="763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04920" y="1219320"/>
            <a:ext cx="84582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Qd = F (P, Pa, Pb, M, Z, R, I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Ценовой факт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цена на това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80"/>
                </a:solidFill>
                <a:latin typeface="Arial"/>
              </a:rPr>
              <a:t>Неценовые факторы (детерминанты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цены на товары - заменители (субститут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цены на товары - дополнители (комплимент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мода, вкусы, предпочт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сезонные измен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рекла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– доходы потреби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 – ожидание покупа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Численность покуп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WordArt 11"/>
          <p:cNvSpPr txBox="1"/>
          <p:nvPr/>
        </p:nvSpPr>
        <p:spPr>
          <a:xfrm>
            <a:off x="685800" y="380880"/>
            <a:ext cx="7715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рос - функция многих переме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3" name="7.wav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9755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533520" y="6858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28600" y="13716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Pa</a:t>
            </a:r>
            <a:r>
              <a:rPr b="1" i="1" lang="ru-RU" sz="2400" spc="-1" strike="noStrike">
                <a:solidFill>
                  <a:srgbClr val="008080"/>
                </a:solidFill>
                <a:latin typeface="Arial"/>
              </a:rPr>
              <a:t> – цены на товары - заменители (субститу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533520" y="5638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рга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72428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ливочное ма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WordArt 16"/>
          <p:cNvSpPr txBox="1"/>
          <p:nvPr/>
        </p:nvSpPr>
        <p:spPr>
          <a:xfrm>
            <a:off x="220968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ценовой фактор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1295280" y="4419720"/>
            <a:ext cx="678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3" descr="Рисунок1"/>
          <p:cNvPicPr/>
          <p:nvPr/>
        </p:nvPicPr>
        <p:blipFill>
          <a:blip r:embed="rId1"/>
          <a:stretch/>
        </p:blipFill>
        <p:spPr>
          <a:xfrm>
            <a:off x="380880" y="2133720"/>
            <a:ext cx="3810240" cy="33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1" name="Picture 24" descr="Рисунок2"/>
          <p:cNvPicPr/>
          <p:nvPr/>
        </p:nvPicPr>
        <p:blipFill>
          <a:blip r:embed="rId2"/>
          <a:stretch/>
        </p:blipFill>
        <p:spPr>
          <a:xfrm>
            <a:off x="4952880" y="2133720"/>
            <a:ext cx="3905280" cy="32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2" name="8.wav" descr=""/>
          <p:cNvPicPr/>
          <p:nvPr/>
        </p:nvPicPr>
        <p:blipFill>
          <a:blip r:embed="rId3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002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лкер</cp:lastModifiedBy>
  <dcterms:modified xsi:type="dcterms:W3CDTF">2013-03-31T11:41:0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