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6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81B8-E452-412F-89F4-3472D4674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5116-5119-487C-8F8C-04EE07EB35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5B3B-F284-4100-9BE9-13945F1242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7C18-BE69-4A61-9904-06EAA42D02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1016-5DFD-4580-B5D6-3197C13423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F4C-E850-4005-909B-F235976AD8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13E3-319A-4595-ABD6-2BFCD4498D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E531-ACF4-42F0-A720-0C3A5FEF79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002A-5A7E-4BAE-B112-CCE2541CE6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C303-F3AD-4C94-BD64-564F8A5580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9EE7-2CCF-4C7D-80E7-7F3CBDB15A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7947-8F33-43C4-8ADF-E39CB97ADA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AE41-4DB6-4715-A1EE-24AC76951B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93F2-FE66-4412-9BAC-231FF950D0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6B4-89BD-4F74-A91E-C791CDD1EA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7DEF-9830-461C-B43E-1BF8C8B265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58E0-517F-4C13-9BC3-8713045E33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5E0-601B-449C-8077-54236618BE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BEC9-014F-4955-8269-AB8D7B416C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6573-F6C8-4898-9458-9CBE1A283C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96FF-9A98-496D-B977-5191B2532E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E901-56FA-4314-9E9E-50216366DA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E0BA-4287-426A-B695-DE846C1695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DFAD-80F6-43B0-9545-0EF26728FC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03E7-FBEC-457F-9AAE-42E1A95022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BA2F-0526-4894-8619-A1E20AEED1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BF8B-2980-4DC9-A8E2-BBAF3B5341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9CAE-C55D-48F9-8DF5-DFBD5F9744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2C1-02D6-473A-91E4-774371DA45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4A92-1CA7-43B9-815E-F043A1A577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D1BF-0091-49A5-99A5-3C7DFA5EE9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623-5E5A-485B-8780-731E279B98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8E21-9281-4AE2-B033-5DD63B9657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85A-E8E6-4E28-A9E1-AD678AA6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055-C851-4DB1-8644-13D83EF3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3CE-9FB9-47F7-A947-7C7DF2FE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E2E-FB06-4F2C-BB3D-E2D6668A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CD66-952C-4B75-9A65-43E78F46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8175-672B-4F1C-AF1C-065ACC32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775-17B4-40CB-A5AB-E2B3A370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E6AF-77CC-46B7-BDCC-1DC1CC25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57B8-C78F-4121-AF26-C67256E4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E8F-4AE0-41FE-AB15-2304BF86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5243-6637-4F4E-A913-ED39A7C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4CB-CD85-42E9-BCE6-C5F0D24A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E2C-FC54-499A-BF21-976337B5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D65F-06CD-45E0-9528-037B33D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2513-11A2-4DDF-9A2C-B251CFC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EAB6-A5FE-41E8-921C-84E62F11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137E-166E-4035-8706-E89E4B6F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85D-426F-406E-B4DF-2C5D74C3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39F-582A-4C90-BA3C-2785FE0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00C-4284-46E4-A92F-E62E572B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8F7-871A-4DF4-BFDB-1FE7C287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4AA-4D1B-4284-A0D7-833156D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26F-4B18-481D-A4DE-83A6A8A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7DD-C786-4C73-BACF-D2402581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5E98-0FAB-4228-BC22-9EE9E9853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F42C-4711-47FC-BDAB-FCC5B210A7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mirsovetov.ru/images/985/37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ainfo.com/photos/big/214109_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atele-misha.narod.ru/photo/6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lvi-group.ucoz.ua/_ph/17/2/72334381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belmetizdelie.by/reklschitbig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ornilova.by/upload/iblock/f14/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ie.arizona.edu/MURI/papers/images/handing%20over%20money.jpg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forum.21region.org/uploads/monthly_03_2008/post-10-1206900431_thumb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to.ru/images/big/2150689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dic.academic.ru/pictures/wiki/files/77/Matches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www.lapshinn.ru/images/krupa_max.jp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www.dommoy.ru/images/newtovary/0101/010102002.jpg" TargetMode="External"/><Relationship Id="rId7" Type="http://schemas.openxmlformats.org/officeDocument/2006/relationships/image" Target="../media/image28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img-2007-04.photosight.ru/25/2052959.jp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g0.liveinternet.ru/images/attach/c/0/33/464/33464368_dbimage.jp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g12.nnm.ru/imagez/gallery/0/2/e/c/e/02ece5902d8942c02db2a244cdb27016_full.jpg" TargetMode="External"/><Relationship Id="rId7" Type="http://schemas.openxmlformats.org/officeDocument/2006/relationships/image" Target="../media/image32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grizant-group.ru/uploads/posts/2009-08/1249891761_Kol_co_s_brilliantom_iz_zolota_585_proby_almaz.jpg" TargetMode="External"/><Relationship Id="rId3" Type="http://schemas.openxmlformats.org/officeDocument/2006/relationships/image" Target="../media/image3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papers/src/5047.jpg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.ria.ua/photos/ria/news_common/9/932/93209/93209m.jpg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news.filefront.com/wp-content/uploads/2007/11/nike-air-force-1-playstation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g-fotki.yandex.ru/get/52/adeator.3/0_12dff_2fdd9699_XL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www.academgorodok.ru/applications/social/images/social_clubs_38_pict.jpg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www.3dcenter.ru/gallery/data/media/8/zajigalka.jpg" TargetMode="External"/><Relationship Id="rId8" Type="http://schemas.openxmlformats.org/officeDocument/2006/relationships/image" Target="../media/image41.jpe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asia.ru/img/alibaba/photo/50299687/Textbooks_and_Tutorials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freelance.ru/img/portfolio/big/13987.jpg" TargetMode="External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hyperlink" Target="http://www.all-trade.in.ua/gallery/prod/46/46094/46094_3.jpg" TargetMode="External"/><Relationship Id="rId7" Type="http://schemas.openxmlformats.org/officeDocument/2006/relationships/image" Target="../media/image45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39.beon.ru/67/19/521967/45/16590045/MONEY082.jpeg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osfoto.ru/photos/big/0029000/030001_297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nsk.ru/data/blog/images/5/j4309ll32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hyperlink" Target="http://www.digimedia.ru/UserFiles/image/materials/deceit/shop1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4834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БОУ СОШ № 16 г. Павлово, Нижегородская обл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курс творческих работ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ченик для учител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Электронные образовательные продукт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оминация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гуманитарные дисцип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зентация по тем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«Спрос. Рыночное равновесие. Эластичнос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ыполнила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олотова Юл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учащаяся 11 А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уководитель: учитель экономик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Логинова О.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пользование в учебном процесс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презентация наглядно раскрывает тему «Спрос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Рыночное равновесие. 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уроках экономики в 8 классе (4 урока), в 10 классе (3 урока). Позволяет провести тестирование, как форму контроля и самоконтроля после прохождения 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) дистанционное обучение учащихся при индивидуальном обучении на д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) самостоятельное изучение темы учащимися при пропуске учебных занятий по болезни и т.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378360" y="1447920"/>
            <a:ext cx="84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Pb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цены на товары - дополнители (комплимен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7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benz_crbr005133"/>
          <p:cNvPicPr/>
          <p:nvPr/>
        </p:nvPicPr>
        <p:blipFill>
          <a:blip r:embed="rId2"/>
          <a:stretch/>
        </p:blipFill>
        <p:spPr>
          <a:xfrm>
            <a:off x="4648320" y="236232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53352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втомоб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64832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н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WordArt 17"/>
          <p:cNvSpPr txBox="1"/>
          <p:nvPr/>
        </p:nvSpPr>
        <p:spPr>
          <a:xfrm>
            <a:off x="2133720" y="457200"/>
            <a:ext cx="50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9" name="9.wav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500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53352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M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мода, вкусы, предпоч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2704"/>
          <p:cNvPicPr/>
          <p:nvPr/>
        </p:nvPicPr>
        <p:blipFill>
          <a:blip r:embed="rId1"/>
          <a:stretch/>
        </p:blipFill>
        <p:spPr>
          <a:xfrm>
            <a:off x="457200" y="2666880"/>
            <a:ext cx="3719520" cy="2479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Картинка 41 из 6263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666880"/>
            <a:ext cx="4000680" cy="2438640"/>
          </a:xfrm>
          <a:prstGeom prst="rect">
            <a:avLst/>
          </a:prstGeom>
          <a:ln w="0">
            <a:noFill/>
          </a:ln>
        </p:spPr>
      </p:pic>
      <p:sp>
        <p:nvSpPr>
          <p:cNvPr id="273" name="WordArt 7"/>
          <p:cNvSpPr txBox="1"/>
          <p:nvPr/>
        </p:nvSpPr>
        <p:spPr>
          <a:xfrm>
            <a:off x="1905120" y="457200"/>
            <a:ext cx="50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4" name="10.wav" descr=""/>
          <p:cNvPicPr/>
          <p:nvPr/>
        </p:nvPicPr>
        <p:blipFill>
          <a:blip r:embed="rId4"/>
          <a:stretch/>
        </p:blipFill>
        <p:spPr>
          <a:xfrm>
            <a:off x="7621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25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762120" y="990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Z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сезонные изме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WordArt 18"/>
          <p:cNvSpPr txBox="1"/>
          <p:nvPr/>
        </p:nvSpPr>
        <p:spPr>
          <a:xfrm>
            <a:off x="1981080" y="457200"/>
            <a:ext cx="505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7" name="Picture 22" descr="Картинка 131 из 30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60020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3"/>
          <p:cNvSpPr/>
          <p:nvPr/>
        </p:nvSpPr>
        <p:spPr>
          <a:xfrm>
            <a:off x="68580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у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6" descr="Картинка 36 из 9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0020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7"/>
          <p:cNvSpPr/>
          <p:nvPr/>
        </p:nvSpPr>
        <p:spPr>
          <a:xfrm>
            <a:off x="502920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упа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11.wav" descr=""/>
          <p:cNvPicPr/>
          <p:nvPr/>
        </p:nvPicPr>
        <p:blipFill>
          <a:blip r:embed="rId5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252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251460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R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рекл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666880" y="53341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кламные щ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WordArt 17"/>
          <p:cNvSpPr txBox="1"/>
          <p:nvPr/>
        </p:nvSpPr>
        <p:spPr>
          <a:xfrm>
            <a:off x="2133720" y="762120"/>
            <a:ext cx="50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5" name="Picture 20" descr="Картинка 8 из 179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86000"/>
            <a:ext cx="4114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2" descr="Картинка 4 из 117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286000"/>
            <a:ext cx="3886200" cy="2800440"/>
          </a:xfrm>
          <a:prstGeom prst="rect">
            <a:avLst/>
          </a:prstGeom>
          <a:ln w="0">
            <a:noFill/>
          </a:ln>
        </p:spPr>
      </p:pic>
      <p:pic>
        <p:nvPicPr>
          <p:cNvPr id="287" name="12.wav" descr=""/>
          <p:cNvPicPr/>
          <p:nvPr/>
        </p:nvPicPr>
        <p:blipFill>
          <a:blip r:embed="rId5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5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1523880" y="1523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доходы потреб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514600" y="5486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ень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WordArt 8"/>
          <p:cNvSpPr txBox="1"/>
          <p:nvPr/>
        </p:nvSpPr>
        <p:spPr>
          <a:xfrm>
            <a:off x="1981080" y="685800"/>
            <a:ext cx="505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1" name="Picture 10" descr="Картинка 72 из 87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86000"/>
            <a:ext cx="38862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2" name="Picture 15" descr="Картинка 20 из 22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286000"/>
            <a:ext cx="413856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3" name="13.wav" descr=""/>
          <p:cNvPicPr/>
          <p:nvPr/>
        </p:nvPicPr>
        <p:blipFill>
          <a:blip r:embed="rId5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125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6"/>
          <p:cNvSpPr/>
          <p:nvPr/>
        </p:nvSpPr>
        <p:spPr>
          <a:xfrm>
            <a:off x="533520" y="1295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Численность покупа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8" descr="b03c08036674c48a1751822e8f9f9774_big"/>
          <p:cNvPicPr/>
          <p:nvPr/>
        </p:nvPicPr>
        <p:blipFill>
          <a:blip r:embed="rId1"/>
          <a:stretch/>
        </p:blipFill>
        <p:spPr>
          <a:xfrm>
            <a:off x="4800600" y="2286000"/>
            <a:ext cx="3962520" cy="2766960"/>
          </a:xfrm>
          <a:prstGeom prst="rect">
            <a:avLst/>
          </a:prstGeom>
          <a:ln w="0">
            <a:noFill/>
          </a:ln>
        </p:spPr>
      </p:pic>
      <p:sp>
        <p:nvSpPr>
          <p:cNvPr id="296" name="WordArt 9"/>
          <p:cNvSpPr txBox="1"/>
          <p:nvPr/>
        </p:nvSpPr>
        <p:spPr>
          <a:xfrm>
            <a:off x="2057400" y="533520"/>
            <a:ext cx="50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7" name="Picture 11" descr="Картинка 21 из 78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286000"/>
            <a:ext cx="4138560" cy="2743200"/>
          </a:xfrm>
          <a:prstGeom prst="rect">
            <a:avLst/>
          </a:prstGeom>
          <a:ln w="0">
            <a:noFill/>
          </a:ln>
        </p:spPr>
      </p:pic>
      <p:pic>
        <p:nvPicPr>
          <p:cNvPr id="298" name="14.wav" descr=""/>
          <p:cNvPicPr/>
          <p:nvPr/>
        </p:nvPicPr>
        <p:blipFill>
          <a:blip r:embed="rId4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00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685800" y="1143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Н - ожидание потреб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04920" y="4800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724280" y="4800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ременный 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2" descr="Картинка 97 из 10980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4100400" cy="290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03" name="Picture 14" descr="view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4" name="WordArt 15"/>
          <p:cNvSpPr txBox="1"/>
          <p:nvPr/>
        </p:nvSpPr>
        <p:spPr>
          <a:xfrm>
            <a:off x="2286000" y="457200"/>
            <a:ext cx="5057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5" name="15.wav" descr=""/>
          <p:cNvPicPr/>
          <p:nvPr/>
        </p:nvPicPr>
        <p:blipFill>
          <a:blip r:embed="rId4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252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4"/>
          <p:cNvSpPr/>
          <p:nvPr/>
        </p:nvSpPr>
        <p:spPr>
          <a:xfrm flipV="1">
            <a:off x="1828800" y="23623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182880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2133720" y="2590920"/>
            <a:ext cx="703080" cy="1218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 flipV="1">
            <a:off x="5867280" y="23623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5867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6172200" y="2590920"/>
            <a:ext cx="703440" cy="1218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2209680" y="2743200"/>
            <a:ext cx="76320" cy="763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28"/>
          <p:cNvSpPr/>
          <p:nvPr/>
        </p:nvSpPr>
        <p:spPr>
          <a:xfrm>
            <a:off x="2666880" y="3505320"/>
            <a:ext cx="76320" cy="7596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29"/>
          <p:cNvSpPr/>
          <p:nvPr/>
        </p:nvSpPr>
        <p:spPr>
          <a:xfrm>
            <a:off x="6248520" y="2743200"/>
            <a:ext cx="75960" cy="763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30"/>
          <p:cNvSpPr/>
          <p:nvPr/>
        </p:nvSpPr>
        <p:spPr>
          <a:xfrm>
            <a:off x="6705720" y="3581280"/>
            <a:ext cx="75960" cy="763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>
            <a:off x="182880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1828800" y="35812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>
            <a:off x="5867280" y="3657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5867280" y="2819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 flipV="1">
            <a:off x="220968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 flipV="1">
            <a:off x="624852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2"/>
          <p:cNvSpPr/>
          <p:nvPr/>
        </p:nvSpPr>
        <p:spPr>
          <a:xfrm flipV="1">
            <a:off x="2666880" y="3504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3"/>
          <p:cNvSpPr/>
          <p:nvPr/>
        </p:nvSpPr>
        <p:spPr>
          <a:xfrm flipV="1">
            <a:off x="670572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8"/>
          <p:cNvSpPr/>
          <p:nvPr/>
        </p:nvSpPr>
        <p:spPr>
          <a:xfrm>
            <a:off x="14479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9"/>
          <p:cNvSpPr/>
          <p:nvPr/>
        </p:nvSpPr>
        <p:spPr>
          <a:xfrm>
            <a:off x="52578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50"/>
          <p:cNvSpPr/>
          <p:nvPr/>
        </p:nvSpPr>
        <p:spPr>
          <a:xfrm>
            <a:off x="33526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1"/>
          <p:cNvSpPr/>
          <p:nvPr/>
        </p:nvSpPr>
        <p:spPr>
          <a:xfrm>
            <a:off x="73915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52"/>
          <p:cNvSpPr/>
          <p:nvPr/>
        </p:nvSpPr>
        <p:spPr>
          <a:xfrm>
            <a:off x="22096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3"/>
          <p:cNvSpPr/>
          <p:nvPr/>
        </p:nvSpPr>
        <p:spPr>
          <a:xfrm>
            <a:off x="62485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4"/>
          <p:cNvSpPr/>
          <p:nvPr/>
        </p:nvSpPr>
        <p:spPr>
          <a:xfrm>
            <a:off x="274320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55"/>
          <p:cNvSpPr/>
          <p:nvPr/>
        </p:nvSpPr>
        <p:spPr>
          <a:xfrm>
            <a:off x="63244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6"/>
          <p:cNvSpPr/>
          <p:nvPr/>
        </p:nvSpPr>
        <p:spPr>
          <a:xfrm>
            <a:off x="22860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57"/>
          <p:cNvSpPr/>
          <p:nvPr/>
        </p:nvSpPr>
        <p:spPr>
          <a:xfrm>
            <a:off x="67816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106668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 При увеличении цены точка смещается вверх по граф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71"/>
          <p:cNvSpPr/>
          <p:nvPr/>
        </p:nvSpPr>
        <p:spPr>
          <a:xfrm flipH="1" flipV="1">
            <a:off x="2490480" y="2971440"/>
            <a:ext cx="1760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75"/>
          <p:cNvSpPr/>
          <p:nvPr/>
        </p:nvSpPr>
        <p:spPr>
          <a:xfrm>
            <a:off x="6094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Цена (ценовой фактор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изменяет величину спро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76"/>
          <p:cNvSpPr/>
          <p:nvPr/>
        </p:nvSpPr>
        <p:spPr>
          <a:xfrm>
            <a:off x="5257800" y="47242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При уменьшении цены точка смещается вниз по граф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77"/>
          <p:cNvSpPr/>
          <p:nvPr/>
        </p:nvSpPr>
        <p:spPr>
          <a:xfrm>
            <a:off x="6553080" y="2895480"/>
            <a:ext cx="2206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85"/>
          <p:cNvSpPr/>
          <p:nvPr/>
        </p:nvSpPr>
        <p:spPr>
          <a:xfrm>
            <a:off x="1447920" y="3429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86"/>
          <p:cNvSpPr/>
          <p:nvPr/>
        </p:nvSpPr>
        <p:spPr>
          <a:xfrm>
            <a:off x="1447920" y="251460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87"/>
          <p:cNvSpPr/>
          <p:nvPr/>
        </p:nvSpPr>
        <p:spPr>
          <a:xfrm>
            <a:off x="15238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88"/>
          <p:cNvSpPr/>
          <p:nvPr/>
        </p:nvSpPr>
        <p:spPr>
          <a:xfrm>
            <a:off x="2514600" y="41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89"/>
          <p:cNvSpPr/>
          <p:nvPr/>
        </p:nvSpPr>
        <p:spPr>
          <a:xfrm>
            <a:off x="2057400" y="41148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90"/>
          <p:cNvSpPr/>
          <p:nvPr/>
        </p:nvSpPr>
        <p:spPr>
          <a:xfrm>
            <a:off x="5486400" y="25909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91"/>
          <p:cNvSpPr/>
          <p:nvPr/>
        </p:nvSpPr>
        <p:spPr>
          <a:xfrm>
            <a:off x="5486400" y="3429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92"/>
          <p:cNvSpPr/>
          <p:nvPr/>
        </p:nvSpPr>
        <p:spPr>
          <a:xfrm>
            <a:off x="6553080" y="411480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3"/>
          <p:cNvSpPr/>
          <p:nvPr/>
        </p:nvSpPr>
        <p:spPr>
          <a:xfrm>
            <a:off x="6019920" y="41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WordArt 94"/>
          <p:cNvSpPr txBox="1"/>
          <p:nvPr/>
        </p:nvSpPr>
        <p:spPr>
          <a:xfrm>
            <a:off x="1981080" y="533520"/>
            <a:ext cx="51055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мечание 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Line 95"/>
          <p:cNvSpPr/>
          <p:nvPr/>
        </p:nvSpPr>
        <p:spPr>
          <a:xfrm flipV="1">
            <a:off x="167652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96"/>
          <p:cNvSpPr/>
          <p:nvPr/>
        </p:nvSpPr>
        <p:spPr>
          <a:xfrm flipH="1">
            <a:off x="2361960" y="4191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97"/>
          <p:cNvSpPr/>
          <p:nvPr/>
        </p:nvSpPr>
        <p:spPr>
          <a:xfrm>
            <a:off x="563868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8"/>
          <p:cNvSpPr/>
          <p:nvPr/>
        </p:nvSpPr>
        <p:spPr>
          <a:xfrm>
            <a:off x="6324480" y="4191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16.wav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752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Line 5"/>
          <p:cNvSpPr/>
          <p:nvPr/>
        </p:nvSpPr>
        <p:spPr>
          <a:xfrm flipV="1">
            <a:off x="1676520" y="243792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 flipV="1">
            <a:off x="5562720" y="243792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1676520" y="4191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5562720" y="4191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9"/>
          <p:cNvSpPr/>
          <p:nvPr/>
        </p:nvSpPr>
        <p:spPr>
          <a:xfrm>
            <a:off x="1905120" y="2819520"/>
            <a:ext cx="114300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2286000" y="2514600"/>
            <a:ext cx="114300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5791320" y="2819520"/>
            <a:ext cx="114300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6172200" y="2514600"/>
            <a:ext cx="114300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742840" y="32767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4"/>
          <p:cNvSpPr/>
          <p:nvPr/>
        </p:nvSpPr>
        <p:spPr>
          <a:xfrm flipV="1">
            <a:off x="6629400" y="32767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2193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1814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335268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7162920" y="4114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23623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18288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5791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62485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1523880" y="16002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Неценовой фактор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изменяет с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4"/>
          <p:cNvSpPr/>
          <p:nvPr/>
        </p:nvSpPr>
        <p:spPr>
          <a:xfrm>
            <a:off x="457200" y="4876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уменьшении спроса график смещается           влево - вн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5029200" y="4876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При увеличении спроса график смещается   вправо –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1447920" y="4191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2"/>
          <p:cNvSpPr/>
          <p:nvPr/>
        </p:nvSpPr>
        <p:spPr>
          <a:xfrm>
            <a:off x="52578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WordArt 33"/>
          <p:cNvSpPr txBox="1"/>
          <p:nvPr/>
        </p:nvSpPr>
        <p:spPr>
          <a:xfrm>
            <a:off x="1981080" y="609480"/>
            <a:ext cx="51818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мечание I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9" name="17.wav" descr=""/>
          <p:cNvPicPr/>
          <p:nvPr/>
        </p:nvPicPr>
        <p:blipFill>
          <a:blip r:embed="rId1"/>
          <a:stretch/>
        </p:blipFill>
        <p:spPr>
          <a:xfrm>
            <a:off x="685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002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457200" y="2057400"/>
            <a:ext cx="8305920" cy="30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I.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Эффект                                                                                     Гифф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росте цен на некоторые товары население скупает данный товар, опасаясь дальнейшего роста цен из-за дефицита, обычно это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товары первой необходимост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 соль, спички; или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товары низшей категори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:крупа, макароны. Был впервые замечен в середине ХХ века в Ирландии: подорожавший картофель население стало покупать больш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8" descr="1238613444_sol"/>
          <p:cNvPicPr/>
          <p:nvPr/>
        </p:nvPicPr>
        <p:blipFill>
          <a:blip r:embed="rId1"/>
          <a:stretch/>
        </p:blipFill>
        <p:spPr>
          <a:xfrm>
            <a:off x="533520" y="12193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Картинка 13 из 160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1219320"/>
            <a:ext cx="2895480" cy="1752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Картинка 45 из 420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4800600"/>
            <a:ext cx="2819520" cy="1808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Картинка 127 из 2661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4876920"/>
            <a:ext cx="276696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85" name="WordArt 15"/>
          <p:cNvSpPr txBox="1"/>
          <p:nvPr/>
        </p:nvSpPr>
        <p:spPr>
          <a:xfrm>
            <a:off x="457200" y="533520"/>
            <a:ext cx="8325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сключение из закона спро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86" name="18.wav" descr=""/>
          <p:cNvPicPr/>
          <p:nvPr/>
        </p:nvPicPr>
        <p:blipFill>
          <a:blip r:embed="rId8"/>
          <a:stretch/>
        </p:blipFill>
        <p:spPr>
          <a:xfrm>
            <a:off x="3581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4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3754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10"/>
          <p:cNvSpPr txBox="1"/>
          <p:nvPr/>
        </p:nvSpPr>
        <p:spPr>
          <a:xfrm>
            <a:off x="1143000" y="762120"/>
            <a:ext cx="7391520" cy="483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езентация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ем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Спрос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457200" y="2438280"/>
            <a:ext cx="84582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Эффект                                                                                       до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ем выше доход, тем выше спрос на товары высшей категории - нормальные товары: мясо, масло, рыба (и наоборо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ем выше доход, тем ниже спрос на товары низшей категории -        инфериорные товары:  хлеб, картофель, крупа, макароны                   (и наоборо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9" descr="948"/>
          <p:cNvPicPr/>
          <p:nvPr/>
        </p:nvPicPr>
        <p:blipFill>
          <a:blip r:embed="rId1"/>
          <a:stretch/>
        </p:blipFill>
        <p:spPr>
          <a:xfrm>
            <a:off x="380880" y="4648320"/>
            <a:ext cx="3429000" cy="204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89" name="Picture 11" descr="Картинка 2 из 173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295280"/>
            <a:ext cx="2919240" cy="1955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Картинка 22 из 189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1219320"/>
            <a:ext cx="2971800" cy="1955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5" descr="Картинка 18 из 9986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62720" y="4572000"/>
            <a:ext cx="3200400" cy="2104920"/>
          </a:xfrm>
          <a:prstGeom prst="rect">
            <a:avLst/>
          </a:prstGeom>
          <a:ln w="0">
            <a:noFill/>
          </a:ln>
        </p:spPr>
      </p:pic>
      <p:sp>
        <p:nvSpPr>
          <p:cNvPr id="392" name="WordArt 16"/>
          <p:cNvSpPr txBox="1"/>
          <p:nvPr/>
        </p:nvSpPr>
        <p:spPr>
          <a:xfrm>
            <a:off x="609480" y="380880"/>
            <a:ext cx="800604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сключение из закона спрос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3" name="19.wav" descr=""/>
          <p:cNvPicPr/>
          <p:nvPr/>
        </p:nvPicPr>
        <p:blipFill>
          <a:blip r:embed="rId8"/>
          <a:stretch/>
        </p:blipFill>
        <p:spPr>
          <a:xfrm>
            <a:off x="41148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503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685800" y="473040"/>
            <a:ext cx="4419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4. Эффект престижного спроса (эффект Веблен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н связан с демонстративным, престижным потреблением. Приобретая редкий товар, как правило, дорогой и в силу этого не всем доступный, потребитель подчеркивает свою исключительность. Он демонстрирует поведения сноба, сокращает спрос на блага, широко используемые другими людь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486400" y="3276720"/>
            <a:ext cx="31240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а отрезке АВ – цена – показатель престижа (качества). На отрезке ВС – товар оценивается как нормаль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8" descr="0_1d9d7_6b23a49f_XL"/>
          <p:cNvPicPr/>
          <p:nvPr/>
        </p:nvPicPr>
        <p:blipFill>
          <a:blip r:embed="rId1"/>
          <a:stretch/>
        </p:blipFill>
        <p:spPr>
          <a:xfrm>
            <a:off x="762120" y="4038480"/>
            <a:ext cx="4419360" cy="2286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Картинка 37 из 347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495680"/>
            <a:ext cx="2133360" cy="18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8" name="Text Box 11"/>
          <p:cNvSpPr/>
          <p:nvPr/>
        </p:nvSpPr>
        <p:spPr>
          <a:xfrm>
            <a:off x="762120" y="6324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тер, маш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6248520" y="6324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20.wav" descr=""/>
          <p:cNvPicPr/>
          <p:nvPr/>
        </p:nvPicPr>
        <p:blipFill>
          <a:blip r:embed="rId4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Line 14"/>
          <p:cNvSpPr/>
          <p:nvPr/>
        </p:nvSpPr>
        <p:spPr>
          <a:xfrm>
            <a:off x="6019920" y="259092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6"/>
          <p:cNvSpPr/>
          <p:nvPr/>
        </p:nvSpPr>
        <p:spPr>
          <a:xfrm flipV="1">
            <a:off x="6019920" y="7621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Freeform 17"/>
          <p:cNvSpPr/>
          <p:nvPr/>
        </p:nvSpPr>
        <p:spPr>
          <a:xfrm>
            <a:off x="6248520" y="914400"/>
            <a:ext cx="876240" cy="1447920"/>
          </a:xfrm>
          <a:custGeom>
            <a:avLst/>
            <a:gdLst>
              <a:gd name="textAreaLeft" fmla="*/ 0 w 876240"/>
              <a:gd name="textAreaRight" fmla="*/ 876600 w 8762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552" h="912">
                <a:moveTo>
                  <a:pt x="0" y="912"/>
                </a:moveTo>
                <a:cubicBezTo>
                  <a:pt x="252" y="780"/>
                  <a:pt x="504" y="648"/>
                  <a:pt x="528" y="528"/>
                </a:cubicBezTo>
                <a:cubicBezTo>
                  <a:pt x="552" y="408"/>
                  <a:pt x="216" y="280"/>
                  <a:pt x="144" y="192"/>
                </a:cubicBezTo>
                <a:cubicBezTo>
                  <a:pt x="72" y="104"/>
                  <a:pt x="104" y="32"/>
                  <a:pt x="9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5562720" y="457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8305920" y="2438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6553080" y="22860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6553080" y="2209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72388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6324480" y="457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5791320" y="251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7000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753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5"/>
          <p:cNvSpPr/>
          <p:nvPr/>
        </p:nvSpPr>
        <p:spPr>
          <a:xfrm>
            <a:off x="533520" y="1143000"/>
            <a:ext cx="769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1. Спрос на товар – это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количество проданных това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желание и возможность потребителей приобрести тов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потребность покупателей в каком - либо това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желание человека приобрести това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4" descr="Картинка 42 из 2403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505320"/>
            <a:ext cx="4267080" cy="2857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6" descr="money_n_hand"/>
          <p:cNvPicPr/>
          <p:nvPr/>
        </p:nvPicPr>
        <p:blipFill>
          <a:blip r:embed="rId3"/>
          <a:stretch/>
        </p:blipFill>
        <p:spPr>
          <a:xfrm>
            <a:off x="5715000" y="2971800"/>
            <a:ext cx="2865600" cy="3352680"/>
          </a:xfrm>
          <a:prstGeom prst="rect">
            <a:avLst/>
          </a:prstGeom>
          <a:ln w="0">
            <a:noFill/>
          </a:ln>
        </p:spPr>
      </p:pic>
      <p:sp>
        <p:nvSpPr>
          <p:cNvPr id="414" name="WordArt 17"/>
          <p:cNvSpPr txBox="1"/>
          <p:nvPr/>
        </p:nvSpPr>
        <p:spPr>
          <a:xfrm>
            <a:off x="5257800" y="533520"/>
            <a:ext cx="3048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ест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5" name="21.wav" descr=""/>
          <p:cNvPicPr/>
          <p:nvPr/>
        </p:nvPicPr>
        <p:blipFill>
          <a:blip r:embed="rId4"/>
          <a:stretch/>
        </p:blipFill>
        <p:spPr>
          <a:xfrm>
            <a:off x="304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21000">
    <p:newsflash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752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228600" y="533520"/>
            <a:ext cx="86104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Величина спроса показывает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 количество покупателей на ры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 максимальную сумму денег, которую согласен заплатить потреб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 количество товара, которое согласен купить потребитель по конкретной це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 расходы покупателя при приобретении това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6477120" y="5257800"/>
            <a:ext cx="17524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 flipV="1">
            <a:off x="6477120" y="3505320"/>
            <a:ext cx="144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6553080" y="3809880"/>
            <a:ext cx="121932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7238880" y="4495680"/>
            <a:ext cx="1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7086600" y="4343400"/>
            <a:ext cx="144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6476760" y="4343400"/>
            <a:ext cx="6094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60199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67816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8153280" y="5410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68580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601992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6248520" y="518148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19"/>
          <p:cNvSpPr/>
          <p:nvPr/>
        </p:nvSpPr>
        <p:spPr>
          <a:xfrm>
            <a:off x="7010280" y="4267080"/>
            <a:ext cx="152640" cy="152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43" descr="Картинка 15 из 452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27672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431" name="22.wav" descr=""/>
          <p:cNvPicPr/>
          <p:nvPr/>
        </p:nvPicPr>
        <p:blipFill>
          <a:blip r:embed="rId3"/>
          <a:stretch/>
        </p:blipFill>
        <p:spPr>
          <a:xfrm>
            <a:off x="228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400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380880" y="838080"/>
            <a:ext cx="44960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3. Согласно закону спроса при увеличении цен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снижается количество товара, которое хотели бы приобрести покупа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увеличивается количество покуп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увеличивается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снижается количество товара, которое хотели бы продать производи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"/>
          <p:cNvSpPr/>
          <p:nvPr/>
        </p:nvSpPr>
        <p:spPr>
          <a:xfrm flipV="1">
            <a:off x="5943600" y="1752480"/>
            <a:ext cx="1440" cy="2438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6"/>
          <p:cNvSpPr/>
          <p:nvPr/>
        </p:nvSpPr>
        <p:spPr>
          <a:xfrm>
            <a:off x="5943600" y="4191120"/>
            <a:ext cx="2133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6324480" y="1905120"/>
            <a:ext cx="182880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5943600" y="236232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5943600" y="3276720"/>
            <a:ext cx="17524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10"/>
          <p:cNvSpPr/>
          <p:nvPr/>
        </p:nvSpPr>
        <p:spPr>
          <a:xfrm flipV="1">
            <a:off x="6781680" y="2362320"/>
            <a:ext cx="1800" cy="1828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11"/>
          <p:cNvSpPr/>
          <p:nvPr/>
        </p:nvSpPr>
        <p:spPr>
          <a:xfrm flipV="1">
            <a:off x="7696080" y="3276720"/>
            <a:ext cx="180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6705720" y="228600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3"/>
          <p:cNvSpPr/>
          <p:nvPr/>
        </p:nvSpPr>
        <p:spPr>
          <a:xfrm>
            <a:off x="7620120" y="320040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14"/>
          <p:cNvSpPr/>
          <p:nvPr/>
        </p:nvSpPr>
        <p:spPr>
          <a:xfrm flipH="1" flipV="1">
            <a:off x="7162560" y="2438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56386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6"/>
          <p:cNvSpPr/>
          <p:nvPr/>
        </p:nvSpPr>
        <p:spPr>
          <a:xfrm flipV="1" rot="10800000">
            <a:off x="8001000" y="426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6324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7772400" y="2819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678168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0"/>
          <p:cNvSpPr/>
          <p:nvPr/>
        </p:nvSpPr>
        <p:spPr>
          <a:xfrm>
            <a:off x="6477120" y="4191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7391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5486400" y="22096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3"/>
          <p:cNvSpPr/>
          <p:nvPr/>
        </p:nvSpPr>
        <p:spPr>
          <a:xfrm>
            <a:off x="5486400" y="30481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4"/>
          <p:cNvSpPr/>
          <p:nvPr/>
        </p:nvSpPr>
        <p:spPr>
          <a:xfrm>
            <a:off x="5638680" y="403848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23.wav" descr=""/>
          <p:cNvPicPr/>
          <p:nvPr/>
        </p:nvPicPr>
        <p:blipFill>
          <a:blip r:embed="rId1"/>
          <a:stretch/>
        </p:blipFill>
        <p:spPr>
          <a:xfrm>
            <a:off x="685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4753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1066680" y="533520"/>
            <a:ext cx="67820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Какие из перечисленных товаров являются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товарами – заменителя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кроссовки и футб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спички и зажига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21" descr="Картинка 10 из 263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886200" cy="2116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3" descr="Картинка 50 из 2707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676520"/>
            <a:ext cx="3886200" cy="20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7" name="Picture 25" descr="Картинка 22 из 160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29200" y="4648320"/>
            <a:ext cx="3505320" cy="1828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7" descr="Картинка 36 из 9181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4648320"/>
            <a:ext cx="3504960" cy="1844640"/>
          </a:xfrm>
          <a:prstGeom prst="rect">
            <a:avLst/>
          </a:prstGeom>
          <a:ln w="0">
            <a:noFill/>
          </a:ln>
        </p:spPr>
      </p:pic>
      <p:pic>
        <p:nvPicPr>
          <p:cNvPr id="459" name="24.wav" descr=""/>
          <p:cNvPicPr/>
          <p:nvPr/>
        </p:nvPicPr>
        <p:blipFill>
          <a:blip r:embed="rId9"/>
          <a:stretch/>
        </p:blipFill>
        <p:spPr>
          <a:xfrm>
            <a:off x="152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1752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5"/>
          <p:cNvSpPr/>
          <p:nvPr/>
        </p:nvSpPr>
        <p:spPr>
          <a:xfrm>
            <a:off x="533520" y="533520"/>
            <a:ext cx="8001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 Учебники и тетра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Кухонные комбайны и стиральные маш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0" descr="Картинка 14 из 1995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990720"/>
            <a:ext cx="3657600" cy="2235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2" name="Picture 12" descr="Картинка 10 из 717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990720"/>
            <a:ext cx="365760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3" name="Picture 14" descr="Tefal%20FP%204025_enl"/>
          <p:cNvPicPr/>
          <p:nvPr/>
        </p:nvPicPr>
        <p:blipFill>
          <a:blip r:embed="rId5"/>
          <a:stretch/>
        </p:blipFill>
        <p:spPr>
          <a:xfrm>
            <a:off x="685800" y="403848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4" name="Picture 16" descr="Картинка 366 из 11963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29200" y="403848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5" name="25.wav" descr=""/>
          <p:cNvPicPr/>
          <p:nvPr/>
        </p:nvPicPr>
        <p:blipFill>
          <a:blip r:embed="rId8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6501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5"/>
          <p:cNvSpPr/>
          <p:nvPr/>
        </p:nvSpPr>
        <p:spPr>
          <a:xfrm>
            <a:off x="533520" y="1066680"/>
            <a:ext cx="83055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5. Изменение какого фактора вызывает движение точки вдоль графика спроса ввер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вкусы потреб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размер до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увеличение цены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потребительские ожи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32"/>
          <p:cNvSpPr/>
          <p:nvPr/>
        </p:nvSpPr>
        <p:spPr>
          <a:xfrm flipV="1">
            <a:off x="6019920" y="2819160"/>
            <a:ext cx="144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3"/>
          <p:cNvSpPr/>
          <p:nvPr/>
        </p:nvSpPr>
        <p:spPr>
          <a:xfrm>
            <a:off x="6019920" y="5257800"/>
            <a:ext cx="2133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4"/>
          <p:cNvSpPr/>
          <p:nvPr/>
        </p:nvSpPr>
        <p:spPr>
          <a:xfrm>
            <a:off x="6400800" y="2971800"/>
            <a:ext cx="182880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5"/>
          <p:cNvSpPr/>
          <p:nvPr/>
        </p:nvSpPr>
        <p:spPr>
          <a:xfrm>
            <a:off x="6019920" y="342900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6"/>
          <p:cNvSpPr/>
          <p:nvPr/>
        </p:nvSpPr>
        <p:spPr>
          <a:xfrm>
            <a:off x="6019920" y="4343400"/>
            <a:ext cx="17524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7"/>
          <p:cNvSpPr/>
          <p:nvPr/>
        </p:nvSpPr>
        <p:spPr>
          <a:xfrm flipV="1">
            <a:off x="6858000" y="3429000"/>
            <a:ext cx="1440" cy="1828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8"/>
          <p:cNvSpPr/>
          <p:nvPr/>
        </p:nvSpPr>
        <p:spPr>
          <a:xfrm flipV="1">
            <a:off x="7772400" y="4343400"/>
            <a:ext cx="144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39"/>
          <p:cNvSpPr/>
          <p:nvPr/>
        </p:nvSpPr>
        <p:spPr>
          <a:xfrm>
            <a:off x="6781680" y="3352680"/>
            <a:ext cx="152640" cy="152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40"/>
          <p:cNvSpPr/>
          <p:nvPr/>
        </p:nvSpPr>
        <p:spPr>
          <a:xfrm>
            <a:off x="7696080" y="4267080"/>
            <a:ext cx="152640" cy="152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1"/>
          <p:cNvSpPr/>
          <p:nvPr/>
        </p:nvSpPr>
        <p:spPr>
          <a:xfrm flipH="1" flipV="1">
            <a:off x="7238880" y="3504960"/>
            <a:ext cx="5335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42"/>
          <p:cNvSpPr/>
          <p:nvPr/>
        </p:nvSpPr>
        <p:spPr>
          <a:xfrm>
            <a:off x="57150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43"/>
          <p:cNvSpPr/>
          <p:nvPr/>
        </p:nvSpPr>
        <p:spPr>
          <a:xfrm flipV="1" rot="10800000">
            <a:off x="8077320" y="53337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4"/>
          <p:cNvSpPr/>
          <p:nvPr/>
        </p:nvSpPr>
        <p:spPr>
          <a:xfrm>
            <a:off x="64008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5"/>
          <p:cNvSpPr/>
          <p:nvPr/>
        </p:nvSpPr>
        <p:spPr>
          <a:xfrm>
            <a:off x="78487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68580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6553080" y="52578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7467480" y="52578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49"/>
          <p:cNvSpPr/>
          <p:nvPr/>
        </p:nvSpPr>
        <p:spPr>
          <a:xfrm>
            <a:off x="5562720" y="32767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0"/>
          <p:cNvSpPr/>
          <p:nvPr/>
        </p:nvSpPr>
        <p:spPr>
          <a:xfrm>
            <a:off x="5562720" y="41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51"/>
          <p:cNvSpPr/>
          <p:nvPr/>
        </p:nvSpPr>
        <p:spPr>
          <a:xfrm>
            <a:off x="5715000" y="510552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56" descr="Картинка 27 из 8239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5320"/>
            <a:ext cx="4138560" cy="2800080"/>
          </a:xfrm>
          <a:prstGeom prst="rect">
            <a:avLst/>
          </a:prstGeom>
          <a:ln w="0">
            <a:noFill/>
          </a:ln>
        </p:spPr>
      </p:pic>
      <p:pic>
        <p:nvPicPr>
          <p:cNvPr id="488" name="26.wav" descr=""/>
          <p:cNvPicPr/>
          <p:nvPr/>
        </p:nvPicPr>
        <p:blipFill>
          <a:blip r:embed="rId3"/>
          <a:stretch/>
        </p:blipFill>
        <p:spPr>
          <a:xfrm>
            <a:off x="228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8002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380880" y="914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6. Причиной увеличения спроса на роликовые коньки может б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ожидание наступления сезона дож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снижение цен на подшип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приближение летних каник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6" descr="118921_1"/>
          <p:cNvPicPr/>
          <p:nvPr/>
        </p:nvPicPr>
        <p:blipFill>
          <a:blip r:embed="rId1"/>
          <a:stretch/>
        </p:blipFill>
        <p:spPr>
          <a:xfrm>
            <a:off x="533520" y="3657600"/>
            <a:ext cx="4190760" cy="2612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Картинка 23 из 1049573"/>
          <p:cNvPicPr/>
          <p:nvPr/>
        </p:nvPicPr>
        <p:blipFill>
          <a:blip r:embed="rId2"/>
          <a:stretch/>
        </p:blipFill>
        <p:spPr>
          <a:xfrm>
            <a:off x="5486400" y="1828800"/>
            <a:ext cx="3243240" cy="4495680"/>
          </a:xfrm>
          <a:prstGeom prst="rect">
            <a:avLst/>
          </a:prstGeom>
          <a:ln w="0">
            <a:noFill/>
          </a:ln>
        </p:spPr>
      </p:pic>
      <p:pic>
        <p:nvPicPr>
          <p:cNvPr id="492" name="27.wav" descr=""/>
          <p:cNvPicPr/>
          <p:nvPr/>
        </p:nvPicPr>
        <p:blipFill>
          <a:blip r:embed="rId3"/>
          <a:stretch/>
        </p:blipFill>
        <p:spPr>
          <a:xfrm>
            <a:off x="152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625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380880" y="914400"/>
            <a:ext cx="7696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7. Рыночный спрос – эт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спрос, предъявляемый на товар отдельными потреб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спрос, предъявляемый на товар всеми потребителями на рынке данного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28.wav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Картинка 4 из 1421271"/>
          <p:cNvPicPr/>
          <p:nvPr/>
        </p:nvPicPr>
        <p:blipFill>
          <a:blip r:embed="rId2"/>
          <a:stretch/>
        </p:blipFill>
        <p:spPr>
          <a:xfrm>
            <a:off x="3581280" y="2971800"/>
            <a:ext cx="4953240" cy="3289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4502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5"/>
          <p:cNvSpPr/>
          <p:nvPr/>
        </p:nvSpPr>
        <p:spPr>
          <a:xfrm flipV="1">
            <a:off x="1676520" y="3200040"/>
            <a:ext cx="0" cy="20574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1676520" y="5257800"/>
            <a:ext cx="19810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057400" y="3505320"/>
            <a:ext cx="129528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2860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29528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65760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04920" y="15238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Спрос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 (demand)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желание и возможность покупателя приобрести товар или услугу в единицу времени при данных условиях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7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4114800" cy="24750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26"/>
          <p:cNvSpPr txBox="1"/>
          <p:nvPr/>
        </p:nvSpPr>
        <p:spPr>
          <a:xfrm>
            <a:off x="1600200" y="7621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ро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129528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28"/>
          <p:cNvSpPr txBox="1"/>
          <p:nvPr/>
        </p:nvSpPr>
        <p:spPr>
          <a:xfrm>
            <a:off x="5029200" y="3505320"/>
            <a:ext cx="339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еличина спро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4572000" y="449568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Величина спроса 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Qd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количество товаров и услуг, которые готовы приобрести покупатели по определенной цене в определенный период времени ( точка на графике спрос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1219320" y="5410080"/>
            <a:ext cx="3047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 – цена на тов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количество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- спрос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2.wav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52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4"/>
          <p:cNvSpPr/>
          <p:nvPr/>
        </p:nvSpPr>
        <p:spPr>
          <a:xfrm>
            <a:off x="457200" y="914400"/>
            <a:ext cx="8001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8. Цена спроса – это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минимальная цена, по которой продавцы согласны продать тов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максимальная цена, которую покупатели согласны заплатить при покупке данного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минимальная цена, которую покупатели согласны заплатить при покупке данного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>
            <a:off x="5791320" y="57150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 flipV="1">
            <a:off x="57913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10"/>
          <p:cNvSpPr/>
          <p:nvPr/>
        </p:nvSpPr>
        <p:spPr>
          <a:xfrm>
            <a:off x="5562720" y="4114800"/>
            <a:ext cx="1904760" cy="1100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715000" y="419112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80010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708660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518148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54100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18" descr="Картинка 49 из 114649"/>
          <p:cNvPicPr/>
          <p:nvPr/>
        </p:nvPicPr>
        <p:blipFill>
          <a:blip r:embed="rId1"/>
          <a:stretch/>
        </p:blipFill>
        <p:spPr>
          <a:xfrm>
            <a:off x="609480" y="3505320"/>
            <a:ext cx="4138560" cy="264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7" name="29.wav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3003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304920" y="38088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9. Какие из перечисленных товаров являются товарами – комплимента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сотовый телефон – зарядное устро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автомобиль – авто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мыло – стиральный порош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6" descr="17816"/>
          <p:cNvPicPr/>
          <p:nvPr/>
        </p:nvPicPr>
        <p:blipFill>
          <a:blip r:embed="rId1"/>
          <a:stretch/>
        </p:blipFill>
        <p:spPr>
          <a:xfrm>
            <a:off x="5867280" y="1828800"/>
            <a:ext cx="2982960" cy="4400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0" name="Picture 8" descr="1253771115"/>
          <p:cNvPicPr/>
          <p:nvPr/>
        </p:nvPicPr>
        <p:blipFill>
          <a:blip r:embed="rId2"/>
          <a:stretch/>
        </p:blipFill>
        <p:spPr>
          <a:xfrm>
            <a:off x="1905120" y="2286000"/>
            <a:ext cx="3714480" cy="202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350532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2" name="30.wav" descr=""/>
          <p:cNvPicPr/>
          <p:nvPr/>
        </p:nvPicPr>
        <p:blipFill>
          <a:blip r:embed="rId4"/>
          <a:stretch/>
        </p:blipFill>
        <p:spPr>
          <a:xfrm>
            <a:off x="152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002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304920" y="68580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10. Летом больше покупают велосипеды, а зимой лыжи. Какой неценовой фактор на это влия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ожидание потреб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сезонные изменения в спр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доходы потреб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10" descr="Картинка 2 из 267713"/>
          <p:cNvPicPr/>
          <p:nvPr/>
        </p:nvPicPr>
        <p:blipFill>
          <a:blip r:embed="rId1"/>
          <a:stretch/>
        </p:blipFill>
        <p:spPr>
          <a:xfrm>
            <a:off x="4876920" y="1447920"/>
            <a:ext cx="3857400" cy="28954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Картинка 100 из 200922"/>
          <p:cNvPicPr/>
          <p:nvPr/>
        </p:nvPicPr>
        <p:blipFill>
          <a:blip r:embed="rId2"/>
          <a:stretch/>
        </p:blipFill>
        <p:spPr>
          <a:xfrm>
            <a:off x="457200" y="3124080"/>
            <a:ext cx="4286160" cy="2800440"/>
          </a:xfrm>
          <a:prstGeom prst="rect">
            <a:avLst/>
          </a:prstGeom>
          <a:ln w="0">
            <a:noFill/>
          </a:ln>
        </p:spPr>
      </p:pic>
      <p:pic>
        <p:nvPicPr>
          <p:cNvPr id="516" name="31.wav" descr=""/>
          <p:cNvPicPr/>
          <p:nvPr/>
        </p:nvPicPr>
        <p:blipFill>
          <a:blip r:embed="rId3"/>
          <a:stretch/>
        </p:blipFill>
        <p:spPr>
          <a:xfrm>
            <a:off x="152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8002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5029200" y="2209680"/>
            <a:ext cx="33526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увеличении цены на товар величина спроса уменьш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уменьшении цены на товар величина спроса увеличив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братная зависимость между ценой и величиной спрос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600200" y="4724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981080" y="2438280"/>
            <a:ext cx="144792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1600200" y="28954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1600200" y="38098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2438280" y="28954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2590920" y="3048120"/>
            <a:ext cx="1371600" cy="1371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2362320" y="281952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3276720" y="373392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2819520" y="274320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 flipH="1" flipV="1">
            <a:off x="2514240" y="33523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12952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373392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1828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2438280" y="2514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33526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2133720" y="47242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3048120" y="4724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1143000" y="27432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1143000" y="3581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WordArt 32"/>
          <p:cNvSpPr txBox="1"/>
          <p:nvPr/>
        </p:nvSpPr>
        <p:spPr>
          <a:xfrm>
            <a:off x="2286000" y="685800"/>
            <a:ext cx="42670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кон спро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1295280" y="457200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4"/>
          <p:cNvSpPr/>
          <p:nvPr/>
        </p:nvSpPr>
        <p:spPr>
          <a:xfrm flipV="1">
            <a:off x="1523880" y="3047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>
            <a:off x="167652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6"/>
          <p:cNvSpPr/>
          <p:nvPr/>
        </p:nvSpPr>
        <p:spPr>
          <a:xfrm>
            <a:off x="2590920" y="4572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2590920" y="4876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3.wav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502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6"/>
          <p:cNvSpPr txBox="1"/>
          <p:nvPr/>
        </p:nvSpPr>
        <p:spPr>
          <a:xfrm>
            <a:off x="2743200" y="838080"/>
            <a:ext cx="38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Цена спро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1981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Цена спроса 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Pd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максимальная цена, которую готовы покупатели заплатить за данный тов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9" descr="Картинка 27 из 308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971800"/>
            <a:ext cx="3886200" cy="2297160"/>
          </a:xfrm>
          <a:prstGeom prst="rect">
            <a:avLst/>
          </a:prstGeom>
          <a:ln w="0">
            <a:noFill/>
          </a:ln>
        </p:spPr>
      </p:pic>
      <p:sp>
        <p:nvSpPr>
          <p:cNvPr id="217" name="Line 12"/>
          <p:cNvSpPr/>
          <p:nvPr/>
        </p:nvSpPr>
        <p:spPr>
          <a:xfrm>
            <a:off x="6095880" y="4952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6095880" y="3200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5867280" y="3352680"/>
            <a:ext cx="1905120" cy="1100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019920" y="342900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807732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73915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57913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486400" y="35053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571500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4.wav" descr=""/>
          <p:cNvPicPr/>
          <p:nvPr/>
        </p:nvPicPr>
        <p:blipFill>
          <a:blip r:embed="rId3"/>
          <a:stretch/>
        </p:blipFill>
        <p:spPr>
          <a:xfrm>
            <a:off x="990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533520" y="16765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62120" y="1447920"/>
            <a:ext cx="3352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Рыночный спрос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это спрос, предъявляемый на товар всеми потребителями на рынке данного тов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800600" y="4724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Индивидуальный спрос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это спрос, предъявляемый на товар отдельными потреб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3" descr="j4309ll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609480"/>
            <a:ext cx="4114800" cy="2478240"/>
          </a:xfrm>
          <a:prstGeom prst="rect">
            <a:avLst/>
          </a:prstGeom>
          <a:ln w="0">
            <a:noFill/>
          </a:ln>
        </p:spPr>
      </p:pic>
      <p:sp>
        <p:nvSpPr>
          <p:cNvPr id="231" name="WordArt 14"/>
          <p:cNvSpPr txBox="1"/>
          <p:nvPr/>
        </p:nvSpPr>
        <p:spPr>
          <a:xfrm>
            <a:off x="990720" y="762120"/>
            <a:ext cx="28954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ыночный спро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WordArt 15"/>
          <p:cNvSpPr txBox="1"/>
          <p:nvPr/>
        </p:nvSpPr>
        <p:spPr>
          <a:xfrm>
            <a:off x="5105520" y="3962520"/>
            <a:ext cx="358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ндивидуальный спро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3" name="5.wav" descr=""/>
          <p:cNvPicPr/>
          <p:nvPr/>
        </p:nvPicPr>
        <p:blipFill>
          <a:blip r:embed="rId3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Картинка 16 из 25976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42900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752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533520" y="5335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висимоcть объема спроса от цены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жет быть представлена несколькими способами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33520" y="1523880"/>
            <a:ext cx="8153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Шкала спрос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таблица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которая показывает какое количество товара будет куплено по различным це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Функция спрос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которая выражает зависимость между количеством спроса и це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d = 15 – 2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00200" y="2209680"/>
          <a:ext cx="5791320" cy="73188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Line 43"/>
          <p:cNvSpPr/>
          <p:nvPr/>
        </p:nvSpPr>
        <p:spPr>
          <a:xfrm>
            <a:off x="5334120" y="586728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45"/>
          <p:cNvSpPr/>
          <p:nvPr/>
        </p:nvSpPr>
        <p:spPr>
          <a:xfrm>
            <a:off x="5334120" y="571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5334120" y="37339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029200" y="3809880"/>
            <a:ext cx="53352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9"/>
          <p:cNvSpPr/>
          <p:nvPr/>
        </p:nvSpPr>
        <p:spPr>
          <a:xfrm>
            <a:off x="5257800" y="59436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  2   3   4   5   6   7   8   9   10   11   12  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0"/>
          <p:cNvSpPr/>
          <p:nvPr/>
        </p:nvSpPr>
        <p:spPr>
          <a:xfrm>
            <a:off x="48006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61"/>
          <p:cNvSpPr/>
          <p:nvPr/>
        </p:nvSpPr>
        <p:spPr>
          <a:xfrm>
            <a:off x="8534520" y="5684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>
            <a:off x="5486400" y="3962520"/>
            <a:ext cx="2743200" cy="1676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57913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533520" y="4343400"/>
            <a:ext cx="3962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График спроса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ривую спроса  можно получить, если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ользоваться функцией спроса или взять данные из шкалы спро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8"/>
          <p:cNvSpPr/>
          <p:nvPr/>
        </p:nvSpPr>
        <p:spPr>
          <a:xfrm>
            <a:off x="685800" y="6019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6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7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6004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69960" y="125568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04920" y="1219320"/>
            <a:ext cx="84582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d = F (P, Pa, Pb, M, Z, R, I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Ценовой факт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цена на това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Неценовые факторы (детерминанты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цены на товары - заменители (субститут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цены на товары - дополнители (комплимент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мода, вкусы, предпочт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сезонные измен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рекла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доходы потреби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 – ожидание покупа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исленность покуп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WordArt 11"/>
          <p:cNvSpPr txBox="1"/>
          <p:nvPr/>
        </p:nvSpPr>
        <p:spPr>
          <a:xfrm>
            <a:off x="685800" y="380880"/>
            <a:ext cx="7715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рос - функция многих перемен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3" name="7.wav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9755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533520" y="6858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28600" y="13716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Pa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цены на товары - заменители (субститу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533520" y="5638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рга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724280" y="5715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ливочное ма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WordArt 16"/>
          <p:cNvSpPr txBox="1"/>
          <p:nvPr/>
        </p:nvSpPr>
        <p:spPr>
          <a:xfrm>
            <a:off x="220968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1295280" y="4419720"/>
            <a:ext cx="678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3" descr="Рисунок1"/>
          <p:cNvPicPr/>
          <p:nvPr/>
        </p:nvPicPr>
        <p:blipFill>
          <a:blip r:embed="rId1"/>
          <a:stretch/>
        </p:blipFill>
        <p:spPr>
          <a:xfrm>
            <a:off x="380880" y="2133720"/>
            <a:ext cx="3810240" cy="33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1" name="Picture 24" descr="Рисунок2"/>
          <p:cNvPicPr/>
          <p:nvPr/>
        </p:nvPicPr>
        <p:blipFill>
          <a:blip r:embed="rId2"/>
          <a:stretch/>
        </p:blipFill>
        <p:spPr>
          <a:xfrm>
            <a:off x="4952880" y="2133720"/>
            <a:ext cx="3905280" cy="32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2" name="8.wav" descr=""/>
          <p:cNvPicPr/>
          <p:nvPr/>
        </p:nvPicPr>
        <p:blipFill>
          <a:blip r:embed="rId3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002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лкер</cp:lastModifiedBy>
  <dcterms:modified xsi:type="dcterms:W3CDTF">2013-03-31T11:41:04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