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37D7-9319-4F64-915B-F16CB6167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0E78-CFF9-4815-9C92-6E76BE2F0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D061-BF37-4236-9F3F-CCB55B479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EFCF-FCC1-4D1C-A60B-1F5818A1D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08506-3D84-421E-92D1-834562DDEC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E144-4AE4-4102-A95F-9B83DE1805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2D92-DFF5-47BB-B19E-1787F2D027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49E6-9D73-41EC-9A91-F0FF63AD78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3544-2120-43D0-987C-F04B69E8BF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DE30-642A-4598-A902-07DD7AD1D9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6628-FEE2-4E0B-AD4E-6BBC49B17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3FA3-F522-4176-8488-81486013F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C8AF-7870-48A4-A830-6883DD958A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D4E7-1D5E-4759-A6FE-7D32964D3C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A84F5-7F2B-4FCD-8C9F-1B1F55F2CA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5D40-7640-4B47-A643-8EA200C680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C04E-3B3F-445D-ABAD-1A63218F11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1A1D-626D-4014-87B5-1695ABCD2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FBC7-B595-49D4-9E29-0FFC8DC2E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20A2-04FE-4AA4-83B7-34C2B1F00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148C-6312-4CF0-B50D-4841118A4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86E5-3ABD-4F03-9A7D-897CC06C3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8CC8-B13C-4076-A96F-471FE54A3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EF90-C381-497C-952A-9EDA6F86D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21EBB4-9B22-4115-B3C4-9F31D0C2B1D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694BD9-0811-4F75-B870-8A4D15446907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1484280"/>
            <a:ext cx="7570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6633"/>
                </a:solidFill>
                <a:latin typeface="Garamond"/>
              </a:rPr>
              <a:t>О  педагогическом так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880240" y="4038480"/>
            <a:ext cx="2062080" cy="2513160"/>
            <a:chOff x="5880240" y="4038480"/>
            <a:chExt cx="2062080" cy="25131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880240" y="4038480"/>
              <a:ext cx="2062080" cy="25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880240" y="4038480"/>
              <a:ext cx="2062080" cy="25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то нужно делать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43000"/>
            <a:ext cx="814716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ть своими чувствами и управлять эмоц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ида на воспитанника не должна быть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временной и мел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ь более щедрым на похвалу, чем на осуж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учитель чувствует и осознает, что он оказался виноватым перед своим воспитанником, он обязательно должен извини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любых обстоятельствах,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ужно поддерживать педагогическую уравновешен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51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792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авила педагогического такт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 родителями учащих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600200"/>
            <a:ext cx="80755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Учитель несет ответственность за организацию сотрудничеств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е допускается оскорбление родительских чувств необоснованной оценкой способностей, успеваемости и повед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Причины противореч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общенность интере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 число обязанностей, которое предъявляется сторонами друг дру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ие типов отношений к ребен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й уровень педагогической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пособы эффективного обще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057400"/>
            <a:ext cx="815328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Ты-сообще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Я-сообщени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186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Алгоритм «Я - сообщения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Ситуация (факт наблюдения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Какие чувства она вызывает во мн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Какое воздействие это поведение оказывает на вас или на окружающи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Сообщить о вашем желан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ем себе вопрос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4582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дагогический так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это соблюдение чувства меры в общении с учащимися и родителями. Такт – это концентрированное выражение ума, чувства и общей культуры воспитател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дром педагогического такта выступает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важение к личности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такт проявляется: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484280"/>
            <a:ext cx="807552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о внешнем облике педагог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умении быстро и правильно оценить сложившуюся обстановку и в то же врем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 торопиться с выводами о поведении и способностях воспитанников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умении сдерживать свои чувства и не терять самообладания в сложной ситуации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очетании разумной требовательности с чутким отношением к учащим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хорошем знании возрастных и индивидуальных особенностей учащих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амокритичной оценке своего труд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5 приёмов общения с ребёнко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25909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1600200"/>
            <a:ext cx="70102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райтесь показать  учени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ы его понима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имательно следите за лицом ребенка и его «языком те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жайте свою поддержку и поощрение не только сло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ирайте правильный тон для ваших отв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866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58544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йте одобрительные фразы для поддержания разговора и показывайте вашу заинтересованность в н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9440" y="1600200"/>
            <a:ext cx="266364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55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…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 точки зрения типологи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но все педагогические способности можно подразделить на 3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чностные (представляют собой черты, качества личност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дактические (связаны с передачей информаци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ационно-коммуникативные (связанные с организаторской функцие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общение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А. Крутец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сихолого-педагогический портрет учител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981080"/>
            <a:ext cx="830592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рганизатор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редметник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оммуникатор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2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Интеллиген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62520" y="2116080"/>
            <a:ext cx="4800600" cy="29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то такое такт 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84582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ПРИКОСНОВЕНИЕ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т не допускает крайностей в общени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. Д. Ушинский писал: «В школе должна царствовать серьезность, допускающая шутку, но не превращающая всего дела в шутку, ласковость без приторности, справедливость без придирчивости, доброта без слабости, порядок»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12510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сновные элементы педагогического так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600200"/>
            <a:ext cx="800244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тельность, и в то же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уважительность к ребе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слушать и слышать е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ереживание;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тельность, чуткость (без подчеркивания этого);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желюбие без панибратства;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внушать детям, но без напора,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тиска (т.е. с помощью похвалы, улыбки, дружеской просьбы или совета)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251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Необходимые качест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600200"/>
            <a:ext cx="8075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блюдательность;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ворческое мышление в решении нравственных проблем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мение предвидеть все возможные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ледствия своих слов и поступков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251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ёмы педагогического так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600200"/>
            <a:ext cx="8075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Приём «имя собственно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249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Приём «зеркало отношени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249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. Приём «золотые слов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224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. Приём «терпеливый слушател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224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. Приём «личная жизнь»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то нельзя делать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295280"/>
            <a:ext cx="80024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треблять выражения, оскорбляющие человеческое достоин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бегать к угрозам, практически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полнимы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сетовать на отсутствие уважения воспитан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черкивать преимущество своего поло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дергивать» своего ученика, когда последний говор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оминать ученику о его физических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ках (если они ест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часто говорить и о приобретенных им недостатках, если они осознаются самим учащимс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5100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ве мы себе такими нравимся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76920" y="1295280"/>
            <a:ext cx="3528720" cy="3961080"/>
            <a:chOff x="4876920" y="1295280"/>
            <a:chExt cx="3528720" cy="39610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4876920" y="1295280"/>
              <a:ext cx="352872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76920" y="1295280"/>
              <a:ext cx="35287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5640" y="2057400"/>
            <a:ext cx="3816360" cy="225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5</cp:lastModifiedBy>
  <dcterms:modified xsi:type="dcterms:W3CDTF">2013-03-28T09:21:4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