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FB214-9448-4DB0-9713-652710CFFE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A7CF1-340A-4E9F-AE74-8B8FE920C6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2F773-34D3-48BE-A8E1-404BAA660B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41E47-868B-4BBD-B4BD-FFED1359E8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1A46B-124F-421A-A635-041D23C6BC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CA72C-7B58-4610-8663-2F860718E3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941D2-022C-43BC-8891-71B6CE92CD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241CA-26CF-4269-96B1-B1298FFA0D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59277-B250-4FC5-BF56-A74D2AB89E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81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CC7E1-EDFB-483A-80FA-6F4F96940E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319B8-80B5-4CD7-885B-43FED65063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2A7A5-3B72-47D1-8012-1B458D4C0D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C650C-14E4-4EC7-9061-FE6D560285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8A5E7-FFA1-4592-83FC-7E8297342F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78469-FA42-44AD-87B3-DE9C7AE6C1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815A8-5F15-4ADB-A7F5-D304146B60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858B1-5FEB-4203-8B8A-9B0ACA7665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B5C5A-4880-4C7D-BDC1-030A57E1A8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2BF45-15A6-4C17-8B46-E953AFEAC4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D85E3-6C1B-4ED5-ACBB-0049D5F296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81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83678-2F05-4949-88FE-74D38FF5CA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6953F-EDC9-49EE-A518-CEE069E1CC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00CD0-D9DB-454C-A4D9-968C2CB431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EBF7E-C2CB-45EC-AABD-20086A3D70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E6033A-C503-443C-81D5-D783C018779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43DE9D6-FA6A-4ABA-ACA2-313B70CAA53C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6000" y="1484280"/>
            <a:ext cx="75708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6633"/>
                </a:solidFill>
                <a:latin typeface="Garamond"/>
              </a:rPr>
              <a:t>О  педагогическом такте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880240" y="4038480"/>
            <a:ext cx="2062080" cy="2513160"/>
            <a:chOff x="5880240" y="4038480"/>
            <a:chExt cx="2062080" cy="251316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5880240" y="4038480"/>
              <a:ext cx="2062080" cy="251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5880240" y="4038480"/>
              <a:ext cx="2062080" cy="25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Что нужно делать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1143000"/>
            <a:ext cx="8147160" cy="53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адеть своими чувствами и управлять эмоци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ида на воспитанника не должна быть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говременной и мелко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ть более щедрым на похвалу, чем на осужд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учитель чувствует и осознает, что он оказался виноватым перед своим воспитанником, он обязательно должен извинить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любых обстоятельствах,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ужно поддерживать педагогическую уравновешенност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467480" y="304920"/>
            <a:ext cx="125100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277920"/>
            <a:ext cx="822960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авила педагогического такта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 родителями учащихс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1600200"/>
            <a:ext cx="8075520" cy="46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0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Учитель несет ответственность за организацию сотрудничества с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е допускается оскорбление родительских чувств необоснованной оценкой способностей, успеваемости и поведения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Причины противореч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общенность интере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ое число обязанностей, которое предъявляется сторонами друг друг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личие типов отношений к ребен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личный уровень педагогической квалиф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Способы эффективного обще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057400"/>
            <a:ext cx="8153280" cy="40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«Ты-сообщения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«Я-сообщения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1860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Алгоритм «Я - сообщения»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0240">
              <a:spcBef>
                <a:spcPts val="751"/>
              </a:spcBef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. Ситуация (факт наблюдения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spcBef>
                <a:spcPts val="751"/>
              </a:spcBef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. Какие чувства она вызывает во мн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spcBef>
                <a:spcPts val="751"/>
              </a:spcBef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. Какое воздействие это поведение оказывает на вас или на окружающих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spcBef>
                <a:spcPts val="751"/>
              </a:spcBef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. Сообщить о вашем желан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ем себе вопросы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600200"/>
            <a:ext cx="84582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дагогический так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это соблюдение чувства меры в общении с учащимися и родителями. Такт – это концентрированное выражение ума, чувства и общей культуры воспитател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дром педагогического такта выступает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важение к личности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офессиональный такт проявляется: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1484280"/>
            <a:ext cx="8075520" cy="46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о внешнем облике педагога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умении быстро и правильно оценить сложившуюся обстановку и в то же врем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е торопиться с выводами о поведении и способностях воспитанников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умении сдерживать свои чувства и не терять самообладания в сложной ситуации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сочетании разумной требовательности с чутким отношением к учащимся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хорошем знании возрастных и индивидуальных особенностей учащихся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самокритичной оценке своего труд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5 приёмов общения с ребёнком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00200"/>
            <a:ext cx="25909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05120" y="1600200"/>
            <a:ext cx="70102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209680" indent="-866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355840"/>
                <a:tab algn="l" pos="3270240"/>
                <a:tab algn="l" pos="4184640"/>
                <a:tab algn="l" pos="5099040"/>
                <a:tab algn="l" pos="6013440"/>
                <a:tab algn="l" pos="6927840"/>
                <a:tab algn="l" pos="7842240"/>
                <a:tab algn="l" pos="8756640"/>
                <a:tab algn="l" pos="9671040"/>
                <a:tab algn="l" pos="1058544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арайтесь показать  ученик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866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355840"/>
                <a:tab algn="l" pos="3270240"/>
                <a:tab algn="l" pos="4184640"/>
                <a:tab algn="l" pos="5099040"/>
                <a:tab algn="l" pos="6013440"/>
                <a:tab algn="l" pos="6927840"/>
                <a:tab algn="l" pos="7842240"/>
                <a:tab algn="l" pos="8756640"/>
                <a:tab algn="l" pos="9671040"/>
                <a:tab algn="l" pos="1058544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вы его понимае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866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355840"/>
                <a:tab algn="l" pos="3270240"/>
                <a:tab algn="l" pos="4184640"/>
                <a:tab algn="l" pos="5099040"/>
                <a:tab algn="l" pos="6013440"/>
                <a:tab algn="l" pos="6927840"/>
                <a:tab algn="l" pos="7842240"/>
                <a:tab algn="l" pos="8756640"/>
                <a:tab algn="l" pos="9671040"/>
                <a:tab algn="l" pos="1058544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нимательно следите за лицом ребенка и его «языком тел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866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355840"/>
                <a:tab algn="l" pos="3270240"/>
                <a:tab algn="l" pos="4184640"/>
                <a:tab algn="l" pos="5099040"/>
                <a:tab algn="l" pos="6013440"/>
                <a:tab algn="l" pos="6927840"/>
                <a:tab algn="l" pos="7842240"/>
                <a:tab algn="l" pos="8756640"/>
                <a:tab algn="l" pos="9671040"/>
                <a:tab algn="l" pos="1058544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ражайте свою поддержку и поощрение не только слов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866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355840"/>
                <a:tab algn="l" pos="3270240"/>
                <a:tab algn="l" pos="4184640"/>
                <a:tab algn="l" pos="5099040"/>
                <a:tab algn="l" pos="6013440"/>
                <a:tab algn="l" pos="6927840"/>
                <a:tab algn="l" pos="7842240"/>
                <a:tab algn="l" pos="8756640"/>
                <a:tab algn="l" pos="9671040"/>
                <a:tab algn="l" pos="1058544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бирайте правильный тон для ваших отве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866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355840"/>
                <a:tab algn="l" pos="3270240"/>
                <a:tab algn="l" pos="4184640"/>
                <a:tab algn="l" pos="5099040"/>
                <a:tab algn="l" pos="6013440"/>
                <a:tab algn="l" pos="6927840"/>
                <a:tab algn="l" pos="7842240"/>
                <a:tab algn="l" pos="8756640"/>
                <a:tab algn="l" pos="9671040"/>
                <a:tab algn="l" pos="1058544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уйте одобрительные фразы для поддержания разговора и показывайте вашу заинтересованность в нё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79440" y="1600200"/>
            <a:ext cx="2663640" cy="39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153280" cy="556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…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с точки зрения типологии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ловно все педагогические способности можно подразделить на 3 групп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ичностные (представляют собой черты, качества личности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идактические (связаны с передачей информации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рганизационно-коммуникативные (связанные с организаторской функцие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общением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r">
              <a:spcBef>
                <a:spcPts val="700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А. Крутец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277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сихолого-педагогический портрет учител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981080"/>
            <a:ext cx="830592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Организатор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Предметник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Коммуникатор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Интеллигент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962520" y="2116080"/>
            <a:ext cx="4800600" cy="29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Что такое такт 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600200"/>
            <a:ext cx="84582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ПРИКОСНОВЕНИЕ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акт не допускает крайностей в общении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. Д. Ушинский писал: «В школе должна царствовать серьезность, допускающая шутку, но не превращающая всего дела в шутку, ласковость без приторности, справедливость без придирчивости, доброта без слабости, порядок».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315200" y="533520"/>
            <a:ext cx="125100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277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Основные элементы педагогического такт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1600200"/>
            <a:ext cx="8002440" cy="51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бовательность, и в то же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емя уважительность к ребен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ие слушать и слышать ег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переживание;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имательность, чуткость (без подчеркивания этого);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ужелюбие без панибратства;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ие внушать детям, но без напора,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тиска (т.е. с помощью похвалы, улыбки, дружеской просьбы или совета)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125100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Необходимые качеств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1600200"/>
            <a:ext cx="80755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блюдательность;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ворческое мышление в решении нравственных проблем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мение предвидеть все возможные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следствия своих слов и поступков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125100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риёмы педагогического такт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1600200"/>
            <a:ext cx="80755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0240">
              <a:spcBef>
                <a:spcPts val="751"/>
              </a:spcBef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. Приём «имя собственное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spcBef>
                <a:spcPts val="249"/>
              </a:spcBef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spcBef>
                <a:spcPts val="751"/>
              </a:spcBef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. Приём «зеркало отношений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spcBef>
                <a:spcPts val="249"/>
              </a:spcBef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spcBef>
                <a:spcPts val="751"/>
              </a:spcBef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. Приём «золотые слов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spcBef>
                <a:spcPts val="224"/>
              </a:spcBef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spcBef>
                <a:spcPts val="751"/>
              </a:spcBef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. Приём «терпеливый слушатель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spcBef>
                <a:spcPts val="224"/>
              </a:spcBef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spcBef>
                <a:spcPts val="751"/>
              </a:spcBef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5. Приём «личная жизнь»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Что нельзя делать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1295280"/>
            <a:ext cx="8002440" cy="48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отреблять выражения, оскорбляющие человеческое достоинст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бегать к угрозам, практически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ыполнимы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ледует сетовать на отсутствие уважения воспитанн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черкивать преимущество своего полож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дергивать» своего ученика, когда последний говор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оминать ученику о его физических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остатках (если они есть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ледует часто говорить и о приобретенных им недостатках, если они осознаются самим учащимся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5100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77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азве мы себе такими нравимся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876920" y="1295280"/>
            <a:ext cx="3528720" cy="3961080"/>
            <a:chOff x="4876920" y="1295280"/>
            <a:chExt cx="3528720" cy="396108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4876920" y="1295280"/>
              <a:ext cx="3528720" cy="396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876920" y="1295280"/>
              <a:ext cx="35287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55640" y="2057400"/>
            <a:ext cx="3816360" cy="2257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5</cp:lastModifiedBy>
  <dcterms:modified xsi:type="dcterms:W3CDTF">2013-03-28T09:21:43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